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541"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542" name="PlaceHolder 2"/>
          <p:cNvSpPr>
            <a:spLocks noGrp="1"/>
          </p:cNvSpPr>
          <p:nvPr>
            <p:ph type="dt" idx="37"/>
          </p:nvPr>
        </p:nvSpPr>
        <p:spPr>
          <a:xfrm>
            <a:off x="653760" y="95040"/>
            <a:ext cx="1041480" cy="21564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543"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544"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5" name="PlaceHolder 5"/>
          <p:cNvSpPr>
            <a:spLocks noGrp="1"/>
          </p:cNvSpPr>
          <p:nvPr>
            <p:ph type="ftr" idx="38"/>
          </p:nvPr>
        </p:nvSpPr>
        <p:spPr>
          <a:xfrm>
            <a:off x="3646440" y="8985240"/>
            <a:ext cx="263520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Huawei Technologies)</a:t>
            </a:r>
            <a:endParaRPr b="0" lang="en-US" sz="1200" spc="-1" strike="noStrike">
              <a:solidFill>
                <a:srgbClr val="000000"/>
              </a:solidFill>
              <a:latin typeface="Times New Roman"/>
            </a:endParaRPr>
          </a:p>
        </p:txBody>
      </p:sp>
      <p:sp>
        <p:nvSpPr>
          <p:cNvPr id="546" name="PlaceHolder 6"/>
          <p:cNvSpPr>
            <a:spLocks noGrp="1"/>
          </p:cNvSpPr>
          <p:nvPr>
            <p:ph type="sldNum" idx="39"/>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0C564630-AB6F-44DB-98F5-0435993FDFD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47"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48"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9"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08"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09"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1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E914921-CDE9-4DEF-8AB7-3B68B6C1CA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1" name="PlaceHolder 1"/>
          <p:cNvSpPr>
            <a:spLocks noGrp="1"/>
          </p:cNvSpPr>
          <p:nvPr>
            <p:ph type="sldImg"/>
          </p:nvPr>
        </p:nvSpPr>
        <p:spPr>
          <a:xfrm>
            <a:off x="1154160" y="701640"/>
            <a:ext cx="4626000" cy="3468600"/>
          </a:xfrm>
          <a:prstGeom prst="rect">
            <a:avLst/>
          </a:prstGeom>
          <a:ln w="0">
            <a:noFill/>
          </a:ln>
        </p:spPr>
      </p:sp>
      <p:sp>
        <p:nvSpPr>
          <p:cNvPr id="61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54160" y="701640"/>
            <a:ext cx="4626000" cy="3468600"/>
          </a:xfrm>
          <a:prstGeom prst="rect">
            <a:avLst/>
          </a:prstGeom>
          <a:ln w="0">
            <a:noFill/>
          </a:ln>
        </p:spPr>
      </p:sp>
      <p:sp>
        <p:nvSpPr>
          <p:cNvPr id="66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6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6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6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6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A301950-EF44-4329-A07E-96BCFDCA0E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54160" y="701640"/>
            <a:ext cx="4626000" cy="3468600"/>
          </a:xfrm>
          <a:prstGeom prst="rect">
            <a:avLst/>
          </a:prstGeom>
          <a:ln w="0">
            <a:noFill/>
          </a:ln>
        </p:spPr>
      </p:sp>
      <p:sp>
        <p:nvSpPr>
          <p:cNvPr id="61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1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1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1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1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8EFC046-A30F-44B1-9A10-976F3013B3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20"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21"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22"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220BD6E-9F12-4988-B2B1-8419F5605D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3" name="PlaceHolder 1"/>
          <p:cNvSpPr>
            <a:spLocks noGrp="1"/>
          </p:cNvSpPr>
          <p:nvPr>
            <p:ph type="sldImg"/>
          </p:nvPr>
        </p:nvSpPr>
        <p:spPr>
          <a:xfrm>
            <a:off x="1154160" y="701640"/>
            <a:ext cx="4626000" cy="3468600"/>
          </a:xfrm>
          <a:prstGeom prst="rect">
            <a:avLst/>
          </a:prstGeom>
          <a:ln w="0">
            <a:noFill/>
          </a:ln>
        </p:spPr>
      </p:sp>
      <p:sp>
        <p:nvSpPr>
          <p:cNvPr id="62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26"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27"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28"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0E26A025-68A3-4F37-A1F0-D218032076D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9" name="PlaceHolder 1"/>
          <p:cNvSpPr>
            <a:spLocks noGrp="1"/>
          </p:cNvSpPr>
          <p:nvPr>
            <p:ph type="sldImg"/>
          </p:nvPr>
        </p:nvSpPr>
        <p:spPr>
          <a:xfrm>
            <a:off x="1147680" y="696960"/>
            <a:ext cx="4640400" cy="3479760"/>
          </a:xfrm>
          <a:prstGeom prst="rect">
            <a:avLst/>
          </a:prstGeom>
          <a:ln w="0">
            <a:noFill/>
          </a:ln>
        </p:spPr>
      </p:sp>
      <p:sp>
        <p:nvSpPr>
          <p:cNvPr id="630"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32"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33"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34"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F195B4EF-8ABB-4998-999F-A636304308C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5" name="PlaceHolder 1"/>
          <p:cNvSpPr>
            <a:spLocks noGrp="1"/>
          </p:cNvSpPr>
          <p:nvPr>
            <p:ph type="sldImg"/>
          </p:nvPr>
        </p:nvSpPr>
        <p:spPr>
          <a:xfrm>
            <a:off x="1147680" y="696960"/>
            <a:ext cx="4640400" cy="3479760"/>
          </a:xfrm>
          <a:prstGeom prst="rect">
            <a:avLst/>
          </a:prstGeom>
          <a:ln w="0">
            <a:noFill/>
          </a:ln>
        </p:spPr>
      </p:sp>
      <p:sp>
        <p:nvSpPr>
          <p:cNvPr id="636"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3428566E-43D8-43B0-AB9E-8FBF454F32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8" name="PlaceHolder 1"/>
          <p:cNvSpPr>
            <a:spLocks noGrp="1"/>
          </p:cNvSpPr>
          <p:nvPr>
            <p:ph type="sldImg"/>
          </p:nvPr>
        </p:nvSpPr>
        <p:spPr>
          <a:xfrm>
            <a:off x="1154160" y="701640"/>
            <a:ext cx="4626000" cy="3468600"/>
          </a:xfrm>
          <a:prstGeom prst="rect">
            <a:avLst/>
          </a:prstGeom>
          <a:ln w="0">
            <a:noFill/>
          </a:ln>
        </p:spPr>
      </p:sp>
      <p:sp>
        <p:nvSpPr>
          <p:cNvPr id="63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BE08F7DB-8D76-4967-9065-B5F89D93EA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1" name="PlaceHolder 1"/>
          <p:cNvSpPr>
            <a:spLocks noGrp="1"/>
          </p:cNvSpPr>
          <p:nvPr>
            <p:ph type="sldImg"/>
          </p:nvPr>
        </p:nvSpPr>
        <p:spPr>
          <a:xfrm>
            <a:off x="1154160" y="701640"/>
            <a:ext cx="4626000" cy="3468600"/>
          </a:xfrm>
          <a:prstGeom prst="rect">
            <a:avLst/>
          </a:prstGeom>
          <a:ln w="0">
            <a:noFill/>
          </a:ln>
        </p:spPr>
      </p:sp>
      <p:sp>
        <p:nvSpPr>
          <p:cNvPr id="64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2"/>
          <p:cNvSpPr/>
          <p:nvPr/>
        </p:nvSpPr>
        <p:spPr>
          <a:xfrm>
            <a:off x="4204440" y="97560"/>
            <a:ext cx="195912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ec-16-0149-00-00EC</a:t>
            </a:r>
            <a:endParaRPr b="0" lang="en-US" sz="1400" spc="-1" strike="noStrike">
              <a:solidFill>
                <a:srgbClr val="000000"/>
              </a:solidFill>
              <a:latin typeface="Times New Roman"/>
            </a:endParaRPr>
          </a:p>
        </p:txBody>
      </p:sp>
      <p:sp>
        <p:nvSpPr>
          <p:cNvPr id="644"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645" name="Rectangle 6"/>
          <p:cNvSpPr/>
          <p:nvPr/>
        </p:nvSpPr>
        <p:spPr>
          <a:xfrm>
            <a:off x="3994920" y="8985240"/>
            <a:ext cx="1937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646"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204BD36-624F-47D7-8205-9B8A541A82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7" name="PlaceHolder 1"/>
          <p:cNvSpPr>
            <a:spLocks noGrp="1"/>
          </p:cNvSpPr>
          <p:nvPr>
            <p:ph type="sldImg"/>
          </p:nvPr>
        </p:nvSpPr>
        <p:spPr>
          <a:xfrm>
            <a:off x="1154160" y="701640"/>
            <a:ext cx="4626000" cy="3468600"/>
          </a:xfrm>
          <a:prstGeom prst="rect">
            <a:avLst/>
          </a:prstGeom>
          <a:ln w="0">
            <a:noFill/>
          </a:ln>
        </p:spPr>
      </p:sp>
      <p:sp>
        <p:nvSpPr>
          <p:cNvPr id="648"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50"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51"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52"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64B3C55-78EB-4C07-A2FF-5055DF2905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3"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654"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655"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656"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7636C2F-FA51-4613-A9B0-6405C8E001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7" name="PlaceHolder 1"/>
          <p:cNvSpPr>
            <a:spLocks noGrp="1"/>
          </p:cNvSpPr>
          <p:nvPr>
            <p:ph type="sldImg"/>
          </p:nvPr>
        </p:nvSpPr>
        <p:spPr>
          <a:xfrm>
            <a:off x="1154160" y="701640"/>
            <a:ext cx="4626000" cy="3468600"/>
          </a:xfrm>
          <a:prstGeom prst="rect">
            <a:avLst/>
          </a:prstGeom>
          <a:ln w="0">
            <a:noFill/>
          </a:ln>
        </p:spPr>
      </p:sp>
      <p:sp>
        <p:nvSpPr>
          <p:cNvPr id="65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F5932E-7401-4AD5-B95E-8396609472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7C8520-3F74-49DE-989A-A3800B63DD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7FA3691-DD86-4304-B33B-0CE8BD4440D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31F2713-08CA-4ADB-9D6E-88ADF072C86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51649E4-C8E3-4185-A6E5-D90503A1CAC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A9C7FA-89D5-45D6-A15E-FBEA6BAF9F9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33FF38F-F39D-4408-AA86-327CD262B8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C43954B-DB97-4F26-ADC8-29BE4B7A496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73C4592-BD2F-4AC8-BF83-B65E154F176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D229A08-768C-4433-96B6-A30898EA672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BF07665-18EE-4558-B8C2-86BECA41688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7C93936-22F7-4D1A-B611-52A7B6710DC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9CAD43-2AD3-46EC-846D-B54977309B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D066B3A-C42E-49A9-BA28-6A35648F1F3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2258975-78FD-432C-9193-44273A08E45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C880E6C-F574-4B5A-B318-52CAB4D8AF9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CC1F5C1-D211-4529-B733-98C2160F612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09EDD23-1BAA-4875-80B6-49A9DAF589A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9ED67B4-1CBD-4859-A241-6221A8D0EE0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63B9BFC-78D0-449A-A0B5-A349BCBBAEC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F82384E-E3D7-42D5-B1CB-4D7ADD7B93B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8406C37-11BA-4CB7-9681-D37D0E4934A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A381B7E-6F4C-4F79-B59D-528A82EB20F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F8E68D-7BE1-44F5-946D-9A3675EED6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61DD825-23D1-4697-9D47-E14348D676A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C707111-6AFA-44FF-B86F-0A87746C7BB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D36AC83-F08F-4124-8B70-A1BE80D605E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CED4E2B-AB65-4ADC-91D2-09B8C8F6BBE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2042969-0BE6-42B0-B2CF-D8948100F7A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1A231DA-17B8-4D10-A70F-6A44F795609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40B95F5-147B-4908-9F3F-31770763A50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BAF8AD3-9033-40DA-A04B-C994F53D5D0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B1D309D-346A-4F5B-846E-F17130E1045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A8B1C8E-64E1-4D75-9A81-270CAC1F2EA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8244B1-E8E7-49D0-AC2E-20D55BF599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71FEAF0-B8C3-492A-8463-359289FD627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81A87C3-CEBA-47EB-9000-A69EC809AF7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4F97594-B3A8-4316-8E40-FDFD13B6CD8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22D46BC-B582-4DA8-AE08-2F260438DAF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69CFF76-D76C-4830-8A0C-E0596167F10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C1B1CE7-4236-4B50-B9AF-A04A758CA35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F774538-88E4-4675-9303-1521032FD9C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6B6DF87-FC51-4F87-99CC-6E352083D0B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5AE1476-812C-440C-861B-F36DD1E6EB8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5E5CF3E-769B-4939-9557-ADF1CF83FD3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5762A9-9C96-4E85-A378-D702EFB988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6386FB6-E7F6-4AB8-9382-F020B62FF19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B4B5930-741E-4703-B596-5952EA02B1D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E18241E-C3E2-4ECA-8693-18689F61FB4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C6F0A88-6791-4EA9-8C81-CCB9B922AA8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20AD953-F78F-4090-8B77-BCF3FE575F0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8EB9D6-6B1D-4DF0-937A-D8D020CDF3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58AF34-9553-4B26-9F67-AC7A9C924B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DBCAFD-C680-4CF9-90A1-EF4900A2A0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A31C00-4FAB-4B29-B4EE-70B4BD7A16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04043C-2815-4FD2-9C37-3BC6D8393A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0EE992-D3CE-4066-9C8E-1875F764B1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AE0B40-37EB-48AB-A13B-DAD70944FB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E3AAB3-BF8B-47C0-9EF2-ED07E23E92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B2453F-A199-4FCD-9EC6-3E4D495370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AF0D3F-22C1-4F21-9526-E3C3A6AC48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DA7606-6472-4DF0-BE5B-29425FA323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52FB5D5-BD8E-4871-A3E5-CB80EBEAB52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10C0DB-1DD8-4DA3-8E51-0985F3F50C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FBAFE1-E612-442D-A965-EF90A5E64D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288EA4-9DC7-468D-B739-212FD08D09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FD66E6-1AFD-4662-97DF-73E718D568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D0BB13-BF92-452B-BD28-840ECB790A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BBA01B-49F0-41B7-8D3D-6B3D8A9BB5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69CC50-2D25-44DE-A36E-90751353E5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D4CE4B-E47B-4B4A-9C15-40F1A55A8C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233432-6D95-427B-B848-1C1EE4EC54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B2DF16-5AFC-4643-909A-2A3F73432B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AE50357-7CAC-462E-9FBC-49B1EEDD8AF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665C17F-E835-40B6-B59E-ECFE96E7838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BDC4700-A539-43F7-A7A5-4BE675880EA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F0AAB3-1904-4D91-A3C4-09D4F7D99E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838859-2D72-4500-8D14-73E41E5C35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FF6BF7-1468-4580-BFBA-3F2F79327D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FF8596-4518-4D37-8354-40B5E428E7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02EDE0-36B1-466B-A4E8-9CDF8CEF4C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72310C-DD8C-4063-A810-97D32BABD8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CB6095-6413-4CCF-A793-2D3883705E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1F2907-2BEE-4559-A713-A08FB5A763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5D52AA-064D-400F-AA4B-BF4A21B8E9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CDA1C6-21E7-416F-9B5B-5017A94898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BF035C6-7685-4B3B-8220-4A3F3A1B0C0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D7D4F87-1E09-4D94-A3F1-0B6EF815526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ACB2408-12E9-4D54-99E4-04A31A1DA64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8E6F34-326B-48DB-81F4-C7E53F41DE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64E1D0-93FD-4CBF-9F3D-BAC2EC62E0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EE34D71-D3A8-4144-A2BF-D51F3CFE5E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DDBF512-CFE3-4635-AE03-55D8C3805B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2B065C-90E3-4250-A9B5-AFA66F4536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F6E8FC8-305C-4D8B-803E-0BD5C419C0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D5910B-B284-46DD-A251-7DE7A2F54B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737953-9C11-4C5F-9EE4-65D77EC16D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8F18E9-079F-4C33-A27F-BFAFDA830C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DA94D84-9399-4D26-AE9F-54FA7474C6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C1DE3D2-C31E-47D6-B418-8BBDBD9EE51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5A463E-FC12-425E-AE7D-C058878731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22B75A5-2528-4176-B06A-F076BC1814D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54BED45-CF05-4EEB-9B62-9D1667F2EF1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29F485B-7BA1-4C08-B35D-499089A8F7F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DC9F22F-7A9F-4844-93AD-A98F0278345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7AA47CA-9D71-4C15-8DC5-751D4715902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C055F63-CD72-4A2E-B4E1-A179E96E06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925FFEB-001D-4F92-9190-3095D40E351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3256D5-1C74-4E80-A330-2B2046353D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308714-9418-45E1-AAC1-319F8FF1BA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3D4FAD-EF48-4E77-9BDC-BA7078BBBC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36F846-1B85-4977-9A9B-00297151C7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2F5981D-DEAC-4A98-A956-DF0EE9807F7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3BF5DBA-36F7-453C-AF87-AA8DEF15C23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C3BCBEA-DF71-4127-944B-7BCA687F56E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30B6A4D-2838-4195-BC64-4DE51DE3B29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58A417A-FB65-4EEA-943E-4A1C6C51D02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B60FEB0-ABF2-44DB-88B8-ED112AEC605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D10F0DD-3ED3-4EBA-BE44-9CA85BD96E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189287D-0C34-48C6-B2A7-84E829102BC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87AC48C-2845-46EE-9B08-3D95E83E929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FD510C-B206-4E75-BA24-C8431A6980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4176F8-1B14-4D74-999F-77CD1E9D95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DFDBA0-FEAB-4227-8DAE-8F02FAFB75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1A7AB2-3727-45F5-8BAA-8F9411DF5B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DE6F504-EFFB-4EF7-BEE7-52EAC738152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449219A-8DBB-492B-A8D5-354CBF041C3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46B49D0-68D0-4ECC-AE64-FD36172FC10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80FF00F-9EE8-454D-8DE0-61CDC41EDEA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AE7EBA5-E682-4E8A-B573-ABCF54273A9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580A73D-CA1C-4728-B3BD-222D1D75B72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127143F-964A-4A31-B8C3-1F73800B523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725E536-2157-4E60-969F-BCEDDFE6D45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EC87A-B7AF-4157-8DDE-508E69F1AA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4B369EC-B1E3-478B-B336-15F56B6309C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5C8232-1B3B-4431-A220-1B0E08E6AB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C96D2F-7A62-43C7-B792-0178405A54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A399F9-05F2-4B2B-BB5F-158BD4CFE7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38741A7-4F63-4C17-A8F8-202CA4CAF0B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81C2191-DB11-4E73-B4CE-43B141AE23C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9CED937-0CC3-4F11-938D-BE2BED201F3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E855F13-040A-490E-B431-8868D27354A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9354179-409B-4C6B-BF2F-AA0C5D98357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52C4BD6-E2C2-4253-88FB-524589FBF75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3000"/>
            <a:ext cx="1182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149AD4C2-1801-411C-9677-E9C813AB617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294r0</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294r0</a:t>
            </a:r>
            <a:endParaRPr b="0"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A9ABEA78-CEE9-4459-B0CA-567FA5F334B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294r0</a:t>
            </a:r>
            <a:endParaRPr b="0"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8FA6232D-0D8C-42EE-BF3D-5AE92320ABC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294r0</a:t>
            </a:r>
            <a:endParaRPr b="0"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4FD65B02-E655-4BFD-8C4D-AD4BAD77A8E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294r0</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15585984-B450-4374-910F-78C6EC74A4D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294r0</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95C1E0F2-71A8-42CE-92B1-071250A65C8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294r0</a:t>
            </a:r>
            <a:endParaRPr b="0"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683F0DBC-94B9-4490-BAA1-103AFAA4245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294r0</a:t>
            </a:r>
            <a:endParaRPr b="0"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400DA7AF-44C7-4DB3-B7D6-A1661D9CBAE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294r0</a:t>
            </a:r>
            <a:endParaRPr b="0"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C4E39FEF-6835-4736-AFAE-5AE554A7D0F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294r0</a:t>
            </a:r>
            <a:endParaRPr b="0"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387C6CBD-5E75-432F-B3B8-F498F59C0E7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294r0</a:t>
            </a:r>
            <a:endParaRPr b="0"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B3FED21B-AD5F-48EF-B845-CA988DA09DA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294r0</a:t>
            </a:r>
            <a:endParaRPr b="0"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B1FAD79B-2914-4993-8A20-AE926C086D0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standards.ieee.org/develop/policies/bylaws/sect6-7.html#Slide 6" TargetMode="External"/><Relationship Id="rId2" Type="http://schemas.openxmlformats.org/officeDocument/2006/relationships/hyperlink" Target="http://standards.ieee.org/develop/policies/opman/sect6.html#6.3" TargetMode="External"/><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s://standards.ieee.org/develop/policies/bylaws/sb_bylaws.pdfsection%205.2.1" TargetMode="External"/><Relationship Id="rId2" Type="http://schemas.openxmlformats.org/officeDocument/2006/relationships/hyperlink" Target="https://standards.ieee.org/develop/policies/bylaws/sb_bylaws.pdf" TargetMode="External"/><Relationship Id="rId3" Type="http://schemas.openxmlformats.org/officeDocument/2006/relationships/hyperlink" Target="http://www.ieee802.org/devdocs.shtml" TargetMode="External"/><Relationship Id="rId4" Type="http://schemas.openxmlformats.org/officeDocument/2006/relationships/slideLayout" Target="../slideLayouts/slideLayout2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mailto:edward.ks.au@gmail.com" TargetMode="External"/><Relationship Id="rId2" Type="http://schemas.openxmlformats.org/officeDocument/2006/relationships/hyperlink" Target="mailto:jeorge.hurtarte@litepoint.com" TargetMode="External"/><Relationship Id="rId3" Type="http://schemas.openxmlformats.org/officeDocument/2006/relationships/hyperlink" Target="http://mentor.ieee.org/" TargetMode="External"/><Relationship Id="rId4" Type="http://schemas.openxmlformats.org/officeDocument/2006/relationships/slideLayout" Target="../slideLayouts/slideLayout8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5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94FD684-D524-440B-8C59-03030889B1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March 1, 2019, Teleconference Call Agenda</a:t>
            </a:r>
            <a:endParaRPr b="1" lang="en-US" sz="3200" spc="-1" strike="noStrike">
              <a:solidFill>
                <a:srgbClr val="000000"/>
              </a:solidFill>
              <a:latin typeface="Times New Roman"/>
            </a:endParaRPr>
          </a:p>
        </p:txBody>
      </p:sp>
      <p:sp>
        <p:nvSpPr>
          <p:cNvPr id="554" name="PlaceHolder 2"/>
          <p:cNvSpPr>
            <a:spLocks noGrp="1"/>
          </p:cNvSpPr>
          <p:nvPr>
            <p:ph/>
          </p:nvPr>
        </p:nvSpPr>
        <p:spPr>
          <a:xfrm>
            <a:off x="685800" y="1676520"/>
            <a:ext cx="7772400" cy="38088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9-03-01</a:t>
            </a:r>
            <a:endParaRPr b="1" lang="en-US" sz="2000" spc="-1" strike="noStrike">
              <a:solidFill>
                <a:srgbClr val="000000"/>
              </a:solidFill>
              <a:latin typeface="Times New Roman"/>
            </a:endParaRPr>
          </a:p>
        </p:txBody>
      </p:sp>
      <p:graphicFrame>
        <p:nvGraphicFramePr>
          <p:cNvPr id="555" name="Object 11"/>
          <p:cNvGraphicFramePr/>
          <p:nvPr/>
        </p:nvGraphicFramePr>
        <p:xfrm>
          <a:off x="669960" y="2668680"/>
          <a:ext cx="7804080" cy="1000080"/>
        </p:xfrm>
        <a:graphic>
          <a:graphicData uri="http://schemas.openxmlformats.org/presentationml/2006/ole">
            <p:oleObj progId="Word.Document.12" r:id="rId1" spid="">
              <p:embed/>
              <p:pic>
                <p:nvPicPr>
                  <p:cNvPr id="556" name="Object 11" descr=""/>
                  <p:cNvPicPr/>
                  <p:nvPr/>
                </p:nvPicPr>
                <p:blipFill>
                  <a:blip r:embed="rId2"/>
                  <a:stretch/>
                </p:blipFill>
                <p:spPr>
                  <a:xfrm>
                    <a:off x="669960" y="2668680"/>
                    <a:ext cx="7804080" cy="1000080"/>
                  </a:xfrm>
                  <a:prstGeom prst="rect">
                    <a:avLst/>
                  </a:prstGeom>
                  <a:ln w="0">
                    <a:noFill/>
                  </a:ln>
                </p:spPr>
              </p:pic>
            </p:oleObj>
          </a:graphicData>
        </a:graphic>
      </p:graphicFrame>
      <p:sp>
        <p:nvSpPr>
          <p:cNvPr id="557" name="Rectangle 12"/>
          <p:cNvSpPr/>
          <p:nvPr/>
        </p:nvSpPr>
        <p:spPr>
          <a:xfrm>
            <a:off x="685800" y="213372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D06D973-AF4F-4684-B572-720B6B9A82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a:t>
            </a:r>
            <a:endParaRPr b="0" lang="en-US" sz="3200" spc="-1" strike="noStrike">
              <a:solidFill>
                <a:srgbClr val="000000"/>
              </a:solidFill>
              <a:latin typeface="Times New Roman"/>
            </a:endParaRPr>
          </a:p>
        </p:txBody>
      </p:sp>
      <p:sp>
        <p:nvSpPr>
          <p:cNvPr id="604"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minder</a:t>
            </a:r>
            <a:endParaRPr b="0" lang="en-US" sz="20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view 17/1238r2 related to the removal of DMG OFDM.   </a:t>
            </a:r>
            <a:endParaRPr b="0" lang="en-US" sz="1400" spc="-1" strike="noStrike">
              <a:solidFill>
                <a:srgbClr val="000000"/>
              </a:solidFill>
              <a:latin typeface="Times New Roman"/>
            </a:endParaRPr>
          </a:p>
          <a:p>
            <a:pPr lvl="2" marL="1143000" indent="-228600" algn="just">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ize our input to TGmd in the Monday AM2 session in January interim.</a:t>
            </a:r>
            <a:endParaRPr b="0" lang="en-US" sz="14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Assignment for LB239</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y other business</a:t>
            </a:r>
            <a:endParaRPr b="0" lang="en-US" sz="20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l for presentation/comment resolution for the March 6</a:t>
            </a:r>
            <a:r>
              <a:rPr b="0" lang="en-US" sz="1400" spc="-1" strike="noStrike" baseline="30000">
                <a:solidFill>
                  <a:srgbClr val="000000"/>
                </a:solidFill>
                <a:latin typeface="Times New Roman"/>
              </a:rPr>
              <a:t>th</a:t>
            </a:r>
            <a:r>
              <a:rPr b="0" lang="en-US" sz="1400" spc="-1" strike="noStrike">
                <a:solidFill>
                  <a:srgbClr val="000000"/>
                </a:solidFill>
                <a:latin typeface="Times New Roman"/>
              </a:rPr>
              <a:t> teleconference call and the March 2019 plenary (19/0229)</a:t>
            </a:r>
            <a:endParaRPr b="0" lang="en-US" sz="14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0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228600" y="1295280"/>
            <a:ext cx="86868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Times New Roman"/>
              </a:rPr>
              <a:t>IEEE 802.11 Task Group AY</a:t>
            </a:r>
            <a:br>
              <a:rPr sz="3600"/>
            </a:br>
            <a:r>
              <a:rPr b="1" lang="en-US" sz="2000" spc="-1" strike="noStrike">
                <a:solidFill>
                  <a:srgbClr val="0000ff"/>
                </a:solidFill>
                <a:latin typeface="Times New Roman"/>
                <a:ea typeface="Times New Roman"/>
              </a:rPr>
              <a:t>Enhanced Throughout for Operation in License-Exempt Bands Above 45 GHz</a:t>
            </a:r>
            <a:endParaRPr b="1" lang="en-US" sz="2000" spc="-1" strike="noStrike">
              <a:solidFill>
                <a:srgbClr val="000000"/>
              </a:solidFill>
              <a:latin typeface="Times New Roman"/>
            </a:endParaRPr>
          </a:p>
        </p:txBody>
      </p:sp>
      <p:sp>
        <p:nvSpPr>
          <p:cNvPr id="559" name=""/>
          <p:cNvSpPr txBox="1"/>
          <p:nvPr/>
        </p:nvSpPr>
        <p:spPr>
          <a:xfrm>
            <a:off x="533160" y="2971800"/>
            <a:ext cx="8305560" cy="3124080"/>
          </a:xfrm>
          <a:prstGeom prst="rect">
            <a:avLst/>
          </a:prstGeom>
          <a:noFill/>
          <a:ln w="0">
            <a:noFill/>
          </a:ln>
        </p:spPr>
        <p:txBody>
          <a:bodyPr lIns="92160" rIns="92160" tIns="46080" bIns="46080" anchor="t">
            <a:normAutofit/>
          </a:bodyPr>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March 1, 2019</a:t>
            </a:r>
            <a:endParaRPr b="1" lang="en-US" sz="3000" spc="-1" strike="noStrike">
              <a:solidFill>
                <a:srgbClr val="000000"/>
              </a:solidFill>
              <a:latin typeface="Times New Roman"/>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10:00am ET – 11:30am ET</a:t>
            </a:r>
            <a:endParaRPr b="1" lang="en-US" sz="3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hair:  Edward Au (Huawei)</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Vice Chair:  Sang Kim (LG Electronics)</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retary:  Jeorge Hurtarte (LitePoint)</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ditor:  Carlos Cordeiro (Intel)</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1" lang="en-US" sz="2000" spc="-1" strike="noStrike">
              <a:solidFill>
                <a:srgbClr val="000000"/>
              </a:solidFill>
              <a:latin typeface="Times New Roman"/>
            </a:endParaRPr>
          </a:p>
        </p:txBody>
      </p:sp>
      <p:sp>
        <p:nvSpPr>
          <p:cNvPr id="56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3FBCD7A-665B-4853-B02F-8C7E36BADC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5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51E44E3-D663-42F2-9348-07A92F5ECE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4"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Task Group AY agenda for the March 1, 2019, teleconference cal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566"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56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56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59B6C79B-A665-41FA-A01F-DE4FF4622E6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0"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1"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ould inform the IEEE (or cause the IEEE to be informed) of the identity of any other holders of potential Essential Patent Claims</a:t>
            </a:r>
            <a:endParaRPr b="0" lang="en-US" sz="1800" spc="-1" strike="noStrike">
              <a:solidFill>
                <a:srgbClr val="000000"/>
              </a:solidFill>
              <a:latin typeface="Times New Roman"/>
            </a:endParaRPr>
          </a:p>
          <a:p>
            <a:pPr marL="230040" indent="-230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30040" indent="-230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Early identification of holders of potential Essential Patent Claims is encouraged</a:t>
            </a:r>
            <a:endParaRPr b="0" lang="en-US" sz="3200" spc="-1" strike="noStrike">
              <a:solidFill>
                <a:srgbClr val="000000"/>
              </a:solidFill>
              <a:latin typeface="Times New Roman"/>
            </a:endParaRPr>
          </a:p>
          <a:p>
            <a:pPr marL="230040" indent="-2300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2" name="Rectangle 2"/>
          <p:cNvSpPr/>
          <p:nvPr/>
        </p:nvSpPr>
        <p:spPr>
          <a:xfrm>
            <a:off x="609480" y="533520"/>
            <a:ext cx="792504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nts have a duty to inform the IEEE</a:t>
            </a:r>
            <a:endParaRPr b="0" lang="en-US" sz="3200" spc="-1" strike="noStrike">
              <a:solidFill>
                <a:srgbClr val="000000"/>
              </a:solidFill>
              <a:latin typeface="Times New Roman"/>
            </a:endParaRPr>
          </a:p>
        </p:txBody>
      </p:sp>
      <p:sp>
        <p:nvSpPr>
          <p:cNvPr id="57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57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0E605FF6-6560-4541-8141-31C0AC2E7C8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6"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7"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use an LOA to be submitted to the IEEE-SA (patcom@ieee.org);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vide the chair of this group with the identity of the holder(s) of any and all such claims as soon as possible;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ak up now and respond to this Call for Potentially Essential Pat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endParaRPr b="0" lang="en-US" sz="1800" spc="-1" strike="noStrike">
              <a:solidFill>
                <a:srgbClr val="000000"/>
              </a:solidFill>
              <a:latin typeface="Times New Roman"/>
            </a:endParaRPr>
          </a:p>
          <a:p>
            <a:pPr marL="230040" indent="-2300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578" name="Rectangle 2"/>
          <p:cNvSpPr/>
          <p:nvPr/>
        </p:nvSpPr>
        <p:spPr>
          <a:xfrm>
            <a:off x="533520" y="533520"/>
            <a:ext cx="79246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ys to inform IEEE</a:t>
            </a:r>
            <a:endParaRPr b="0" lang="en-US" sz="3200" spc="-1" strike="noStrike">
              <a:solidFill>
                <a:srgbClr val="000000"/>
              </a:solidFill>
              <a:latin typeface="Times New Roman"/>
            </a:endParaRPr>
          </a:p>
        </p:txBody>
      </p:sp>
      <p:sp>
        <p:nvSpPr>
          <p:cNvPr id="57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1" name="Rectangle 4"/>
          <p:cNvSpPr/>
          <p:nvPr/>
        </p:nvSpPr>
        <p:spPr>
          <a:xfrm>
            <a:off x="685800" y="1447920"/>
            <a:ext cx="7848720" cy="51814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interpretation, validity, or essentiality of patents/patent claim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specific license rates, terms, or condition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lative costs of different technical approaches that include relative costs of patent licensing terms may be discussed in standards development meeting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chnical considerations remain the primary focu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or engage in the fixing of product prices, allocation of customers, or division of sales market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status or substance of ongoing or threatened litigation.</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be silent if inappropriate topics are discussed … do formally object.</a:t>
            </a:r>
            <a:endParaRPr b="0" lang="en-US" sz="18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or more details, see IEEE-SA Standards Board Operations Manual, clause 5.3.10 and </a:t>
            </a:r>
            <a:br>
              <a:rPr sz="1200"/>
            </a:br>
            <a:r>
              <a:rPr b="1" lang="en-US" sz="1200" spc="-1" strike="noStrike">
                <a:solidFill>
                  <a:srgbClr val="000000"/>
                </a:solidFill>
                <a:latin typeface="Times New Roman"/>
                <a:ea typeface="Times New Roman"/>
              </a:rPr>
              <a:t>Antitrust and Competition Policy: What You Need to Know at http://standards.ieee.org/develop/policies/antitrust.pdf</a:t>
            </a:r>
            <a:endParaRPr b="0" lang="en-US" sz="1200" spc="-1" strike="noStrike">
              <a:solidFill>
                <a:srgbClr val="000000"/>
              </a:solidFill>
              <a:latin typeface="Times New Roman"/>
            </a:endParaRPr>
          </a:p>
        </p:txBody>
      </p:sp>
      <p:sp>
        <p:nvSpPr>
          <p:cNvPr id="58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ther Guideline for IEEE WG meetings</a:t>
            </a:r>
            <a:endParaRPr b="0" lang="en-US" sz="3200" spc="-1" strike="noStrike">
              <a:solidFill>
                <a:srgbClr val="000000"/>
              </a:solidFill>
              <a:latin typeface="Times New Roman"/>
            </a:endParaRPr>
          </a:p>
        </p:txBody>
      </p:sp>
      <p:sp>
        <p:nvSpPr>
          <p:cNvPr id="58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22A9897-9B32-475F-9048-4C82C2CF67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58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7" name="Rectangle 4"/>
          <p:cNvSpPr/>
          <p:nvPr/>
        </p:nvSpPr>
        <p:spPr>
          <a:xfrm>
            <a:off x="685800" y="1295280"/>
            <a:ext cx="784872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patent policy and the procedures used to execute that policy are documented in the:</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Bylaws (</a:t>
            </a:r>
            <a:r>
              <a:rPr b="1" lang="en-US" sz="1800" spc="-1" strike="noStrike" u="sng">
                <a:solidFill>
                  <a:srgbClr val="0066ff"/>
                </a:solidFill>
                <a:uFillTx/>
                <a:latin typeface="Times New Roman"/>
                <a:hlinkClick r:id="rId1"/>
              </a:rPr>
              <a:t>http://standards.ieee.org/develop/policies/bylaws/sect6-7.html#6</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Operations Manual (</a:t>
            </a:r>
            <a:r>
              <a:rPr b="1" lang="en-US" sz="1800" spc="-1" strike="noStrike" u="sng">
                <a:solidFill>
                  <a:srgbClr val="0066ff"/>
                </a:solidFill>
                <a:uFillTx/>
                <a:latin typeface="Times New Roman"/>
                <a:hlinkClick r:id="rId2"/>
              </a:rPr>
              <a:t>http://standards.ieee.org/develop/policies/opman/sect6.html#6.3</a:t>
            </a: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30040" indent="-230040">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terial about the patent policy is available at http://standards.ieee.org/about/sasb/patcom/materials.html</a:t>
            </a:r>
            <a:endParaRPr b="0" lang="en-US" sz="1800" spc="-1" strike="noStrike">
              <a:solidFill>
                <a:srgbClr val="000000"/>
              </a:solidFill>
              <a:latin typeface="Times New Roman"/>
            </a:endParaRPr>
          </a:p>
          <a:p>
            <a:pPr marL="230040" indent="-230040" algn="just">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Calibri"/>
              </a:rPr>
              <a:t>If you have questions, contact the IEEE-SA Standards Board Patent Committee Administrator at patcom@ieee.org</a:t>
            </a:r>
            <a:endParaRPr b="0" lang="en-US" sz="18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60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spcAft>
                <a:spcPts val="11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related information</a:t>
            </a:r>
            <a:endParaRPr b="0" lang="en-US" sz="3200" spc="-1" strike="noStrike">
              <a:solidFill>
                <a:srgbClr val="000000"/>
              </a:solidFill>
              <a:latin typeface="Times New Roman"/>
            </a:endParaRPr>
          </a:p>
        </p:txBody>
      </p:sp>
      <p:sp>
        <p:nvSpPr>
          <p:cNvPr id="58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20F8062-C393-4301-9281-3354DFD478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59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39964B54-A5FD-4D83-AAB4-5498A1BB5FB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3" name="PlaceHolder 1"/>
          <p:cNvSpPr>
            <a:spLocks noGrp="1"/>
          </p:cNvSpPr>
          <p:nvPr>
            <p:ph/>
          </p:nvPr>
        </p:nvSpPr>
        <p:spPr>
          <a:xfrm>
            <a:off x="685800" y="1676520"/>
            <a:ext cx="7848720" cy="4495680"/>
          </a:xfrm>
          <a:prstGeom prst="rect">
            <a:avLst/>
          </a:prstGeom>
          <a:noFill/>
          <a:ln w="0">
            <a:noFill/>
          </a:ln>
        </p:spPr>
        <p:txBody>
          <a:bodyPr lIns="92160" rIns="92160" tIns="46080" bIns="46080" anchor="t">
            <a:normAutofit fontScale="99000"/>
          </a:bodyPr>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ticipation in any IEEE 802 meeting (Sponsor, Sponsor Subgroup, Working Group, Working Group Subgroup, etc.) is on an individual basis</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in the IEEE standards development individual process shall act based on their qualifications and experience. (</a:t>
            </a:r>
            <a:r>
              <a:rPr b="0" lang="en-US" sz="1200" spc="-1" strike="noStrike" u="sng">
                <a:solidFill>
                  <a:srgbClr val="0066ff"/>
                </a:solidFill>
                <a:uFillTx/>
                <a:latin typeface="Times New Roman"/>
                <a:hlinkClick r:id="rId1"/>
              </a:rPr>
              <a:t>https://standards.ieee.org/develop/policies/bylaws/sb_bylaws.pdfsection 5.2.1</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Working Group membership is by individual; “Working Group members shall participate in the consensus process in a manner consistent with their professional expert opinion as individuals, and not as organizational representatives”. (subclause 4.2.1 “Establishment”, of the IEEE 802 LMSC Working Group Policies and Procedures)</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have an obligation to act and vote as an individual and not under the direction of any other individual or group.  A Participant’s obligation to act and vote as an individual applies in all cases, regardless of any external commitments, agreements, contracts, or orders. </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shall not direct the actions or votes of any other member of an IEEE 802 Working Group or retaliate against any other member for their actions or votes within IEEE 802 Working Group meetings, see </a:t>
            </a:r>
            <a:r>
              <a:rPr b="0" lang="en-US" sz="1200" spc="-1" strike="noStrike" u="sng">
                <a:solidFill>
                  <a:srgbClr val="0066ff"/>
                </a:solidFill>
                <a:uFillTx/>
                <a:latin typeface="Times New Roman"/>
                <a:hlinkClick r:id="rId2"/>
              </a:rPr>
              <a:t>https://standards.ieee.org/develop/policies/bylaws/sb_bylaws.pdf</a:t>
            </a:r>
            <a:r>
              <a:rPr b="0" lang="en-US" sz="1200" spc="-1" strike="noStrike">
                <a:solidFill>
                  <a:srgbClr val="000000"/>
                </a:solidFill>
                <a:latin typeface="Times New Roman"/>
              </a:rPr>
              <a:t> section 5.2.1.3 and the IEEE 802 LMSC Working Group Policies and Procedures, subclause 3.4.1 “Chair”, list item x.</a:t>
            </a:r>
            <a:endParaRPr b="0" lang="en-US" sz="1200" spc="-1" strike="noStrike">
              <a:solidFill>
                <a:srgbClr val="000000"/>
              </a:solidFill>
              <a:latin typeface="Times New Roman"/>
            </a:endParaRPr>
          </a:p>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y participating in IEEE 802 meetings, you accept these requirements.  If you do not agree to these policies then you shall not participate.</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st revision of IEEE 802 LMSC Working Group Policies and Procedures: </a:t>
            </a:r>
            <a:r>
              <a:rPr b="0" lang="en-US" sz="1200" spc="-1" strike="noStrike" u="sng">
                <a:solidFill>
                  <a:srgbClr val="0066ff"/>
                </a:solidFill>
                <a:uFillTx/>
                <a:latin typeface="Times New Roman"/>
                <a:hlinkClick r:id="rId3"/>
              </a:rPr>
              <a:t>http://www.ieee802.org/devdocs.shtml</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39480" indent="0">
              <a:spcBef>
                <a:spcPts val="3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59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9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59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tion in IEEE 802 Meetings</a:t>
            </a:r>
            <a:endParaRPr b="0" lang="en-US" sz="3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92CB99F-6AD4-4504-87F4-A45509B0A3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8"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endance recording procedur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ease send an email to the addresses below to have your attendance recorded:</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edward.ks.au@gmail.com</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jeorge.hurtarte@litepoint.com</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3"/>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Gay” for submi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plan to make a submission be sure it does not contain company logos or advertising</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a:t>
            </a:r>
            <a:endParaRPr b="0" lang="en-US" sz="3200" spc="-1" strike="noStrike">
              <a:solidFill>
                <a:srgbClr val="000000"/>
              </a:solidFill>
              <a:latin typeface="Times New Roman"/>
            </a:endParaRPr>
          </a:p>
        </p:txBody>
      </p:sp>
      <p:sp>
        <p:nvSpPr>
          <p:cNvPr id="60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0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dward Au</dc:creator>
  <dc:description/>
  <cp:keywords>January 10 2018</cp:keywords>
  <dc:language>en-US</dc:language>
  <cp:lastModifiedBy>Edward Au</cp:lastModifiedBy>
  <cp:lastPrinted>2014-11-04T15:04:57Z</cp:lastPrinted>
  <dcterms:modified xsi:type="dcterms:W3CDTF">2019-02-27T05:33:39Z</dcterms:modified>
  <cp:revision>4086</cp:revision>
  <dc:subject>Task Group AY November 2015 Meeting Agenda</dc:subject>
  <dc:title>18/0004r2</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change">
    <vt:lpwstr/>
  </property>
  <property fmtid="{D5CDD505-2E9C-101B-9397-08002B2CF9AE}" pid="3" name="_full-control">
    <vt:lpwstr/>
  </property>
  <property fmtid="{D5CDD505-2E9C-101B-9397-08002B2CF9AE}" pid="4"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5"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6"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7" name="_ms_pID_72534310_00">
    <vt:lpwstr>_ms_pID_72534310</vt:lpwstr>
  </property>
  <property fmtid="{D5CDD505-2E9C-101B-9397-08002B2CF9AE}" pid="8" name="_ms_pID_72534311">
    <vt:lpwstr>w8PjNg==</vt:lpwstr>
  </property>
  <property fmtid="{D5CDD505-2E9C-101B-9397-08002B2CF9AE}" pid="9" name="_ms_pID_72534311_00">
    <vt:lpwstr>_ms_pID_72534311</vt:lpwstr>
  </property>
  <property fmtid="{D5CDD505-2E9C-101B-9397-08002B2CF9AE}" pid="10" name="_ms_pID_7253431_00">
    <vt:lpwstr>_ms_pID_7253431</vt:lpwstr>
  </property>
  <property fmtid="{D5CDD505-2E9C-101B-9397-08002B2CF9AE}" pid="11"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2" name="_ms_pID_7253432_00">
    <vt:lpwstr>_ms_pID_7253432</vt:lpwstr>
  </property>
  <property fmtid="{D5CDD505-2E9C-101B-9397-08002B2CF9AE}" pid="13"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4" name="_ms_pID_7253433_00">
    <vt:lpwstr>_ms_pID_7253433</vt:lpwstr>
  </property>
  <property fmtid="{D5CDD505-2E9C-101B-9397-08002B2CF9AE}" pid="15"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6" name="_ms_pID_7253434_00">
    <vt:lpwstr>_ms_pID_7253434</vt:lpwstr>
  </property>
  <property fmtid="{D5CDD505-2E9C-101B-9397-08002B2CF9AE}" pid="17"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8" name="_ms_pID_7253435_00">
    <vt:lpwstr>_ms_pID_7253435</vt:lpwstr>
  </property>
  <property fmtid="{D5CDD505-2E9C-101B-9397-08002B2CF9AE}" pid="19"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20" name="_ms_pID_7253436_00">
    <vt:lpwstr>_ms_pID_7253436</vt:lpwstr>
  </property>
  <property fmtid="{D5CDD505-2E9C-101B-9397-08002B2CF9AE}" pid="21"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2" name="_ms_pID_7253437_00">
    <vt:lpwstr>_ms_pID_7253437</vt:lpwstr>
  </property>
  <property fmtid="{D5CDD505-2E9C-101B-9397-08002B2CF9AE}" pid="23"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4" name="_ms_pID_7253438_00">
    <vt:lpwstr>_ms_pID_7253438</vt:lpwstr>
  </property>
  <property fmtid="{D5CDD505-2E9C-101B-9397-08002B2CF9AE}" pid="25"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6" name="_ms_pID_7253439_00">
    <vt:lpwstr>_ms_pID_7253439</vt:lpwstr>
  </property>
  <property fmtid="{D5CDD505-2E9C-101B-9397-08002B2CF9AE}" pid="27" name="_ms_pID_725343_00">
    <vt:lpwstr>_ms_pID_725343</vt:lpwstr>
  </property>
  <property fmtid="{D5CDD505-2E9C-101B-9397-08002B2CF9AE}" pid="28" name="_readonly">
    <vt:lpwstr/>
  </property>
  <property fmtid="{D5CDD505-2E9C-101B-9397-08002B2CF9AE}" pid="29" name="sflag">
    <vt:lpwstr>1508261703</vt:lpwstr>
  </property>
</Properties>
</file>