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5A5B04B5-A282-4065-8DAA-11BE1207C25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6FCA42-8041-4459-90E4-4D2C89A23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D337A7-6375-4EB1-9B5F-63E31FADC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54160" y="701640"/>
            <a:ext cx="4626000" cy="3468600"/>
          </a:xfrm>
          <a:prstGeom prst="rect">
            <a:avLst/>
          </a:prstGeom>
          <a:ln w="0">
            <a:noFill/>
          </a:ln>
        </p:spPr>
      </p:sp>
      <p:sp>
        <p:nvSpPr>
          <p:cNvPr id="6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9B12D2-449D-4774-B47D-E93FCA456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057F34-F3F3-4A69-8D36-C0901BD4C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56A6894-4B78-478B-BA8F-55ADE0EB7B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7680" y="696960"/>
            <a:ext cx="4640400" cy="3479760"/>
          </a:xfrm>
          <a:prstGeom prst="rect">
            <a:avLst/>
          </a:prstGeom>
          <a:ln w="0">
            <a:noFill/>
          </a:ln>
        </p:spPr>
      </p:sp>
      <p:sp>
        <p:nvSpPr>
          <p:cNvPr id="63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97BFF09-24FD-41AD-83F3-DD832352C5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7680" y="696960"/>
            <a:ext cx="4640400" cy="3479760"/>
          </a:xfrm>
          <a:prstGeom prst="rect">
            <a:avLst/>
          </a:prstGeom>
          <a:ln w="0">
            <a:noFill/>
          </a:ln>
        </p:spPr>
      </p:sp>
      <p:sp>
        <p:nvSpPr>
          <p:cNvPr id="63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EFDC30D-4D2C-43DA-B590-8421279D7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54160" y="701640"/>
            <a:ext cx="4626000" cy="3468600"/>
          </a:xfrm>
          <a:prstGeom prst="rect">
            <a:avLst/>
          </a:prstGeom>
          <a:ln w="0">
            <a:noFill/>
          </a:ln>
        </p:spPr>
      </p:sp>
      <p:sp>
        <p:nvSpPr>
          <p:cNvPr id="6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DCEC1B9-6ED1-4FB5-9FAD-832C2BA1E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4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7CFE77-21A3-4908-A689-7C9B47E4A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96A4BD-5C12-418F-846C-97C46689D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5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6C04A2-73DA-4E78-9BCB-289ABE537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54160" y="701640"/>
            <a:ext cx="4626000" cy="3468600"/>
          </a:xfrm>
          <a:prstGeom prst="rect">
            <a:avLst/>
          </a:prstGeom>
          <a:ln w="0">
            <a:noFill/>
          </a:ln>
        </p:spPr>
      </p:sp>
      <p:sp>
        <p:nvSpPr>
          <p:cNvPr id="6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A9B7D-74F2-4A09-9F1A-6911BA22A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0D26D-45F5-493F-A40A-B77B33D7E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E41D6E-4465-47D3-A5C9-E06DF4F7D8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0FED22-7BFF-46D6-B134-E44A3CDBD5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A27DCE-3326-497A-B6BA-FF9F0936BA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2E392C-613A-4C73-971D-7FE146B11B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AD8C06-7F91-45D0-AB73-886363B12B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359D57-D4F7-4DDF-AE56-4B5163CCFC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A73BEB-F1AF-4E5C-9DA4-414059E67E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61EC2A-C060-4375-B728-FB86957866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EF66E6-B940-4CF2-9EFF-71FDA7CC1D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7656D74-F9AF-443E-A336-9D8FB2438C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3F6AE-D216-4D32-AF93-58162CB6F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11A987-5DC6-454E-A4B1-B8AA5F396E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15E158-7F54-499C-9286-9A2CDB28DF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F23D3C-621E-4E96-89A0-4AA7BA0E04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17FAB2-6A51-454B-9086-AFC8DB9FB6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680388-5126-4756-80F4-CF773F8C5D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79B869-57A1-4C2C-A7AB-2D87618AB3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F3E641-23F5-4EEE-97CE-FA9633B27F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666BD5-EB48-4BB3-89ED-41694CEFEE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2D9C44-BFA4-40C4-8F80-66DCDD43E8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5DAA76E-499B-4FE9-A049-6E4AC76DF02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36F9C-88BE-4C13-B923-B100BB02C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981774-CD6F-422A-B09A-5287C60AA5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7A9E09-1131-44C6-B33F-4455DB55086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88DB93-3B1B-4808-8159-F85F33DDD5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AE3F3E-829A-478B-A498-C75604E000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C4B72D-B7AB-4981-9E4D-89AF0234E3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46F75F-38B5-4BFE-B1AA-DD6BEFBF9B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07926F-FF6D-442C-A482-30FB1D453D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F013A4-9C5C-424A-9DED-306771CC27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099E47-26C4-46FC-913E-B091634299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C47A9E-BCC8-44DC-82A7-9685DD20CD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3A212-CA49-480A-AF3D-5E0118D07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182DC4-FC01-490E-BEA5-3A50E9FD9B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E5E091D-359F-43FF-9EED-B8199A9D7F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3FC0AA-18BB-411F-929C-9D4E3F843A6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9BEF5B-4134-4ABE-8486-940063405C8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BF80CA-68D8-41A6-B697-6D96C5433C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E8F650-1F29-4135-8F8E-F736C82E29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F42C7E-50CD-4917-86E8-64CE1591AD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62AA54-B556-43C5-AD7F-31B7E55D3C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A8574A-7A97-4F22-963F-209E4A32D6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CBBE81-46A9-4485-BFF9-58AFE0459D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47D3C-68BF-4985-A28A-B2E7C368B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5995E4-867F-4AEA-A5F9-D60016521C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96CFE4-D3C5-42B2-BACD-2B4C575979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8A12B3-1A69-438D-A51D-46B6DA764C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4788A19-2185-413A-8086-DB39D102692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D8D7CE0-AA1B-40DA-8C6B-7BB4411B2FF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40ABD-FF6D-4AC6-8DB9-21589DE1B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3CA32-A508-4568-8E2B-109E959EC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A1336-1C85-4F16-9C61-82BBDC937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2CB59-9E18-4EE4-B1DB-36E9F73A8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BAD3F-6142-4CF7-9E25-CA956D345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B2E5A-991A-453D-BC7D-074F99444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03D85-3E4B-4F37-9E6C-A980B9279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FA839-2CDF-4D8E-9948-0E6E7D667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759A6-E1F4-4B9F-97CE-32980E17D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5B3FD-A12B-4F2E-941B-30F10E6CCC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97F83-5C3F-4428-9545-E95F6652D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A7B8EF-57FF-4C02-B381-23AD86424F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FB428D-AD73-4BF2-8AFD-CB4AF133A2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652506-A1B5-4692-8838-793A1971F6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55A31D-F524-414E-938B-D5A8BC9AF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149D4E-0184-49A7-8AC3-970C19762D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80A67-D789-44E5-BA77-1C5E41F4C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A0A2E1-116E-4978-A45A-89B65D093A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48B48-E7ED-4864-97F5-FB0B175F1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B6591B-E6D3-4B69-A551-8E87B1503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B4B662-1E3C-4FEF-951A-9D641486C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75C4FF-3ED5-49A7-BBD4-2513D3A485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1C922E-1955-42D1-9BA9-7C4EEA7E5B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BAF16B-2719-4D6A-82CE-D92FA90319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AB5911-4D72-4EAC-8DC5-188FF39F46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2986E3-5628-4F1D-B848-7535EDDE49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5ABBEB-CD4D-42DC-844D-BC8F9D5521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4F65D-A2A5-4981-B112-36A9E6FDE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92122A-091F-42BC-89DC-C2739A280F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84B7B4-FE94-4ECA-9152-6F5B0D5D6B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879A6E-7678-402E-83E9-1D5D2DC3D0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D7571-C728-406E-B3E7-50B47E8A88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8AFE27-C7FC-4F04-9CED-23714DB10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25222-973B-4900-B0AD-008CE55BA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87A181-D6EE-4E58-956C-38102CF5A8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36D9C4-988A-4B91-A6E0-EBA117F7CD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59C7FA-EEBF-40AB-96A2-BC29DB8BAC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065438-C8F6-403D-AD6D-06C0018454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35797-13D4-4945-ADAA-FFDC69B9D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9912FB-5857-48D1-AE09-219865388E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9704FB-A241-4C4B-B9B1-FD81BAEBA3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4E32C9-DE1B-42F4-BA7F-F394D14E7F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66966B-5FBC-44E6-947C-CDA3E48BC8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DEF693-7D1E-456E-B106-986704981B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A9CAA-B1D5-4A4B-86C1-5B13D040BC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ECDB80-A2B6-45EB-861C-20BC295108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E18137-2FF9-4737-BDF9-DF2971F96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043FEF-0B32-423D-8599-2B3455FAAA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B59F9A-7267-4EF0-B8EB-C8B718624A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F8AB3-4B50-4446-900F-D1F89FC58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D45AE4-A44E-40B4-83AB-64FB5574B8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730F15-D265-47A1-B7E0-5BF5A0ED5F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EFBF2F-F6C9-4888-8E62-1F7412E554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AA7534-8C87-4230-8499-0EAC64E66F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8EC445-A947-43DA-B16F-ED4499C2C6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97754A-EBF1-473A-B6BD-232026205D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4498F5-BA1F-41E1-8B1E-D427CD305D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62DC47-A818-4310-9348-3E1C69A839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E615CD-51B2-4895-8750-903C740363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ECD3F0-8240-49B6-B05E-61F7CE7C86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1D760-C217-448A-9CDF-3A0BEFD37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0CF78B-482E-4D02-B755-C40FDC1C3C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177C86-1F5A-4B88-9D0E-F2CE7DAE7C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B901F1-9D0C-4518-9616-003594DC93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312EA0-B04D-484D-96A8-7C709EE9CA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96E037-0920-48BF-8986-D19E94B7F1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253FBD-4C69-4B1B-BE79-72DFAE2FDD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B22D63-8401-4D0B-B1C3-73BB63C4BD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063416-2404-4001-8345-822F00E2C6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2A565D-1041-454A-8A31-81CD3D22BC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98835C-01C0-427D-8651-42BEDD3869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0787F-AC8F-4CCC-BC8A-F4210F8D2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D14B0D-8E80-453C-A2D8-140EC62250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FD078B-5B5C-4955-B455-6944D179BA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C21AF5-DDBC-4975-A67F-2D3C78D399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02B420-F013-4108-91FE-D628D0BEF9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5D445D-3A43-416A-AB31-F6342EFF27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91A389-E9D2-48ED-8AB2-BCE8DDA147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1F8DDA-31FC-464E-93CC-4F92E1B873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16E93A-85D9-429C-BFB6-E87ABFBF31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1D559A-F391-4007-8C05-9AA2E0D8E3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459446-4AAD-446F-9826-7AC9429A3C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7776F-C45A-4847-9320-0351ABEDC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6352A3-AF16-46E7-BE4E-7E34814535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A64BD9-9439-46A4-AC75-009B5CA664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8B0161-E770-4B45-A5F2-BED72A4F87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F456CB-7DF1-4B12-BE78-33437DC78E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8F8005-F384-4AC8-9166-000E575EF0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4A6DA5-7819-4B61-99C8-0F63E3A897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C16E30-1DFE-4260-9E49-C9AF5E9750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41A66C-27A0-4434-BAE8-FEA09773BB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DE1AAA-F0BD-4FCE-A8D9-7EBF7ECD3A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C005A3-B6E9-41FF-A706-3975D3955E6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F68FE26-27D9-481E-8B5B-E5AE8E05DF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0099C23-CC3B-4C58-A52D-EAB7098B28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13CA5B0-E3BF-4E0C-9BDF-AF97B96640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33FBAB6-91DB-4085-99A6-B4CFC33914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0BDE735-5BB8-4B7E-9190-BCD5DE7021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B6221BC-1D39-4B70-9F8B-8F3EB858B72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741E050-21D7-41ED-AB64-EA5AB5FDAE9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4B292BF-30C8-4C09-8288-2D0B3A5B7E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A933F75-FC8A-4F24-9C2B-BE5457379D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8962D43-961C-4E6F-9698-3EF8E8CAF4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F8E19EE-75F9-4B9E-8E1E-8F3F72F7E9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3739FD1-7A39-4E63-AAF6-71828A97C0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4A1740-25CA-4206-A86D-18C145369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1, 2019,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3-01</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1A7BDA-BA7B-4F54-B7C4-F3F0E7282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inder</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17/1238r2 related to the removal of DMG OFDM.   </a:t>
            </a:r>
            <a:endParaRPr b="0" lang="en-US" sz="14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ize our input to TGmd in the Monday AM2 session in January interim.</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Assignment for LB239</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presentation/comment resolution for the March 6</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teleconference call and the March 2019 plenary (19/0229)</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1,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79E49C-55F5-46FA-9CD9-1CEA9BE0D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4BA2BB-AE9F-4998-BF48-B8B2127A1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1, 2019, teleconference cal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7FFAE74-8C48-48E8-8089-67FD1A3C85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D43F2B2-6710-4AC3-8E3D-4A31F263A5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4EA836-5961-4ED4-B21E-9B996AD7D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917C48-0807-4B1B-9838-1B7AA681D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30F8C5B-7E08-487F-BCF8-59C60C0CA2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8CCC7F-D97D-49FC-B77D-466D392FF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anuary 10 2018</cp:keywords>
  <dc:language>en-US</dc:language>
  <cp:lastModifiedBy>Edward Au</cp:lastModifiedBy>
  <cp:lastPrinted>2014-11-04T15:04:57Z</cp:lastPrinted>
  <dcterms:modified xsi:type="dcterms:W3CDTF">2019-02-27T05:33:39Z</dcterms:modified>
  <cp:revision>4086</cp:revision>
  <dc:subject>Task Group AY November 2015 Meeting Agenda</dc:subject>
  <dc:title>18/0004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