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C298205-04D6-42A4-BBDB-9DF04A80AE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57AC4E-E173-4A48-845A-C0EEB3E67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54160" y="701640"/>
            <a:ext cx="4626000" cy="3468600"/>
          </a:xfrm>
          <a:prstGeom prst="rect">
            <a:avLst/>
          </a:prstGeom>
          <a:ln w="0">
            <a:noFill/>
          </a:ln>
        </p:spPr>
      </p:sp>
      <p:sp>
        <p:nvSpPr>
          <p:cNvPr id="8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2A7C8C-0CFB-4E84-A500-C6A539FDF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E7A14B-1D3C-4B77-804E-D2416E52B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EB4A82-4170-4524-8B52-D4E87213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1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1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04BF35-2AFF-4987-8BB7-D13EDCC23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2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2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A3536C-E4DE-4323-905A-96415C20D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707924-C3F4-4776-A7E2-FA9BC773A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CF1C93-0D05-4059-BE2E-29AD50546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54160" y="701640"/>
            <a:ext cx="4626000" cy="3468600"/>
          </a:xfrm>
          <a:prstGeom prst="rect">
            <a:avLst/>
          </a:prstGeom>
          <a:ln w="0">
            <a:noFill/>
          </a:ln>
        </p:spPr>
      </p:sp>
      <p:sp>
        <p:nvSpPr>
          <p:cNvPr id="9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FF0673-4DE4-46AF-8734-17922C9FB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6B970B-CA7B-4E03-8C61-FF8FD470E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BBB449-4029-4B1C-B9EF-EC1334F20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5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5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5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D1100918-9D15-4E34-AB0D-004289A9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17440" y="696960"/>
            <a:ext cx="4646880" cy="3486240"/>
          </a:xfrm>
          <a:prstGeom prst="rect">
            <a:avLst/>
          </a:prstGeom>
          <a:ln w="0">
            <a:noFill/>
          </a:ln>
        </p:spPr>
      </p:sp>
      <p:sp>
        <p:nvSpPr>
          <p:cNvPr id="96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6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6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6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D409D178-9F03-4DEC-93F6-9D979D9C7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17440" y="696960"/>
            <a:ext cx="4646880" cy="3486240"/>
          </a:xfrm>
          <a:prstGeom prst="rect">
            <a:avLst/>
          </a:prstGeom>
          <a:ln w="0">
            <a:noFill/>
          </a:ln>
        </p:spPr>
      </p:sp>
      <p:sp>
        <p:nvSpPr>
          <p:cNvPr id="96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0D39D4-159F-4501-8BB1-8BB1D8ED6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ED8BD4-608E-4773-89F7-6CF87C468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717C66-B2F1-485D-AD37-729A45413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33326F-11FF-4DB9-A814-4106FACE6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BCA71B-FA8B-486F-AA52-79250FFEF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6133F4-2DF3-4EA7-AC33-380A2E881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5C2520-8D9C-4D35-9F5C-261854128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56CD75-C6A4-4E9A-82A5-8AFB57E1F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9F25D1-D8C1-4177-A29D-B1DB39C3D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47E477-E9EE-4049-A312-BFC67C5EF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608C9F-DF71-48A2-8B35-6EC64D87D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7B0EEC-FE0E-4287-9A5B-59EE8BBDB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4C45B4-76C3-4E57-9B48-6C3C7AA2E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DD270-22E8-49DA-B37A-5A8BA15AC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4160" y="701640"/>
            <a:ext cx="4626000" cy="3468600"/>
          </a:xfrm>
          <a:prstGeom prst="rect">
            <a:avLst/>
          </a:prstGeom>
          <a:ln w="0">
            <a:noFill/>
          </a:ln>
        </p:spPr>
      </p:sp>
      <p:sp>
        <p:nvSpPr>
          <p:cNvPr id="10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75DA41-F21B-46FC-8D72-CEF4B175F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DA4860-6AF4-4846-9566-AA8D2C930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44A5C7-9D4C-4C08-A647-0FDF1FF3F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54160" y="701640"/>
            <a:ext cx="4626000" cy="3468600"/>
          </a:xfrm>
          <a:prstGeom prst="rect">
            <a:avLst/>
          </a:prstGeom>
          <a:ln w="0">
            <a:noFill/>
          </a:ln>
        </p:spPr>
      </p:sp>
      <p:sp>
        <p:nvSpPr>
          <p:cNvPr id="10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18BB66-CAE6-4B1C-B561-860E3662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C153FB-0287-46AC-B506-E2D27FE8D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DAB611-2F0E-4D18-9758-383890D4B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54160" y="701640"/>
            <a:ext cx="4626000" cy="3468600"/>
          </a:xfrm>
          <a:prstGeom prst="rect">
            <a:avLst/>
          </a:prstGeom>
          <a:ln w="0">
            <a:noFill/>
          </a:ln>
        </p:spPr>
      </p:sp>
      <p:sp>
        <p:nvSpPr>
          <p:cNvPr id="10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0178A8-2441-46ED-AF24-05901F376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54160" y="701640"/>
            <a:ext cx="4626000" cy="3468600"/>
          </a:xfrm>
          <a:prstGeom prst="rect">
            <a:avLst/>
          </a:prstGeom>
          <a:ln w="0">
            <a:noFill/>
          </a:ln>
        </p:spPr>
      </p:sp>
      <p:sp>
        <p:nvSpPr>
          <p:cNvPr id="10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8ADBCD-FD5B-4B6C-8674-5F3223DCD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F2AB5BA-C7FA-4728-A4E8-E3C3F1A21E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47680" y="696960"/>
            <a:ext cx="4640400" cy="3479760"/>
          </a:xfrm>
          <a:prstGeom prst="rect">
            <a:avLst/>
          </a:prstGeom>
          <a:ln w="0">
            <a:noFill/>
          </a:ln>
        </p:spPr>
      </p:sp>
      <p:sp>
        <p:nvSpPr>
          <p:cNvPr id="87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09F8BD-2B55-425A-9745-12E966C50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1252DD-2AA4-46E7-8662-D92EE1D4B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54160" y="701640"/>
            <a:ext cx="4626000" cy="3468600"/>
          </a:xfrm>
          <a:prstGeom prst="rect">
            <a:avLst/>
          </a:prstGeom>
          <a:ln w="0">
            <a:noFill/>
          </a:ln>
        </p:spPr>
      </p:sp>
      <p:sp>
        <p:nvSpPr>
          <p:cNvPr id="11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F0C4F4-D39B-484B-A289-E80CCD355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639D9B-568A-4BAC-A78B-7EFDE79D7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54160" y="701640"/>
            <a:ext cx="4626000" cy="3468600"/>
          </a:xfrm>
          <a:prstGeom prst="rect">
            <a:avLst/>
          </a:prstGeom>
          <a:ln w="0">
            <a:noFill/>
          </a:ln>
        </p:spPr>
      </p:sp>
      <p:sp>
        <p:nvSpPr>
          <p:cNvPr id="11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464C32-7603-4BAC-90AD-70EBF6E9F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54160" y="701640"/>
            <a:ext cx="4626000" cy="3468600"/>
          </a:xfrm>
          <a:prstGeom prst="rect">
            <a:avLst/>
          </a:prstGeom>
          <a:ln w="0">
            <a:noFill/>
          </a:ln>
        </p:spPr>
      </p:sp>
      <p:sp>
        <p:nvSpPr>
          <p:cNvPr id="11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47194E-3F45-40A2-AE04-2F8A40386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2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CD0BC2-AD1A-40BF-A785-F9C508AA8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54160" y="701640"/>
            <a:ext cx="4626000" cy="3468600"/>
          </a:xfrm>
          <a:prstGeom prst="rect">
            <a:avLst/>
          </a:prstGeom>
          <a:ln w="0">
            <a:noFill/>
          </a:ln>
        </p:spPr>
      </p:sp>
      <p:sp>
        <p:nvSpPr>
          <p:cNvPr id="11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C8F051-2E4F-484B-989B-802BD99BF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54160" y="701640"/>
            <a:ext cx="4626000" cy="3468600"/>
          </a:xfrm>
          <a:prstGeom prst="rect">
            <a:avLst/>
          </a:prstGeom>
          <a:ln w="0">
            <a:noFill/>
          </a:ln>
        </p:spPr>
      </p:sp>
      <p:sp>
        <p:nvSpPr>
          <p:cNvPr id="11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D35D95-C30D-48B8-8BA1-8D78F413F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54160" y="701640"/>
            <a:ext cx="4626000" cy="3468600"/>
          </a:xfrm>
          <a:prstGeom prst="rect">
            <a:avLst/>
          </a:prstGeom>
          <a:ln w="0">
            <a:noFill/>
          </a:ln>
        </p:spPr>
      </p:sp>
      <p:sp>
        <p:nvSpPr>
          <p:cNvPr id="1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1EF4AF-9FAC-47B1-8D3C-158CE9AB6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91BF418-AA1B-4CFF-81BF-78682F9719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7680" y="696960"/>
            <a:ext cx="4640400" cy="3479760"/>
          </a:xfrm>
          <a:prstGeom prst="rect">
            <a:avLst/>
          </a:prstGeom>
          <a:ln w="0">
            <a:noFill/>
          </a:ln>
        </p:spPr>
      </p:sp>
      <p:sp>
        <p:nvSpPr>
          <p:cNvPr id="88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54160" y="701640"/>
            <a:ext cx="4626000" cy="3468600"/>
          </a:xfrm>
          <a:prstGeom prst="rect">
            <a:avLst/>
          </a:prstGeom>
          <a:ln w="0">
            <a:noFill/>
          </a:ln>
        </p:spPr>
      </p:sp>
      <p:sp>
        <p:nvSpPr>
          <p:cNvPr id="11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9E08EA-A981-4E50-BB66-00755E20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4FF786-9654-478D-BD03-C3B521871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54160" y="701640"/>
            <a:ext cx="4626000" cy="3468600"/>
          </a:xfrm>
          <a:prstGeom prst="rect">
            <a:avLst/>
          </a:prstGeom>
          <a:ln w="0">
            <a:noFill/>
          </a:ln>
        </p:spPr>
      </p:sp>
      <p:sp>
        <p:nvSpPr>
          <p:cNvPr id="11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4F86D0-D9BD-4390-AE5B-EE6661E82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54160" y="701640"/>
            <a:ext cx="4626000" cy="3468600"/>
          </a:xfrm>
          <a:prstGeom prst="rect">
            <a:avLst/>
          </a:prstGeom>
          <a:ln w="0">
            <a:noFill/>
          </a:ln>
        </p:spPr>
      </p:sp>
      <p:sp>
        <p:nvSpPr>
          <p:cNvPr id="1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F06723-7FBB-4D42-8C9C-0BC70987E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56580A-5DB7-4F6D-8DA7-910546B11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54160" y="701640"/>
            <a:ext cx="4626000" cy="3468600"/>
          </a:xfrm>
          <a:prstGeom prst="rect">
            <a:avLst/>
          </a:prstGeom>
          <a:ln w="0">
            <a:noFill/>
          </a:ln>
        </p:spPr>
      </p:sp>
      <p:sp>
        <p:nvSpPr>
          <p:cNvPr id="11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052690-EB2F-4ECC-8F69-067B8958B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4160" y="701640"/>
            <a:ext cx="4626000" cy="3468600"/>
          </a:xfrm>
          <a:prstGeom prst="rect">
            <a:avLst/>
          </a:prstGeom>
          <a:ln w="0">
            <a:noFill/>
          </a:ln>
        </p:spPr>
      </p:sp>
      <p:sp>
        <p:nvSpPr>
          <p:cNvPr id="1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3F3F52-9688-4A64-A922-D5B75061D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54160" y="701640"/>
            <a:ext cx="4626000" cy="3468600"/>
          </a:xfrm>
          <a:prstGeom prst="rect">
            <a:avLst/>
          </a:prstGeom>
          <a:ln w="0">
            <a:noFill/>
          </a:ln>
        </p:spPr>
      </p:sp>
      <p:sp>
        <p:nvSpPr>
          <p:cNvPr id="1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9E53AB-A0BF-496E-A69F-13456C19D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54160" y="701640"/>
            <a:ext cx="4626000" cy="3468600"/>
          </a:xfrm>
          <a:prstGeom prst="rect">
            <a:avLst/>
          </a:prstGeom>
          <a:ln w="0">
            <a:noFill/>
          </a:ln>
        </p:spPr>
      </p:sp>
      <p:sp>
        <p:nvSpPr>
          <p:cNvPr id="11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E45796-C5EB-4617-9784-EBF36EA49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54160" y="701640"/>
            <a:ext cx="4626000" cy="3468600"/>
          </a:xfrm>
          <a:prstGeom prst="rect">
            <a:avLst/>
          </a:prstGeom>
          <a:ln w="0">
            <a:noFill/>
          </a:ln>
        </p:spPr>
      </p:sp>
      <p:sp>
        <p:nvSpPr>
          <p:cNvPr id="12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F1AA3A-9B6F-48DF-A7D0-D08483195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BF1B90E-11EF-470F-A73F-6AA70E08E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54160" y="701640"/>
            <a:ext cx="4626000" cy="3468600"/>
          </a:xfrm>
          <a:prstGeom prst="rect">
            <a:avLst/>
          </a:prstGeom>
          <a:ln w="0">
            <a:noFill/>
          </a:ln>
        </p:spPr>
      </p:sp>
      <p:sp>
        <p:nvSpPr>
          <p:cNvPr id="12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5D8085-502D-4BF3-B6AE-0405FDE21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FE1A4F6-8DB7-45AB-88E8-5B6484837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8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8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E0D73C-9CA4-46E3-9451-6B1DAE936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D8BD6E-B0E2-4A64-992E-566D6B5E2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A7019-61FA-413B-8B89-CD49EBFB9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6379-01AA-4FE5-B4FC-87ED5FEE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E78E44-1EB0-4E23-AFB1-A7DD451EC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85D8B-6AF8-494D-9B16-3ECDA4FD14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215FD-43E9-471A-9B4C-BC2D4A7D0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9EA76-1C92-414B-9E2C-064A2BDDC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06846-838E-4CC9-8B5D-102528436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D016D-32FF-4AB5-B7DE-51198B2BA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5B7043-5799-4057-8867-CE62541DD6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2FD348-AB2C-4AFF-8DB4-D030C3CEF8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234174-C277-4B9A-ABF5-77E0FF7892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1810B6-B1C7-4CD1-B52D-EEF5EF8471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530D7-A1A8-4D4B-9EA1-CCBDAAEBD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FEA25A-21F2-42CE-A8AD-606736F11B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F73194-C187-4157-BC73-A6DB98B45F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E43178-0DD1-448E-8165-1171265393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C9EF64-8F00-4DE9-A4AB-EF228892A8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68CFCA-1128-47D8-8BCD-B714FC5540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8F5F8-8596-4BA9-AF2A-2D7A900F9B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D89D80-CB58-4D6F-AC67-BA3CA3F168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4F1704-F057-40D6-9CEE-E0CBE430B1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B17C12-1BC6-4F04-9786-E580626BDA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732CEB-C7B6-44A7-9555-0D11D89E86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61B0C-7B22-4CB2-B659-F4ADC9D1C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B83566-C03D-464D-85CE-1F843E0E59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25C705-D6B7-44B0-ACC1-C2B5C436A6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5D764B-046E-46E7-9E6C-9C850B74E7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073DFF-5459-4134-954C-9A2CF50F6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C6ACAC-BEF9-4036-B0E3-435E6B92DC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D41C62-7DBD-48A5-95B6-C1F04C19A9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0F163E-BDC9-450B-A08E-02FB8E651B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E9799-58C9-4687-96B3-F4402B9517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3A8FE4-5A3E-4119-BFB3-640EC86685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5394A-9C50-44F5-BFAC-9396040C5B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FB03C-F284-447A-B103-7FF46FB3B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C55230-6C0D-41A7-8193-A880D5539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85D3C2-5C42-4D24-8121-B2BB8035C5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78592B-2892-43AB-BAA6-ED98C37B92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DBCC40-2826-4FF1-97E7-523F579791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111CC5-0FF1-4E5E-BCA8-45A8792FA4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70E500-04E4-4C31-980E-1C0AE2A23A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ADB89-E82B-46B4-8549-9931A40A0B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B34751-A8A5-461A-8BCF-4B41BD527B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5B0A57-AE8B-430E-8884-4A5FA7B3FB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165C5-5F3A-41C1-B47C-E075C59656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2A196-E969-4782-8942-B858B5E73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D4BAD2-5F49-48F3-AB02-619A8B02F9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F35893-48A6-495D-844C-5C28CCA078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E78C35-51ED-49D2-B019-058CEDD355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9A0918-A7DC-4194-A35C-DAD062BC9D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E9CD19-5306-45E6-A5BF-63FB64B529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46FB2-3274-4731-BE33-F692BCF19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34D1F-59BA-412E-9E5F-CD2AB4131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C02AC-3012-4009-88E4-6809D80C7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811C3-EEDA-4ACF-86EF-144FBAA5A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4334B-B6AC-4C5B-81AF-EB6B47A6B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7DCF-BA45-469D-8A1D-AA3D87E5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E737D-77B4-4225-B9D2-48FD0CCDA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59BC-8A32-4C18-920D-5220C4CCF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10036-104D-4CA0-A903-A26E8DB99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3D553-9578-47DB-BE8B-224BA8688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1E310-A3BD-4A7E-AB16-76A72DD3E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5BEC7-A2C8-4A98-96D2-63EF1528C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22483-5CDB-4E11-A8E5-607BB492B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43DE9-0B7D-4825-B3DD-6D2E0ED62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60AEF-8FC8-47AE-A45E-E5C88BDA1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01CE3-D7E7-437F-B8BA-F6C75048D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1DA3-7333-49DB-A2FA-96453B98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CA3D8-49A0-44F9-A4EE-33F9CB295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0B667-D842-4F95-9A9C-B0B4BE4BA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D5356-031F-4E76-9CEB-D3B30DD73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21E3B-BB0B-4D86-A324-82356BF33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0BF0D-CCEE-48EE-9BC5-77187709A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4D829-9329-4CDB-9A4E-266CDDF7A1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396BD-896B-49F5-A001-0F36DDC828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FF872-15F3-41D4-8C73-209939146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762A6-CF2D-4253-9BD4-7F68A6EEE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63E5E-0C43-4145-8443-ED0F6359E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4737-7CBB-4309-9FA4-A0071D85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1BBD7-3CFD-4A72-AE5B-A17D39A62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81AA8-BA43-4C40-B643-DADFFE477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6968E-8E60-4139-8CD5-E72B8A590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A6F06-BAB4-4BE8-9090-5133C3733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C3F92-16EC-4B6B-9DFB-7D5ADA6F4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EF7BD-8E19-49AF-B47C-8074986FA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B435A-5424-4A36-BEC0-0F062E85A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CA46A5-CAD1-4F0B-9BEA-9F90C9042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DA5DC9-7201-4FBA-B5A5-3559F09D4C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C6C419-9E7C-4470-9091-B4FC86D430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CED5-C0CA-4E0F-B593-C3A3D4EA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9FAD17-9220-44A9-82F1-730802A76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24394-7426-4FE8-88C5-11A3509DF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437B6-8876-45E1-8218-0F0806690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309175-7D84-4514-9BA4-3AFD49D94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E7593-B92D-4A95-99BC-C04229D05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7B929-B05E-4603-A30E-381D03D48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65E9E-F764-4E4E-A11E-435CE74CC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C196D-41E7-42F2-84DA-B2E494048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BA638-9804-4482-98B7-3940FEE65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C45E42-87D2-4AE4-8E4C-A8301EFF9F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9B57-68E4-4D49-B7D7-37332B65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CAD29-0FC2-48B7-A2B6-19B5B1AE3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A8BBB3-FA84-421D-88C6-3326224E09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1F952-D1BD-4C8B-85FC-B844C9AFB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CE6E7-BF93-400F-AACD-BB5CB64FC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F0E980-A4AB-4E0E-9386-CA37C768D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B97E0-3B2E-4C4D-A44B-9A22926E0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E6307-A331-4B19-BA8E-C4F591BFA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8D414-24D8-49F1-AB86-31B6C571D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C3234-2AFF-4F33-A0B1-A15A3675B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9AF277-61B7-4139-9AF4-359E7F61B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30A7-A47C-4415-BF4A-A57182C5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928D9-8A4B-4357-8485-C0A55CA6C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C71F2-DE6F-42E9-A3E5-98135A5B6A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E695AA-66D4-4EF6-ABEC-5ED14725AE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0BB504-0EB7-4405-A546-3D07ED987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20A274-5214-47AA-8B53-7A4A2FD9A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E54588-C08D-4DA0-B14A-B3776A0D9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B723BC-547D-4452-BA3E-057287743D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286E55-CA08-47FE-AFE8-8290354CE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EA26FE-C0AD-4B13-944B-70E9EABAA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2F0EC-92EC-45D4-B22A-A580A564B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44D8-22C0-465E-AE91-57CA7CDDC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693A8-4A46-4301-9089-A7B5A0C44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81CD8-7493-4238-B936-1688B3035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17242-C77E-409F-9016-7CCD70510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A2D7B5-8CDB-4C41-8EF4-7EE64DC380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C2335-396C-4686-8428-86144D14B0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D36E1F-1A3F-44C9-A305-FEBE99E115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0B6BF-8419-46FF-9E97-4B29B1556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4EE38A-F5B5-405C-9741-E0A1E1311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A9F15-0AC9-4AA3-8E22-FE310C5A2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93C32-065A-477B-8750-A7B4AAA36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6559-9DEC-4E8D-A259-61A9B182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295318-8CD6-455D-903F-FDADB76CE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5D7DC-E7F1-4065-BA5E-ADF45B1F4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6FB56-78E4-407F-AEA6-7F83263ED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E14F7E-ADCE-4020-9982-FE235B653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DF60C8-184D-4BCD-9779-3BFE7C4AC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DA09E-1A82-45A6-A2B4-3479194BC6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8B9399-83F5-401F-954D-5A5A0460A3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D6F2B7-54E0-4A3C-A58B-98CF98DAA9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95169-0B47-42FB-8C21-6C77D60B37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BF3C9-C71A-4453-B136-D034BB392D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E81FBC-680B-4180-B9D9-4C9F77EC52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4A440F8-BD72-4724-852E-5307B9EDEB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C397308-885D-403D-9A38-D389B25AA1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17B465-4CA7-447A-9088-0057C5C430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593189-8D0E-4CE2-B8FD-75E314AF18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B9C364-8903-4DA2-8791-9B69F531E5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B9A86A-6266-40E4-AA5B-37807A5D5D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B1B13D2-4137-488C-B2E6-9F296ABDEA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B6EC60-92E4-4690-A6BD-7E34C3AB99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3E9D9F-237C-4D16-A3AB-A0E60EF3B2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EC04AF-458D-482F-963D-00FDE8AEBE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52447A-EB60-46A0-8DE4-23E1D15BF7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6AF28B-F64E-4056-AE14-D97EAF591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843C1E-6D8F-46F5-9178-77B147FD0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9D0BFC-22A0-4D79-ADB9-096E34936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DE92DD-917C-48BC-8793-FDB20C71C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6DF2CE-644F-47F5-AA78-94C3D8BA4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7EC06F-4087-4D2D-ACBB-0E32C33B8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E49E14-3108-4AA5-A290-F386CDB2C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09D05E-F30B-4886-88A5-3B98D4EBA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ED2C0D-9F77-456F-9F59-794272EB3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5B8BB3-E88A-4DF9-88E3-64FF4599B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EC6946-96AD-4CE4-83E5-3C796EB77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BEC786-AC5D-423C-81DB-5963EE4FA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72C94E-E84D-4B0E-97E9-AFC81F0FE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AA2713-CF6E-4E45-86BB-5666782D2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7B1A77-5CBE-4734-BC91-7387F0D27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E9085F-D29F-4FB1-9F05-880F4C5AB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5578FB-6325-4C5C-88A7-DDD4F2EE1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7FCE5-4780-4EA2-B52E-552C25C16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CAD670-1B2B-4657-ACB8-5E7CA9920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44402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B21A65-E554-400B-8D18-6E0BC4FE8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973D1E-09A3-4B29-B40A-BE4567E65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B8B340-10C3-474F-9CA2-4976B3B1D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4B3EC0-4AE9-45CF-9A70-81F3957D1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78D221-B498-45C7-AF29-56C61AF15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FB2B83-5D35-4001-A4C5-8F9FD444A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53EF47-EC80-4DC5-8EFF-284098ABF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5E0FF9-C4B6-4855-A87D-689BD1784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3CB9F5-57E6-404F-8804-CBA225212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85F80D-CB58-4EA0-B683-A973B07DD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E32185-461D-420C-8591-9910E31E5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09B1D7-6453-4DDA-939A-0A0D33AF8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90DF8D-79C2-4900-8D5B-B42C3485D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E80BD9-12E0-4833-8F33-B41BA95E2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2F8C727-A0D9-4C40-B7B9-BF712F5D90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1FBDDC-4BEC-47C7-B948-55A738536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FA957-8E1F-406A-A18D-769BF1636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A21FA8-0968-45EE-BEB4-920250258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44402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9E4B07-A933-40A9-B135-59DDB66B5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687E20-8073-4B80-B75D-40EE61D38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3B2B97-3ED2-4B26-85B7-8C5D474B4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EFA208-CFC6-4EA3-8317-44B3AE31C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E301CF-F5F0-483A-8DDC-2EE896178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74C54D-5495-470B-AFF6-91C5ADDF2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B66FE4-C08B-4937-937E-4A249F7C4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7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4060, 4094, 4095, and 4279 as proposed in 19/0318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061 and 4147 as proposed in 19/033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565741-53D9-4EA6-AEE2-BCD349DB9C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3EE2CE-A8E8-4990-B615-2980C5D5B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Comment Resolution</a:t>
            </a:r>
            <a:endParaRPr b="0" lang="en-US" sz="3200" spc="-1" strike="noStrike">
              <a:solidFill>
                <a:srgbClr val="000000"/>
              </a:solidFill>
              <a:latin typeface="Times New Roman"/>
            </a:endParaRPr>
          </a:p>
        </p:txBody>
      </p:sp>
      <p:sp>
        <p:nvSpPr>
          <p:cNvPr id="7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2 and 4232 as proposed in 19/03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6ECDDE-8E28-413C-A042-03C868502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7: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03, 4004, 4304, 4305, 4351, 4352, 4358, 4361, 4363, 4427, 4362, 4026, 4284, 4357, 4360, and 4365 as proposed in 19/0350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4F07BB-7396-4790-A14A-19C1F1184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8:  Comment Resolution</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157, 4190, and 4191 as proposed in 19/0353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 4467 as proposed in 19/0432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E48EE-E097-4896-BE7A-88ABE1C63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9:  Comment Resolution</a:t>
            </a:r>
            <a:endParaRPr b="0" lang="en-US" sz="3200" spc="-1" strike="noStrike">
              <a:solidFill>
                <a:srgbClr val="000000"/>
              </a:solidFill>
              <a:latin typeface="Times New Roman"/>
            </a:endParaRPr>
          </a:p>
        </p:txBody>
      </p:sp>
      <p:sp>
        <p:nvSpPr>
          <p:cNvPr id="8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0 and 4211 as proposed in 19/036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8E2F9B-548D-4FDA-B436-8977C5960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0:  Comment Resolution</a:t>
            </a:r>
            <a:endParaRPr b="0" lang="en-US" sz="3200" spc="-1" strike="noStrike">
              <a:solidFill>
                <a:srgbClr val="000000"/>
              </a:solidFill>
              <a:latin typeface="Times New Roman"/>
            </a:endParaRPr>
          </a:p>
        </p:txBody>
      </p:sp>
      <p:sp>
        <p:nvSpPr>
          <p:cNvPr id="8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461, 4462, 4109, 4141, 4169, 4268, 4460, 4023, 4209, 4208, 4339, 4340, 4342, and 4345 as proposed in 19/032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3EB421-EEA2-4652-8CE4-8E0D2E8FE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1:  Comment Resolution</a:t>
            </a:r>
            <a:endParaRPr b="0" lang="en-US" sz="3200" spc="-1" strike="noStrike">
              <a:solidFill>
                <a:srgbClr val="000000"/>
              </a:solidFill>
              <a:latin typeface="Times New Roman"/>
            </a:endParaRPr>
          </a:p>
        </p:txBody>
      </p:sp>
      <p:sp>
        <p:nvSpPr>
          <p:cNvPr id="8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8, 4234, and 4477 as proposed in 19/0321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9, 4258, 4036, 4037, 4205, 4311, 4314, 4318, 4319, 4320, 4317, 4263, </a:t>
            </a:r>
            <a:r>
              <a:rPr b="0" lang="en-US" sz="1600" spc="-1" strike="noStrike">
                <a:solidFill>
                  <a:srgbClr val="000000"/>
                </a:solidFill>
                <a:latin typeface="Times New Roman"/>
              </a:rPr>
              <a:t>	</a:t>
            </a:r>
            <a:r>
              <a:rPr b="0" lang="en-US" sz="1600" spc="-1" strike="noStrike">
                <a:solidFill>
                  <a:srgbClr val="000000"/>
                </a:solidFill>
                <a:latin typeface="Times New Roman"/>
              </a:rPr>
              <a:t>4044, 4323 and 4119 as proposed in 19/0355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39B720-B981-4E0C-8827-F28E9D615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2:  Comment Resolution</a:t>
            </a:r>
            <a:endParaRPr b="0" lang="en-US" sz="3200" spc="-1" strike="noStrike">
              <a:solidFill>
                <a:srgbClr val="000000"/>
              </a:solidFill>
              <a:latin typeface="Times New Roman"/>
            </a:endParaRPr>
          </a:p>
        </p:txBody>
      </p:sp>
      <p:sp>
        <p:nvSpPr>
          <p:cNvPr id="8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4224, 4126, 4127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9/0333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069E6D-D222-4F0A-AA53-0D42E9DC7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3:  Comment Resolution</a:t>
            </a:r>
            <a:endParaRPr b="0" lang="en-US" sz="3200" spc="-1" strike="noStrike">
              <a:solidFill>
                <a:srgbClr val="000000"/>
              </a:solidFill>
              <a:latin typeface="Times New Roman"/>
            </a:endParaRPr>
          </a:p>
        </p:txBody>
      </p:sp>
      <p:sp>
        <p:nvSpPr>
          <p:cNvPr id="8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79, 4294, 4000, 4375, 4458, 4377, 4366, 4367, 4379, 4381, 4382, 4383, 4296, 4207, 4016, 4376, 4378, 4384, 4380, 4417, and 4227 as proposed in 19/0297r3.</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8F0CD2-69EA-412D-AEF4-B652682F7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83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C5A913-70EC-4ED2-90C4-6F7EE064A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21C204-C3B9-499C-AE7C-1B8DDE855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6CB4D7-BD57-48FA-BAEA-D0E8623A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4:  TBD</a:t>
            </a:r>
            <a:endParaRPr b="0" lang="en-US" sz="3200" spc="-1" strike="noStrike">
              <a:solidFill>
                <a:srgbClr val="000000"/>
              </a:solidFill>
              <a:latin typeface="Times New Roman"/>
            </a:endParaRPr>
          </a:p>
        </p:txBody>
      </p:sp>
      <p:sp>
        <p:nvSpPr>
          <p:cNvPr id="84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985913-BF23-4701-9B67-30D34DFD8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1A560DC-206F-4456-99DC-D06BA457A1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637749-6FF3-4B73-BA58-9B8766D71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4T13:19:50Z</dcterms:modified>
  <cp:revision>8686</cp:revision>
  <dc:subject>Task Group AY November 2015 Meeting Agenda</dc:subject>
  <dc:title>11-19/0229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