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F079EC9-3E17-4A26-9651-9559C9FE9B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ED6374-D3F1-4D63-A078-A528DAA92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54160" y="701640"/>
            <a:ext cx="4626000" cy="3468600"/>
          </a:xfrm>
          <a:prstGeom prst="rect">
            <a:avLst/>
          </a:prstGeom>
          <a:ln w="0">
            <a:noFill/>
          </a:ln>
        </p:spPr>
      </p:sp>
      <p:sp>
        <p:nvSpPr>
          <p:cNvPr id="8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F1B321-1C4F-4BCC-B1B4-9AD63C3B7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F95D33-0A36-4160-B10D-84C50421C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0B4981-8F15-4897-9EB3-89A3132C3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1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1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EDF7CE-42E0-4DBB-BFA1-74B470EFC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2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2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66C8EB-AD64-4F25-9937-ED605CBF2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A4CF0A-84A3-4683-A009-73B3AB615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423A2C-19CA-4B91-99DF-97A70FA72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54160" y="701640"/>
            <a:ext cx="4626000" cy="3468600"/>
          </a:xfrm>
          <a:prstGeom prst="rect">
            <a:avLst/>
          </a:prstGeom>
          <a:ln w="0">
            <a:noFill/>
          </a:ln>
        </p:spPr>
      </p:sp>
      <p:sp>
        <p:nvSpPr>
          <p:cNvPr id="9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439448-2FF1-401C-8DA4-C047CB0C5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8E696A-C96D-4588-AB69-DAAEAE8AC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61C8CA-59FF-4284-8C5A-3D0B32961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5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5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5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61697FF-BE91-4229-93C9-1A53712FA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17440" y="696960"/>
            <a:ext cx="4646880" cy="3486240"/>
          </a:xfrm>
          <a:prstGeom prst="rect">
            <a:avLst/>
          </a:prstGeom>
          <a:ln w="0">
            <a:noFill/>
          </a:ln>
        </p:spPr>
      </p:sp>
      <p:sp>
        <p:nvSpPr>
          <p:cNvPr id="96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6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6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6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8B6D1D64-1522-425D-8CA2-90B645A42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17440" y="696960"/>
            <a:ext cx="4646880" cy="3486240"/>
          </a:xfrm>
          <a:prstGeom prst="rect">
            <a:avLst/>
          </a:prstGeom>
          <a:ln w="0">
            <a:noFill/>
          </a:ln>
        </p:spPr>
      </p:sp>
      <p:sp>
        <p:nvSpPr>
          <p:cNvPr id="96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80034C-CF51-46A1-A064-2AFC97B05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0C77AC-736E-4313-8017-15C7B0C06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084AE8-EEDD-40ED-812A-C55AB60C6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9BC39C-6A3E-4827-B780-A6A5EA031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333DF0-0D00-4BBE-A747-152B87CC9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575714-5359-42DC-800A-BE07D6EA6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A7AFCE-C7EE-441D-ACBD-450C93EE9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B54554-3634-48A6-ABFF-492D639EB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39F5BB-2DF3-4AEA-AB96-6BF3DFD47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CA24AC-8BC9-4830-80F3-B577BECAC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A98F61-31B3-4AB0-A9C9-CFB950CEC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423014-CAA9-4EBE-B076-6E5ADF0D8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DE2163-87E2-4529-8C36-EE7864235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BBDB51-1863-49DD-AAC7-F13BA469D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4160" y="701640"/>
            <a:ext cx="4626000" cy="3468600"/>
          </a:xfrm>
          <a:prstGeom prst="rect">
            <a:avLst/>
          </a:prstGeom>
          <a:ln w="0">
            <a:noFill/>
          </a:ln>
        </p:spPr>
      </p:sp>
      <p:sp>
        <p:nvSpPr>
          <p:cNvPr id="10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6A7C72-14B5-454A-A4E7-5CC09BA61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7C434B-0743-4E3C-8BD9-72E9F47F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E8580B-7B68-4BB1-A5C9-5AB75B6C8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54160" y="701640"/>
            <a:ext cx="4626000" cy="3468600"/>
          </a:xfrm>
          <a:prstGeom prst="rect">
            <a:avLst/>
          </a:prstGeom>
          <a:ln w="0">
            <a:noFill/>
          </a:ln>
        </p:spPr>
      </p:sp>
      <p:sp>
        <p:nvSpPr>
          <p:cNvPr id="10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2EB19D-7147-4035-93EC-2B6F37FCC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8F4C59-B9E0-48C8-A8EB-29A8452B9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B4E6DE-E77A-4075-B985-CB419F579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54160" y="701640"/>
            <a:ext cx="4626000" cy="3468600"/>
          </a:xfrm>
          <a:prstGeom prst="rect">
            <a:avLst/>
          </a:prstGeom>
          <a:ln w="0">
            <a:noFill/>
          </a:ln>
        </p:spPr>
      </p:sp>
      <p:sp>
        <p:nvSpPr>
          <p:cNvPr id="10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B57DCC-066E-4593-811C-0E781D9E3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54160" y="701640"/>
            <a:ext cx="4626000" cy="3468600"/>
          </a:xfrm>
          <a:prstGeom prst="rect">
            <a:avLst/>
          </a:prstGeom>
          <a:ln w="0">
            <a:noFill/>
          </a:ln>
        </p:spPr>
      </p:sp>
      <p:sp>
        <p:nvSpPr>
          <p:cNvPr id="10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0121E0-08DD-4F44-863B-7BB6096A4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F373FAD-BCE9-4750-9510-C09FE8F4E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47680" y="696960"/>
            <a:ext cx="4640400" cy="3479760"/>
          </a:xfrm>
          <a:prstGeom prst="rect">
            <a:avLst/>
          </a:prstGeom>
          <a:ln w="0">
            <a:noFill/>
          </a:ln>
        </p:spPr>
      </p:sp>
      <p:sp>
        <p:nvSpPr>
          <p:cNvPr id="87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0BDB81-3591-4C8C-946A-7EA1C09F0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3B1600-5E0F-420A-B5DC-D34F42345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54160" y="701640"/>
            <a:ext cx="4626000" cy="3468600"/>
          </a:xfrm>
          <a:prstGeom prst="rect">
            <a:avLst/>
          </a:prstGeom>
          <a:ln w="0">
            <a:noFill/>
          </a:ln>
        </p:spPr>
      </p:sp>
      <p:sp>
        <p:nvSpPr>
          <p:cNvPr id="11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CD13A5-7C28-44A9-B941-C772FFB2A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0DEF26-5845-4489-9FCB-FAC10EF0F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54160" y="701640"/>
            <a:ext cx="4626000" cy="3468600"/>
          </a:xfrm>
          <a:prstGeom prst="rect">
            <a:avLst/>
          </a:prstGeom>
          <a:ln w="0">
            <a:noFill/>
          </a:ln>
        </p:spPr>
      </p:sp>
      <p:sp>
        <p:nvSpPr>
          <p:cNvPr id="11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6A67B2-264C-4B6F-AB48-62538B074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54160" y="701640"/>
            <a:ext cx="4626000" cy="3468600"/>
          </a:xfrm>
          <a:prstGeom prst="rect">
            <a:avLst/>
          </a:prstGeom>
          <a:ln w="0">
            <a:noFill/>
          </a:ln>
        </p:spPr>
      </p:sp>
      <p:sp>
        <p:nvSpPr>
          <p:cNvPr id="11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5CC91E-84E5-4165-8DF7-9BD2482B1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2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3A7A22-D647-41E0-8189-AE60BFA8B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54160" y="701640"/>
            <a:ext cx="4626000" cy="3468600"/>
          </a:xfrm>
          <a:prstGeom prst="rect">
            <a:avLst/>
          </a:prstGeom>
          <a:ln w="0">
            <a:noFill/>
          </a:ln>
        </p:spPr>
      </p:sp>
      <p:sp>
        <p:nvSpPr>
          <p:cNvPr id="11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182C13-F32A-4AC7-B786-DA1EE8F5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54160" y="701640"/>
            <a:ext cx="4626000" cy="3468600"/>
          </a:xfrm>
          <a:prstGeom prst="rect">
            <a:avLst/>
          </a:prstGeom>
          <a:ln w="0">
            <a:noFill/>
          </a:ln>
        </p:spPr>
      </p:sp>
      <p:sp>
        <p:nvSpPr>
          <p:cNvPr id="11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14090C-761D-4154-8636-DAB472A2C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54160" y="701640"/>
            <a:ext cx="4626000" cy="3468600"/>
          </a:xfrm>
          <a:prstGeom prst="rect">
            <a:avLst/>
          </a:prstGeom>
          <a:ln w="0">
            <a:noFill/>
          </a:ln>
        </p:spPr>
      </p:sp>
      <p:sp>
        <p:nvSpPr>
          <p:cNvPr id="1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25BEA7-2223-46E1-804D-168222BD2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1593DEE-25F6-4C19-AC12-6062B5C7C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7680" y="696960"/>
            <a:ext cx="4640400" cy="3479760"/>
          </a:xfrm>
          <a:prstGeom prst="rect">
            <a:avLst/>
          </a:prstGeom>
          <a:ln w="0">
            <a:noFill/>
          </a:ln>
        </p:spPr>
      </p:sp>
      <p:sp>
        <p:nvSpPr>
          <p:cNvPr id="88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54160" y="701640"/>
            <a:ext cx="4626000" cy="3468600"/>
          </a:xfrm>
          <a:prstGeom prst="rect">
            <a:avLst/>
          </a:prstGeom>
          <a:ln w="0">
            <a:noFill/>
          </a:ln>
        </p:spPr>
      </p:sp>
      <p:sp>
        <p:nvSpPr>
          <p:cNvPr id="11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192431-00F4-4ED5-83C5-64D7FEA90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48A0FC-0655-4CF1-9150-4911C507E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54160" y="701640"/>
            <a:ext cx="4626000" cy="3468600"/>
          </a:xfrm>
          <a:prstGeom prst="rect">
            <a:avLst/>
          </a:prstGeom>
          <a:ln w="0">
            <a:noFill/>
          </a:ln>
        </p:spPr>
      </p:sp>
      <p:sp>
        <p:nvSpPr>
          <p:cNvPr id="11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D91515-298D-4FA9-95B4-CC4C55D3B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54160" y="701640"/>
            <a:ext cx="4626000" cy="3468600"/>
          </a:xfrm>
          <a:prstGeom prst="rect">
            <a:avLst/>
          </a:prstGeom>
          <a:ln w="0">
            <a:noFill/>
          </a:ln>
        </p:spPr>
      </p:sp>
      <p:sp>
        <p:nvSpPr>
          <p:cNvPr id="1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FFFD2A-8C03-4431-BFDB-027854CC4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B99D09-DFDB-4391-9A3D-0884C7539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54160" y="701640"/>
            <a:ext cx="4626000" cy="3468600"/>
          </a:xfrm>
          <a:prstGeom prst="rect">
            <a:avLst/>
          </a:prstGeom>
          <a:ln w="0">
            <a:noFill/>
          </a:ln>
        </p:spPr>
      </p:sp>
      <p:sp>
        <p:nvSpPr>
          <p:cNvPr id="11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679875-D450-4C5C-8C5B-A11D85198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4160" y="701640"/>
            <a:ext cx="4626000" cy="3468600"/>
          </a:xfrm>
          <a:prstGeom prst="rect">
            <a:avLst/>
          </a:prstGeom>
          <a:ln w="0">
            <a:noFill/>
          </a:ln>
        </p:spPr>
      </p:sp>
      <p:sp>
        <p:nvSpPr>
          <p:cNvPr id="1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E3404A-8C65-4FDD-BDD8-5A201C0E2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54160" y="701640"/>
            <a:ext cx="4626000" cy="3468600"/>
          </a:xfrm>
          <a:prstGeom prst="rect">
            <a:avLst/>
          </a:prstGeom>
          <a:ln w="0">
            <a:noFill/>
          </a:ln>
        </p:spPr>
      </p:sp>
      <p:sp>
        <p:nvSpPr>
          <p:cNvPr id="1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0A9CC1-FFB3-4EA7-A6E5-8E9A762E7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54160" y="701640"/>
            <a:ext cx="4626000" cy="3468600"/>
          </a:xfrm>
          <a:prstGeom prst="rect">
            <a:avLst/>
          </a:prstGeom>
          <a:ln w="0">
            <a:noFill/>
          </a:ln>
        </p:spPr>
      </p:sp>
      <p:sp>
        <p:nvSpPr>
          <p:cNvPr id="11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2C0E73-62A1-40CE-9163-AAFD43D89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54160" y="701640"/>
            <a:ext cx="4626000" cy="3468600"/>
          </a:xfrm>
          <a:prstGeom prst="rect">
            <a:avLst/>
          </a:prstGeom>
          <a:ln w="0">
            <a:noFill/>
          </a:ln>
        </p:spPr>
      </p:sp>
      <p:sp>
        <p:nvSpPr>
          <p:cNvPr id="12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F9B4C1-B1F4-4C85-813B-F5190F386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5445E17-86FB-404E-B51D-D695198DA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54160" y="701640"/>
            <a:ext cx="4626000" cy="3468600"/>
          </a:xfrm>
          <a:prstGeom prst="rect">
            <a:avLst/>
          </a:prstGeom>
          <a:ln w="0">
            <a:noFill/>
          </a:ln>
        </p:spPr>
      </p:sp>
      <p:sp>
        <p:nvSpPr>
          <p:cNvPr id="12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7B9F10-4E17-4FE7-94D7-EF80B4B16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0CFD300-BFFF-4434-AE03-8B8F01CBB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8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8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AA0234-BB86-4E71-AD9C-190D80C0E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10AFA2-8804-4E7B-A0F8-E536A25D9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42161-50C3-4B3D-A58A-91AB3ACE9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043E-BE07-4D52-B066-53243E2D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4D2EA7-D6C2-4B2D-881E-74E5EC6A7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885262-1B11-44A2-9B64-0A3F69A062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AC647-5591-42CD-BFD2-C2ED6A35D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F63BF-0846-4702-81B3-744BF32C3B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F8EE9-8F27-4BCF-9379-6FE944BF5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2D00F-B45D-4B4D-A119-A2B0BB8F5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806324-C07D-46D4-8F18-0189128C2E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DD5A1A-D166-4A40-915F-2E643E2C2D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E18AC-0017-4BDA-B8EF-C6F277C6C7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E0DC5-00E7-4843-8E77-C47500872E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8AB31-C626-476F-A53A-9F4CF88FC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F9EDA1-194E-413F-AA28-26FFA675BC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517D3B-7054-40EC-BEDF-C4710AD67F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28DAC0-45E7-4060-80C3-92143EC143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9F48C8-9479-4A9F-88DA-7E9B8483B9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541A1-2507-4910-AF9B-0D6A81B770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4E2112-0C31-4412-B2CF-09287C60F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AF279-1CDC-49CF-89D0-EF3727FEA9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2766E4-0C16-48AE-8E0F-BAF963CF07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6E9B38-9DDB-4F17-A924-755464DF05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DF659B-3DBA-4596-BD63-543653BC55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E15DD-7775-409C-A959-07C3CCD14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B1BB1A-A42D-4300-AE6F-E605C44837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1B2E1D-0317-499D-A6BD-24381D9DD3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E2140F-B778-4D92-A217-A56C1E04F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C8C5DD-B12B-40C4-958D-D0E123BB49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A2A257-9636-42E6-A42D-8684D1B977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FDB20A-B0AD-4B9C-B95B-ECD9F7E7EC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BA9916-4327-4A20-896A-9781885690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90B9F-8406-4BA2-A149-B5238C480C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E76947-5887-4216-AD8C-61F24054F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F30E1E-5E38-4E19-9FF5-887E52D40F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5C684-8576-4212-806E-74E053BF3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74C41D-9061-41C1-A2B5-052CE8FD6F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47731A-9C73-4A66-A176-814F099419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DA7300-6334-4B75-8941-09B58DEE8A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60BA56-9B30-4091-9D92-BDBEEB5231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C83BD7-5ECF-4B0E-BB4D-4766B99A94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285493-0A7F-4C0A-83B7-C36B9A098B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6D165E-C625-41B1-87EF-D080EB075E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F53DE4-6013-46BF-8E83-83F97FA126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B7D7C1-864C-48A5-A267-B063A6BA91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55ACE3-F081-44A1-B677-B0AF19CC8D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B005F-BE2F-48CC-A0E2-850653FB5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B63166-11BA-465B-ACF6-73628CF9D2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66E3DC-B163-410F-BEE5-9A91545F17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1F108E-415E-45D4-A398-456AE13D9D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76CE95-BFF1-41FA-A06B-8D97635293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3358BC-4280-420E-A512-7AD305C543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CB17F-6856-476D-8C2E-43A9FD5CD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E4D55-C10E-4614-8A87-6FFDA6FF1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AFF03-4F86-499E-8B1E-556E41E7C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2B693-1323-4D3F-B4A7-0FC7948AF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898C8-2C2E-4E8B-A536-25842F9F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C51EA-14D0-43D6-8F8A-400D4A30B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4BB0-E52E-4CA2-B1DC-82FCACB2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CC1E-2936-441E-86BB-0DF5008B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070ED-6507-41E8-A3DA-4145E6C0A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2B0BB-21DC-4F51-B380-5F257D8F5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079EF-CA9F-4D86-90C3-7F744291B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49C35-F000-42C0-9A23-479E387D4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57D8B-7818-4BB0-A2F9-FDB95C9C9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C9A38-4854-417A-9058-D347C4971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AD722-B1F4-4BF9-BA78-068DD105E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79D07-0E96-4816-9DB0-EAF878079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7DEA-EDEA-41C0-B796-0F37D4064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DD6D4-8C36-4BC7-9E00-92008AE57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D6481-4C98-43C6-B1F0-E4CB8577A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0AB0A-B5D5-4D66-AA9A-BFF25E3DF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2ACC5-D91A-434A-8C98-E9A247325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82A46-9AD6-49F4-B3CB-2E2E58034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3CA293-B66B-46B4-BCE2-ADF7FF071E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71845-D365-4C20-A4E4-92066C124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61750-6D47-4AB0-94EF-6D4066951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5EA65-FF93-46D0-ABA6-2DEA1EE0E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51FAA-490F-4EEA-9187-D985245C9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3E1C-802F-4C81-A861-5BBF704EB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B4790-07F5-436C-AF48-D6C22B413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7024E-8DD6-4847-9133-B8B0EDB0F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3EFF9-D494-4970-AFA3-C904E6BB0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96EB9-B0B4-4F3D-9029-E03E4A4C4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C1049-154F-4A7D-9DBE-3B4E2E613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426DB-7DE6-400B-937E-056E9E641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25B73-7856-43FD-8E58-397CEF156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4F13D-22E7-4521-867D-99DECCB4BA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58A2A-54AA-4BA0-8ADB-44B56C6BE9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34779-B955-408C-9E47-02E7AA6456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47BA-28F2-49EB-83F2-2D5EBBD1A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8EA68-7F75-4B4D-8630-678601567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79851-8408-4689-AF24-11A9CDFB9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6D9B2-AB7B-4045-96B8-FC8B1159E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5BD5CE-AB02-4528-883A-FA763D4D0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BD91C-EE13-458F-A0DA-6498331B05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1A749-6C9A-47F0-B20F-68C863DC7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44D88-3735-4BC5-846C-CB6C04D56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56755-CB30-4C57-9B5A-34D8195CA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9C9EA-9B6A-44C9-AAA9-1396B638F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2D2E10-2D9B-4F69-AEE2-6704788AE1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358A-A1A4-4A01-85C4-98999BF1F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9BF3F-0F78-401D-928D-D7A07233BB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1608A-2873-4D7D-B4A2-A331F9B01A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8CF69-8EDC-4100-988D-ED7D6903D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24CD6-8763-4E7D-A871-B9B5D7C81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A64F2B-0610-4CD2-A584-9DD644918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DECAC-48C2-4AE1-896E-BB6850B2B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6C1E8-F0DE-4F99-AE07-DC0B0FF58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4398F-C412-441A-A03B-8F3CA69F2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57997-9244-4BA3-9042-FC9A3D76D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9BAA6-EFD1-4456-BD18-E3A174171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2F2A-835D-4C7C-97B6-451BEC27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F03AB-B62B-4DE2-AD73-8FC2AC5797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F6A28-8C68-494C-BE92-7C83C7CD8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8989C7-5B0D-44F8-9B65-0AEA48E1FC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5FA539-87A9-43F7-A093-A222392B8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466DE-8FE4-485C-BB01-A6D7C5074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9DD9A-447A-4380-9B28-A87382EFC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73D6D-A6A5-4C31-90FA-FE1923A9F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53D0E-8620-4895-9458-EEEDD421C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523DC-902E-48CD-80A2-D2C336889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00AF7-0CA1-4729-B9B1-D41980B83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D46F-C7A4-4BA4-BE16-6E12BD23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86296-450D-42DC-BB31-3A6C4397B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1D34D-764F-4832-A0B7-AA171C2F8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CD9042-7225-411E-83E2-35298C734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7DB811-D31F-4949-9942-B7DCAA2EBE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DA0E9-9909-425D-991F-8404C5324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DB3BFA-4B46-4D64-AA9A-15AADF6F3E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0FBB2-48FE-42D3-822C-CBB6E9E213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0AC47-D655-4B82-947D-4139AB47C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9DFB8A-5027-484D-BA2E-E0E9294C94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EF30C-1D8B-44D9-BFB1-E790BE95F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5223-B075-4BAE-ADF1-F0A7F271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AAAAF-56A4-4751-B3B6-1629F1257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F1B10A-EC62-4C7D-93B8-3711B8F5E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B2CED-C635-4874-A8F5-09A174E47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874EC-E1BC-45D5-B4F7-0BC28D607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F743C1-FBA7-45BB-B0E9-22BEDD17C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B9D3A6-2649-4B4E-9B36-5075CF18A6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DDE9CA-6A71-482E-9248-2CCB4CE6C3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8C32C3-C37D-4A43-B0E9-53343C8C8A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71206-18DC-499F-BFA6-4C377D814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A414F6-54D6-45ED-A4A6-652062DFE3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C30E3D-460C-4654-A136-82C3195931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74D586-0F99-4DBE-ADC8-BD4801818B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134043-FE1E-4C80-A770-EB6D29DECC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0884D2-47ED-419F-B4C8-F5CCB3E063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4CD0592-015C-416A-8308-B31FA1730A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169A8E-466E-4F9F-AC63-B983C9E386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99BC083-C426-4129-9E71-F55DCEF2F8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87AC6F-4AC3-4500-ADFC-FE3BE1B1A1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44E5F0-189A-439C-AE97-C90A5C91F2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7EFF9F-4A69-4E9C-A49B-2AE19F2CAE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14B261C-9CED-4896-8E3E-1B2AEEE8BD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8</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B9CD44-9AB0-48B0-94C9-C26A16883E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9276A2-DEF3-420B-98A6-1CF226011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4E9004-DB49-4ADB-9EF0-20F71C767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3CF6D7-896D-4F51-A19F-658491A85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EFC170-D782-4586-BF0C-995366429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CD6289-B178-445F-A66A-3AA3861C9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782742-62F2-496C-9CEC-7009C2539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472A1-5E99-4526-9826-74A8151B4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52B80E-24C1-47CF-8443-9CF961E20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2C4B06-0724-4103-B1C4-A59A16719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AF0C55-EB28-4C21-8F03-CC863DFFF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D3B451-19CF-4B88-9A66-535584C17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3DC331-71BD-480D-9484-6A48DE780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FE957F-9EDC-47F0-987D-93CFDE1A0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2AAE73-5DB7-461B-9E3B-CE789A036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6C111-6764-4210-BEB3-17DA1495B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918154-4148-40D3-8752-8C327B0B4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5710E3-2627-4F77-B2CF-BBC96CBBC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F7F509-BF10-4757-B4BB-09AE0007F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8C2DE8-BF7E-4636-867E-BF5660DA4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44402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ED633A-FEE1-4124-9ADE-2C5A8AA28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1CE0B4-82DB-4C04-909B-5D28AA109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0A9406-E129-44A9-B836-058A05F5E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A45149-5A63-45F6-8EC5-F05BA6DF3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0865F5-365D-44B6-8B27-715405B3D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07492F-D15A-4954-9914-FF204ECB6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0040C0-7699-4B26-8F82-94494AC62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A95D26-F810-4C52-AA17-86C5F022C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8B8F39-FBC2-409B-9CCD-D643F2526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352B01-637C-41AC-B79F-FC0186BA0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13CA30-401B-4A98-83ED-EB7AF22B5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2F940E-EA1F-42F4-9B24-059F5C969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8D3AA6-4F83-4DBD-A594-532106318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20D4DD-9373-4E3C-AE16-65818E02C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730426D-19E1-4E78-BC7A-69535F776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E3E3FB-1EDB-4E6A-AEB1-FDA1502B9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023A6-FC3C-4C5A-9D94-B06BBB7C1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D01DE7-A175-4A5B-A638-EC2B28F3B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44402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6A351A-3259-44AD-945E-C0D5B07BC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13B3A3-E991-4B36-B5CD-88058AC1A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A8921-616F-4278-BF7B-80A8C4237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3664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8F103A-4F13-44A5-9861-B52EF528E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C1609E-35AA-4D82-BF6A-54FE78384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98344E-CABA-4A35-8557-F43279FAB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AA0A82-A0A0-4EDB-9CB6-C746EF4CC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79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4060, 4094, 4095, and 4279 as proposed in 19/0318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061 and 4147 as proposed in 19/033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DFD6ADF-E52E-40AE-8518-8F7A42264B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F2143-D1A1-4DAE-8950-DAFCD0C4D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Comment Resolution</a:t>
            </a:r>
            <a:endParaRPr b="0" lang="en-US" sz="3200" spc="-1" strike="noStrike">
              <a:solidFill>
                <a:srgbClr val="000000"/>
              </a:solidFill>
              <a:latin typeface="Times New Roman"/>
            </a:endParaRPr>
          </a:p>
        </p:txBody>
      </p:sp>
      <p:sp>
        <p:nvSpPr>
          <p:cNvPr id="7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2 and 4232 as proposed in 19/0347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E7A24B-1F36-4B5D-BD9F-1D1C3ACDF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7: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03, 4004, 4304, 4305, 4351, 4352, 4358, 4361, 4363, 4427, 4362, 4026, 4284, 4357, 4360, and 4365 as proposed in 19/0350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AB88A7-1BC2-4E8F-B5CA-C1A4AA1F5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8:  Comment Resolution</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157, 4190, and 4191 as proposed in 19/0353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 4467 as proposed in 19/0432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E44FDB-5BF7-4A3D-A865-638EB47C2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9:  Comment Resolution</a:t>
            </a:r>
            <a:endParaRPr b="0" lang="en-US" sz="3200" spc="-1" strike="noStrike">
              <a:solidFill>
                <a:srgbClr val="000000"/>
              </a:solidFill>
              <a:latin typeface="Times New Roman"/>
            </a:endParaRPr>
          </a:p>
        </p:txBody>
      </p:sp>
      <p:sp>
        <p:nvSpPr>
          <p:cNvPr id="8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0 and 4211 as proposed in 19/036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A22CCD-56D8-4961-A65E-A16E975D4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0:  Comment Resolution</a:t>
            </a:r>
            <a:endParaRPr b="0" lang="en-US" sz="3200" spc="-1" strike="noStrike">
              <a:solidFill>
                <a:srgbClr val="000000"/>
              </a:solidFill>
              <a:latin typeface="Times New Roman"/>
            </a:endParaRPr>
          </a:p>
        </p:txBody>
      </p:sp>
      <p:sp>
        <p:nvSpPr>
          <p:cNvPr id="8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461, 4462, 4109, 4141, 4169, 4268, 4460, 4023, 4209, 4208, 4339, 4340, 4342, and 4345 as proposed in 19/032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7C48C8-ED80-435F-9202-D88E477D3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1:  Comment Resolution</a:t>
            </a:r>
            <a:endParaRPr b="0" lang="en-US" sz="3200" spc="-1" strike="noStrike">
              <a:solidFill>
                <a:srgbClr val="000000"/>
              </a:solidFill>
              <a:latin typeface="Times New Roman"/>
            </a:endParaRPr>
          </a:p>
        </p:txBody>
      </p:sp>
      <p:sp>
        <p:nvSpPr>
          <p:cNvPr id="8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8, 4234, and 4477 as proposed in 19/0321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9, 4258, 4036, 4037, 4205, 4311, 4314, 4318, 4319, 4320, 4317, 4263, </a:t>
            </a:r>
            <a:r>
              <a:rPr b="0" lang="en-US" sz="1600" spc="-1" strike="noStrike">
                <a:solidFill>
                  <a:srgbClr val="000000"/>
                </a:solidFill>
                <a:latin typeface="Times New Roman"/>
              </a:rPr>
              <a:t>	</a:t>
            </a:r>
            <a:r>
              <a:rPr b="0" lang="en-US" sz="1600" spc="-1" strike="noStrike">
                <a:solidFill>
                  <a:srgbClr val="000000"/>
                </a:solidFill>
                <a:latin typeface="Times New Roman"/>
              </a:rPr>
              <a:t>4044, 4323 and 4119 as proposed in 19/0355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949EBD-9F74-4909-9592-2FDA73347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2:  Comment Resolution</a:t>
            </a:r>
            <a:endParaRPr b="0" lang="en-US" sz="3200" spc="-1" strike="noStrike">
              <a:solidFill>
                <a:srgbClr val="000000"/>
              </a:solidFill>
              <a:latin typeface="Times New Roman"/>
            </a:endParaRPr>
          </a:p>
        </p:txBody>
      </p:sp>
      <p:sp>
        <p:nvSpPr>
          <p:cNvPr id="8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4224, 4126, 4127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9/0333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E4BD85-22ED-4E87-B366-FA466351D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3:  Comment Resolution</a:t>
            </a:r>
            <a:endParaRPr b="0" lang="en-US" sz="3200" spc="-1" strike="noStrike">
              <a:solidFill>
                <a:srgbClr val="000000"/>
              </a:solidFill>
              <a:latin typeface="Times New Roman"/>
            </a:endParaRPr>
          </a:p>
        </p:txBody>
      </p:sp>
      <p:sp>
        <p:nvSpPr>
          <p:cNvPr id="8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79, 4294, 4000, 4375, 4458, 4377, 4366, 4367, 4379, 4381, 4382, 4383, 4296, 4207, 4016, 4376, 4378, 4384, 4380, 4417, and 4227 as proposed in 19/0297r3.</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A1B214-8F8B-4130-9B0C-A8927C04A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83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6117F9-5ADB-4725-BF63-B47279E3C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849680-17D5-4D39-950D-A60AC0AB7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892908-1D2F-43FB-84AA-CE1D652F3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4:  TBD</a:t>
            </a:r>
            <a:endParaRPr b="0" lang="en-US" sz="3200" spc="-1" strike="noStrike">
              <a:solidFill>
                <a:srgbClr val="000000"/>
              </a:solidFill>
              <a:latin typeface="Times New Roman"/>
            </a:endParaRPr>
          </a:p>
        </p:txBody>
      </p:sp>
      <p:sp>
        <p:nvSpPr>
          <p:cNvPr id="84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BA6F6B-7646-420A-85D0-A4450912A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AF1FCEB-785A-4D54-B485-2B4A2856C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3E0840-C0F4-46A7-85E3-E64B7933C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4T13:19:50Z</dcterms:modified>
  <cp:revision>8686</cp:revision>
  <dc:subject>Task Group AY November 2015 Meeting Agenda</dc:subject>
  <dc:title>11-19/0229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