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A1602076-750F-42D0-9B2A-E15C3EECB6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4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7F3CD1-3C90-4896-97D0-DB34E7B01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1154160" y="701640"/>
            <a:ext cx="4626000" cy="3468600"/>
          </a:xfrm>
          <a:prstGeom prst="rect">
            <a:avLst/>
          </a:prstGeom>
          <a:ln w="0">
            <a:noFill/>
          </a:ln>
        </p:spPr>
      </p:sp>
      <p:sp>
        <p:nvSpPr>
          <p:cNvPr id="8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63305E-17D6-4CBA-AA68-D245F2C61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9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9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9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E61EF9-85D2-4126-837E-CD8DA26AF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54160" y="701640"/>
            <a:ext cx="4626000" cy="3468600"/>
          </a:xfrm>
          <a:prstGeom prst="rect">
            <a:avLst/>
          </a:prstGeom>
          <a:ln w="0">
            <a:noFill/>
          </a:ln>
        </p:spPr>
      </p:sp>
      <p:sp>
        <p:nvSpPr>
          <p:cNvPr id="8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0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21F3EBB-6BCB-45E5-B915-173AAE6B9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0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0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0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3EC710-0D79-46CC-8516-8D2B5F05A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54160" y="701640"/>
            <a:ext cx="4626000" cy="3468600"/>
          </a:xfrm>
          <a:prstGeom prst="rect">
            <a:avLst/>
          </a:prstGeom>
          <a:ln w="0">
            <a:noFill/>
          </a:ln>
        </p:spPr>
      </p:sp>
      <p:sp>
        <p:nvSpPr>
          <p:cNvPr id="9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10"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11"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1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15212A-6F1A-4BC9-8CAE-352B9AF7E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1154160" y="701640"/>
            <a:ext cx="4626000" cy="3468600"/>
          </a:xfrm>
          <a:prstGeom prst="rect">
            <a:avLst/>
          </a:prstGeom>
          <a:ln w="0">
            <a:noFill/>
          </a:ln>
        </p:spPr>
      </p:sp>
      <p:sp>
        <p:nvSpPr>
          <p:cNvPr id="9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54160" y="701640"/>
            <a:ext cx="4626000" cy="3468600"/>
          </a:xfrm>
          <a:prstGeom prst="rect">
            <a:avLst/>
          </a:prstGeom>
          <a:ln w="0">
            <a:noFill/>
          </a:ln>
        </p:spPr>
      </p:sp>
      <p:sp>
        <p:nvSpPr>
          <p:cNvPr id="9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F85763-0245-4DFF-BD4C-1CAD0BF1F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23A904-2874-4517-ABAB-06EBDC5CB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1154160" y="701640"/>
            <a:ext cx="4626000" cy="3468600"/>
          </a:xfrm>
          <a:prstGeom prst="rect">
            <a:avLst/>
          </a:prstGeom>
          <a:ln w="0">
            <a:noFill/>
          </a:ln>
        </p:spPr>
      </p:sp>
      <p:sp>
        <p:nvSpPr>
          <p:cNvPr id="9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54160" y="701640"/>
            <a:ext cx="4626000" cy="3468600"/>
          </a:xfrm>
          <a:prstGeom prst="rect">
            <a:avLst/>
          </a:prstGeom>
          <a:ln w="0">
            <a:noFill/>
          </a:ln>
        </p:spPr>
      </p:sp>
      <p:sp>
        <p:nvSpPr>
          <p:cNvPr id="9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92F193-554F-4A7A-9BD0-8C05650CD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54160" y="701640"/>
            <a:ext cx="4626000" cy="3468600"/>
          </a:xfrm>
          <a:prstGeom prst="rect">
            <a:avLst/>
          </a:prstGeom>
          <a:ln w="0">
            <a:noFill/>
          </a:ln>
        </p:spPr>
      </p:sp>
      <p:sp>
        <p:nvSpPr>
          <p:cNvPr id="9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575475-807E-42B1-9B65-ED3A1802C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54160" y="701640"/>
            <a:ext cx="4626000" cy="3468600"/>
          </a:xfrm>
          <a:prstGeom prst="rect">
            <a:avLst/>
          </a:prstGeom>
          <a:ln w="0">
            <a:noFill/>
          </a:ln>
        </p:spPr>
      </p:sp>
      <p:sp>
        <p:nvSpPr>
          <p:cNvPr id="9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6CEAB2-1EE3-4F7F-88B8-84873B484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46"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47"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48"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FC309619-09D4-4149-BD1A-B49108114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117440" y="696960"/>
            <a:ext cx="4646880" cy="3486240"/>
          </a:xfrm>
          <a:prstGeom prst="rect">
            <a:avLst/>
          </a:prstGeom>
          <a:ln w="0">
            <a:noFill/>
          </a:ln>
        </p:spPr>
      </p:sp>
      <p:sp>
        <p:nvSpPr>
          <p:cNvPr id="950"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52"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53"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54"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20462F79-8D03-42A5-BDB0-F126DCAED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117440" y="696960"/>
            <a:ext cx="4646880" cy="3486240"/>
          </a:xfrm>
          <a:prstGeom prst="rect">
            <a:avLst/>
          </a:prstGeom>
          <a:ln w="0">
            <a:noFill/>
          </a:ln>
        </p:spPr>
      </p:sp>
      <p:sp>
        <p:nvSpPr>
          <p:cNvPr id="956"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54160" y="701640"/>
            <a:ext cx="4626000" cy="3468600"/>
          </a:xfrm>
          <a:prstGeom prst="rect">
            <a:avLst/>
          </a:prstGeom>
          <a:ln w="0">
            <a:noFill/>
          </a:ln>
        </p:spPr>
      </p:sp>
      <p:sp>
        <p:nvSpPr>
          <p:cNvPr id="8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29261A-D355-4C35-BE56-894D43E0C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54160" y="701640"/>
            <a:ext cx="4626000" cy="3468600"/>
          </a:xfrm>
          <a:prstGeom prst="rect">
            <a:avLst/>
          </a:prstGeom>
          <a:ln w="0">
            <a:noFill/>
          </a:ln>
        </p:spPr>
      </p:sp>
      <p:sp>
        <p:nvSpPr>
          <p:cNvPr id="9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DF9723-E91B-495D-8E33-95A297D78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54160" y="701640"/>
            <a:ext cx="4626000" cy="3468600"/>
          </a:xfrm>
          <a:prstGeom prst="rect">
            <a:avLst/>
          </a:prstGeom>
          <a:ln w="0">
            <a:noFill/>
          </a:ln>
        </p:spPr>
      </p:sp>
      <p:sp>
        <p:nvSpPr>
          <p:cNvPr id="9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1B9CA3-5D05-4308-85D6-6ABF058D3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54160" y="701640"/>
            <a:ext cx="4626000" cy="3468600"/>
          </a:xfrm>
          <a:prstGeom prst="rect">
            <a:avLst/>
          </a:prstGeom>
          <a:ln w="0">
            <a:noFill/>
          </a:ln>
        </p:spPr>
      </p:sp>
      <p:sp>
        <p:nvSpPr>
          <p:cNvPr id="9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BC3691-2BC9-4077-AEB4-5D6A80BCF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54160" y="701640"/>
            <a:ext cx="4626000" cy="3468600"/>
          </a:xfrm>
          <a:prstGeom prst="rect">
            <a:avLst/>
          </a:prstGeom>
          <a:ln w="0">
            <a:noFill/>
          </a:ln>
        </p:spPr>
      </p:sp>
      <p:sp>
        <p:nvSpPr>
          <p:cNvPr id="9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358CA8-752A-4543-8240-5533DD514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54160" y="701640"/>
            <a:ext cx="4626000" cy="3468600"/>
          </a:xfrm>
          <a:prstGeom prst="rect">
            <a:avLst/>
          </a:prstGeom>
          <a:ln w="0">
            <a:noFill/>
          </a:ln>
        </p:spPr>
      </p:sp>
      <p:sp>
        <p:nvSpPr>
          <p:cNvPr id="9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7A4A6D-6377-4F8D-B668-B86AD3C54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54160" y="701640"/>
            <a:ext cx="4626000" cy="3468600"/>
          </a:xfrm>
          <a:prstGeom prst="rect">
            <a:avLst/>
          </a:prstGeom>
          <a:ln w="0">
            <a:noFill/>
          </a:ln>
        </p:spPr>
      </p:sp>
      <p:sp>
        <p:nvSpPr>
          <p:cNvPr id="9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445548-2EBE-4A5D-99E7-411B14B3C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54160" y="701640"/>
            <a:ext cx="4626000" cy="3468600"/>
          </a:xfrm>
          <a:prstGeom prst="rect">
            <a:avLst/>
          </a:prstGeom>
          <a:ln w="0">
            <a:noFill/>
          </a:ln>
        </p:spPr>
      </p:sp>
      <p:sp>
        <p:nvSpPr>
          <p:cNvPr id="9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2E57BD-9984-4388-8BAF-C3CFFDB5C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54160" y="701640"/>
            <a:ext cx="4626000" cy="3468600"/>
          </a:xfrm>
          <a:prstGeom prst="rect">
            <a:avLst/>
          </a:prstGeom>
          <a:ln w="0">
            <a:noFill/>
          </a:ln>
        </p:spPr>
      </p:sp>
      <p:sp>
        <p:nvSpPr>
          <p:cNvPr id="10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9B3D46-D09F-456F-91ED-B8D64789A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54160" y="701640"/>
            <a:ext cx="4626000" cy="3468600"/>
          </a:xfrm>
          <a:prstGeom prst="rect">
            <a:avLst/>
          </a:prstGeom>
          <a:ln w="0">
            <a:noFill/>
          </a:ln>
        </p:spPr>
      </p:sp>
      <p:sp>
        <p:nvSpPr>
          <p:cNvPr id="10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D75946-BE22-4D23-8B13-09A85019A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1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FAB00E-13CC-4C79-A614-D1E7E940A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154160" y="701640"/>
            <a:ext cx="4626000" cy="3468600"/>
          </a:xfrm>
          <a:prstGeom prst="rect">
            <a:avLst/>
          </a:prstGeom>
          <a:ln w="0">
            <a:noFill/>
          </a:ln>
        </p:spPr>
      </p:sp>
      <p:sp>
        <p:nvSpPr>
          <p:cNvPr id="10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5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F3FA94-64E3-4E26-9CA4-982C01592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1154160" y="701640"/>
            <a:ext cx="4626000" cy="3468600"/>
          </a:xfrm>
          <a:prstGeom prst="rect">
            <a:avLst/>
          </a:prstGeom>
          <a:ln w="0">
            <a:noFill/>
          </a:ln>
        </p:spPr>
      </p:sp>
      <p:sp>
        <p:nvSpPr>
          <p:cNvPr id="8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54160" y="701640"/>
            <a:ext cx="4626000" cy="3468600"/>
          </a:xfrm>
          <a:prstGeom prst="rect">
            <a:avLst/>
          </a:prstGeom>
          <a:ln w="0">
            <a:noFill/>
          </a:ln>
        </p:spPr>
      </p:sp>
      <p:sp>
        <p:nvSpPr>
          <p:cNvPr id="10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4A7A25-11C6-4092-A7D1-6BD8D3873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54160" y="701640"/>
            <a:ext cx="4626000" cy="3468600"/>
          </a:xfrm>
          <a:prstGeom prst="rect">
            <a:avLst/>
          </a:prstGeom>
          <a:ln w="0">
            <a:noFill/>
          </a:ln>
        </p:spPr>
      </p:sp>
      <p:sp>
        <p:nvSpPr>
          <p:cNvPr id="10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14F5B91-B275-4D2F-AB84-DB5DE7F25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54160" y="701640"/>
            <a:ext cx="4626000" cy="3468600"/>
          </a:xfrm>
          <a:prstGeom prst="rect">
            <a:avLst/>
          </a:prstGeom>
          <a:ln w="0">
            <a:noFill/>
          </a:ln>
        </p:spPr>
      </p:sp>
      <p:sp>
        <p:nvSpPr>
          <p:cNvPr id="10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A97538-E0BE-4BCA-977C-DFD5EAD66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54160" y="701640"/>
            <a:ext cx="4626000" cy="3468600"/>
          </a:xfrm>
          <a:prstGeom prst="rect">
            <a:avLst/>
          </a:prstGeom>
          <a:ln w="0">
            <a:noFill/>
          </a:ln>
        </p:spPr>
      </p:sp>
      <p:sp>
        <p:nvSpPr>
          <p:cNvPr id="10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874E80-74DC-48C4-B290-1DC45B51B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4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0A1C75-7D58-4BAF-841B-D7DE5DFFC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54160" y="701640"/>
            <a:ext cx="4626000" cy="3468600"/>
          </a:xfrm>
          <a:prstGeom prst="rect">
            <a:avLst/>
          </a:prstGeom>
          <a:ln w="0">
            <a:noFill/>
          </a:ln>
        </p:spPr>
      </p:sp>
      <p:sp>
        <p:nvSpPr>
          <p:cNvPr id="10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54160" y="701640"/>
            <a:ext cx="4626000" cy="3468600"/>
          </a:xfrm>
          <a:prstGeom prst="rect">
            <a:avLst/>
          </a:prstGeom>
          <a:ln w="0">
            <a:noFill/>
          </a:ln>
        </p:spPr>
      </p:sp>
      <p:sp>
        <p:nvSpPr>
          <p:cNvPr id="10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F71B2E-F3B6-476A-AD7B-B0812C90F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54160" y="701640"/>
            <a:ext cx="4626000" cy="3468600"/>
          </a:xfrm>
          <a:prstGeom prst="rect">
            <a:avLst/>
          </a:prstGeom>
          <a:ln w="0">
            <a:noFill/>
          </a:ln>
        </p:spPr>
      </p:sp>
      <p:sp>
        <p:nvSpPr>
          <p:cNvPr id="10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93D050-C656-41CB-92D7-67C5F5F56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6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497206-E141-4D50-9F18-6DDECDC68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54160" y="701640"/>
            <a:ext cx="4626000" cy="3468600"/>
          </a:xfrm>
          <a:prstGeom prst="rect">
            <a:avLst/>
          </a:prstGeom>
          <a:ln w="0">
            <a:noFill/>
          </a:ln>
        </p:spPr>
      </p:sp>
      <p:sp>
        <p:nvSpPr>
          <p:cNvPr id="10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54160" y="701640"/>
            <a:ext cx="4626000" cy="3468600"/>
          </a:xfrm>
          <a:prstGeom prst="rect">
            <a:avLst/>
          </a:prstGeom>
          <a:ln w="0">
            <a:noFill/>
          </a:ln>
        </p:spPr>
      </p:sp>
      <p:sp>
        <p:nvSpPr>
          <p:cNvPr id="10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85E258-C67F-4AF3-96D5-CC20C75DA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54160" y="701640"/>
            <a:ext cx="4626000" cy="3468600"/>
          </a:xfrm>
          <a:prstGeom prst="rect">
            <a:avLst/>
          </a:prstGeom>
          <a:ln w="0">
            <a:noFill/>
          </a:ln>
        </p:spPr>
      </p:sp>
      <p:sp>
        <p:nvSpPr>
          <p:cNvPr id="10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69C675-A65B-43F1-8E3D-690276FFE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A5EF74A-B7D0-4BC1-9916-5DB566C0A7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1147680" y="696960"/>
            <a:ext cx="4640400" cy="3479760"/>
          </a:xfrm>
          <a:prstGeom prst="rect">
            <a:avLst/>
          </a:prstGeom>
          <a:ln w="0">
            <a:noFill/>
          </a:ln>
        </p:spPr>
      </p:sp>
      <p:sp>
        <p:nvSpPr>
          <p:cNvPr id="86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8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D1D521-A53C-4009-ABCC-82C5DC082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54160" y="701640"/>
            <a:ext cx="4626000" cy="3468600"/>
          </a:xfrm>
          <a:prstGeom prst="rect">
            <a:avLst/>
          </a:prstGeom>
          <a:ln w="0">
            <a:noFill/>
          </a:ln>
        </p:spPr>
      </p:sp>
      <p:sp>
        <p:nvSpPr>
          <p:cNvPr id="10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54160" y="701640"/>
            <a:ext cx="4626000" cy="3468600"/>
          </a:xfrm>
          <a:prstGeom prst="rect">
            <a:avLst/>
          </a:prstGeom>
          <a:ln w="0">
            <a:noFill/>
          </a:ln>
        </p:spPr>
      </p:sp>
      <p:sp>
        <p:nvSpPr>
          <p:cNvPr id="10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0E15DD-1CBD-4CDE-BFC6-1EDA9A72F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54160" y="701640"/>
            <a:ext cx="4626000" cy="3468600"/>
          </a:xfrm>
          <a:prstGeom prst="rect">
            <a:avLst/>
          </a:prstGeom>
          <a:ln w="0">
            <a:noFill/>
          </a:ln>
        </p:spPr>
      </p:sp>
      <p:sp>
        <p:nvSpPr>
          <p:cNvPr id="10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D998A4-7DDD-4178-B39A-37FCA1FDC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9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0DA9C34-DB63-409E-8A76-CD00D222F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54160" y="701640"/>
            <a:ext cx="4626000" cy="3468600"/>
          </a:xfrm>
          <a:prstGeom prst="rect">
            <a:avLst/>
          </a:prstGeom>
          <a:ln w="0">
            <a:noFill/>
          </a:ln>
        </p:spPr>
      </p:sp>
      <p:sp>
        <p:nvSpPr>
          <p:cNvPr id="11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54160" y="701640"/>
            <a:ext cx="4626000" cy="3468600"/>
          </a:xfrm>
          <a:prstGeom prst="rect">
            <a:avLst/>
          </a:prstGeom>
          <a:ln w="0">
            <a:noFill/>
          </a:ln>
        </p:spPr>
      </p:sp>
      <p:sp>
        <p:nvSpPr>
          <p:cNvPr id="11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EDBE12-7E7B-41AB-AC6B-BC4E613F1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54160" y="701640"/>
            <a:ext cx="4626000" cy="3468600"/>
          </a:xfrm>
          <a:prstGeom prst="rect">
            <a:avLst/>
          </a:prstGeom>
          <a:ln w="0">
            <a:noFill/>
          </a:ln>
        </p:spPr>
      </p:sp>
      <p:sp>
        <p:nvSpPr>
          <p:cNvPr id="11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737D237-A7B7-4E5F-87AE-5FABD485D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1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AFBEC8-973C-422B-AF25-3DE6D4124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54160" y="701640"/>
            <a:ext cx="4626000" cy="3468600"/>
          </a:xfrm>
          <a:prstGeom prst="rect">
            <a:avLst/>
          </a:prstGeom>
          <a:ln w="0">
            <a:noFill/>
          </a:ln>
        </p:spPr>
      </p:sp>
      <p:sp>
        <p:nvSpPr>
          <p:cNvPr id="11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54160" y="701640"/>
            <a:ext cx="4626000" cy="3468600"/>
          </a:xfrm>
          <a:prstGeom prst="rect">
            <a:avLst/>
          </a:prstGeom>
          <a:ln w="0">
            <a:noFill/>
          </a:ln>
        </p:spPr>
      </p:sp>
      <p:sp>
        <p:nvSpPr>
          <p:cNvPr id="11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C0522D-2A7B-43CB-B89A-EB8EB30F8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54160" y="701640"/>
            <a:ext cx="4626000" cy="3468600"/>
          </a:xfrm>
          <a:prstGeom prst="rect">
            <a:avLst/>
          </a:prstGeom>
          <a:ln w="0">
            <a:noFill/>
          </a:ln>
        </p:spPr>
      </p:sp>
      <p:sp>
        <p:nvSpPr>
          <p:cNvPr id="11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BCF77D-4D30-448E-A06D-23D93C3F7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54160" y="701640"/>
            <a:ext cx="4626000" cy="3468600"/>
          </a:xfrm>
          <a:prstGeom prst="rect">
            <a:avLst/>
          </a:prstGeom>
          <a:ln w="0">
            <a:noFill/>
          </a:ln>
        </p:spPr>
      </p:sp>
      <p:sp>
        <p:nvSpPr>
          <p:cNvPr id="11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DB418B-F912-44CC-BD2B-508580F27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6F74D9B-933A-4448-BF8F-F212C2D072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1147680" y="696960"/>
            <a:ext cx="4640400" cy="3479760"/>
          </a:xfrm>
          <a:prstGeom prst="rect">
            <a:avLst/>
          </a:prstGeom>
          <a:ln w="0">
            <a:noFill/>
          </a:ln>
        </p:spPr>
      </p:sp>
      <p:sp>
        <p:nvSpPr>
          <p:cNvPr id="87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54160" y="701640"/>
            <a:ext cx="4626000" cy="3468600"/>
          </a:xfrm>
          <a:prstGeom prst="rect">
            <a:avLst/>
          </a:prstGeom>
          <a:ln w="0">
            <a:noFill/>
          </a:ln>
        </p:spPr>
      </p:sp>
      <p:sp>
        <p:nvSpPr>
          <p:cNvPr id="11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E816EF-56F4-494D-B8CA-6E0EADBDB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54160" y="701640"/>
            <a:ext cx="4626000" cy="3468600"/>
          </a:xfrm>
          <a:prstGeom prst="rect">
            <a:avLst/>
          </a:prstGeom>
          <a:ln w="0">
            <a:noFill/>
          </a:ln>
        </p:spPr>
      </p:sp>
      <p:sp>
        <p:nvSpPr>
          <p:cNvPr id="11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E616B3-3EE9-43A5-9975-BA2E88945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54160" y="701640"/>
            <a:ext cx="4626000" cy="3468600"/>
          </a:xfrm>
          <a:prstGeom prst="rect">
            <a:avLst/>
          </a:prstGeom>
          <a:ln w="0">
            <a:noFill/>
          </a:ln>
        </p:spPr>
      </p:sp>
      <p:sp>
        <p:nvSpPr>
          <p:cNvPr id="11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5AA4E2-9156-419E-BEE7-2BDFBAEBE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54160" y="701640"/>
            <a:ext cx="4626000" cy="3468600"/>
          </a:xfrm>
          <a:prstGeom prst="rect">
            <a:avLst/>
          </a:prstGeom>
          <a:ln w="0">
            <a:noFill/>
          </a:ln>
        </p:spPr>
      </p:sp>
      <p:sp>
        <p:nvSpPr>
          <p:cNvPr id="11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99A452-170B-406F-8383-88BDD3379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54160" y="701640"/>
            <a:ext cx="4626000" cy="3468600"/>
          </a:xfrm>
          <a:prstGeom prst="rect">
            <a:avLst/>
          </a:prstGeom>
          <a:ln w="0">
            <a:noFill/>
          </a:ln>
        </p:spPr>
      </p:sp>
      <p:sp>
        <p:nvSpPr>
          <p:cNvPr id="11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BC00A3-7F13-4EC0-B087-19D4400BE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54160" y="701640"/>
            <a:ext cx="4626000" cy="3468600"/>
          </a:xfrm>
          <a:prstGeom prst="rect">
            <a:avLst/>
          </a:prstGeom>
          <a:ln w="0">
            <a:noFill/>
          </a:ln>
        </p:spPr>
      </p:sp>
      <p:sp>
        <p:nvSpPr>
          <p:cNvPr id="11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DC36B2-D0AC-4C1B-9BB1-7F0661FC1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54160" y="701640"/>
            <a:ext cx="4626000" cy="3468600"/>
          </a:xfrm>
          <a:prstGeom prst="rect">
            <a:avLst/>
          </a:prstGeom>
          <a:ln w="0">
            <a:noFill/>
          </a:ln>
        </p:spPr>
      </p:sp>
      <p:sp>
        <p:nvSpPr>
          <p:cNvPr id="11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CB544C-F119-4D9B-9EA9-84220BE73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154160" y="701640"/>
            <a:ext cx="4626000" cy="3468600"/>
          </a:xfrm>
          <a:prstGeom prst="rect">
            <a:avLst/>
          </a:prstGeom>
          <a:ln w="0">
            <a:noFill/>
          </a:ln>
        </p:spPr>
      </p:sp>
      <p:sp>
        <p:nvSpPr>
          <p:cNvPr id="11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089640D-F954-4ACA-A6C7-B7DAF0461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54160" y="701640"/>
            <a:ext cx="4626000" cy="3468600"/>
          </a:xfrm>
          <a:prstGeom prst="rect">
            <a:avLst/>
          </a:prstGeom>
          <a:ln w="0">
            <a:noFill/>
          </a:ln>
        </p:spPr>
      </p:sp>
      <p:sp>
        <p:nvSpPr>
          <p:cNvPr id="11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70541D-C068-4048-ACE0-4CE9C86AC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3ECB5C6-6DB0-4933-877A-1A67CDD12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154160" y="701640"/>
            <a:ext cx="4626000" cy="3468600"/>
          </a:xfrm>
          <a:prstGeom prst="rect">
            <a:avLst/>
          </a:prstGeom>
          <a:ln w="0">
            <a:noFill/>
          </a:ln>
        </p:spPr>
      </p:sp>
      <p:sp>
        <p:nvSpPr>
          <p:cNvPr id="8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CC9A597-754F-442E-9568-A66FF6FA9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154160" y="701640"/>
            <a:ext cx="4626000" cy="3468600"/>
          </a:xfrm>
          <a:prstGeom prst="rect">
            <a:avLst/>
          </a:prstGeom>
          <a:ln w="0">
            <a:noFill/>
          </a:ln>
        </p:spPr>
      </p:sp>
      <p:sp>
        <p:nvSpPr>
          <p:cNvPr id="8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87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7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88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769425-3986-4F57-A510-872E88623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1154160" y="701640"/>
            <a:ext cx="4626000" cy="3468600"/>
          </a:xfrm>
          <a:prstGeom prst="rect">
            <a:avLst/>
          </a:prstGeom>
          <a:ln w="0">
            <a:noFill/>
          </a:ln>
        </p:spPr>
      </p:sp>
      <p:sp>
        <p:nvSpPr>
          <p:cNvPr id="88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6A2D7D-1B14-45C2-9F28-7394C3DA9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1154160" y="701640"/>
            <a:ext cx="4626000" cy="3468600"/>
          </a:xfrm>
          <a:prstGeom prst="rect">
            <a:avLst/>
          </a:prstGeom>
          <a:ln w="0">
            <a:noFill/>
          </a:ln>
        </p:spPr>
      </p:sp>
      <p:sp>
        <p:nvSpPr>
          <p:cNvPr id="8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88C7D-84F6-4260-8586-582095672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BA26C-7B26-4F15-AF62-32C8C63B3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E4ADF7-087A-4CC9-BF77-F4CB68DAA7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D6CB32-B6CC-4DBC-8B84-FDC5851AB7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265190-4B0E-46E3-B79F-1994E93841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7D09C0-19E4-446B-9614-B8ABD6EA60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7FA14E-445B-422A-85CB-A172909D41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0C8D7A-5D94-48D9-A96E-A8E714118E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6E225B-F113-407A-8E5A-864C35FD86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F8EA81-4DC6-4E4C-A06B-0536733A86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36DD83-B8EA-44A6-943B-1A944E3017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53E283-C90F-4F6C-A9DE-FA880AFA5E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CC179-48FC-4165-BDA9-F51B3D2B9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2B9E30-5AE3-4A9A-8D96-14B586DD33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99AC54-18A3-463C-8FB6-89586E62AA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395085-15D9-4DA2-8F7C-C4F77ACD8C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A4BD96-56B0-4E06-9012-843D50CE35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9E82F6-AF93-4034-A275-D3230781FC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8D2254-C213-4F01-80BC-F60DA83D93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51964F-18C5-4311-9C63-461603C5B5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D37777-7CD2-4DC0-AFF3-B6699A7A67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F5203D-BFE4-4496-9FDB-A1CC0CC3F0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4E3CB2A-1161-4152-B3AC-30512CB2F0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62AE8-645F-481D-9B90-74B45B2B4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DFB96FB-EF28-4AB5-83BB-57FDCA665D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A5D2B82-DF90-4E0C-ACF6-463745493E8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EFD773-0CD9-4F4C-B4EE-C26EA8E39C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579C72-A591-4985-BE75-98F8B164F9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D099D1-5550-4467-85CE-4B8F1859BE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B33053-2981-4BA4-8AC1-2DF1831E8E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845871-661D-4F24-972B-24C4970456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7F3C4F-FEBA-4C11-B95B-E57087A077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999883-CF67-4175-8D30-F40C4EEED5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9648D1-A4A5-4AE8-8D12-A4DE6C6156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63584E-55E5-4689-BA35-C10DFB93B0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F6C59F-E5CC-41D9-A2BD-42EA0D0ACB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FCC9F9C-40FC-4591-87EF-C267293FFFE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BE9FD56-BD0D-44C0-9ED4-8FDD86046E9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B43BCEB-FEAF-4CE9-ABB6-E58F3DBCC4B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E9EA28-8D30-4D1D-AE6F-54093582E5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ED5F1E-763F-4DA9-8AA8-A05A8D60A3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1CCB98-48A1-419D-BDBA-C5C0169D0C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D40B4A-7DDE-442A-9590-379BC64220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0044BC-2423-4F2D-8182-047EFE4BF0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241FA1-87CB-4497-AEFC-B4855FC074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12ECA-E33B-4531-839F-6347491EF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47F41C-6686-4A0A-B43C-7A468CDB22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7DCD58-D64D-452B-84DE-0935E76BF5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28E905-3D54-42D1-BF3D-D9B4C92DD3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AE0B855-9C4B-4D5B-9421-C5DCD81F1AC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704CA67-043B-44F0-B479-DE73DB87A40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9B947-4BEE-4399-A50E-97B3914D1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D16BE-C704-4B70-B3C8-85D948072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EA127-E98E-4026-9D6A-D7C5E2113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3D70B-D31D-4C6D-80F3-125643A69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0C832-5B1D-437A-A378-81C40E5A7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1CCFA-21DF-4348-ADE5-6AF43FFC0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43734-0579-447A-8530-2EF2E6199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BB76A-0291-4770-9CF3-C46AFBAFC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E96A4-ACDA-409C-AC6F-ADF427451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B6F34-227E-449B-A0C5-39B4DC3AD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11E28-92FB-4020-8F78-5911A51C2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1875B7-2CC7-43FD-AD3A-FDA42CC115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89DD57-5872-4777-843D-E0DC69EB7E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D94443-F30C-4BCC-B577-947D162C9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857E3C-1F10-4758-8179-7318D17EA9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F0DAD6-9266-4EB2-AAE9-2BCA6E31BA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7E5A9-4291-414B-853C-D39A3F4ED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744C37-D261-48F4-B9D0-78FA0EEE96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17A400-50B5-4C25-8B5D-F462E75DA2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13607-32D6-4B5B-A561-0C310355D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E98975-3379-48D1-A52C-17D9878279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39C061-BD04-4D6A-A981-36325A27AD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7E2BE7-1B22-446E-B27D-352737B5DD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86E0CA-37BD-42D2-B8EB-BBEA95F231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7AE7D6-FDB3-4FAE-87BE-97057529DF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5FC43-8357-4F5B-ABD9-F15CE7ECA6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3CEC93-00F8-4673-8BA5-78D01C2CF4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BDFCE-32C9-4BC4-AEA8-C9830AAAF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08A178-D5E6-4AA3-8E0E-FF7EF4CAA0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A26D09-5D4F-485A-BA07-7EAA3853F6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42BF9C-1D86-4941-B6DE-278E54FF1D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729C6-5DB5-432F-A238-EC5AE6C29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BF7CAC-FFC1-47B0-9F00-4553466C5D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B312A9-CA25-43C9-8A13-494A251AF0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B57C98-823A-4F2D-A830-B85B91F03C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1BA8E6-3E4F-49CF-B74A-643FBBDDF9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998F99-2775-41B1-90AD-D6F10B694B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06615F-BCDD-409D-B0BF-B0F22EDAF5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7737B-6DF6-4685-923C-C9941D04F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0EDD65-D4FC-4F76-A26B-ECD3871E77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A3F06B-E527-481C-88B5-14B7792B96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7E5B79-E3F3-4447-A97C-2D44C882DA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854F94-F2E6-45CF-B559-7EC507097A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C5B1B0-C019-4824-8B22-2A77F9C566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02F1ED-DDDB-40B7-8A2D-26ECE6358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ED9922-CF47-4D1B-8429-8A7E6CE30F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415914-8E21-4710-B3A9-8BBCDC0C46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B9329B-14D1-4DEB-9C34-64591C718A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B2E632-2D9C-4249-845B-F4F99628C9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AB31A-FE50-4F8A-95C6-3C53EB09B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B0AF69-27C7-4F22-AE61-4079146D9B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E976AC-2E49-4C5F-9A2C-4E9443797E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75FE91-BAE5-4264-9B43-EC67997721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F177ED-AE25-4056-9AE8-4792E7B199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CBD1BF-889C-49D3-A5EA-45FC78F9F4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517A70-210B-4746-9F10-56209BA2B1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B2DE5F-F6A4-49D5-B188-0B847AA205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743A1B-1D4F-4207-BA34-380F06175C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76BC12-B1C6-4E3C-8421-E21E9352A6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98F8E2-1A8B-43D4-9255-C551F7D2F1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FC4C7-6ADC-4E3D-BA3D-0527BAB47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583014-09F2-4984-B953-C3D7BE00DC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A0E3A1-1F9D-425E-8F0B-42903D292A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8D88E7-95F1-42F7-9DD7-5094BCB430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F73253-8B31-48B4-9CBC-A591313772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C3D0D4-AD40-4341-8027-83C444179D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606EB2-EFFA-4138-8003-AB6230A565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B94497-5C52-48A3-8448-C4952CEC85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B1FB49-D592-4C78-B1D1-0053E3FEAB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BF6C62-4ABC-45C6-BE12-BE595B83DF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078622-EC1D-45F5-ACEC-1962A771C9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EED69-8C25-41D0-8616-AB467B958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B5697C-F09D-46BE-BE5D-F5DB87F9FE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ACA0ED-DB97-40B6-BE9F-66AF531FC4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296AE7-6A39-401C-BE6E-470D18CA46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484560-5A28-4B5D-BF92-A6291E7FA7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869C83-09B8-4709-9CE5-56A6840A5C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E0CD7D-442F-4DDC-9176-9AE7C3CE59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E7911F-D567-4C47-A2A5-7E7CAE686E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BFCA18-6520-49F1-8501-76303D64BE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6E9A11-212E-478B-8967-697D25C325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505DE9-680B-4BE3-915E-FB67817FBE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5CA3F-ADE0-4F61-B66A-163A46536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D7A6C5-15CA-4963-8B25-47207DB3B8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0E845C-EF8D-4756-ADF8-1A52F7888B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25904F-A182-4086-A444-E0E7A0701E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C21F0B-84C7-482C-A1D9-0799B21AF9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9724CF-70B9-4CBC-AF72-7A714B9FDF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0B4076-D401-45D6-87AB-671282A16D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9ED6EC-0D98-4D5A-AFCD-ECA1795A0D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AB17C9-964B-4C47-B244-3C852DB5B5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8CDFDE-34D9-4183-A31F-FCD2524E1F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7197BE-D2CB-4BDD-9AD7-65F87F13547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60B4F4C-6DFA-41E5-9FAE-F823032E70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38B2496-DDE3-44DC-83CA-91AB91424F2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87ED295-A9F0-4157-98AE-08B5534001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64F5EAA-EA52-48F4-9836-86D54A7F605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CD2F23C-8974-4FB0-9625-6E9B9ACE49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4BD42F4-3E23-4084-BB4F-F3E35237C1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9ABAE90-17DD-4678-8C64-4B121EAE51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CA72E97-CA7D-4D33-A720-CF3ED25408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94E5F8E-448A-4F6E-8D4D-F72C32B39EF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A544E44-E42D-4557-A3B9-F34187C1398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E3D214D-D56F-4110-9661-2016172B36E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6</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B9B871E-EFDB-4931-9043-C00AFD4FA86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9/11-19-0225-00-00ay-tg-ay-january-2019-st-louis-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9/11-19-0307-00-00ay-tg-ay-march-1-2019-conference-call-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ADA7B7-6745-461F-9D1F-5D3006261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3-10</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F1A381-0066-4E05-BB79-6EBD420E3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C48BDE-E698-417A-8C6A-8D34E1A32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A2EBCB-E667-4FC2-8172-5D52819FF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31BC97-6EFA-4B79-9F58-6508B7DAF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gency B</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7A9E5A-E81D-45DF-BCBB-DCA2C4768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B7BE3D-940A-42CA-B1E6-8A2C04CAD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January 2019 interim</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inder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39F344-2BA9-467C-99F0-5F5DB7B79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recirculation WGLB #239</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CD1525-FCEC-4061-93C9-BC71F0A8A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9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4 (Draft 2.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ll open CIDs are reviewed,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assurance document (17/1288r3) is reaffirm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Passed a motion to prepare D3.0 and start a 15 day recirculation Working Group technical letter ballot</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e Placeholder 1"/>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63E2D5-763F-473D-9538-69685A126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title"/>
          </p:nvPr>
        </p:nvSpPr>
        <p:spPr>
          <a:xfrm>
            <a:off x="609480" y="6858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irculation LB #239 for D3.0 (1)</a:t>
            </a:r>
            <a:endParaRPr b="1" lang="en-US" sz="3200" spc="-1" strike="noStrike">
              <a:solidFill>
                <a:srgbClr val="000000"/>
              </a:solidFill>
              <a:latin typeface="Times New Roman"/>
            </a:endParaRPr>
          </a:p>
        </p:txBody>
      </p:sp>
      <p:sp>
        <p:nvSpPr>
          <p:cNvPr id="644" name=""/>
          <p:cNvSpPr txBox="1"/>
          <p:nvPr/>
        </p:nvSpPr>
        <p:spPr>
          <a:xfrm>
            <a:off x="685800" y="1828440"/>
            <a:ext cx="7772400" cy="4419720"/>
          </a:xfrm>
          <a:prstGeom prst="rect">
            <a:avLst/>
          </a:prstGeom>
          <a:noFill/>
          <a:ln w="0">
            <a:noFill/>
          </a:ln>
        </p:spPr>
        <p:txBody>
          <a:bodyPr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d with 93.1% approval</a:t>
            </a:r>
            <a:endParaRPr b="1" lang="en-US" sz="24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8 comments:  338 technical,  133 editorial,  7 general</a:t>
            </a:r>
            <a:endParaRPr b="0" lang="en-US" sz="20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database:  19/0297r2</a:t>
            </a:r>
            <a:endParaRPr b="0" lang="en-US" sz="20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Approval rate of the LB #234 for D2.0:  92.8%</a:t>
            </a:r>
            <a:endParaRPr b="0" lang="en-US" sz="20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Date Placeholder 1"/>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D63D68-E2B4-40FE-9022-1D5E38CB7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title"/>
          </p:nvPr>
        </p:nvSpPr>
        <p:spPr>
          <a:xfrm>
            <a:off x="609480" y="6858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irculation LB #239 for D3.0 (2)</a:t>
            </a:r>
            <a:endParaRPr b="1" lang="en-US" sz="3200" spc="-1" strike="noStrike">
              <a:solidFill>
                <a:srgbClr val="000000"/>
              </a:solidFill>
              <a:latin typeface="Times New Roman"/>
            </a:endParaRPr>
          </a:p>
        </p:txBody>
      </p:sp>
      <p:sp>
        <p:nvSpPr>
          <p:cNvPr id="649" name=""/>
          <p:cNvSpPr txBox="1"/>
          <p:nvPr/>
        </p:nvSpPr>
        <p:spPr>
          <a:xfrm>
            <a:off x="685800" y="1828440"/>
            <a:ext cx="7772400" cy="4419720"/>
          </a:xfrm>
          <a:prstGeom prst="rect">
            <a:avLst/>
          </a:prstGeom>
          <a:noFill/>
          <a:ln w="0">
            <a:noFill/>
          </a:ln>
        </p:spPr>
        <p:txBody>
          <a:bodyPr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ng the “No” voters</a:t>
            </a:r>
            <a:endParaRPr b="1" lang="en-US" sz="24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voters keep their “No” votes</a:t>
            </a:r>
            <a:endParaRPr b="0" lang="en-US" sz="20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ed unsatisfied comments:  CIDs 4285, 4288, 4463, 4470, 4471, 4472, 4473</a:t>
            </a:r>
            <a:endParaRPr b="0" lang="en-US" sz="18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voters change their votes to “No” because of different reasons, e.g., unsatisfied comments, new text, the duration of the letter ballot:</a:t>
            </a:r>
            <a:endParaRPr b="0" lang="en-US" sz="20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atisfied comments:  CID 4077</a:t>
            </a:r>
            <a:endParaRPr b="0" lang="en-US" sz="18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text:  CIDs 4309, 4416, 4474, 4475, 4476, 4477</a:t>
            </a:r>
            <a:endParaRPr b="0" lang="en-US" sz="18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Vancouver, British Columbia, Canad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10 - 15,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EB5131-7F48-4E9C-8479-E6F31C586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2DDD3E-BCEA-422D-ABB2-B6389AAC7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March 10, 2019)</a:t>
            </a:r>
            <a:endParaRPr b="0" lang="en-US" sz="1800" spc="-1" strike="noStrike">
              <a:solidFill>
                <a:srgbClr val="000000"/>
              </a:solidFill>
              <a:latin typeface="Times New Roman"/>
            </a:endParaRPr>
          </a:p>
        </p:txBody>
      </p:sp>
      <p:graphicFrame>
        <p:nvGraphicFramePr>
          <p:cNvPr id="655" name=""/>
          <p:cNvGraphicFramePr/>
          <p:nvPr/>
        </p:nvGraphicFramePr>
        <p:xfrm>
          <a:off x="685800" y="1676520"/>
          <a:ext cx="7772400" cy="449568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D45AFA-89D6-4B93-A0F6-44F5F6624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3: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9 meeting minutes</a:t>
            </a:r>
            <a:endParaRPr b="0" lang="en-US" sz="3200" spc="-1" strike="noStrike">
              <a:solidFill>
                <a:srgbClr val="000000"/>
              </a:solidFill>
              <a:latin typeface="Times New Roman"/>
            </a:endParaRPr>
          </a:p>
        </p:txBody>
      </p:sp>
      <p:sp>
        <p:nvSpPr>
          <p:cNvPr id="65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January 2019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225-00-00ay-tg-ay-january-2019-st-louis-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Passed with unanimous consent</a:t>
            </a:r>
            <a:endParaRPr b="0" lang="en-US" sz="2000" spc="-1" strike="noStrike">
              <a:solidFill>
                <a:srgbClr val="000000"/>
              </a:solidFill>
              <a:latin typeface="Times New Roman"/>
            </a:endParaRPr>
          </a:p>
        </p:txBody>
      </p:sp>
      <p:sp>
        <p:nvSpPr>
          <p:cNvPr id="65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3B3D5A-D501-435F-9295-C589AC9AB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4: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9 teleconference call minutes</a:t>
            </a:r>
            <a:endParaRPr b="0" lang="en-US" sz="3200" spc="-1" strike="noStrike">
              <a:solidFill>
                <a:srgbClr val="000000"/>
              </a:solidFill>
              <a:latin typeface="Times New Roman"/>
            </a:endParaRPr>
          </a:p>
        </p:txBody>
      </p:sp>
      <p:sp>
        <p:nvSpPr>
          <p:cNvPr id="6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 on March 1,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307-00-00ay-tg-ay-march-1-2019-conference-call-meeting-minutes.docx</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Pass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0F59F2-4CEE-42E8-B2E3-4B35BD0C8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0"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ope of comments for recirculation bal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830950-7EF6-4CE9-862D-741F0B21B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5" name=""/>
          <p:cNvGraphicFramePr/>
          <p:nvPr/>
        </p:nvGraphicFramePr>
        <p:xfrm>
          <a:off x="696960" y="1650960"/>
          <a:ext cx="7913520" cy="36324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12, 4232, 4286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67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467 spatial mapp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937D30-68F7-4924-9FC4-5C3FEBDA1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35733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sc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4061 and 41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10054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if needed)</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3E7594-62C5-4D1C-962F-B8FC539C1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8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tial shar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97A1BA-FC84-4AF7-AA25-8B41FF342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8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3343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PHY measurement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link loss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EDE412-95D1-4AC7-BD75-DB38EB314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69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774394-4691-4F2D-BD17-24ADD9D7D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January 2019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 </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2,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699"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1, 8:00am – 10:00am </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May 2019 interim</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E5031B-D628-4BAC-BC76-68B965AE6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9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4219DF-B4E4-4887-87F7-5D0AAA01E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4F74D5-2DD5-4AB2-BEBD-54A3328DB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42C2CD-D2A3-49D9-B350-543335B40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F43492-4FDD-47A7-B0A5-77DBFEFC8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21"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ope of comments for recirculation bal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23BE84-6F99-416D-BEE5-3C73A3F9A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F225EB-4971-45A4-84DE-0C421BC7C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5287BE-6AA2-42A3-B7E9-7D0696A05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35" name=""/>
          <p:cNvGraphicFramePr/>
          <p:nvPr/>
        </p:nvGraphicFramePr>
        <p:xfrm>
          <a:off x="696960" y="1650960"/>
          <a:ext cx="7913520" cy="36324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12, 4232, 4286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67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6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467 spatial mapp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7877E9-6564-4D93-83BD-7297C162E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9B295F-30D3-4EC0-ACA8-AB5302FC2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E7C652-142B-4FCB-B816-7FB80C353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4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49" name=""/>
          <p:cNvGraphicFramePr/>
          <p:nvPr/>
        </p:nvGraphicFramePr>
        <p:xfrm>
          <a:off x="696960" y="1650960"/>
          <a:ext cx="7913520" cy="35733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sc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solution to CID related to DMG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4061 and 41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10054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if needed)</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72A7EFD-1C58-4DB0-985A-2EB72199A2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07AB4E-BD2B-419A-9C31-F195F2993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16BB2B-4328-4E4D-8896-B34286D4E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6E4884-569D-4FB6-ACF8-220F4F466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63"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tial shar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4C5957-AD60-4C41-BF75-26DBD6AAE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305238-C5E6-4820-9078-67A2757FC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7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EA5920-E9D7-4703-999B-55826FE0E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7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77" name=""/>
          <p:cNvGraphicFramePr/>
          <p:nvPr/>
        </p:nvGraphicFramePr>
        <p:xfrm>
          <a:off x="696960" y="1650960"/>
          <a:ext cx="7913520" cy="3343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PHY measurement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link loss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47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FB53F8-1DD2-43FC-825C-F9FB6E230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A802BD-7E8E-41B9-B255-15C9B3B14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84" name="Rectangle 3"/>
          <p:cNvSpPr/>
          <p:nvPr/>
        </p:nvSpPr>
        <p:spPr>
          <a:xfrm>
            <a:off x="685800" y="1676520"/>
            <a:ext cx="77724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other bus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94A1AF-2448-43DF-9636-A7A39B8A9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0FFEA7-BA15-40CD-9F09-86CFEE13D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9 interim</a:t>
            </a:r>
            <a:endParaRPr b="0" lang="en-US" sz="3200" spc="-1" strike="noStrike">
              <a:solidFill>
                <a:srgbClr val="000000"/>
              </a:solidFill>
              <a:latin typeface="Times New Roman"/>
            </a:endParaRPr>
          </a:p>
        </p:txBody>
      </p:sp>
      <p:sp>
        <p:nvSpPr>
          <p:cNvPr id="79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BF850C2-40E0-4DC4-8C95-C431C828F6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EF23BC-5413-48CA-8886-22802A232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79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3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2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FBD657-0AEA-4112-B3B7-2879F49F5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5:  Comment Resolution</a:t>
            </a:r>
            <a:endParaRPr b="0" lang="en-US" sz="3200" spc="-1" strike="noStrike">
              <a:solidFill>
                <a:srgbClr val="000000"/>
              </a:solidFill>
              <a:latin typeface="Times New Roman"/>
            </a:endParaRPr>
          </a:p>
        </p:txBody>
      </p:sp>
      <p:sp>
        <p:nvSpPr>
          <p:cNvPr id="80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38, 4041, 4261, 4096, 4057, 4089, 4260, and 4312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308r2;</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39, 4093, and 4060 as proposed in 19/0318r0;</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IDs 4061 and 4147 as proposed in 19/0337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16AC23-6B6B-4B5B-AA0C-38FE71CFC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6:  Comment Resolution</a:t>
            </a:r>
            <a:endParaRPr b="0" lang="en-US" sz="3200" spc="-1" strike="noStrike">
              <a:solidFill>
                <a:srgbClr val="000000"/>
              </a:solidFill>
              <a:latin typeface="Times New Roman"/>
            </a:endParaRPr>
          </a:p>
        </p:txBody>
      </p:sp>
      <p:sp>
        <p:nvSpPr>
          <p:cNvPr id="80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212 and 4232 as proposed in 19/0347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Mohamed Abouelseou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2B5E90-B00E-4247-9B03-BF43AC460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7:  Comment Resolution</a:t>
            </a:r>
            <a:endParaRPr b="0" lang="en-US" sz="3200" spc="-1" strike="noStrike">
              <a:solidFill>
                <a:srgbClr val="000000"/>
              </a:solidFill>
              <a:latin typeface="Times New Roman"/>
            </a:endParaRPr>
          </a:p>
        </p:txBody>
      </p:sp>
      <p:sp>
        <p:nvSpPr>
          <p:cNvPr id="81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003, 4004, 4304, 4305, 4351, 4352, 4358, 4361, 4363, and 4427 as proposed in 19/0350r2.</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39BAB3-9358-4A6B-85A7-35E34B9B0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8:  Comment Resolution</a:t>
            </a:r>
            <a:endParaRPr b="0" lang="en-US" sz="3200" spc="-1" strike="noStrike">
              <a:solidFill>
                <a:srgbClr val="000000"/>
              </a:solidFill>
              <a:latin typeface="Times New Roman"/>
            </a:endParaRPr>
          </a:p>
        </p:txBody>
      </p:sp>
      <p:sp>
        <p:nvSpPr>
          <p:cNvPr id="81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IDs 4157, 4190, and 4191 as proposed in 19/0353r0;</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ID 4467 as proposed in 19/0432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Hiroyuki Motozuk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BD8F0B-C92A-4703-A69C-F38956B78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9:  Comment Resolution</a:t>
            </a:r>
            <a:endParaRPr b="0" lang="en-US" sz="3200" spc="-1" strike="noStrike">
              <a:solidFill>
                <a:srgbClr val="000000"/>
              </a:solidFill>
              <a:latin typeface="Times New Roman"/>
            </a:endParaRPr>
          </a:p>
        </p:txBody>
      </p:sp>
      <p:sp>
        <p:nvSpPr>
          <p:cNvPr id="82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4210 as proposed in 19/0363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akenori Sakamot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853B63-B671-4743-887A-FDFDAF506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0:  Comment Resolution</a:t>
            </a:r>
            <a:endParaRPr b="0" lang="en-US" sz="3200" spc="-1" strike="noStrike">
              <a:solidFill>
                <a:srgbClr val="000000"/>
              </a:solidFill>
              <a:latin typeface="Times New Roman"/>
            </a:endParaRPr>
          </a:p>
        </p:txBody>
      </p:sp>
      <p:sp>
        <p:nvSpPr>
          <p:cNvPr id="82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461, 4462, 4109, 4141, 4169, 4268, 4460, 4023, 4209, 4208, 4339, 4340, 4342, and 4345 as proposed in 19/0323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68D14C-96D2-437F-8376-3F2BCDF0C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1:  Comment Resolution</a:t>
            </a:r>
            <a:endParaRPr b="0" lang="en-US" sz="3200" spc="-1" strike="noStrike">
              <a:solidFill>
                <a:srgbClr val="000000"/>
              </a:solidFill>
              <a:latin typeface="Times New Roman"/>
            </a:endParaRPr>
          </a:p>
        </p:txBody>
      </p:sp>
      <p:sp>
        <p:nvSpPr>
          <p:cNvPr id="83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78, 4234, and 4477 as proposed in 19/0321r0;</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59, 4258, 4036, 4037, 4205, 4311, 4314, 4318, 4319, 4320, and 4317 as </a:t>
            </a:r>
            <a:r>
              <a:rPr b="0" lang="en-US" sz="1600" spc="-1" strike="noStrike">
                <a:solidFill>
                  <a:srgbClr val="000000"/>
                </a:solidFill>
                <a:latin typeface="Times New Roman"/>
              </a:rPr>
              <a:t>	</a:t>
            </a:r>
            <a:r>
              <a:rPr b="0" lang="en-US" sz="1600" spc="-1" strike="noStrike">
                <a:solidFill>
                  <a:srgbClr val="000000"/>
                </a:solidFill>
                <a:latin typeface="Times New Roman"/>
              </a:rPr>
              <a:t>proposed in 19/0355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D897C1-18A0-44C7-97CD-438412962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2:  TBD</a:t>
            </a:r>
            <a:endParaRPr b="0" lang="en-US" sz="3200" spc="-1" strike="noStrike">
              <a:solidFill>
                <a:srgbClr val="000000"/>
              </a:solidFill>
              <a:latin typeface="Times New Roman"/>
            </a:endParaRPr>
          </a:p>
        </p:txBody>
      </p:sp>
      <p:sp>
        <p:nvSpPr>
          <p:cNvPr id="83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TBD]</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F3CC28-14D2-41A7-8291-16D38E1DA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88EA26-42B3-47F3-96BC-28E0DFEE0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D818D91-AC30-4B42-95B4-B4AF57335D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A8C13C-5E23-49C9-8C04-981DA83C2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9</cp:keywords>
  <dc:language>en-US</dc:language>
  <cp:lastModifiedBy>Edward Au</cp:lastModifiedBy>
  <cp:lastPrinted>2014-11-04T15:04:57Z</cp:lastPrinted>
  <dcterms:modified xsi:type="dcterms:W3CDTF">2019-03-13T20:50:21Z</dcterms:modified>
  <cp:revision>8633</cp:revision>
  <dc:subject>Task Group AY November 2015 Meeting Agenda</dc:subject>
  <dc:title>11-19/0229r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