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0ACFD5C-B18C-432C-9339-BE1E2B9B2E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31281D-C85F-46E4-A53B-D4C12D12F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4607C3-9AB6-4F6E-A8E7-EB22716F2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9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9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17AD9F-E329-4525-9E75-26AAB8862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5A842C-C7F5-4CBF-8052-0C3C6D929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0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0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0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0167C4-5D50-4261-AB33-56EB107CA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54160" y="701640"/>
            <a:ext cx="4626000" cy="3468600"/>
          </a:xfrm>
          <a:prstGeom prst="rect">
            <a:avLst/>
          </a:prstGeom>
          <a:ln w="0">
            <a:noFill/>
          </a:ln>
        </p:spPr>
      </p:sp>
      <p:sp>
        <p:nvSpPr>
          <p:cNvPr id="9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1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1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3FE029-9155-4489-B64A-4E8D1A14F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54160" y="701640"/>
            <a:ext cx="4626000" cy="3468600"/>
          </a:xfrm>
          <a:prstGeom prst="rect">
            <a:avLst/>
          </a:prstGeom>
          <a:ln w="0">
            <a:noFill/>
          </a:ln>
        </p:spPr>
      </p:sp>
      <p:sp>
        <p:nvSpPr>
          <p:cNvPr id="9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54160" y="701640"/>
            <a:ext cx="4626000" cy="3468600"/>
          </a:xfrm>
          <a:prstGeom prst="rect">
            <a:avLst/>
          </a:prstGeom>
          <a:ln w="0">
            <a:noFill/>
          </a:ln>
        </p:spPr>
      </p:sp>
      <p:sp>
        <p:nvSpPr>
          <p:cNvPr id="9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2E80ED-C905-4A45-A801-471EAD7EE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0CB076-0A0B-4093-822D-6450DC576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54160" y="701640"/>
            <a:ext cx="4626000" cy="3468600"/>
          </a:xfrm>
          <a:prstGeom prst="rect">
            <a:avLst/>
          </a:prstGeom>
          <a:ln w="0">
            <a:noFill/>
          </a:ln>
        </p:spPr>
      </p:sp>
      <p:sp>
        <p:nvSpPr>
          <p:cNvPr id="9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69DEC7-75E8-4D3D-B74F-5B28109C5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BB8B82-2267-49C1-8111-D89D3A984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9E76A8-DAB3-43A0-9D92-863F464BE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4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4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4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FFB352B7-2715-42AA-BBE0-5C79634C6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17440" y="696960"/>
            <a:ext cx="4646880" cy="3486240"/>
          </a:xfrm>
          <a:prstGeom prst="rect">
            <a:avLst/>
          </a:prstGeom>
          <a:ln w="0">
            <a:noFill/>
          </a:ln>
        </p:spPr>
      </p:sp>
      <p:sp>
        <p:nvSpPr>
          <p:cNvPr id="95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5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5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5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BEDA7FAB-B246-4D65-AF6F-E3B54AF1B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17440" y="696960"/>
            <a:ext cx="4646880" cy="3486240"/>
          </a:xfrm>
          <a:prstGeom prst="rect">
            <a:avLst/>
          </a:prstGeom>
          <a:ln w="0">
            <a:noFill/>
          </a:ln>
        </p:spPr>
      </p:sp>
      <p:sp>
        <p:nvSpPr>
          <p:cNvPr id="95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54160" y="701640"/>
            <a:ext cx="4626000" cy="3468600"/>
          </a:xfrm>
          <a:prstGeom prst="rect">
            <a:avLst/>
          </a:prstGeom>
          <a:ln w="0">
            <a:noFill/>
          </a:ln>
        </p:spPr>
      </p:sp>
      <p:sp>
        <p:nvSpPr>
          <p:cNvPr id="8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AE8CEF-CD2F-4D94-9FCE-65822BA74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1C588B-0792-4635-BDA9-8EBCF370B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8CE23C-1014-4B9A-B44A-C63B4F9F2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294697-27B8-4ECE-A85E-17CE94285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DFED94-4682-49C7-A73B-C3437B563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4160" y="701640"/>
            <a:ext cx="4626000" cy="3468600"/>
          </a:xfrm>
          <a:prstGeom prst="rect">
            <a:avLst/>
          </a:prstGeom>
          <a:ln w="0">
            <a:noFill/>
          </a:ln>
        </p:spPr>
      </p:sp>
      <p:sp>
        <p:nvSpPr>
          <p:cNvPr id="9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CAEB5F-5689-4D87-8B7B-BC2B94840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CBD3C9-F2EC-4E9A-8F0C-B160A8660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385ED3-7E12-486C-B2AC-BC7982ABC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54160" y="701640"/>
            <a:ext cx="4626000" cy="3468600"/>
          </a:xfrm>
          <a:prstGeom prst="rect">
            <a:avLst/>
          </a:prstGeom>
          <a:ln w="0">
            <a:noFill/>
          </a:ln>
        </p:spPr>
      </p:sp>
      <p:sp>
        <p:nvSpPr>
          <p:cNvPr id="10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857C90-35F0-4548-B383-8D87DA77D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C616AC-4AAD-4FB8-8F8E-387E0F94E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58957A-FC2C-4014-B809-BBE089427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B01D6B-7AD2-4C0E-A618-09C52455E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4160" y="701640"/>
            <a:ext cx="4626000" cy="3468600"/>
          </a:xfrm>
          <a:prstGeom prst="rect">
            <a:avLst/>
          </a:prstGeom>
          <a:ln w="0">
            <a:noFill/>
          </a:ln>
        </p:spPr>
      </p:sp>
      <p:sp>
        <p:nvSpPr>
          <p:cNvPr id="10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10C569-ADF4-42EA-BFBC-B682DB9FD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1DD1B2-F804-4156-A460-61A52B4D9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54160" y="701640"/>
            <a:ext cx="4626000" cy="3468600"/>
          </a:xfrm>
          <a:prstGeom prst="rect">
            <a:avLst/>
          </a:prstGeom>
          <a:ln w="0">
            <a:noFill/>
          </a:ln>
        </p:spPr>
      </p:sp>
      <p:sp>
        <p:nvSpPr>
          <p:cNvPr id="10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DF24CD-9AAD-485E-B85A-06F0AC9A5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D56EF6-8DBD-4C8E-9161-8A9E403D7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B0EAA1-A8FF-42E6-B5F4-798542AF7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54160" y="701640"/>
            <a:ext cx="4626000" cy="3468600"/>
          </a:xfrm>
          <a:prstGeom prst="rect">
            <a:avLst/>
          </a:prstGeom>
          <a:ln w="0">
            <a:noFill/>
          </a:ln>
        </p:spPr>
      </p:sp>
      <p:sp>
        <p:nvSpPr>
          <p:cNvPr id="10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186CC6-21CE-455F-9074-A39FF8B8A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54160" y="701640"/>
            <a:ext cx="4626000" cy="3468600"/>
          </a:xfrm>
          <a:prstGeom prst="rect">
            <a:avLst/>
          </a:prstGeom>
          <a:ln w="0">
            <a:noFill/>
          </a:ln>
        </p:spPr>
      </p:sp>
      <p:sp>
        <p:nvSpPr>
          <p:cNvPr id="10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3FEB83-A4B9-4D69-8505-884E0C0CA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D9B209-5F63-47C9-A796-45EF069BF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54160" y="701640"/>
            <a:ext cx="4626000" cy="3468600"/>
          </a:xfrm>
          <a:prstGeom prst="rect">
            <a:avLst/>
          </a:prstGeom>
          <a:ln w="0">
            <a:noFill/>
          </a:ln>
        </p:spPr>
      </p:sp>
      <p:sp>
        <p:nvSpPr>
          <p:cNvPr id="10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54160" y="701640"/>
            <a:ext cx="4626000" cy="3468600"/>
          </a:xfrm>
          <a:prstGeom prst="rect">
            <a:avLst/>
          </a:prstGeom>
          <a:ln w="0">
            <a:noFill/>
          </a:ln>
        </p:spPr>
      </p:sp>
      <p:sp>
        <p:nvSpPr>
          <p:cNvPr id="10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85C3A3-2F35-4AAA-B670-F5994F92D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54160" y="701640"/>
            <a:ext cx="4626000" cy="3468600"/>
          </a:xfrm>
          <a:prstGeom prst="rect">
            <a:avLst/>
          </a:prstGeom>
          <a:ln w="0">
            <a:noFill/>
          </a:ln>
        </p:spPr>
      </p:sp>
      <p:sp>
        <p:nvSpPr>
          <p:cNvPr id="10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3D3537-ADD9-44BD-9EC1-5B2F9DA63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2449562-9DF5-48E0-B6F0-6E325FBFC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147680" y="696960"/>
            <a:ext cx="4640400" cy="3479760"/>
          </a:xfrm>
          <a:prstGeom prst="rect">
            <a:avLst/>
          </a:prstGeom>
          <a:ln w="0">
            <a:noFill/>
          </a:ln>
        </p:spPr>
      </p:sp>
      <p:sp>
        <p:nvSpPr>
          <p:cNvPr id="86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41E79E-6873-4DF7-8D3C-E564EA0EB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54160" y="701640"/>
            <a:ext cx="4626000" cy="3468600"/>
          </a:xfrm>
          <a:prstGeom prst="rect">
            <a:avLst/>
          </a:prstGeom>
          <a:ln w="0">
            <a:noFill/>
          </a:ln>
        </p:spPr>
      </p:sp>
      <p:sp>
        <p:nvSpPr>
          <p:cNvPr id="10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54160" y="701640"/>
            <a:ext cx="4626000" cy="3468600"/>
          </a:xfrm>
          <a:prstGeom prst="rect">
            <a:avLst/>
          </a:prstGeom>
          <a:ln w="0">
            <a:noFill/>
          </a:ln>
        </p:spPr>
      </p:sp>
      <p:sp>
        <p:nvSpPr>
          <p:cNvPr id="10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56ED9E-C7F6-43F0-86FC-549597B8F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54160" y="701640"/>
            <a:ext cx="4626000" cy="3468600"/>
          </a:xfrm>
          <a:prstGeom prst="rect">
            <a:avLst/>
          </a:prstGeom>
          <a:ln w="0">
            <a:noFill/>
          </a:ln>
        </p:spPr>
      </p:sp>
      <p:sp>
        <p:nvSpPr>
          <p:cNvPr id="10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1E92E-96A9-452F-A3EC-32135581E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368D2D-E771-4CDD-BFC8-CDBBED9F5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54160" y="701640"/>
            <a:ext cx="4626000" cy="3468600"/>
          </a:xfrm>
          <a:prstGeom prst="rect">
            <a:avLst/>
          </a:prstGeom>
          <a:ln w="0">
            <a:noFill/>
          </a:ln>
        </p:spPr>
      </p:sp>
      <p:sp>
        <p:nvSpPr>
          <p:cNvPr id="11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54160" y="701640"/>
            <a:ext cx="4626000" cy="3468600"/>
          </a:xfrm>
          <a:prstGeom prst="rect">
            <a:avLst/>
          </a:prstGeom>
          <a:ln w="0">
            <a:noFill/>
          </a:ln>
        </p:spPr>
      </p:sp>
      <p:sp>
        <p:nvSpPr>
          <p:cNvPr id="11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4C7296-5514-44AB-A97E-D5DD6D764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54160" y="701640"/>
            <a:ext cx="4626000" cy="3468600"/>
          </a:xfrm>
          <a:prstGeom prst="rect">
            <a:avLst/>
          </a:prstGeom>
          <a:ln w="0">
            <a:noFill/>
          </a:ln>
        </p:spPr>
      </p:sp>
      <p:sp>
        <p:nvSpPr>
          <p:cNvPr id="11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FC3982-1C08-4757-9A5B-E14034ACA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D9625D-B961-40A4-831A-47F051BE7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54160" y="701640"/>
            <a:ext cx="4626000" cy="3468600"/>
          </a:xfrm>
          <a:prstGeom prst="rect">
            <a:avLst/>
          </a:prstGeom>
          <a:ln w="0">
            <a:noFill/>
          </a:ln>
        </p:spPr>
      </p:sp>
      <p:sp>
        <p:nvSpPr>
          <p:cNvPr id="11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54160" y="701640"/>
            <a:ext cx="4626000" cy="3468600"/>
          </a:xfrm>
          <a:prstGeom prst="rect">
            <a:avLst/>
          </a:prstGeom>
          <a:ln w="0">
            <a:noFill/>
          </a:ln>
        </p:spPr>
      </p:sp>
      <p:sp>
        <p:nvSpPr>
          <p:cNvPr id="11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CF67A7-4FCA-401D-89AE-C039849DD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54160" y="701640"/>
            <a:ext cx="4626000" cy="3468600"/>
          </a:xfrm>
          <a:prstGeom prst="rect">
            <a:avLst/>
          </a:prstGeom>
          <a:ln w="0">
            <a:noFill/>
          </a:ln>
        </p:spPr>
      </p:sp>
      <p:sp>
        <p:nvSpPr>
          <p:cNvPr id="11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C3BD21-E37D-4F29-B878-55F42A9DD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54160" y="701640"/>
            <a:ext cx="4626000" cy="3468600"/>
          </a:xfrm>
          <a:prstGeom prst="rect">
            <a:avLst/>
          </a:prstGeom>
          <a:ln w="0">
            <a:noFill/>
          </a:ln>
        </p:spPr>
      </p:sp>
      <p:sp>
        <p:nvSpPr>
          <p:cNvPr id="11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CDA543-ED40-44E0-A451-00547695C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1E34151-F27C-42A5-AF37-03CFE8FBC5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7680" y="696960"/>
            <a:ext cx="4640400" cy="3479760"/>
          </a:xfrm>
          <a:prstGeom prst="rect">
            <a:avLst/>
          </a:prstGeom>
          <a:ln w="0">
            <a:noFill/>
          </a:ln>
        </p:spPr>
      </p:sp>
      <p:sp>
        <p:nvSpPr>
          <p:cNvPr id="87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54160" y="701640"/>
            <a:ext cx="4626000" cy="3468600"/>
          </a:xfrm>
          <a:prstGeom prst="rect">
            <a:avLst/>
          </a:prstGeom>
          <a:ln w="0">
            <a:noFill/>
          </a:ln>
        </p:spPr>
      </p:sp>
      <p:sp>
        <p:nvSpPr>
          <p:cNvPr id="11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FE1135-91E0-4CA2-AA0E-C4AB09B6A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54160" y="701640"/>
            <a:ext cx="4626000" cy="3468600"/>
          </a:xfrm>
          <a:prstGeom prst="rect">
            <a:avLst/>
          </a:prstGeom>
          <a:ln w="0">
            <a:noFill/>
          </a:ln>
        </p:spPr>
      </p:sp>
      <p:sp>
        <p:nvSpPr>
          <p:cNvPr id="11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B05A1E-ADEB-494F-A346-F2C2464EE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54160" y="701640"/>
            <a:ext cx="4626000" cy="3468600"/>
          </a:xfrm>
          <a:prstGeom prst="rect">
            <a:avLst/>
          </a:prstGeom>
          <a:ln w="0">
            <a:noFill/>
          </a:ln>
        </p:spPr>
      </p:sp>
      <p:sp>
        <p:nvSpPr>
          <p:cNvPr id="11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0CC743-4135-4A51-8063-920099067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54160" y="701640"/>
            <a:ext cx="4626000" cy="3468600"/>
          </a:xfrm>
          <a:prstGeom prst="rect">
            <a:avLst/>
          </a:prstGeom>
          <a:ln w="0">
            <a:noFill/>
          </a:ln>
        </p:spPr>
      </p:sp>
      <p:sp>
        <p:nvSpPr>
          <p:cNvPr id="11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E7391A-1AFB-40DD-959A-A9F0613E0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54160" y="701640"/>
            <a:ext cx="4626000" cy="3468600"/>
          </a:xfrm>
          <a:prstGeom prst="rect">
            <a:avLst/>
          </a:prstGeom>
          <a:ln w="0">
            <a:noFill/>
          </a:ln>
        </p:spPr>
      </p:sp>
      <p:sp>
        <p:nvSpPr>
          <p:cNvPr id="11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45C731-79F6-4A7F-A58F-EB4D55229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54160" y="701640"/>
            <a:ext cx="4626000" cy="3468600"/>
          </a:xfrm>
          <a:prstGeom prst="rect">
            <a:avLst/>
          </a:prstGeom>
          <a:ln w="0">
            <a:noFill/>
          </a:ln>
        </p:spPr>
      </p:sp>
      <p:sp>
        <p:nvSpPr>
          <p:cNvPr id="11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BC8D9F-8E58-43A8-9883-71F4F5884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54160" y="701640"/>
            <a:ext cx="4626000" cy="3468600"/>
          </a:xfrm>
          <a:prstGeom prst="rect">
            <a:avLst/>
          </a:prstGeom>
          <a:ln w="0">
            <a:noFill/>
          </a:ln>
        </p:spPr>
      </p:sp>
      <p:sp>
        <p:nvSpPr>
          <p:cNvPr id="11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DDE55D-2C4F-46AF-BDFB-02C876252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54160" y="701640"/>
            <a:ext cx="4626000" cy="3468600"/>
          </a:xfrm>
          <a:prstGeom prst="rect">
            <a:avLst/>
          </a:prstGeom>
          <a:ln w="0">
            <a:noFill/>
          </a:ln>
        </p:spPr>
      </p:sp>
      <p:sp>
        <p:nvSpPr>
          <p:cNvPr id="11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E096FB-2458-447B-ABFE-D33BC61AA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54160" y="701640"/>
            <a:ext cx="4626000" cy="3468600"/>
          </a:xfrm>
          <a:prstGeom prst="rect">
            <a:avLst/>
          </a:prstGeom>
          <a:ln w="0">
            <a:noFill/>
          </a:ln>
        </p:spPr>
      </p:sp>
      <p:sp>
        <p:nvSpPr>
          <p:cNvPr id="11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40B178-5558-4922-B35E-46310DC19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782666A-F795-4B57-AD2C-99BA21793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5DDB2FB-A611-4046-9084-338CB90F7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7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7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6E8892-8072-474C-9D25-09303AFA2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4B30AE-63AA-439C-AC3C-EF6CE473F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1DD96-F0CF-4607-8459-5EE153B7A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0F328-BD3F-4627-BE26-437F8FF6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565BD-EB8F-4561-90C1-C3ED1EDF40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3CAD38-C1B8-4087-91F9-65642F123D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25F2A-DA51-4B00-9FE4-05A044B8A2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58973-9F10-442B-8E21-1F72F8AC3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9BAEB3-2855-4D7E-9C14-2834CB60AE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1B5B5-416D-4511-B92C-158FD4B8A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2C6E1-B63C-4B9D-8C5F-3FDCA07258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93F40D-EDD4-43F6-A9F9-7C0FD8CEA3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2375E7-EB0E-40D7-8004-C899591925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B8B13A-F633-4558-9177-8B256748C5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BAD03-D242-4350-9F04-202D36F8D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60C222-BEF4-4201-9137-F7B07D96AF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C93B37-D647-4A80-9E82-CE660B0BDC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3AB94F-C075-421C-A118-7F43D09B46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EEAE4F-B4A9-4F74-B71D-F2179FAFFE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D5E591-E7CC-495D-86A7-DC708BFEB1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1DC70C-F87B-4374-9858-23D3203108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54A94C-7844-4678-9D7A-EA8400DB58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7E76CC-23C6-46B2-996E-F6A5EF1D7F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997FBD-FEFD-4DC4-BCA7-9498AF525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94E6C1-BBCE-4671-8161-D5005948CD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5DE7B-D437-466C-ACC7-2096B68DE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B12CF1-5EA8-4948-B654-5892B16B06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F31D42-FD26-4735-A6D0-FF74197B9A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FE4131-05CE-44D0-8B49-A30E9B476F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A7D02D-909E-4ADA-993C-675618A227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4F3FCC-B04E-4863-A380-42F8DAB677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5EFC89-129B-4ADD-A275-6EF3CE4472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CF783E-5BB3-4671-8AB2-07532DF967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60EA18-BD21-4DCF-BAF8-C738744483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4432BF-3F9A-412A-9A0C-1DC44B8753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9AA5DA-2750-4D09-9FFD-85FCB328A1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4CF78-968A-4EA4-A812-0A89A25B4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165230-0C81-44BD-A198-3A40B0D500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B660BB-4326-41E7-BA24-9FEE7BEABA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344EE0-48FE-41F7-A3CD-5278D87899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A2513B-62CF-4175-A463-B5FA2294D6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86C265-1E3D-4747-B8EE-4E033F0E91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D916BA-867C-447A-8530-5C8F2490FE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C4BDA7-1B60-481D-9C94-8DF3FA4E51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C17AFE-4045-44F9-B7CB-62B13460EC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E38D8F-665B-4951-AAC3-AA61966F7C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D57CD2-A03F-419F-9CC8-70B6887529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A7FF4-7523-434C-8E60-F6148BE08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EDAC27-18BF-4CF4-8B3E-F9AB2D8996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E233A0-8C8C-4F07-8440-3D9B3C81A2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F4B392-7D51-443A-87A9-AA3B13E42F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91D2B0-C7B3-419D-96A8-330A09FF29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E8AFDC-FD97-4640-9367-3B8DFE85D8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5C924-D908-4B25-81AF-6D1B81BB8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8942C-9ACE-4528-9B44-B9C0AD866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7114B-675E-4DE2-AC54-C6D7671DA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9B512-D23F-4D0A-AF82-52BBFC316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70850-5188-4AAB-A1B6-DEDB5C595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72AA8-9C43-4187-92FC-71533A9E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EDD77-BD85-4231-8448-0EEC2BA4D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C0590-46BE-4516-A9AB-24FD2559D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E3E06-F6EC-44F9-AD1F-EF1BD657D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A859E-A9C1-49C2-96C8-3A1FD1A17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33D3A-8F4D-4D6F-867A-513714F9C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115B40-BC0E-4514-B36C-0E04A3AC6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846BB-4455-4AF7-9AFC-B4B584DEF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D8CDE-5A57-4946-9044-097356A67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0BC90-828A-402B-9824-A13AAF530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515C7-9746-4162-85D2-8B65868CF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B3F5-2F70-4673-A5DB-DE6256112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AC7BB-54DA-47D1-870C-446105D2C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D29E0-68D1-4AEA-AB5A-FA673CF3B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1C387-6666-4776-A592-03223D38B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00439-2560-43C1-8607-E512A0F3A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315F7-93A2-45EE-9A33-FE381436F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5DCED-910F-4073-AB3A-64D5D2DBC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A5449-7FBC-48B6-8FE1-727BF420D6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69A9F-0DA3-4CE0-ABAE-027B7C751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8E090-2A6B-4B7D-96A9-3DCB8E69B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95F37-62F6-4D89-9F7C-5D41506C5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2FA8-4DE6-4BB3-8525-2ADFD0F7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5E790-44D5-4F3F-9023-F0C49AB87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DA20A-8E2B-43B6-B08A-4F29B8B7B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CD1437-6E0D-4BE5-97B9-11C566035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38753-75DE-4422-90C5-017E81552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FA183-8993-47D7-9F45-6FB2D6656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707E7-ADD4-41EF-806F-104B2C31A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66F3A-4E90-4C43-9475-5FCF2E65A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C3D5D-3C3B-47D9-9C8D-7BC7FD35E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4E850C-5017-4BD2-9C87-AFF03A36D7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2FDDEF-0C0C-4DBE-924D-206C0A392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84AE-F635-4B4B-A49B-37016F04A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D9FC8E-F255-4918-BF9F-381BEC888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BE89A-552F-4207-9A9B-51A950438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1751D6-5E4F-4DEB-802C-F677B6DB8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3C64C-73D8-4159-9240-2148C2668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70DB5-E862-4820-985C-F401C6C89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14157-07F8-4231-8507-4FE9A8A79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D1595-ED5A-4A56-8F78-52F450F94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B5681-8DDF-4ABD-B81D-6EA25083E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313B83-434E-4480-BAD7-EADD3AD4B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97302D-61A7-485B-8EAE-1EBA3AD4E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053C4-69AB-4D5A-B8FE-8F4555E9D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E9D61-9E63-484C-B5A6-663EF47015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8E3F3-2735-44E1-A383-8C45E8D3AB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6BD957-4615-4116-A4C9-B124D3E9E4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7660E-D358-4DEF-92F6-CAECB9DA0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BDE80-3926-4314-BE88-94E3C1B9EA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C6B85-A191-404C-8F36-4C96E5500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BC300-0F17-4FA5-B2BB-800CD89E0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28640-0DEA-47C4-8905-163CB7E0D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AE0BC1-FC10-446A-A950-7CE8F538B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0D65A-3BB8-47F7-A76C-28C788B27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3747-E0F5-4E43-BF1C-205A6E6E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C44ACD-05E4-4333-A6D6-D81E2CAC8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54A2E2-7440-4008-A2F6-7BAFEACBB5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1D3DB7-083F-43BF-89A0-B989C1850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BC0BA-27D8-4EC1-8CB9-73E1A19C79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281569-6D94-431B-AE0F-076BE4B99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7E88F-AF41-4297-8A7F-14CD33303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1A0225-79B1-4BA9-8C96-6BC571EDE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F9EA1-FE8F-4C72-852F-72000C3AF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EBC70E-D7F3-4B46-9AA2-886A29696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47AF79-2E03-40AA-96E1-23625E4ED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7995-1753-44DE-9DCD-C0811F3E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96540-47CF-4A95-97FA-8ADC36C33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AD0EE-36E7-4F79-888E-20F39E9DD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5BE02-500D-42D9-8D56-558D08FDD8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AE2BED-FC7B-4F23-A996-280CEB5BA5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852A79-2718-4209-A3AE-00412AC637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612D48-06DE-40D2-9052-436CA1F4BA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96B5A-039F-409B-911D-439E344939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2524E5-4950-4F96-BE0B-E873908D7B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39D3F-D7DD-497E-9AA3-79BB5FE6D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A649D-AC6D-4718-9FF5-A8E96B7D4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4CDE1-0725-4306-A09B-3E452739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9721A-8BB8-4E6D-A57B-1AC738054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28124-195C-4326-B5EE-D7F81E1BD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36BD1-2002-42BD-A266-47E0B3135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D0C03-852F-439F-8E74-1D7AFE9AB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EF071A-DC38-452A-A1E2-E4A5336AA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894375-CAE3-48AB-820C-626DE2B795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C95684-959A-4EAA-B60A-87A9567B3F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DD0365-195F-4003-98BD-FE04036537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A9A262-2CE8-4D86-8B1B-A9470C929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94B1E-FA8F-4E4C-9799-80FB5B4A5D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D5A883F-6635-4C0E-9D2C-242C1702B4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38379B1-3A56-4C13-B301-3E8A4675FA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2BDEFB5-1AB9-4C09-86DE-E8892DDD44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4B751F-5F05-424D-B05F-619C481F60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23FB19-2ED8-46D6-854C-DAD8D5FE82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5B7C55-26D1-442B-AA64-E24886EEF7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E24073-1B3A-46F9-9787-6C8A355B36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BADB9E-A2BB-435E-95AE-B071BF9208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CBCD95E-59FE-47F2-951E-9E41B9B43D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A510CC2-3915-4387-A48C-4C4802FC65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FD8859-FCCE-4411-817D-7CD750C97D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C7EC169-F569-4E4B-A0EC-D327883367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C38FBD-5D4A-4448-9695-8A4A7588B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12163D-8665-4C8E-BC36-48928A32C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2BC352-3439-40C9-B41F-B6DA01144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16DC3A-846E-4037-8140-5788DDD86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4B29FC-7670-4080-8901-53AC008D9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BA9259-7998-4541-B9DF-082068E98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19335D-E66A-4E15-B33C-FFED8790D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6EEC8-A54F-4ED2-8180-47923BB0D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44059D-9A56-4958-955B-9ECE65A4A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0B65A9-F923-4BF8-B75A-AECF120D3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2</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090B7E-4B6F-484B-9B73-20A18B25E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4C68C7-519A-46D6-B929-1F342C001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EFE16D-B706-4773-9194-69C50AE74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rch 10,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69AF9-3544-466B-ADB5-DBBDCD455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D658D3-2FC0-436D-858B-5D49F4ACE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53D6D5-9E22-4B0E-989C-29985DA96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E2E88F-5607-4A0F-B911-C5B34D608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3941E2-2C7E-4F1E-8C45-420749333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48B260-D98E-4C14-8493-96C5F045D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BFAF01-43BE-4A78-8B54-BAA95849C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343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50A824-5072-47C8-AF65-AD99D14F1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605E57-37DC-49BF-B8DC-3D9BDD707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1796BC-BD89-44F6-8900-561B16941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D49689-20C7-4631-9AE2-7741D5A1F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925DD3-4983-4A6E-92CB-80B77AD07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969AF0-C0E3-4081-8F03-CA9EC6768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2A76AB-DBBF-4D2E-8778-C6CA6347F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BC102A-B7EE-45D7-9C3E-FECFB7610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52225A-A387-484C-ADFA-C9F592A5B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E16AE3-2072-47CF-9EB4-48BC33068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42363D-F4C7-4499-A278-712DF04FA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563D25-FDFE-43F0-9FCD-DFC722A2A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C37AAD-ACA4-4E91-B262-81027507A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3BD87AC-D71A-4EA1-93F6-B5B0D61E23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093625-818E-4DF2-A67F-232CE9F5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63F1EA-73E3-473E-BC34-CFF10CD9F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588082-7C51-40D3-B140-FC122FF99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3FFA25-52EA-4238-9272-6F155874F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F7F80A-F84B-4D7A-8DAB-67B182864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CB24E6-1B50-457E-8CBC-830CABD69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77" name=""/>
          <p:cNvGraphicFramePr/>
          <p:nvPr/>
        </p:nvGraphicFramePr>
        <p:xfrm>
          <a:off x="696960" y="1650960"/>
          <a:ext cx="7913520" cy="3343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6CF445-298E-4EE2-8641-AE50817F4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4C1E4B-DBDA-405E-A6CE-E1811469B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4"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789C76-05DF-4404-A603-B371EDDC7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655A79-9B63-4F9F-AD68-80EDBCBFD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8C7247D-AD2B-4D5E-A18D-E1A94EE718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96E04E-AECD-4CE0-8317-75062CA64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9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3A7FA3-CD91-41B8-ACAA-C0638F0AE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Comment Resolution</a:t>
            </a:r>
            <a:endParaRPr b="0" lang="en-US" sz="3200" spc="-1" strike="noStrike">
              <a:solidFill>
                <a:srgbClr val="000000"/>
              </a:solidFill>
              <a:latin typeface="Times New Roman"/>
            </a:endParaRPr>
          </a:p>
        </p:txBody>
      </p:sp>
      <p:sp>
        <p:nvSpPr>
          <p:cNvPr id="8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8, 4041, 4261, 4096, 4057, 4089, 4260, and 431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308r2;</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9, 4093, and 4060 as proposed in 19/031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061 and 4147 as proposed in 19/033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A5B605-2BD0-4491-BD40-C5E844C5A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6:  Comment Resolution</a:t>
            </a:r>
            <a:endParaRPr b="0" lang="en-US" sz="3200" spc="-1" strike="noStrike">
              <a:solidFill>
                <a:srgbClr val="000000"/>
              </a:solidFill>
              <a:latin typeface="Times New Roman"/>
            </a:endParaRPr>
          </a:p>
        </p:txBody>
      </p:sp>
      <p:sp>
        <p:nvSpPr>
          <p:cNvPr id="8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12 and 4232 as proposed in 19/0347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9C3229-EE60-4844-9BBF-30C2B0400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7:  Comment Resolution</a:t>
            </a:r>
            <a:endParaRPr b="0" lang="en-US" sz="3200" spc="-1" strike="noStrike">
              <a:solidFill>
                <a:srgbClr val="000000"/>
              </a:solidFill>
              <a:latin typeface="Times New Roman"/>
            </a:endParaRPr>
          </a:p>
        </p:txBody>
      </p:sp>
      <p:sp>
        <p:nvSpPr>
          <p:cNvPr id="8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03, 4004, 4304, 4305, 4351, 4352, 4358, 4361, 4363, and 4427 as proposed in 19/0350r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804BB3-09FB-455B-AAEB-470585625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8:  Comment Resolution</a:t>
            </a:r>
            <a:endParaRPr b="0" lang="en-US" sz="3200" spc="-1" strike="noStrike">
              <a:solidFill>
                <a:srgbClr val="000000"/>
              </a:solidFill>
              <a:latin typeface="Times New Roman"/>
            </a:endParaRPr>
          </a:p>
        </p:txBody>
      </p:sp>
      <p:sp>
        <p:nvSpPr>
          <p:cNvPr id="8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157, 4190, and 4191 as proposed in 19/0353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 4467 as proposed in 19/0432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30BE20-7045-4DD8-92A7-592BA6F78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9:  Comment Resolution</a:t>
            </a:r>
            <a:endParaRPr b="0" lang="en-US" sz="3200" spc="-1" strike="noStrike">
              <a:solidFill>
                <a:srgbClr val="000000"/>
              </a:solidFill>
              <a:latin typeface="Times New Roman"/>
            </a:endParaRPr>
          </a:p>
        </p:txBody>
      </p:sp>
      <p:sp>
        <p:nvSpPr>
          <p:cNvPr id="8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4210 as proposed in 19/036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34F991-CD4A-487F-A9F3-109F06050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0:  Comment Resolution</a:t>
            </a:r>
            <a:endParaRPr b="0" lang="en-US" sz="3200" spc="-1" strike="noStrike">
              <a:solidFill>
                <a:srgbClr val="000000"/>
              </a:solidFill>
              <a:latin typeface="Times New Roman"/>
            </a:endParaRPr>
          </a:p>
        </p:txBody>
      </p:sp>
      <p:sp>
        <p:nvSpPr>
          <p:cNvPr id="8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461, 4462, 4109, 4141, 4169, 4268, 4460, 4023, 4209, 4208, 4339, 4340, 4342, and 4345 as proposed in 19/032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661A8E-A2D0-482A-929E-CC30C5894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1:  Comment Resolution</a:t>
            </a:r>
            <a:endParaRPr b="0" lang="en-US" sz="3200" spc="-1" strike="noStrike">
              <a:solidFill>
                <a:srgbClr val="000000"/>
              </a:solidFill>
              <a:latin typeface="Times New Roman"/>
            </a:endParaRPr>
          </a:p>
        </p:txBody>
      </p:sp>
      <p:sp>
        <p:nvSpPr>
          <p:cNvPr id="8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8, 4234, and 4477 as proposed in 19/0321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9, 4258, 4036, 4037, 4205, 4311, 4314, 4318, 4319, 4320, and 431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9/0355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F69F8D-9DDD-4A2B-8272-2DACF33E2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2:  TBD</a:t>
            </a:r>
            <a:endParaRPr b="0" lang="en-US" sz="3200" spc="-1" strike="noStrike">
              <a:solidFill>
                <a:srgbClr val="000000"/>
              </a:solidFill>
              <a:latin typeface="Times New Roman"/>
            </a:endParaRPr>
          </a:p>
        </p:txBody>
      </p:sp>
      <p:sp>
        <p:nvSpPr>
          <p:cNvPr id="83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AD24D3-E5FC-428B-BB38-3F2895F61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ABED70-2D27-407C-8B1A-F0B0514D8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72260F8-41CD-4796-93D7-6472B14992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F5A781-FC48-4B12-9B65-BCFD05FEB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3T20:50:21Z</dcterms:modified>
  <cp:revision>8633</cp:revision>
  <dc:subject>Task Group AY November 2015 Meeting Agenda</dc:subject>
  <dc:title>11-19/0229r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