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027283B-F9FA-4CFC-8A0C-64AE951FA7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09A56B-12AF-481D-A1BE-7DD722C9F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32BC6D-1924-401D-87A0-DAF6E044A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6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6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6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149259-4442-4387-B8BB-E7DB741DD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B865C5-8EF3-4EC8-BD8A-260BBFAB3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703F0A-51E9-4318-A6CB-FDDDFA2E6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8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8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8DE1BC-36E1-4073-B585-A32BBC6C8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54160" y="701640"/>
            <a:ext cx="4626000" cy="3468600"/>
          </a:xfrm>
          <a:prstGeom prst="rect">
            <a:avLst/>
          </a:prstGeom>
          <a:ln w="0">
            <a:noFill/>
          </a:ln>
        </p:spPr>
      </p:sp>
      <p:sp>
        <p:nvSpPr>
          <p:cNvPr id="8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54160" y="701640"/>
            <a:ext cx="4626000" cy="3468600"/>
          </a:xfrm>
          <a:prstGeom prst="rect">
            <a:avLst/>
          </a:prstGeom>
          <a:ln w="0">
            <a:noFill/>
          </a:ln>
        </p:spPr>
      </p:sp>
      <p:sp>
        <p:nvSpPr>
          <p:cNvPr id="8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45CB37-7FA0-4D2B-AFA2-688D4862D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08DC85-62AE-4E29-BFE9-BB9B7FDA1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54160" y="701640"/>
            <a:ext cx="4626000" cy="3468600"/>
          </a:xfrm>
          <a:prstGeom prst="rect">
            <a:avLst/>
          </a:prstGeom>
          <a:ln w="0">
            <a:noFill/>
          </a:ln>
        </p:spPr>
      </p:sp>
      <p:sp>
        <p:nvSpPr>
          <p:cNvPr id="8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8E8523-0980-4C40-9B21-7CCFEA28C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4C407A-141B-4F3E-9099-AA6616E39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EECD26-D242-41EB-ADE9-F914C92AF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16"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17"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18"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4FBBF3A0-53BE-4AC5-BAFA-02A5777E1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17440" y="696960"/>
            <a:ext cx="4646880" cy="3486240"/>
          </a:xfrm>
          <a:prstGeom prst="rect">
            <a:avLst/>
          </a:prstGeom>
          <a:ln w="0">
            <a:noFill/>
          </a:ln>
        </p:spPr>
      </p:sp>
      <p:sp>
        <p:nvSpPr>
          <p:cNvPr id="92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doc.: IEEE 802.11-13/0649r1</a:t>
            </a:r>
            <a:endParaRPr b="0" lang="en-US" sz="1400" spc="-1" strike="noStrike">
              <a:solidFill>
                <a:srgbClr val="000000"/>
              </a:solidFill>
              <a:latin typeface="Times New Roman"/>
            </a:endParaRPr>
          </a:p>
        </p:txBody>
      </p:sp>
      <p:sp>
        <p:nvSpPr>
          <p:cNvPr id="922" name="Rectangle 3"/>
          <p:cNvSpPr/>
          <p:nvPr/>
        </p:nvSpPr>
        <p:spPr>
          <a:xfrm>
            <a:off x="650160" y="9612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400" spc="-1" strike="noStrike">
                <a:solidFill>
                  <a:srgbClr val="000000"/>
                </a:solidFill>
                <a:latin typeface="Times New Roman"/>
              </a:rPr>
              <a:t>November 2010</a:t>
            </a:r>
            <a:endParaRPr b="0" lang="en-US" sz="1400" spc="-1" strike="noStrike">
              <a:solidFill>
                <a:srgbClr val="000000"/>
              </a:solidFill>
              <a:latin typeface="Times New Roman"/>
            </a:endParaRPr>
          </a:p>
        </p:txBody>
      </p:sp>
      <p:sp>
        <p:nvSpPr>
          <p:cNvPr id="923" name="Rectangle 6"/>
          <p:cNvSpPr/>
          <p:nvPr/>
        </p:nvSpPr>
        <p:spPr>
          <a:xfrm>
            <a:off x="3960720" y="8985240"/>
            <a:ext cx="2006280" cy="182880"/>
          </a:xfrm>
          <a:prstGeom prst="rect">
            <a:avLst/>
          </a:prstGeom>
          <a:noFill/>
          <a:ln w="0">
            <a:noFill/>
          </a:ln>
        </p:spPr>
        <p:style>
          <a:lnRef idx="0"/>
          <a:fillRef idx="0"/>
          <a:effectRef idx="0"/>
          <a:fontRef idx="minor"/>
        </p:style>
        <p:txBody>
          <a:bodyPr wrap="none" lIns="0" rIns="0" tIns="0" bIns="0" anchor="t">
            <a:spAutoFit/>
          </a:bodyPr>
          <a:p>
            <a:pPr lvl="4" marL="453960"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MS PGothic"/>
              </a:rPr>
              <a:t>Bruce Kraemer (Marvell)</a:t>
            </a:r>
            <a:endParaRPr b="0" lang="en-US" sz="1200" spc="-1" strike="noStrike">
              <a:solidFill>
                <a:srgbClr val="000000"/>
              </a:solidFill>
              <a:latin typeface="Times New Roman"/>
            </a:endParaRPr>
          </a:p>
        </p:txBody>
      </p:sp>
      <p:sp>
        <p:nvSpPr>
          <p:cNvPr id="924" name="Rectangle 7"/>
          <p:cNvSpPr/>
          <p:nvPr/>
        </p:nvSpPr>
        <p:spPr>
          <a:xfrm>
            <a:off x="3015720" y="900432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ge </a:t>
            </a:r>
            <a:fld id="{CA77322F-0DAE-402A-8F5D-5653C7D82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17440" y="696960"/>
            <a:ext cx="4646880" cy="3486240"/>
          </a:xfrm>
          <a:prstGeom prst="rect">
            <a:avLst/>
          </a:prstGeom>
          <a:ln w="0">
            <a:noFill/>
          </a:ln>
        </p:spPr>
      </p:sp>
      <p:sp>
        <p:nvSpPr>
          <p:cNvPr id="92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54160" y="701640"/>
            <a:ext cx="4626000" cy="3468600"/>
          </a:xfrm>
          <a:prstGeom prst="rect">
            <a:avLst/>
          </a:prstGeom>
          <a:ln w="0">
            <a:noFill/>
          </a:ln>
        </p:spPr>
      </p:sp>
      <p:sp>
        <p:nvSpPr>
          <p:cNvPr id="8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F37F0-CA13-465C-A50F-2285F4ACE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54160" y="701640"/>
            <a:ext cx="4626000" cy="3468600"/>
          </a:xfrm>
          <a:prstGeom prst="rect">
            <a:avLst/>
          </a:prstGeom>
          <a:ln w="0">
            <a:noFill/>
          </a:ln>
        </p:spPr>
      </p:sp>
      <p:sp>
        <p:nvSpPr>
          <p:cNvPr id="9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14137A-38B8-4DD4-AB97-1CEF544E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54160" y="701640"/>
            <a:ext cx="4626000" cy="3468600"/>
          </a:xfrm>
          <a:prstGeom prst="rect">
            <a:avLst/>
          </a:prstGeom>
          <a:ln w="0">
            <a:noFill/>
          </a:ln>
        </p:spPr>
      </p:sp>
      <p:sp>
        <p:nvSpPr>
          <p:cNvPr id="9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03841F-7BEB-4319-A01B-0414078EA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8B445C-F7DD-443E-B6D4-83CD568D9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54160" y="701640"/>
            <a:ext cx="4626000" cy="3468600"/>
          </a:xfrm>
          <a:prstGeom prst="rect">
            <a:avLst/>
          </a:prstGeom>
          <a:ln w="0">
            <a:noFill/>
          </a:ln>
        </p:spPr>
      </p:sp>
      <p:sp>
        <p:nvSpPr>
          <p:cNvPr id="9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006F89-AFC0-4374-9C4A-3967D4F02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4160" y="701640"/>
            <a:ext cx="4626000" cy="3468600"/>
          </a:xfrm>
          <a:prstGeom prst="rect">
            <a:avLst/>
          </a:prstGeom>
          <a:ln w="0">
            <a:noFill/>
          </a:ln>
        </p:spPr>
      </p:sp>
      <p:sp>
        <p:nvSpPr>
          <p:cNvPr id="9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66543F-DEAD-4866-A6A9-FC942F531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54160" y="701640"/>
            <a:ext cx="4626000" cy="3468600"/>
          </a:xfrm>
          <a:prstGeom prst="rect">
            <a:avLst/>
          </a:prstGeom>
          <a:ln w="0">
            <a:noFill/>
          </a:ln>
        </p:spPr>
      </p:sp>
      <p:sp>
        <p:nvSpPr>
          <p:cNvPr id="9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E61A3E-678F-44C1-A4A8-39FBFB538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54160" y="701640"/>
            <a:ext cx="4626000" cy="3468600"/>
          </a:xfrm>
          <a:prstGeom prst="rect">
            <a:avLst/>
          </a:prstGeom>
          <a:ln w="0">
            <a:noFill/>
          </a:ln>
        </p:spPr>
      </p:sp>
      <p:sp>
        <p:nvSpPr>
          <p:cNvPr id="9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8EE749-35AE-4F95-8419-9BF1E48C9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4160" y="701640"/>
            <a:ext cx="4626000" cy="3468600"/>
          </a:xfrm>
          <a:prstGeom prst="rect">
            <a:avLst/>
          </a:prstGeom>
          <a:ln w="0">
            <a:noFill/>
          </a:ln>
        </p:spPr>
      </p:sp>
      <p:sp>
        <p:nvSpPr>
          <p:cNvPr id="9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0357AD-A0BF-40D7-9BD5-ECC6D7002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54160" y="701640"/>
            <a:ext cx="4626000" cy="3468600"/>
          </a:xfrm>
          <a:prstGeom prst="rect">
            <a:avLst/>
          </a:prstGeom>
          <a:ln w="0">
            <a:noFill/>
          </a:ln>
        </p:spPr>
      </p:sp>
      <p:sp>
        <p:nvSpPr>
          <p:cNvPr id="9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771BC5-2E10-4B56-8382-8F3AD8907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38EBCB-7F45-47D3-B72E-B40B75A97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75EC7D-294F-4C8B-A3E7-F6987946B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65525B-595E-44AD-8FA7-E7703BB19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C6E273-F1AF-402F-A253-64F7462B2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175912-B3AB-42E0-94A3-9F983F8B8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4160" y="701640"/>
            <a:ext cx="4626000" cy="3468600"/>
          </a:xfrm>
          <a:prstGeom prst="rect">
            <a:avLst/>
          </a:prstGeom>
          <a:ln w="0">
            <a:noFill/>
          </a:ln>
        </p:spPr>
      </p:sp>
      <p:sp>
        <p:nvSpPr>
          <p:cNvPr id="10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354E69-C2BA-441B-AA90-67E745DA0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E27CDE-9AC8-4A72-807F-850465F8E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4160" y="701640"/>
            <a:ext cx="4626000" cy="3468600"/>
          </a:xfrm>
          <a:prstGeom prst="rect">
            <a:avLst/>
          </a:prstGeom>
          <a:ln w="0">
            <a:noFill/>
          </a:ln>
        </p:spPr>
      </p:sp>
      <p:sp>
        <p:nvSpPr>
          <p:cNvPr id="10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04B30-3780-4FE0-9F37-7C3C1FD6C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54160" y="701640"/>
            <a:ext cx="4626000" cy="3468600"/>
          </a:xfrm>
          <a:prstGeom prst="rect">
            <a:avLst/>
          </a:prstGeom>
          <a:ln w="0">
            <a:noFill/>
          </a:ln>
        </p:spPr>
      </p:sp>
      <p:sp>
        <p:nvSpPr>
          <p:cNvPr id="10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7B87DC-F3B8-442C-B061-0A7ABAEB2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347DA7-5E81-4FA4-BBA4-1FF5FDD14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C4BF1A-22DC-4664-B64B-8B3E5CD08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6A81BE-11E8-4D9F-ACF5-97EB16D2E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117CDFA-98E3-4E18-BC1D-EA155F21A7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7680" y="696960"/>
            <a:ext cx="4640400" cy="3479760"/>
          </a:xfrm>
          <a:prstGeom prst="rect">
            <a:avLst/>
          </a:prstGeom>
          <a:ln w="0">
            <a:noFill/>
          </a:ln>
        </p:spPr>
      </p:sp>
      <p:sp>
        <p:nvSpPr>
          <p:cNvPr id="8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235BB0-23CE-4007-BBEB-9459C22AB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54160" y="701640"/>
            <a:ext cx="4626000" cy="3468600"/>
          </a:xfrm>
          <a:prstGeom prst="rect">
            <a:avLst/>
          </a:prstGeom>
          <a:ln w="0">
            <a:noFill/>
          </a:ln>
        </p:spPr>
      </p:sp>
      <p:sp>
        <p:nvSpPr>
          <p:cNvPr id="10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BA86BC-27E7-4DB1-B96B-A743AB967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54160" y="701640"/>
            <a:ext cx="4626000" cy="3468600"/>
          </a:xfrm>
          <a:prstGeom prst="rect">
            <a:avLst/>
          </a:prstGeom>
          <a:ln w="0">
            <a:noFill/>
          </a:ln>
        </p:spPr>
      </p:sp>
      <p:sp>
        <p:nvSpPr>
          <p:cNvPr id="10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701B6C-705A-42AA-A832-06C6B31BB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469230-2F75-4EBC-9719-2B78B5AE8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54160" y="701640"/>
            <a:ext cx="4626000" cy="3468600"/>
          </a:xfrm>
          <a:prstGeom prst="rect">
            <a:avLst/>
          </a:prstGeom>
          <a:ln w="0">
            <a:noFill/>
          </a:ln>
        </p:spPr>
      </p:sp>
      <p:sp>
        <p:nvSpPr>
          <p:cNvPr id="10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B36169-B31D-4DD3-96AC-BE59D6A95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54160" y="701640"/>
            <a:ext cx="4626000" cy="3468600"/>
          </a:xfrm>
          <a:prstGeom prst="rect">
            <a:avLst/>
          </a:prstGeom>
          <a:ln w="0">
            <a:noFill/>
          </a:ln>
        </p:spPr>
      </p:sp>
      <p:sp>
        <p:nvSpPr>
          <p:cNvPr id="10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FBE9C2-1EFA-4765-9D14-DF868B129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8EBCD1-082D-4A9D-8FAE-BFC8BFAB0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54160" y="701640"/>
            <a:ext cx="4626000" cy="3468600"/>
          </a:xfrm>
          <a:prstGeom prst="rect">
            <a:avLst/>
          </a:prstGeom>
          <a:ln w="0">
            <a:noFill/>
          </a:ln>
        </p:spPr>
      </p:sp>
      <p:sp>
        <p:nvSpPr>
          <p:cNvPr id="10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54160" y="701640"/>
            <a:ext cx="4626000" cy="3468600"/>
          </a:xfrm>
          <a:prstGeom prst="rect">
            <a:avLst/>
          </a:prstGeom>
          <a:ln w="0">
            <a:noFill/>
          </a:ln>
        </p:spPr>
      </p:sp>
      <p:sp>
        <p:nvSpPr>
          <p:cNvPr id="10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B5D70F-A29E-4247-AEF7-5D083886C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54160" y="701640"/>
            <a:ext cx="4626000" cy="3468600"/>
          </a:xfrm>
          <a:prstGeom prst="rect">
            <a:avLst/>
          </a:prstGeom>
          <a:ln w="0">
            <a:noFill/>
          </a:ln>
        </p:spPr>
      </p:sp>
      <p:sp>
        <p:nvSpPr>
          <p:cNvPr id="10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119A3F-FB72-4E91-AEB1-42F2FBA3C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54160" y="701640"/>
            <a:ext cx="4626000" cy="3468600"/>
          </a:xfrm>
          <a:prstGeom prst="rect">
            <a:avLst/>
          </a:prstGeom>
          <a:ln w="0">
            <a:noFill/>
          </a:ln>
        </p:spPr>
      </p:sp>
      <p:sp>
        <p:nvSpPr>
          <p:cNvPr id="11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B58CAF-2A4C-4AA3-A862-0E2EB48FD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54FEE55-FBC4-4976-8A02-280D87A627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7680" y="696960"/>
            <a:ext cx="4640400" cy="3479760"/>
          </a:xfrm>
          <a:prstGeom prst="rect">
            <a:avLst/>
          </a:prstGeom>
          <a:ln w="0">
            <a:noFill/>
          </a:ln>
        </p:spPr>
      </p:sp>
      <p:sp>
        <p:nvSpPr>
          <p:cNvPr id="8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70212A-53C7-481B-867B-63FACCE2D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54160" y="701640"/>
            <a:ext cx="4626000" cy="3468600"/>
          </a:xfrm>
          <a:prstGeom prst="rect">
            <a:avLst/>
          </a:prstGeom>
          <a:ln w="0">
            <a:noFill/>
          </a:ln>
        </p:spPr>
      </p:sp>
      <p:sp>
        <p:nvSpPr>
          <p:cNvPr id="11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8A9A36-E73B-4DC1-9874-32A153C38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F34B69-B8C7-4FBD-B93C-D8008C88F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D88964-AAF8-476C-AF2F-34AB37852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2E4300F-7D58-4EF5-835A-E521823F7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64E271-4296-4C78-97E2-35248481A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B0DEBD-BA7B-41BE-B4D7-D484EC30F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3DBC3-5A4A-4E35-972A-C3F5EC5D6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0C12D-7C01-492C-AB85-1B4BF9E5D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C5B6A8-05FE-40F6-AC1E-297C752EA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35E79F-8435-49B1-91A7-814DBD2B04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48B7F9-A57C-4D89-A94B-AACC17974B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E7708C-E121-4CFE-B7F7-67BBDA351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AA519-68C5-45AA-AAFD-32DC5BAF0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30C17-8739-4E59-B378-522572814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6483A-9D46-4B1B-83D4-09BDFE4E18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F6F833-AF30-448D-8A1A-D9916DC2AE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6B0F5B-681A-4470-B941-8CB23990C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685465-1914-4153-93E6-C594540FCD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E5B4-A7FA-4E45-9144-7CB4208E5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66825B-7098-4A89-A46A-885E51A244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06324C-19AF-42FB-A310-2C9BB338A0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7CB439-3D52-4C4F-90DC-E0B629DBC7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18EC23-6E23-4592-9A6E-8E84704E9D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D2A860-2EBA-45D5-B542-CDFEAC0A3B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F53DDA-9EE6-4A0C-A82E-1D9AF5FB4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763F97-41ED-4DD8-8B3C-23D192D963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1F977D-C9F5-4197-9D0E-C19DD3C6EC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F1EE01-921E-4EBF-8716-073691E5F0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1359C6-F590-4AD9-B551-03BD3EA27A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FB9DC-63D3-46F5-84EE-A3287ADEE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2D830B-2FEF-43C4-8530-26E67C87F4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201F27-24A6-49D6-8A1C-FEA2D7FFA3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F5217D-3B51-41DF-8D6B-241E590EFD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FD2042-D674-4898-BE76-9CB2A5BC8C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6F9BE2-2CD0-4A64-A52D-AE41DD518D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E14260-24AC-407A-8B05-E64A751B5C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0A5868-CC2D-4F2C-B32F-BAE38CF086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2A0892-4E82-4F6C-B2BF-0DE320E973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046414-CEB0-44CB-BCF4-ED7591F835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E1081B-74C7-42C5-92D8-2C3524D7B6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5318D-3D99-4966-9657-3B4B70E00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695F7D-8A47-4959-B759-5E7A0AEA3A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C28B40-1B73-4187-B0A4-85B3EC3A8D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0ACDFE-F3C8-4CF8-ACD9-FD395E1CAB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51229D-EA04-410B-81FF-2D56D9BA5E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92CD02-871A-4624-873A-2E2ACBD4CA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F5CCF2-3611-43EB-BBC0-9DD2D9DCCF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44ACEC-A8BF-40D8-96C4-047CD59ACE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CE2275-B5B6-4F70-879B-D6A5A90373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A8AC3C-3426-4EF8-945E-12B5E77A9B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2FA132-01DC-4823-B161-AB13080109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75E22-746E-4507-B1B3-DC670970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67C1B6-6B6F-467B-9F7A-ED98C7BC75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3A284-34CD-49A0-9BB2-F9EDE87323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B415DA-BC0C-41B1-ACE6-F15457F7F8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D1D70F-78B6-4319-936E-A192EB9FAC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A1226F-EAB2-4C12-85D3-45C761C141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9D2C5-7D40-4E34-938C-E2433DFC8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A402F-7297-4AEA-98C0-198DED738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7BFAC-FA5D-4483-8D57-5090A5B31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5F1C2-8036-4851-9D0F-1AE9B5F9F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BA83-FB88-4FEC-9D65-2F389BF5E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CBBEE-BB5E-4163-9112-5D4A115C3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7A30F-BF47-439A-9077-80F50C77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701E-4468-4831-B737-8A6972AE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4A950-F4E0-42EA-A6B0-652E22AB1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03B32-A61C-4A4D-8AD9-50FBC1D77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9684B-4FEF-4963-B0F2-C9F5CCDD4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73ABE-A1AC-4D78-9D8D-D4662B522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C96E1-B415-4DDC-A305-B595DAE0E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B8428-2F78-475B-ADE8-37C3DC0B1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D8325A-CB40-4966-8D0C-0F7F21236A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BF43D-1A6E-4402-B111-5855C7C9F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2226-71DC-40AD-9236-4BD4301A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550C9-8006-489D-83DB-76E284055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C1F77-A0A8-4BF0-828D-4B7BCC254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7E641-C785-4242-A802-8C011BE10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38DD8-09C9-4052-AC75-D53D61CA0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B6717-8BEA-410F-B1D1-8DD5BF95C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91B13F-43C5-432A-82F1-552C76E4A8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F5435-E5CB-4B8B-8DB9-7E0989CDC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1C002-0E72-40ED-B919-E4BA004230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7B8C1-E383-4758-BC58-FD752BBB7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52802-F8C4-44FC-935E-4FD0C963E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AFDC-7B9E-4719-9868-70EC127C1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DCDA7-B8DA-4C10-8103-21131213E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FDAB6-1733-464E-8B04-22DCAEC9D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59D94-C6AD-4997-BC81-00977495D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B2B54-CA0F-4501-A39D-547872740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E122D-C141-4132-BABF-58C2B721A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1B8DC-952C-4212-926F-928ECD782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1275E-5BD2-49C1-8D4F-E4521CA08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9AB70-D8F6-488B-915C-D0B3E55F9B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EF9227-5C96-4F49-B26A-F33FCE0A6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3539C8-A622-4CE1-8333-22DA12B06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16D0-B198-4647-BB4C-A5E48DD8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C928ED-08E6-4716-B2BA-70120A57F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199A0-FC74-4101-9C96-A4FD33FEC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C7C09-6C87-49C6-A1C3-D1919F302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7FE7C-B657-441C-84B1-AC4E4462E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1330C-7999-45AC-827A-9CF940910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C3582-B842-4CBB-831F-8B42EC602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F3EC5-817B-41BD-A08F-D20484554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11991-BA26-4CAE-8D82-815916607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49D61-5107-4353-91DF-9FFCDDEFC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AF43C-2BC2-4D37-8D36-9803FE4B0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4518-11EC-4385-98FC-07C8F4483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FAC93-6A75-47A3-BFBD-58373F7A3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72D479-42FD-4AE0-8198-C907D99498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24365-CA08-485C-90C8-D84EAA9D4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96781-CCF2-40E8-A883-5CE1D4178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71942-FD89-406A-AC63-BBA8A6BCA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536C6-A997-489D-AC23-AE7D8346C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28043-A049-4296-B21D-4B2182A21E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AEF88-56FA-4EE8-A3E8-72DCF2399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678D1-B129-4558-B38B-D3F6CF406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90C77-BE44-4233-96A4-06477293F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6821-09B8-48EB-B6BA-22705FC3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B0AA1-88A5-4223-BAAD-9698FEF43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017CD-F708-484D-AF86-86D703E97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574FFA-BC4B-4605-BCFB-72A4629DD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E6031-F8D7-4671-9B6F-12FF11712D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077AD-06CA-4929-99AA-AB6C6A93E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6DB88-DE7C-4966-B4D6-833644E91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2D6B9-8432-40D1-A7D0-BC07B0461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991494-0AF4-4A15-8102-40DC70CF6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F7873F-3065-4743-A8B9-CF0CDD1A71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C8A21-C359-478C-9677-2A35B05FC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FF3E-93C3-4DDE-B796-FBC2FC1D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45E9F-3491-4417-9860-FA516B3B7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BEB03-49E5-476E-80FF-9EB478B24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D6A07-7E7D-465D-A21C-CB99A0F7E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CAD010-D322-4931-B766-024A8FEA96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E1D14F-DA65-4E39-A4BA-6FA7AF53D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64CDA9-E312-4CB0-B2B8-A907EEB995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B00131-73CF-45E6-90F3-8ADB9EF06C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28E952-0A97-4DA7-A0C5-01F96F5691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4E1B4-E58B-4B9E-99F2-919CCF8B19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5FF116-8402-4F8A-8878-EBBBC9F69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990A-6737-4908-A7D7-4A30D916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0F64F-8878-4EB0-AE3A-E47F6F2D9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ECEC0-C708-4B83-8FB5-2B5F3D510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80F27-BFCE-493F-B141-71F9EC911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34287-AD91-46A8-9427-5664F2506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9BF2F-035D-499D-81D0-A921AC4AA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FB45B-0F9B-4FC6-AB0B-86F93FC39A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6E2A26-1A6C-4BED-ADCA-B88E917AA7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50E0BD-9DF0-4896-88A4-DF552303F9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EEFC3-3F7D-461A-BC4F-913962EE5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17AA13-B715-4092-8A3C-0356C9D723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4C2EEC-86DC-4429-892A-F855582AD6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8EF1BD-E10B-4DAC-B0E4-BADF6057F2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9574682-F4B3-4F70-8738-72328F4112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9C5A3A7-4C69-4253-80C4-6E34F489B5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3B96D11-4315-4537-8D9C-C070E61612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7FD22A-830A-4861-B84E-3ED1B6031F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ECC855-016F-4B9A-8531-5B70BDC09E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D603DCD-8215-4476-B12A-A8267001B8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F42AAE-E2AE-407E-A18E-022069DA25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3B4E3A-5542-474B-9C11-5C5E445BB7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6A18F4-98E6-4F81-BB16-4DC2105306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229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EC53BC9-0ED7-487F-B0F9-AAD621C76D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9/11-19-0225-00-00ay-tg-ay-january-2019-st-loui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9/11-19-0307-00-00ay-tg-ay-march-1-2019-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025818-C2D4-4FEC-AE2C-D74D8F611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3-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5738A2-94F7-4B81-A85D-083673264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2A7108-97EA-4B6F-A15A-5220EC3E2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EE4A9F-AD5E-4C2E-BDEC-9E4648D0D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11B57F-563D-4568-A6E4-3BAFF659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gency B</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026DB4-CD0A-4135-B2FD-AF762D78A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23A8ED-2B3C-4F11-9C4B-EC46A660F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January 2019 interim</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5D0E53-12D5-4D49-BA77-92D62161E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4CF524-C774-4D3A-A7F8-C4524F8D2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9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ll open CIDs are reviewed, resolved, and approv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ssurance document (17/1288r3) is reaffirmed</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Passed a motion to prepare D3.0 and start a 15 day recirculation Working Group technical letter ballot</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1293D4-4A9A-4974-9A49-D40124B17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1)</a:t>
            </a:r>
            <a:endParaRPr b="1" lang="en-US" sz="3200" spc="-1" strike="noStrike">
              <a:solidFill>
                <a:srgbClr val="000000"/>
              </a:solidFill>
              <a:latin typeface="Times New Roman"/>
            </a:endParaRPr>
          </a:p>
        </p:txBody>
      </p:sp>
      <p:sp>
        <p:nvSpPr>
          <p:cNvPr id="644"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 with 93.1% approval</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8 comments:  338 technical,  133 editorial,  7 general</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database:  19/0297r2</a:t>
            </a:r>
            <a:endParaRPr b="0" lang="en-US" sz="20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pproval rate of the LB #234 for D2.0:  92.8%</a:t>
            </a:r>
            <a:endParaRPr b="0" lang="en-US" sz="20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4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9F9BA0-A3CA-4FFB-ADC7-7A0E1A0E6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09480" y="6858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irculation LB #239 for D3.0 (2)</a:t>
            </a:r>
            <a:endParaRPr b="1" lang="en-US" sz="3200" spc="-1" strike="noStrike">
              <a:solidFill>
                <a:srgbClr val="000000"/>
              </a:solidFill>
              <a:latin typeface="Times New Roman"/>
            </a:endParaRPr>
          </a:p>
        </p:txBody>
      </p:sp>
      <p:sp>
        <p:nvSpPr>
          <p:cNvPr id="649" name=""/>
          <p:cNvSpPr txBox="1"/>
          <p:nvPr/>
        </p:nvSpPr>
        <p:spPr>
          <a:xfrm>
            <a:off x="685800" y="1828440"/>
            <a:ext cx="7772400" cy="4419720"/>
          </a:xfrm>
          <a:prstGeom prst="rect">
            <a:avLst/>
          </a:prstGeom>
          <a:noFill/>
          <a:ln w="0">
            <a:noFill/>
          </a:ln>
        </p:spPr>
        <p:txBody>
          <a:bodyPr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No” voters</a:t>
            </a:r>
            <a:endParaRPr b="1" lang="en-US" sz="24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keep their “No” votes</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ed unsatisfied comments:  CIDs 4285, 4288, 4463, 4470, 4471, 4472, 4473</a:t>
            </a:r>
            <a:endParaRPr b="0" lang="en-US" sz="1800" spc="-1" strike="noStrike">
              <a:solidFill>
                <a:srgbClr val="000000"/>
              </a:solidFill>
              <a:latin typeface="Times New Roman"/>
            </a:endParaRPr>
          </a:p>
          <a:p>
            <a:pPr lvl="1" marL="743040" indent="-28584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voters change their votes to “No” because of different reasons, e.g., unsatisfied comments, new text, the duration of the letter ballot:</a:t>
            </a:r>
            <a:endParaRPr b="0" lang="en-US" sz="20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atisfied comments:  CID 40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ext:  CIDs 4309, 4416, 4474, 4475, 4476, 4477</a:t>
            </a:r>
            <a:endParaRPr b="0" lang="en-US" sz="1800" spc="-1" strike="noStrike">
              <a:solidFill>
                <a:srgbClr val="000000"/>
              </a:solidFill>
              <a:latin typeface="Times New Roman"/>
            </a:endParaRPr>
          </a:p>
          <a:p>
            <a:pPr lvl="2" marL="1085760" indent="-228600" algn="just">
              <a:spcBef>
                <a:spcPts val="5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0 - 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A0D7E9-4734-4371-9DA7-141BE5220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91AEE2-6A0B-4FF7-9CF6-F68F0CE03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rch 10, 2019)</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A15764-8600-411D-8336-A99012D42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3: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9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January 2019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225-00-00ay-tg-ay-january-2019-st-louis-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p:txBody>
      </p:sp>
      <p:sp>
        <p:nvSpPr>
          <p:cNvPr id="6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ED6D0C-6F04-42C8-95F5-0E813113C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 on March 1,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07-00-00ay-tg-ay-march-1-2019-conference-call-meeting-minutes.docx</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Pass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7C7E5C-69EA-42CD-B412-0325BD8BF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29BF28-6A39-4D70-95F7-49708D68C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DD138F-8049-4A51-83C7-E78DDFB64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688E2-D963-401B-B9DF-E49DC3511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75CFE4-BAC9-45BC-8E81-C46C9BDD4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11EF84-C0BB-4A47-9311-43A118854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F68235-12EE-4BA6-9D94-502E12761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January 2019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1, 8:00am – 10:00am </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Ma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5D8BE4-5F15-4830-B412-42799B041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9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F89993-E107-4E24-9DF3-24878CC77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47A7BE-D776-4484-BA9A-2564D5EEC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5A3B78-D70E-4D2B-8213-7071F93F0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D8C091-30C7-4747-9A86-4C292B0C4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cope of comments for recirculation ballo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0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NTX and NST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1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Link Margin El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074B8C-C68E-44A9-A6EB-21A0D9697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172729-4437-4CFC-9A16-BEF4CADCE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69A110-7670-4096-B82A-C7F64185B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96960" y="1650960"/>
          <a:ext cx="7913520" cy="41814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s 4212, 4232, 4286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067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s 4003, 4004, 4026, 4284, 4304, 4305, 4351, 4352, 4357, 4358, 4360, 4361, 4362, 4363, 4365, 442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link loss maintenanc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related to TXVECTO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tozuka Hiroyu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467 spatial mapp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kenori Sakamot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4210 and 42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90BDAD-77ED-453F-AFAF-D5480FC9F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7501F8-00C2-496F-9D8E-1E2FE97FD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1B6824-81B4-401B-8518-B8577B3E8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4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96960" y="1650960"/>
          <a:ext cx="7913520" cy="35733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comment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sc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on link measure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4061 and 414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10054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if needed)</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FC679BB-2D66-4B9B-945A-66B6DC644E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35C7C1-8E30-4D51-BC90-78516B486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F9086C-54EB-4F07-BF20-9D63354A7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7C8CC1-1471-4439-9C62-0AF047967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96960" y="1650960"/>
          <a:ext cx="7913520" cy="20160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3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MIMO BF: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spatial shar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C06D2E-D58A-46E1-BB8D-690F7D636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F17A23-202D-45E7-85E4-74B8FD55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5DD502-FB48-4042-9212-526EE94FC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77"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PHY measurement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E4F8CF-2858-4483-B11B-60F7A5FCF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29D561-8CE2-45FB-BA81-B0F68BB06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4"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B14AF0-B55E-492E-94AC-10B01C0D6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8E74B7-A350-4B3B-9323-D1461E484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9 interim</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FFFB6D7-A710-4BB8-9DBB-CA1155C88C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B4961E-5DDE-4FF6-9037-3E8905AE7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9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2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3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0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17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ril 24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1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0FC419-50F0-420B-95E1-32615D21A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5:  Comment Resolution</a:t>
            </a:r>
            <a:endParaRPr b="0" lang="en-US" sz="3200" spc="-1" strike="noStrike">
              <a:solidFill>
                <a:srgbClr val="000000"/>
              </a:solidFill>
              <a:latin typeface="Times New Roman"/>
            </a:endParaRPr>
          </a:p>
        </p:txBody>
      </p:sp>
      <p:sp>
        <p:nvSpPr>
          <p:cNvPr id="803"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8, 4041, 4261, 4096, 4057, 4089, 4260, and 4312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308r1;</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39, 4093, 4060 as proposed in 19/0318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D0CD97-603D-4074-95EE-F4E71AF57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6:  TBD</a:t>
            </a:r>
            <a:endParaRPr b="0" lang="en-US" sz="3200" spc="-1" strike="noStrike">
              <a:solidFill>
                <a:srgbClr val="000000"/>
              </a:solidFill>
              <a:latin typeface="Times New Roman"/>
            </a:endParaRPr>
          </a:p>
        </p:txBody>
      </p:sp>
      <p:sp>
        <p:nvSpPr>
          <p:cNvPr id="808"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TBD]</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8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496A96-41C8-4AB6-B2AF-6023F3FA4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F6AB09-5B7A-4625-BF2D-9DD58255C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3486FE8-D2CF-4972-AF85-4848A6C52E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584468-0F8A-484E-8F66-F0BA45678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9</cp:keywords>
  <dc:language>en-US</dc:language>
  <cp:lastModifiedBy>Edward Au</cp:lastModifiedBy>
  <cp:lastPrinted>2014-11-04T15:04:57Z</cp:lastPrinted>
  <dcterms:modified xsi:type="dcterms:W3CDTF">2019-03-12T09:36:18Z</dcterms:modified>
  <cp:revision>8579</cp:revision>
  <dc:subject>Task Group AY November 2015 Meeting Agenda</dc:subject>
  <dc:title>11-19/0229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