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3CF3474-7351-4E4D-912F-95D314C8F9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DB087E-046F-4C90-8169-20B7AD106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192B0C-A34E-4242-B4A5-BC3BE4035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6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6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6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E3541D-5431-42E2-A049-13EFE2DD3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C0DA18-23CA-475B-AB53-02AE5AB1B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790A24-540D-49DD-9EBA-7182B5787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54160" y="701640"/>
            <a:ext cx="4626000" cy="3468600"/>
          </a:xfrm>
          <a:prstGeom prst="rect">
            <a:avLst/>
          </a:prstGeom>
          <a:ln w="0">
            <a:noFill/>
          </a:ln>
        </p:spPr>
      </p:sp>
      <p:sp>
        <p:nvSpPr>
          <p:cNvPr id="8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8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8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8FE93B-369C-4C13-A5A8-3A6E498A3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54160" y="701640"/>
            <a:ext cx="4626000" cy="3468600"/>
          </a:xfrm>
          <a:prstGeom prst="rect">
            <a:avLst/>
          </a:prstGeom>
          <a:ln w="0">
            <a:noFill/>
          </a:ln>
        </p:spPr>
      </p:sp>
      <p:sp>
        <p:nvSpPr>
          <p:cNvPr id="8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D326D1-B9E5-406C-A3C5-F019BBBC5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3C6EF1-CE96-4B0E-8A97-16FB3BC43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54160" y="701640"/>
            <a:ext cx="4626000" cy="3468600"/>
          </a:xfrm>
          <a:prstGeom prst="rect">
            <a:avLst/>
          </a:prstGeom>
          <a:ln w="0">
            <a:noFill/>
          </a:ln>
        </p:spPr>
      </p:sp>
      <p:sp>
        <p:nvSpPr>
          <p:cNvPr id="8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6D654E-6947-48EA-A421-1598A9401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0A25A0-62F7-48B3-BC9A-5C5BD1F8A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54160" y="701640"/>
            <a:ext cx="4626000" cy="3468600"/>
          </a:xfrm>
          <a:prstGeom prst="rect">
            <a:avLst/>
          </a:prstGeom>
          <a:ln w="0">
            <a:noFill/>
          </a:ln>
        </p:spPr>
      </p:sp>
      <p:sp>
        <p:nvSpPr>
          <p:cNvPr id="9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E85767-2830-4C5C-8E5A-E87B45549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1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1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1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95DB8E8B-3801-437E-A32B-A054B6E55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17440" y="696960"/>
            <a:ext cx="4646880" cy="3486240"/>
          </a:xfrm>
          <a:prstGeom prst="rect">
            <a:avLst/>
          </a:prstGeom>
          <a:ln w="0">
            <a:noFill/>
          </a:ln>
        </p:spPr>
      </p:sp>
      <p:sp>
        <p:nvSpPr>
          <p:cNvPr id="92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2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2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2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B4FD5FDF-C1BC-4CB3-9634-54383D2C9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17440" y="696960"/>
            <a:ext cx="4646880" cy="3486240"/>
          </a:xfrm>
          <a:prstGeom prst="rect">
            <a:avLst/>
          </a:prstGeom>
          <a:ln w="0">
            <a:noFill/>
          </a:ln>
        </p:spPr>
      </p:sp>
      <p:sp>
        <p:nvSpPr>
          <p:cNvPr id="92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54160" y="701640"/>
            <a:ext cx="4626000" cy="3468600"/>
          </a:xfrm>
          <a:prstGeom prst="rect">
            <a:avLst/>
          </a:prstGeom>
          <a:ln w="0">
            <a:noFill/>
          </a:ln>
        </p:spPr>
      </p:sp>
      <p:sp>
        <p:nvSpPr>
          <p:cNvPr id="8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2DE851-E6E5-42D7-B2F4-4F35FBAE3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54160" y="701640"/>
            <a:ext cx="4626000" cy="3468600"/>
          </a:xfrm>
          <a:prstGeom prst="rect">
            <a:avLst/>
          </a:prstGeom>
          <a:ln w="0">
            <a:noFill/>
          </a:ln>
        </p:spPr>
      </p:sp>
      <p:sp>
        <p:nvSpPr>
          <p:cNvPr id="9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2FDDFB-30B8-4497-864C-1DBC185BB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AACAEC-A490-4CAB-9A1A-164780B66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8533C2-C3BF-4004-A780-44780FEB1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54160" y="701640"/>
            <a:ext cx="4626000" cy="3468600"/>
          </a:xfrm>
          <a:prstGeom prst="rect">
            <a:avLst/>
          </a:prstGeom>
          <a:ln w="0">
            <a:noFill/>
          </a:ln>
        </p:spPr>
      </p:sp>
      <p:sp>
        <p:nvSpPr>
          <p:cNvPr id="9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323B64-6938-4225-BF65-CD177504B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4160" y="701640"/>
            <a:ext cx="4626000" cy="3468600"/>
          </a:xfrm>
          <a:prstGeom prst="rect">
            <a:avLst/>
          </a:prstGeom>
          <a:ln w="0">
            <a:noFill/>
          </a:ln>
        </p:spPr>
      </p:sp>
      <p:sp>
        <p:nvSpPr>
          <p:cNvPr id="9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EAA2FA-17A9-4DCD-8640-64E50604F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417965-EAAD-4AE0-A58F-9D99DE1B1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959DCD-BA6E-4739-8B41-253FF5A82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6CE6E0-83CF-4606-95C9-5FF8B00BA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D58F76-788A-49EB-919B-65637986C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55A709-EAA5-442B-A8C0-033CD41E1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C632B1-179E-427C-9826-94B3B1CCC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B66328-8B54-4DF1-A4F9-AD5D0BA44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F61BD7-B992-4304-A3FA-CE1CF7AB9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54160" y="701640"/>
            <a:ext cx="4626000" cy="3468600"/>
          </a:xfrm>
          <a:prstGeom prst="rect">
            <a:avLst/>
          </a:prstGeom>
          <a:ln w="0">
            <a:noFill/>
          </a:ln>
        </p:spPr>
      </p:sp>
      <p:sp>
        <p:nvSpPr>
          <p:cNvPr id="10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FBDE5A-BAD1-47AE-8921-DE4C062CB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C813E8-3F0D-43F7-85DB-E49050AD6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236B72-28B8-40A3-BBC8-DC9D3A79A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4160" y="701640"/>
            <a:ext cx="4626000" cy="3468600"/>
          </a:xfrm>
          <a:prstGeom prst="rect">
            <a:avLst/>
          </a:prstGeom>
          <a:ln w="0">
            <a:noFill/>
          </a:ln>
        </p:spPr>
      </p:sp>
      <p:sp>
        <p:nvSpPr>
          <p:cNvPr id="10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84B875-A290-490C-BDD5-07EF79A3F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D77233-0BE9-4FB9-A60D-C9340D476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842226-A202-4FCE-AB81-4A56E9439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03BB63-B780-45D5-8EE5-3BD0EF0EA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6E6A1D-0961-41CC-933A-BDD757355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DD76673-8971-4A8B-9B12-CBC0A4967F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7680" y="696960"/>
            <a:ext cx="4640400" cy="3479760"/>
          </a:xfrm>
          <a:prstGeom prst="rect">
            <a:avLst/>
          </a:prstGeom>
          <a:ln w="0">
            <a:noFill/>
          </a:ln>
        </p:spPr>
      </p:sp>
      <p:sp>
        <p:nvSpPr>
          <p:cNvPr id="8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FA68C8-6028-4879-81BA-116796E84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54160" y="701640"/>
            <a:ext cx="4626000" cy="3468600"/>
          </a:xfrm>
          <a:prstGeom prst="rect">
            <a:avLst/>
          </a:prstGeom>
          <a:ln w="0">
            <a:noFill/>
          </a:ln>
        </p:spPr>
      </p:sp>
      <p:sp>
        <p:nvSpPr>
          <p:cNvPr id="10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54160" y="701640"/>
            <a:ext cx="4626000" cy="3468600"/>
          </a:xfrm>
          <a:prstGeom prst="rect">
            <a:avLst/>
          </a:prstGeom>
          <a:ln w="0">
            <a:noFill/>
          </a:ln>
        </p:spPr>
      </p:sp>
      <p:sp>
        <p:nvSpPr>
          <p:cNvPr id="10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168308-89C0-401F-B9C2-35BBF1338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54160" y="701640"/>
            <a:ext cx="4626000" cy="3468600"/>
          </a:xfrm>
          <a:prstGeom prst="rect">
            <a:avLst/>
          </a:prstGeom>
          <a:ln w="0">
            <a:noFill/>
          </a:ln>
        </p:spPr>
      </p:sp>
      <p:sp>
        <p:nvSpPr>
          <p:cNvPr id="10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0A7CCE-D121-4558-8CE1-0CA11178F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4AD0BA-875D-4CE5-A3EC-0DBA71F07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54160" y="701640"/>
            <a:ext cx="4626000" cy="3468600"/>
          </a:xfrm>
          <a:prstGeom prst="rect">
            <a:avLst/>
          </a:prstGeom>
          <a:ln w="0">
            <a:noFill/>
          </a:ln>
        </p:spPr>
      </p:sp>
      <p:sp>
        <p:nvSpPr>
          <p:cNvPr id="10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54160" y="701640"/>
            <a:ext cx="4626000" cy="3468600"/>
          </a:xfrm>
          <a:prstGeom prst="rect">
            <a:avLst/>
          </a:prstGeom>
          <a:ln w="0">
            <a:noFill/>
          </a:ln>
        </p:spPr>
      </p:sp>
      <p:sp>
        <p:nvSpPr>
          <p:cNvPr id="10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ACE60A-AAFF-4CC2-8B6E-5F8D95E92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54160" y="701640"/>
            <a:ext cx="4626000" cy="3468600"/>
          </a:xfrm>
          <a:prstGeom prst="rect">
            <a:avLst/>
          </a:prstGeom>
          <a:ln w="0">
            <a:noFill/>
          </a:ln>
        </p:spPr>
      </p:sp>
      <p:sp>
        <p:nvSpPr>
          <p:cNvPr id="10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11EC7B-40FA-48CF-8F25-F588395A6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534F55-6BFE-41CA-A6D9-DCA00AD57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54160" y="701640"/>
            <a:ext cx="4626000" cy="3468600"/>
          </a:xfrm>
          <a:prstGeom prst="rect">
            <a:avLst/>
          </a:prstGeom>
          <a:ln w="0">
            <a:noFill/>
          </a:ln>
        </p:spPr>
      </p:sp>
      <p:sp>
        <p:nvSpPr>
          <p:cNvPr id="10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54160" y="701640"/>
            <a:ext cx="4626000" cy="3468600"/>
          </a:xfrm>
          <a:prstGeom prst="rect">
            <a:avLst/>
          </a:prstGeom>
          <a:ln w="0">
            <a:noFill/>
          </a:ln>
        </p:spPr>
      </p:sp>
      <p:sp>
        <p:nvSpPr>
          <p:cNvPr id="10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FBB375-9833-4D63-B8F3-0AC9C8ADC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54160" y="701640"/>
            <a:ext cx="4626000" cy="3468600"/>
          </a:xfrm>
          <a:prstGeom prst="rect">
            <a:avLst/>
          </a:prstGeom>
          <a:ln w="0">
            <a:noFill/>
          </a:ln>
        </p:spPr>
      </p:sp>
      <p:sp>
        <p:nvSpPr>
          <p:cNvPr id="10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9F0D7A-DF47-4D6F-934F-D23D52302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54160" y="701640"/>
            <a:ext cx="4626000" cy="3468600"/>
          </a:xfrm>
          <a:prstGeom prst="rect">
            <a:avLst/>
          </a:prstGeom>
          <a:ln w="0">
            <a:noFill/>
          </a:ln>
        </p:spPr>
      </p:sp>
      <p:sp>
        <p:nvSpPr>
          <p:cNvPr id="11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5922CB-0ED9-4497-B97D-AA66D3CA8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521CBB3-103B-43DC-BA3D-C1B1AF284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7680" y="696960"/>
            <a:ext cx="4640400" cy="3479760"/>
          </a:xfrm>
          <a:prstGeom prst="rect">
            <a:avLst/>
          </a:prstGeom>
          <a:ln w="0">
            <a:noFill/>
          </a:ln>
        </p:spPr>
      </p:sp>
      <p:sp>
        <p:nvSpPr>
          <p:cNvPr id="8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54160" y="701640"/>
            <a:ext cx="4626000" cy="3468600"/>
          </a:xfrm>
          <a:prstGeom prst="rect">
            <a:avLst/>
          </a:prstGeom>
          <a:ln w="0">
            <a:noFill/>
          </a:ln>
        </p:spPr>
      </p:sp>
      <p:sp>
        <p:nvSpPr>
          <p:cNvPr id="11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15A295-1161-49D6-8234-0B79EA3E9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54160" y="701640"/>
            <a:ext cx="4626000" cy="3468600"/>
          </a:xfrm>
          <a:prstGeom prst="rect">
            <a:avLst/>
          </a:prstGeom>
          <a:ln w="0">
            <a:noFill/>
          </a:ln>
        </p:spPr>
      </p:sp>
      <p:sp>
        <p:nvSpPr>
          <p:cNvPr id="11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5CEB08-88FF-4ADD-B170-AE1EC0510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54160" y="701640"/>
            <a:ext cx="4626000" cy="3468600"/>
          </a:xfrm>
          <a:prstGeom prst="rect">
            <a:avLst/>
          </a:prstGeom>
          <a:ln w="0">
            <a:noFill/>
          </a:ln>
        </p:spPr>
      </p:sp>
      <p:sp>
        <p:nvSpPr>
          <p:cNvPr id="11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7C4D9A-41F6-46DE-9BB5-0C18C9113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FBD595-633D-4AB5-A5D0-D67B3BCA3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2ED09F6-6D84-4571-8037-DCED259EF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AF300F-A755-479F-AF6F-44AA5FAA5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ED866D-24D9-425A-8AEA-4D54A2F51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10558-D13B-4A7B-A1D2-3C17CE2AC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2709-DAB1-443B-8665-38F38AF96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3C3531-6C91-4CD6-9714-E64EF8CF8A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17E9E-1B44-4DC0-A265-51DF56E0D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7728C9-B22E-492B-AA71-60375EFE5A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5A932-2D29-436D-9A3B-794C5D353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EF110A-A4BC-48E4-84F1-7B959AFB47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EC466-DE1D-42E2-A8D9-C739D0803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C0FAA-2505-4260-87E1-962A65C045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E3C97E-9771-4EAB-95EA-5D9C654FDE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14B5EC-7E83-4009-925C-AB2B574A2D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D9E91A-F153-4C5D-A9CF-2A241B3349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8439F-DB4E-468A-A3EB-84C700577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AD9132-B49A-4EAA-8A24-36C9644186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94C061-0133-4E11-849E-8875885C84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85F5A4-B220-4428-8034-A4C51E8521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E9B29F-1AB2-4506-89BF-F6FEC4F757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AFF6D5-923B-4F45-A515-F01EE4C3E9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9F9C8C-1CBF-4533-8262-624C0A6B75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39A597-C5A8-4E17-A5F2-C59352EA16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72261A-EAA9-40ED-BE08-69989E9C8E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38F166-7F49-40A9-B155-EB5ED5F0A2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409BDD-C6E3-4F3B-B26E-96EAFBCAF3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E335-7E55-4349-BADD-841B4A762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824D20-D3BF-45EB-BEE5-F872CD8823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7607D3-E6BC-4556-864B-CEB883770C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60160C-1C96-4264-BCB0-745995AB2B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7786E3-FB5A-44FE-AD85-B1F0D264C2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2F76B0-4A98-4B64-97F8-0744EBD6B9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F3A50C-1B22-4D51-8066-6598BD402E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C02D66-622F-41C6-AFDB-D2B75A1A39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DB7A3D-D181-4275-B83C-2C56AAC287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9762E9-01F5-43A4-8C51-AEB0F1649D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C0D300-0D27-48C4-BAC4-BA23A4BE6A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02ADD-0254-4C2C-84D7-CA6095B5A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72DFED-2800-4DBC-B694-4C8A7124A0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5E7A03-0374-4879-8F10-FBF4DB78EE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FDFF7B-CFE3-4998-A24C-843AA20784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B5F56E-9124-4F26-BA3A-518C572ADA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294A66-2B20-4481-967C-07D168B608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59D533-590E-432D-9338-A8EC48B88D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439AE0-FED2-4B77-9A92-BFEF6A2553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B05D3D-E809-4769-97C6-23A67EB293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8BDC62-146D-47CB-97CE-568AE2FDB7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A4C5AA-5A95-44F4-8806-FCD3EBE2AB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C5281-EFA9-45DA-976B-99263D2B5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70B74A-4B44-4727-88BC-FE90E7F43C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247332-CD47-4BBD-83E8-CD0B6BF08F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069AE5-82A9-461B-AFBE-81A144D01A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F0DB2A-DA01-4292-914F-E12F27A899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FF5D84-A1DC-472E-95D7-8D0DC22EA8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9B1A1-11D4-4962-924E-C047F1534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11A63-F3A0-4F9A-AE2D-529B19A82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5CC1F-BF1C-40BD-A844-B8062D0CD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C8D94-94CC-4868-AC56-363386AB2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BE016-B2AF-4DDD-BEE9-8D07D58FE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391FD-5F38-4414-A490-6224806AB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17010-997F-4CC3-B9A0-70BE05435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835BC-6AA3-4CDF-B911-29CF9B2FA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1096E-FD41-48E4-961A-AD02F1077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7F12A-66C1-44B2-8A4D-3949037D4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6A7F6-2ADD-476E-8104-D875EDF5F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55A3D4-2084-4E6C-B6EA-95B4A80687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75271-6AFC-4B8D-A79C-808B92377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05555-6B9A-40F3-B93E-9FB451F6A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DCE14-9231-4913-9816-BCAEC29F9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0F656-431A-48A8-BE86-0A44CCD928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BD8E-A514-4144-AB2F-2C16F3216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7EEE5-A8A1-4997-AC55-ACE8E93D9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7EA33-FD8F-4C7C-823A-CBC0DA354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CD5E3-B771-4E5A-97D1-09636C0F2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AFFB7-8C84-4368-ACCA-E1FCD65CF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0DC348-DBBF-4F85-8F05-D54CA7E0C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CCFF91-EE84-4A65-A1E4-4C62DE5F3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BD650D-7B70-47F4-9FAE-10D82D2F1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24EC2-2B16-4905-8B4C-A4B42972D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3FCA7-3944-4123-871E-35D4D261A5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A2BAC-F45E-44BF-9536-BC460A80F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261A3-DBA1-40D2-9241-E00A32A7D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AF0F9-602C-420A-83D1-5BA824EC4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82825A-9B6A-4970-8AC0-5C6616379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1E301-35CA-470B-8D3E-60D0136AA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41D8A-9794-4B90-8253-B28C65A2D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69899-CB04-46B1-B07D-D88E60ACE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92ED2-7B10-497F-84B6-C37914D5C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F7EA3-B037-4481-A77E-013302DE8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E8858E-887C-40B0-B4D3-159F5B027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6BED39-9515-4308-B9B3-833845732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B24A74-195B-4E44-801C-747EE7E13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98821-7A3B-4763-A98E-72303169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96D8B-D3C6-471C-947B-3CF328BF4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9A22B-157A-492E-8246-68AF00DD4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DFFAE-6BF8-4859-93FE-8E2C633F55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2BA35-A03B-47F7-8A1E-9EB33238A4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E27F1-CB02-4B56-A804-671744377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C5DCE-5BE0-4190-A013-29C43FE1C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52162-843D-4377-8A2C-EFF52552C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C8A7C-9C0D-4217-AEC2-74D323319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3653E-0619-4602-A9F5-160D15B6A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263190-5247-4F0B-8BD8-F90193062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7E2D3-58A3-4AF0-B6FD-21EE1AEC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5B224D-BDA6-4ACF-8A71-5C0CAF3F65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D78279-96A5-428F-AC38-B08A9C64DC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10815-0071-44F9-B49B-673427202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F53A1C-181A-4214-87EC-5FAB93B1B0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7E9EA2-A040-45BE-8DA6-3DB2E5F65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B745E-3F47-4682-A0BD-771966A606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765C7-3C5B-4F8E-A22F-C72307CDE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F0EDF-0B53-42B5-9804-EF3CF779E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157E8-B34E-4F50-A672-1A380365D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F4090-1DD3-4787-AD42-8DBDB42648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E06E-3C70-444B-879A-8A1751A5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397CF-0D16-4AB6-BF92-4FCCF4350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E9D93-4F8A-4336-9B9A-DE471D9EC7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20CC6B-51D6-43F7-8BE1-C1C1BC2A2A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33851A-E25F-4502-B504-1081579C46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D4690-E6DA-4E17-8F97-0C7115EF8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E2A8F-4B87-42F6-A7A6-BADCF64E5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D9299-963E-4755-BCFF-676CB6058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67B20-D55D-4A90-BD66-9A7AA7574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46E9CF-9D34-4A33-BE6F-2027BBCAD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B932F-7CEA-4F99-8BBB-0CA6AB340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4E2A-0475-4087-9970-865E94729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67C85-1BDF-4DE2-8C15-CE19BDFCA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FF9E5-70AE-40FE-9BC7-364AF56CE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92FDA3-78DB-4841-94B3-CDF273A69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EA1755-CCAD-48AB-BB29-A5581D6414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6A91B-DC05-4BEF-9A42-36D5CEC635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84DF5-784E-4CD1-8914-5F24699B5F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AC09E-6B80-4D1A-A032-F4ADAD121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982CE8-7908-4F68-B161-7E98B1E4A1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8E3A2-9C7B-4595-A59D-F5680DC65C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E7F47-84EE-4306-8070-DE1814194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1593F-3456-4A6E-8411-692425139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176911-74C3-4541-98D2-26BBCDD473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1F106-A0CC-4149-9B6E-A46FCCC6C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1378F-1D03-4FF1-B8F1-8ADCDF79BE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1B7AD-13BB-4362-AEA8-E2E9B055F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E870D-D259-4828-8588-61BE4236D3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1E5220-677E-4C9E-BBA0-BB90B37CF0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908033-E783-4EB6-966F-C46E962D0C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DF6DCF-46C5-4DF1-A407-2E6EB281AE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787872-CB46-4485-A4D1-F7423CFCEA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4EAA2-ECD0-447A-B956-FF7BFD7531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321137-C8B5-41A5-97DC-920569EE98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BFFA742-76FD-460A-BE43-D12C1BA3B7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80DF2D-98E1-442B-9703-272DCAE9D4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7960F4-4045-47E2-90BA-AED6AC305B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2ECA4D2-7375-4818-9BBF-770670B611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AD8FD5-4C0E-41E7-AA26-3622DBC257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610C70A-2C0F-4E40-87CA-62CCBF2556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E220863-C26F-4FC7-B7EA-EE390AA307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E6FA995-0692-4778-A248-8B9F338888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DBAD848-E2A4-4178-813F-32B1E0CC86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596C992-EB3E-4020-BDA2-D8F8415091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8869387-2C0C-456A-BE3A-B2E1DCD3B8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B1FA09-8D73-4DFB-BBED-A2248F369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4F2A71-8B51-4D39-82E9-F63F405A6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350F79-F42F-45A3-8334-F5C980C28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D0858A-73DA-45E9-9C34-F410B32C7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0A0CA3-E64A-405E-947A-98917C6BF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D585A7-D17A-43D7-BF1E-EFFC705C6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0733DB-4E67-4A67-8F73-A84E312C6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02CDF2-B43D-4BD4-956B-C005CE89E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122197-A44D-44DE-8719-F030C6D24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89E739-0244-466E-9F59-9DEBEF691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2</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92EF67-090D-4E28-86DB-8BA79D8E0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87DC14-6E90-486A-8B9C-BD8F9278E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3BD63B-F9E5-4ED4-A36C-4C9AC9C4D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rch 10,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2248DC-4EE2-4C1D-859B-221A6B066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966C51-8E38-418C-9391-4DF78A18F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B605EE-B17A-4C65-ACBF-F32144FA3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6A4F57-58DE-4DAE-9820-66C5EA8CE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4181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CE945F-773E-41DA-92C6-3AE7347AA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on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5FB08-F835-4096-9884-7121E56E2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84B863-398D-45BF-94F7-0ACF5E989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ECC9FE-ADE1-40FB-BF0B-5A48E8676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695369-0A10-43B7-9832-BFE1CCA2D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44F5D2-ECFF-4B59-BB1E-99787B1F0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E861A4-E1A1-4D9F-A113-9953EDF96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EA8FC8-3D69-4042-8613-820341AC7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7FFD58-C152-47D4-A6F2-EEA2EA879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6C3DD4-EB67-4C25-B666-CEAE637AE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B7CCF6-097A-49F9-9163-92D0EA293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8640F3-3241-4E9E-8097-31DECFFA2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0CC1EA-2860-4FB7-94DC-855E85BBD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96960" y="1650960"/>
          <a:ext cx="7913520" cy="4181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6DFDEB-F8CF-438F-8C07-698232808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D877FE-D25E-42E5-9F26-A1DAD7516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3EAEB6-FF0D-46E6-92BD-DC987B6BB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on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C2D3077-D94A-40BB-A6EE-9170D0522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7B3A96-20BA-4A0F-8636-027229F12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1405EC-A491-44BB-82D9-A8FDF0A83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02DBC7-0EC2-4180-A95E-1642D74A4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F64969-D969-4317-9486-50A2E7212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87A5F3-0C8A-441A-93F4-89AAD2B2C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BC6D0D-0178-4C3B-B4A4-315DFF24C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77"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FE4B2F-C076-4574-84A1-2AAFE6EC6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23ADE1-E742-4E88-B487-4E12B06A2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4"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7886C5-DA17-4063-96D4-F17175112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EFCC33-BC23-4F4E-94D9-A898A8F1F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C26D259-E44C-44E0-A05F-6425FD9FF6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3B81D8-A7A1-439D-993D-3703E3E8C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9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F984D3-00C8-4C19-BA8A-114906B6F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Comment Resolution</a:t>
            </a:r>
            <a:endParaRPr b="0" lang="en-US" sz="3200" spc="-1" strike="noStrike">
              <a:solidFill>
                <a:srgbClr val="000000"/>
              </a:solidFill>
              <a:latin typeface="Times New Roman"/>
            </a:endParaRPr>
          </a:p>
        </p:txBody>
      </p:sp>
      <p:sp>
        <p:nvSpPr>
          <p:cNvPr id="8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8, 4041, 4261, 4096, 4057, 4089, 4260, and 431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308r1;</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9, 4093, 4060 as proposed in 19/0318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1BF0E3-4CD3-4E5A-AC78-4C24E3B16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6:  TBD</a:t>
            </a:r>
            <a:endParaRPr b="0" lang="en-US" sz="3200" spc="-1" strike="noStrike">
              <a:solidFill>
                <a:srgbClr val="000000"/>
              </a:solidFill>
              <a:latin typeface="Times New Roman"/>
            </a:endParaRPr>
          </a:p>
        </p:txBody>
      </p:sp>
      <p:sp>
        <p:nvSpPr>
          <p:cNvPr id="8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4120AD-E210-4206-8CF4-95B1C6948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B711A2-D37E-4051-BB89-4D558C403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BA61E32-002D-4232-8FEA-C991F3383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3022E0-D5B3-400E-9EAB-C1312E21F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2T09:36:18Z</dcterms:modified>
  <cp:revision>8579</cp:revision>
  <dc:subject>Task Group AY November 2015 Meeting Agenda</dc:subject>
  <dc:title>11-19/0229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