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80F4DC55-E944-4E8B-BC73-6BFD4A4549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5C04F2-5033-4B85-BF1E-A52A68CD7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54160" y="701640"/>
            <a:ext cx="4626000" cy="3468600"/>
          </a:xfrm>
          <a:prstGeom prst="rect">
            <a:avLst/>
          </a:prstGeom>
          <a:ln w="0">
            <a:noFill/>
          </a:ln>
        </p:spPr>
      </p:sp>
      <p:sp>
        <p:nvSpPr>
          <p:cNvPr id="8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B89CEC-0100-4613-AD8A-6A3D9BA5C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67A922-7238-46A6-9685-CECACEDC0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DF3E0D-B784-44CC-9734-98941D6B4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6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6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6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E88301-5DD1-4981-ABBE-096D26F5E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7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7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4FBDB2-743B-485D-96B7-577C1C812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54160" y="701640"/>
            <a:ext cx="4626000" cy="3468600"/>
          </a:xfrm>
          <a:prstGeom prst="rect">
            <a:avLst/>
          </a:prstGeom>
          <a:ln w="0">
            <a:noFill/>
          </a:ln>
        </p:spPr>
      </p:sp>
      <p:sp>
        <p:nvSpPr>
          <p:cNvPr id="8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A43169-13AE-465C-9FF5-6BB5BE363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41F3A2-1A24-4EF1-ADCD-30046F99C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CE3EFF-1CE9-4E7C-A131-145FD71E3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54160" y="701640"/>
            <a:ext cx="4626000" cy="3468600"/>
          </a:xfrm>
          <a:prstGeom prst="rect">
            <a:avLst/>
          </a:prstGeom>
          <a:ln w="0">
            <a:noFill/>
          </a:ln>
        </p:spPr>
      </p:sp>
      <p:sp>
        <p:nvSpPr>
          <p:cNvPr id="8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AFE285-781B-42F3-BEDD-0D43A7AE6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FFA527-E372-4A5A-9D37-EE677D1A8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0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0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0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7658E253-95E8-42C2-9ACB-2B0A37AD7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17440" y="696960"/>
            <a:ext cx="4646880" cy="3486240"/>
          </a:xfrm>
          <a:prstGeom prst="rect">
            <a:avLst/>
          </a:prstGeom>
          <a:ln w="0">
            <a:noFill/>
          </a:ln>
        </p:spPr>
      </p:sp>
      <p:sp>
        <p:nvSpPr>
          <p:cNvPr id="91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1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1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1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ED1639A2-1406-4142-A762-62998E9C2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17440" y="696960"/>
            <a:ext cx="4646880" cy="3486240"/>
          </a:xfrm>
          <a:prstGeom prst="rect">
            <a:avLst/>
          </a:prstGeom>
          <a:ln w="0">
            <a:noFill/>
          </a:ln>
        </p:spPr>
      </p:sp>
      <p:sp>
        <p:nvSpPr>
          <p:cNvPr id="91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54160" y="701640"/>
            <a:ext cx="4626000" cy="3468600"/>
          </a:xfrm>
          <a:prstGeom prst="rect">
            <a:avLst/>
          </a:prstGeom>
          <a:ln w="0">
            <a:noFill/>
          </a:ln>
        </p:spPr>
      </p:sp>
      <p:sp>
        <p:nvSpPr>
          <p:cNvPr id="8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9470A1-C494-477D-8416-07DB69D96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54160" y="701640"/>
            <a:ext cx="4626000" cy="3468600"/>
          </a:xfrm>
          <a:prstGeom prst="rect">
            <a:avLst/>
          </a:prstGeom>
          <a:ln w="0">
            <a:noFill/>
          </a:ln>
        </p:spPr>
      </p:sp>
      <p:sp>
        <p:nvSpPr>
          <p:cNvPr id="9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E31268-E7AB-49CF-B5F9-52DAFE3AB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54160" y="701640"/>
            <a:ext cx="4626000" cy="3468600"/>
          </a:xfrm>
          <a:prstGeom prst="rect">
            <a:avLst/>
          </a:prstGeom>
          <a:ln w="0">
            <a:noFill/>
          </a:ln>
        </p:spPr>
      </p:sp>
      <p:sp>
        <p:nvSpPr>
          <p:cNvPr id="9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D3BA3B-FBBB-46F9-BC5D-BD3C3AD81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54160" y="701640"/>
            <a:ext cx="4626000" cy="3468600"/>
          </a:xfrm>
          <a:prstGeom prst="rect">
            <a:avLst/>
          </a:prstGeom>
          <a:ln w="0">
            <a:noFill/>
          </a:ln>
        </p:spPr>
      </p:sp>
      <p:sp>
        <p:nvSpPr>
          <p:cNvPr id="9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D60666-CCF9-4C6C-9D44-AE5BE05AC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990E44-A3EC-4D27-A064-2C886D2CA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54160" y="701640"/>
            <a:ext cx="4626000" cy="3468600"/>
          </a:xfrm>
          <a:prstGeom prst="rect">
            <a:avLst/>
          </a:prstGeom>
          <a:ln w="0">
            <a:noFill/>
          </a:ln>
        </p:spPr>
      </p:sp>
      <p:sp>
        <p:nvSpPr>
          <p:cNvPr id="9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11E97F-8043-47AA-83AB-4BC140B39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54160" y="701640"/>
            <a:ext cx="4626000" cy="3468600"/>
          </a:xfrm>
          <a:prstGeom prst="rect">
            <a:avLst/>
          </a:prstGeom>
          <a:ln w="0">
            <a:noFill/>
          </a:ln>
        </p:spPr>
      </p:sp>
      <p:sp>
        <p:nvSpPr>
          <p:cNvPr id="9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EE665A-CD45-41C1-BB68-E8D5BCF1E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54160" y="701640"/>
            <a:ext cx="4626000" cy="3468600"/>
          </a:xfrm>
          <a:prstGeom prst="rect">
            <a:avLst/>
          </a:prstGeom>
          <a:ln w="0">
            <a:noFill/>
          </a:ln>
        </p:spPr>
      </p:sp>
      <p:sp>
        <p:nvSpPr>
          <p:cNvPr id="9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30898C-8F64-43A0-BC43-4A8DE2AAC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54160" y="701640"/>
            <a:ext cx="4626000" cy="3468600"/>
          </a:xfrm>
          <a:prstGeom prst="rect">
            <a:avLst/>
          </a:prstGeom>
          <a:ln w="0">
            <a:noFill/>
          </a:ln>
        </p:spPr>
      </p:sp>
      <p:sp>
        <p:nvSpPr>
          <p:cNvPr id="9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B32372-6B9B-4CC7-B47F-8D1A7F142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54160" y="701640"/>
            <a:ext cx="4626000" cy="3468600"/>
          </a:xfrm>
          <a:prstGeom prst="rect">
            <a:avLst/>
          </a:prstGeom>
          <a:ln w="0">
            <a:noFill/>
          </a:ln>
        </p:spPr>
      </p:sp>
      <p:sp>
        <p:nvSpPr>
          <p:cNvPr id="9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234657-83E1-4E75-A017-8A4407E81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D9BF47-0454-4915-A404-17D39E141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4708B1-8B8D-404E-B06A-AEE6E88A3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54160" y="701640"/>
            <a:ext cx="4626000" cy="3468600"/>
          </a:xfrm>
          <a:prstGeom prst="rect">
            <a:avLst/>
          </a:prstGeom>
          <a:ln w="0">
            <a:noFill/>
          </a:ln>
        </p:spPr>
      </p:sp>
      <p:sp>
        <p:nvSpPr>
          <p:cNvPr id="8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54160" y="701640"/>
            <a:ext cx="4626000" cy="3468600"/>
          </a:xfrm>
          <a:prstGeom prst="rect">
            <a:avLst/>
          </a:prstGeom>
          <a:ln w="0">
            <a:noFill/>
          </a:ln>
        </p:spPr>
      </p:sp>
      <p:sp>
        <p:nvSpPr>
          <p:cNvPr id="9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940CAB-35AD-45D0-B76B-27A9939CE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54160" y="701640"/>
            <a:ext cx="4626000" cy="3468600"/>
          </a:xfrm>
          <a:prstGeom prst="rect">
            <a:avLst/>
          </a:prstGeom>
          <a:ln w="0">
            <a:noFill/>
          </a:ln>
        </p:spPr>
      </p:sp>
      <p:sp>
        <p:nvSpPr>
          <p:cNvPr id="9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4F8C0D-1B9A-4C75-AE0B-A80C9A010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54160" y="701640"/>
            <a:ext cx="4626000" cy="3468600"/>
          </a:xfrm>
          <a:prstGeom prst="rect">
            <a:avLst/>
          </a:prstGeom>
          <a:ln w="0">
            <a:noFill/>
          </a:ln>
        </p:spPr>
      </p:sp>
      <p:sp>
        <p:nvSpPr>
          <p:cNvPr id="9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BA8A49-2D84-4F1A-9B64-C8E94874A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54160" y="701640"/>
            <a:ext cx="4626000" cy="3468600"/>
          </a:xfrm>
          <a:prstGeom prst="rect">
            <a:avLst/>
          </a:prstGeom>
          <a:ln w="0">
            <a:noFill/>
          </a:ln>
        </p:spPr>
      </p:sp>
      <p:sp>
        <p:nvSpPr>
          <p:cNvPr id="9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626B5A-E280-4FE6-9D88-D747CF500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FAE5FD-37BD-4C36-8774-1D6B9EB0D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54160" y="701640"/>
            <a:ext cx="4626000" cy="3468600"/>
          </a:xfrm>
          <a:prstGeom prst="rect">
            <a:avLst/>
          </a:prstGeom>
          <a:ln w="0">
            <a:noFill/>
          </a:ln>
        </p:spPr>
      </p:sp>
      <p:sp>
        <p:nvSpPr>
          <p:cNvPr id="10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E4F69B-CD7B-4E6F-8C9F-92548CD96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54160" y="701640"/>
            <a:ext cx="4626000" cy="3468600"/>
          </a:xfrm>
          <a:prstGeom prst="rect">
            <a:avLst/>
          </a:prstGeom>
          <a:ln w="0">
            <a:noFill/>
          </a:ln>
        </p:spPr>
      </p:sp>
      <p:sp>
        <p:nvSpPr>
          <p:cNvPr id="10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91A134-4D1F-4827-B6EA-921E46F63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5ACA0E-AFFC-4869-9908-ECF0561FF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F035BE-1007-41E0-B49C-058275DEB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54160" y="701640"/>
            <a:ext cx="4626000" cy="3468600"/>
          </a:xfrm>
          <a:prstGeom prst="rect">
            <a:avLst/>
          </a:prstGeom>
          <a:ln w="0">
            <a:noFill/>
          </a:ln>
        </p:spPr>
      </p:sp>
      <p:sp>
        <p:nvSpPr>
          <p:cNvPr id="10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97CC11-919C-466E-8D9E-F2894DD95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75F21F5-825C-4413-938F-D85104BA69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7680" y="696960"/>
            <a:ext cx="4640400" cy="3479760"/>
          </a:xfrm>
          <a:prstGeom prst="rect">
            <a:avLst/>
          </a:prstGeom>
          <a:ln w="0">
            <a:noFill/>
          </a:ln>
        </p:spPr>
      </p:sp>
      <p:sp>
        <p:nvSpPr>
          <p:cNvPr id="8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045835-F211-4BE6-AD69-C89C1E714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3CB657-73BE-4CD1-8342-616B86CEF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2E1775-9B96-464B-BF2C-38E92F190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3297C5-99AC-495C-A64F-CA101E778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54160" y="701640"/>
            <a:ext cx="4626000" cy="3468600"/>
          </a:xfrm>
          <a:prstGeom prst="rect">
            <a:avLst/>
          </a:prstGeom>
          <a:ln w="0">
            <a:noFill/>
          </a:ln>
        </p:spPr>
      </p:sp>
      <p:sp>
        <p:nvSpPr>
          <p:cNvPr id="10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3BC653-60FB-4D19-B1B3-2FD6FD32E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E2DF73-496B-4DB9-88F0-4D6E0E356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7B50A6-3016-4288-8BAE-6E50EA41D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54160" y="701640"/>
            <a:ext cx="4626000" cy="3468600"/>
          </a:xfrm>
          <a:prstGeom prst="rect">
            <a:avLst/>
          </a:prstGeom>
          <a:ln w="0">
            <a:noFill/>
          </a:ln>
        </p:spPr>
      </p:sp>
      <p:sp>
        <p:nvSpPr>
          <p:cNvPr id="10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5AA94E-EB8D-4D1E-96DB-7CD197DE9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175794-34BB-4FC0-AAA8-58FD9BF08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F63E8B-5906-475D-9625-F8A3D1358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7922606-5CCB-4E7A-9C39-21081FAFA2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7680" y="696960"/>
            <a:ext cx="4640400" cy="3479760"/>
          </a:xfrm>
          <a:prstGeom prst="rect">
            <a:avLst/>
          </a:prstGeom>
          <a:ln w="0">
            <a:noFill/>
          </a:ln>
        </p:spPr>
      </p:sp>
      <p:sp>
        <p:nvSpPr>
          <p:cNvPr id="8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54160" y="701640"/>
            <a:ext cx="4626000" cy="3468600"/>
          </a:xfrm>
          <a:prstGeom prst="rect">
            <a:avLst/>
          </a:prstGeom>
          <a:ln w="0">
            <a:noFill/>
          </a:ln>
        </p:spPr>
      </p:sp>
      <p:sp>
        <p:nvSpPr>
          <p:cNvPr id="10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76E879-F649-4E0C-911F-6767239AF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54160" y="701640"/>
            <a:ext cx="4626000" cy="3468600"/>
          </a:xfrm>
          <a:prstGeom prst="rect">
            <a:avLst/>
          </a:prstGeom>
          <a:ln w="0">
            <a:noFill/>
          </a:ln>
        </p:spPr>
      </p:sp>
      <p:sp>
        <p:nvSpPr>
          <p:cNvPr id="11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A4690F-6823-4F08-B9C0-0D70818F2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47FA40-6116-479C-8A32-571321808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54160" y="701640"/>
            <a:ext cx="4626000" cy="3468600"/>
          </a:xfrm>
          <a:prstGeom prst="rect">
            <a:avLst/>
          </a:prstGeom>
          <a:ln w="0">
            <a:noFill/>
          </a:ln>
        </p:spPr>
      </p:sp>
      <p:sp>
        <p:nvSpPr>
          <p:cNvPr id="8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A2535A8-276B-44F2-81B3-FF22DB3AF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54160" y="701640"/>
            <a:ext cx="4626000" cy="3468600"/>
          </a:xfrm>
          <a:prstGeom prst="rect">
            <a:avLst/>
          </a:prstGeom>
          <a:ln w="0">
            <a:noFill/>
          </a:ln>
        </p:spPr>
      </p:sp>
      <p:sp>
        <p:nvSpPr>
          <p:cNvPr id="8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D504F4-4059-46EB-ACA0-9C655F2B9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54160" y="701640"/>
            <a:ext cx="4626000" cy="3468600"/>
          </a:xfrm>
          <a:prstGeom prst="rect">
            <a:avLst/>
          </a:prstGeom>
          <a:ln w="0">
            <a:noFill/>
          </a:ln>
        </p:spPr>
      </p:sp>
      <p:sp>
        <p:nvSpPr>
          <p:cNvPr id="8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63AB46-401F-42E2-835D-5C6C7DBE4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54160" y="701640"/>
            <a:ext cx="4626000" cy="3468600"/>
          </a:xfrm>
          <a:prstGeom prst="rect">
            <a:avLst/>
          </a:prstGeom>
          <a:ln w="0">
            <a:noFill/>
          </a:ln>
        </p:spPr>
      </p:sp>
      <p:sp>
        <p:nvSpPr>
          <p:cNvPr id="8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A5ABF-C576-4CC0-9495-96370E976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C8C1-7296-4FDA-A3CD-4DEDB18F1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BCFA7-5A09-4C5B-B6A1-BF42A2FA28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063F18-247B-4D4A-88EA-339260AAD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A1D49-A512-47E6-90D0-304774205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BFE783-FC2E-4726-AC36-6E39B1113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C50D74-ADD5-411C-808F-C5CB39B0F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3BC5A-2187-4BA9-8EF6-79B462AAF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D10BC-5E48-427B-809B-17B9BDC2E5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439B70-C3F0-4BDA-AA2A-95141A6A2E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034702-AFFA-4D78-B473-E096A5EE19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DE4A21-650F-40AD-93C9-9040BFC0EC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1128E-F9D4-4EA4-8BDB-8BAD60B46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21DEF1-0CF0-48D6-84EB-220B8E916B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F31113-86F5-43A6-B514-A97E2DC063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A88DFA-19B5-45CE-AD67-2D03A7320C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D73069-B13F-4A2E-A899-AD2B757695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40AED5-BEA9-4436-A0C6-30293A5083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2A261D-2337-41A4-8977-BA792C363A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980B21-5394-4047-8A82-F53C28211D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C1F7EA-DEE5-4980-989B-5FE955F73B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3000D8-7133-4F5C-9408-4233268293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2FE61F-F944-4CD9-B583-A4CCBDBFCB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CA1EE-339C-4F57-9B83-2A778444D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7E419D-DE91-463E-B118-F0DD82D45A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5ABD92-74A9-4677-BFBA-A95102920E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279A27-B4AD-4BCD-9B89-71726212EF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FC3319-CD9B-4B00-AA6E-D1D78B0215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731834-56AB-45BB-9B43-52499ABA0F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149D3B-6E93-411F-A499-F18D21A658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12CD83-E91D-4DAE-BD9C-8C5260530F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10C876-5273-4FD3-8C2A-066BB62032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4826F7-37EE-4133-9E1F-9E7E2D07E5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9BD414-E518-4F70-BD3C-A290715834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98203-16A6-477A-8AF2-91EC72020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9CFE5D-6BA2-4343-B3C1-754F976698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755227-659F-4551-A837-D20BF59678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DC53C1-79C1-46B3-9906-5FEFB06090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561B7E-1F49-4E3E-B09A-0D8C1F07D4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2E0697-DE7B-4B9D-8238-B72EE1F260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03E2D0-797D-4368-8C58-94F8C9D193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65B2EC-E11E-4A0B-B3F8-C54411E2CA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F56090-BD17-46B2-8870-13CCF01E93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EEF715-C378-416F-836E-4221AB9F9B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BFFC37-F558-4D83-B87A-9985F8D125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A6903-B126-430D-BA2F-4ABBB412A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2CE1E2-7542-4174-AC22-0D2ACA99E9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8FEF22-C2E2-4BD8-99A6-7310FC9366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C4200D-7DC2-4078-89DC-3D78520C12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958F3A-F692-47BB-9702-7C3140C3ED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845FE9-4E62-49E5-8640-52EB98A6BB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4F36C-4BBB-4435-8FE1-D9B4E84A3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C2F2C-D4AE-4BE7-B873-1A7A6CBB5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958E8-7177-4E72-B4E5-F0E7801D2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D5537-BECE-4EBA-8BB4-85FAFD5C6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77ACE-D7EC-46A4-B664-B7C382925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C4E6E-516A-49C3-BD8E-00CD895D9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58A70-F5F0-4AC9-B859-C49A7B09B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FC22F-B6CB-43E1-BDB1-D80F85257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76239-DD5D-47AD-9C78-A0D43E518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6E177-A2F8-48E4-A695-8A9F06FDB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2044A-0DEF-4962-A5A9-19F4EAEC7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0AD7FB-66B3-4244-9DC2-704485F7E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0FB27-B1CF-4990-9411-5F6CB906D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22CC5-DA8D-4078-81C6-8751C5EC5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089BC-C3CC-4EC0-A635-1279A1176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7CBA6-936B-4FFE-8011-31775D447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09D92-1683-4E74-9FE3-3C0D2426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F8055-6ADD-4CE5-BA2B-4162EFB7E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82FB9-B6A6-4E65-B997-B4B06E8BA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4107A-ACDE-43D4-A9C4-0E63AC92D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CD057-105A-41E5-92B1-D87EFCA0B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1E7BAE-57B0-43F8-B5DB-F54247BD6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54F4D-4B1C-4C84-A1F9-8156F47AB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0388FC-79F8-4782-97CA-30630D39C9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BDE4B-6555-4038-AD14-081F96E2DE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C4879-0E56-4C54-8E9A-50C9B4731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7B02B-ABC1-4D73-A73D-4FF1DA31B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B645E-D3F8-4050-B965-D27A8BD28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C266D-BE14-4D63-B413-624D5B7AC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B4323-372F-43DC-8D50-7915F8202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4EF2E-890C-4944-B84E-CC0C102F2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FA6DF-5EFE-4AD2-B944-880018DD9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741B8-FE58-4560-9A3B-1723B90CB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C93C0-B40C-4959-B3E6-6DE46260F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25264-A51D-4B42-B102-70BA3E85FD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8E2136-D9B9-47B1-9B10-8BA4049A3A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452B5F-6D52-420C-9153-1DC90CD41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E12507-7965-49D5-8684-028E5BAB54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5A53F-283F-40A1-A84D-CF9EEEB3B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EF6720-DD55-492C-BEF1-388424BEA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C5E90-CC85-474E-90C6-587E5FFCB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FBE772-33B1-491B-B216-7E8D7CBBD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48BBF-9548-4939-8031-18F3DDCA9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35CCDD-86F4-44CF-B0AB-F641E1F90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9FAF8-534B-4A99-9FCA-692DBBFE9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0C5C1-B13A-40ED-A13E-203B88D79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26964-BFC2-4DDD-8BF3-8F1F65A93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5FA2CD-19A9-4493-88C8-93A660583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675F94-68BC-47EC-862A-B7717121D8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A373-77D3-4FC1-AFAA-7F9E0F630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6B4F8D-8366-4ABE-8F60-7075F47ED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BE32FE-6CBD-4667-9591-2B52E9436C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1C5DC-D9A8-4563-A83A-762BD4EBD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E92ED-A3BB-4FCE-A04A-5D300631AA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4605D-DD7F-4288-A963-EF124D886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A996F-EE0F-49DC-96CB-9E3C56169D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F05BAF-1FE0-4F43-A29E-7606D9D3B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8D887-3799-4D28-91FB-8AEEA0B39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9ED9F-B101-4987-9C09-7BC0721D9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03B00D-3868-4611-A0F6-765546DCC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751AD-0FBB-4697-B234-763390C9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66E38E-E943-4E19-A8D9-B23E78E1D7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BF4FE0-2832-4DB8-9E98-9CF8ED54EC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E20335-2D91-486C-B0AC-3B08544E73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3109B3-6C32-465C-BCFB-C035456186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89257-0FA4-4B68-8ACC-82277BBC8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00A832-D1C7-4E07-8BE8-9C2E860BA6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8FB08-1C75-4BF4-930F-497AABBFC1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CB583E-7717-46DC-87BB-F8EC523CD6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BBDB62-44DB-4C6B-A43E-59283A8E7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F1F7E-B6DE-425A-998E-491D666E0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B8B9A-D82C-473E-B384-52F7AC93B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118C3-66EC-45A1-9298-A996BADE9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5058AD-2AA9-4FD1-A503-7FDBDDF66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B5023B-4468-4CF2-8D18-7D56AF5D53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2EFE21-5764-4267-B787-D7ABF34076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076F44-D097-4301-821B-39E2529F78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6DD3B0-4D31-46C9-8BBD-4E7798D231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4579E9-25DF-4A0F-9DE0-94A89C4575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5FB1A1-68A9-4239-A1E3-E312C7DD55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8BDD27-BFC9-4017-B015-6250C70DD1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18F136-4B72-4ACD-8F09-B4930E9189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C67DC-0D7C-404B-A1C8-5E21D9F9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068B1-A496-486F-B39C-D94EE3572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C2E0C-8B9A-41F9-B2B1-33C224C24F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B176D-C905-4817-A783-0D92A66F81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0F3A7-3A16-447C-81EC-04A84FF1F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72D62B-5AD0-49C2-BC68-5BA61A4150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F7BB1B-52BD-4348-B5DF-C8B7C3F34B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65D081-0A4D-4F5B-BEF3-7C24AFF438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8393C3-F139-4986-B7E4-AF0FED59EF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87BA05-1E9F-4C3C-B693-4986102E9A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42205A-5EEF-43BA-8183-4429D5CE7A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BA3FB47-491F-4A5A-BE57-0CBF3D14AB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B28243C-422C-436D-BF21-F71FF604F3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3D67038-8FF8-492E-A058-7583C0A94A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9C611A1-AFD9-462C-86A0-C92E7545D7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A4168C-929C-4D14-BDFA-DD857775C2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49BEAEC-404D-4F51-BF3E-9FE7A6A000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06FB06D-36CB-409F-8904-AE664CB70A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41C3782-29E1-4CD7-96C3-284EF1D91A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2558ACC-E691-42BF-8DA8-B06B648810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36656D0-F76C-4F05-8EA7-4928D156D4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E5E99BE-DEF9-4451-BA4D-AD3325B64E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9AD935-F31E-4476-980C-57CB23203E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AE8A0F-6B22-4F61-A3B4-274C19016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FF10BC-BEF7-4389-8520-E00686EAC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81D7CA-04F3-4967-A432-6B30C177D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F67EDE-2576-49D6-A635-8962D6F4B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D1C147-CBDF-4661-9A14-9C3FA515B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41A914-3BBE-4691-93F4-C0BA81CBF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76FEC0-B8F5-40C2-A6B4-06B3F46D8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BE71F7-E155-4A10-B413-B5620A95E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D649D2-6C1E-41EC-B2CC-AD5E5CAFD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8A919C-380E-45F2-940A-3CEB31F84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1</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5DD522-1079-4213-9837-2C82CF0C4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6703BE-CD32-4780-8A15-08D0834FF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A39A26-C985-400C-A33F-C6BA70398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E59D96-5299-4F44-B8A5-34FB7746B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D0A36F-1D5A-42AA-A142-FD5334F33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0B8E85-6E41-434A-9E5D-89AA0873B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DMG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D0567E-5761-4D18-A30E-043B86BBF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4181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3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olution of LB239 CIDs 4003, 4004, 4026, 4284, 4304, 4305, 4351, 4352, 4357, 4358, 4360, 4361, 4362, 4363, 4365, 4427 (16 CID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for CID 4467: OFDM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C701D5-A7E9-49D6-A620-6380482A8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on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1820DE-D4D1-4E5C-902E-82AA60FC1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B1633F-2912-4663-9014-FEBFBF659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8EDFFE-F555-4F6C-B6E6-1E79BA97B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38018F-0F05-4774-9F14-087D50749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573D74-AF85-40D0-8223-073507F2D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9A8259-A17A-49B3-A119-65178643D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894DA9-9801-4302-A5B1-96A080A9F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F6D6E3-A8B1-446D-B3C0-10BABB152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33301C-6EE1-4155-9ACA-F25E79884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4CDF29-1E57-4B91-964A-75E81F6DC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4C96C7-9893-4BF3-8414-A5C2F0E66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4D933C-447B-47D1-BEE9-46328B61D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91F534-4D03-4C63-8752-4ADFCE1BD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4F6E52-5867-4555-B518-7E52273E7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026D64-080B-45A2-A79A-16AABE56C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BDC6BA4-CEF5-4B4D-81F0-08BDDC5CB4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E3CC00-6F0F-42CF-B6D0-7856BC79D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615939-4323-4ECA-88A1-861D3F3D7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D78AD0-3CD9-4DF1-8E14-BC1644721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4C7E38-537B-42D0-BE82-E28F0A4BD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A4EC4F-3C09-4F96-BA17-72332EFDE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6C0E1D-37FA-4C74-B84B-6E39E1EB6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8EDDFF-810D-4C5C-93DD-3CAF016B1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722CD2-0849-42FC-92F1-CBB2B6B23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9"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282783-BF02-45E8-8879-732E443E2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86A9A7-81FB-40FC-B9DB-D22EB6B87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78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11704DE-7A21-4AA9-A026-872A68E6BD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45E53E-DA49-412E-B1AC-DCA91D76E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54B6D2-628C-43F7-9824-71B59CE74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TBD</a:t>
            </a:r>
            <a:endParaRPr b="0" lang="en-US" sz="3200" spc="-1" strike="noStrike">
              <a:solidFill>
                <a:srgbClr val="000000"/>
              </a:solidFill>
              <a:latin typeface="Times New Roman"/>
            </a:endParaRPr>
          </a:p>
        </p:txBody>
      </p:sp>
      <p:sp>
        <p:nvSpPr>
          <p:cNvPr id="79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57FAB5-6115-4CAD-B042-C23E66D7C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0D19FB-3039-4934-8526-4F3E961E8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91EEE20-2FEB-4736-B1E8-B4032D2B6D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0D12E3-E537-4EB9-BD95-073FBD6D9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1T15:53:37Z</dcterms:modified>
  <cp:revision>8558</cp:revision>
  <dc:subject>Task Group AY November 2015 Meeting Agenda</dc:subject>
  <dc:title>11-19/0229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