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75E8ABD0-A979-458D-9FBA-4FF20131AF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4695B7-042D-4DE3-8E3E-784E4CAE3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54160" y="701640"/>
            <a:ext cx="4626000" cy="3468600"/>
          </a:xfrm>
          <a:prstGeom prst="rect">
            <a:avLst/>
          </a:prstGeom>
          <a:ln w="0">
            <a:noFill/>
          </a:ln>
        </p:spPr>
      </p:sp>
      <p:sp>
        <p:nvSpPr>
          <p:cNvPr id="6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4160" y="701640"/>
            <a:ext cx="4626000" cy="3468600"/>
          </a:xfrm>
          <a:prstGeom prst="rect">
            <a:avLst/>
          </a:prstGeom>
          <a:ln w="0">
            <a:noFill/>
          </a:ln>
        </p:spPr>
      </p:sp>
      <p:sp>
        <p:nvSpPr>
          <p:cNvPr id="6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DC3A2A-437D-40CC-84CF-A01B7161D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4160" y="701640"/>
            <a:ext cx="4626000" cy="3468600"/>
          </a:xfrm>
          <a:prstGeom prst="rect">
            <a:avLst/>
          </a:prstGeom>
          <a:ln w="0">
            <a:noFill/>
          </a:ln>
        </p:spPr>
      </p:sp>
      <p:sp>
        <p:nvSpPr>
          <p:cNvPr id="67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66EFC5-A2E0-4362-AA9C-FD40A9CC2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468C59-D55E-4013-B1DC-A18EF9E8A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54160" y="701640"/>
            <a:ext cx="4626000" cy="3468600"/>
          </a:xfrm>
          <a:prstGeom prst="rect">
            <a:avLst/>
          </a:prstGeom>
          <a:ln w="0">
            <a:noFill/>
          </a:ln>
        </p:spPr>
      </p:sp>
      <p:sp>
        <p:nvSpPr>
          <p:cNvPr id="6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B8AFD0F-DB20-4817-B4EE-DD11B3C7EC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7680" y="696960"/>
            <a:ext cx="4640400" cy="3479760"/>
          </a:xfrm>
          <a:prstGeom prst="rect">
            <a:avLst/>
          </a:prstGeom>
          <a:ln w="0">
            <a:noFill/>
          </a:ln>
        </p:spPr>
      </p:sp>
      <p:sp>
        <p:nvSpPr>
          <p:cNvPr id="62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A430529-69FB-418F-B25A-12EE5824BA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7680" y="696960"/>
            <a:ext cx="4640400" cy="3479760"/>
          </a:xfrm>
          <a:prstGeom prst="rect">
            <a:avLst/>
          </a:prstGeom>
          <a:ln w="0">
            <a:noFill/>
          </a:ln>
        </p:spPr>
      </p:sp>
      <p:sp>
        <p:nvSpPr>
          <p:cNvPr id="6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CF30364-4C2B-4693-9641-7C6C5D97D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54160" y="701640"/>
            <a:ext cx="4626000" cy="3468600"/>
          </a:xfrm>
          <a:prstGeom prst="rect">
            <a:avLst/>
          </a:prstGeom>
          <a:ln w="0">
            <a:noFill/>
          </a:ln>
        </p:spPr>
      </p:sp>
      <p:sp>
        <p:nvSpPr>
          <p:cNvPr id="6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BB0EF27-2185-405E-B792-95266BC64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54160" y="701640"/>
            <a:ext cx="4626000" cy="3468600"/>
          </a:xfrm>
          <a:prstGeom prst="rect">
            <a:avLst/>
          </a:prstGeom>
          <a:ln w="0">
            <a:noFill/>
          </a:ln>
        </p:spPr>
      </p:sp>
      <p:sp>
        <p:nvSpPr>
          <p:cNvPr id="6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356540-AF45-4BA1-83F7-41A7B06CD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936B6D-416F-4D92-8630-DA43ED3DE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C16712-26E0-42F1-891A-D5E9BBF67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65770D-9370-4CFD-B2EC-439945683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08A24-E772-4315-BBB4-F2E8AB3D5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39901-364C-4E1A-AC1C-EFCC9DD6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09F085-5BBA-4BE7-BB3A-F8FB34D07C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CA1EB6-5275-471E-95FB-8E3BBFB24A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E7DEC9-AECF-4293-92DF-11CFE673CD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86ACD2-BB01-4DA8-BAB8-7A3C697E74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2DF63-EF2E-40F8-9B07-FCA4A96D17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0698D7-BC8F-4303-8D89-395D357FC3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F8F104-9EF7-4FA4-A281-BB8ADFD56F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D6F544-59F2-46ED-8BD4-9ED195EFCC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FBB90A-E47A-4181-AB9C-E1719F7BA0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03C229-4F0C-4865-8FD0-4F5F605336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6C207-E8F5-4776-A6C0-A31860678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EF269F-0601-4E11-A7F0-F1D9AFCE08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BC429A-ED63-491D-ACAF-16F9FE0775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055430-EE86-457A-B730-9F040A2AEF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40CFBC-2411-4C10-8B37-DF1F287CBF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12FD45-7BAB-4F63-BAAB-9B1E9BE4B3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5FB947-62BD-4840-9A76-826A432BD7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D18BC7-E57F-4723-BBE4-3E26C0DE35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71DBE1-775A-4FE0-98E3-B133D75E1C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D82F9F-31EC-4BDA-BA14-D16428F8C9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51489D-3EF3-46BB-94BC-BC947030C6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BDDD2-0C3F-4C9A-BEBB-C0C3362A3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D607E8-9E34-4ED8-BAD2-B5BA53FDB1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DEE5E2F-3996-480F-9194-7C3C19C04B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5CFCCA-8F6E-4AB1-8B02-08FA300C8D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638187-F9B4-4427-868E-D12E8BEE9F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F0750F-174A-4131-BD3B-A6C4BDE9F4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BABD2E-8DE8-417D-916D-C8E71A1F03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60D429-DFF2-47CD-B17A-3A6070E7A1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70A7DC-4E81-4417-9A37-01187B8387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148733-FE22-4DAD-85BA-AC766D18F3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2A99CF-BE09-4571-AFF0-4F5D4F46A6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CB9FC-60C3-4F3F-AE42-1C5DFDCB5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0ED35E-F6EB-4F3A-887E-73EFB15B3D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CEF385-11B1-40C3-85EB-4B9EB0EA6EC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66FB75-D12A-45F4-B33A-FFA6B7FDA3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980089-DB56-46EE-AF3B-6CFA6165C3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D38632-0DB0-4E39-B4CD-F8C7EDB08A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F49D82-0E87-448B-B83F-FEB212E892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11877A-19D1-4616-9C87-ECA64CC525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804E37-3374-46BC-8880-4E0D2B4FC8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4C5660-B2F8-4CF5-9E42-07F2D6F3F2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C14788-8251-4B0D-8C16-F4D7D16F27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DF3D5-1EA1-4C7E-959D-BC40D076F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2AC157-46BF-4FDB-9A40-729008B0B1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6C65F1-C9FE-406D-BEF9-CC1A75E61D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5F1B0B-C414-4416-8661-3608C20B48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995E56-6839-41F8-967F-EE9CE3330F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D353246-E2D3-4FC0-85E3-9D78E163DF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DBA4B-5A00-48B8-BB19-6261A8547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61F50-CD25-4CEF-86C6-0B927711D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D91AC-B505-4F57-8633-75EA616CD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18764-03E5-4624-B1E2-89A60C95D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C81AF-E7C3-46C1-8C7F-C71FFCC85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6B8DB-3B09-4849-8C19-8BC3FFAC5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409B0-B07C-4279-AB8A-BC20B41EF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E73A5-709B-4F38-A6CF-CB4BACE64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DC437-CFC4-422E-A349-DFB2D5190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663B1-EDB4-4E67-AB10-117B23FC8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8D405-DEB3-4D88-9CA3-3B5BB6D2A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F0EBD4-D266-4165-9531-53C39F4B6B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DB3A72-9885-4038-AE9E-F8D8A5257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7870E-115A-4103-BF7E-564DA214E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DD382-FE70-46A1-9C33-6E3CF132F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DA34E2-82B9-4299-A3F9-83F270923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A77E9-2ABC-45BA-9C15-8D995FACF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08469-C585-480C-B804-8AEAB97D8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2B79C-D1A3-4FBE-BE70-129EF0797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85691-FC57-4041-B2E0-212BCC18D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9546A-BD59-4A3C-8A14-29562B178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EB664-34C0-477A-A03F-9D279465E0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44CBCE-8F4C-4D7E-98D1-6EEC400ADF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A117CC-02A6-4AA9-83D2-5FBFB3C3ED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42DCF6-00BE-412B-A1BE-CEA4502836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8C7837-8720-4A0E-90C2-BCF46B938A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60CE60-9DA9-4223-8634-3678FEAC1A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139BC-CE07-4E86-9FD0-607D1A79D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0A074-A0B6-4955-BC3E-007B324E1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D6AF58-F55F-4F3B-AECA-6C3B35342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EA8AA2-B0D8-4258-90E4-79FEA79996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91801-8CC4-484D-B440-4BDF1DED2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B25D6-D182-4683-8757-E0E0681B7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DA2B8-7360-4EDA-BF22-132E3A4CE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09995-8405-4EF5-94FA-95278BCBFF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B603F8-ADF3-4C72-85C9-2F81E130C5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205570-585A-4E51-8A2E-E913D6B11B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A3DE17-E856-49FB-B656-6B2C77FFCE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6BDCE-7135-46EA-A52B-29EF670B8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164B28-392A-447A-A4F6-F3D7DB220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FB2B59-03F6-4785-A3FB-2F67465BFE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A4ED7-FB4C-4C73-A09C-1ECF40BAA8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A7D2AD-1F7E-4D4B-9B42-86E9F18699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8FCD41-0283-4397-B433-E8C5EC0DC5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136D5-B49E-4517-AD7A-6990D5DDD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237E3-973B-4677-B922-955C47796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B54197-E429-4A33-B023-9F1BD409A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B0C2F2-2FEC-47D8-A3D8-DE8D25F49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18EB0D-C585-4EC0-8C60-1E3DC03486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8AA9-3B68-486E-B381-090DFEA92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745025-CCCF-46EE-A6D3-DC2B8178F8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A62ED6-B79A-42A0-8639-FDB5BBD59A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CB21A-CC4E-4C0C-A7FB-03DB09494A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D6E355-94FF-4997-B7DF-359DCBA975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06E5FE-BE9B-46F7-92A4-81D8142F3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9B77F4-823A-4223-B1F6-69A563CF9A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639840-D9F1-4AA9-8A12-A20FB8461C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85BAA-C6A7-40CC-B170-9C729EA73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C9243-54EB-4BE0-86FB-5C112EA05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86A1A0-B52C-4A5C-ACF0-0D6B54148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DD80-B241-4333-A73B-E7E9FB6ED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AC3CB-3B1D-4EA8-9369-30DB4030E0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5B05BA-5C92-4E2E-B723-A654862F62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E91E47-38BA-4A65-B056-AFE0C51502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958526-D64B-42CF-B990-E50F5F0637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0B66CD-882A-444F-A0A9-08EE1F2F28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6581D-3993-4714-8778-04B15A546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59127F-0D9A-4DF3-B220-DB9D3E81AA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521B77-4818-491F-9B79-BE02ED9F47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831D6C-2617-4853-93DE-2642B97A4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6C31D-347E-4D78-9FBD-DD87B75A4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D396-3BD6-4D39-A959-D19553C89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6F63A-AA7D-4F5C-8DAD-92C971FDF8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54265-036C-4809-BCDE-D266C5860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BF14CA-AF47-42A3-B20B-E6E7D5B2C0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5332F5-FAA1-4852-8137-84F6ADA465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E81F9C-68AE-4D6C-932C-273632BEAC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15E7D9-6CC3-42A9-A256-5FE4D2B817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77539F-94B8-46D8-9079-CAF75FEBE7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8A0E4A-C434-40F0-AAA0-D21E4FADF5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A430B1-DFE4-4752-8630-534DB7C8DD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A40A5D-D3EB-42C7-9DE6-D0AA969BAB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395E2-0285-41E3-98C8-F9F450686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CAC1B6-ABC4-4FA5-8100-8C9A2006DF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9B3C1-7DD0-4023-8CB8-26F751B1CC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DE7EBC-ACB1-448C-B567-DB685E9BCC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7DD911-2993-43FD-ABAA-CCC04F06C1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513C8B-2741-4975-B6DD-56351D03DE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9C8F24-A0CC-4CEB-B91B-A82CF405B6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D96D41-48D8-498F-84BB-F0A732339D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257F85-D0CD-4890-A1E9-A953C85C08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6B00DE-8FA1-494E-AA10-D39C56C90D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FC4737-2FF2-4896-A9AF-276F5CFA07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E3A1E77-3C5C-4F73-86F0-47E0FD537C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D0F9855-3A7D-4250-ABFA-52A8535855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522CB8F-86B4-4132-9ECD-70AB026299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600B62C-65B1-4D3A-AE3B-BAB8F3129B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2F431FA-1C53-4158-8F73-DAA145D951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E1B0E03-8656-4E49-A8FB-162838D116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0F1209B-36EF-430B-9EB8-11854D278A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F77C120-48E4-4305-9C28-8F9207882A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0AA1D4-F15B-4F16-88CA-B6F0E5D11B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EE93A6E-41E2-474E-BA77-292FCAF3FE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62ECBA5-CD3C-4E99-AF21-170FA0D2F6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156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8A867B0-D625-4160-B5BF-698C1BD3AC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671C67-98E9-47F9-ABA9-3E2D58F92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9,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1-09</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EF7E85-2A43-45D7-B017-FDFCD38DA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60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6E0FF0-9680-4B3C-9005-1B5A58B1A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agenda items on the January 2019 interi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49r0:  </a:t>
            </a:r>
            <a:r>
              <a:rPr b="0" lang="en-US" sz="1600" spc="-1" strike="noStrike">
                <a:solidFill>
                  <a:srgbClr val="000000"/>
                </a:solidFill>
                <a:latin typeface="Times New Roman"/>
              </a:rPr>
              <a:t>Bug fix in EDMG Extended Schedule element (Lei Huang)</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150r0:  </a:t>
            </a:r>
            <a:r>
              <a:rPr b="0" lang="en-GB" sz="1600" spc="-1" strike="noStrike">
                <a:solidFill>
                  <a:srgbClr val="000000"/>
                </a:solidFill>
                <a:latin typeface="Times New Roman"/>
              </a:rPr>
              <a:t>Comment resolution on CID 3234 and 3455 (Lei Huang)</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8/2120r2:  </a:t>
            </a:r>
            <a:r>
              <a:rPr b="0" lang="en-US" sz="1600" spc="-1" strike="noStrike">
                <a:solidFill>
                  <a:srgbClr val="000000"/>
                </a:solidFill>
                <a:latin typeface="Times New Roman"/>
              </a:rPr>
              <a:t>Secure protection of Link Measurement frames (Solomon Trainin)</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089r0:  </a:t>
            </a:r>
            <a:r>
              <a:rPr b="0" lang="en-GB" sz="1600" spc="-1" strike="noStrike">
                <a:solidFill>
                  <a:srgbClr val="000000"/>
                </a:solidFill>
                <a:latin typeface="Times New Roman"/>
              </a:rPr>
              <a:t>LB234 Comment resolution for coex CIDs 3297 3361 3480 3658 3688 presentation (Solomon Trainin)</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2090r0:  </a:t>
            </a:r>
            <a:r>
              <a:rPr b="0" lang="en-GB" sz="1600" spc="-1" strike="noStrike">
                <a:solidFill>
                  <a:srgbClr val="000000"/>
                </a:solidFill>
                <a:latin typeface="Times New Roman"/>
              </a:rPr>
              <a:t>LB234 Comment resolution for coex CIDs 3297 3361 3480 3658 3688 (Solomon Trainin)</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8/2158r0:  </a:t>
            </a:r>
            <a:r>
              <a:rPr b="0" lang="en-GB" sz="1600" spc="-1" strike="noStrike">
                <a:solidFill>
                  <a:srgbClr val="000000"/>
                </a:solidFill>
                <a:latin typeface="Times New Roman"/>
              </a:rPr>
              <a:t>Resolution of CIDs 3573, 3583, 3592, 3638, 3657, 3689 (Solomon Trainin)</a:t>
            </a:r>
            <a:endParaRPr b="0" lang="en-US" sz="16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9B2E82-072C-4DD6-B91B-B98B924BB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 on January 9,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20D4E6D-FBBC-4DD1-8323-7518AC2ACC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7791E18-8E84-48AE-A2E8-43AD823289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293709-2B89-4473-BE7A-F7BA166BE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7C2DC7-5DA4-47CC-BD33-36D2DDDC0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DD31B9A-3EA7-440F-8B46-CD4A075AD3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CD72BC-A2BB-404E-AA2F-D85E1E0A0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46913D-3281-4EC6-A085-B35D8FE0C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8 2018</cp:keywords>
  <dc:language>en-US</dc:language>
  <cp:lastModifiedBy>Edward Au</cp:lastModifiedBy>
  <cp:lastPrinted>2014-11-04T15:04:57Z</cp:lastPrinted>
  <dcterms:modified xsi:type="dcterms:W3CDTF">2018-12-28T01:14:55Z</dcterms:modified>
  <cp:revision>4289</cp:revision>
  <dc:subject>Task Group AY November 2015 Meeting Agenda</dc:subject>
  <dc:title>18/2069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