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AE8F1206-146F-4238-9BBF-6564F574ADB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3"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4"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1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8EA0885-E0A4-411F-891F-A8A34899A1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6" name="PlaceHolder 1"/>
          <p:cNvSpPr>
            <a:spLocks noGrp="1"/>
          </p:cNvSpPr>
          <p:nvPr>
            <p:ph type="sldImg"/>
          </p:nvPr>
        </p:nvSpPr>
        <p:spPr>
          <a:xfrm>
            <a:off x="1154160" y="701640"/>
            <a:ext cx="4626000" cy="3468600"/>
          </a:xfrm>
          <a:prstGeom prst="rect">
            <a:avLst/>
          </a:prstGeom>
          <a:ln w="0">
            <a:noFill/>
          </a:ln>
        </p:spPr>
      </p:sp>
      <p:sp>
        <p:nvSpPr>
          <p:cNvPr id="61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54160" y="701640"/>
            <a:ext cx="4626000" cy="3468600"/>
          </a:xfrm>
          <a:prstGeom prst="rect">
            <a:avLst/>
          </a:prstGeom>
          <a:ln w="0">
            <a:noFill/>
          </a:ln>
        </p:spPr>
      </p:sp>
      <p:sp>
        <p:nvSpPr>
          <p:cNvPr id="66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6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6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AC5BB09-A5BF-4CD6-B6E4-2D41E23D74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54160" y="701640"/>
            <a:ext cx="4626000" cy="3468600"/>
          </a:xfrm>
          <a:prstGeom prst="rect">
            <a:avLst/>
          </a:prstGeom>
          <a:ln w="0">
            <a:noFill/>
          </a:ln>
        </p:spPr>
      </p:sp>
      <p:sp>
        <p:nvSpPr>
          <p:cNvPr id="671"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br>
              <a:rPr sz="1200"/>
            </a:br>
            <a:endParaRPr b="0" lang="en-US" sz="1200" spc="-1" strike="noStrike">
              <a:solidFill>
                <a:srgbClr val="000000"/>
              </a:solidFill>
              <a:latin typeface="Times New Roman"/>
            </a:endParaRPr>
          </a:p>
        </p:txBody>
      </p:sp>
      <p:sp>
        <p:nvSpPr>
          <p:cNvPr id="67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7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8A373DE-B4DA-4784-90C6-7925F2C630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9"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0"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2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EF14F25-19CA-44C7-8411-CDA157637B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2" name="PlaceHolder 1"/>
          <p:cNvSpPr>
            <a:spLocks noGrp="1"/>
          </p:cNvSpPr>
          <p:nvPr>
            <p:ph type="sldImg"/>
          </p:nvPr>
        </p:nvSpPr>
        <p:spPr>
          <a:xfrm>
            <a:off x="1154160" y="701640"/>
            <a:ext cx="4626000" cy="3468600"/>
          </a:xfrm>
          <a:prstGeom prst="rect">
            <a:avLst/>
          </a:prstGeom>
          <a:ln w="0">
            <a:noFill/>
          </a:ln>
        </p:spPr>
      </p:sp>
      <p:sp>
        <p:nvSpPr>
          <p:cNvPr id="62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5"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6"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2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D8926477-1CE6-4C6B-BFD2-96570D96A1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8" name="PlaceHolder 1"/>
          <p:cNvSpPr>
            <a:spLocks noGrp="1"/>
          </p:cNvSpPr>
          <p:nvPr>
            <p:ph type="sldImg"/>
          </p:nvPr>
        </p:nvSpPr>
        <p:spPr>
          <a:xfrm>
            <a:off x="1147680" y="696960"/>
            <a:ext cx="4640400" cy="3479760"/>
          </a:xfrm>
          <a:prstGeom prst="rect">
            <a:avLst/>
          </a:prstGeom>
          <a:ln w="0">
            <a:noFill/>
          </a:ln>
        </p:spPr>
      </p:sp>
      <p:sp>
        <p:nvSpPr>
          <p:cNvPr id="629"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1"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2"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3"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2B0E7BB4-E435-47DF-9F83-A0729B53244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4" name="PlaceHolder 1"/>
          <p:cNvSpPr>
            <a:spLocks noGrp="1"/>
          </p:cNvSpPr>
          <p:nvPr>
            <p:ph type="sldImg"/>
          </p:nvPr>
        </p:nvSpPr>
        <p:spPr>
          <a:xfrm>
            <a:off x="1147680" y="696960"/>
            <a:ext cx="4640400" cy="3479760"/>
          </a:xfrm>
          <a:prstGeom prst="rect">
            <a:avLst/>
          </a:prstGeom>
          <a:ln w="0">
            <a:noFill/>
          </a:ln>
        </p:spPr>
      </p:sp>
      <p:sp>
        <p:nvSpPr>
          <p:cNvPr id="635"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AFACF9A-52D6-4490-B091-0422BF57BB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7" name="PlaceHolder 1"/>
          <p:cNvSpPr>
            <a:spLocks noGrp="1"/>
          </p:cNvSpPr>
          <p:nvPr>
            <p:ph type="sldImg"/>
          </p:nvPr>
        </p:nvSpPr>
        <p:spPr>
          <a:xfrm>
            <a:off x="1154160" y="701640"/>
            <a:ext cx="4626000" cy="3468600"/>
          </a:xfrm>
          <a:prstGeom prst="rect">
            <a:avLst/>
          </a:prstGeom>
          <a:ln w="0">
            <a:noFill/>
          </a:ln>
        </p:spPr>
      </p:sp>
      <p:sp>
        <p:nvSpPr>
          <p:cNvPr id="63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CB92C36-0A4D-49C3-AB18-809E8AF354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0" name="PlaceHolder 1"/>
          <p:cNvSpPr>
            <a:spLocks noGrp="1"/>
          </p:cNvSpPr>
          <p:nvPr>
            <p:ph type="sldImg"/>
          </p:nvPr>
        </p:nvSpPr>
        <p:spPr>
          <a:xfrm>
            <a:off x="1154160" y="701640"/>
            <a:ext cx="4626000" cy="3468600"/>
          </a:xfrm>
          <a:prstGeom prst="rect">
            <a:avLst/>
          </a:prstGeom>
          <a:ln w="0">
            <a:noFill/>
          </a:ln>
        </p:spPr>
      </p:sp>
      <p:sp>
        <p:nvSpPr>
          <p:cNvPr id="64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643"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644"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64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06955FA-3D78-454F-88C0-1979759E6E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6" name="PlaceHolder 1"/>
          <p:cNvSpPr>
            <a:spLocks noGrp="1"/>
          </p:cNvSpPr>
          <p:nvPr>
            <p:ph type="sldImg"/>
          </p:nvPr>
        </p:nvSpPr>
        <p:spPr>
          <a:xfrm>
            <a:off x="1154160" y="701640"/>
            <a:ext cx="4626000" cy="3468600"/>
          </a:xfrm>
          <a:prstGeom prst="rect">
            <a:avLst/>
          </a:prstGeom>
          <a:ln w="0">
            <a:noFill/>
          </a:ln>
        </p:spPr>
      </p:sp>
      <p:sp>
        <p:nvSpPr>
          <p:cNvPr id="647"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9"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0"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5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1CC80D8-E262-47CF-9B27-A36FC99465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2"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653"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654"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655"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B6D0476-46EC-4240-A67D-9F9C35EF16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6" name="PlaceHolder 1"/>
          <p:cNvSpPr>
            <a:spLocks noGrp="1"/>
          </p:cNvSpPr>
          <p:nvPr>
            <p:ph type="sldImg"/>
          </p:nvPr>
        </p:nvSpPr>
        <p:spPr>
          <a:xfrm>
            <a:off x="1154160" y="701640"/>
            <a:ext cx="4626000" cy="3468600"/>
          </a:xfrm>
          <a:prstGeom prst="rect">
            <a:avLst/>
          </a:prstGeom>
          <a:ln w="0">
            <a:noFill/>
          </a:ln>
        </p:spPr>
      </p:sp>
      <p:sp>
        <p:nvSpPr>
          <p:cNvPr id="65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54160" y="701640"/>
            <a:ext cx="4626000" cy="3468600"/>
          </a:xfrm>
          <a:prstGeom prst="rect">
            <a:avLst/>
          </a:prstGeom>
          <a:ln w="0">
            <a:noFill/>
          </a:ln>
        </p:spPr>
      </p:sp>
      <p:sp>
        <p:nvSpPr>
          <p:cNvPr id="65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6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6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FAE74B9-5535-4F3F-8277-3336D2056D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3FD450-512B-4340-986E-01FF90CF49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8A6B7-25F1-410F-8879-8C8B62947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6E1D1D-DEB3-4980-8356-A7C11A5B8E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FA423D-4C7D-4499-8E91-6231692A69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8EF2FE-9866-40FD-8BCD-F7CA538DB7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A02874-2012-4BD5-A751-218149FABA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D10A3F-6DA8-4B54-82EB-57F54D63B0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5810C1-750C-4E7B-A825-6BF2FF01E9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80EF3E-0534-45C1-9487-D8741477E0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1A93030-FEC9-4D4E-A6BC-34195D68CF7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A3968AF-6423-4197-969F-732373D6578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9902226-C78A-44AD-8FD9-0AF1D3C5BD9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F3C9CC-ECD3-4CA1-A51F-7E20236FD2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B423EE0-779C-4EC4-B0AA-F80D4D78A4F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F450B7B-091F-46D5-AAEB-16AE0E25221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63D1A8C-F46A-4E9A-AE78-877FE91E751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1756EDE-AED3-4C08-9B05-6BEB16C8C01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AFBCCC5-9401-4F58-9624-0CAD4E47504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D85FFFA-DB77-49B4-8E06-8A9FC295175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A14EF4F-6ACC-450B-A3B7-5DDE7EB06D9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D1C5AE6-8C2B-427B-8E35-D84F48CC627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A0D0215-E687-4097-AF23-F96216D3CFA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7592B29-E06C-405C-B2A9-2422B9BBED8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251A54-E2F5-4C36-BDF6-42FB0C7F00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BD6D6A2-76E3-485B-92BD-7CF798E3C9E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EB0F8FF-C2FC-45FC-8E88-D6AB9411098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C926CC2-13F6-4287-B1A3-328274CCF09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6AB4390-83AC-4A4D-85B1-D47C457FFAD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A3C026F-EB0F-47BC-9E4D-0DFD63211BD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024B746-66D6-4674-B1A9-B1479EB3099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2610043-2919-4197-ACF8-7F195BFA024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933BB3A-3331-4F36-8093-F5527BF1799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3E748D6-FA83-4806-BE41-0613CD10DF7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8EBE429-2E96-44E1-A097-CC57F3F4D6F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422CC9-BC2B-4687-A1A8-32EB16E349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1C07E66-6254-4615-8914-2D1C2C0A589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1941B17-659D-4B3C-90E9-CB18B13CD1C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676F937-5D60-4C1D-8249-9AF27008F6D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5845654-9B40-4362-8803-99CDD603F9F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353A3D5-67BE-4EC0-9AFA-2F6840C5BC0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324056E-34C7-4A57-8E99-94E8CABF340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D4A965C-C690-4D6D-A258-471D92F2EDC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2D93C5C-FAE3-4D2B-BD31-5FA28E772D7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8A2380D-3641-4D0F-B4FF-4F798F57866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508BE86-012E-4778-85AF-FC0D82CD29A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5E4D6A-1ECB-46E4-BF97-C525A77C63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E2F4C21-5F17-4343-B153-36238455485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05528D5-30E1-45A9-A2D6-C044044D5DA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917CB31-36D6-44AF-9335-281D4D86A38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D4F1AA4-337D-4A96-9369-110267D2BBA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6E66002-7567-45CA-AF96-BF8A3BD1173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4103C4-5DCE-4DBD-BE66-8454BF61FB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89545C-C62E-43F7-96AE-9D040FB8E8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5371CD-5210-446C-8683-E1BE8D2257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AEF8C6-D785-436F-B815-61CBC5FD07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5EBD8C-839D-431F-B158-6C9DB273CB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4C09B-2A4A-4BBE-A262-28303A9D2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A2D9C-EB49-43D1-BF3E-6552CE24AE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768FC-AC4D-431F-B6B8-4559AF61C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3470EC-2DCA-4BFF-8A82-11CC6C8C4E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49F856-BB24-4F84-940B-ACD277884A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7656D6-A1BF-4DBD-AF0F-33EB4B68C2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EEBFF6-6F79-4F4F-ACB5-42BE5F2A27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4FE2AD-F638-4D9F-AF40-8D41DE0A84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1A8DC7-142E-4108-ACBB-B7A5B6E58E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B2A11A-49AB-4C7E-B868-2F847848DC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B49995-148B-4A32-8979-636995D14D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DB573-949D-4FAD-ABEA-3107EB6CE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DF81FA-995D-4C2D-B015-B67B28386B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4E392D-AE7E-4D6A-9D64-099AE2F6F4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ECAB11-0DD5-4167-9CF8-70BE73F99B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744416-12AA-4534-B93C-A29B9E5BB6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69E5E2-730D-4E5C-8203-203F8B5FA4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78657F-DC6C-45BD-87C0-3FD686E68C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A9B037-1A81-4B61-8F7F-DF3F0DB147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97699C-6F7A-4D32-A160-7164DCF78B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0CC663-26F3-424C-A687-7AC35792C6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E7D366-6C92-41F7-B3B8-1B8C82064B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D0170-500B-48BD-A245-FF9CDD7D6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3BCC23-A496-4B11-9593-7B9171C404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2B2A45-A0D6-4D40-B038-5D7F6DBB72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8EFEA5-F159-4F40-A5FB-913B5C5F8B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6AEDD8-6B4C-4D6E-ACD8-17B48B1163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A0BFB2-BE57-4CA2-9BF6-0E6496B85E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30C0E2-5B1A-4BCE-B5B8-5FCEB9CF39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591AF7-622D-4B3F-9EC9-D8F1C079A3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44B597-0D0B-47A9-9362-416EFD1D21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CE5204-4C21-440B-995D-925B3DF66E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0BD093D-0BAB-4835-AEA7-1C0D97C87E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852BB-D90A-4D61-96DB-5CA1FDA33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F9B28C-E566-4ECD-AB99-0D4507781D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4FD702-5F3A-4F83-ADB8-4A47E2AA2D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DF816C-5FDF-4762-A498-DE3891BEA4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068EAF-A45E-4560-AD84-4C8898F378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B3A656-8183-41E6-A40E-ED91220ADA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BFA4F4-4DFB-4B06-B9DD-0912FCFAFB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FF7264-A624-4825-8384-243058002E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6134CC-12FA-407B-85DC-7FCDCB1A12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0B936C-1BFE-417F-AFF3-19C60D1D94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61544E3-0E7E-469B-817C-B1A5DA47D7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E96F5-84C3-49F5-AD4F-E5FDFF68D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3BCE5FA-3844-4848-823C-7D2EE352066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E74D107-41BA-4532-AC4D-EC1674BDAEA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E146DE-1C01-46E4-8C6F-E3C976C268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0E801A-94DB-4767-BEC6-4F0220BE75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D4577C-4D08-4087-91B6-7B6051D0A7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016867-648B-4A63-8B91-DEE56E4C7D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DE0000-60F0-4EC1-961C-04088258C2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C0BBA7-FBC7-48E4-841A-BD91C25264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56537B-04B2-414F-BFBB-9AED46DB52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C36662-708C-4545-BBF3-F031A7EFD7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93DDD-4EE9-40E8-AC68-1FC5E36E4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277FFF-EAF0-494E-B940-17DFF282AD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B6F483-699F-4743-A0D8-69FD0108BDE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30FEAD-CBBA-439C-86A7-EA6FCE1E043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3F7E3B8-7D3E-4575-B267-2D2A563E371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BB3519-3B2C-4403-8A55-0E42A380F9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AF9AA8-DCD2-41E8-B755-2A23FEAF9F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B3E30C-C405-43A8-B222-E718969C99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CC065F-B057-4AEF-AEB8-6DCA5D5C52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A6C291-BCB6-4365-AAAB-31C4F76F4F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D24E57-1352-436C-8A65-54A1D2FABC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18FC8-BA77-4288-A412-C9AE10CDF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490DCB-3409-4FA3-AAA8-D5D6EA0126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A42E7C-D1FD-4B2C-8BB6-48D25108D4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E15F3B-FEB6-4339-A59D-E623C3FACF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7C52AAC-51C1-4745-8DCF-CD834BA6D07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2CDF0AE-FC2F-43E9-A060-926CAD5CA07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69DD828-E21E-4715-9A95-55220EC6477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024748-940D-4B15-A11B-7958DB337E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EA2E83-92E4-4AC4-A67E-AD9E827327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94651F-BA3C-4795-A35C-EC3E6C27D9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DFE6FF-39D1-4246-8C4B-3F8CE12903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CD2A8-70C1-42AE-862F-EE7573A6F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C9733C-5C6D-4EE2-AEBF-9884BC6D58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BFDA78-4AD3-453C-9FB3-5ADAFFC064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CE747D-0A30-47F1-A7F2-7CCBBC2245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140F8C-955D-4DD3-8331-C0D9D49CAA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C57D53-156F-4718-A381-4109408844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F7158E8-759C-458C-8750-390FDA983CF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0B77BC7-B69D-4A2E-B628-CA12CC294B4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10A3E71-4AD5-419F-A0C6-1986745E430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E62498-0B3B-4722-B9F7-6FC5D3239AD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23F730-A8FD-43FD-9259-8680B2C7D51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D18E999-5B3F-4EB5-B20F-44E1B43000F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56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56r0</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73EF1C4-8E81-4C4F-A52A-9C81F57DAEC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56r0</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D1E0C77-1195-49E3-B085-7F00BE2289F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56r0</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B1094B1-48A0-40EA-8A3D-C4CA3DB960B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56r0</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EBB7F60-F70F-4C56-B83F-8A4AA51A09F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56r0</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EBEA5E8-50CD-418E-BD85-BCBBE7D44A7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56r0</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CD0FC65-6DFA-4913-91F2-C0BD403749E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56r0</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D0E38BA-BE6A-449D-87E6-55C3CBF5E5A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56r0</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08B977F-DA20-429F-B26B-FD2BF42FDBF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56r0</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3357B02-E134-4033-AFE1-61B63D618C0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56r0</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8604D99-66F5-4BD0-9AE5-984B95662A1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56r0</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D7E2B11-F549-4100-9B52-F57E030C52F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mentor.ieee.org/802.11/dcn/11/11-11-1625-02-0000-comment-resolution-guide.doc" TargetMode="External"/><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mailto:edward.ks.au@gmail.com" TargetMode="External"/><Relationship Id="rId2" Type="http://schemas.openxmlformats.org/officeDocument/2006/relationships/hyperlink" Target="mailto:jeorge.hurtarte@litepoint.com" TargetMode="External"/><Relationship Id="rId3" Type="http://schemas.openxmlformats.org/officeDocument/2006/relationships/hyperlink" Target="http://mentor.ieee.org/" TargetMode="External"/><Relationship Id="rId4" Type="http://schemas.openxmlformats.org/officeDocument/2006/relationships/slideLayout" Target="../slideLayouts/slideLayout8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mentor.ieee.org/802.11/dcn/13/11-13-0230-03-0000-comment-resolution-tutorial.ppt" TargetMode="External"/><Relationship Id="rId2" Type="http://schemas.openxmlformats.org/officeDocument/2006/relationships/hyperlink" Target="https://mentor.ieee.org/802.11/dcn/13/11-13-0230-03-0000-comment-resolution-tutorial.ppt" TargetMode="External"/><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AD28E0A-F9BC-41BB-B17F-411F053AB5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January 9, 2019 Teleconference Call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6765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9-01-09</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74C449B-11E2-4AC3-ADAA-EDC16A0C60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king changes to the approved draft</a:t>
            </a:r>
            <a:endParaRPr b="0" lang="en-US" sz="3200" spc="-1" strike="noStrike">
              <a:solidFill>
                <a:srgbClr val="000000"/>
              </a:solidFill>
              <a:latin typeface="Times New Roman"/>
            </a:endParaRPr>
          </a:p>
        </p:txBody>
      </p:sp>
      <p:sp>
        <p:nvSpPr>
          <p:cNvPr id="60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0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06"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ask group that “owns” the draft can make any changes it likes for any reason whatsoever during the ballot cycle, provided that the changes are approved by 75% motion in the T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changes are recirculated to voters, and identified in the draft redline.  Voters can comment on these changes and may vote “no” if they don’t like them.</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interest of reaching closure, the TG is advised to limit these changes to the early stages of a ballot serie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1/11-11-1625-02-0000-comment-resolution-guide.doc</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1BA8D40-6915-408F-A510-798D57DE5A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a:t>
            </a:r>
            <a:endParaRPr b="0" lang="en-US" sz="3200" spc="-1" strike="noStrike">
              <a:solidFill>
                <a:srgbClr val="000000"/>
              </a:solidFill>
              <a:latin typeface="Times New Roman"/>
            </a:endParaRPr>
          </a:p>
        </p:txBody>
      </p:sp>
      <p:sp>
        <p:nvSpPr>
          <p:cNvPr id="609"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nouncement:</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agenda items on the January 2019 interim</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2149r0:  </a:t>
            </a:r>
            <a:r>
              <a:rPr b="0" lang="en-US" sz="1600" spc="-1" strike="noStrike">
                <a:solidFill>
                  <a:srgbClr val="000000"/>
                </a:solidFill>
                <a:latin typeface="Times New Roman"/>
              </a:rPr>
              <a:t>Bug fix in EDMG Extended Schedule element (Lei Huang)</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2150r0:  </a:t>
            </a:r>
            <a:r>
              <a:rPr b="0" lang="en-GB" sz="1600" spc="-1" strike="noStrike">
                <a:solidFill>
                  <a:srgbClr val="000000"/>
                </a:solidFill>
                <a:latin typeface="Times New Roman"/>
              </a:rPr>
              <a:t>Comment resolution on CID 3234 and 3455 (Lei Huang)</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8/2120r2:  </a:t>
            </a:r>
            <a:r>
              <a:rPr b="0" lang="en-US" sz="1600" spc="-1" strike="noStrike">
                <a:solidFill>
                  <a:srgbClr val="000000"/>
                </a:solidFill>
                <a:latin typeface="Times New Roman"/>
              </a:rPr>
              <a:t>Secure protection of Link Measurement frames (Solomon Trainin)</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2089r0:  </a:t>
            </a:r>
            <a:r>
              <a:rPr b="0" lang="en-GB" sz="1600" spc="-1" strike="noStrike">
                <a:solidFill>
                  <a:srgbClr val="000000"/>
                </a:solidFill>
                <a:latin typeface="Times New Roman"/>
              </a:rPr>
              <a:t>LB234 Comment resolution for coex CIDs 3297 3361 3480 3658 3688 presentation (Solomon Trainin)</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2090r0:  </a:t>
            </a:r>
            <a:r>
              <a:rPr b="0" lang="en-GB" sz="1600" spc="-1" strike="noStrike">
                <a:solidFill>
                  <a:srgbClr val="000000"/>
                </a:solidFill>
                <a:latin typeface="Times New Roman"/>
              </a:rPr>
              <a:t>LB234 Comment resolution for coex CIDs 3297 3361 3480 3658 3688 (Solomon Trainin)</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f time permits:</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8/2158r0:  </a:t>
            </a:r>
            <a:r>
              <a:rPr b="0" lang="en-GB" sz="1600" spc="-1" strike="noStrike">
                <a:solidFill>
                  <a:srgbClr val="000000"/>
                </a:solidFill>
                <a:latin typeface="Times New Roman"/>
              </a:rPr>
              <a:t>Resolution of CIDs 3573, 3583, 3592, 3638, 3657, 3689 (Solomon Trainin)</a:t>
            </a:r>
            <a:endParaRPr b="0" lang="en-US" sz="1600" spc="-1" strike="noStrike">
              <a:solidFill>
                <a:srgbClr val="000000"/>
              </a:solidFill>
              <a:latin typeface="Times New Roman"/>
            </a:endParaRPr>
          </a:p>
          <a:p>
            <a:pPr lvl="2" marL="1143000" indent="-228600" algn="just">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9C9B0B1-B0EB-4BEC-AB2D-B44E21D5AF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teleconference call on January 9, 2019.</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C2F5F2B7-7528-4298-8F84-0BA0959CE71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5"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6"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7"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6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7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DB706655-7B97-44BB-B361-C44253210BE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2"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3"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7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5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1DB293E-18C0-4F5C-B003-B1011130BC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8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2"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4DFFF54-AF66-4A92-92EE-D3712FB7A8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8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AC063AFF-D0C4-4616-9A69-0E167464EC1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8"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8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9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42D21FB-BBCB-4038-B2F7-750A86238F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ease send an email to the addresses below to have your attendance recorded:</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edward.ks.au@gmail.com</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jeorge.hurtarte@litepoint.com</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3"/>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a:t>
            </a:r>
            <a:endParaRPr b="0" lang="en-US" sz="3200" spc="-1" strike="noStrike">
              <a:solidFill>
                <a:srgbClr val="000000"/>
              </a:solidFill>
              <a:latin typeface="Times New Roman"/>
            </a:endParaRPr>
          </a:p>
        </p:txBody>
      </p:sp>
      <p:sp>
        <p:nvSpPr>
          <p:cNvPr id="59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9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65BD41D-6C39-40AF-9D52-F09E4CE41F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comment resolution</a:t>
            </a:r>
            <a:endParaRPr b="0" lang="en-US" sz="3200" spc="-1" strike="noStrike">
              <a:solidFill>
                <a:srgbClr val="000000"/>
              </a:solidFill>
              <a:latin typeface="Times New Roman"/>
            </a:endParaRPr>
          </a:p>
        </p:txBody>
      </p:sp>
      <p:sp>
        <p:nvSpPr>
          <p:cNvPr id="59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0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01"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he proposed resolution is executable by the Editor, e.g., please avoid that there is not enough info to be able for the Editor to resolve the comment without creating text by himself.</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o call out not only the page and line number, but also the draft version and clause number in your comment resolution document, because the page and line numbers (also the figure and table numbers) change on subsequent revisions of the draft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8/11-18-1391-00-0000-september-2018-working-group-chair-supplementary-material.ppt</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s://mentor.ieee.org/802.11/dcn/13/11-13-0230-03-0000-comment-resolution-tutorial.pp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November 28 2018</cp:keywords>
  <dc:language>en-US</dc:language>
  <cp:lastModifiedBy>Edward Au</cp:lastModifiedBy>
  <cp:lastPrinted>2014-11-04T15:04:57Z</cp:lastPrinted>
  <dcterms:modified xsi:type="dcterms:W3CDTF">2018-12-28T01:14:55Z</dcterms:modified>
  <cp:revision>4289</cp:revision>
  <dc:subject>Task Group AY November 2015 Meeting Agenda</dc:subject>
  <dc:title>18/2069r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5"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6"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7" name="_ms_pID_72534310_00">
    <vt:lpwstr>_ms_pID_72534310</vt:lpwstr>
  </property>
  <property fmtid="{D5CDD505-2E9C-101B-9397-08002B2CF9AE}" pid="8" name="_ms_pID_72534311">
    <vt:lpwstr>w8PjN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2" name="_ms_pID_7253432_00">
    <vt:lpwstr>_ms_pID_7253432</vt:lpwstr>
  </property>
  <property fmtid="{D5CDD505-2E9C-101B-9397-08002B2CF9AE}" pid="13"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4" name="_ms_pID_7253433_00">
    <vt:lpwstr>_ms_pID_7253433</vt:lpwstr>
  </property>
  <property fmtid="{D5CDD505-2E9C-101B-9397-08002B2CF9AE}" pid="15"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6" name="_ms_pID_7253434_00">
    <vt:lpwstr>_ms_pID_7253434</vt:lpwstr>
  </property>
  <property fmtid="{D5CDD505-2E9C-101B-9397-08002B2CF9AE}" pid="17"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8" name="_ms_pID_7253435_00">
    <vt:lpwstr>_ms_pID_7253435</vt:lpwstr>
  </property>
  <property fmtid="{D5CDD505-2E9C-101B-9397-08002B2CF9AE}" pid="19"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0" name="_ms_pID_7253436_00">
    <vt:lpwstr>_ms_pID_7253436</vt:lpwstr>
  </property>
  <property fmtid="{D5CDD505-2E9C-101B-9397-08002B2CF9AE}" pid="21"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2" name="_ms_pID_7253437_00">
    <vt:lpwstr>_ms_pID_7253437</vt:lpwstr>
  </property>
  <property fmtid="{D5CDD505-2E9C-101B-9397-08002B2CF9AE}" pid="23"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4" name="_ms_pID_7253438_00">
    <vt:lpwstr>_ms_pID_7253438</vt:lpwstr>
  </property>
  <property fmtid="{D5CDD505-2E9C-101B-9397-08002B2CF9AE}" pid="25"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readonly">
    <vt:lpwstr/>
  </property>
  <property fmtid="{D5CDD505-2E9C-101B-9397-08002B2CF9AE}" pid="29" name="sflag">
    <vt:lpwstr>1508261703</vt:lpwstr>
  </property>
</Properties>
</file>