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C14801D-5EBC-42F8-8062-4CA3959631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803DD5-3907-4AE7-BAB4-4C61FD997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AA89A9-C16D-4C00-9F6F-924A02287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83E8BD-D145-4324-B601-46F3FEAD0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54160" y="701640"/>
            <a:ext cx="4626000" cy="3468600"/>
          </a:xfrm>
          <a:prstGeom prst="rect">
            <a:avLst/>
          </a:prstGeom>
          <a:ln w="0">
            <a:noFill/>
          </a:ln>
        </p:spPr>
      </p:sp>
      <p:sp>
        <p:nvSpPr>
          <p:cNvPr id="9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DBBFD0-FFA5-4CDD-9DEF-C8655235B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A5BD51-6A54-4464-8AFC-3B5A61F82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4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CCD596-4881-44AD-840B-5D4802673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089566-4772-4DCE-82AA-D36669753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1AB0B6-9DE9-43C4-8934-B1A2D542C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54160" y="701640"/>
            <a:ext cx="4626000" cy="3468600"/>
          </a:xfrm>
          <a:prstGeom prst="rect">
            <a:avLst/>
          </a:prstGeom>
          <a:ln w="0">
            <a:noFill/>
          </a:ln>
        </p:spPr>
      </p:sp>
      <p:sp>
        <p:nvSpPr>
          <p:cNvPr id="9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C6F429-B3F5-4B2E-A537-200880CDC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54160" y="701640"/>
            <a:ext cx="4626000" cy="3468600"/>
          </a:xfrm>
          <a:prstGeom prst="rect">
            <a:avLst/>
          </a:prstGeom>
          <a:ln w="0">
            <a:noFill/>
          </a:ln>
        </p:spPr>
      </p:sp>
      <p:sp>
        <p:nvSpPr>
          <p:cNvPr id="9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F74D45-4474-4E52-94AA-F1AB20780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9B966C-8CE9-472A-8E18-FE6665286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79"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80"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81"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FBDD6308-C5A9-4318-8EA4-90943B29B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17440" y="696960"/>
            <a:ext cx="4646880" cy="3486240"/>
          </a:xfrm>
          <a:prstGeom prst="rect">
            <a:avLst/>
          </a:prstGeom>
          <a:ln w="0">
            <a:noFill/>
          </a:ln>
        </p:spPr>
      </p:sp>
      <p:sp>
        <p:nvSpPr>
          <p:cNvPr id="98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AE28FD-FC6D-43B9-B331-BE13EAC1B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54160" y="701640"/>
            <a:ext cx="4626000" cy="3468600"/>
          </a:xfrm>
          <a:prstGeom prst="rect">
            <a:avLst/>
          </a:prstGeom>
          <a:ln w="0">
            <a:noFill/>
          </a:ln>
        </p:spPr>
      </p:sp>
      <p:sp>
        <p:nvSpPr>
          <p:cNvPr id="8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C840E2-6341-4229-BD28-34FA4B083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FD8D89-FD83-48CB-B58A-A76E3B44D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54160" y="701640"/>
            <a:ext cx="4626000" cy="3468600"/>
          </a:xfrm>
          <a:prstGeom prst="rect">
            <a:avLst/>
          </a:prstGeom>
          <a:ln w="0">
            <a:noFill/>
          </a:ln>
        </p:spPr>
      </p:sp>
      <p:sp>
        <p:nvSpPr>
          <p:cNvPr id="9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954B53-F0AB-4D7F-AD2D-D92A0750D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54160" y="701640"/>
            <a:ext cx="4626000" cy="3468600"/>
          </a:xfrm>
          <a:prstGeom prst="rect">
            <a:avLst/>
          </a:prstGeom>
          <a:ln w="0">
            <a:noFill/>
          </a:ln>
        </p:spPr>
      </p:sp>
      <p:sp>
        <p:nvSpPr>
          <p:cNvPr id="10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38C69D-F382-4EE2-B364-B809667B4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B2C06C-5374-446A-B532-E8474E53B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902845-1E62-4064-AFCC-154398927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54160" y="701640"/>
            <a:ext cx="4626000" cy="3468600"/>
          </a:xfrm>
          <a:prstGeom prst="rect">
            <a:avLst/>
          </a:prstGeom>
          <a:ln w="0">
            <a:noFill/>
          </a:ln>
        </p:spPr>
      </p:sp>
      <p:sp>
        <p:nvSpPr>
          <p:cNvPr id="10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90B246-AB74-4245-8BEC-A0C9CA59D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B6FA1B-C5DE-4655-A16A-18A2B372F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4160" y="701640"/>
            <a:ext cx="4626000" cy="3468600"/>
          </a:xfrm>
          <a:prstGeom prst="rect">
            <a:avLst/>
          </a:prstGeom>
          <a:ln w="0">
            <a:noFill/>
          </a:ln>
        </p:spPr>
      </p:sp>
      <p:sp>
        <p:nvSpPr>
          <p:cNvPr id="10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F03C0B-FBB0-4909-B28D-D767DFD3C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54160" y="701640"/>
            <a:ext cx="4626000" cy="3468600"/>
          </a:xfrm>
          <a:prstGeom prst="rect">
            <a:avLst/>
          </a:prstGeom>
          <a:ln w="0">
            <a:noFill/>
          </a:ln>
        </p:spPr>
      </p:sp>
      <p:sp>
        <p:nvSpPr>
          <p:cNvPr id="10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88196A-F773-4E1C-A016-3FD4EF544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54F7E9-52EA-4B0C-B3F9-50CAB3F8A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CF909F-7A6B-4A84-AD31-9D92434F2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88F87F-2232-4556-BBEF-F0A6CEE6B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F2654E-F767-4158-B9FF-102FEE96D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60B78A-577A-4F06-8F43-9042D3A6F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A6DB2B-87A7-4225-A1E6-96942DA9C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4151B7-64D5-4F58-B4E1-47AF5C098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57B048-7F5E-43A5-95D5-D82CA9ED5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884512-4839-4028-8124-9F70A5D6C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3A8CDC-9763-46C6-842A-981B9FA02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0D4297-50F3-4E94-8DD2-79072881F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383CCFA-A332-432F-A47A-F6938E7248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7680" y="696960"/>
            <a:ext cx="4640400" cy="3479760"/>
          </a:xfrm>
          <a:prstGeom prst="rect">
            <a:avLst/>
          </a:prstGeom>
          <a:ln w="0">
            <a:noFill/>
          </a:ln>
        </p:spPr>
      </p:sp>
      <p:sp>
        <p:nvSpPr>
          <p:cNvPr id="89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97CDB4-12FC-418E-B465-F9233B454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D6782F-CADC-4893-A48A-41ABDAF80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065DE3-FE70-458C-94E6-4A502A3E4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9D6F38-9314-4502-895E-FFE4E05C1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C16282-35E7-461D-BDAA-1050F8B4B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D544AA-BF85-4FB7-B424-5DEA43B0E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35254B-4731-4434-8D8B-60C64F8B3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BE61A7-7B1F-43A1-B836-26D2DFDB2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A93FC3-7D55-4B84-A71B-FB4E89155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54160" y="701640"/>
            <a:ext cx="4626000" cy="3468600"/>
          </a:xfrm>
          <a:prstGeom prst="rect">
            <a:avLst/>
          </a:prstGeom>
          <a:ln w="0">
            <a:noFill/>
          </a:ln>
        </p:spPr>
      </p:sp>
      <p:sp>
        <p:nvSpPr>
          <p:cNvPr id="1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82B0DD-F9E5-430A-A3D4-F5762593A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4DD7F46-7E60-45EF-B0E0-0B527AB977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7680" y="696960"/>
            <a:ext cx="4640400" cy="3479760"/>
          </a:xfrm>
          <a:prstGeom prst="rect">
            <a:avLst/>
          </a:prstGeom>
          <a:ln w="0">
            <a:noFill/>
          </a:ln>
        </p:spPr>
      </p:sp>
      <p:sp>
        <p:nvSpPr>
          <p:cNvPr id="90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CFE559-E8DB-4439-84B3-F56925CC7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FAA92F-4260-4725-AE3F-1531B6143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17F2BE-E2D7-42AC-8CF2-AB5A8CE1A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8B1D3B-4139-4189-9E4F-374A47464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DDD4CB-0F7C-4A0F-ABC7-13F320E6C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B9CC9A-58BF-4E85-82DA-01A3778F2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083F45-051C-4761-A85C-EC06CD126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B64E94-CB58-4C7F-B0A0-4FC7CF091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212BA8-3647-4816-97D0-390D570E2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72A072-4B1E-482D-8265-51CF00409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BBEC3A9-897E-490A-8BB2-19161519F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D6B9B1-0B51-46EA-9EF1-B28C9F67B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B676C7-9A4D-4A10-8D70-1D05F76D7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3E7DBC-0A40-4065-8A45-8F2524AB1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360BEF-32DE-4844-A479-49057CA5D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A0AF8B-7770-43B0-8EC3-4DF4A7154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F293FC-9C27-40B1-B003-ED826D7A9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C2247A-3461-4EC0-9DFD-E8AE3B370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F4B72B-FFC7-4786-AEE5-BE46651F5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1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1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8D1888-F913-4E51-9737-6D2143BC6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A7192E-F9A3-43AB-9CD4-E03256E04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E311D-1424-47F4-BF30-A7C5C00B1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EF66-6C05-4F1E-A37A-0DC81B7C8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56B4F-D2D1-4F86-9E46-25897348BA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C833A3-B02B-4437-B3F4-B6A64B87CB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D21707-421B-4422-B4BB-C40E42454E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DDD1A-5ED4-47E1-B872-9BDFF11D6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9C4E6-4770-4FB3-8847-FA92B6CB7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2A1983-331C-4A3B-8260-0188CE846A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31F32-DCDC-4A8A-9318-33DEF2AF3D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17336C-7E7D-49D7-8243-6FFFB6AB0E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DAA7FD-0353-4A78-BE0A-8A86AB719D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BC2399-6094-4382-B97D-B1B00709C7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EDA41-6BBA-4CCC-A3AC-791194C19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EF9EF8-8A8B-4BF9-BB48-612DDB5B09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4E8A3F-A707-4467-8B55-C363B5DAB1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DCE315-FA7F-4653-8633-6905CEA7DB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C8D54D-92D1-46DE-A423-C6CFE5E291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BF1AAD-F6FC-4A5E-B0D0-54BC3507DE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45F781-5EA2-4F57-89B6-EE6AA1E7F2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D73478-77A3-487F-964E-81C807ED7E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45162B-FC36-4557-B105-6E53F24D38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DE20B8-FA54-47A9-86A2-CAB4387A59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723931-71B8-416C-8B06-C54B8D7A2E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0BD78-39FB-4A8F-93A8-D1D4707BA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3D25AF-E7A9-48DB-8AE7-9BADF22B8C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6F46F1-F5E9-4BC6-876C-A4576943F8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AEBE5E-0A96-4459-A3A8-86BDA6EC2A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209263-5138-4A33-BF72-207562FD18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8C50BD-9283-4152-920A-139A74F3F4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11F682-BC50-4B23-9294-DC85C75C9C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ACD6B5-753F-401A-B63C-0AF965E0B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951345-5948-436E-B90C-47EFC65EE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6A0EE6-B6FE-47D4-9D49-C4117EBD6B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0A86D0-879B-4ECA-A0EF-F71AA4E409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7BC5E-15E5-49ED-9644-8EBC3B14A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2776A0-2529-47A9-8F23-09F8F95A50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C7DE73-7CFB-4E36-947A-A83D0022AC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A683F1-BD08-4DAD-891A-7298324677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9C18DA-0BFF-49E0-A0B0-325D0F2665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849A8B-3079-4F36-B4DD-5348BC3C0E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251693-B292-4CD6-A793-CB9B7D9D8A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699755-A853-489F-A0E8-C4B04942CF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8D262A-11AD-4C59-9A87-9ECF8369C3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E03235-B17F-479B-A93B-17518EA433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A254A9-F86A-4E6D-A819-BB9F928F22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C89B0-8E2D-41DF-81E3-29E955D62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79ACA0-4772-4F53-85DC-1EEE09FB3F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EF8A71-B97B-4CF1-B5FB-46E5065356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EE8647-2D3E-402D-BAFA-3494D7C5E1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42B799-92E0-49EF-91AE-60E02F1A9E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6985F8-2948-4BD7-8E6E-2B929FB7EE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864A-B057-4E25-B2CA-4E844C11A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5D9D8-063A-45A3-8C07-D3A3256E2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4A10B-A52D-41B5-AA1D-6F4948733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B4A09-5712-457C-9820-D15369800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BA6C5-998D-46E8-9416-7B2216268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AE35-5970-42A3-B281-9EB891079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7B640-3371-4319-962E-D20429280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E2EAA-68A5-4039-8692-6EA5A1FD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EDDE0-CDBB-4306-ABAD-CF0F13DBC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805B5-50D8-4894-8B77-27722E361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67E05-2F66-41C0-BB8D-7E118A3AB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4EB03E-C7E9-419B-8B38-E5C451059B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2420E-71D5-4722-B13D-AA38DF9FF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5E240-0EC8-4785-87CF-94AA830BF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F532F-6825-47C2-985C-2496DB77D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E7D30-27BD-44AC-8026-F4360FD85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21EE6-1DC8-464A-ABCE-1CE122A4D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7A962-35F4-4F03-AD50-36726C951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D3E16-C12E-4E6E-A93B-46A947F26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C7F02-8957-4C75-88FD-58EDCDE14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2E5EA-10D8-439B-9A98-660D1B789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B1421-6119-4D12-BCCE-B7CC3C74B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F54ABA-D0D0-4B2E-819C-0ACD60D30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959C1-2082-4E19-AFFB-92C0BFA194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6FFAF8-8340-480C-9355-F64B0EB034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21429-F714-4993-BF93-2C4F4ACAC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61C8C-523D-4C01-85AD-3EE39F1B07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E8FE-742B-4DFA-8D82-AA6258540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EB926-E299-4372-B333-F3BDA8210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F45B4-3D67-4A1D-912E-CE6DC6EAF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6435D-047C-496A-B20C-C6E2C8F01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0C9D3-975F-46B6-AE72-B846F3FCB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6286A-85D4-41AC-88EC-E3CEEB134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7D02C-AA18-438E-893D-760F0B0D7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FD18A-BB8D-4401-A8DE-3982E22F6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064046-8D50-4F88-A811-70D76CB3DF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7FA227-32BA-45FF-994B-954785124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83B637-DB41-4FB3-8DF8-F72C90CE13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B5177-08B2-45D7-9C2E-1632E5CB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D0EA60-BF93-4627-BDF3-99CBFCB6B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91723-7FAF-41E3-81EC-F3A25B73D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7B26A-9390-4B09-A675-857A5F435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39167-F320-4E81-B1A3-2F72E2863F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9BF92-3B78-4678-A9A1-ED396011C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D7CAD-8516-4B30-A399-B11CB3406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10E7E-B7F8-4F23-86C2-BB1959E97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516B3-9EA5-490F-96DE-DAE0DEE0C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DBD8B-F1F9-490A-A4E9-44159C72A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C4DC2-71A8-4E0E-A834-D71E4A7C6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4C3F9-EC26-4096-9EB7-6A9CE2DBA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8D2D81-C645-42FA-806E-E9656ADC9F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DFBBAF-0EBF-4FBB-87F1-DE1E5EE613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3C1EF-08F7-4E02-9B40-811E17559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E6269-5D8A-458F-B316-5C28243C7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84C72-6F83-4277-A5CF-B21CDC7532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B4A1A9-0141-4B42-89FF-2406CF518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68A8F-CAD0-4A09-9C35-63ABB253A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6DCED-C01D-4706-883C-F08A03DBC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C909B-8878-49DF-B15D-1A9CEB1380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4A9BC-5DCC-4856-AC7B-081B48EB3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D7DA-3455-42B0-9D7B-168B66DF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4A75E9-F64B-4E33-97B8-7B424025B2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5C1D12-E976-4DAF-A6E5-5F7BCA2C64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759E6F-DB1B-4267-A538-E5EEA740B1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10B721-E9FB-4A6A-92A9-9424BC5939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2A482-A4C7-4836-9527-4E1B331823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B1C40-9201-41D8-858C-A7CFA53F6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72028-B59B-431A-9C8C-29549DF771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2324A-666E-4EAC-A36B-5775E469B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4B702-1EE9-4526-A535-92C685B0D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4759F-D9D3-4F5D-9924-1871CDE98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9187-CF63-4DF4-8FEA-23DCC97F5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F125B-EEF0-4255-9EE9-767BE22E2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11B29-44A2-40B7-B3F2-AED4E7684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EA72A-48B0-4E56-9F4F-502356D8C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2CD324-48E7-4C82-A4BA-FF6A9A419B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634004-3D6D-4E84-8969-69079C8802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120B90-35DA-4D24-AB71-5F6E4D2E1E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E5606-BDFC-4C9E-ADE3-AC8776B663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819B1-764C-4C16-8886-5E3AF8100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AFBD1-9B7C-4E49-B21C-034A34795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62E380-5C7D-4A89-B679-CDAE789C8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1B56-C6E1-4444-B493-F9A0E5F4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4088B-982D-4A76-8EEC-6CA1DDA51D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43DC0-8D55-4324-929F-30F83C962E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80119-AD8B-41EA-9007-92188A2BB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37C1D-4E97-4DF8-9C9B-1A7ACF768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DE1AF-F94F-4096-9891-E050E31FC0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24BCE0-B88B-4FF1-B06F-85AB1FF1EF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055597-2F09-4534-AB26-20BF4C26A3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C393D7-A32D-4FB8-A278-8C771267CC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CA135-3327-4C26-9CCD-F48D8841A8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8870FD-7C78-4B87-A1F2-2D610C430D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B923BCC-BBA5-4F81-AEE7-BE995B58E4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E5551E-D5C8-4986-A9D3-B158FC7DFC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6B2ADC-5791-48AD-9EC3-1D5D73CD43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1C81AF-0700-42B3-96FF-7B785C4991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3EB4E6-4010-49CF-A799-D9070366BB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4582B2-B5DC-4C7D-9FE4-3F4AF03FDE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BF7657-1FFF-4E8D-A2D6-8D9A7017F9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F8AE51C-5D31-4AFC-99FF-1371E8A79D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10755E-7C6B-441D-A319-5180872C73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13AA23-E013-4368-841F-CB4CD1493C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A61BAB-9713-419C-9424-570A0C1AF4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16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628876-85C7-4E71-B0A9-80D56ED1AA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8/11-18-2063-00-00ay-tg-ay-november-2018-bangkok-meeting-minutes.docx" TargetMode="External"/><Relationship Id="rId2" Type="http://schemas.openxmlformats.org/officeDocument/2006/relationships/hyperlink" Target="https://mentor.ieee.org/802.11/dcn/18/11-18-2063-00-00ay-tg-ay-november-2018-bangkok-meeting-minutes.docx" TargetMode="External"/><Relationship Id="rId3" Type="http://schemas.openxmlformats.org/officeDocument/2006/relationships/hyperlink" Target="https://mentor.ieee.org/802.11/dcn/18/11-18-2063-00-00ay-tg-ay-november-2018-bangkok-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8/11-18-2070-00-00ay-tg-ay-november-28-2018-conference-call-meeting-minutes.docx" TargetMode="External"/><Relationship Id="rId2" Type="http://schemas.openxmlformats.org/officeDocument/2006/relationships/hyperlink" Target="https://mentor.ieee.org/802.11/dcn/18/11-18-2099-01-00ay-task-group-ay-december-2018-conference-call-meeting-minutes.docx" TargetMode="External"/><Relationship Id="rId3" Type="http://schemas.openxmlformats.org/officeDocument/2006/relationships/hyperlink" Target="https://mentor.ieee.org/802.11/dcn/19/11-19-0008-00-00ay-tg-ay-january-9-2019-conference-call-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s://mentor.ieee.org/802.11/dcn/17/11-17-1288-03-00ay-tgay-coexistence-assurance-document.docx" TargetMode="External"/><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957C7C-FEF1-4130-AD57-F7E0E63E5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1-13</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671258-D1A0-4431-95C3-F70845C55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E0577-AA94-44F9-BFC9-C86575BE0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94BEC3-C651-486D-8F52-6E0E7DD6B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EFB2B9-D742-4DF6-9B74-CA200A514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Salon E/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E5210E-E691-4B36-97D1-F9EB2E982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CC58D1-993C-46D7-BC16-E39D20567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64655A-D4D9-4E76-8A22-CF7F1599C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LB #23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the draft readiness for recirculation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e the draft to JTC 1 after ballot comple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186418-1423-4D9A-8F15-31AACC70B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8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58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4F990F-7B2C-4CB1-8285-2B6884ED6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November plenary</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4 teleconference calls were held between November 28 and January 9 for comment resolution</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50 comments are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8 comments are resolved and ready for mo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3 presentations are reviewed and discuss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 presentation is ready for motion</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CF2D83-0E39-47DE-B8DC-A1331CF87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1)</a:t>
            </a:r>
            <a:endParaRPr b="0" lang="en-US" sz="3200" spc="-1" strike="noStrike">
              <a:solidFill>
                <a:srgbClr val="000000"/>
              </a:solidFill>
              <a:latin typeface="Times New Roman"/>
            </a:endParaRPr>
          </a:p>
        </p:txBody>
      </p:sp>
      <p:sp>
        <p:nvSpPr>
          <p:cNvPr id="64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3895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3055, 3066, 3353, 3409, 3410, 35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solicited RSS related CID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t. Louis, Missouri,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3 - 18,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39CB8-B1FB-45AB-8746-5D4F6C557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A86852-5A22-4A8B-99BB-EE79AC0D8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2)</a:t>
            </a:r>
            <a:endParaRPr b="0" lang="en-US" sz="3200" spc="-1" strike="noStrike">
              <a:solidFill>
                <a:srgbClr val="000000"/>
              </a:solidFill>
              <a:latin typeface="Times New Roman"/>
            </a:endParaRPr>
          </a:p>
        </p:txBody>
      </p:sp>
      <p:sp>
        <p:nvSpPr>
          <p:cNvPr id="6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3897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e protection of Link Measurement fram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539, 3540, 354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misc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492 and 369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a:t>
                      </a:r>
                      <a:r>
                        <a:rPr b="0" lang="en-US" sz="1500" spc="-1" strike="noStrike">
                          <a:solidFill>
                            <a:srgbClr val="000000"/>
                          </a:solidFill>
                          <a:latin typeface="Times New Roman"/>
                        </a:rPr>
                        <a:t>of</a:t>
                      </a:r>
                      <a:r>
                        <a:rPr b="0" lang="en-GB" sz="1500" spc="-1" strike="noStrike">
                          <a:solidFill>
                            <a:srgbClr val="000000"/>
                          </a:solidFill>
                          <a:latin typeface="Times New Roman"/>
                        </a:rPr>
                        <a:t> CIDs related to MU BA and RD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 in EDMG Extended Schedule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BFF011-156D-4E00-A2C1-4BD076F17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Dec/Jan teleconference calls (3)</a:t>
            </a:r>
            <a:endParaRPr b="0" lang="en-US" sz="3200" spc="-1" strike="noStrike">
              <a:solidFill>
                <a:srgbClr val="000000"/>
              </a:solidFill>
              <a:latin typeface="Times New Roman"/>
            </a:endParaRPr>
          </a:p>
        </p:txBody>
      </p:sp>
      <p:sp>
        <p:nvSpPr>
          <p:cNvPr id="6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20206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mment resolution on CID 3234 and 3455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3249DC-DA2B-446E-96F8-30967CC47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65" name=""/>
          <p:cNvGraphicFramePr/>
          <p:nvPr/>
        </p:nvGraphicFramePr>
        <p:xfrm>
          <a:off x="685800" y="1676520"/>
          <a:ext cx="7772400" cy="411480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FC8CC6-C0B7-4611-A26F-9C60315FB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8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November 2018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2063-00-00ay-tg-ay-november-2018-bangkok-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8BC062-B0FA-4912-B808-A30555E7E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November 28, December 5, December 19, and January 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2070-00-00ay-tg-ay-november-28-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2099-01-00ay-task-group-ay-december-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9/11-19-0008-00-00ay-tg-ay-january-9-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24C951-6882-4DEC-9A50-382DDD7AA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P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3579 AC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bandwid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 tracking mandato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6F31E7-D87E-44BC-90F7-AA8462EF3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024360"/>
        </p:xfrm>
        <a:graphic>
          <a:graphicData uri="http://schemas.openxmlformats.org/drawingml/2006/table">
            <a:tbl>
              <a:tblPr/>
              <a:tblGrid>
                <a:gridCol w="979560"/>
                <a:gridCol w="1752480"/>
                <a:gridCol w="3581280"/>
                <a:gridCol w="1600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heduled B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06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053, 3171, 3184, 3186, 3187, 3188, 3190, 3290, 3365, 3369, 3388, 3597, 3723 EDMG OFDM PHY, Spoofing and ShortSS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0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3243, 335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284DCC-E41F-4BED-AD20-16D2B2A92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1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of CIDs 3573, 3583, 3592, 3638, 3657, 3689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0 comment resolutions on hybrid beamforming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6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324-comment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Link Measurement Request/Report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present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B9354C-E34B-42B9-AB31-CAF0947D6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 for coex CIDs 3297 3361 3480 3658 368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kamoto Takeno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3215 and 37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4 comment resolution 3227 3444-34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s 3581 basic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ehold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C3DA13-18C9-46FD-8B81-2303B592C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1467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1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72EAEE-B3EE-49BE-8BF1-32AD61333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A5CB3F-883D-4A96-AD6C-B99CB5FF3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895A78-C7DD-4CBE-B0DF-29CB77B53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F31A1F-1932-4CA0-A55D-B73AD7B30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non-CR)</a:t>
            </a:r>
            <a:endParaRPr b="0" lang="en-US" sz="3200" spc="-1" strike="noStrike">
              <a:solidFill>
                <a:srgbClr val="000000"/>
              </a:solidFill>
              <a:latin typeface="Times New Roman"/>
            </a:endParaRPr>
          </a:p>
        </p:txBody>
      </p:sp>
      <p:sp>
        <p:nvSpPr>
          <p:cNvPr id="71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20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LAN radar ann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0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discussion for WLAN rada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95A31C-EDC0-4EF8-93B0-0F936171A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0pm – 3:30pm</a:t>
            </a:r>
            <a:endParaRPr b="1" lang="en-US" sz="16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05600" indent="-2714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05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1,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1,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rch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D0EE13-63DD-4E0E-B589-6A43D16A9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2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72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F798B3-215B-46B7-94E0-DBD92F567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9D179B-129F-4F32-93FA-6D8E62C37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C40C61-AE9E-4A18-A49F-7359B33D2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9:  Amended motion #524</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72, 3473, 3512, 3487, 3511, and 3631 as proposed in 18/1838r0;</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03, 3004, 3005, 3006, 3282, 3283, 3336, 3337, 3345, 3395,</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421, 3427, 3464, 3468, 3469, 3717, and 3718 as proposed in 18/1839r2;</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96, 3463, 3474, 3735, 3664, 3716, 3737, and 3738 as proposed</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in 18/1985r0.</a:t>
            </a:r>
            <a:endParaRPr b="0" lang="en-US" sz="1600" spc="-1" strike="noStrike">
              <a:solidFill>
                <a:srgbClr val="000000"/>
              </a:solidFill>
              <a:latin typeface="Times New Roman"/>
            </a:endParaRPr>
          </a:p>
          <a:p>
            <a:pPr lvl="1" marL="515880" indent="39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D6E7E5-E3AD-465F-BA0B-292327D2F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055, 3562, 3353, 3066, 3409, and 3410 as proposed in 18/2067r1;  </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539, 3540, and 3541 as proposed in 18/2146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266 as proposed in 18/2120r2.</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A87F53-2138-4C11-8267-8F0B0182D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585 as proposed in 18/2075r1;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373, 3374, 3690, 3032, 3206, and 3475 as proposed in 18/2147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9AA7639-2075-4AB0-AA9A-70874F480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622CF1-6C0E-4CEC-B6BB-1C22A3CFC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3398 as proposed in 18/1766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DA722C-E63B-41FA-BC3B-9B7B665BE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73, 3397, 3569, and 3570 as proposed in 18/214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38333B-6BD0-44E7-81AC-6C3848CFD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492 and 3692 as proposed in 18/2154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246, 3308, 3344, 3429, 3430, 3431, 3432, 3543, 3544, 3545, 3564, and </a:t>
            </a:r>
            <a:r>
              <a:rPr b="0" lang="en-US" sz="1600" spc="-1" strike="noStrike">
                <a:solidFill>
                  <a:srgbClr val="000000"/>
                </a:solidFill>
                <a:latin typeface="Times New Roman"/>
              </a:rPr>
              <a:t>	</a:t>
            </a:r>
            <a:r>
              <a:rPr b="0" lang="en-US" sz="1600" spc="-1" strike="noStrike">
                <a:solidFill>
                  <a:srgbClr val="000000"/>
                </a:solidFill>
                <a:latin typeface="Times New Roman"/>
              </a:rPr>
              <a:t>3662 as proposed in 18/2155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65A0E8-AAEC-4328-B7AB-3BB9279D0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234 and 3455 as proposed in 18/2150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899043-AFCE-40C5-8C31-4346C2485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6:  Bug fixes</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2149r0 related to Figure 62 in clause 9.4.2.252 of Draft 2.1 of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0851A3-9416-447A-9C35-72E75A19F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urance Document</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contribution 17/1288r3 as the baseline</a:t>
            </a:r>
            <a:br>
              <a:rPr sz="2000"/>
            </a:br>
            <a:r>
              <a:rPr b="1" lang="en-US" sz="2000" spc="-1" strike="noStrike">
                <a:solidFill>
                  <a:srgbClr val="000000"/>
                </a:solidFill>
                <a:latin typeface="Times New Roman"/>
              </a:rPr>
              <a:t>document for the Coexistence Assurance Document:</a:t>
            </a:r>
            <a:endParaRPr b="0" lang="en-US" sz="2000" spc="-1" strike="noStrike">
              <a:solidFill>
                <a:srgbClr val="000000"/>
              </a:solidFill>
              <a:latin typeface="Times New Roman"/>
            </a:endParaRPr>
          </a:p>
          <a:p>
            <a:pPr lvl="1" marL="515880" indent="39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1288-03-00ay-tgay-coexistence-assurance-document.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D76F3B-E9B7-4C56-80D1-FD5609B81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AD1CEB-5D05-46E5-A020-AB7B5DD2F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3C060-3C76-43BB-A283-468A9C608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DE4CF9-14C9-4A5B-B9EE-553907BAE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5495CB3-42FB-4C5B-92B5-68F3180238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B88EF-8B3E-4B62-B4D0-DE8451BFF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28E35A-2F9C-41C1-8297-B3D1670EF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0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95355E-C61D-470C-B50C-C4F5374FB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A07E9A-3B5E-48CC-B4D9-8E5C3B442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1F4417-B2A0-4967-ACF9-67C9BC0DB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2AF5B6-8807-447E-BC81-8B90902B4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2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736A1A-3ACD-4DD3-899F-27ED3DB5A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4AEF1D-FE2B-401E-8390-20C23B39E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3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FE6DB6-9760-491D-B157-46EF395A4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582560-0E1B-4114-AEB7-3E7BC4F60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594B91-2F3B-4E51-A7F5-81D47B23F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1D8D93-E774-4C53-98A2-716536FAA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0A838A-911C-4178-BCA4-644FDD5C5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304BCB-E37D-4562-8DAE-EFD98F498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4FFD81-51FB-4A46-91FB-3BA63A71A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7"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35C1F4-2EC1-4028-A3FB-60889BA95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139851-5792-404F-8C2B-C2162C66F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9 plenary</a:t>
            </a:r>
            <a:endParaRPr b="0" lang="en-US" sz="3200" spc="-1" strike="noStrike">
              <a:solidFill>
                <a:srgbClr val="000000"/>
              </a:solidFill>
              <a:latin typeface="Times New Roman"/>
            </a:endParaRPr>
          </a:p>
        </p:txBody>
      </p:sp>
      <p:sp>
        <p:nvSpPr>
          <p:cNvPr id="8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E98FE0-6068-4A0F-8B72-7BFDC331F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7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6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8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BD2252-2754-4645-8E5B-FB7352F22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CDF7286-E4C0-43BB-93A5-B2D9FB1F89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4291D2-76F6-457D-87E8-01E017FDD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9</cp:keywords>
  <dc:language>en-US</dc:language>
  <cp:lastModifiedBy>Edward Au</cp:lastModifiedBy>
  <cp:lastPrinted>2014-11-04T15:04:57Z</cp:lastPrinted>
  <dcterms:modified xsi:type="dcterms:W3CDTF">2019-01-13T17:46:02Z</dcterms:modified>
  <cp:revision>8262</cp:revision>
  <dc:subject>Task Group AY November 2015 Meeting Agenda</dc:subject>
  <dc:title>11-18/2116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