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B986416E-9C2A-41E7-933F-1A3B4DD1C6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8C3888-B7AC-4C0F-8D6B-1E7D76277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4EB74B-8AF5-4326-841A-C5C22B7D3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6BEADF-206E-445B-A8A9-12D832B2A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F18E83-8003-4EE7-885B-8272226C2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4D75A7-B602-4576-8766-EAB3272C4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1E3243-4221-4E5B-9436-615B155D3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389322-F1C9-4968-9894-DA60FFECC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618787-7B2A-4231-A4FC-52278C8CE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740B35-A6C4-40C8-A9C7-31B3BFDD8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E05594-ADF3-41BE-9F14-40F4AE29D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F9D59D-CD94-4F69-9049-52028F10A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79"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80"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81"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EB6A1226-77C2-449A-B0C0-2866CFEE0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17440" y="696960"/>
            <a:ext cx="4646880" cy="3486240"/>
          </a:xfrm>
          <a:prstGeom prst="rect">
            <a:avLst/>
          </a:prstGeom>
          <a:ln w="0">
            <a:noFill/>
          </a:ln>
        </p:spPr>
      </p:sp>
      <p:sp>
        <p:nvSpPr>
          <p:cNvPr id="98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D973E0-A5F4-49D5-AEF0-285969A8D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54160" y="701640"/>
            <a:ext cx="4626000" cy="3468600"/>
          </a:xfrm>
          <a:prstGeom prst="rect">
            <a:avLst/>
          </a:prstGeom>
          <a:ln w="0">
            <a:noFill/>
          </a:ln>
        </p:spPr>
      </p:sp>
      <p:sp>
        <p:nvSpPr>
          <p:cNvPr id="8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AB547A-7F2D-4D63-842B-2B67002C2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3EB662-4361-4F2F-BBF4-D7E505D00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023044-CE2A-4493-A009-8910064F6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D06C81-4DD7-4014-A320-CEB92BB60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4BB726-1314-4E71-A966-DB6775C5B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CB1462-8C78-4AA5-A574-7255E0C27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4AF304-AE2C-4585-A119-0F32956BC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1F6BD1-C3D5-4D55-8F84-5DB75EA5A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C24D78-D108-4041-A3F3-552D7CB50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4A9CBD-D0B0-490E-9968-A494D56A6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BE4DA0-13C9-45BD-A82D-28B313411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C5A85C-7FD3-4684-AE9D-14123CA98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677D9B-906A-4548-BCCE-FD557BEC9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B0B36C-C98D-4782-B064-A98136F68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D184A8-A7E7-4421-921A-3CB5952C5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445C5F-B597-4051-9514-9E1C608AF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AD7C1F-7DF4-4C3A-945F-05C662C23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C2CF3F-D2E2-46AF-BFF5-5B0E99068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86346F-9F78-4921-8025-32BDEE061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492188-BB9F-4946-BEDD-1BC1F7C9C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A6B1C3-935B-4135-9761-C16172CAE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034A2C3-A11F-4D8E-A141-4164F6D05B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7680" y="696960"/>
            <a:ext cx="4640400" cy="3479760"/>
          </a:xfrm>
          <a:prstGeom prst="rect">
            <a:avLst/>
          </a:prstGeom>
          <a:ln w="0">
            <a:noFill/>
          </a:ln>
        </p:spPr>
      </p:sp>
      <p:sp>
        <p:nvSpPr>
          <p:cNvPr id="89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959E7C-9E19-4D18-8599-0983EC26B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26E21F-3707-4FDD-BFED-371F7F77B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D0ADC1-E58B-48D3-96A0-9C3BB77D1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BF1449-8939-462B-A4A6-BC367287F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F5D024-28F5-4FD1-9DCA-8935966B7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855289-04DE-4DCE-890F-3B9AB6914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17B978-6FF9-4E14-90A2-47AABD315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BF83FC-A347-4644-9C15-319D903EE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04DC3-0C58-4DB3-B760-B3B27114C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EA8FA3-0C2A-4B91-A103-8B801D950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46ABC99-06AA-4CD7-A91E-FF7158C62D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7680" y="696960"/>
            <a:ext cx="4640400" cy="3479760"/>
          </a:xfrm>
          <a:prstGeom prst="rect">
            <a:avLst/>
          </a:prstGeom>
          <a:ln w="0">
            <a:noFill/>
          </a:ln>
        </p:spPr>
      </p:sp>
      <p:sp>
        <p:nvSpPr>
          <p:cNvPr id="9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B13897-910D-4D7F-BB9F-479B96562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8ECF96-88AE-49D5-849E-4B25F120D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FAE3ED-FB88-44CE-B174-271BBC47C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67CFD6-BEF7-4C1E-AFB8-E776E398A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60293C-10AC-49B4-82EB-FE36216C4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4C52D2-284C-4FBB-ADE5-D7360C13F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AB789A-3799-4D9C-AE81-0BCB10B0A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4BF8A2-D308-418C-BF9D-A8DAADA6C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EC7502-917F-4CD8-9F3C-4B17F8111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58723C-4C49-4CE9-B1EF-92FC670FE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C72305-7D32-4030-A23D-5B2864466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F33EC3-681B-429B-84BF-D47E577BB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30B125-D630-41AB-9649-1A90B6C49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EE5B3D-1F61-44C0-9167-3CB000971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E8CF70-8DE4-43A1-A171-A1763A82E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948CF4-A53A-4FDB-A0D6-FD1C68BDC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4D6630-D13F-480B-84D7-D88A80D1C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F4F593-3AD7-468A-BEFF-0B89B3A57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9BC0CF-F353-4763-BA63-6A6993EA5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1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4DFB7D-471C-46D3-976F-5E45216AE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B405E5-EDAD-49C1-9CC3-F5784578C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46932-8BC2-49CD-A6C5-8574AD25D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649C-1D5E-4231-8F15-7260704F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C2EC4-097A-4EFB-8A9F-74734A5EF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F265E-ACF2-4F2F-98DD-13D264C7C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6D71A2-C68F-48F0-905D-32AC252E57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99966-6333-4671-B918-F5E47C370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F5439-EA41-4ED8-B59F-A2AC56E93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0FA50-E596-412F-BFA7-4C177AAA6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A2B94-06B9-48E9-BFE2-633A96353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6EC13F-BBDA-48D1-AE03-8F4EC18A48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A6470E-9B34-4C86-B85D-3CA8708464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D9DF9A-190A-4D84-99E2-AA999EAAD3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33E42-5E1D-4B11-AC9A-2A84A6943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6C69F4-D875-4920-8E8D-51B4B5F2DD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38A65B-1C3A-4903-BBCB-03FC778B4F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34B292-55E9-428C-B4D8-FE00E9A5B7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0AFCE7-A3E9-4667-9FFF-F0AD128E25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0961FF-8930-4758-96B8-CF2FB04CDD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FAB1BB-B242-42FB-B6C4-4AD60F8084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756D1E-1D23-4036-BD6C-3EE3DD596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BB08FA-D240-426F-B3F7-0A9DAF63F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3E9B51-6029-4514-B108-E91F12FB5E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8AFEA2-D7DE-4582-BC87-77EC748574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AC8CA-1EAB-4E44-BF25-D10B7CCF2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08C6B6-D55F-4BF9-9C93-FFAB0F1BDF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7069F5-6A40-461F-AFF1-5237EE4F92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B8086-E55B-46FD-A37B-9FB835B367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AC1DA7-C6FA-48F5-9115-95AA95637F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A1FC64-3DEF-44B3-8B21-C764A90E25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AF1799-83E0-4CAE-B115-D124D39DE4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5B5FDD-A129-41E9-995F-E3A7570865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2AFCDD-FD53-4ACD-BB6C-DBCDE7879C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0C35B2-6E7F-45F2-8AAB-347864631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F9E05B-931A-4286-A15B-7C861EE5EF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B35A0-5CB2-4775-8D27-1BA11F24F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1AE95-B543-4C25-B6E5-BA8A4B40BF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673DB0-0B37-42B1-A122-3599133CF6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53B1F1-C5C9-4DB9-9808-086A579436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A44623-DF39-4654-909F-775990659B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89F423-7D7E-41AC-896E-3A59AE0137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B5D0D2-61AC-4C28-9874-65DB1FFC86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E72774-0500-4974-B076-A9A357758C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3B807C-F2C7-4142-963F-7EB6DF5F82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E8775D-7F8B-4813-AAB1-84B2245115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E5EDB1-6416-44C0-B5F0-6FAC404D40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BE685-024D-414B-A51D-EF909808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4FFFF8-D52B-49A3-8E1D-07E2FA2844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2ED96B-6F3A-4240-AB99-C06C681E5E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8461A5-61DD-45AC-97F3-3A2B47B883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3959FF-6616-4091-AA18-DFCA8A1FE1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6E41A0-7628-4935-B695-4A53ED07D7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DF3CB-825D-47BE-8251-8DE86343B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01080-40B7-4B96-87E7-C4ACC5F3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4E5A0-E164-42E6-BDD1-F147C5F89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C0350-5B85-43AA-B7E7-C4312409D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BFD02-72B7-4AD4-BB2F-7E039007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9814-248C-4548-806A-1CFA6793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01D2-EBE2-4632-B739-EB9596A1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A2ECE-B077-4A1A-AC85-2081BD153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01849-B5E1-4E61-BA88-DA1BD5B95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BB282-65AF-476D-AD56-DA619F94E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273F1-5B50-40DA-98E7-E6877D85B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43F77-B17A-4271-93F5-BB4F122D0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1CF82-1D6D-4483-AF90-960E02F3B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9E30E-2F0C-4C0B-A89B-B2B05F24B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F8BC5-25D9-42FD-9A7D-21FB1CE3E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412F8-7DDF-4246-93D2-965CA2A25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6CCC3-3E9C-4DB5-92A0-F66E91F0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22C8C-E950-438F-927A-0B7E9C5E4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6DEC2-1C3F-42C2-A3E3-D27000D1E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5C618-C4CA-4665-80D1-1BC56871E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80622-9227-48C9-8A00-1D69C2D37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7985E-85B4-4E84-9F0C-5BCA6A3E5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56900-7E01-4BC8-9315-59656D1C4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4484C6-7F50-4B1E-8C19-9A77806F5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3B8ADD-1570-42D6-A7AB-C9C6C38DAC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50940-6A13-47E0-A6E2-CD54D7E99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DD9BC-FFC8-4589-B61B-5C8190474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7837E-6C48-49C5-91DD-CCBA193C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F3A72-45A9-4D80-B6D2-162B60D7F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6DF76-1E2F-424A-8DDC-5AD66437A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9FD02-EB78-437C-B25E-3A4C64EE8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504AC-9CED-4B41-9F4F-C84717DE2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03E42-5318-4BC3-92AF-4247BBBEF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5EA42-779A-4FA5-9D8E-FB83CB054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E02E3-72B0-463D-912A-4AF38932B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D9C25-DFBC-4F7E-92F1-5465A9804A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0D733D-0524-4F20-A69C-5E95371C4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DC659-90E7-41D4-A553-7B6653E41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07E4-2581-4A4B-9D1F-DEBE77A6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AADA4-6401-4BEC-A438-FDBDDC60E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CAB14-3F43-43B8-8C23-97C53BAA0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A8C31C-EE9C-4AF8-AD03-D05FBEEC0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33D182-DD37-450F-8434-F931A7BDE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0E6C7-FC2B-46EA-A31D-AE38DF91E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4BB8A-5FDF-4159-854F-70591AFF2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D1CBC-82D0-49C7-8C3F-F59D2BEC1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6DF27-D488-43FC-8A9A-048CD3792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F6124-E03D-4C8A-8E88-43444E5EC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42BED9-768C-430A-B30C-4C74D357A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FA0D-D4DB-416D-B2BD-2BDB4C9C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D66169-5873-4000-AF00-438FBA8B5B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DA0026-21D2-4CCB-8F45-4C0493BE87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79AF3-E03E-40C1-9225-A7AE92A14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F6586-D57C-4520-AC89-0F78CB381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C5702-DD83-4DD0-857F-92A134D3C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C29ED-D38A-4D08-B005-2E45816EEB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A21EA-A9B1-4E5D-8E47-D52CBF349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FB7E6-75D8-4406-9FDB-E7C649629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4E7DA-E4DD-481F-A6C6-268249B5E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86993-F661-4682-8C23-2AA493B36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5FDC-57C7-4B98-BB0E-729FE2E65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EFDDE-909C-419E-8A01-8FA54CCDA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017D76-ACB8-405B-8173-0131FF0352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B2188C-E490-4CA7-AA08-8AE89CD23D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65750-3029-43C7-A056-A14E2B555B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21D5B-FE30-4EAA-9832-3DA115FE8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1ADA63-981C-4EDF-A5A3-265057418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33D0E-67D0-4543-8673-B58EC9A32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F1834-4941-4F04-ABF2-271F62D83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F7E18E-43E8-4EEA-B24D-5A858FBF0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F20A2-6A27-45CB-B530-79522BE02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9561-ED84-4745-AE2C-1537DF69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31F01-03BD-4EAF-A591-182B0D784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73752-7260-4E14-871D-7F4D58A87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33B54-8006-4C8A-BB93-4D5DED4A7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F76964-03F4-4797-8F03-EC4563F5FE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6415C-8120-4B05-ADA3-104C02DD4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60EBE9-AD05-4B1C-9B2C-5045BBE3C4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86FE8-B45D-422E-86CD-77E0C154E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49E0C-9931-4256-A689-9EDE4EB2E1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E18D2-CEDD-46AF-B155-89CE89954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DA46B1-D83B-4344-9459-FF3920377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F3C6-B0E7-4A75-BB50-FEB48CD1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25DD8-A92D-48D1-A5CF-228F9D1955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FC377-11B0-4EB1-9402-3058FBBA8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A36AC-6C9C-489D-B68E-C344C479A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C19E3-ADD1-4D83-9E1D-64ECCF91C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803650-EA81-418B-A569-A5159D598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319D40-00CB-48C0-BE54-8CDC278457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718C3-BC5A-4ACD-BD77-93D83800A1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89E7E4-F305-4E1D-855B-329F562ED1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026B1-C1B8-4EA7-A383-8B3051C68F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50B30F-9A4B-4EF4-9225-3EC5BE679C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C3C7619-30B9-487D-B22D-4AE040EFD7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699EF6-340D-48BF-A34C-D2CB0E0F23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BDB5FF-6729-46DF-B5FC-6C2464EC27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153C0C-E96F-4CD6-A37B-17939BB9AE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7FF322-E342-434A-9EC3-3040B2074B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1BE9A5-676F-4F59-9B6F-6D717E8CDB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94569A-3134-49F3-B46D-669AF5BDF8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5CC7AF-AF2A-4D5A-9B1C-87965FB6C8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961046A-C8DB-4375-975D-7683E9349B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95217C1-5503-46AA-A7D3-6FEC143D7B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EC70CEB-EBE7-4FB2-AAC5-9019E7E647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CD2903-8FD4-4B3C-A50C-BB9EB66671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2063-00-00ay-tg-ay-november-2018-bangkok-meeting-minutes.docx" TargetMode="External"/><Relationship Id="rId2" Type="http://schemas.openxmlformats.org/officeDocument/2006/relationships/hyperlink" Target="https://mentor.ieee.org/802.11/dcn/18/11-18-2063-00-00ay-tg-ay-november-2018-bangkok-meeting-minutes.docx" TargetMode="External"/><Relationship Id="rId3" Type="http://schemas.openxmlformats.org/officeDocument/2006/relationships/hyperlink" Target="https://mentor.ieee.org/802.11/dcn/18/11-18-2063-00-00ay-tg-ay-november-2018-bangkok-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2070-00-00ay-tg-ay-november-28-2018-conference-call-meeting-minutes.docx" TargetMode="External"/><Relationship Id="rId2" Type="http://schemas.openxmlformats.org/officeDocument/2006/relationships/hyperlink" Target="https://mentor.ieee.org/802.11/dcn/18/11-18-2099-01-00ay-task-group-ay-december-2018-conference-call-meeting-minutes.docx" TargetMode="External"/><Relationship Id="rId3" Type="http://schemas.openxmlformats.org/officeDocument/2006/relationships/hyperlink" Target="https://mentor.ieee.org/802.11/dcn/19/11-19-0008-00-00ay-tg-ay-january-9-2019-conference-call-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s://mentor.ieee.org/802.11/dcn/17/11-17-1288-03-00ay-tgay-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4E9CFA-7F09-49A2-AF7B-A4366183E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1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8947A2-22BE-4617-B35A-7075654CA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AB979B-8DE7-4E1F-B0D8-5EF24157F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049BE2-5189-4A2A-A70B-F91372069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D28813-98AA-44CA-9881-BF7103C4B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7049A-80AA-429E-BE36-652AA3CA0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0BAAC7-4B62-4C43-9A36-1CC4CF027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C24396-D7A2-41C1-97AD-040B805F5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the draft readiness for recirculation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e the draft to JTC 1 after ballot comple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3C1BD8-011A-490A-BB98-495F0283A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8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58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AEED17-A18C-492E-A324-05AE6AF4A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November plenary</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 teleconference calls were held between November 28 and January 9 for comment resolution</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0 comments are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8 comments are resolved and ready for mo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 presentations are reviewed and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 presentation is ready for motion</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79DB5C-78BE-4988-A1ED-7D94EF16B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1)</a:t>
            </a:r>
            <a:endParaRPr b="0" lang="en-US" sz="3200" spc="-1" strike="noStrike">
              <a:solidFill>
                <a:srgbClr val="000000"/>
              </a:solidFill>
              <a:latin typeface="Times New Roman"/>
            </a:endParaRPr>
          </a:p>
        </p:txBody>
      </p:sp>
      <p:sp>
        <p:nvSpPr>
          <p:cNvPr id="6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3895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055, 3066, 3353, 3409, 3410, 35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related CID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t. Louis, Missouri,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3 - 18,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9F94DB-91E3-44D6-8D1E-A2B1E06DA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41CDA0-AB31-4D0C-93A9-88BDB69FC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2)</a:t>
            </a:r>
            <a:endParaRPr b="0" lang="en-US" sz="3200" spc="-1" strike="noStrike">
              <a:solidFill>
                <a:srgbClr val="000000"/>
              </a:solidFill>
              <a:latin typeface="Times New Roman"/>
            </a:endParaRPr>
          </a:p>
        </p:txBody>
      </p:sp>
      <p:sp>
        <p:nvSpPr>
          <p:cNvPr id="6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3897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e protection of Link Measurement fram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539, 3540, 354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misc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492 and 369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a:t>
                      </a:r>
                      <a:r>
                        <a:rPr b="0" lang="en-US" sz="1500" spc="-1" strike="noStrike">
                          <a:solidFill>
                            <a:srgbClr val="000000"/>
                          </a:solidFill>
                          <a:latin typeface="Times New Roman"/>
                        </a:rPr>
                        <a:t>of</a:t>
                      </a:r>
                      <a:r>
                        <a:rPr b="0" lang="en-GB" sz="1500" spc="-1" strike="noStrike">
                          <a:solidFill>
                            <a:srgbClr val="000000"/>
                          </a:solidFill>
                          <a:latin typeface="Times New Roman"/>
                        </a:rPr>
                        <a:t> CIDs related to MU BA and RD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 in EDMG Extended Schedule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A351B5-812E-4244-BFB5-F690BF07D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3)</a:t>
            </a:r>
            <a:endParaRPr b="0" lang="en-US" sz="3200" spc="-1" strike="noStrike">
              <a:solidFill>
                <a:srgbClr val="000000"/>
              </a:solidFill>
              <a:latin typeface="Times New Roman"/>
            </a:endParaRPr>
          </a:p>
        </p:txBody>
      </p:sp>
      <p:sp>
        <p:nvSpPr>
          <p:cNvPr id="6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20206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CID 3234 and 34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3983D4-E028-40A7-B408-BCE764073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6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6656BD-401F-4031-B830-A7EF0EE7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8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8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2063-00-00ay-tg-ay-november-2018-bangkok-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15EFB7-FB1F-4666-8D30-C2CE4073A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8, December 5, December 19, and January 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2070-00-00ay-tg-ay-november-28-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2099-01-00ay-task-group-ay-decem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9/11-19-0008-00-00ay-tg-ay-january-9-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581123-0D81-4F3B-9918-2BAE15086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P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3579 AC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 tracking mandato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682D90-4129-41BD-8E27-329704F69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024360"/>
        </p:xfrm>
        <a:graphic>
          <a:graphicData uri="http://schemas.openxmlformats.org/drawingml/2006/table">
            <a:tbl>
              <a:tblPr/>
              <a:tblGrid>
                <a:gridCol w="979560"/>
                <a:gridCol w="1752480"/>
                <a:gridCol w="3581280"/>
                <a:gridCol w="1600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06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053, 3171, 3184, 3186, 3187, 3188, 3190, 3290, 3365, 3369, 3388, 3597, 3723 EDMG OFDM PHY, Spoofing and ShortSS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243, 335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A39D8D-AF4B-4892-AAF6-8465E3A6F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of CIDs 3573, 3583, 3592, 3638, 3657, 3689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0 comment resolutions on hybrid beamforming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6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324-comment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Link Measurement Request/Report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087113-12F6-4CB8-AE15-0D2B42403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kamoto Takeno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215 and 37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4 comment resolution 3227 3444-34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ehold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683F66-57CE-456C-A0D4-577EFE36D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592DB6-54FF-47AA-888D-B3106993F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211893-6CE2-42EF-AB90-30AA2ACD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920A0-D37F-4D62-9547-B3146AC03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BA9870-60EA-4429-88CA-1B382D8B1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non-CR)</a:t>
            </a:r>
            <a:endParaRPr b="0" lang="en-US" sz="3200" spc="-1" strike="noStrike">
              <a:solidFill>
                <a:srgbClr val="000000"/>
              </a:solidFill>
              <a:latin typeface="Times New Roman"/>
            </a:endParaRPr>
          </a:p>
        </p:txBody>
      </p:sp>
      <p:sp>
        <p:nvSpPr>
          <p:cNvPr id="7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iscussion for WLAN rada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101CCD-2FEB-4239-9E97-ECDEF801E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0pm – 3: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1,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1,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rch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8ED022-C09F-4F03-88DA-89CEE4AF7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506DC7-8887-47FC-A36A-AC4353A5F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43F6A1-8674-4A35-8732-B61A1856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469603-AB28-49B1-B4E8-95749A5EE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9:  Amended motion #524</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72, 3473, 3512, 3487, 3511, and 3631 as proposed in 18/1838r0;</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03, 3004, 3005, 3006, 3282, 3283, 3336, 3337, 3345, 3395,</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421, 3427, 3464, 3468, 3469, 3717, and 3718 as proposed in 18/1839r2;</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96, 3463, 3474, 3735, 3664, 3716, 3737, and 3738 as proposed</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in 18/1985r0.</a:t>
            </a:r>
            <a:endParaRPr b="0" lang="en-US" sz="1600" spc="-1" strike="noStrike">
              <a:solidFill>
                <a:srgbClr val="000000"/>
              </a:solidFill>
              <a:latin typeface="Times New Roman"/>
            </a:endParaRPr>
          </a:p>
          <a:p>
            <a:pPr lvl="1" marL="515880" indent="39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FB4511-62E2-4CA1-8E18-6FC760ABB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55, 3562, 3353, 3066, 3409, and 3410 as proposed in 18/2067r1;  </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539, 3540, and 3541 as proposed in 18/2146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266 as proposed in 18/2120r2.</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E8FB14-23F6-4825-89CD-AD1A58376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585 as proposed in 18/2075r1;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73, 3374, 3690, 3032, 3206, and 3475 as proposed in 18/2147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E44BE44-DFBF-451E-8FD3-E10684D547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B4CF8A-ABF5-4E43-B8F7-161842550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398 as proposed in 18/1766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DF91F8-F46E-4F5D-BF2E-4458FC718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73, 3397, 3569, and 3570 as proposed in 18/214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7FE63D-B966-40C5-BC02-CE25DD808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92 and 3692 as proposed in 18/2154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246, 3308, 3344, 3429, 3430, 3431, 3432, 3543, 3544, 3545, 3564, and </a:t>
            </a:r>
            <a:r>
              <a:rPr b="0" lang="en-US" sz="1600" spc="-1" strike="noStrike">
                <a:solidFill>
                  <a:srgbClr val="000000"/>
                </a:solidFill>
                <a:latin typeface="Times New Roman"/>
              </a:rPr>
              <a:t>	</a:t>
            </a:r>
            <a:r>
              <a:rPr b="0" lang="en-US" sz="1600" spc="-1" strike="noStrike">
                <a:solidFill>
                  <a:srgbClr val="000000"/>
                </a:solidFill>
                <a:latin typeface="Times New Roman"/>
              </a:rPr>
              <a:t>3662 as proposed in 18/2155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CA0E73-6DE3-487E-982E-E72D11A36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34 and 3455 as proposed in 18/215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18D48B-8F03-40C1-B74E-78BF5EFA9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6:  Bug fixes</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2149r0 related to Figure 62 in clause 9.4.2.252 of Draft 2.1 of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EBC4B4-09A1-4A56-8204-6B70111CB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urance Document</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contribution 17/1288r3 as the baseline</a:t>
            </a:r>
            <a:br>
              <a:rPr sz="2000"/>
            </a:br>
            <a:r>
              <a:rPr b="1" lang="en-US" sz="2000" spc="-1" strike="noStrike">
                <a:solidFill>
                  <a:srgbClr val="000000"/>
                </a:solidFill>
                <a:latin typeface="Times New Roman"/>
              </a:rPr>
              <a:t>document for the Coexistence Assurance Document:</a:t>
            </a:r>
            <a:endParaRPr b="0" lang="en-US" sz="2000" spc="-1" strike="noStrike">
              <a:solidFill>
                <a:srgbClr val="000000"/>
              </a:solidFill>
              <a:latin typeface="Times New Roman"/>
            </a:endParaRPr>
          </a:p>
          <a:p>
            <a:pPr lvl="1" marL="515880" indent="39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288-03-00ay-tgay-coexistence-assurance-document.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2F9DEC-EA57-4F7F-AF48-98F00A92E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2F3122-AB71-4C9A-AD0B-58D4F4620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D9EBA5-A2BF-4687-AB83-D1731E6A6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E28BE5-6784-4506-883F-711E0B248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8A04BF3-7781-4D5C-AA02-175606E367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E6AE96-F8AC-4131-A88E-B2FE6A313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E68AF3-9A09-4084-B676-CDAC643F2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394E3C-478A-4469-96FC-8231515F0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92D699-9AF9-4763-9624-371501435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08FD95-2E76-41C9-8B42-AFFD27E58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73959E-339E-446F-A005-0D27F05B0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22D81C-7DCE-410F-A08C-5ED081326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45A665-D0DE-4C0F-B59C-ED8E87414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503CF9-F54F-41BC-B28F-286CDBC73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BC342A-7A03-4B26-8B8A-03253EA34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BBC93A-BB4F-4F7A-98A5-EF342B27B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6FA10-6FB3-48D9-B57C-F9FBF2B11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DF95C4-2C7E-4947-8002-76CC9ABB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CD7806-67CD-409B-A8EE-C4A4A8996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0C7CDF-04C1-4D9B-B177-0E5139CE7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7"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81BD78-D310-4895-B7AD-F5ACDB2DE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662B8-8BE3-49AB-8B26-2C3B11BAF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9 plenary</a:t>
            </a:r>
            <a:endParaRPr b="0" lang="en-US" sz="3200" spc="-1" strike="noStrike">
              <a:solidFill>
                <a:srgbClr val="000000"/>
              </a:solidFill>
              <a:latin typeface="Times New Roman"/>
            </a:endParaRPr>
          </a:p>
        </p:txBody>
      </p:sp>
      <p:sp>
        <p:nvSpPr>
          <p:cNvPr id="8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B7C0F3-4418-446F-ADF5-2EB9BA538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520ED2-DEE1-48C4-8A5E-BD2F9D45D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D47BD5E-4B81-4EBD-856D-E0761897D3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C39D8A-791A-484C-8FDB-06A87DF72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9</cp:keywords>
  <dc:language>en-US</dc:language>
  <cp:lastModifiedBy>Edward Au</cp:lastModifiedBy>
  <cp:lastPrinted>2014-11-04T15:04:57Z</cp:lastPrinted>
  <dcterms:modified xsi:type="dcterms:W3CDTF">2019-01-13T17:46:02Z</dcterms:modified>
  <cp:revision>8262</cp:revision>
  <dc:subject>Task Group AY November 2015 Meeting Agenda</dc:subject>
  <dc:title>11-18/2116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