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872793D-A729-4717-93FA-CE76756A37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75741D-D7BA-43A1-9247-864E9DF54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F0DB92-F94B-41B9-8B1A-33736F412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511D64-6B06-48A1-BC07-0AE3B743D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F7F0E9-B4EB-4841-A67D-05AD87406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DDB243-E372-4EF6-B48C-7D641F8AA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663742-3518-47A0-8F6E-932A0EA89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7CC8EB-F94B-44D8-8CAE-3F6506AB2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169027-484F-4DB7-8E8D-239760439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54F7A6-F1CE-4D62-9A18-C41407D43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C1C207-466F-4A3B-A4F6-2BF248E94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75652D-E884-4595-B4D3-8E6FC4D5E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79"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80"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81"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618297D-BC25-4DF7-83BB-A19A1E6B7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17440" y="696960"/>
            <a:ext cx="4646880" cy="3486240"/>
          </a:xfrm>
          <a:prstGeom prst="rect">
            <a:avLst/>
          </a:prstGeom>
          <a:ln w="0">
            <a:noFill/>
          </a:ln>
        </p:spPr>
      </p:sp>
      <p:sp>
        <p:nvSpPr>
          <p:cNvPr id="98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3CB551-4BD7-4B3D-A465-1B22B68F2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54160" y="701640"/>
            <a:ext cx="4626000" cy="3468600"/>
          </a:xfrm>
          <a:prstGeom prst="rect">
            <a:avLst/>
          </a:prstGeom>
          <a:ln w="0">
            <a:noFill/>
          </a:ln>
        </p:spPr>
      </p:sp>
      <p:sp>
        <p:nvSpPr>
          <p:cNvPr id="8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9DB8A0-4208-4C2D-9C38-F7CB12545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46BFA6-3A95-4A1B-970B-D16C6EA92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60B46F-B737-4161-8E93-2F92B3524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C0DE79-E82E-46E7-8B8D-57859F960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27B0A3-3D37-427E-8741-78C412955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BEA5D0-5104-4A96-9EFF-8D99C6B80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900FF6-7A47-485D-8A65-EAAEAB26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29EAA3-0663-469A-AA43-2E2AA3268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125D71-8BBB-4925-9C9B-67768B4EF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EEF1A2-B2D7-43F1-A7B6-CD96EC61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A55726-C176-4E44-BBD7-D9F4CB865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34FB85-5463-4E37-B9CA-12570C6EE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BDA197-6150-45EA-8536-CA9FAF804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73C1F1-BF56-406B-8559-55F95F635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506577-957A-49F7-A317-1FC76CE3A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17135B-ED3E-4D8E-9DC9-69D6D3636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B00A58-D1E8-4B63-B1A1-27DBA6180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F72604-2AFC-456B-82C3-CC1D422F2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F70645-5444-4ECC-B8E8-FE8AE4A32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34D0FA-B4B5-4B5B-B212-7155C2A95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3257C6-1F5A-4D77-9F26-0508192AB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F8F642C-2E1E-44D0-9596-CD671A970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7680" y="696960"/>
            <a:ext cx="4640400" cy="3479760"/>
          </a:xfrm>
          <a:prstGeom prst="rect">
            <a:avLst/>
          </a:prstGeom>
          <a:ln w="0">
            <a:noFill/>
          </a:ln>
        </p:spPr>
      </p:sp>
      <p:sp>
        <p:nvSpPr>
          <p:cNvPr id="89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40B1CA-A395-4833-BD3E-8FC9AAF49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BC55E9-FF8A-4842-8E2A-2AE814A87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1229AD-1E40-423D-96D9-4A12E2F64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0D19B2-AAEC-44F8-B48A-DAFB30E19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58194A-487A-468F-B02F-AB0105222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DF501E-BCDF-4B0D-A307-FEC0B107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C16A8C-663D-437D-B891-298373A20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0BAEA9-DFB5-4234-AA76-CD5BD01B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39EC1C-4B06-4BDD-90EF-E551E42E3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66E628-4A3B-4D71-9F0E-EBBA59376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982351B-F768-4556-94E7-6360B75164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7680" y="696960"/>
            <a:ext cx="4640400" cy="3479760"/>
          </a:xfrm>
          <a:prstGeom prst="rect">
            <a:avLst/>
          </a:prstGeom>
          <a:ln w="0">
            <a:noFill/>
          </a:ln>
        </p:spPr>
      </p:sp>
      <p:sp>
        <p:nvSpPr>
          <p:cNvPr id="9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4475DC-FB0F-4F5E-AEFA-B33E62353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DBDA72-907F-4DAC-81B7-17B95421D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3D5879-179E-4419-AF15-784759438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9AE700-8A13-4053-A035-0C7BEC36C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A754BA-3D9D-42AE-8BCE-C97449BF3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FC6CCA-E95F-47FB-980B-B00BDF1A9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F163EA-67AC-45B6-B74B-566339ECC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F017C2-0C04-445C-BABD-B93E169A6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2174C9-981B-415D-BA5F-B7B09944A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895E48-8F92-492E-A111-215B40318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46AE97-CE09-4C0C-802C-B6CCAD80F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F1BCF3-1D0F-48E7-8297-D5EE56B23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7295BB-C2F4-4F88-B861-104D1B69F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A6DE7D-9D09-491C-9C66-F6DDBFBD2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047508-6C72-4039-BC38-14FA2D593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70A49F-E3C6-4DF4-A88F-24CDF8EFC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041B5C-62A0-4C0B-9B21-601C9DBD8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E6AF9E-58A8-43A4-A68D-BA8280936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F31254-3F17-482B-B82C-1013F0189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1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D7439C-97EB-406A-96FD-0C9F439EB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E8EF21-532E-4B67-8264-8238E7AE2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22343-B5F7-4690-BA41-B66BDD6C8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6051-4DC2-44FF-90A2-54316E7C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2596DE-D642-4E33-92A7-E227AEDDD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A17BE-AA4B-402B-90D0-8030020BA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7170B-F23E-4C44-B614-B17100B79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71D8D-1916-494D-A2F8-4ACB165A3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19C6C-96B1-4F24-A599-54BDAFD72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18393-F013-4B96-82DF-6227BD145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B7C00A-13C9-41DA-B239-9B22189A8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468538-083A-4EF0-A4E5-CC50834950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C73CB-CE27-4697-AD9D-676113FBD6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7492BB-5C86-4192-9A7F-2A8154E342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970DB-68D3-4BE0-B0CA-0A36F94D3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1E3554-9B55-47AF-A3AB-B82B1A85E7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7D4A04-E918-40B3-BCFF-AE5D5281CC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135CBC-363F-4E89-B9B5-DEC6B04F9D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BCD988-1A78-4B82-9BE4-0CAD85014D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A5F97F-5216-4E07-AFDE-A57F2BE545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19AEF0-0824-4005-A2B4-949C323DDC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43A967-A3E6-4D23-BDB4-DBAD8D273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A112AE-DEF9-40D8-9F55-79E874A253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059E46-BA99-4584-B98B-55F5CDB4A1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E84EDC-07CF-465F-B35B-A0A012C798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2E28B-9E8A-4B88-A903-4028BE37D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FFCF33-C01E-4D48-88DA-12996CB021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D73216-DC49-4A8C-B694-2C53E4174E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C9CAE3-E72B-4F46-8A32-BEFF13E6EF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F529C4-8FEA-4700-92DD-1D1CE26E02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B7882F-546F-43C7-8E11-45637623F4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12DE29-D802-4DAA-9B34-DE3FB6AFF7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C9C9A8-4A19-4CE2-807B-237643F19E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536394-E7C8-4013-AE14-EE26EBB455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8BFF13-94C5-495C-96A7-8E3565A49E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295BD8-A54E-44E1-AFDF-709C5FA100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26D89-F957-4786-8A12-C6B86E309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60855B-D4F6-4507-9D9B-9E1F2D48E5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B2FD5D-F7E5-436F-8E50-5949C5812E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EC29AF-2EFE-4CD2-9738-A08429C0B1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FA913C-413E-4515-ACC7-72785A2514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160F1B-F9F3-43BE-9ED5-6CEA1B6ED6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1B9FC5-E77B-4D1B-8889-CE7B059E23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EFBA6F-0741-4D4A-9C52-96DDA82F20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F03A0C-572F-4AC1-8E87-CF4DE773B6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4C00AD-CF27-43DB-ABF3-E9A342D76F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533B67-3809-41C7-BC3B-4BFECFC51B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D52D9-6FAD-402C-9B21-BFABD87D6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386C2D-CEB2-4564-BBF4-2B2568BCF0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674076-0177-4118-ADB0-BC596E57A2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F43F4A-BBA9-4D5D-AC2B-2872ECD19B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A67AFB-7931-4BC4-9197-542387A31D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850D04-E149-4251-B1DD-F80F26005D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93F05-8988-4972-AB4A-428DB1EF1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77C20-BA2A-49EA-8644-E07068657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CA28B-43D7-4803-AA61-0454A4721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70FB-79C5-4452-B06E-A657F837D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DCAB-991E-4536-9B6B-99500BC2B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5750-F442-44B3-B883-72E2086B7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E09F1-D4CD-404F-9BB8-1AB19CD61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5EB73-8C9A-4975-B0C3-60E65F86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3EC34-335F-483D-969D-E3F4850FC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E0E5F-5DB3-4E94-A037-F1ABFF261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6B55D-244B-44D9-ADBD-66B8F4933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FF127-8A4D-4C7E-9DBA-9961A2596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DFBD0-8EEA-4076-BA42-F5B4826E4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62276-6D10-4388-8DE7-206FB2C96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37CDC-351D-4DBB-9730-E618E3B33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81C7D-46A9-4E1F-9D35-11CE2E13D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F1927-F421-40EA-AA6D-BADA6A668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6BB29-DDEC-44FF-906C-6273CA901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47A0E-24BD-49D4-ACF6-02D79179C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563E7-0171-40FF-B6D0-2618179D1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57212-A708-45A1-AFC3-134B53119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64F97-8B15-4F2E-9A4C-904DE014D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C13CB-057D-49BF-8EAC-DC38B81FF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5C4B5-6F67-4E40-BE1A-19120499C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F7E8DB-FC5B-4424-8EDE-A01109CDC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1C7A2-8811-4135-9CA5-627F9965A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3B410-0A3D-4C9A-8A3D-8F17064BD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DB505-D6B5-41D6-B60E-382C3947C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D060A-9287-497E-A770-31B5D96CC2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12EE5-40F5-46C9-A899-EACFACEA7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22213-CD90-49C2-9EBA-903219F22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B38B3-BA6D-4EE0-A293-841A8AEA3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CDD42-A944-462B-9974-91A3F152B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EB584-88CE-494E-A24E-A4FFFAFFF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814D3-DA96-402E-B50B-B455C891E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8BC01E-47D9-47F3-BFB5-061F4E5D8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83104-3D32-46E2-96B3-939CC827A1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2568B7-A8F0-470F-8DF7-70FAB872C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0B8CD-79BD-43E1-9A83-B822BD71A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E0780-846C-444C-B99C-320360800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DCD77-4F5A-43C7-8B9E-902B00BEC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452F1-6649-4FA7-AF36-64790B886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3FD9D-191E-4DFF-A1F9-A0780C9BB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537F4-E286-401A-A78C-9A97598CC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DB5BB-631A-4941-B702-9B39CD16C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78602-5C7E-47CE-826B-74CD83652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C99479-29B0-41E1-A390-C08E4083A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B6BAE-D3E9-4168-AEA3-9A4BB8F52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E4333-F924-4323-A7D2-7DC6374336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E3BF-177F-4A52-9EF9-B2F0A5ED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909F5-63F2-432B-9860-B11C0053A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DA5DE7-EB77-4713-A08C-A87B817BE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7B22C3-2763-4E97-9CF0-6620F497A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15E4C-94A0-49CE-85AF-0C4BB4727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D4A01-1877-40EE-AB00-AB1DC4E11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E3E75-E57A-428F-8170-F7E6D97ED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D84EF-C724-492C-AD9C-7BF93F1A0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B63BE-6314-4E0B-99CE-37B079875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1F618-99D7-4987-91C2-84D9BE407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998FF-C41B-495B-B7C4-04F3FE315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3329-3F67-4243-9466-05FE57D7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0AD07-B8E6-44A7-BA6C-2DE3E81A7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7A4F9B-EE0D-4B76-A00C-506BEE83C2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E50473-257B-484F-AF7C-89C1A101A7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3D188E-919A-44A0-AA4C-6BF746726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4BEC3-6D50-4D89-ACC7-76B3BF663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9B11F-0D66-4628-93D9-FD97145E1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69FDEE-0ECB-492A-9845-0DD371187C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308F92-AFCE-4D68-A026-27FB2A946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4CDC9-156C-40A9-81B5-2D9218940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6C1AF-79A0-4658-A34E-223B05DE3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E758-DAFE-47AD-94E7-A66430FC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3A3EB-0030-4171-AF79-6B3D0ABB6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7B0C4-BBCB-430A-80F3-4C34F8CC2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6CD11-3969-4764-B804-986624D89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3033BC-79A8-48B7-B615-1879CD1561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31B8F3-2992-427F-8433-3858686807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B21664-81D4-4770-84AE-ADB1DD70AC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56FD2-9CB9-4CF2-B092-2A3314874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334F8-748D-46E1-A0CE-D5E538128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C3261-15F4-4C61-8104-1F71DF4EC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A62E4A-8049-424B-BA96-43666CB6F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6650-0D9E-48A8-8D72-8AA1F661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8054C-3FA0-4A39-BD19-6B7791188C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EF25D-827F-4D16-AB86-07D1FC488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1E7DE-B8DA-4695-8EC5-589FF8BBC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B4AE1-82F5-48B4-9BB4-C763F4353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3F89A7-F7F4-4393-B4A8-088869E9A2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88320B-247F-47D2-B89A-68EE48CF9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DAED47-5D30-4069-B8D4-D670200421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C53F0-A66E-448B-9F82-B74B4198C2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3938F5-6509-4BCD-8B75-7140E796BD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F6DEE-626F-47B5-AE3E-2CFB4C9C75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BD23F9-6088-432A-BC10-788E8579EE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A57ACC-63D3-4128-AE30-1A35653FF1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EFC08C-2170-4E3E-9E5E-17283F05EF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88EA16-D777-443C-A9CD-E16485019B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B7FF88-083D-440B-B9F9-FB4DD8F274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3FB300-3A5B-47B6-BA18-B119021274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926AC6-57B3-4AE4-AEEF-B758F93671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66B2BD9-C6A0-4CE5-9BB8-71050A0DEE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EECAE8B-D2A7-4A8F-AC50-5C1783C7A6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3D3DF17-25C3-4B7C-9394-93E2A4BFE2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6AA952-E689-4782-9F62-FC01BC6875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518F2C-080B-4C69-9F7B-FEFCA267A2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2063-00-00ay-tg-ay-november-2018-bangkok-meeting-minutes.docx" TargetMode="External"/><Relationship Id="rId2" Type="http://schemas.openxmlformats.org/officeDocument/2006/relationships/hyperlink" Target="https://mentor.ieee.org/802.11/dcn/18/11-18-2063-00-00ay-tg-ay-november-2018-bangkok-meeting-minutes.docx" TargetMode="External"/><Relationship Id="rId3" Type="http://schemas.openxmlformats.org/officeDocument/2006/relationships/hyperlink" Target="https://mentor.ieee.org/802.11/dcn/18/11-18-2063-00-00ay-tg-ay-november-2018-bangkok-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2070-00-00ay-tg-ay-november-28-2018-conference-call-meeting-minutes.docx" TargetMode="External"/><Relationship Id="rId2" Type="http://schemas.openxmlformats.org/officeDocument/2006/relationships/hyperlink" Target="https://mentor.ieee.org/802.11/dcn/18/11-18-2099-01-00ay-task-group-ay-december-2018-conference-call-meeting-minutes.docx" TargetMode="External"/><Relationship Id="rId3" Type="http://schemas.openxmlformats.org/officeDocument/2006/relationships/hyperlink" Target="https://mentor.ieee.org/802.11/dcn/19/11-19-0008-00-00ay-tg-ay-january-9-2019-conference-call-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s://mentor.ieee.org/802.11/dcn/17/11-17-1288-03-00ay-tgay-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72D304-C3B8-4C7E-95F0-66FE28D29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1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E3FA3A-7B58-4D58-8DFD-F1321056B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3B51AD-CCF8-4E83-B0AA-D3315E1D7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52BA20-3A90-4618-8CC2-62441E506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429260-22CD-4017-BD13-E7F4E6AEF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143C95-17B0-46D2-8592-CF95379B4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E9951E-4B8A-488E-8C67-364062AE8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6FE5D5-B64B-4DF0-A539-647D995FC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the draft readiness for recirculation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e the draft to JTC 1 after ballot comple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0CE460-BD09-45E6-B734-AB97D5214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8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58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C7738B-E9AE-4161-A357-8FC2A6462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November plenary</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 teleconference calls were held between November 28 and January 9 for comment resolution</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0 comments are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8 comments are resolved and ready for mo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 presentations are reviewed and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 presentation is ready for motion</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3A376A-5081-420F-82B4-D6D3ECE07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1)</a:t>
            </a:r>
            <a:endParaRPr b="0" lang="en-US" sz="3200" spc="-1" strike="noStrike">
              <a:solidFill>
                <a:srgbClr val="000000"/>
              </a:solidFill>
              <a:latin typeface="Times New Roman"/>
            </a:endParaRPr>
          </a:p>
        </p:txBody>
      </p:sp>
      <p:sp>
        <p:nvSpPr>
          <p:cNvPr id="6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3895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055, 3066, 3353, 3409, 3410, 35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related CID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t. Louis, Missouri,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3 - 18,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722BFF-94EC-4B48-A582-AFC766EDC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C31A3B-8BC5-4A47-8AE8-02745E7F3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2)</a:t>
            </a:r>
            <a:endParaRPr b="0" lang="en-US" sz="3200" spc="-1" strike="noStrike">
              <a:solidFill>
                <a:srgbClr val="000000"/>
              </a:solidFill>
              <a:latin typeface="Times New Roman"/>
            </a:endParaRPr>
          </a:p>
        </p:txBody>
      </p:sp>
      <p:sp>
        <p:nvSpPr>
          <p:cNvPr id="6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3897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e protection of Link Measurement fram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539, 3540, 354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misc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492 and 369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a:t>
                      </a:r>
                      <a:r>
                        <a:rPr b="0" lang="en-US" sz="1500" spc="-1" strike="noStrike">
                          <a:solidFill>
                            <a:srgbClr val="000000"/>
                          </a:solidFill>
                          <a:latin typeface="Times New Roman"/>
                        </a:rPr>
                        <a:t>of</a:t>
                      </a:r>
                      <a:r>
                        <a:rPr b="0" lang="en-GB" sz="1500" spc="-1" strike="noStrike">
                          <a:solidFill>
                            <a:srgbClr val="000000"/>
                          </a:solidFill>
                          <a:latin typeface="Times New Roman"/>
                        </a:rPr>
                        <a:t> CIDs related to MU BA and RD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 in EDMG Extended Schedule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02C807-8A09-4075-8EC5-2AE7A1BC8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3)</a:t>
            </a:r>
            <a:endParaRPr b="0" lang="en-US" sz="3200" spc="-1" strike="noStrike">
              <a:solidFill>
                <a:srgbClr val="000000"/>
              </a:solidFill>
              <a:latin typeface="Times New Roman"/>
            </a:endParaRPr>
          </a:p>
        </p:txBody>
      </p:sp>
      <p:sp>
        <p:nvSpPr>
          <p:cNvPr id="6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20206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CID 3234 and 34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D1E8F1-5F44-4D01-A14D-15C0B9744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6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3E41F3-876B-4F0A-A4FB-BDD8DAEC3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8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8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2063-00-00ay-tg-ay-november-2018-bangkok-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DE9BFF-54C8-4694-AF7A-0C4B1609B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8, December 5, December 19, and January 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2070-00-00ay-tg-ay-november-28-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2099-01-00ay-task-group-ay-decem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9/11-19-0008-00-00ay-tg-ay-january-9-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FAA74-3E01-4D80-863A-AEDB66AEF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P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3579 AC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 tracking mandato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A57758-7C89-4FDD-B085-54DAF5332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024360"/>
        </p:xfrm>
        <a:graphic>
          <a:graphicData uri="http://schemas.openxmlformats.org/drawingml/2006/table">
            <a:tbl>
              <a:tblPr/>
              <a:tblGrid>
                <a:gridCol w="979560"/>
                <a:gridCol w="1752480"/>
                <a:gridCol w="3581280"/>
                <a:gridCol w="1600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06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053, 3171, 3184, 3186, 3187, 3188, 3190, 3290, 3365, 3369, 3388, 3597, 3723 EDMG OFDM PHY, Spoofing and ShortSS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243, 335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21AA76-1F02-42D5-B3B3-2F3C2710C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of CIDs 3573, 3583, 3592, 3638, 3657, 3689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0 comment resolutions on hybrid beamforming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6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324-comment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Link Measurement Request/Report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D036A9-A26E-43B3-8021-CCBED72B8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kamoto Takeno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215 and 37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4 comment resolution 3227 3444-34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ehold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4C04BA-3E39-4A2F-A40D-6B24C6571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0EF8C4-5329-4A0E-A58B-D21486D74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4C35D2-1919-4993-AE52-281D12C3C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E935FE-DCCF-4B54-B40E-4A54C8FCD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0557DD-AA31-4920-AB59-0E3944C09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non-CR)</a:t>
            </a:r>
            <a:endParaRPr b="0" lang="en-US" sz="3200" spc="-1" strike="noStrike">
              <a:solidFill>
                <a:srgbClr val="000000"/>
              </a:solidFill>
              <a:latin typeface="Times New Roman"/>
            </a:endParaRPr>
          </a:p>
        </p:txBody>
      </p:sp>
      <p:sp>
        <p:nvSpPr>
          <p:cNvPr id="7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iscussion for WLAN rada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C63BBA-3F91-4CAF-8D53-6E74B72CB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0pm – 3: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1,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1,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rch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5DE1C6-FDB1-4C75-9DDB-ADE1D7162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474759-5350-4F9C-8961-0D1DBF7F4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6FE481-03E9-418B-B335-1A470D90C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73C14A-7DEA-46E7-A674-AD7211D30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9:  Amended motion #524</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72, 3473, 3512, 3487, 3511, and 3631 as proposed in 18/1838r0;</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03, 3004, 3005, 3006, 3282, 3283, 3336, 3337, 3345, 3395,</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421, 3427, 3464, 3468, 3469, 3717, and 3718 as proposed in 18/1839r2;</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96, 3463, 3474, 3735, 3664, 3716, 3737, and 3738 as proposed</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in 18/1985r0.</a:t>
            </a:r>
            <a:endParaRPr b="0" lang="en-US" sz="1600" spc="-1" strike="noStrike">
              <a:solidFill>
                <a:srgbClr val="000000"/>
              </a:solidFill>
              <a:latin typeface="Times New Roman"/>
            </a:endParaRPr>
          </a:p>
          <a:p>
            <a:pPr lvl="1" marL="515880" indent="39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C09E24-A562-44A0-B6CB-BA5BF76D9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55, 3562, 3353, 3066, 3409, and 3410 as proposed in 18/2067r1;  </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539, 3540, and 3541 as proposed in 18/2146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266 as proposed in 18/2120r2.</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874571-A53E-493F-A9B9-59378E13D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585 as proposed in 18/2075r1;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73, 3374, 3690, 3032, 3206, and 3475 as proposed in 18/2147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629958A-174E-4E30-B8A3-568A02C633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550D00-13AB-472D-8943-78BE0464D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398 as proposed in 18/1766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C54CA0-C506-4697-BE29-3EFF86223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73, 3397, 3569, and 3570 as proposed in 18/214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623F7A-464F-400D-A1D8-5D7A03600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92 and 3692 as proposed in 18/2154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246, 3308, 3344, 3429, 3430, 3431, 3432, 3543, 3544, 3545, 3564, and </a:t>
            </a:r>
            <a:r>
              <a:rPr b="0" lang="en-US" sz="1600" spc="-1" strike="noStrike">
                <a:solidFill>
                  <a:srgbClr val="000000"/>
                </a:solidFill>
                <a:latin typeface="Times New Roman"/>
              </a:rPr>
              <a:t>	</a:t>
            </a:r>
            <a:r>
              <a:rPr b="0" lang="en-US" sz="1600" spc="-1" strike="noStrike">
                <a:solidFill>
                  <a:srgbClr val="000000"/>
                </a:solidFill>
                <a:latin typeface="Times New Roman"/>
              </a:rPr>
              <a:t>3662 as proposed in 18/2155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EAFB0E-CAE8-48AE-98E4-00A9E39DF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34 and 3455 as proposed in 18/215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D85420-EE17-4ED2-8B6F-3F9BDFFDC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6:  Bug fixes</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2149r0 related to Figure 62 in clause 9.4.2.252 of Draft 2.1 of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36E2AB-A37C-4DA5-9DBC-DE0D08AA2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urance Document</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contribution 17/1288r3 as the baseline</a:t>
            </a:r>
            <a:br>
              <a:rPr sz="2000"/>
            </a:br>
            <a:r>
              <a:rPr b="1" lang="en-US" sz="2000" spc="-1" strike="noStrike">
                <a:solidFill>
                  <a:srgbClr val="000000"/>
                </a:solidFill>
                <a:latin typeface="Times New Roman"/>
              </a:rPr>
              <a:t>document for the Coexistence Assurance Document:</a:t>
            </a:r>
            <a:endParaRPr b="0" lang="en-US" sz="2000" spc="-1" strike="noStrike">
              <a:solidFill>
                <a:srgbClr val="000000"/>
              </a:solidFill>
              <a:latin typeface="Times New Roman"/>
            </a:endParaRPr>
          </a:p>
          <a:p>
            <a:pPr lvl="1" marL="515880" indent="39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288-03-00ay-tgay-coexistence-assurance-document.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FC10DA-0B53-43DE-90EA-289EF738E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75504-97EF-4461-86CD-8B8589FAA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CF7E28-3F1A-443A-95D9-9A05DD34B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E119A7-9020-43C9-9403-A75E494EA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5D70412-B76D-4E31-BD98-D824C4D82D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4964E9-73E4-42BF-9FB9-3275F1576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1AF4AA-0124-4940-98E4-AAFDEE921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243A0F-3498-4FD3-A52E-14A57D03F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18FE35-FCB6-44F0-B6BB-88108975D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AD7703-6180-485D-A8E7-ECA867C5D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0B5648-1898-4081-92B9-075C30622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6D5511-C31F-4D42-97D7-5038E4058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17D24E-D3FE-4D98-A59B-CE3628857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20DE97-33D6-4C34-AF05-F2CAD827C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6D0D86-AAA6-4A1A-89A9-506CBBA1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035DB1-7904-433D-A1E4-D17DDC580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6637D1-1675-4410-9371-35EB76C63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D725D4-F676-474E-ADFA-305991527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F6189-7A44-49D2-B972-08A9A2966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D4EE09-2673-4572-A9AA-BBD7F0A9E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7"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7EE5F4-BDCA-4006-94CA-04855F684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A78057-46EB-4DD8-920C-34D458614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9 plenary</a:t>
            </a:r>
            <a:endParaRPr b="0" lang="en-US" sz="3200" spc="-1" strike="noStrike">
              <a:solidFill>
                <a:srgbClr val="000000"/>
              </a:solidFill>
              <a:latin typeface="Times New Roman"/>
            </a:endParaRPr>
          </a:p>
        </p:txBody>
      </p:sp>
      <p:sp>
        <p:nvSpPr>
          <p:cNvPr id="8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06F698-6326-459C-892F-37505E430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D15271-E49B-42E8-801F-E098A686E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2E70399-4EE8-4EDB-9AC6-A27106C5D1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4B8749-86A6-4BDD-B88D-E62686EFB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9</cp:keywords>
  <dc:language>en-US</dc:language>
  <cp:lastModifiedBy>Edward Au</cp:lastModifiedBy>
  <cp:lastPrinted>2014-11-04T15:04:57Z</cp:lastPrinted>
  <dcterms:modified xsi:type="dcterms:W3CDTF">2019-01-13T17:46:02Z</dcterms:modified>
  <cp:revision>8262</cp:revision>
  <dc:subject>Task Group AY November 2015 Meeting Agenda</dc:subject>
  <dc:title>11-18/2116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