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8FE24EC6-E33E-4FA5-9F53-A08FDEE404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EF2222-86FB-40B9-88D6-3DF0F1505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54160" y="701640"/>
            <a:ext cx="4626000" cy="3468600"/>
          </a:xfrm>
          <a:prstGeom prst="rect">
            <a:avLst/>
          </a:prstGeom>
          <a:ln w="0">
            <a:noFill/>
          </a:ln>
        </p:spPr>
      </p:sp>
      <p:sp>
        <p:nvSpPr>
          <p:cNvPr id="6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54160" y="701640"/>
            <a:ext cx="4626000" cy="3468600"/>
          </a:xfrm>
          <a:prstGeom prst="rect">
            <a:avLst/>
          </a:prstGeom>
          <a:ln w="0">
            <a:noFill/>
          </a:ln>
        </p:spPr>
      </p:sp>
      <p:sp>
        <p:nvSpPr>
          <p:cNvPr id="6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3AD39E-D8E9-41E3-8125-36B121942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54160" y="701640"/>
            <a:ext cx="4626000" cy="3468600"/>
          </a:xfrm>
          <a:prstGeom prst="rect">
            <a:avLst/>
          </a:prstGeom>
          <a:ln w="0">
            <a:noFill/>
          </a:ln>
        </p:spPr>
      </p:sp>
      <p:sp>
        <p:nvSpPr>
          <p:cNvPr id="67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4309D8-0872-4887-8DEB-529F2E348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54160" y="701640"/>
            <a:ext cx="4626000" cy="3468600"/>
          </a:xfrm>
          <a:prstGeom prst="rect">
            <a:avLst/>
          </a:prstGeom>
          <a:ln w="0">
            <a:noFill/>
          </a:ln>
        </p:spPr>
      </p:sp>
      <p:sp>
        <p:nvSpPr>
          <p:cNvPr id="68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6B4B1E-E0FA-4476-9EE7-623C3FACC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E0A1D5-034A-4049-8E13-EDF0670A9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54160" y="701640"/>
            <a:ext cx="4626000" cy="3468600"/>
          </a:xfrm>
          <a:prstGeom prst="rect">
            <a:avLst/>
          </a:prstGeom>
          <a:ln w="0">
            <a:noFill/>
          </a:ln>
        </p:spPr>
      </p:sp>
      <p:sp>
        <p:nvSpPr>
          <p:cNvPr id="6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56651C0-56A7-416B-B5D5-1743997165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7680" y="696960"/>
            <a:ext cx="4640400" cy="3479760"/>
          </a:xfrm>
          <a:prstGeom prst="rect">
            <a:avLst/>
          </a:prstGeom>
          <a:ln w="0">
            <a:noFill/>
          </a:ln>
        </p:spPr>
      </p:sp>
      <p:sp>
        <p:nvSpPr>
          <p:cNvPr id="63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4D177E6-2C5A-40AE-B5EA-7812F7B3D8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7680" y="696960"/>
            <a:ext cx="4640400" cy="3479760"/>
          </a:xfrm>
          <a:prstGeom prst="rect">
            <a:avLst/>
          </a:prstGeom>
          <a:ln w="0">
            <a:noFill/>
          </a:ln>
        </p:spPr>
      </p:sp>
      <p:sp>
        <p:nvSpPr>
          <p:cNvPr id="64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D9846D0-1ED2-4A04-86B9-B9183E7DA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701640"/>
            <a:ext cx="4626000" cy="3468600"/>
          </a:xfrm>
          <a:prstGeom prst="rect">
            <a:avLst/>
          </a:prstGeom>
          <a:ln w="0">
            <a:noFill/>
          </a:ln>
        </p:spPr>
      </p:sp>
      <p:sp>
        <p:nvSpPr>
          <p:cNvPr id="6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A99CA71-03ED-4511-BC00-6D989290E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54160" y="701640"/>
            <a:ext cx="4626000" cy="3468600"/>
          </a:xfrm>
          <a:prstGeom prst="rect">
            <a:avLst/>
          </a:prstGeom>
          <a:ln w="0">
            <a:noFill/>
          </a:ln>
        </p:spPr>
      </p:sp>
      <p:sp>
        <p:nvSpPr>
          <p:cNvPr id="6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4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5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CA53B1-7BE3-4DF7-8C70-CB9EF304A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54160" y="701640"/>
            <a:ext cx="4626000" cy="3468600"/>
          </a:xfrm>
          <a:prstGeom prst="rect">
            <a:avLst/>
          </a:prstGeom>
          <a:ln w="0">
            <a:noFill/>
          </a:ln>
        </p:spPr>
      </p:sp>
      <p:sp>
        <p:nvSpPr>
          <p:cNvPr id="65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49DD7B6-B8DC-4E80-98C7-13BEF5B02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59"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6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9D0572-DC06-4636-9862-263CAFF14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54160" y="701640"/>
            <a:ext cx="4626000" cy="3468600"/>
          </a:xfrm>
          <a:prstGeom prst="rect">
            <a:avLst/>
          </a:prstGeom>
          <a:ln w="0">
            <a:noFill/>
          </a:ln>
        </p:spPr>
      </p:sp>
      <p:sp>
        <p:nvSpPr>
          <p:cNvPr id="6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54160" y="701640"/>
            <a:ext cx="4626000" cy="3468600"/>
          </a:xfrm>
          <a:prstGeom prst="rect">
            <a:avLst/>
          </a:prstGeom>
          <a:ln w="0">
            <a:noFill/>
          </a:ln>
        </p:spPr>
      </p:sp>
      <p:sp>
        <p:nvSpPr>
          <p:cNvPr id="6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32B217-6787-41CE-9710-E2E8CC91D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BA286-474A-4E99-BA1C-C4A5221B4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D42E7-63FC-46EA-A867-E08E3B4BF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D1BAF4-8D5E-4AA4-93B7-8E71114426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E8ACAC-EE2F-4883-B4FB-2D7C9297A4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878B30-EDB4-4CA4-9DD5-9B5C74A9DC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ACD927-4A46-4AD3-B55D-2E7D68851F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99864E-AA37-4F73-AEB5-29F4A71ECE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4EC40A-97C6-407F-8774-EB213084B8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7EA5E6-0D0D-4FF6-83D3-3DE8B69F0B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CAFC1D-9EE6-4C9D-A9E0-AB295A7893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C1123A-CA3D-4E17-846C-A356B578EA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AF5126E-A462-4325-A96E-AF8417F2F29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B54CE-4BD1-4A4D-A4B6-B957FF439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96EFCC-65C8-45A0-8ECC-EAA8B575FF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854DC1-17F0-41FB-9669-3E43ABF565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ECD05E-2D2B-42C1-9B20-1D8C95D274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55B151-C235-4EC8-8C6A-E3651E419E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123438-BA83-42D4-BAA2-470FA2D6BD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F54D6B-C38C-4CCD-81B3-9FEF643708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CFB087-D4B7-4B3E-9D4C-D1FF10D668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7DB5B1-6534-4D4C-A447-FC815DAB1E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B663E2-14DD-49CC-8BCD-D345DA48DC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F6EA0D8-C0A3-47C9-A276-4D609DA2A6D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0FD4C-EAD9-4430-9111-A4CA25572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6EE548-472A-4CF4-AC2E-C8A150194F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E9F7C4-6AF5-4DC8-B87A-A047FAB994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0377A9-0E75-49E1-BC72-B3DD10C5EE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1E902E-5DD4-4C9E-A2EB-F0CE6F1772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0B8933-6278-4B50-B671-3BE07CB3EC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75E744-6408-41B3-AB10-4EA5D92868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E17DFD-983C-4C7C-98E7-E4A256B532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12757F-C7E3-4D73-9378-A94922EFFB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88BF12-C721-43ED-879A-5779AB52F8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7A0690-3266-41A6-ADC3-1B301D7EC6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6F657-CA9A-4C94-860E-4D78D5B5F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C9932C-14E5-4F7D-81E7-31B0611DA6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F24FC20-BBEB-4A2E-A7E4-B32B0815AA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EADB120-B9F7-4BC4-8F56-BE87EA9A244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062828-AE69-47F0-B4A9-0AECDD4E886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0C80E4-87F7-4E27-AD09-B19685A8CA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FBED70-5C7F-4B30-A9DA-FA87A1661A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C848CA-D36D-4599-A09C-A7364277D3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154AD9-B150-4C0E-9A1E-D7E321A290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CA5A2A-6A62-47C5-A862-B5614BEEF5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DE21A6-C01B-4C19-B426-A2C6088101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FB06E-86AE-4F21-9BED-63560A726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719B03-188F-48E8-BC06-8ADC66B9A7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6E51EF-5338-4C4A-B8D9-AFEF3968E6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F6E5CB-EC41-4E59-BA1A-7F723A151D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087754-4472-4073-8CDF-B39AF444A1E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49CB848-E156-438A-A6B3-36C4BE7A2F8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7FF5C-0420-4487-AB63-505539495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63FC2-CBA7-4B67-A859-31219A95F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BEDA1-37E4-476E-87B7-ECE57551B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AE5DC-5476-44B4-9ED4-8B496F892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2F88B-30FA-473F-A24E-DDDD4753A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690D6-3013-463C-A621-3F5D200BB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BC1F9-4A49-4D71-A41B-E656549CF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E4D63-9AF5-468A-BF7B-A7A593834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E8552-3614-4E95-A5F1-3EB4ADA3A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F2FBB-5D98-4DC6-BB0C-502056CD8B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F01DE-2873-4C82-89CE-29A29DD48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E24012-56C2-46DB-8C2E-8211976D66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CFC32E-E249-4639-8F2E-48B41E1598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0278B7-18F4-484B-ABCB-CC118C693E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260F60-267C-4C9B-B457-7C8DEA6AC7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000F61-CF1F-4918-8781-7E09390832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F71C7-B5CD-4C11-9204-F1DA9C76F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8C4AE-84FB-427D-9398-3A960F7D58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B01D32-71AA-4379-AEDA-3078F96E5C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3B5FB-A09B-4C28-B7B0-A3553250D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E5964-B094-4ECA-8426-A804A369BD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EDE583-B3B2-411A-AF61-84C950F5B3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C199A3-7E79-40FB-89D9-6B365AEB2C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B6274E-9A86-4CDE-AAAA-5FEF1B8A39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45BD03-C805-4931-B0FB-536B173074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C03F5C-995D-476E-945D-23A3368DCF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D25324-124A-445A-BDCA-D2DF70060D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7EBE8-0B93-433A-AC68-A569841D6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9BE89B-8F67-4FA2-BE4D-20385F6AC2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D8D20A-F400-49FE-8FC8-41692737D1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7FCB45-0024-4809-ADF1-29ED735803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81BDFB-371E-4845-A6BD-A0A49EAE9B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53ED92-C8EE-4756-8B5B-34BD44A4D4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B8539-69BF-49A3-867F-71F9B20AF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DB6194-36A3-40CC-80AB-BBD69E0FE2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951AFE-59FE-4053-A83D-4BC2ABC670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3DE783-8103-4D79-9D3B-2AAE35D34A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E4FE3F-132A-4530-836F-948AD32770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B4BB1-BD1E-45F2-97CD-DA88FF1D4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E88797-0A76-4DE0-A921-9BC7308056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5F6BBC-80A1-4852-80C1-84C4F4CF2C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A7AAF7-DC6F-4C6C-9487-1FDD9DD26B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18347B-6DAD-4DCB-A969-D1C3AF0588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47BD68-FF80-4B35-A1F4-C99161A025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BD6FE3-82E7-4638-87EE-35B6F41F70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2A218D-7D03-4C5A-8973-71C25FD0B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3CF9B2-0890-428F-B949-9E4E2CB1DC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8044BC-8FD3-4DDC-935F-4F605C0E7F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32C373-0816-4DD7-9A9E-836FD1AB99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2AC6B-42EE-4DBD-BAD1-C58485DE1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915968-0B40-46B8-8BA9-903418705E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145D29-B6C0-44A8-ADA7-DC796CD7FA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C3D03E-0FA2-4962-AD74-1AA8454560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3B0721-9D5A-44B7-932A-EC853F60C9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C1FCA0-B350-4D68-AA21-FE6D6F7051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C6E5F6-B738-4A4C-B64F-B8A955D604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3938A1-E1BC-4DD1-BC5F-C8F5C64989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472892-6C6B-4A89-910A-80E3FEBD5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7DD408-1AEF-4ACF-B5F3-E2512BC97F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D0E090-55B1-450A-8DD0-391BFA7FD3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5DB57-0B96-478D-84DA-0A0C97EEE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4F5CA4-162D-441F-B45E-49B248FED3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114B42-1977-48DA-911B-58973115AF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3EC35D-063D-4E96-A040-C94436DB90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5DFC05-9408-4486-8825-ED555E7CAE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E2F00A-B4BD-4ABA-8570-4C769A8FE5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13EBA1-4464-4551-8403-F2FB7BB5E2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189CA5-88E8-4DBE-A178-9765FB1C6B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32E420-B68E-40FF-BBDD-3ED3FEEB35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21B33D-1D9F-4F77-8EB1-892FAF63E0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C25124-A8EF-4FA1-8B47-382CB566A6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C86C6-7174-4BE5-85CB-B2478B3B0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8D6DA2-8B68-47E5-A68B-4B26780351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783EDD-F6C6-4098-9F74-2AF02DE1EA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C8F788-40A1-435B-957C-42850F91C7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E3B42C-34EE-47C9-9D6E-F6739450DF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B6BC98-24B2-46E9-8C84-47D5776A50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213CBC-3045-4D39-B35A-D3D7542CDE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5759B8-14F8-434D-B3BA-B8516759C6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FD686E-DB7C-41A3-9640-B1D4A56D64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1EE19E-70B9-47FB-AE60-1F621AFCED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59C29C-712F-4DC4-8021-9B3D827182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62F3B-1D9C-429F-8BF7-8893F56C6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183046-F5DF-494D-BDE5-18942CA909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387234-C84F-4C1E-89F2-1696B111AC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170738-22C0-48D7-859F-5A3D09452C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36F5FC-A367-4B72-B73D-126C36B994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D66B2E-A6B1-4088-951C-E749A0319D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F48C6A-50A8-462D-807A-8FA54EF435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6A5543-C3B1-46A3-89AB-6A1C6F1A2E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B8B317-59CA-49AF-A230-3880E7C24A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522A64-F492-4AF6-9A30-C2B7E05A7E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C526CB-7E84-434F-A3A2-DB55EE95482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7C3D53C-DDCC-4B99-A1C7-B54861BF3D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D05F3EE-FF2A-4426-A78D-2EE33D9623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9A23ED2-A4C9-461B-8351-7ED97F59A4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2A28017-EC49-4239-9F82-C4A6FE48D1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818C675-57C1-4BF0-AF8B-065C05B620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71FDF09-60CB-4949-92EB-967BE70C19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B7E1EF0-EE6F-4771-95AE-67B66AAE7D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052C114-85CA-4986-8C7D-8385B94F02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8D3622D-DAF3-4964-AF67-12F1E7F1DA4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D9CC0BA-31E4-46A3-B01C-D0E7F6096D6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12FAE1C-2395-4242-9D39-FB4534B60A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170AE28-3F86-469F-A515-87866F5E99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4A058F-01C7-48DA-91F6-0FD54AF31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December 2018 Teleconference Call Agendas</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2-19</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369E66-CAFD-41CE-A770-79C5420A0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604"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327380-7F10-4C58-BCA8-A9C0DA438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5</a:t>
            </a:r>
            <a:endParaRPr b="0" lang="en-US" sz="3200" spc="-1" strike="noStrike">
              <a:solidFill>
                <a:srgbClr val="000000"/>
              </a:solidFill>
              <a:latin typeface="Times New Roman"/>
            </a:endParaRPr>
          </a:p>
        </p:txBody>
      </p:sp>
      <p:sp>
        <p:nvSpPr>
          <p:cNvPr id="60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December 12</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December 19</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and January 9</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s</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presentation/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2094r0:  </a:t>
            </a:r>
            <a:r>
              <a:rPr b="0" lang="en-US" sz="1700" spc="-1" strike="noStrike">
                <a:solidFill>
                  <a:srgbClr val="000000"/>
                </a:solidFill>
                <a:latin typeface="Times New Roman"/>
              </a:rPr>
              <a:t>WLAN radar (Alecsander Eitan)</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2095r0:  </a:t>
            </a:r>
            <a:r>
              <a:rPr b="0" lang="en-US" sz="1700" spc="-1" strike="noStrike">
                <a:solidFill>
                  <a:srgbClr val="000000"/>
                </a:solidFill>
                <a:latin typeface="Times New Roman"/>
              </a:rPr>
              <a:t>WLAN radar annex (Assaf Kasher)</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1/1625r2:  </a:t>
            </a:r>
            <a:r>
              <a:rPr b="0" lang="en-US" sz="1700" spc="-1" strike="noStrike">
                <a:solidFill>
                  <a:srgbClr val="000000"/>
                </a:solidFill>
                <a:latin typeface="Times New Roman"/>
              </a:rPr>
              <a:t>802.11 comment resolution guide (Chris Hansen)</a:t>
            </a: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8856F9-7262-4B78-B4E1-96DD43C48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19</a:t>
            </a:r>
            <a:endParaRPr b="0" lang="en-US" sz="3200" spc="-1" strike="noStrike">
              <a:solidFill>
                <a:srgbClr val="000000"/>
              </a:solidFill>
              <a:latin typeface="Times New Roman"/>
            </a:endParaRPr>
          </a:p>
        </p:txBody>
      </p:sp>
      <p:sp>
        <p:nvSpPr>
          <p:cNvPr id="61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gn="just">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Call the meeting to order</a:t>
            </a:r>
            <a:endParaRPr b="0" lang="en-US" sz="1900" spc="-1" strike="noStrike">
              <a:solidFill>
                <a:srgbClr val="000000"/>
              </a:solidFill>
              <a:latin typeface="Times New Roman"/>
            </a:endParaRPr>
          </a:p>
          <a:p>
            <a:pPr marL="339480" indent="-339480" algn="just">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atent policy and logistics</a:t>
            </a:r>
            <a:endParaRPr b="0" lang="en-US" sz="1900" spc="-1" strike="noStrike">
              <a:solidFill>
                <a:srgbClr val="000000"/>
              </a:solidFill>
              <a:latin typeface="Times New Roman"/>
            </a:endParaRPr>
          </a:p>
          <a:p>
            <a:pPr marL="339480" indent="-339480" algn="just">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nnouncement:</a:t>
            </a:r>
            <a:endParaRPr b="0" lang="en-US" sz="19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nuary 9</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call is confirmed</a:t>
            </a:r>
            <a:endParaRPr b="0" lang="en-US" sz="16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comment resolution/technical presentation on the January 9</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call and the January 2019 interim</a:t>
            </a:r>
            <a:endParaRPr b="0" lang="en-US" sz="1600" spc="-1" strike="noStrike">
              <a:solidFill>
                <a:srgbClr val="000000"/>
              </a:solidFill>
              <a:latin typeface="Times New Roman"/>
            </a:endParaRPr>
          </a:p>
          <a:p>
            <a:pPr marL="339480" indent="-339480" algn="just">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Comment resolution</a:t>
            </a:r>
            <a:endParaRPr b="0" lang="en-US" sz="19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1766r1: </a:t>
            </a:r>
            <a:r>
              <a:rPr b="0" lang="en-US" sz="1600" spc="-1" strike="noStrike">
                <a:solidFill>
                  <a:srgbClr val="000000"/>
                </a:solidFill>
                <a:latin typeface="Times New Roman"/>
              </a:rPr>
              <a:t>CID 3398,</a:t>
            </a:r>
            <a:r>
              <a:rPr b="1" lang="en-US" sz="1600" spc="-1" strike="noStrike">
                <a:solidFill>
                  <a:srgbClr val="000000"/>
                </a:solidFill>
                <a:latin typeface="Times New Roman"/>
              </a:rPr>
              <a:t> </a:t>
            </a:r>
            <a:r>
              <a:rPr b="0" lang="en-GB" sz="1600" spc="-1" strike="noStrike">
                <a:solidFill>
                  <a:srgbClr val="000000"/>
                </a:solidFill>
                <a:latin typeface="Times New Roman"/>
              </a:rPr>
              <a:t>LB234 comment resolutions – PHY and BF III </a:t>
            </a:r>
            <a:r>
              <a:rPr b="0" lang="en-US" sz="1600" spc="-1" strike="noStrike">
                <a:solidFill>
                  <a:srgbClr val="000000"/>
                </a:solidFill>
                <a:latin typeface="Times New Roman"/>
              </a:rPr>
              <a:t>(Claudio da Silva)</a:t>
            </a:r>
            <a:endParaRPr b="0" lang="en-US" sz="16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144r0:  </a:t>
            </a:r>
            <a:r>
              <a:rPr b="0" lang="en-US" sz="1600" spc="-1" strike="noStrike">
                <a:solidFill>
                  <a:srgbClr val="000000"/>
                </a:solidFill>
                <a:latin typeface="Times New Roman"/>
              </a:rPr>
              <a:t>Unsolicited RSS related CIDs (Dejian Li)</a:t>
            </a:r>
            <a:endParaRPr b="0" lang="en-US" sz="16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067r1:  </a:t>
            </a:r>
            <a:r>
              <a:rPr b="0" lang="en-US" sz="1600" spc="-1" strike="noStrike">
                <a:solidFill>
                  <a:srgbClr val="000000"/>
                </a:solidFill>
                <a:latin typeface="Times New Roman"/>
              </a:rPr>
              <a:t>CID 3562, Resolution of CID 3055, 3066, 3353, 3409, 3410, 3562 (Solomon Trainin)</a:t>
            </a:r>
            <a:endParaRPr b="0" lang="en-US" sz="16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120r0:  </a:t>
            </a:r>
            <a:r>
              <a:rPr b="0" lang="en-GB" sz="1600" spc="-1" strike="noStrike">
                <a:solidFill>
                  <a:srgbClr val="000000"/>
                </a:solidFill>
                <a:latin typeface="Times New Roman"/>
              </a:rPr>
              <a:t>Secure protection of Link Measurement frames (Solomon Trainin)</a:t>
            </a:r>
            <a:endParaRPr b="0" lang="en-US" sz="16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146r0:  </a:t>
            </a:r>
            <a:r>
              <a:rPr b="0" lang="en-US" sz="1600" spc="-1" strike="noStrike">
                <a:solidFill>
                  <a:srgbClr val="000000"/>
                </a:solidFill>
                <a:latin typeface="Times New Roman"/>
              </a:rPr>
              <a:t>Resolution of CIDs 3539, 3540, 3541 (Solomon Trainin)</a:t>
            </a:r>
            <a:endParaRPr b="0" lang="en-US" sz="16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154r0:  </a:t>
            </a:r>
            <a:r>
              <a:rPr b="0" lang="en-GB" sz="1600" spc="-1" strike="noStrike">
                <a:solidFill>
                  <a:srgbClr val="000000"/>
                </a:solidFill>
                <a:latin typeface="Times New Roman"/>
              </a:rPr>
              <a:t>Resolution of CIDs 3492 and 3692 (Ilya Bolotin)</a:t>
            </a:r>
            <a:endParaRPr b="0" lang="en-US" sz="16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8/2155r0:  </a:t>
            </a:r>
            <a:r>
              <a:rPr b="0" lang="en-GB" sz="1600" spc="-1" strike="noStrike">
                <a:solidFill>
                  <a:srgbClr val="000000"/>
                </a:solidFill>
                <a:latin typeface="Times New Roman"/>
              </a:rPr>
              <a:t>Resolution </a:t>
            </a:r>
            <a:r>
              <a:rPr b="0" lang="en-US" sz="1600" spc="-1" strike="noStrike">
                <a:solidFill>
                  <a:srgbClr val="000000"/>
                </a:solidFill>
                <a:latin typeface="Times New Roman"/>
              </a:rPr>
              <a:t>of</a:t>
            </a:r>
            <a:r>
              <a:rPr b="0" lang="en-GB" sz="1600" spc="-1" strike="noStrike">
                <a:solidFill>
                  <a:srgbClr val="000000"/>
                </a:solidFill>
                <a:latin typeface="Times New Roman"/>
              </a:rPr>
              <a:t> CIDs related to MU BA and RD (Ilya Bolotin)</a:t>
            </a:r>
            <a:endParaRPr b="0" lang="en-US" sz="16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84000" indent="-22608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EDFE55-8674-4BBA-9CB2-F7BC5EBC7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s on December 5 and 19,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D762C4D-3497-41B2-88E1-9F5F0E6D87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33E7ED0-63B3-4059-AE25-730E266A25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874FCE-E737-42D1-A1B7-946C6C2C9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F190DE-870F-42CD-8B33-9B6188B37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D204850-4759-46EE-9499-E831068CAA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B17A8F-7B70-428A-ABFD-AEDA8F20F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D74335-FC33-4BD2-BEE9-BCAC09CB2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December 2018</cp:keywords>
  <dc:language>en-US</dc:language>
  <cp:lastModifiedBy>Edward Au</cp:lastModifiedBy>
  <cp:lastPrinted>2014-11-04T15:04:57Z</cp:lastPrinted>
  <dcterms:modified xsi:type="dcterms:W3CDTF">2018-12-18T16:18:22Z</dcterms:modified>
  <cp:revision>4277</cp:revision>
  <dc:subject>Task Group AY November 2015 Meeting Agenda</dc:subject>
  <dc:title>18/2096r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43955034</vt:lpwstr>
  </property>
</Properties>
</file>