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FE9E34B-EE59-4D94-A991-721CECBB50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5167C6-8E85-4357-BF88-23CC719F5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0384E0-BD73-4934-8C3A-0ADF0E68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B69C4C-39EF-4868-AED9-59ECEAC3F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CF5466-B829-4AFB-A76A-9D465E994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DF6562-1523-42A6-93EC-7AFA89034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E335731-3FA4-42C4-8FCF-BC88DF4E7B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75B8236-A01E-404E-846C-B8D42CDF31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B4F541-E52F-403D-B805-A547E81EB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E0FC9B-15A1-4C0F-943B-6D11020BF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A50A4B-EB62-4A37-8310-E589F6379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2496BE-7C38-4325-9C21-FE66219A2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2E3A78-99C2-436F-B908-3888807B2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71DC25-CB12-4F0E-8829-625BB8D2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3E645-266C-406A-B394-1147B82D1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A55F-4633-406B-956A-E9783E55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C4B3F-09C5-4A1E-8C47-1196F15AB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96B4C-8A0C-433F-9E82-BD54E81C61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B4BAFD-8AC8-413F-AE7F-5B080D5816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ADFBB-2D9D-476A-A00E-7D828D419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522A98-9E9F-4A57-B30C-097C8A36C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18503-86C0-4D26-B1DC-505966AF5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46ED5-43C1-4530-82D3-DF2081F719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55B401-AB59-4DCD-A2EB-32B0C939BB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A25220-B9DE-4532-AAC1-CEA5206C3F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455992-B6FB-4CA7-8F89-208F6C1460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0B453-4702-4C3F-8560-80CAED4B2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361734-734B-44D4-AED3-0058BE2321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957065-49BF-465F-8020-C885C3CABF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9D5CDF-FA7A-40EA-84F0-0482CDDAFC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B87A15-E183-42A0-9A9D-780CCD19D0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B2F686-1134-40A3-85E5-050E08CB34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53BE4F-086E-4A9C-B705-C09957913B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C7DDF6-B6B1-4FE3-9040-6AD52B0C0E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A3CD81-C32C-4A4C-A097-21BB49C9C6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768872-6790-41F5-B3E4-0EECA1CC4A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3D133F-55BD-4D74-897E-0763FA620A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85CEF-906E-42D5-A972-07E7AEEBF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3C752A-501A-43AA-BCFC-EA14081B63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B1D6B8-5075-4853-BA48-C6BF3C95EF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679122-676B-4572-BAE9-3AFA7BE04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8595A6-4D73-4B73-9AAC-1B0C174326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586F2D-7E71-4B96-9A01-42E7A3367E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03A428-AE76-412F-AC46-A65ADF8EF7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07236E-9225-45A2-88AE-073A20A300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3705BC-C265-463F-9882-6B86BEA5BB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C4BED8-4F7F-4AF0-BBAF-4A8ABF2E1A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24C84-E020-4589-9115-6804F0129B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9D652-CCB0-417F-A18B-762D2D568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9145F-1BEF-465D-BA08-92ED7175A2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B14BB3-E4FE-4B89-AA63-55C4DBD8AB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195725-24B6-44B6-88F6-CF1D09A9B9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B31A53-1447-4D24-9C62-6910F64C83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547D31-5E05-4465-A6A2-045D0C4219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C42EA6-8922-4D6D-B270-EE5F43636F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0C309F-BE2E-415A-B6BD-47C39E4BA4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3C5EFC-DDBF-462A-A4E6-2F08479A1C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DA4499-8EF2-4C1C-80E6-A526A9925D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473155-A99C-48F5-A4A7-20D1CFE0B4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F568C-9C3B-4063-877F-FAD11AFE4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712BE9-1FA7-4732-B4DC-CF2B4B90D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EE74F2-DB36-4064-A9A0-AB0517511E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0D9E28-E235-4D78-B9BD-2EA8FB112D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E4DA7C-46D6-44A7-838E-86BDD44E35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738C76-4B3D-4B73-A64F-A00C9458F7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38B31-F974-49B1-A5D3-BDEDD4830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047F8-9FD8-40E8-A9E8-5704BBEF5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B1E26-6991-4957-BC11-B1E43B9DA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7161-0FE4-4F9F-BE8A-590A2B718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CDCD-9594-4607-AAC3-F8CDE6AD6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3957-63EC-44B1-BD94-1DE316160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87C67-791A-4D79-9AD4-D7E043AB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9A5B6-786B-4946-ABE5-9AA2CFBE4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3C1C-5007-46DE-94D3-4A5AC059C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61F41-FB4E-4B54-A502-42B947A03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092F4-35D5-4F53-9386-081A3B691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3F450F-BE35-4050-8710-38423488C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D141E-2BD0-4D5C-9233-07378D75C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F0499-CE0C-4C6E-ADF6-A888D7CDD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8E246-C095-4F89-B71E-D9DDF63A9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CD4E4-1712-4384-8308-C0B2082883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EF22-B52E-4D0F-8C70-23EE6A2D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B4387-2D44-4D90-9611-70DCAC765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E4A5D-D877-4B3F-A96D-B5F5963FD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F3448-7B2C-4F44-AB89-8A0AE3B16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B0D3A-0364-4ED6-A53B-826F8D935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9DD4A-1127-49F4-B9E3-B1D62B888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B26B4-C5B8-4CA9-849F-7C9581086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EEF3C-6584-494C-930E-169E91868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CA8D79-6B91-43CF-8AC3-55DCA66707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FA0E6-D07B-4ECE-A78D-E576F1130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B4043-38BC-4950-A066-C36393081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1B47-F565-4944-95ED-93A2794FE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A2024-152F-46BC-9BFC-4F9FDAE56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3621A-E630-422D-B375-9C988EB38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1869A-0E5D-48A2-BE08-C6541D1CE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89865-0012-426D-8B88-73E867611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C8E7D-8F5D-427F-ABD4-7313FB095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3177D-03A0-4CF8-A49C-24F686B94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BAC9C-C94A-4598-9599-6E030B8F6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17376F-6819-411F-A653-F7752A864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C16F30-7CA6-41BF-B82C-0B1E75B43C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D8593-7708-411D-AB64-30A8D3CC8A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7CF19-EBF1-46F7-BDED-AFFDAB10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BF579-F2C2-40E0-B39E-ECD99B256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294DE-1802-4640-A85D-A7F5E010E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7D1B2-2624-4607-8264-2BF0A822A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6B562-0103-44ED-8B91-0E34C2A5C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3794B-86AD-4986-80EC-47F43950C2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2ADB4-F8DD-4D93-BE42-39C96D61B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E7873-D872-4859-A088-56F2FD1CF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9C683-9FA9-4831-977E-607CE7AED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218B1-04E9-422D-8D74-BD123A075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CFE89-0D4C-4EC5-9461-7E2CAB974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060D-B614-4777-A585-513AE6242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6B6336-B715-45F1-8B8F-52EAB4A3A9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87A3FD-C1E8-41C7-8F2C-FE70BA2D78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55BC7-8E38-4C82-BBA6-8611AF91F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174B8-4F68-41E2-BFB5-1E1BAA342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77BA3-422D-4A68-8A0F-F1B237FCC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2E763-DE56-4B93-B6D9-8AC0BD23B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EFB81-996B-4EFD-BCA5-6F5FCBC56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80B2F-02FC-48CE-BAA7-B28C15C9B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4B98F-1AE8-4803-AC18-8E8D51DF9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B528A-78D3-494D-B27A-E4237889F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883F-B923-4844-B5F7-CF49BCBA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96737-B85F-4B6F-B118-D9FFA7125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B950A-A5E3-4A52-8382-61546FEB88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B911F4-68E7-411B-9219-21D6B2D573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CE196-7A16-4C4C-9DCD-FBF800EE0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A9927-887C-43D4-9D25-6954953673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3C1CB-9C24-47D4-A848-23D723719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9C282-79FC-408D-A937-0EA2EF8BF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C3B61F-70AA-431D-93E0-16B13AA0A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00724-D6AE-4B05-BC75-41E630711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EAC5B-EEA7-46F2-A1C5-932DC79C1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F478-4D9A-47EB-A99D-4D447B80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75A43-0B7C-4911-A0D6-869A258A3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654DE-274C-4E99-9A9E-D2F4AC07D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050A1-B60D-436E-A3E9-1959089AE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F46EF6-8C65-49A0-AFBE-1DC0FAAE50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DAF9E5-36AF-4FCD-87EB-75EB21E488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6B402D-569D-495A-8EB5-4A2217CE4A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AEF74F-807E-4212-9CFD-6D5610A26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73EB8-8BCE-4640-8FC4-A8DD69C41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770620-6877-4648-A0F1-7A5E0D07A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6C620-0782-4F7C-9249-77A78EA11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3B0AB-1A1D-45F1-8A5B-C9702646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D812B-9426-4AF5-9381-A68369FD7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8B35B-372F-4832-AFF0-B4BEEE6E8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81DD9-193D-417C-8F9A-454E1EB1E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D36A9-07ED-4A9E-9256-4C80736BB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EA86C6-5E32-4CDB-B0D8-0B8F99DD9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BE95EB-9806-4BE7-B1FD-2CA259A57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D9A398-B7C9-4D3F-ACB8-CA72DFE83F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912D3C-C009-48DF-BF92-4ABA595DDA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35EAFB-3393-40CF-9623-338098ADD4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080B7-9B78-4F16-8E36-13D64FEE8B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B7785B4-E56C-403C-972D-35F0F1AADA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9AB902F-1420-4237-915D-836925F954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FD1205-5A42-4118-99C5-0A52B706BA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A36C442-E3C1-45B9-A67D-5A23FBDBA1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8F5978-54BB-4159-AF86-DED38D3235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FB73D4-E18D-4B3C-99EC-C4E68FFC1B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1FC2D7-E9AE-4DBC-A221-A95DC68920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8E6BBB-289D-479D-A072-1B6DA28EC4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CFAE665-6B2C-46BE-9482-639D8D10F8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4703C4-56FD-4E5E-AA22-FBB6AFA6D7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E80A4E7-8E49-4A38-B6E8-4C33944208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C8A99B7-1838-456A-827A-9F56D64FEA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5566C9-3AF5-45BE-BA12-B0F732D3E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Decem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2-1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D82564-575E-4CC9-AF9C-540C5C6EB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BE2AB9-8F5D-4206-B9BB-7967C7A7E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5</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December 12</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December 1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4r0:  </a:t>
            </a:r>
            <a:r>
              <a:rPr b="0" lang="en-US" sz="1700" spc="-1" strike="noStrike">
                <a:solidFill>
                  <a:srgbClr val="000000"/>
                </a:solidFill>
                <a:latin typeface="Times New Roman"/>
              </a:rPr>
              <a:t>WLAN radar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5r0:  </a:t>
            </a:r>
            <a:r>
              <a:rPr b="0" lang="en-US" sz="1700" spc="-1" strike="noStrike">
                <a:solidFill>
                  <a:srgbClr val="000000"/>
                </a:solidFill>
                <a:latin typeface="Times New Roman"/>
              </a:rPr>
              <a:t>WLAN radar annex (Assaf Kasher)</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1/1625r2:  </a:t>
            </a:r>
            <a:r>
              <a:rPr b="0" lang="en-US" sz="1700" spc="-1" strike="noStrike">
                <a:solidFill>
                  <a:srgbClr val="000000"/>
                </a:solidFill>
                <a:latin typeface="Times New Roman"/>
              </a:rPr>
              <a:t>802.11 comment resolution guide (Chris Hansen)</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B6CF35-010C-428A-99CC-149E1561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9</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all the meeting to order</a:t>
            </a:r>
            <a:endParaRPr b="0" lang="en-US" sz="19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tent policy and logistics</a:t>
            </a:r>
            <a:endParaRPr b="0" lang="en-US" sz="19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nouncement:</a:t>
            </a:r>
            <a:endParaRPr b="0" lang="en-US" sz="19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uary 9</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call is confirmed</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comment resolution/technical presentation on the January 9</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call and the January 2019 interim</a:t>
            </a:r>
            <a:endParaRPr b="0" lang="en-US" sz="1600" spc="-1" strike="noStrike">
              <a:solidFill>
                <a:srgbClr val="000000"/>
              </a:solidFill>
              <a:latin typeface="Times New Roman"/>
            </a:endParaRPr>
          </a:p>
          <a:p>
            <a:pPr marL="339480" indent="-3394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mment resolution</a:t>
            </a:r>
            <a:endParaRPr b="0" lang="en-US" sz="19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1766r1: </a:t>
            </a:r>
            <a:r>
              <a:rPr b="0" lang="en-US" sz="1600" spc="-1" strike="noStrike">
                <a:solidFill>
                  <a:srgbClr val="000000"/>
                </a:solidFill>
                <a:latin typeface="Times New Roman"/>
              </a:rPr>
              <a:t>CID 3398,</a:t>
            </a:r>
            <a:r>
              <a:rPr b="1" lang="en-US" sz="1600" spc="-1" strike="noStrike">
                <a:solidFill>
                  <a:srgbClr val="000000"/>
                </a:solidFill>
                <a:latin typeface="Times New Roman"/>
              </a:rPr>
              <a:t> </a:t>
            </a:r>
            <a:r>
              <a:rPr b="0" lang="en-GB" sz="1600" spc="-1" strike="noStrike">
                <a:solidFill>
                  <a:srgbClr val="000000"/>
                </a:solidFill>
                <a:latin typeface="Times New Roman"/>
              </a:rPr>
              <a:t>LB234 comment resolutions – PHY and BF III </a:t>
            </a:r>
            <a:r>
              <a:rPr b="0" lang="en-US" sz="1600" spc="-1" strike="noStrike">
                <a:solidFill>
                  <a:srgbClr val="000000"/>
                </a:solidFill>
                <a:latin typeface="Times New Roman"/>
              </a:rPr>
              <a:t>(Claudio da Silva)</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4r0:  </a:t>
            </a:r>
            <a:r>
              <a:rPr b="0" lang="en-US" sz="1600" spc="-1" strike="noStrike">
                <a:solidFill>
                  <a:srgbClr val="000000"/>
                </a:solidFill>
                <a:latin typeface="Times New Roman"/>
              </a:rPr>
              <a:t>Unsolicited RSS related CIDs (Dejian Li)</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67r1:  </a:t>
            </a:r>
            <a:r>
              <a:rPr b="0" lang="en-US" sz="1600" spc="-1" strike="noStrike">
                <a:solidFill>
                  <a:srgbClr val="000000"/>
                </a:solidFill>
                <a:latin typeface="Times New Roman"/>
              </a:rPr>
              <a:t>CID 3562, Resolution of CID 3055, 3066, 3353, 3409, 3410, 3562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20r0:  </a:t>
            </a:r>
            <a:r>
              <a:rPr b="0" lang="en-GB" sz="1600" spc="-1" strike="noStrike">
                <a:solidFill>
                  <a:srgbClr val="000000"/>
                </a:solidFill>
                <a:latin typeface="Times New Roman"/>
              </a:rPr>
              <a:t>Secure protection of Link Measurement frames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6r0:  </a:t>
            </a:r>
            <a:r>
              <a:rPr b="0" lang="en-US" sz="1600" spc="-1" strike="noStrike">
                <a:solidFill>
                  <a:srgbClr val="000000"/>
                </a:solidFill>
                <a:latin typeface="Times New Roman"/>
              </a:rPr>
              <a:t>Resolution of CIDs 3539, 3540, 3541 (Solomon Train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54r0:  </a:t>
            </a:r>
            <a:r>
              <a:rPr b="0" lang="en-GB" sz="1600" spc="-1" strike="noStrike">
                <a:solidFill>
                  <a:srgbClr val="000000"/>
                </a:solidFill>
                <a:latin typeface="Times New Roman"/>
              </a:rPr>
              <a:t>Resolution of CIDs 3492 and 3692 (Ilya Bolotin)</a:t>
            </a:r>
            <a:endParaRPr b="0" lang="en-US" sz="16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55r0:  </a:t>
            </a:r>
            <a:r>
              <a:rPr b="0" lang="en-GB" sz="1600" spc="-1" strike="noStrike">
                <a:solidFill>
                  <a:srgbClr val="000000"/>
                </a:solidFill>
                <a:latin typeface="Times New Roman"/>
              </a:rPr>
              <a:t>Resolution </a:t>
            </a:r>
            <a:r>
              <a:rPr b="0" lang="en-US" sz="1600" spc="-1" strike="noStrike">
                <a:solidFill>
                  <a:srgbClr val="000000"/>
                </a:solidFill>
                <a:latin typeface="Times New Roman"/>
              </a:rPr>
              <a:t>of</a:t>
            </a:r>
            <a:r>
              <a:rPr b="0" lang="en-GB" sz="1600" spc="-1" strike="noStrike">
                <a:solidFill>
                  <a:srgbClr val="000000"/>
                </a:solidFill>
                <a:latin typeface="Times New Roman"/>
              </a:rPr>
              <a:t> CIDs related to MU BA and RD (Ilya Bolotin)</a:t>
            </a:r>
            <a:endParaRPr b="0" lang="en-US" sz="1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45CA13-F27F-404E-BA35-5AB5D56E3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December 5 and 19,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1A2CD67-2A63-482C-A926-CEDA9CEBE8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1808035-0230-4CCE-9498-9B8FE15C95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5DB888-E518-42AE-A476-6EA8E1504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D3E973-97CD-4721-B0F9-506D2F51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DA13156-F86A-40C7-B6CE-0C1099A908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0E5FD6-1809-4FC4-A72B-4BCC2D0F7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F5007D-BD4C-4580-8B33-3355ED593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18</cp:keywords>
  <dc:language>en-US</dc:language>
  <cp:lastModifiedBy>Edward Au</cp:lastModifiedBy>
  <cp:lastPrinted>2014-11-04T15:04:57Z</cp:lastPrinted>
  <dcterms:modified xsi:type="dcterms:W3CDTF">2018-12-18T16:18:22Z</dcterms:modified>
  <cp:revision>4277</cp:revision>
  <dc:subject>Task Group AY November 2015 Meeting Agenda</dc:subject>
  <dc:title>18/2096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43955034</vt:lpwstr>
  </property>
</Properties>
</file>