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F7182C6-44FA-4871-9F94-552227E451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4E5548-CB56-4222-8A5E-6D4A48101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F4A72A-8661-46FD-9AE4-E7C7BE518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8BDBF5-0A59-4EBA-89F7-B49229CB8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F41F4D-1A69-45AA-A344-483170B72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2E4A40-054E-45C9-ADDC-AF19D33C0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A24F1DD-A8B8-44C4-9F33-BAFAA9BC5A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4FE5826-14B0-429B-A41F-3B635D9610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9957774-4A38-4FE4-A39F-68955DA86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69F06CF-6464-4C24-8EF3-2352EA649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2400AE-DC9A-4AD8-8D6B-A723E8725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53B187-F664-4CD4-A782-6EBB39711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E16799-0453-4E06-B4EF-DCD0295DB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EB27FE-5A4E-4C38-B8FA-AFC77A2A1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6E407-386C-449C-A5CF-939AA2860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68C6-29FA-42B0-90B6-587AAD89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EAC69-188C-400E-86C5-DA486C8FD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7C41F-F268-47D0-8DB6-7C197AC83B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897779-8EFB-4143-833B-8C5C63900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6327B-79AF-43CA-90F8-A618B9481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E1085-98E2-46D7-AD76-F45C1AF9F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68740-2255-4DDE-A0C8-D90797252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10F575-4896-4C31-AB27-7BE37C740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62F8E6-02C7-4AAA-8517-A15866EF41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A53C5A-9047-4CA5-92F8-F5E80F80C3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FA4A76-C865-49F1-9B30-1C6598FB8F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7F807-8DFB-40DE-94F9-69E5BB760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9CF5FD-62AE-4FC9-94DC-D02E49E5B9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EF7CD9-362E-4523-B005-E8C276E476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844414-ABA4-4474-B4BA-CAE24C6AF3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84E233-64D7-44C5-9551-E7B0BB476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D31D59-0624-408D-8030-110E66551B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C73864-6398-49AD-8A61-FB3E10C280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55AC5F-EA2A-434B-B2B4-F5955780FF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483B90-97B8-4D94-8737-1453243645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3D909D-ED72-45D2-B261-9C7AB60694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6961E2-58EC-42E4-BA7D-5FF9ABDBC5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4A173-8006-4232-8403-4B1724FE7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69CB8F-FE7B-4AD1-887D-E030C1E37E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246164-593C-4ADD-A7B2-765FC66C4A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783EC2-A223-4860-8DA4-CC522564F0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13368D-8F2A-40F7-B589-1CC46BE2E4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3DF18D-716F-4C57-98BA-84FB702F53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32E05A-A9F1-411C-A518-5878E8DDF6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93DA2C-ABA2-456B-88F4-4CE3280FD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A4CB6E-2C24-40CE-9EFA-A5A9476679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448055-4C07-4648-834C-06F708E827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9D1865-8779-4994-8718-2593EC5570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0EEDF-7AE1-4D1F-8C9C-4CBD5089C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47AD4E-4EAD-44E5-AC0F-578CF41CB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6C1BDC-F07C-46D4-B222-8D33954DF6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7B1FD7-2CB8-4301-8873-3CB54331F4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6B65D5-ED8E-4C52-BE6B-8CBD634FCF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387466-EBDE-4CA2-9106-D1ADCA54E7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8BCAA0-0F70-4B96-86B3-C0BEEA96B1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6AAE0F-E726-411F-9ADD-24BBDA7705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E53379-2A33-45B6-80F3-560498D47B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2B8FFB-82DE-4ED0-803A-8F0A44150B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40C42-FD39-4D66-B96C-BE25890F46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07D88-8DF3-4EEC-9AAC-AC82083FD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A2406C-F8B7-4328-837F-97E0F401B4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84894-365B-4628-B75B-68A9DEC9B4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C91B8C-1076-4A75-88B7-48B44B1EB1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2D3E7A-DA6E-4E98-8C2A-8094FCE610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DF4D0A-E6A4-4626-9519-7CD03CBA45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9AD9A-8B98-4000-AB5E-6D1B2E2B7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84FDB-182B-4903-8235-11FE60DC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BFABE-9CCA-4E13-BCB8-8B816E890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5B77B-C2B0-463C-8CD0-755611AFD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67BE3-8BAD-407B-A250-C0513E3D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47858-857A-4B6C-8704-8FBCD2D1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50670-1F29-4E23-BE23-DF105C729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A688-F440-4EBC-9002-85608FB73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082A0-CF60-41D0-94A0-D2D10F67D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59488-4F69-4944-9A93-BF44B163E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9541D-20D5-4149-9C68-A41A80B43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D424B5-1EDE-4F8C-9AD8-284BC2354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61185-E6B6-4B74-A784-D3D27C623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63C81-2A6E-4093-9894-6ECC1E998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BB54D-FF4E-4263-A8B7-47B84799B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005A1-4AEA-4A87-B842-D9D45D2D4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A2B8-4191-48A7-A4DB-3187DEDBE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47116-AD54-4C5F-A875-0FB917A88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869F0-5C34-4C49-B1E4-BB55D0F1A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D817A-531E-4804-9D2A-18EE958B7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606C0-C17B-4924-ADE3-544E8335F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9B10E-610F-4D9E-BE8A-0867794FC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6B729-D571-45EC-B44E-BD93F3AF2D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A5A75-D945-4F5B-9919-CB0EC6350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6F4AD-6D2B-4576-B2B6-C7BBD91C6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C1CCA-D3DE-43AB-A35F-038A1D1A7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DDE02-C95D-4732-89BB-12943BB68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529A8-EACC-4B84-A4EB-775AA63E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3383A-734B-414A-9073-6CE2E1D2B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CD84B-445E-4AF0-8EA4-ECE6755E2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29B83-36C8-49A3-AE19-0AF3FB4D5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05B25-3BA6-4F94-AC88-B90D8413D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098DB-6B08-4753-B20F-232F36119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A6CDA-EE17-4D3C-B8DE-C5308C0D4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10C43-FFE1-4939-8452-CB8EAB818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38EDF0-F40C-4E11-B50D-DF8668B97C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1C406F-F7C3-4896-92B1-21460814A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DF463-23F4-4FF4-ABAF-1ED361F369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73919-2C1C-4C43-A5D2-EC4F42CD6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DF5BE8-8D72-4365-A092-54C3D770F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33665B-D09F-4BA6-8082-6D50504F5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36B37-01FC-42B1-85E9-8D7621A6B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91360-4843-4427-B450-77A71CBFE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924FE-7983-458E-8604-CCC9A13EA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FB93E-57B6-4418-8A0B-D7E5A65E0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EA0EC-24B2-49FC-80A2-AE507B2CB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D7CC5-3A78-4E85-9244-1FE066A76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806D7F-9380-47EF-A1AC-34DC11D4D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4274CB-26CB-4623-821A-A056C987DD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53A61-27F1-4A6D-AF3B-27A478663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38D4AA-6883-4025-9C54-6217543D9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4C4442-3643-4649-BC3A-85E822E9F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FBFFAC-265E-483D-8F2B-1E143C5AB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AAA4D-C40D-48CF-BACB-5BDEBA2ECD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FD975-91E7-4C73-8B5B-A107157A3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38844-8BD8-4329-8FD9-F12E38276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86564-97ED-42C2-839D-F138F8D4C3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ADB6E-BF7E-4267-96EC-4CF0DF61A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5F1D5-6FE1-47EB-B618-B9750B2CB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914DD-EAC7-40F9-A0BA-41320877D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FA7A-9A90-4841-B7B6-1656471E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1DF6F-A666-4F99-BEEF-BD9A21A48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E5660-F0C0-40DC-BF54-D06E2D502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74D006-C33D-43DD-8882-EEE389CEFF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AF9341-A3BD-415D-B33A-8658E2E1D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38EEF8-8AA5-4DCC-9557-F93630B66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716D1-B94F-4C74-B84E-87F7DA01B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402EA9-FB2F-44AB-8787-E6EFCE37EC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B4C95-47BA-48F5-B142-286981CF7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808E6-F94A-465A-9E54-FCACE90F4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F87AB-AAC7-43CA-8913-1274EAF31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20A7-D948-4A85-A53B-6FDBE923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48561-FB7D-41C1-9514-B38C99556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F2794-FC4B-407B-80BA-866E6715E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1A6E3-8D37-4845-A6AD-7ECF18115C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A9DAC-8407-4EEB-AEE1-2A94AA7FEE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C7E201-87D3-4EB0-8ADE-E051C6B2A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9CE304-C97E-48A8-993C-F19353EC80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B2223-11F1-45B6-A190-13C35DA5DB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4D49B-8163-4AFE-ACF1-9CD6B0FBD6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5F2B3-061B-4327-8290-69346D63A0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A66E5-6184-4761-BBA6-C8ADC3B73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9CB5-A71C-4212-9B76-1F24CC36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C759F-8F37-4315-9B06-6344439CB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E6ABE-115C-44D9-92D0-28F6E81AC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98EE7-913E-4C5B-B52E-D6B2F66D02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EF87D-79AB-4929-96FC-671226BAF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CEDCC-1B63-4E71-AE92-A9DB133EE8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673262-E3BF-4BEE-A392-251525CB29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B5452-2001-4D8B-BA58-047E4F9743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1A7FA4-8780-4D6C-809C-32B73C17F8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23BFD-D78E-4AE9-BF55-E0410B7078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716BE-A762-494E-8366-1AD8B923AB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A74F859-DC75-4F14-BD1E-7650394948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A0BEB10-3A39-4CD7-BF3F-898702E3D4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49912FD-CECA-4B30-8927-F819EE6032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C9FB1FC-6538-4BB2-9A45-E7B3963D6A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FE53AD9-D746-4748-85CE-06855B851F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C8F497-9D71-4A10-A38C-99E171AB04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B5895A-880B-4E76-9834-ADD0583EF2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CB6A140-72CE-4A28-87E1-5E855E8691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805B08-ED2C-4706-8ABC-8636FB215C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4BB1DAF-51A3-4B8A-A6EF-0ABD006685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4E9664A-B4D9-4AFD-8CBB-A25E28E1A8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31796B0-CF52-4DE8-B351-1052151CC5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8A6D7A-329C-4C25-8F57-04A1B7308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Decem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2-1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E16E03-CCC9-4F7F-8ED4-A12545C85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C29C5-32D8-44BA-9556-A72638CB7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5</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December 12</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December 1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4r0:  </a:t>
            </a:r>
            <a:r>
              <a:rPr b="0" lang="en-US" sz="1700" spc="-1" strike="noStrike">
                <a:solidFill>
                  <a:srgbClr val="000000"/>
                </a:solidFill>
                <a:latin typeface="Times New Roman"/>
              </a:rPr>
              <a:t>WLAN radar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5r0:  </a:t>
            </a:r>
            <a:r>
              <a:rPr b="0" lang="en-US" sz="1700" spc="-1" strike="noStrike">
                <a:solidFill>
                  <a:srgbClr val="000000"/>
                </a:solidFill>
                <a:latin typeface="Times New Roman"/>
              </a:rPr>
              <a:t>WLAN radar annex (Assaf Kasher)</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1/1625r2:  </a:t>
            </a:r>
            <a:r>
              <a:rPr b="0" lang="en-US" sz="1700" spc="-1" strike="noStrike">
                <a:solidFill>
                  <a:srgbClr val="000000"/>
                </a:solidFill>
                <a:latin typeface="Times New Roman"/>
              </a:rPr>
              <a:t>802.11 comment resolution guide (Chris Hansen)</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D12EFF-E147-46A4-A0B5-1C119D3D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9</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 and the January 2019 interim</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6r1:  </a:t>
            </a:r>
            <a:r>
              <a:rPr b="0" lang="en-US" sz="1700" spc="-1" strike="noStrike">
                <a:solidFill>
                  <a:srgbClr val="000000"/>
                </a:solidFill>
                <a:latin typeface="Times New Roman"/>
              </a:rPr>
              <a:t>CID 3398,</a:t>
            </a:r>
            <a:r>
              <a:rPr b="1" lang="en-US" sz="1700" spc="-1" strike="noStrike">
                <a:solidFill>
                  <a:srgbClr val="000000"/>
                </a:solidFill>
                <a:latin typeface="Times New Roman"/>
              </a:rPr>
              <a:t> </a:t>
            </a:r>
            <a:r>
              <a:rPr b="0" lang="en-GB" sz="1800" spc="-1" strike="noStrike">
                <a:solidFill>
                  <a:srgbClr val="000000"/>
                </a:solidFill>
                <a:latin typeface="Times New Roman"/>
              </a:rPr>
              <a:t>LB234 comment resolutions – PHY and BF I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144r0:  </a:t>
            </a:r>
            <a:r>
              <a:rPr b="0" lang="en-US" sz="1800" spc="-1" strike="noStrike">
                <a:solidFill>
                  <a:srgbClr val="000000"/>
                </a:solidFill>
                <a:latin typeface="Times New Roman"/>
              </a:rPr>
              <a:t>Unsolicited RSS related CIDs </a:t>
            </a:r>
            <a:r>
              <a:rPr b="0" lang="en-US" sz="1700" spc="-1" strike="noStrike">
                <a:solidFill>
                  <a:srgbClr val="000000"/>
                </a:solidFill>
                <a:latin typeface="Times New Roman"/>
              </a:rPr>
              <a:t>(Dejian Li)</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769EE-7354-4F4D-A354-0F48AC76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December 5,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E2C339D-C6E9-4DF8-94DE-E1CFC864D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9E5BBC8-33C0-4706-B9A8-AF0B4AC88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C0E13F-E595-4664-8E73-AFE32DE4A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837EFD-0996-493A-8007-D56D3E999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EBA5534-C2D6-496D-9AD4-BF9D8110D7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AE155A-8941-44E8-9A16-BB9A253AF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2ED304-B692-4C5F-A96D-02E60CD0A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18</cp:keywords>
  <dc:language>en-US</dc:language>
  <cp:lastModifiedBy>Edward Au</cp:lastModifiedBy>
  <cp:lastPrinted>2014-11-04T15:04:57Z</cp:lastPrinted>
  <dcterms:modified xsi:type="dcterms:W3CDTF">2018-12-14T22:13:45Z</dcterms:modified>
  <cp:revision>4267</cp:revision>
  <dc:subject>Task Group AY November 2015 Meeting Agenda</dc:subject>
  <dc:title>18/2096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43955034</vt:lpwstr>
  </property>
</Properties>
</file>