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C18DB7C3-4775-4599-B556-F4B2B72DF5F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AD3CFBD-6DF2-4629-849C-EC1C37D0A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54160" y="701640"/>
            <a:ext cx="4626000" cy="3468600"/>
          </a:xfrm>
          <a:prstGeom prst="rect">
            <a:avLst/>
          </a:prstGeom>
          <a:ln w="0">
            <a:noFill/>
          </a:ln>
        </p:spPr>
      </p:sp>
      <p:sp>
        <p:nvSpPr>
          <p:cNvPr id="6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54160" y="701640"/>
            <a:ext cx="4626000" cy="3468600"/>
          </a:xfrm>
          <a:prstGeom prst="rect">
            <a:avLst/>
          </a:prstGeom>
          <a:ln w="0">
            <a:noFill/>
          </a:ln>
        </p:spPr>
      </p:sp>
      <p:sp>
        <p:nvSpPr>
          <p:cNvPr id="6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D0AA3F-47F5-4426-892A-507AF87C9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54160" y="701640"/>
            <a:ext cx="4626000" cy="3468600"/>
          </a:xfrm>
          <a:prstGeom prst="rect">
            <a:avLst/>
          </a:prstGeom>
          <a:ln w="0">
            <a:noFill/>
          </a:ln>
        </p:spPr>
      </p:sp>
      <p:sp>
        <p:nvSpPr>
          <p:cNvPr id="67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B76F408-FBF2-4E39-B9DB-AC2B3A148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54160" y="701640"/>
            <a:ext cx="4626000" cy="3468600"/>
          </a:xfrm>
          <a:prstGeom prst="rect">
            <a:avLst/>
          </a:prstGeom>
          <a:ln w="0">
            <a:noFill/>
          </a:ln>
        </p:spPr>
      </p:sp>
      <p:sp>
        <p:nvSpPr>
          <p:cNvPr id="68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ADD32E-C3B5-46B1-BDE7-C53E4C10E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DAD81B8-6885-4353-A3C1-2A9CBB31E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54160" y="701640"/>
            <a:ext cx="4626000" cy="3468600"/>
          </a:xfrm>
          <a:prstGeom prst="rect">
            <a:avLst/>
          </a:prstGeom>
          <a:ln w="0">
            <a:noFill/>
          </a:ln>
        </p:spPr>
      </p:sp>
      <p:sp>
        <p:nvSpPr>
          <p:cNvPr id="6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D13CC8E-F761-42EA-9CD3-84D2F45562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47680" y="696960"/>
            <a:ext cx="4640400" cy="3479760"/>
          </a:xfrm>
          <a:prstGeom prst="rect">
            <a:avLst/>
          </a:prstGeom>
          <a:ln w="0">
            <a:noFill/>
          </a:ln>
        </p:spPr>
      </p:sp>
      <p:sp>
        <p:nvSpPr>
          <p:cNvPr id="63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BEC0F49-6CDD-42F4-8617-6009EF0F47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147680" y="696960"/>
            <a:ext cx="4640400" cy="3479760"/>
          </a:xfrm>
          <a:prstGeom prst="rect">
            <a:avLst/>
          </a:prstGeom>
          <a:ln w="0">
            <a:noFill/>
          </a:ln>
        </p:spPr>
      </p:sp>
      <p:sp>
        <p:nvSpPr>
          <p:cNvPr id="64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6E40A97-806E-4DD3-AA60-A21882A5B2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54160" y="701640"/>
            <a:ext cx="4626000" cy="3468600"/>
          </a:xfrm>
          <a:prstGeom prst="rect">
            <a:avLst/>
          </a:prstGeom>
          <a:ln w="0">
            <a:noFill/>
          </a:ln>
        </p:spPr>
      </p:sp>
      <p:sp>
        <p:nvSpPr>
          <p:cNvPr id="6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B8C928E-D03C-4EAB-81F5-4712A9F88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54160" y="701640"/>
            <a:ext cx="4626000" cy="3468600"/>
          </a:xfrm>
          <a:prstGeom prst="rect">
            <a:avLst/>
          </a:prstGeom>
          <a:ln w="0">
            <a:noFill/>
          </a:ln>
        </p:spPr>
      </p:sp>
      <p:sp>
        <p:nvSpPr>
          <p:cNvPr id="6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4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4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5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652057-15FB-41D8-B861-46E6A5416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54160" y="701640"/>
            <a:ext cx="4626000" cy="3468600"/>
          </a:xfrm>
          <a:prstGeom prst="rect">
            <a:avLst/>
          </a:prstGeom>
          <a:ln w="0">
            <a:noFill/>
          </a:ln>
        </p:spPr>
      </p:sp>
      <p:sp>
        <p:nvSpPr>
          <p:cNvPr id="65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0E89091-4EF9-4921-9325-ECB0F7E37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58"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59"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6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764D835-39FB-4CEA-8BC7-5D25E7000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54160" y="701640"/>
            <a:ext cx="4626000" cy="3468600"/>
          </a:xfrm>
          <a:prstGeom prst="rect">
            <a:avLst/>
          </a:prstGeom>
          <a:ln w="0">
            <a:noFill/>
          </a:ln>
        </p:spPr>
      </p:sp>
      <p:sp>
        <p:nvSpPr>
          <p:cNvPr id="6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54160" y="701640"/>
            <a:ext cx="4626000" cy="3468600"/>
          </a:xfrm>
          <a:prstGeom prst="rect">
            <a:avLst/>
          </a:prstGeom>
          <a:ln w="0">
            <a:noFill/>
          </a:ln>
        </p:spPr>
      </p:sp>
      <p:sp>
        <p:nvSpPr>
          <p:cNvPr id="6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1A8426-F04B-4A5D-90BD-18423C4EF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0EE99-9193-4EC1-BE16-3189C7231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6FAC9-0DFE-43D5-96A8-6501269CE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C8EC8D-0820-4913-A315-4816C94C60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8E0FCB-5737-4E70-AF3B-22D5B913D6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3BEF96-147E-4874-BA43-51B414C840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4C7FC5-BCA1-4D0C-95C2-B31799A443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1A692D-6E47-4D1A-9BB3-12D0BEC94A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04D76E-9419-43AA-907E-94D9C8DC2A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9425F9-9401-4CAE-B2A1-E4FEF34506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EF2894-9C0A-42F6-BD9A-679F64CBFA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F2C8A8-E40C-4307-BFCE-D99016B24A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8F9CF68-33C2-4AD7-98B5-CB6BE16E062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53ADD-3AA3-41BD-94BB-A5D82D377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3FD0B4-1DA3-4BD8-9845-7B253685D4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E96CA5-DA70-4D8F-B0DA-140FB27458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5E69C2-6389-4C66-9891-F8D03E1A0B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456CA0-0996-40E2-ACCA-89743B75E3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444547-4BAC-47A3-B40B-2D6154355C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170314-5C8D-4D53-B19C-38C65E62E8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24C25F-2634-4C28-ACCE-B9C2E96E77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B817FA-5B15-42B7-8267-D3874DD59F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C5B898-8E63-40A1-A51E-1DC1BFD53C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56493EF-E5BC-4D42-9222-7AC61BBDE51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622F2-AB4E-4768-AF6E-65747FF3C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2C97BCE-1D25-4080-AC01-68DDAE83AD6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B6E884C-CDEA-4138-84DD-DAABB31EEB5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3D0FCE-3B26-4285-85CD-21EAB34470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20EFEE-CECF-475D-8617-FE1B9E2A17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4D6D9F-1EAB-4EEB-842C-34B4CEF71C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286D03-9989-4C88-A2CD-9E0EDD8309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198034-C650-49DD-BB70-47AE6E7189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002E61-E7ED-4D56-9AA9-B02DE04211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84C48B-AC97-46C1-B011-8F0EDF7F42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16E981-987B-49A9-AE2D-AB24A75E76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11000-A455-4B75-9918-032B8FAF01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38D667-0749-4E73-94FF-73F92F2EE1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2F46508-D157-4B4B-B426-C6B2E84A883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99E0CC3-CD7C-4004-B0C0-00EB9C4FC35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346D9A8-5A99-44D3-B087-D95106C70BE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3B70DF-B035-418C-8597-9FEE142B3A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9E973D-F083-48B8-A066-9BB1A91585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16F2606-92A0-47D0-8A82-BD334A415CC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7F3358-909D-4B61-A965-014DFA79792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0B18E2-A84C-4E42-B617-6A3DF1B0B3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8CE025-3F44-4B6B-A097-92E86D713C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3CFB8-A741-4E19-AE56-E3B74DB9D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09E29F-2EB0-4892-9A1C-12A70DDBD1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43E6DA8-5FC1-4EB5-9BA2-D7CE9D2F79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4229350-DD6A-4B2E-BD9A-9054EDD30EB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8D9044C-C7F9-41C6-B30A-84C47618D00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BD4089B-D274-4B33-8AD2-C1032B425EF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9E73D-1C3B-4144-AADB-488C4193D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36CFE-F170-4193-9265-5B2EEF17D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8D878-B98F-47CB-8350-3602A28E8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9952A-6855-4306-B869-B0C2893A0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A49C3-C1ED-416B-B4E6-2F720D5DB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B4934-13DC-44C7-9380-94D96E211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FF083-69FD-47DC-BBE0-59C7DB365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F3F00-D32D-42F1-9D23-103E17669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DA2B7-BF75-499F-BC59-1F4ADB082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3225ED-F806-41E0-942A-DE6E123CC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A30F38-D78C-471E-88E4-9EF07E5708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C956D1-22B6-48F2-839B-95D30604F7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5C2C97-8345-4D23-A1D8-163052F40F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5F9B6E-9D49-4C1B-9352-CA43A12842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8F0017-E2D6-4E81-A85B-68D5BDEBC3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67ACD7-E3BA-4D8B-8856-99B8ACD8E9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63E42-ECF7-40F3-84AA-BB42C533E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CCEEBE-0F2B-4482-9B4D-94B4EDEEB4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7FA7C3-6D44-4BC2-B6BC-47768BCB1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453CA9-5D3B-4BC2-8570-550281A489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7CD6D-DC4C-4D13-93DF-80808D4D81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B8FD30-052F-40BF-A1AC-74124EDA43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71AF10-105A-4638-97CE-C6D520DEDE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B51597-FEC7-4AAF-BBCA-5E4793CEB9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64A658-AFFC-4B78-8197-FDAE99B3AF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0C2F0D-C69A-4324-81ED-9992406B56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F5D26A-94FA-4D0D-A18E-177744B2A4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FD08D-C3F3-49F6-BC49-A5546B8DE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59DE9F-ABBC-488D-99A4-5B22DCB10B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B7418B-544C-4884-A594-049C80D7A7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FC08D0-6E41-467D-807E-6796DE38E4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A45E21-19A9-445B-9231-2CBEDA99FD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A2F02B-542B-47FF-986A-A2971F94C4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4D4DFC-8912-4A4E-8CF9-DF1FA90C7F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833D50-2BDA-40BA-A13B-B06C739FB8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1DCA93-EF78-4764-94A8-903DCE715B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D11D38-2F87-4F00-ABA0-A630398C1E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0D7B61-B291-46D2-AD48-D922A9C2B8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33732-F96F-4E34-9BD2-6F9ACF419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526409-F8F8-4901-A340-1FFBFF3460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6AA16D-7050-4FE5-8310-D29158E101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BDD2E4-614C-4C61-8FB0-779B935A19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8DE67C-AA32-45A0-BA5F-67F4E1F90D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95C548-ABF2-4302-9798-49E47E4E41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1272DC-09BD-4BFF-8786-DC0E3AA4FB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88B727-0ADB-452F-BA31-33ED02D732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FC48A7-BF9A-4794-9B5D-99E65125AF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586E52-EE79-4979-8BD0-D0F5C68A2B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C30878-27C9-48C9-8409-74415A89E1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C5879-3FF2-4FE4-810C-B659DF8D8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0698AF-C56F-4AF0-9FE5-578945B213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D6AB03-DD36-47F9-A28F-B19EF807DA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30E41C-E731-4DE6-9869-353957946F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A716DA-0154-47EF-A366-E258F7611F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5C00AA-614F-4CF2-B7A6-39BBD31808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8D569E-E69D-46FB-B349-8C91DA1B9E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4A9603-C447-4CA4-8911-1C5D8405D2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CF7D99-995A-4258-958A-4F9A96114E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CD80D1-F198-4ACD-A90C-D9D6CA41D3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CED5BF-1EC9-43FD-A3A0-975C2D7593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6E802-B210-4465-BB60-7C6C95D9A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FA6DA2-EB13-4FD7-B830-D6951F86EF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556681-4588-4537-BC87-055F6BF50D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8A6317-A98F-4A81-8B2A-00677FBD1A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685F3C-AED5-4F57-B3F4-892249B7AC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5CC5C8-AC50-4C11-BF9A-7A9844C93A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B22E37-0D31-4E09-86C6-735200B3A6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D563C8-F5EB-497E-BBA0-006D1C3A1B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184B5A-2FF7-4FCA-ACF4-9FCC099E70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D83B12-B018-47F6-B318-88F810267F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DAE836-6412-4BD6-BAF5-135F2CB588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EA8E6-AE55-407F-87E3-222D69AFC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2149CD-0BCD-46B2-BAE2-693DC333AE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55A92C-F98B-4F5C-ADE8-2319B925E4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EDA5EB-2D16-42E5-AE43-41270EDE30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C8C8AF-F5AD-4477-83CB-F92A3A2DFB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76BE4B-6C07-4D9E-8BEB-26CDE1CCF2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90487C-C3B6-4645-B013-05C495FBC9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66BD50-2A57-4B2A-883F-DD2C64F08B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50B9DB-05D0-4743-B99B-5C7AADC400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17696C-0771-4759-B688-E31B8B914A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CFBF6C-53C0-4824-84DE-255BB97520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CC86D-CB40-4A88-B36B-8E10A42B5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39E1C7-283E-4540-BFD2-EA73C52B98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3721D5-3BB4-4D15-88FA-21A7455353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B77386-34D2-4D32-8E0C-766C2BE519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03FBC8-1B11-491B-89DC-951E528849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1E3C6A-9AA4-4D3B-A59F-2B69B8D1FB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DEE12B-F91A-4E74-9335-4773E62D03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9DA47A-297F-49A0-B6FF-663014F3E4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F92FA5-1517-4499-8B65-600B55A4F1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7B73BB-3731-47FB-BF22-6E942E82E0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21BB10-900C-46DE-8EFA-5B360C8AB87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CEE8443-BB5D-41C0-8373-B72D9E7E8EF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A4D0B8D-1F89-4029-AD9E-D53A077D307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7995536-583F-4ABA-84E8-BE1F5746DF8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CF8D4FD-8776-48F5-B907-4F15A24289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4872BB3-D3BE-495E-9CC3-0BCD6C29999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34C6931-A55D-4263-8628-936DC52C400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AA20044-CC0B-42B4-9479-6FED9B6B493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A5BCCAA-4C71-4AE1-B117-B682B53FB70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70C59CC-ADA7-46D8-829C-DA92C145EA2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CAC41D0-0345-4AFF-997F-D5C170DC034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3B7AD53-C630-493B-ADAB-CAE332CFF39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04FB179-B41F-4797-A1CA-0AEEEA34D18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7DA342-9752-4F80-B178-3B85E1105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December 2018 Teleconference Call Agendas</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2-19</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309D75-6B59-4170-9F40-5E1FC1DBD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604"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6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8DBD51-8734-477C-86B4-A057832A0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December 5</a:t>
            </a:r>
            <a:endParaRPr b="0" lang="en-US" sz="3200" spc="-1" strike="noStrike">
              <a:solidFill>
                <a:srgbClr val="000000"/>
              </a:solidFill>
              <a:latin typeface="Times New Roman"/>
            </a:endParaRPr>
          </a:p>
        </p:txBody>
      </p:sp>
      <p:sp>
        <p:nvSpPr>
          <p:cNvPr id="60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 on the December 12</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December 19</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and January 9</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calls</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chnical presentation/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2094r0:  </a:t>
            </a:r>
            <a:r>
              <a:rPr b="0" lang="en-US" sz="1700" spc="-1" strike="noStrike">
                <a:solidFill>
                  <a:srgbClr val="000000"/>
                </a:solidFill>
                <a:latin typeface="Times New Roman"/>
              </a:rPr>
              <a:t>WLAN radar (Alecsander Eitan)</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2095r0:  </a:t>
            </a:r>
            <a:r>
              <a:rPr b="0" lang="en-US" sz="1700" spc="-1" strike="noStrike">
                <a:solidFill>
                  <a:srgbClr val="000000"/>
                </a:solidFill>
                <a:latin typeface="Times New Roman"/>
              </a:rPr>
              <a:t>WLAN radar annex (Assaf Kasher)</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1/1625r2:  </a:t>
            </a:r>
            <a:r>
              <a:rPr b="0" lang="en-US" sz="1700" spc="-1" strike="noStrike">
                <a:solidFill>
                  <a:srgbClr val="000000"/>
                </a:solidFill>
                <a:latin typeface="Times New Roman"/>
              </a:rPr>
              <a:t>802.11 comment resolution guide (Chris Hansen)</a:t>
            </a: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C0B9D3-38EF-4664-9171-1C93B5817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December 19</a:t>
            </a:r>
            <a:endParaRPr b="0" lang="en-US" sz="3200" spc="-1" strike="noStrike">
              <a:solidFill>
                <a:srgbClr val="000000"/>
              </a:solidFill>
              <a:latin typeface="Times New Roman"/>
            </a:endParaRPr>
          </a:p>
        </p:txBody>
      </p:sp>
      <p:sp>
        <p:nvSpPr>
          <p:cNvPr id="61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 on the January 9</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call and the January 2019 interim</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766r1:  </a:t>
            </a:r>
            <a:r>
              <a:rPr b="0" lang="en-US" sz="1700" spc="-1" strike="noStrike">
                <a:solidFill>
                  <a:srgbClr val="000000"/>
                </a:solidFill>
                <a:latin typeface="Times New Roman"/>
              </a:rPr>
              <a:t>CID 3398,</a:t>
            </a:r>
            <a:r>
              <a:rPr b="1" lang="en-US" sz="1700" spc="-1" strike="noStrike">
                <a:solidFill>
                  <a:srgbClr val="000000"/>
                </a:solidFill>
                <a:latin typeface="Times New Roman"/>
              </a:rPr>
              <a:t> </a:t>
            </a:r>
            <a:r>
              <a:rPr b="0" lang="en-GB" sz="1800" spc="-1" strike="noStrike">
                <a:solidFill>
                  <a:srgbClr val="000000"/>
                </a:solidFill>
                <a:latin typeface="Times New Roman"/>
              </a:rPr>
              <a:t>LB234 comment resolutions – PHY and BF III </a:t>
            </a:r>
            <a:r>
              <a:rPr b="0" lang="en-US" sz="1700" spc="-1" strike="noStrike">
                <a:solidFill>
                  <a:srgbClr val="000000"/>
                </a:solidFill>
                <a:latin typeface="Times New Roman"/>
              </a:rPr>
              <a:t>(Claudio da Silva)</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2144r0:  </a:t>
            </a:r>
            <a:r>
              <a:rPr b="0" lang="en-US" sz="1800" spc="-1" strike="noStrike">
                <a:solidFill>
                  <a:srgbClr val="000000"/>
                </a:solidFill>
                <a:latin typeface="Times New Roman"/>
              </a:rPr>
              <a:t>Unsolicited RSS related CIDs </a:t>
            </a:r>
            <a:r>
              <a:rPr b="0" lang="en-US" sz="1700" spc="-1" strike="noStrike">
                <a:solidFill>
                  <a:srgbClr val="000000"/>
                </a:solidFill>
                <a:latin typeface="Times New Roman"/>
              </a:rPr>
              <a:t>(Dejian Li)</a:t>
            </a: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098B01-A3A6-4B2B-B3DA-91423E709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teleconference calls on December 5,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A6788E6-B76C-4CDD-AD8D-AC5F54E2D1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073156D-91A5-4634-91DB-96235C50A1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F46EBD-D661-425A-B9E6-D5101B49F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679B6D-8BAD-4B67-98E0-3DD272D5A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B84431F-4E16-4982-92C0-9D368C2B05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21FC58-D77A-4C3B-9C8F-D5C7C6996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59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1E3DC5-9E7D-4BA8-B924-840C22BB9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59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6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December 2018</cp:keywords>
  <dc:language>en-US</dc:language>
  <cp:lastModifiedBy>Edward Au</cp:lastModifiedBy>
  <cp:lastPrinted>2014-11-04T15:04:57Z</cp:lastPrinted>
  <dcterms:modified xsi:type="dcterms:W3CDTF">2018-12-14T22:13:45Z</dcterms:modified>
  <cp:revision>4267</cp:revision>
  <dc:subject>Task Group AY November 2015 Meeting Agenda</dc:subject>
  <dc:title>18/2096r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43955034</vt:lpwstr>
  </property>
</Properties>
</file>