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0E78EF85-4931-4690-B6E1-605C7DF4211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78C0AC-76E1-4805-8077-26A94D34C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54160" y="701640"/>
            <a:ext cx="4626000" cy="3468600"/>
          </a:xfrm>
          <a:prstGeom prst="rect">
            <a:avLst/>
          </a:prstGeom>
          <a:ln w="0">
            <a:noFill/>
          </a:ln>
        </p:spPr>
      </p:sp>
      <p:sp>
        <p:nvSpPr>
          <p:cNvPr id="6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54160" y="701640"/>
            <a:ext cx="4626000" cy="3468600"/>
          </a:xfrm>
          <a:prstGeom prst="rect">
            <a:avLst/>
          </a:prstGeom>
          <a:ln w="0">
            <a:noFill/>
          </a:ln>
        </p:spPr>
      </p:sp>
      <p:sp>
        <p:nvSpPr>
          <p:cNvPr id="6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3E2A5B3-C057-4822-81F7-429ED5586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54160" y="701640"/>
            <a:ext cx="4626000" cy="3468600"/>
          </a:xfrm>
          <a:prstGeom prst="rect">
            <a:avLst/>
          </a:prstGeom>
          <a:ln w="0">
            <a:noFill/>
          </a:ln>
        </p:spPr>
      </p:sp>
      <p:sp>
        <p:nvSpPr>
          <p:cNvPr id="67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F5B722-30EB-4DC8-BFEB-15B37837C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8FE97DA-C732-4D0E-99EF-3F9CDCDA8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54160" y="701640"/>
            <a:ext cx="4626000" cy="3468600"/>
          </a:xfrm>
          <a:prstGeom prst="rect">
            <a:avLst/>
          </a:prstGeom>
          <a:ln w="0">
            <a:noFill/>
          </a:ln>
        </p:spPr>
      </p:sp>
      <p:sp>
        <p:nvSpPr>
          <p:cNvPr id="6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5"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6"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0058CF4-D412-4F29-8ECD-16E5CB0038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47680" y="696960"/>
            <a:ext cx="4640400" cy="3479760"/>
          </a:xfrm>
          <a:prstGeom prst="rect">
            <a:avLst/>
          </a:prstGeom>
          <a:ln w="0">
            <a:noFill/>
          </a:ln>
        </p:spPr>
      </p:sp>
      <p:sp>
        <p:nvSpPr>
          <p:cNvPr id="629"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994623B-9295-4B8D-B197-A313A5E99F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147680" y="696960"/>
            <a:ext cx="4640400" cy="3479760"/>
          </a:xfrm>
          <a:prstGeom prst="rect">
            <a:avLst/>
          </a:prstGeom>
          <a:ln w="0">
            <a:noFill/>
          </a:ln>
        </p:spPr>
      </p:sp>
      <p:sp>
        <p:nvSpPr>
          <p:cNvPr id="63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E318F66-8300-4954-9647-5D6B084D8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154160" y="701640"/>
            <a:ext cx="4626000" cy="3468600"/>
          </a:xfrm>
          <a:prstGeom prst="rect">
            <a:avLst/>
          </a:prstGeom>
          <a:ln w="0">
            <a:noFill/>
          </a:ln>
        </p:spPr>
      </p:sp>
      <p:sp>
        <p:nvSpPr>
          <p:cNvPr id="6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D6A7F86-CF6C-47BC-AB38-B708864DB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54160" y="701640"/>
            <a:ext cx="4626000" cy="3468600"/>
          </a:xfrm>
          <a:prstGeom prst="rect">
            <a:avLst/>
          </a:prstGeom>
          <a:ln w="0">
            <a:noFill/>
          </a:ln>
        </p:spPr>
      </p:sp>
      <p:sp>
        <p:nvSpPr>
          <p:cNvPr id="6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43"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44"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4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90385F8-1DCD-49BE-8E8E-BE34F87C3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54160" y="701640"/>
            <a:ext cx="4626000" cy="3468600"/>
          </a:xfrm>
          <a:prstGeom prst="rect">
            <a:avLst/>
          </a:prstGeom>
          <a:ln w="0">
            <a:noFill/>
          </a:ln>
        </p:spPr>
      </p:sp>
      <p:sp>
        <p:nvSpPr>
          <p:cNvPr id="647"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6BF4E5B-BC8C-456A-829B-AF1E749E0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5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54"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5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BBD2420-6FBA-4CE1-AD08-37E089A76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54160" y="701640"/>
            <a:ext cx="4626000" cy="3468600"/>
          </a:xfrm>
          <a:prstGeom prst="rect">
            <a:avLst/>
          </a:prstGeom>
          <a:ln w="0">
            <a:noFill/>
          </a:ln>
        </p:spPr>
      </p:sp>
      <p:sp>
        <p:nvSpPr>
          <p:cNvPr id="6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54160" y="701640"/>
            <a:ext cx="4626000" cy="3468600"/>
          </a:xfrm>
          <a:prstGeom prst="rect">
            <a:avLst/>
          </a:prstGeom>
          <a:ln w="0">
            <a:noFill/>
          </a:ln>
        </p:spPr>
      </p:sp>
      <p:sp>
        <p:nvSpPr>
          <p:cNvPr id="6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75FA7BC-9DD5-4800-B99E-19126A955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39AB5-8BEB-4FE6-8AEF-97995C38D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46B53-35EE-4E1A-A03E-0F7E77070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924A08-328B-4012-AF11-422E488B2A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760061-4FEA-444A-AAD6-9F26F56258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B1B514-1C79-4080-A2FD-DCED683EFF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4CF6D7-4F88-4598-B3A9-6DF6D5B7A2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FA65A7-E230-4A04-A83F-7CDB5A8E59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9CBD26-5D9F-47BB-8287-1027E7172C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F441AD-EE07-4322-83FC-B005432EC9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C24125-213F-4D12-BDEA-68C8534D72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8894D5-ADE1-49B1-BD61-A0575067A5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7AB9734-D826-47B7-9D71-6B0C2E0C25B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C0C4F-6A09-49D8-952A-D119624A0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0D2E67-8104-49F5-B149-66A2352667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CB82D8-2A27-4D0E-949D-2DF21E65C5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8A46FC-FD61-4088-90D1-93840AA353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AC324D5-A08B-4B36-8A45-FB7EA2F02B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915056-FE22-4A51-9C37-B90093B1E6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66D18E-344D-4CC6-A349-0AB8E8817A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152EAD-3F74-4935-AD72-FEA00302CE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CAEA79-8D14-411E-8313-F8AE1EDD85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F36F42-E7AC-480D-8483-42A5D78333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924EA98-B763-4375-8D71-8563659C013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BAC42-E8B1-4966-877E-4814DCBEF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55DBCC3-DD13-4084-9FC0-A185215CD64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37D8CE-73EF-4006-8DBE-E1B0386A16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37D948-ED85-4E54-897A-E6A9E2CEA7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3F778C-5F61-47C3-BC6B-CC460A3ADF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76D364-6592-4094-97A9-393C472CED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B1AD52-94D0-44F0-B1D6-44E0C8C2A2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92201A-5C10-438F-8519-023D6B7892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08587C-F571-45DF-88B5-E8C13856B0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CC21FF-2A3A-4280-88AD-35E710DF34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B8E298-BBB7-4E63-9E83-24EFD76EDE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CFB4D5-5510-4E1C-80B5-03B68708AB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0C57C4-594B-4081-B585-F0C1738A3E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28FFD47-7BBE-489F-B3D5-952C9CA1DFC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E0FECB5-F335-4467-80E2-FE0B95FDEFA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11A40F4-AA3A-4E65-B07E-A9BDCBE45A4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C041CD-BBC5-4B8F-9EAB-7105330080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E7A4D6C-D69E-4C94-BD43-557C9465A6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B9679D-CB13-4190-8989-AFEE4C9B50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A794E0-67C1-4EE3-8A4E-D2B655742A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92C5AF-2648-4A25-A8AF-BBB95DBD72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228540-892A-4942-9D60-8069E5BACB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D3C67-E55E-4CCB-8E91-648E16E55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D9D99F-8307-4906-8401-0552DA7CFC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FC71C4-6376-4579-9F7E-2F962EFB66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E53653E-46F6-4F6A-8F9C-8C4F4E42CD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B28B33F-4D83-41BC-B94F-0C98ADDB465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7195B3B-9995-4655-A555-DF5C7542EBE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95714-2D87-4B93-9FD0-AEE6D1F17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15B53-903B-45E3-8056-28A22354D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E81B3-7D5C-4EA2-B5AE-CF1E98CEA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411E4-E097-4287-B16F-48F152E60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AB555-2F5B-4137-8214-E569878B0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B433E-2642-4423-8775-69C3AADB4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16608-7A09-4199-8AF6-4B74426CF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FE6AF-4281-4B32-9E86-E283E28CC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DEEDB-08E5-4BF6-8801-3B6970024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575C95-65CD-4DFF-BEC2-359C44DFFE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5E745C-3AD6-48CE-A677-3E21A3B5D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CA1309-0564-4FF5-BBE2-D7AA023AF1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1E9851-3673-4CB7-83AC-5A73F8A2E2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68DE0C-2EE2-4CBB-9BFE-2611A8B282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78E76A-67DB-4C51-AEB7-A150E8AEE6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CB9176-B056-45FA-ADCF-286EDDFCAF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AF73C-30D3-406C-9B08-99D922368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4E82B9-03DB-42C9-ACEF-8FD0D30FB7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648011-6975-4E27-B323-C522607BD3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D416D3-E472-42C3-96FE-7637572CB1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076B4F-9577-4F26-BBA4-2B28607FDF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DD0D28-39A6-4B74-8301-4F10AF01FC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FAD47E-80F6-4BD3-8DAC-E0C26CD417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408B27-BD5D-4FBD-95CF-5AEE4C1243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57121F-7049-43CD-9C5F-1E34C73A68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DD3FC3-1079-409E-B0A7-4007E8CC56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AFC58A-84F5-4E77-82B4-596956DCF5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BC284-0006-423B-8DDE-0106776A8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815146-278C-4491-B1FC-D3A97A82BC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D52979-C19B-4569-8BAA-0F619A916D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3B0226-8C64-45B7-B855-E9F03A2F23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DAF08-E40B-418A-8E0A-1885102765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305365-682E-4BFA-A01E-F0EBC4E39F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E1B4DC-6334-49E0-BD27-24A7C6FF79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4514E0-CA2A-4003-9898-D24D303549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905BD5-4F3D-48D3-9F3A-26BFDECA8F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27821D-E4F8-4388-A7B5-98F1C77844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E4607B-E5CC-4E5A-AB3E-01A91E0054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C9D3F-CA47-4577-B335-96F9D74EE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B0BE89-3CFA-49F0-A93E-B614559FAC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51FD73-2EBE-4161-88CA-2A75FD2758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BDFA01-5CC2-4AE3-8D65-F7DFC8EB70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C54FE0-9C38-4D9F-B0BF-8CE17B6950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E47BDE-F868-4EEE-878D-ABB749E1F0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BDC40E-C40A-48FA-95EC-3BCB510D1F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F387FC-BDD4-4837-B169-B95963AC4F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2CD6BB-5C01-43B0-A9E1-A8CA38A079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388AA3-CCF5-4BC9-B039-3CC8731680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10E4E5-8FBA-4C4D-B913-98F400E0D6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9ADF5-66B2-4F62-8BCF-BB993F292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27D6F3-D074-4739-BF28-AD1F84D2F6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2A3633-67C8-484E-8162-0035119AE6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6CAECB-340C-4536-8795-692B8CDEA0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57C1FD-68AC-4BEF-804C-A63844EDF6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9BF26D-DD95-4B98-8DE0-DCDCF14F77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91E32D-6030-4405-9DE6-7FE17FB7F8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30A613-B749-4357-8035-391E52A8E2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4BF3CF-04C2-42FB-B48C-26C3381C01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7882EF-65A3-4AAC-BDC1-A45CF1E438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AF2F15-5B59-4C75-8568-2646E6A4A3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12E3D-4BE7-4BEA-868F-12B2EE6B3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FE8EC1-AE8D-4A60-AF24-CFA3FFFD23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F13324-2C35-4225-B70A-A86F38B157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BFC8F0-C45F-47EF-BE17-F9A4D7A3A4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8DF720-F246-46D6-A60B-6BB7F93222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80BCB7-79E4-408D-A575-32114FD7DA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DB5213-9B93-42AC-9885-A02A8BF171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263EE6-AB3E-43A9-9F6A-427EE3D829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63839B-D525-4942-AFD5-123B21B104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59F426-04A1-48AA-AA88-ADFAB77015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95D10D-7BEC-4A4F-BF92-3CEDDD601D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62693-7132-4F40-B827-6BBE16CAA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B039C4-3B4D-4F6C-B6CA-709194E5EB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375C23-E326-4B64-92FE-4DE27E5656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E5E40E-A565-4ED8-9B38-21380DB779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6BD280-7298-4A45-88C5-76B8BAD611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5D9C0D-3387-4467-B7F9-C69909B364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2689EF-FA48-4BDA-B2CC-19E259213F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77CF90-11C2-4D06-B452-E6E3737353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FF5645-4A2C-4083-9F8A-4B8B91CAFA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2C585F-F798-43AB-957C-241768DAAE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63FF8A-290A-4448-AF62-7C20FA6190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B8630-37C0-40E6-8D0F-7B4E89F6F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F5BB44-437B-4E0A-BA83-DE77DED0AA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CA4E02-F09A-49EA-8ED3-4B903E6318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0AA4F7-5ABC-46B0-931C-4592D8C7C7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E5DB53-133B-4366-8B62-F1A0833958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FEE408-266D-4EE6-A577-8DDE20A815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E05634-08AF-4AB2-9FA6-4CDA98808C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D3C779-A225-4B3F-B144-E2E53721FE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D2888F-B7F2-475B-952A-D1D4B20591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9157ED-1D93-4987-A01C-429EA959B4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46DA24-6ED2-422E-B6E8-2474675C265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DBB1B9C-7810-4DFF-B6C8-1FB36AD03E3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D2B0DC4-A8B6-45C4-8790-D32BF8E022A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E8222CE-94FB-4741-8BDD-249447A54F4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0CC8142-F1F1-42B4-B418-E439A4A7DA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A4EC2F8-535F-4D4F-952E-BA1D9730633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B6B0138-48E9-4413-9952-88AB092E4A0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E5C3922-2449-4CD0-884D-717D59F58B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97C3B45-4006-4BFB-BD9E-80DF1B472DA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180ACF9-B7C9-4F4E-8186-A3E1D2B6EC8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CE11D10-4BBC-48F4-B930-B79D26A5E4C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443A93D-6C16-4E22-95C3-D923C820E7F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96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333000"/>
            <a:ext cx="151596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9B3083A-B97C-4A1D-BC0F-5A6C67B1232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838192-4D12-494B-9F23-FCF54B571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December 2018 Teleconference Call Agendas</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2-05</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130F34-26F1-4810-B03F-05086BF58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604"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6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4EE288-496A-449D-BD3E-8EF0A38F2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December 5</a:t>
            </a:r>
            <a:endParaRPr b="0" lang="en-US" sz="3200" spc="-1" strike="noStrike">
              <a:solidFill>
                <a:srgbClr val="000000"/>
              </a:solidFill>
              <a:latin typeface="Times New Roman"/>
            </a:endParaRPr>
          </a:p>
        </p:txBody>
      </p:sp>
      <p:sp>
        <p:nvSpPr>
          <p:cNvPr id="60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 on the December 12</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December 19</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and January 9</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calls</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chnical presentation/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2094r0:  </a:t>
            </a:r>
            <a:r>
              <a:rPr b="0" lang="en-US" sz="1700" spc="-1" strike="noStrike">
                <a:solidFill>
                  <a:srgbClr val="000000"/>
                </a:solidFill>
                <a:latin typeface="Times New Roman"/>
              </a:rPr>
              <a:t>WLAN radar (Alecsander Eitan)</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2095r0:  </a:t>
            </a:r>
            <a:r>
              <a:rPr b="0" lang="en-US" sz="1700" spc="-1" strike="noStrike">
                <a:solidFill>
                  <a:srgbClr val="000000"/>
                </a:solidFill>
                <a:latin typeface="Times New Roman"/>
              </a:rPr>
              <a:t>WLAN radar annex (Alecsander Eitan)</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1/1625r2:  </a:t>
            </a:r>
            <a:r>
              <a:rPr b="0" lang="en-US" sz="1700" spc="-1" strike="noStrike">
                <a:solidFill>
                  <a:srgbClr val="000000"/>
                </a:solidFill>
                <a:latin typeface="Times New Roman"/>
              </a:rPr>
              <a:t>802.11 comment resolution guide (Chris Hansen)</a:t>
            </a: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FE1427-361E-4541-9883-8988DD32E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teleconference calls on December 5,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82F99BE-A637-45A8-989F-CAEF9F7D6C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7F408F8-E064-464E-B951-CB071B2A44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B0B1D8-52E8-458A-9C81-CD8213892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C7DA2E-6313-4CFA-89B1-5F0A2BA7F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B308660-0029-46D5-BA64-474C2B63E7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846BED-2B6D-4470-B868-896D0F358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59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A94CF6-D0B7-447B-A596-0425B5D23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59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8</a:t>
            </a:r>
            <a:endParaRPr b="0" lang="en-US" sz="1800" spc="-1" strike="noStrike">
              <a:solidFill>
                <a:srgbClr val="000000"/>
              </a:solidFill>
              <a:latin typeface="Times New Roman"/>
            </a:endParaRPr>
          </a:p>
        </p:txBody>
      </p:sp>
      <p:sp>
        <p:nvSpPr>
          <p:cNvPr id="6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December 2018</cp:keywords>
  <dc:language>en-US</dc:language>
  <cp:lastModifiedBy>Kwok Shum Au (Edward)</cp:lastModifiedBy>
  <cp:lastPrinted>2014-11-04T15:04:57Z</cp:lastPrinted>
  <dcterms:modified xsi:type="dcterms:W3CDTF">2018-12-04T20:27:40Z</dcterms:modified>
  <cp:revision>4261</cp:revision>
  <dc:subject>Task Group AY November 2015 Meeting Agenda</dc:subject>
  <dc:title>18/2096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43955034</vt:lpwstr>
  </property>
</Properties>
</file>