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083A722E-EE28-4DB4-AACA-79CB562EB3A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0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1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68649C6-E6E3-4A76-AD59-65324B443D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1" name="PlaceHolder 1"/>
          <p:cNvSpPr>
            <a:spLocks noGrp="1"/>
          </p:cNvSpPr>
          <p:nvPr>
            <p:ph type="sldImg"/>
          </p:nvPr>
        </p:nvSpPr>
        <p:spPr>
          <a:xfrm>
            <a:off x="1154160" y="701640"/>
            <a:ext cx="4626000" cy="3468600"/>
          </a:xfrm>
          <a:prstGeom prst="rect">
            <a:avLst/>
          </a:prstGeom>
          <a:ln w="0">
            <a:noFill/>
          </a:ln>
        </p:spPr>
      </p:sp>
      <p:sp>
        <p:nvSpPr>
          <p:cNvPr id="61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54160" y="701640"/>
            <a:ext cx="4626000" cy="3468600"/>
          </a:xfrm>
          <a:prstGeom prst="rect">
            <a:avLst/>
          </a:prstGeom>
          <a:ln w="0">
            <a:noFill/>
          </a:ln>
        </p:spPr>
      </p:sp>
      <p:sp>
        <p:nvSpPr>
          <p:cNvPr id="660"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br>
              <a:rPr sz="1200"/>
            </a:br>
            <a:endParaRPr b="0" lang="en-US" sz="1200" spc="-1" strike="noStrike">
              <a:solidFill>
                <a:srgbClr val="000000"/>
              </a:solidFill>
              <a:latin typeface="Times New Roman"/>
            </a:endParaRPr>
          </a:p>
        </p:txBody>
      </p:sp>
      <p:sp>
        <p:nvSpPr>
          <p:cNvPr id="66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6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A16ADC4-7604-4799-B9BC-BDCC29846F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4"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5"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1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341B7C4-6021-4659-8C1C-159D50C59A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7" name="PlaceHolder 1"/>
          <p:cNvSpPr>
            <a:spLocks noGrp="1"/>
          </p:cNvSpPr>
          <p:nvPr>
            <p:ph type="sldImg"/>
          </p:nvPr>
        </p:nvSpPr>
        <p:spPr>
          <a:xfrm>
            <a:off x="1154160" y="701640"/>
            <a:ext cx="4626000" cy="3468600"/>
          </a:xfrm>
          <a:prstGeom prst="rect">
            <a:avLst/>
          </a:prstGeom>
          <a:ln w="0">
            <a:noFill/>
          </a:ln>
        </p:spPr>
      </p:sp>
      <p:sp>
        <p:nvSpPr>
          <p:cNvPr id="61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0"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1"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2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6D852F21-7426-4607-9C5F-45C1CFB10B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PlaceHolder 1"/>
          <p:cNvSpPr>
            <a:spLocks noGrp="1"/>
          </p:cNvSpPr>
          <p:nvPr>
            <p:ph type="sldImg"/>
          </p:nvPr>
        </p:nvSpPr>
        <p:spPr>
          <a:xfrm>
            <a:off x="1147680" y="696960"/>
            <a:ext cx="4640400" cy="3479760"/>
          </a:xfrm>
          <a:prstGeom prst="rect">
            <a:avLst/>
          </a:prstGeom>
          <a:ln w="0">
            <a:noFill/>
          </a:ln>
        </p:spPr>
      </p:sp>
      <p:sp>
        <p:nvSpPr>
          <p:cNvPr id="624"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6"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7"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28"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700867E7-DE71-4E30-AF49-9F515A2FC0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9" name="PlaceHolder 1"/>
          <p:cNvSpPr>
            <a:spLocks noGrp="1"/>
          </p:cNvSpPr>
          <p:nvPr>
            <p:ph type="sldImg"/>
          </p:nvPr>
        </p:nvSpPr>
        <p:spPr>
          <a:xfrm>
            <a:off x="1147680" y="696960"/>
            <a:ext cx="4640400" cy="3479760"/>
          </a:xfrm>
          <a:prstGeom prst="rect">
            <a:avLst/>
          </a:prstGeom>
          <a:ln w="0">
            <a:noFill/>
          </a:ln>
        </p:spPr>
      </p:sp>
      <p:sp>
        <p:nvSpPr>
          <p:cNvPr id="630"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5830EE9-0C86-4C34-B0A9-5E981D1CA9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PlaceHolder 1"/>
          <p:cNvSpPr>
            <a:spLocks noGrp="1"/>
          </p:cNvSpPr>
          <p:nvPr>
            <p:ph type="sldImg"/>
          </p:nvPr>
        </p:nvSpPr>
        <p:spPr>
          <a:xfrm>
            <a:off x="1154160" y="701640"/>
            <a:ext cx="4626000" cy="3468600"/>
          </a:xfrm>
          <a:prstGeom prst="rect">
            <a:avLst/>
          </a:prstGeom>
          <a:ln w="0">
            <a:noFill/>
          </a:ln>
        </p:spPr>
      </p:sp>
      <p:sp>
        <p:nvSpPr>
          <p:cNvPr id="63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A2AC8FA-F6C2-435E-B3CD-3C6C60F8C9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5" name="PlaceHolder 1"/>
          <p:cNvSpPr>
            <a:spLocks noGrp="1"/>
          </p:cNvSpPr>
          <p:nvPr>
            <p:ph type="sldImg"/>
          </p:nvPr>
        </p:nvSpPr>
        <p:spPr>
          <a:xfrm>
            <a:off x="1154160" y="701640"/>
            <a:ext cx="4626000" cy="3468600"/>
          </a:xfrm>
          <a:prstGeom prst="rect">
            <a:avLst/>
          </a:prstGeom>
          <a:ln w="0">
            <a:noFill/>
          </a:ln>
        </p:spPr>
      </p:sp>
      <p:sp>
        <p:nvSpPr>
          <p:cNvPr id="63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638"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639"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64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D92C85A-5120-4695-8103-06403A247E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1" name="PlaceHolder 1"/>
          <p:cNvSpPr>
            <a:spLocks noGrp="1"/>
          </p:cNvSpPr>
          <p:nvPr>
            <p:ph type="sldImg"/>
          </p:nvPr>
        </p:nvSpPr>
        <p:spPr>
          <a:xfrm>
            <a:off x="1154160" y="701640"/>
            <a:ext cx="4626000" cy="3468600"/>
          </a:xfrm>
          <a:prstGeom prst="rect">
            <a:avLst/>
          </a:prstGeom>
          <a:ln w="0">
            <a:noFill/>
          </a:ln>
        </p:spPr>
      </p:sp>
      <p:sp>
        <p:nvSpPr>
          <p:cNvPr id="642"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4"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5"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4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A54BA46-5A5F-4A5F-9913-6EA46877F6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7"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648"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649"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650"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3AE6545-907F-4882-92E0-AB985AB727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PlaceHolder 1"/>
          <p:cNvSpPr>
            <a:spLocks noGrp="1"/>
          </p:cNvSpPr>
          <p:nvPr>
            <p:ph type="sldImg"/>
          </p:nvPr>
        </p:nvSpPr>
        <p:spPr>
          <a:xfrm>
            <a:off x="1154160" y="701640"/>
            <a:ext cx="4626000" cy="3468600"/>
          </a:xfrm>
          <a:prstGeom prst="rect">
            <a:avLst/>
          </a:prstGeom>
          <a:ln w="0">
            <a:noFill/>
          </a:ln>
        </p:spPr>
      </p:sp>
      <p:sp>
        <p:nvSpPr>
          <p:cNvPr id="65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54160" y="701640"/>
            <a:ext cx="4626000" cy="3468600"/>
          </a:xfrm>
          <a:prstGeom prst="rect">
            <a:avLst/>
          </a:prstGeom>
          <a:ln w="0">
            <a:noFill/>
          </a:ln>
        </p:spPr>
      </p:sp>
      <p:sp>
        <p:nvSpPr>
          <p:cNvPr id="65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5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5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57BEFCF-0334-40AF-98FF-C70899C486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B6AF79-27CE-492A-B60B-8EBFE2C22C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5208C-668C-4BE1-8208-AC692063A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39FEBD-36C8-46DE-86AF-D42118BF98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8319BE-BC4B-43EC-892F-E129757526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AF59ED-51E2-4800-81C6-B9CE94B7B1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B927BB-CB14-47D8-98EE-997A7A2B0E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0F3F13-F284-487F-A9EB-38284E1EE8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ACE1B6-5447-41D5-B35B-8D31024685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E2FB14-FDA9-4124-BC4F-5848048EF3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065E9DC-9A01-46E6-9B95-0BD8C4EC85C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22E3042-0BA2-4FD9-AD4D-3C49AD43EDC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26E0B24-92BD-42F0-9D17-3BFBCB3DCA3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EB6BC0-5C63-4143-A89A-76D241C78E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2D3EEDF-D17D-449F-87C7-58F99F191A7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306F61C-5829-4688-BB5C-45667B4185D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2BDE09A-0A43-4207-8893-A6B121BAF1A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35E7C8F-B904-4FFD-A365-F9CDEF387EE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2938A20-1365-4E4E-9C5A-E50838A4994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2D96B96-F95A-4636-8F0E-1221AFDB432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2F3FCB4-8F39-4896-9CD7-DA16BD9DC3D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5F215ED-008F-4BF9-BE91-7AB58A2A45C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74774E8-1F41-468F-9446-579F7633439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7279886-1AAE-4263-A7C2-ACE9F96B784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874F56-F34F-492A-B3BF-FB0F512C5B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9942A75-1A7E-4152-8408-94146728F23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AA0C6F4-06D9-4527-9076-2E5F7FC1033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9DD8D2C-4B04-4831-8F6B-DF99B7B4CB2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A619CAE-B16C-40F1-9874-8CF433576F5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9BFE157-2524-4B55-A557-A8FA048249F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871E095-7EBF-43E5-B43E-8EC11A1EF48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200AEFA-ACA3-49D3-9F1D-EC4B75E52BD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929D66A-75E8-4746-9D68-86A50C07623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20DDFE4-3BE0-47DA-AECA-3C8575D2D19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D23FA98-AEE8-4FFD-9CEE-1ABA693F36D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42EDCD-E264-4EF3-9D21-A0BF03B730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5949B6C-38C9-44B6-8AD6-8A4E21BF67F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FE9C85C-28A9-432F-917D-227E0A3ED38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DBDF9BE-8401-436D-8C65-65F1301A244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A71572D-D94C-4EDA-BF9C-E757A4C1127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1BA1672-46E3-407A-BAC7-B3E65153E9E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2893876-B655-4991-BE46-9A9B84D729B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BAEDD37-D92B-4C17-9902-42B26B04633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D034429-A518-4ED5-AEE6-00A7CA88185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8FEA066-166A-41D4-8786-67465B2B48C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B405DF2-A584-451F-99CD-E5E2C9E3402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BF361B-99FC-4850-B0E6-396B9CA607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879243C-16FD-4E51-9634-56A427517A7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58F2731-8C4C-4F18-9FF6-642C259C32C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B4CCE97-D0AB-4A9F-9F60-C9830C81C42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09DF358-B854-4B93-B131-F2334942B65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A2F31CD-B436-4673-8A41-CFAFC06D62D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40E372-CB7D-450E-B86A-D1670F4158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D832AF-EC05-4A7E-BCCE-096DC992C9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7BF50C-7A3C-4F1A-B31A-9B524FE43B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749BF8-7D69-417C-8B0A-724A88439A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D39AE1-28E2-4BF6-8215-56068D0091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5C697-760E-4C3E-94A3-D5A8ADB8B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C542D5-9D6C-41BE-8D88-A1B930FEA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CBF431-E249-4E58-AABE-430F6B7BB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6A2072-1527-42C5-A0E6-B35B35A2D8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77B4F9-42B3-49DE-B32A-BEF22484DF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E4B6FF-55E0-457B-A0CB-1305F74CEB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757E9E-70D6-4333-A9D8-235936CF0A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ED9368-BDC4-426C-AD9F-6396155B7B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57A468-2BFB-4535-90D6-1E37FECFC9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04D0AE-EBAE-4784-87D6-0BBD15C199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E92D11-20AD-4297-9F74-D2FCD7CE26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0A12D-548E-4715-BAE8-9A48E5005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97B880-6B0F-44F5-91CC-496BC84902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162504-F425-4D2C-B5AA-4B3FACA60E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124F1C-6F57-47B5-A59B-B2425572F2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0ACE7C-27E0-4C21-836E-239BBEA3B3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10F131-9112-466C-AA42-C31AF7EB4E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9A9709-FF87-4A0C-B582-FF1868CD32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2DED61-07D5-475D-A729-5272401A1F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D3EEA2-6BFC-4491-9A76-05B306165F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7F5A11-308E-4796-990F-21786890C1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824704-9BCC-4809-915B-9F3DCD9E10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6E157-C307-412E-942B-6B75D580D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324650-9496-4E54-B2B0-D76D2F140B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835BBB-FA3B-43D3-A274-EB7264AEE1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6A97F7-7EEA-4172-954D-E5435C301D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657389-14F5-45F8-9922-F9552770D0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505803-5F0F-49AB-837B-D4AB20647A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B1A888-F6E5-4D55-B22E-9A586DF700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5A73F9-5E68-42F1-A35A-139AED0101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61C5FA-E7AA-4D9E-BAF1-D472A46901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B44BE8F-60E8-4900-AD46-8CB2A57EAD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C0F3CA6-2BA6-460C-BE2D-AEEBE4D7D5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C03E9-FD8B-457A-9102-D983EB0CE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6C5DF3-9DF7-4714-9815-A9DB048185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32543C-FDC9-4550-BE38-F6A6517F3F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90F770-A4B1-4DAE-8795-D34047ED48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3AA1AF-02F0-4638-BC50-9CEA9335B6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6B0722-5DD9-4061-B966-4AE3683FFD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9216F0-8279-4000-B724-8F5A27FEF7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85F10F-B2E0-4C10-AFB9-6D7B76857E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E2E6DD-6FE9-486F-8E4C-052FFDBDEA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790C6B-5ABD-4559-A82D-9BC844A506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8C4CBB-5DE1-4E75-AE16-DA725F068C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D9026-5748-4159-B06C-AB1E36C50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26616F9-3098-4D5C-81A2-866ED2620A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2171550-53A8-40CB-9375-961409BA725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1EDFC3-5107-4E69-842E-17BA732ABA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2C5C8F-3E00-4068-9289-035CD86776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EB67DE-9327-4D9D-86CA-5EC6DD6A3F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FE4FCD-3C3D-4252-92F5-5C3571B53C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534BE4-7C80-49C3-B19A-820FBD98ED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84C9E3-9A5F-44F4-A79F-D9D1983A42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3D68C2-F214-42E7-91E7-8C933980AD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F7304F-699E-47C2-96C9-7510669BBE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94185-1058-4B1B-9145-BDD6D9688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6CDEDF-B10B-4BE2-B19B-3E8C4E7152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FB598CF-5480-4346-B9E2-04999C8AEF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4DA230B-3242-4ACC-AC07-DAD9BCE1B6A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CFB0CE6-4B7B-43CC-B5B0-BC3B63C96D0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A22543-4083-4652-AC44-8F3ABFE87C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245A30-7673-480F-B7A9-899A140948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F288F0-58C8-4520-A86E-5A2AE42A66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ED75D2-436F-4799-AC97-8B9C1684AB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2CD20A-D226-41A8-8E50-92B05C2151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27323D-6143-4DA3-B85D-9268AC2607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9AAA5-246C-405B-BAD8-936ACAB6D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5ECDB5-789C-4434-BBFD-AA11808FC4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7B6043-637A-46C2-B7AA-5202150338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700317-866C-4B37-B7DC-CAAFC58156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1BB18E1-1AC6-4432-B062-163059926DF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8422EFF-D8C6-45BF-8A71-36EE061BF43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7D8172C-A7E9-4AD1-8D3E-22C44C40B67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52BA07-99AE-45A0-A0AC-9219FCC3F5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9D6DC8-400D-49CD-997D-35E9283D72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D02610-FA56-4B98-97A1-9BF95BDF13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89FCE5-71B6-4596-B576-6FB329CEFC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28E62-1315-4A87-8ADC-82BB23763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F6B020-18D5-44EF-B27B-DC6FDF97E4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A5DDA6-4B4C-4B5F-B15B-352BFFD868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989CD0-D6EE-42EB-BF2F-5A9851FA72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D370A6-B46E-4927-B3EB-6BE430C0FB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3FFE72-2F4F-45F0-AF6F-8CF670239D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D69164F-646D-4B84-AAEE-04C3EDE8F00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85E59C2-9312-4D56-9A9D-F6C4E3592F6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7191821-1370-46F3-B3CB-E75A1690EB6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209DA0-E664-4BC0-BCA2-5D919E623BC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083C2C-5AE6-421C-9102-844AE77879E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00B2DCB-68FD-4E99-8C08-4025AC292AA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69r1</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69r1</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60120"/>
            <a:ext cx="15415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7FDE385-7DC0-436F-879A-55793D0AAD2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69r1</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60120"/>
            <a:ext cx="15415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CC367F1-2295-4AFB-8025-294393BDA67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69r1</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60120"/>
            <a:ext cx="15415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67DD06D-1BFE-4303-95A1-AEF0D31235B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69r1</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60120"/>
            <a:ext cx="15415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8E51F30-6F49-4E6F-A897-DBF1CE27C04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69r1</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60120"/>
            <a:ext cx="15415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31D4BCE-EA77-4FAC-8FDA-D07E3CF7235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69r1</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60120"/>
            <a:ext cx="15415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6DF3847-B8FC-45C6-8330-29FE6E03578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69r1</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60120"/>
            <a:ext cx="15415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3F1B2B5-C028-4EB5-9C34-22259877A5C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69r1</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60120"/>
            <a:ext cx="15415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7E79672-FD88-4FE6-869B-A6FBCF244D1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69r1</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60120"/>
            <a:ext cx="15415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880D3CF-2ED8-43F2-9BCA-6F8A8B899BA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69r1</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60120"/>
            <a:ext cx="15415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4864800-67F2-47D0-B454-7EEF9900E1A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69r1</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60120"/>
            <a:ext cx="15415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92E8A57-C704-4EEC-8DC9-99A950E43B3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mailto:edward.ks.au@gmail.com" TargetMode="External"/><Relationship Id="rId2" Type="http://schemas.openxmlformats.org/officeDocument/2006/relationships/hyperlink" Target="mailto:jeorge.hurtarte@litepoint.com" TargetMode="External"/><Relationship Id="rId3" Type="http://schemas.openxmlformats.org/officeDocument/2006/relationships/hyperlink" Target="http://mentor.ieee.org/" TargetMode="External"/><Relationship Id="rId4" Type="http://schemas.openxmlformats.org/officeDocument/2006/relationships/slideLayout" Target="../slideLayouts/slideLayout8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mentor.ieee.org/802.11/dcn/13/11-13-0230-03-0000-comment-resolution-tutorial.ppt" TargetMode="External"/><Relationship Id="rId2" Type="http://schemas.openxmlformats.org/officeDocument/2006/relationships/hyperlink" Target="https://mentor.ieee.org/802.11/dcn/13/11-13-0230-03-0000-comment-resolution-tutorial.ppt" TargetMode="External"/><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576E21C-4D9F-4668-BCBA-A39A6B6DB3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November 28, 2018 Teleconference Call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6765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8-11-28</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4B468EF-9E3E-4650-AE50-D52B4B4273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a:t>
            </a:r>
            <a:endParaRPr b="0" lang="en-US" sz="3200" spc="-1" strike="noStrike">
              <a:solidFill>
                <a:srgbClr val="000000"/>
              </a:solidFill>
              <a:latin typeface="Times New Roman"/>
            </a:endParaRPr>
          </a:p>
        </p:txBody>
      </p:sp>
      <p:sp>
        <p:nvSpPr>
          <p:cNvPr id="604"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nouncement:</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agenda items on December 5, 12, 19, and January 9</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test version of the Coexistence Assurance Document (18/1288r3) is available for review</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2067r0:  </a:t>
            </a:r>
            <a:r>
              <a:rPr b="0" lang="en-US" sz="1800" spc="-1" strike="noStrike">
                <a:solidFill>
                  <a:srgbClr val="000000"/>
                </a:solidFill>
                <a:latin typeface="Times New Roman"/>
              </a:rPr>
              <a:t>Resolution of CID 3055, 3066, 3353, 3409, 3410, 3562 </a:t>
            </a:r>
            <a:r>
              <a:rPr b="0" lang="en-US" sz="1700" spc="-1" strike="noStrike">
                <a:solidFill>
                  <a:srgbClr val="000000"/>
                </a:solidFill>
                <a:latin typeface="Times New Roman"/>
              </a:rPr>
              <a:t>(Solomon Trainin)</a:t>
            </a:r>
            <a:endParaRPr b="0" lang="en-US" sz="17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2069r0:    </a:t>
            </a:r>
            <a:r>
              <a:rPr b="0" lang="en-GB" sz="1800" spc="-1" strike="noStrike">
                <a:solidFill>
                  <a:srgbClr val="000000"/>
                </a:solidFill>
                <a:latin typeface="Times New Roman"/>
              </a:rPr>
              <a:t>Scheduled BF CIDs (Assaf Kasher)</a:t>
            </a:r>
            <a:endParaRPr b="0" lang="en-US" sz="1800" spc="-1" strike="noStrike">
              <a:solidFill>
                <a:srgbClr val="000000"/>
              </a:solidFill>
              <a:latin typeface="Times New Roman"/>
            </a:endParaRPr>
          </a:p>
          <a:p>
            <a:pPr lvl="2" marL="1143000" indent="-228600" algn="just">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4064CD2-AE35-4FE1-AC17-0DA680D5B4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teleconference call on November 28, 2018.</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1"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3279C62B-6839-4568-9579-96465E51DD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5"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6"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7"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6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7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4030598E-F426-4F43-86FA-D96C0DBF54A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2"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3"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7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5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74CAE67-D17E-4C0C-B5D8-FF24D42963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8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2"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32A9172-EA35-41B3-A940-21A0948F21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8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D171CFA7-831B-4909-BB10-110BF2F6EB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8"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8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9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F8DC310-68C3-48EB-8FE8-58C2B442A8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ease send an email to the addresses below to have your attendance recorded:</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edward.ks.au@gmail.com</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jeorge.hurtarte@litepoint.com</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3"/>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a:t>
            </a:r>
            <a:endParaRPr b="0" lang="en-US" sz="3200" spc="-1" strike="noStrike">
              <a:solidFill>
                <a:srgbClr val="000000"/>
              </a:solidFill>
              <a:latin typeface="Times New Roman"/>
            </a:endParaRPr>
          </a:p>
        </p:txBody>
      </p:sp>
      <p:sp>
        <p:nvSpPr>
          <p:cNvPr id="59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9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4E0A4BA-4017-42B7-B04F-04F5C1074B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comment resolution</a:t>
            </a:r>
            <a:endParaRPr b="0" lang="en-US" sz="3200" spc="-1" strike="noStrike">
              <a:solidFill>
                <a:srgbClr val="000000"/>
              </a:solidFill>
              <a:latin typeface="Times New Roman"/>
            </a:endParaRPr>
          </a:p>
        </p:txBody>
      </p:sp>
      <p:sp>
        <p:nvSpPr>
          <p:cNvPr id="599"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60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01"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he proposed resolution is executable by the Editor, e.g., please avoid that there is not enough info to be able for the Editor to resolve the comment without creating text by himself.</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o call out not only the page and line number, but also the draft version and clause number in your comment resolution document, because the page and line numbers (also the figure and table numbers) change on subsequent revisions of the draft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8/11-18-1391-00-0000-september-2018-working-group-chair-supplementary-material.ppt</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s://mentor.ieee.org/802.11/dcn/13/11-13-0230-03-0000-comment-resolution-tutorial.pp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November 28 2018</cp:keywords>
  <dc:language>en-US</dc:language>
  <cp:lastModifiedBy>Edward Au</cp:lastModifiedBy>
  <cp:lastPrinted>2014-11-04T15:04:57Z</cp:lastPrinted>
  <dcterms:modified xsi:type="dcterms:W3CDTF">2018-11-27T23:49:10Z</dcterms:modified>
  <cp:revision>4269</cp:revision>
  <dc:subject>Task Group AY November 2015 Meeting Agenda</dc:subject>
  <dc:title>18/2069r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5"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6"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7" name="_ms_pID_72534310_00">
    <vt:lpwstr>_ms_pID_72534310</vt:lpwstr>
  </property>
  <property fmtid="{D5CDD505-2E9C-101B-9397-08002B2CF9AE}" pid="8" name="_ms_pID_72534311">
    <vt:lpwstr>w8PjN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2" name="_ms_pID_7253432_00">
    <vt:lpwstr>_ms_pID_7253432</vt:lpwstr>
  </property>
  <property fmtid="{D5CDD505-2E9C-101B-9397-08002B2CF9AE}" pid="13"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4" name="_ms_pID_7253433_00">
    <vt:lpwstr>_ms_pID_7253433</vt:lpwstr>
  </property>
  <property fmtid="{D5CDD505-2E9C-101B-9397-08002B2CF9AE}" pid="15"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6" name="_ms_pID_7253434_00">
    <vt:lpwstr>_ms_pID_7253434</vt:lpwstr>
  </property>
  <property fmtid="{D5CDD505-2E9C-101B-9397-08002B2CF9AE}" pid="17"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8" name="_ms_pID_7253435_00">
    <vt:lpwstr>_ms_pID_7253435</vt:lpwstr>
  </property>
  <property fmtid="{D5CDD505-2E9C-101B-9397-08002B2CF9AE}" pid="19"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0" name="_ms_pID_7253436_00">
    <vt:lpwstr>_ms_pID_7253436</vt:lpwstr>
  </property>
  <property fmtid="{D5CDD505-2E9C-101B-9397-08002B2CF9AE}" pid="21"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2" name="_ms_pID_7253437_00">
    <vt:lpwstr>_ms_pID_7253437</vt:lpwstr>
  </property>
  <property fmtid="{D5CDD505-2E9C-101B-9397-08002B2CF9AE}" pid="23"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4" name="_ms_pID_7253438_00">
    <vt:lpwstr>_ms_pID_7253438</vt:lpwstr>
  </property>
  <property fmtid="{D5CDD505-2E9C-101B-9397-08002B2CF9AE}" pid="25"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readonly">
    <vt:lpwstr/>
  </property>
  <property fmtid="{D5CDD505-2E9C-101B-9397-08002B2CF9AE}" pid="29" name="sflag">
    <vt:lpwstr>1508261703</vt:lpwstr>
  </property>
</Properties>
</file>