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C4D2635-8A0C-4422-BC9C-7220849440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AF48A9-6BD5-4542-83D5-95C32210A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F364EF-555D-4FA4-BA89-B2955CCD8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EEAC4B-0E1A-4D37-8D7E-EE50D3D16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C79F0B9-92C4-404A-8AD7-2CD2F91F91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9B20030-8632-4583-8E54-1CC8EAC28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D8774A-5B3D-4B72-A2AA-64993374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06B7850-87D5-4B75-B68E-8F97DEB3D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D72C65-186A-4D35-AC8B-0970578D0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0E3293-D709-4E59-922B-2C59B2BAA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65A697-BFEA-4C24-A305-AB19A1CC9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1A00E7-75F1-4C62-807A-C721B61D0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7D08F-0F39-4919-B84D-0987C56E7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B9A3-72F5-43A9-9FD4-5F44EE2E8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9D735-7F2A-4DB8-80E9-640DEBA14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77C13-02F5-4182-8E85-683344D4B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CD0ED-465C-47D6-A6E9-3E81A405E3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8BBBD-4724-441E-AB72-EF2B3D9CB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70491-86D2-4DFA-A088-B98CEAC90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C192E-FEEC-4C42-AEFA-3D3C09684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2A3AE-3BB2-4D5C-8A68-0F164284B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B6E78-51D0-4072-881E-E5C8CD327C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1471E4-956F-47CF-AA93-3FD816DF05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8ECFF9-1A2C-4E89-912B-45C5710F02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148EC-02E7-409A-8A79-80E81D1F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9822F2-32B4-4F5A-B8BF-F4E0FEF95D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C451C4-6DCB-4822-8416-E1EC712D41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C0227E-A6E2-4C14-890C-3FF25038F8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143008-B780-470A-BB62-D17236CA61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B52E8E-D472-4A90-AAC7-F10955B2B6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8D606C-2599-4CA6-BC43-FD03F8B26A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4513CE-17B5-4856-86D0-6CC075C0E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19BD5D-B8E7-435A-9F42-0B7780BAA3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137D16-3534-4F58-8AC0-6B9BEF151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03A0BB-71CC-46FE-9FEC-FF0A8E84D6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99015-DB3E-4E53-AAC4-C091110EA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A7600F-4CE0-44BF-90FE-2BBA5BF342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3318A8-2689-4771-9CE8-FEA0CBDA3C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2BA953-C6F3-4F5B-9EDC-E812EA6A65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647EDE-B815-49E7-B845-316EEA921F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1FCB59-BBD1-4D15-9D27-8304E63CFC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607834-B819-456C-9DBA-531F36EC9E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797C62-B835-4FA3-A18A-6FD753FC9B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EA8E08-03DB-48FC-84F1-D84CDCA055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26D92-57B1-45CE-902E-11F930090D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6604CB-A919-4D4B-800B-570E5A3C87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C1476-6294-46CD-BB18-E4262019B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B3169B-1E22-4FDD-9512-2E6DEAD7D0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DCCED6-2C40-433F-BE9A-241D69A5A2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27C025-82A0-4705-8723-6D2B91F33D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A7DE0F-DB77-4DFD-A841-D418E2E8B0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DFD82B-AC66-4296-8955-0617E8536B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B96AA2-6FD4-408D-9CC3-7DB505FFD3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8EF4D5-A135-45F3-A7D0-669A9DAD2C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92849F-8997-4FB9-9991-EC7393372A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1A2EAF-CEA7-4411-AB65-E564A7C640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6D9788-0B23-4246-A714-4C93287C90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6B1CF-B2A7-437D-8548-07C7838EE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45683F-A3CC-4929-993F-B9850A9C9A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BE1D4-349E-4275-9C63-60158BACE0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78DD97-1666-4A50-BE26-5EB7ECB95C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0B3D28-45F9-4785-A4AA-953B064C25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11E11B-BF0C-4C91-9EFD-574D8C511B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B3DFC-C75F-43E3-8EBB-8897A5A4B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9E96C-F2D8-490A-A199-F3961AF00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ADF48-0D2D-4C27-9606-94A98D493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E60FF-C667-45C2-9694-D8CF9E3C9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44B5C-6A5B-446C-A063-46547B050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025A-1C71-456E-9E86-D875F925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A6995-7055-45A3-9CC3-27ADCAC5D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06A83-7C3C-46E5-9718-EAF5E0B7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EB25-6723-4789-8806-36A6AF9B0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731BC-3C02-43E3-A319-9B093A526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CD168-1BB5-4ACD-888A-2EA6B0F38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BA1F3-6979-456E-AA8F-78916117E2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A624D-0264-4B9F-B55B-1E97AD5BA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F6DC4-BE40-4B71-9A7D-F43F36EF1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A2E70-409C-4642-8BDC-A1A5EA761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4103E-7B6D-4D64-B133-1838D4C99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41F6-343A-41B9-91FD-84A3CD0F6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49B6E-733D-4BE0-A6F2-9010DDCE6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E0C61-E08C-412F-A49A-C79A475C3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80F59-5115-484B-BFED-A420CE96C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7074D-00B0-4937-8CB7-397A4DD1D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F3BD9-ECCD-447F-AD91-1E7963FFC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14D0E4-767F-4451-9322-F33BE8B33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D18E2-FEA3-45D0-B62F-6D5E9E450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6940DB-4AE7-4741-A2F9-B7388898C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03C1F-6091-444E-88B1-BCA8B9438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5871A-3E87-473F-833D-9F52B9AAA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3D9C-7A17-4771-A162-418778081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63956-8C2B-4A75-96F8-493A83FF9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9081D-6299-4957-B50C-86E64390A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43C3D-FC8B-4CBF-A1D0-B87B4AD16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BE730-E312-469B-8A04-AAAD77F9A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F2FAC-EE73-49A5-9CB8-A25E5875C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564D1-B894-4C80-824D-67AAE3D91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11484-65A5-45E2-BB65-EDA3B6F5E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724A0D-3016-4C07-B812-AEBD3482FE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B8403-B783-4D70-B756-7AA7972BE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7A65EB-ACE5-49E4-8C4D-F638AC466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87F84-94B7-40B2-8BEB-16E7494CB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36F48-1624-4BE5-AF3D-5D3D01AD9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EDF70-5947-463A-A3DE-F3B2DB94C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7C930-F16D-4432-B084-DC7B9F6E6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9181A-D21A-4D43-93A7-D29A1C3AD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A770C-E5D8-4154-B0A0-70D5A45DA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8815B-B891-41F2-BF48-D4201159A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8DF9-927D-4884-AEFE-1153B0486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CA7B9-0133-4F71-91D4-D37C1A193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D959F-1811-422C-A1D0-3AF740706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234DC6-B783-4634-ABDA-CFFCA6C8F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582F7-99A2-4523-855F-16144C34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963EB-A2E3-42DB-A320-FEE03AA1C4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6EE1E3-832A-49AB-A0B7-213495B910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C4072-95FA-4301-A703-9BB1F0B40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9A112-046A-4F64-8E8F-95AA596EB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4FE136-E035-47A0-9F8F-F0E779EF2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A9F5E-E607-4969-8CBE-88F09B4C5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BEA30-9D3C-4CFF-BFC9-D6E2A6DCA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9A9F0-B879-4A7E-8ACB-FC3610CA3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68D78-FFE2-4919-9B2F-3D53E031F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D3250-FD30-4C74-BB95-5F3F77A5E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27BE-97DF-4008-A5A8-7F0F9FDD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EF084-4879-49B9-9D1C-428661B1E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C0E343-6B80-46FB-B2FB-CF8D4F0C8E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106CF7-CB26-499D-AB27-C6609B7B89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1F60B1-B9D7-4E5E-B2BA-AF71EAFAED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FFA31D-9FD3-422A-B579-CD533414C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56570-0B85-4979-BBD3-C2B5A144A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957FD-09CB-4A23-B199-06AFC6A94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548D6-D2C3-41E2-BCFB-77E520021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81CA3-5C83-4819-BA80-376CDD95A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638B7-4C17-47A6-9568-5FF637EF4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0125-ACE3-41FB-A5D5-B8FF6DAD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213D5-5E9C-4A8F-AFA3-6033E5C46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BDB33-BFC7-436D-A443-9E1E93725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B2C02-5568-435A-BEAC-524A6809C6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202226-DD0C-4307-B2A5-7CC9AA583A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CE3D6-7A10-4B3C-94CF-F96E55529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021D4E-3725-47F9-A437-EECA602C61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2B111-ACE2-4FD2-A20B-159B54C54D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A86A6-E88B-4DA0-8FD7-3718AF6F81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AD071-5920-44DA-B58F-E005261B1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C50A0-E082-4A07-B303-98EFAA3025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0140-41BD-40E0-AED0-0B43D304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336B2E-65B3-4875-8874-874CAA159B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9D250-0958-481A-9EC6-6208CE011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D98AA-76F8-4B80-9B1F-F6F856D79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9852D-6B44-4358-B1DB-D14D4569D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99C66-D0C4-4574-A857-279080BCE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5EC57B-8D32-408A-842B-4658B7F260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054085-BB10-473A-8246-8BAF293720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E37D72-CA06-47E9-AF1B-D0039DFEAD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19B6E-A143-49B5-A444-789AFD54B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80939-48A1-4E51-A389-F51CD8F491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E8A87C-478B-4521-8D9D-BD453F0308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0121A6-C91E-4506-A3C7-1604BCC363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CD6350-1CB9-4C4A-A295-9F431356A7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4D0AC08-D20B-4E3A-B211-F44BE53F7D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22DDC9C-B8E8-4E7F-9C94-23D74780C8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695C62-201D-41D1-9E6D-F6538A8E3B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7C2EA92-ACCC-4658-8C58-C7D6FEEAB2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827F59-33E7-4211-BFAD-1C9EC9A4BC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B650EF-69DB-4EB8-BDE7-8F201EDD35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D4294D-F4DA-4413-9309-6A897834E0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1618FE-ED3A-4F42-8EF4-B73BE9FC23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69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6A4A90-AB58-4D56-A57A-B9B98029AF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15D360-B8E9-4EF4-88E1-68E042DBD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8,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28</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861C75-6463-4F5D-99C0-B6DE13234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agenda items on December 5, 12, 19, and January 9</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67r0:  </a:t>
            </a:r>
            <a:r>
              <a:rPr b="0" lang="en-US" sz="1800" spc="-1" strike="noStrike">
                <a:solidFill>
                  <a:srgbClr val="000000"/>
                </a:solidFill>
                <a:latin typeface="Times New Roman"/>
              </a:rPr>
              <a:t>Resolution of CID 3055, 3066, 3353, 3409, 3410, 3562 </a:t>
            </a:r>
            <a:r>
              <a:rPr b="0" lang="en-US" sz="1700" spc="-1" strike="noStrike">
                <a:solidFill>
                  <a:srgbClr val="000000"/>
                </a:solidFill>
                <a:latin typeface="Times New Roman"/>
              </a:rPr>
              <a:t>(Solomon Trainin)</a:t>
            </a:r>
            <a:endParaRPr b="0" lang="en-US" sz="17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6B7ADA-5538-41CA-9FF0-D7643265A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28,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1168EFF-BD9C-41AF-95FC-47616C880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ECEF89F-BC32-4702-8A58-2244B87589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1EEC73-2416-4773-8DAD-26BCC43B0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B09ED2-2835-4C30-8B0D-01592EB15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31258D1-26B9-4F6B-9A4C-8DC72E81CE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170A03-FB63-4BEE-B466-70B04CA63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1028CE-5BE3-4FB8-A3D9-64BB33939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8 2018</cp:keywords>
  <dc:language>en-US</dc:language>
  <cp:lastModifiedBy>Edward Au</cp:lastModifiedBy>
  <cp:lastPrinted>2014-11-04T15:04:57Z</cp:lastPrinted>
  <dcterms:modified xsi:type="dcterms:W3CDTF">2018-11-20T08:33:55Z</dcterms:modified>
  <cp:revision>4268</cp:revision>
  <dc:subject>Task Group AY November 2015 Meeting Agenda</dc:subject>
  <dc:title>18/2069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