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A71C0-1C39-4936-B337-AC7C49EF2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4E166-3253-4DB3-A7C0-D1F52A615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CF768-A260-4B95-AD04-D2D257D26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2712E-F8EC-4CD6-8E6F-C72A60AAD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AB4A2-88BF-46E8-AF43-7C656FA05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52567-47DE-4C64-AD53-AC4FD4A85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C4F87-5EE0-4095-9386-8560A493A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E1CD9-6658-40D8-86A2-FF6BE506E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DCF43-30A0-4053-ADDE-A2D9F8630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B313-BC8F-43CF-8CF3-4A011C0A0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319C8-E39C-4E0D-BDCF-81D5E7773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2E4BD-B3C7-4890-B53A-C14556B39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176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95D5C0-B522-426F-AF96-C5E76CBB1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25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0267A7-85E4-414B-942A-A0D368CCE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日期占位符 4"/>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47" name="页脚占位符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48" name="Rectangle 2"/>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GV SG Response to Comments per 802.11bd PAR/CSD</a:t>
            </a:r>
            <a:endParaRPr b="0" lang="en-US" sz="3200" spc="-1" strike="noStrike">
              <a:solidFill>
                <a:srgbClr val="000000"/>
              </a:solidFill>
              <a:latin typeface="Times New Roman"/>
            </a:endParaRPr>
          </a:p>
        </p:txBody>
      </p:sp>
      <p:sp>
        <p:nvSpPr>
          <p:cNvPr id="49" name="Rectangle 6"/>
          <p:cNvSpPr/>
          <p:nvPr/>
        </p:nvSpPr>
        <p:spPr>
          <a:xfrm>
            <a:off x="685800" y="1952640"/>
            <a:ext cx="7772400" cy="380880"/>
          </a:xfrm>
          <a:prstGeom prst="rect">
            <a:avLst/>
          </a:prstGeom>
          <a:noFill/>
          <a:ln w="0">
            <a:noFill/>
          </a:ln>
        </p:spPr>
        <p:style>
          <a:lnRef idx="0"/>
          <a:fillRef idx="0"/>
          <a:effectRef idx="0"/>
          <a:fontRef idx="minor"/>
        </p:style>
        <p:txBody>
          <a:bodyPr lIns="92160" rIns="92160" tIns="46080" bIns="46080" anchor="t">
            <a:normAutofit fontScale="94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1-13</a:t>
            </a:r>
            <a:endParaRPr b="0" lang="en-US" sz="2000" spc="-1" strike="noStrike">
              <a:solidFill>
                <a:srgbClr val="000000"/>
              </a:solidFill>
              <a:latin typeface="Times New Roman"/>
            </a:endParaRPr>
          </a:p>
        </p:txBody>
      </p:sp>
      <p:graphicFrame>
        <p:nvGraphicFramePr>
          <p:cNvPr id="50" name="Object 11"/>
          <p:cNvGraphicFramePr/>
          <p:nvPr/>
        </p:nvGraphicFramePr>
        <p:xfrm>
          <a:off x="1087560" y="3384720"/>
          <a:ext cx="7780320" cy="955440"/>
        </p:xfrm>
        <a:graphic>
          <a:graphicData uri="http://schemas.openxmlformats.org/presentationml/2006/ole">
            <p:oleObj progId="Word.Document.12" r:id="rId1" spid="">
              <p:embed/>
              <p:pic>
                <p:nvPicPr>
                  <p:cNvPr id="51" name="Object 11" descr=""/>
                  <p:cNvPicPr/>
                  <p:nvPr/>
                </p:nvPicPr>
                <p:blipFill>
                  <a:blip r:embed="rId2"/>
                  <a:stretch/>
                </p:blipFill>
                <p:spPr>
                  <a:xfrm>
                    <a:off x="1087560" y="3384720"/>
                    <a:ext cx="7780320" cy="955440"/>
                  </a:xfrm>
                  <a:prstGeom prst="rect">
                    <a:avLst/>
                  </a:prstGeom>
                  <a:ln w="0">
                    <a:noFill/>
                  </a:ln>
                </p:spPr>
              </p:pic>
            </p:oleObj>
          </a:graphicData>
        </a:graphic>
      </p:graphicFrame>
      <p:sp>
        <p:nvSpPr>
          <p:cNvPr id="52" name="Rectangle 12"/>
          <p:cNvSpPr/>
          <p:nvPr/>
        </p:nvSpPr>
        <p:spPr>
          <a:xfrm>
            <a:off x="674640" y="26686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cument contains the response of NGV SG to comments per NGV PAR/CSD</a:t>
            </a:r>
            <a:endParaRPr b="1" lang="en-US" sz="2400" spc="-1" strike="noStrike">
              <a:solidFill>
                <a:srgbClr val="000000"/>
              </a:solidFill>
              <a:latin typeface="Times New Roman"/>
            </a:endParaRPr>
          </a:p>
        </p:txBody>
      </p:sp>
      <p:sp>
        <p:nvSpPr>
          <p:cNvPr id="55" name="日期占位符 3"/>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56"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57"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E3077C-BB21-40D5-BE51-8AD551F43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1</a:t>
            </a:r>
            <a:endParaRPr b="1" lang="en-US" sz="3200" spc="-1" strike="noStrike">
              <a:solidFill>
                <a:srgbClr val="000000"/>
              </a:solidFill>
              <a:latin typeface="Times New Roman"/>
            </a:endParaRPr>
          </a:p>
        </p:txBody>
      </p:sp>
      <p:graphicFrame>
        <p:nvGraphicFramePr>
          <p:cNvPr id="59" name=""/>
          <p:cNvGraphicFramePr/>
          <p:nvPr/>
        </p:nvGraphicFramePr>
        <p:xfrm>
          <a:off x="685800" y="1981080"/>
          <a:ext cx="7851600" cy="4145040"/>
        </p:xfrm>
        <a:graphic>
          <a:graphicData uri="http://schemas.openxmlformats.org/drawingml/2006/table">
            <a:tbl>
              <a:tblPr/>
              <a:tblGrid>
                <a:gridCol w="1600200"/>
                <a:gridCol w="2057400"/>
                <a:gridCol w="990720"/>
                <a:gridCol w="1143000"/>
                <a:gridCol w="2060280"/>
              </a:tblGrid>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ment  N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ourc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obert Grow (RAC Chair)</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ed Doc.</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802.11bd</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1 b registry activity</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Lin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r>
              <a:tr h="1797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ng there will be new text referencing existing IEEE RA registries is helpful and proper.  But, there are a couple problems with the last sentence.  First problem, the RAC does not “control” the namespaces.  Registries are administered by the IEEE Registration Authority.  Second, “registration activity” in the 6.1,b question is not limited to IEEE RA administered registries. (The BOG has right of first refusal for registration activities defined in IEEE standards, and RAC Mandatory Coordination is not limited to only “registration activities” text related to IEEE Registration Authority administrated registries.) </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Change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rue, a better sentence would be “It is expected that no new registries will be defined by the projec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on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0" name="日期占位符 3"/>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61"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62"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7085C9-8F45-47BB-B6E5-37C13DCA6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2</a:t>
            </a:r>
            <a:endParaRPr b="1" lang="en-US" sz="3200" spc="-1" strike="noStrike">
              <a:solidFill>
                <a:srgbClr val="000000"/>
              </a:solidFill>
              <a:latin typeface="Times New Roman"/>
            </a:endParaRPr>
          </a:p>
        </p:txBody>
      </p:sp>
      <p:graphicFrame>
        <p:nvGraphicFramePr>
          <p:cNvPr id="64" name=""/>
          <p:cNvGraphicFramePr/>
          <p:nvPr/>
        </p:nvGraphicFramePr>
        <p:xfrm>
          <a:off x="696960" y="1676520"/>
          <a:ext cx="7851600" cy="4572000"/>
        </p:xfrm>
        <a:graphic>
          <a:graphicData uri="http://schemas.openxmlformats.org/drawingml/2006/table">
            <a:tbl>
              <a:tblPr/>
              <a:tblGrid>
                <a:gridCol w="1600200"/>
                <a:gridCol w="2057400"/>
                <a:gridCol w="990720"/>
                <a:gridCol w="1143000"/>
                <a:gridCol w="2060280"/>
              </a:tblGrid>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ment  N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ourc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obert Grow (RAC Chair)</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ed Doc.</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802.11bd</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1 b registry activity</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Lin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r>
              <a:tr h="2224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sentence is appropriate for a revision, but problematic for an amendment primarily producing new text.  The amendment either will or will not include new text related to registration activity (what is noted in the PAR form instruction).  There are though a couple problems with the last sentence.  First problem, the RAC does not “control” the namespaces.  Registries are administered by the IEEE Registration Authority.  Second, “registration activity” in the 6.1,b question is not limited to IEEE RA administered registries. (The BOG has right of first refusal for registration activities defined in IEEE standards, and RAC Mandatory Coordination is not limited to only “registration activities” text related to IEEE Registration Authority administrated registries.) </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Change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true, a better sentence would be “It is expected that no new registration activity text will be included in the draf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on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5" name="日期占位符 3"/>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66"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67"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660484-F303-4AB1-98CE-C25A66826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3</a:t>
            </a:r>
            <a:endParaRPr b="1" lang="en-US" sz="3200" spc="-1" strike="noStrike">
              <a:solidFill>
                <a:srgbClr val="000000"/>
              </a:solidFill>
              <a:latin typeface="Times New Roman"/>
            </a:endParaRPr>
          </a:p>
        </p:txBody>
      </p:sp>
      <p:graphicFrame>
        <p:nvGraphicFramePr>
          <p:cNvPr id="69" name=""/>
          <p:cNvGraphicFramePr/>
          <p:nvPr/>
        </p:nvGraphicFramePr>
        <p:xfrm>
          <a:off x="685800" y="1981080"/>
          <a:ext cx="7851600" cy="2819520"/>
        </p:xfrm>
        <a:graphic>
          <a:graphicData uri="http://schemas.openxmlformats.org/drawingml/2006/table">
            <a:tbl>
              <a:tblPr/>
              <a:tblGrid>
                <a:gridCol w="1600200"/>
                <a:gridCol w="2057400"/>
                <a:gridCol w="990720"/>
                <a:gridCol w="1143000"/>
                <a:gridCol w="2060280"/>
              </a:tblGrid>
              <a:tr h="3070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ment  N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ourc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2.3</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ed Doc.</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802.11bd</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Lin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r>
              <a:tr h="6699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number – Per the EC web page, this project if approved will be P802.11bd.  </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Change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 project number</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on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0" name="日期占位符 3"/>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71"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72"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72D374-6973-4ECA-A52F-56E7E47FF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4</a:t>
            </a:r>
            <a:endParaRPr b="1" lang="en-US" sz="3200" spc="-1" strike="noStrike">
              <a:solidFill>
                <a:srgbClr val="000000"/>
              </a:solidFill>
              <a:latin typeface="Times New Roman"/>
            </a:endParaRPr>
          </a:p>
        </p:txBody>
      </p:sp>
      <p:graphicFrame>
        <p:nvGraphicFramePr>
          <p:cNvPr id="74" name=""/>
          <p:cNvGraphicFramePr/>
          <p:nvPr/>
        </p:nvGraphicFramePr>
        <p:xfrm>
          <a:off x="685800" y="1981080"/>
          <a:ext cx="7851600" cy="3184560"/>
        </p:xfrm>
        <a:graphic>
          <a:graphicData uri="http://schemas.openxmlformats.org/drawingml/2006/table">
            <a:tbl>
              <a:tblPr/>
              <a:tblGrid>
                <a:gridCol w="1600200"/>
                <a:gridCol w="2057400"/>
                <a:gridCol w="990720"/>
                <a:gridCol w="1143000"/>
                <a:gridCol w="2060280"/>
              </a:tblGrid>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ment  N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ourc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2.3</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ed Doc.</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802.11bd</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Lin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r>
              <a:tr h="837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tle – V2X needs to be expanded</a:t>
                      </a:r>
                      <a:r>
                        <a:rPr b="0" lang="en-US" sz="1400" spc="-1" strike="noStrike">
                          <a:solidFill>
                            <a:srgbClr val="000000"/>
                          </a:solidFill>
                          <a:latin typeface="Times New Roman"/>
                        </a:rPr>
                        <a:t>, presumably “Next Generation Vehicle-to-Everything (V2X)”.</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Change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2X needs to be expanded</a:t>
                      </a:r>
                      <a:r>
                        <a:rPr b="0" lang="en-US" sz="1400" spc="-1" strike="noStrike">
                          <a:solidFill>
                            <a:srgbClr val="000000"/>
                          </a:solidFill>
                          <a:latin typeface="Times New Roman"/>
                        </a:rPr>
                        <a:t>, presumably “Next Generation Vehicle-to-Everything (V2X)”.</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on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5" name="日期占位符 3"/>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76"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77"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B99F5A-62B7-4290-9CFA-179CE5CA8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79"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F6FA84-EB59-4713-8752-112DBAC0D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81" name="日期占位符 4"/>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March 2018</cp:keywords>
  <dc:language>en-US</dc:language>
  <cp:lastModifiedBy>孙波10013985</cp:lastModifiedBy>
  <cp:lastPrinted>2014-11-04T15:04:57Z</cp:lastPrinted>
  <dcterms:modified xsi:type="dcterms:W3CDTF">2018-11-13T11:44:48Z</dcterms:modified>
  <cp:revision>3982</cp:revision>
  <dc:subject>Task Group AY November 2015 Meeting Agenda</dc:subject>
  <dc:title>11-16/1584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