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835ECAFF-25FA-49B2-9558-E21D629EEE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FADCCB-A641-4DBE-BD1C-BD9573BFB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B03AA1-66DF-4FA8-ABD5-084EE967C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46F2CE-95E4-4EE9-8263-B144BD9A0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5FF139B-C6F5-4464-98BD-6262416C5C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7680" y="696960"/>
            <a:ext cx="4640400" cy="3479760"/>
          </a:xfrm>
          <a:prstGeom prst="rect">
            <a:avLst/>
          </a:prstGeom>
          <a:ln w="0">
            <a:noFill/>
          </a:ln>
        </p:spPr>
      </p:sp>
      <p:sp>
        <p:nvSpPr>
          <p:cNvPr id="6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D83543D-54A5-4E67-BEF5-035ACB6FBA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AD0C7AD-5431-44D6-828F-0E517F5E8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764E2C-9E4C-46D1-9202-1C84CC5F3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025529-D83D-4F1E-A28C-7CC1A045A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26941B-C69F-48A5-83BC-E97C3DCB7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4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4C0D0D-9DE8-4232-B494-B0B8FC551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311540-215C-445B-9FD0-588935E74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96AFC-FBC9-47DB-8AB4-EACD7021B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012FB-1489-454E-9140-073A80BA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A9AED-4ECB-4D1E-BDA1-320508105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EC19F9-40AF-4D45-8470-694E509DDE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3B275-9AD4-4F28-B878-ED77CA3798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C78474-A201-4707-8F61-62EFDE87C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FB61E-F0A1-49A4-9F2B-163932C4A5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2E8E53-C18C-424C-9E42-72A612751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BED86-E482-4F36-82C4-DA7F80F6BD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D95109-05C6-4834-9EF7-7435265EB2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BEC754-E791-461C-9DC6-864C5F9259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F4733B-9464-45BA-A983-BB00742448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7BE75-0CA5-48CD-A2DF-E22CAD314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033179-A6CE-420B-8D52-CE5763F9D1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96EC77-9B01-4199-9DC4-5E874004F4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08FCCE-B875-48C6-BF6B-92D3A35539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E5F56E-B54F-41BA-B262-DEB4DB13D5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8B5EF3-6152-4ADB-ACA0-83DD740985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96F137-804C-49E3-A18E-535AB9BE09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9EF9DE-9341-489D-87C0-2483608F71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1F6DF1-91F7-4F85-A412-DDC6CF8AE2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2A0FB9-2E8E-4AC1-B577-ACAFBDA2D6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AE8239-214A-4370-B61C-FD6B92F93F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F47F9-4B03-4C1A-A54F-7D3C7697F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CEB0B33-5D1F-4BE7-A825-46194CF119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D12165-66EB-4FDC-BDD5-7212588BA3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E56088-9A9C-4EA8-91D8-FB3A0F2951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8CB5DA-0496-4D7C-8939-BB4CAE09A3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6478EC-FFC6-4F00-8844-9A161FD541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E26A3D-C6A1-4921-AB96-BA912CB74C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35F86F-EAA2-4115-8CC9-26A2353835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4DD02B-B580-4892-91AB-D49A8CE5D7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D0963F-D756-4CD1-B2A1-3E2E9D59CF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CFF214-098A-4B62-87E3-DA8209289B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140B7-B843-4F87-A18D-073FA5376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0BB30E-E23F-4AFC-9403-C5113F5BA9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CF02B9-653F-493F-9B7C-504F821A5E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3FB4F1-E00F-453F-A0B6-0051AEA7DA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28FDBE-4721-4E19-8DAD-0080342B6B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F28C4F-6299-45F9-B4AB-8AD21E6BF7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BFB82A-4926-4FB5-A327-528FD71D9B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DDDC08-9F25-42E8-AB58-EB174E5E10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37F93A-1E70-42A3-BB12-B4A13E50A3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59888A-78FB-4713-8EA2-726435B4FF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26E23E-8B25-4E0B-BF8E-21AB390CEA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D1457-7ACF-4491-AA93-913F4B443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14FBD0-991A-4CCE-BA9D-5C118651A0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E5E5BE-65EB-4406-9C8C-D7FC7565B4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C52D4B-ED89-4136-963A-6BAE0DE64D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61F4DD-B51B-4597-8958-ED0D6EA137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101A90-4757-4CDA-891A-8B8C95F7A1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72096-99AC-483E-8167-571B83A8F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54A09-1396-458E-B696-5ED32D6CD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5BD67-E584-4FE4-B5C4-2E0A7849B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6F8EF-5E6C-41D6-93C0-ACD755F45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6C2B-9009-419C-AB84-273AB588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14D9E-D9E5-4509-B265-5907EAE69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F7E56-6F76-4555-B9F2-AA6842472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8A406-23D2-408F-BBE8-F389AAF5E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3CFF0-FD02-483C-A302-5B5A08FC5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AA616-3159-4F2D-8135-682BCF941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54A32-2100-4FCC-B301-A07695E47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2CB104-8588-4AD2-956B-9395216283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57CD1-2F9A-4F60-A2C6-0E33BEEC4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66F64-7C8A-4BFE-A337-AFF9CC75E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35266-88B5-4F64-A912-A06766B6B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DA376-4D3B-4EA2-ACCF-653F0F767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7CC5-3940-46A0-B534-43553EC7E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2F423-12EA-4CAC-90DA-277F2464C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FBE60-A145-4853-8217-C0C92F549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59ED4-7167-449C-B594-5D22CF7A3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FF787-5B82-46C6-9CD2-FE258C246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2F490-1A3D-4051-B224-BD27ACF13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69B61-2C99-4534-B637-0C1A461BB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D8E7A-AA28-4334-BC74-015C0CF558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B099C2-91AE-41AD-8ECA-0BF88C6638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467EF-D1B0-4C11-98F1-F3406C583D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D2344-C6C9-4EC6-8B56-70593E741D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0002-F968-4223-B0C0-E7B652D8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CA83D-BF96-4B5E-92BF-83B944F82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7EE57-A4CE-45D7-8ABB-C8A8B6E72C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E329D-21A4-4BC7-BFD9-97A00FFB2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2A4B3-BD58-4151-ABD8-AA9B2C79E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284F8-9D38-43C8-9894-E23CB982D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16FAE-5310-453F-95E7-A8C56D5FD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2A31D-86C2-4312-BD99-36AABA390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6C8BA-BFCE-4F85-A407-4176A469A5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CF4C56-F29B-49CA-B722-52BAEFA9B3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2E59BB-E966-4D6F-A091-CB670B652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8D4C7-A78D-4603-B0DF-C096D9C64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0FF77-EAB2-4B1F-9DB7-166A0136B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CCD6F-D303-4CF2-90F3-6465856AA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5B489-EA22-47CF-9B47-A76CFF52A8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996AAD-2438-451C-847B-B76F80ED0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CF593-B355-417A-BB45-7C9201B26E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32512F-BD21-40F2-9885-3A9B964D8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EFE37C-82D9-4A69-B6CB-D35076FB5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97848-ED1A-4C13-94A7-07CDCC892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2260B-BC5F-4BCF-8AAC-EEC0614BD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110D0A-30FE-46A1-8F1B-D8DD8150D5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E8FA1-8F9A-4B8B-9DBC-B12018035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17F5D5-FA75-4AD4-B97F-03B36C4B08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2A108-7952-4C9C-8903-C8EEE442DA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BED69-9D0D-4092-A95D-25512A755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E1E89-5A67-4DFF-88E3-278EF5A27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85225-CBFE-4DD4-85DC-DFFEF3383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5E977-6AA5-4C8A-9749-D806A67379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F762D-5B75-4334-BCFD-E1683A6B3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AA3BF0-E443-4B96-B9A7-395F43799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46468-46FD-4217-B271-77A7979F4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A1DA9-023E-4343-95D3-5BB381FDD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230C-5597-4BB7-B369-1174939A8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BD5CE6-E607-410D-90E9-9E1B6138CA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4C7514-2FB9-44ED-BC98-5326F04A33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13ABA6-30A9-40E8-8CE8-C56F24DDD6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FAC525-E1C7-43BF-8871-BD63AAD45B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745DC5-9FED-4C2E-90A4-0744A2511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BF202-BBB3-4FA3-9A36-1F6643C4B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A5A0D-5FA4-413C-97FA-820478DE5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947F5-1F7B-4100-A18E-D3E16A7FB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AF009-7DE8-4E14-A286-98639A4DB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6578D-E627-48D9-9141-A0A91A520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33E4-A6C2-4EB3-908E-5345CD265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A5156-C100-4759-A001-9882CFB2A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76C46-2E4D-418D-95EA-F3902D7D6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5A3197-C345-4864-8663-DDC477C99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EE5344-63B6-4911-B095-2569C9AF32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08AA8F-8965-4807-921D-EC1ED45BBC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F52CA1-BEA0-435E-9235-E15E173132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601AE-B835-42BD-8D83-64C4A7BFB7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D5E1D-2A20-4956-BF86-653336522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4C0307-2278-4DBA-82D3-DBC0ABE19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164D44-A2EE-4526-B8D1-DDAD5172C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B08D-8367-4E0E-9F9B-C9101C19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F30EC-F36A-4264-8A10-5E5EFD6474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02097-FA6E-4862-A58C-701D7DE58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E881A-CB45-43E9-8146-48E700DCA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99E87-D879-4BDB-B5C7-D3CC5B6FB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2C969C-9A9E-4668-AFE1-B681C85F69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A5933E-1DED-4CA7-A1CA-5A70A8308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CBF478-05CA-4DC8-9B5F-62C8529BA2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270A1B-FA4B-464F-B90B-FADAD9475D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17290-CB98-4358-A859-41EF79BBFA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59B8C-EE96-4FCB-8B3B-70DDE8A556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930F4B-86CE-4D57-A2DE-7EE4A85A2E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BE016C-79D0-4AC4-9295-18287682EF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705590-F2F2-4A04-BC22-44C3A1DD6A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3372192-C7E0-4E69-A80E-DD3D886B41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765DD7-411B-48C8-8F86-DE7741AEB5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3624188-9C02-4682-9914-2FAF50F21B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9E44E5-1B9D-42C3-8518-39C2329EA1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06B3C4-43D3-40AC-8A36-60579E4DDE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A4BDB54-F807-4795-B497-7851CDA7A5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461CB9-A746-41D0-9321-D69101078F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D10B93-49A0-4477-9E28-A05BFC7E26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5968EB5-9176-421F-B995-692DCA6A31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45FD0E-4C12-4600-8602-88FDAFF21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7, 2018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0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EE3760-B3FD-4408-8CA2-D3E30AAB0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 about the November 2018 plenary</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imeline review/update</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68r0:  </a:t>
            </a:r>
            <a:r>
              <a:rPr b="0" lang="en-US" sz="1800" spc="-1" strike="noStrike">
                <a:solidFill>
                  <a:srgbClr val="000000"/>
                </a:solidFill>
                <a:latin typeface="Times New Roman"/>
              </a:rPr>
              <a:t>Resolutions to CIDs related to TDD scheduling, channel access and power save -part 2</a:t>
            </a:r>
            <a:r>
              <a:rPr b="0" lang="en-US" sz="1800" spc="-1" strike="noStrike">
                <a:solidFill>
                  <a:srgbClr val="000000"/>
                </a:solidFill>
                <a:latin typeface="Times New Roman"/>
              </a:rPr>
              <a:t> </a:t>
            </a:r>
            <a:r>
              <a:rPr b="0" lang="en-US" sz="1700" spc="-1" strike="noStrike">
                <a:solidFill>
                  <a:srgbClr val="000000"/>
                </a:solidFill>
                <a:latin typeface="Times New Roman"/>
              </a:rPr>
              <a:t>(Cheng Che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1:  </a:t>
            </a:r>
            <a:r>
              <a:rPr b="0" lang="en-US" sz="1800" spc="-1" strike="noStrike">
                <a:solidFill>
                  <a:srgbClr val="000000"/>
                </a:solidFill>
                <a:latin typeface="Times New Roman"/>
              </a:rPr>
              <a:t>LB234 comment resolutions - PHY and BF II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llow-up on CIDs 3216, 3461, 3226, and 3229</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73r1:  </a:t>
            </a:r>
            <a:r>
              <a:rPr b="0" lang="en-US" sz="1800" spc="-1" strike="noStrike">
                <a:solidFill>
                  <a:srgbClr val="000000"/>
                </a:solidFill>
                <a:latin typeface="Times New Roman"/>
              </a:rPr>
              <a:t>Resolution of TXVECTOR comments of LB234 (Thomas Handte)</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llow-up on CID 3103</a:t>
            </a:r>
            <a:endParaRPr b="0" lang="en-US" sz="15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70A48B-4A0F-4DA2-8172-9EBA7EBE9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November 7,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07B87A7-B1A1-45D8-BC54-5DB943BFD2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4478FAA-593D-43AB-98CA-05CD199EC7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B78CDD-255B-43E8-8FCF-94907F437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561CA2-E759-4179-9ABF-7B10FE4AF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1239D25-EEE4-42F8-9B7F-BACC3CFF8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0C68FC-4B85-47F3-91DF-DCB513DD9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A240F4-4291-43CB-A3A0-038607C94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7 2018</cp:keywords>
  <dc:language>en-US</dc:language>
  <cp:lastModifiedBy>Edward Au</cp:lastModifiedBy>
  <cp:lastPrinted>2014-11-04T15:04:57Z</cp:lastPrinted>
  <dcterms:modified xsi:type="dcterms:W3CDTF">2018-11-06T23:28:16Z</dcterms:modified>
  <cp:revision>4266</cp:revision>
  <dc:subject>Task Group AY November 2015 Meeting Agenda</dc:subject>
  <dc:title>18/1792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