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B44E354-13C9-446F-875F-30F7C4786F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0188BB-0BE3-4E2A-8601-D1A3E3D5A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C8EF5B-754E-4D8D-A547-032E340CF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6DBEC5-A4D4-4E4D-B744-9314E0BAA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60A8A91-60DE-4A68-B413-E363574502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D3A3244-F378-4183-8C0C-15ED12655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DFBA1B5-2F66-4A98-AD8F-334B11CF1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BC0411-C51C-4B2E-8F55-850517DE8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AC6198-BE17-40EE-B116-49663A382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22F534-F359-4BEA-B260-C154D636A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A4394B-C829-42F6-911B-E8E77797C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A02BDD-8F97-4004-9EE1-4E529F0BA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4FFC3-78FD-4127-A1B2-A24858CC7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A3664-F3B3-4313-B16D-9421FE6D1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EF076-7F29-4DB9-B66E-B4BD2E4921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A279E-DD49-44A5-A28E-23E768F79A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6C398-8965-46FF-9331-41DCEAA7CD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3A4C2-7976-4E76-8CDC-35FDDF2A8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84B68-F36A-462F-87FC-5CBBC931A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84633D-C085-42CA-A022-D964D4F92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BCEFC3-A271-4F6A-B534-B31D704F2B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E6C153-B459-433B-9071-425DAE4EE2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8000C9-5A03-40A2-8B58-A2CB17C0EF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92C81F-0908-45E3-9AD3-29C085DBB2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C1B5A-7895-4F91-A707-A777A1EC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19A45F-B88A-49D5-BB05-84111F32AA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F9BBFD-6557-4176-9436-3927D61FF1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23C1A7-9146-4FAE-B0C9-3F5B9E005B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19F41C-4B91-4A3B-95AA-2F95B1D0B6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4AF8CF-E33D-4CA7-ACB3-534A18EAAE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4DBCFC-28D8-4F72-AB9E-6115842EC5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617B09-2C0C-41C7-A41A-B56EBC1493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023E16-A83E-4005-9C50-6180574D89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84EC48-AE1D-4CEC-9314-065FC96591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2852CE-BD7F-4DB0-B2B8-06E86721F1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D1A3B-3D09-4F1C-BBE2-A81E4DBC4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0B4897-B67D-4D32-93B2-6CC2B276C6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8AF513-E030-4311-9B3D-CA202C8E5B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6A9204-A0FB-465B-80FE-F702A9192C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75F46B-676F-4CFF-8AB7-5F499A9470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917CD0-604B-4220-8796-70432036F7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234B0F-7B1D-48F4-95B8-6A9249DD89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9D83A7-C0AC-446D-85EF-124E8C83B3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C993A5-2596-49D4-8DAD-DF31EDA9E8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33A9A1-603A-4049-A94B-B5388B9501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6B632B-0C2C-4E5C-9635-17CEABE65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805C4-8568-4FB2-9032-23CC11AC9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907E39-C672-4EDA-B9B1-80A6DD23E5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B0EAA0-8DB8-482C-A20B-8F112E62CE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5CD52A-B96E-4073-B090-B66D66D261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8CD4F5-B993-4AAE-A4D4-7416DE8343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B1E1D8-879B-4DFE-AA83-F28176CE3F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DC703D-3369-43B7-B734-3A335408F8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015C3F-2D0B-4F05-82BF-FD16882563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7F4C7F-EB05-434F-88FB-7D05F39117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65DD44-6568-4A30-9246-C7F1F10CA7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653BC5-B3E6-4F3A-81FB-8D4FCB5A54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F1E9E-0B64-4133-8E81-DEB241F7B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361FC9-F5CF-40C0-9A47-D6DBC65AD2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4D24BA-1D32-41ED-A664-FC9F45A164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D356A5-EC3F-4276-8637-BA889FD97E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3368EF-1D80-4601-8806-C9356BEB1A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ED9A2A-0CA5-4EEB-89E9-155381F9ED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008A-52BA-4822-8378-EEFF2EE3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E1836-D81C-4EB9-B03F-B4263DEA7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5917A-AC35-433A-9A9F-BC7FE703D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7AD02-1BF3-47E5-87ED-78119EDE4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5EAB-7AB2-43F6-BAC5-A9BE37878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FF1D7-2943-4FD1-B984-5041D56B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E60FD-2443-453B-8C1C-C5E8D4894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E93D-B150-4626-A455-E82AAC0CD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BCBAE-C38E-4B23-8F95-524AE2D02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4657D-233D-4C66-B22D-B79860214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676E4-2F3A-4893-9408-D38CE914A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A903DB-9659-4E7D-BA9F-29149E8FA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D1B34-7C41-4611-A8AE-8AF23A115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E81E6-92D9-4311-8C08-19A78254C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95C0B-8F40-4654-9C3B-F5674D224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377A2-E71A-4305-A47F-7F625780A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F5A9B-7E0F-4715-BB20-E524E2CA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00C49-0997-4FE2-A8EC-11515FDA1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EF816-63E2-4DD7-816C-49BCF3C3E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F9461-FD2A-46D6-AC61-0764F5A06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1B9C8-01A0-43CD-9E34-70B3DBD25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59023-708A-4609-A781-CFA3958C9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DE946-0F7C-4CBB-B620-EE99C6FD2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5B9F7-F9B3-47E7-96A4-F6738F0CE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F612BA-4EF5-4737-A0A1-DE301B686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3C80B-D881-4B17-BC4B-35F3FD081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B224E-E436-4121-8BF2-554C96918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ABD8-30D6-48B8-9318-E55FB509B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309A2-49E7-4494-9BEE-7D96A15C6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270A3-4E84-4DB8-A131-59EFBB668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01239-9286-4F1E-9D24-53A505DFB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F7DE0-8877-44AE-9091-AED317D37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2FCFC-849B-4BA0-9828-324DE0E75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1D6CD-8F26-4E12-9ED7-5718A3D0D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38FB7-1D63-48E0-905E-F3EBEEF0B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2A6142-FC61-4FBA-9E51-99BFB4C1E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84FCA-0CCF-419A-BED6-DC85D361A0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BF9E4-2178-4636-B2B6-18B91E44F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5596C-E417-4BC3-9A0D-E79A91A16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C4EFF-04DE-4EFE-B82D-BA51AFED87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FE58D-1B23-4686-AE21-CA12750B0D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BBFE2-FC8C-4418-9B5A-F54C26F8C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6200B-B673-41F9-932D-B2A58F9BD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2B69A-7986-4571-B686-8C81E6C24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A9FF7-C13E-4C13-BD02-F26CF96F7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55BAB-88CD-401F-B9F8-BEBE98FDF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5C675-6AEE-471B-8754-34C7DC5F0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BF08C-A917-4B9F-A76C-CDEFEF1E3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5A4E6-479F-4C33-8956-70114867D1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17BB-24C6-4E73-AACA-6BAB54F6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90E37-CB17-41CC-B330-F49E7A21EA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BA4809-8C50-46FA-8A18-90DBBE748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D90FE-F8AE-46AA-9B3F-A87EDDD88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09816-F92F-4ACA-B02D-C4A1B00FD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25E1B8-DC47-403D-92FA-A5DB97A0B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375D5-72E8-4C15-90CF-07510EB77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FE003-22A2-42E8-A318-FFDBE3841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21F78-C6C6-48FD-85E8-B66F54E89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68502-AFCE-45DE-B1A6-E6983E9E6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6B498-84B6-4B0D-8E98-38BD3ADE8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D8C3-08F7-4A52-87FF-633C15A4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A01E46-8FD5-4149-A2DE-F61D45530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CBCA24-0963-4CE5-B367-28748CBB98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6B4121-0126-4078-8189-2C160C63E2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71A9F5-33E2-47EC-870C-52EA92E93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5C446C-0B17-4CEC-BF2C-136A17886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26250-250C-4E29-A454-E59A7E143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62D8D-A737-4E0F-9B49-0787E3178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391CF4-35C1-4D17-9C17-AA56000B1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05B33-0F07-4DBC-A80F-6BAD5040C5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E88D1-040E-42B4-A299-BB7AC454A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FC37-D6CF-46C4-B3A2-D12DF7DD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48EDF-4BB7-4E10-BE9B-361BC99C6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8EAED-8423-4E0D-BC62-8B50236E9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D604B-3505-48EE-B3E3-5D7BBE58A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517EB5-4E35-474E-AC6C-DBFD05C84F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DE97AA-B115-40DA-AA0A-BFF98A42CF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DDBC2-738E-42EA-A921-B48178B9D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E3817-08C7-4DC4-8831-4C09D6A83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BDBE31-77BA-41A0-AB87-0553BD6ABA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7BDB6-CCBB-4244-9329-12D4E3529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D4CE9-78D1-460D-A11A-A13FDF57D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2B2C-0D5A-4654-A42B-62167D73B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C068A-23BB-4D59-B3B8-087AB0887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D2E58-A0F4-4A49-9E9B-CCBF7B83A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47845-E9F8-476D-8FF0-DE9B98BBF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186FF-1D98-47F8-A045-BE5F152E6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EA326-E1BB-415F-B674-8E929BF45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C9625E-40B0-4AEA-A7BC-C1778D4645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7BEAF3-FA44-4A52-A7BB-6920926C6B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577774-ADF8-41D7-86BD-9E633C3E5A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C8D6F5-374E-42B0-B254-03AD06A20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4A00A-258B-4E24-8B31-A3FD5A2516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DBCCE04-580F-472B-B976-1E634B0805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94DD6D3-F345-4454-9FFC-297EE1E5B8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44FEBA-145D-4F9D-8727-CC61700709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99809EE-279C-4639-AB35-B44CA1933A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6F07197-2328-4707-ABC0-0A6D978CD6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593FED7-24B3-4F23-8506-9AE0EC1BB3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8AD16CB-34DA-461C-85C6-C53269E316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8B74B4-22BE-49F2-A8F5-C06C067664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4C6AB5E-2BAB-4C08-AACA-40C20878BD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CB8D4B-7218-409D-8942-164B1F19E8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675B73-EB3A-484E-860D-02E8AED007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B0A01F-C702-4DD6-9680-395C94F01B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6ADED6-8A5E-430F-B6F4-7D87A924B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7,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0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B63977-7172-49AF-9071-EAF8328FB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in the November 2018 plenary</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8r0:  </a:t>
            </a:r>
            <a:r>
              <a:rPr b="0" lang="en-US" sz="1800" spc="-1" strike="noStrike">
                <a:solidFill>
                  <a:srgbClr val="000000"/>
                </a:solidFill>
                <a:latin typeface="Times New Roman"/>
              </a:rPr>
              <a:t>Resolutions to CIDs related to TDD scheduling, channel access and power save -part 2</a:t>
            </a:r>
            <a:r>
              <a:rPr b="0" lang="en-US" sz="1800" spc="-1" strike="noStrike">
                <a:solidFill>
                  <a:srgbClr val="000000"/>
                </a:solidFill>
                <a:latin typeface="Times New Roman"/>
              </a:rPr>
              <a:t> </a:t>
            </a:r>
            <a:r>
              <a:rPr b="0" lang="en-US" sz="1700" spc="-1" strike="noStrike">
                <a:solidFill>
                  <a:srgbClr val="000000"/>
                </a:solidFill>
                <a:latin typeface="Times New Roman"/>
              </a:rPr>
              <a:t>(Cheng Che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  </a:t>
            </a:r>
            <a:r>
              <a:rPr b="0" lang="en-US" sz="1800" spc="-1" strike="noStrike">
                <a:solidFill>
                  <a:srgbClr val="000000"/>
                </a:solidFill>
                <a:latin typeface="Times New Roman"/>
              </a:rPr>
              <a:t>LB234 comment resolutions - PHY and BF 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s 3216, 3461, 3226, and 3229</a:t>
            </a: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34BCC1-CA5F-4655-8F26-1D5BE5DCD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7,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B276767-BE1D-454F-9F40-EFC5A9CDB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568C326-8440-4D18-A5D6-7811F75FB1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E378BE-8354-4582-8A8D-FEBC78738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050455-0BF4-4C33-8751-CBC1A7F64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48DC75D-C50D-4620-BFE6-3E475F010F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68469B-1FD2-4A04-AEB0-21344F220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BC459A-1CF4-477F-BE78-729BBA633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7 2018</cp:keywords>
  <dc:language>en-US</dc:language>
  <cp:lastModifiedBy>Edward Au</cp:lastModifiedBy>
  <cp:lastPrinted>2014-11-04T15:04:57Z</cp:lastPrinted>
  <dcterms:modified xsi:type="dcterms:W3CDTF">2018-10-31T15:17:32Z</dcterms:modified>
  <cp:revision>4261</cp:revision>
  <dc:subject>Task Group AY November 2015 Meeting Agenda</dc:subject>
  <dc:title>18/1792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