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4532A45-BF7F-4B30-9854-D948E3E193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3D9C15-49AA-4DD7-9022-07C00B745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2CADC8-7D08-417A-BA8A-4FF67221E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AD6685-23CF-4C13-AAC9-391EC3D0B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0BDBF0A-0B09-4DEC-8488-40D497247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7680" y="696960"/>
            <a:ext cx="4640400" cy="3479760"/>
          </a:xfrm>
          <a:prstGeom prst="rect">
            <a:avLst/>
          </a:prstGeom>
          <a:ln w="0">
            <a:noFill/>
          </a:ln>
        </p:spPr>
      </p:sp>
      <p:sp>
        <p:nvSpPr>
          <p:cNvPr id="6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2B64834-1B5B-4BC3-881A-033447317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2CED5AB-BA6B-4BD9-B674-8726A7B10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8FA0D7F-E192-4E4D-AC71-D72DEAA15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C336DA-5ED9-433D-B595-B49421C28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430D98-22C4-4FF4-A737-6AB49F23E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4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3F5EA9-A79E-46F7-A990-5ADE43183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7FFA02-BEA1-4863-80E8-F2354DCC5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733A8-5634-4EDF-9492-4B1F0E98F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B571E-B9AF-4717-9A0F-63197340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A346C-FD63-49FA-A100-7C6E82162F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7A51C0-E1A2-4555-A6D6-0926BFD692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2722AF-BAF3-487C-B0D0-C46B75FA75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90C1DC-592F-447F-9532-93A832427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9235A-0969-423A-8A28-91C72F45F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890C23-E1E8-4057-A8A1-215F5E26E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F1D771-A751-4DBC-8813-1893A2147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212715-0919-4723-A34A-9F0F1E5FD7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C0E7D2-F9F2-4552-AA82-66FB57452E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BECB13-93BF-4743-9119-A347B6861C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876D8-8EE6-4A18-ADD9-F9B16FA9D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5062BB-3F1A-4A9B-AD5F-BF9854AD4A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D0EB22-FA9C-4D54-9AE7-1733996DEC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083490-666C-42C9-ACED-A0A68BF6D9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521363-BA8D-4412-A5A9-F5EF908C2D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377211-A5E5-474E-9BE9-1D9EE1E519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173492-F442-4EB8-A3AE-6363039F3B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B87586-4A07-4170-AF41-66259315A2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FB12D2-35CE-43DB-93AB-5B634E6098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F792E1-1667-4F89-BC2D-05CCAA241D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6FF216-88C4-4A02-9BE9-DC841E4B59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AF38A-B029-4B9E-8EE7-A176134DC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7EF577-5A60-4901-B513-A1456885D1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FD12F0-DCD5-41D1-8EAA-C3A8A59F71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9BED98-84FB-439A-8BCB-9983CE56F1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CAEFEF-54F6-4B04-B67C-1374108090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5DBF95-B0DB-48C7-98E7-E73136D9C4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AF0B2C-A695-4DF8-B55B-428539268D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37C9CB-7CBB-4EDD-87BA-10D1B14441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BC2D13-EBB3-4732-94ED-0AD264DFAB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363585-9410-4D44-8C59-A6A77E3EA5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865612-79EE-4DAB-92B5-B9E378FC9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5472C-1EEB-4C3C-80F2-5B2D2DD56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117EDC-103C-4C2D-8B2B-B68E4B6743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A56F50-794B-4292-88AA-76753DFAA9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3D2B6A-F738-43E5-8295-62EA41F9AA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0A64FE-4949-4203-B15C-CA4CC9F399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010321-FC21-4D49-AED0-E1BCBACE13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37BF88-2364-4479-9F8E-538F170885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2A8BB7-4492-4674-BC7C-5431238AB8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7886B0-DCC0-4D2B-9E63-2CE396B4B8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C97DF6-3D70-4820-B418-DC0FCC50FB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6750EA-0B6A-4509-8235-7AA8B4855F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13E1A-A7F2-47F5-963C-436144309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64C97-44EF-4E36-8E17-DA72D1EF16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19B587-5663-4F87-8F6D-B767DC4A97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6B474A-5E1F-4F38-9146-E547430403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4F324A-4951-456D-ACC5-AA01838A5C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930177-FDDA-4922-AF27-B6BCD4F5FE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947A4-B365-4917-A3E8-82206312B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2C32D-7821-412A-8278-DB3211EF5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9D884-F057-4E8A-9D2B-4580455A2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FB7F2-A373-4E61-BC69-07CBD476C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3B07E-8F40-4B1A-AB27-8F1FAEB1F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9F43B-1DBD-4060-917B-1981859C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9F97-C3A1-4FCA-9465-825F60963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82D0E-2771-46C9-A4B3-4F3ADA9D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4C4F8-8C60-410A-8635-A7F5D5BA3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57821-03EA-49D4-B9F8-76EF3D181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45E60-E9F0-4FB7-B0C5-F98216827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5C01B7-4E2E-46A5-9143-FDA062D474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84E9F-BA78-4C2D-B2E4-A6C6053AE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63130-ED28-4E54-81DF-4156A6127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78246-FCE5-473C-994F-A13ABC674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257DC-028D-4DF4-9FB5-D348CFAC2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E887-B027-426D-B1F9-13ECF5D34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D64EC-A3F8-4689-A43F-7BCCC5CB4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0D07F-7E80-4724-B92A-F651CC863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00444-7593-4CC4-AD7C-14500E9B7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E5B77-4945-4CD7-910C-E392D006A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1EA50-646A-4E00-9051-614C4F197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CE57B8-4EC5-4DED-B611-7E25A8C341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205FD-CA73-4EC1-A5FB-38E9D57BD9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C9FBB9-FF30-426B-9CF9-B6CD7270F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A3E41B-8732-4318-BA36-D43CA558F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485EA-CE96-4F3E-B7E8-22CCA7F6B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5EBD7-55AC-4069-A557-8E201853B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C69C3-F4D5-43FE-9A23-FAA084EA9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9AB19-FFBD-4428-AD53-03D8CB3B5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0C9A8-5992-4D84-9C62-C0A82048C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83118-EAA6-4CB7-9943-C5B7A99D8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96E60-F84F-4922-8684-27CA2FDB5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3388C-203E-4550-83E6-BDAA20408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61E2D-38D6-446D-A3CF-C97DBED5E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D1B00D-D36B-4F01-AA58-8BC4E36EF2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1D0458-C5F4-489E-AAE0-95C585091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1C3F0C-C18D-4A44-A7B7-E5D8218BEC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61A6-5B90-4E5A-A60B-ADB3EBCE5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3F782C-862C-4C11-A637-DC2E4BD12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B31270-2927-49CC-A06D-D01258675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16776-96F9-4E20-BD62-632649422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A551A-3D85-45EC-8253-018CFFCE9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F50BD-E2DC-41AB-A201-6CBA9E971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41B61-17FB-4B12-AA69-07BBEB701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32145-2D93-4983-BAF3-C608D1DED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C0C1D-FB14-45B8-AD01-3B5B9037F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D946C-F6D9-4BA9-8B84-C22C10D84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FE0021-4BF7-41E4-99D3-06A6DBCC4A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5B3C-84D1-48ED-9CB3-EBF91B82A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A8CD1-FDE2-454E-85E0-556B90C8CE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858563-9015-4F58-8D97-CA422A8F8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4B6F26-A90A-486B-8285-3A6F5CE4C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D017A-141A-4D02-AD2F-BA10A0C73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BBFD7C-A6FB-4D4B-BBF9-966FED197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136E1-2187-47FC-8132-4E096667C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61D9E-9DF0-46A8-BB8F-B3F27FE96E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BB8EE-5E64-4430-958C-5C34EDF30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6FD46-2AEF-4908-AA3B-6E86A8000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8DD3B-DE8C-4F91-A1BA-E72D7E1A7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F375D-068F-4E50-971C-479DF728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8D2DF7-065E-441F-AE19-18F6EA15E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C5ACB-B93E-4B89-9463-0B900588DF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BA750F-1E33-41C9-997C-72D6F8F168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89C921-B86A-40B1-A7FC-624A509D6C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C6AFC-AFA2-4658-A8AB-AD5D11EB51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26D82-817D-47C2-9A82-CC9D1CF48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F28B08-4D72-4CCF-9F28-903FC76B6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4F5F4-E476-4F1F-A6AA-02CC6E0B3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19CD05-0A95-4CFC-B882-D59A717985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F8CAE-8FE7-4407-B2D8-9054E43C6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C207-D56B-485A-BE77-AAFE8E04C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D6D4B-0716-483A-AADF-F869D2CDFC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F22D8-FB84-406E-93D5-E0B308791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BD642F-FAEF-408E-82C3-CDEF348D99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DB4328-9BDE-4D4D-8DAB-E1F65C86D2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8C4BDA-25CA-4284-8EB1-9D90ECD4AA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721541-2AE2-4D3E-A971-D861C0B1E4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CFEE6-F6C2-45FE-A956-300738276D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C2CFB3-A54E-4114-88E9-08708F931E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5BD00-8BA5-4F87-A474-2A7D55645A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53498-10DA-4528-BA30-053E065FB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D8EE-BB80-4195-BF19-F05334529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1A8BDE-4332-4659-9A29-38BAFE83C3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A6E1F-DF3F-4B80-8B35-FCA2163F5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1FA1A-48E7-47EF-A335-C1725E4ED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608DD-4530-43C6-8E62-EB744A854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15649-C43D-4FA3-A634-77080DEA1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170DC9-2679-48F2-863D-F82EF270E5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0B9D08-8F45-4F1C-A6FA-DE2230909E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14C1F6-411F-4DAD-BA04-1875E8912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55AACB-BACE-4A43-9D18-744EF1EE9A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E19AF-9399-4BB1-9969-68303583E9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32E650-AEBD-4257-B6CA-FF960DCF4E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1AA7C9B-2AE5-464A-B10C-559BD2D6FA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1D9162A-A7BF-437C-90ED-02332B7D43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584AE8F-FABE-43AE-AF17-6B9D66CFA3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D79F11-9FAD-46B8-AFB2-DDE0BA96EF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0521606-A2C1-46DE-8567-35A47AF492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51F711E-2C46-4AA2-B1F7-07CD4B604C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BE8F63-D085-4C44-9C0B-887519351A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1EF8125-759A-4AC4-8542-B1923C2FD3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1ABBD6A-F88A-41FE-83F8-7E3C6FB23E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23E45B-90BD-482E-B3F1-300867EF80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E0BD042-87FC-4916-A0A8-86E7948129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FBCA32-293A-4ACE-9DCA-5CEF21B4E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7, 2018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0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EC5743-3502-4B11-AFD9-5D79D7585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 in the November 2018 plenary</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68r0:  </a:t>
            </a:r>
            <a:r>
              <a:rPr b="0" lang="en-US" sz="1800" spc="-1" strike="noStrike">
                <a:solidFill>
                  <a:srgbClr val="000000"/>
                </a:solidFill>
                <a:latin typeface="Times New Roman"/>
              </a:rPr>
              <a:t>Resolutions to CIDs related to TDD scheduling, channel access and power save -part 2</a:t>
            </a:r>
            <a:r>
              <a:rPr b="0" lang="en-US" sz="1800" spc="-1" strike="noStrike">
                <a:solidFill>
                  <a:srgbClr val="000000"/>
                </a:solidFill>
                <a:latin typeface="Times New Roman"/>
              </a:rPr>
              <a:t> </a:t>
            </a:r>
            <a:r>
              <a:rPr b="0" lang="en-US" sz="1700" spc="-1" strike="noStrike">
                <a:solidFill>
                  <a:srgbClr val="000000"/>
                </a:solidFill>
                <a:latin typeface="Times New Roman"/>
              </a:rPr>
              <a:t>(Cheng Che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0:  </a:t>
            </a:r>
            <a:r>
              <a:rPr b="0" lang="en-US" sz="1800" spc="-1" strike="noStrike">
                <a:solidFill>
                  <a:srgbClr val="000000"/>
                </a:solidFill>
                <a:latin typeface="Times New Roman"/>
              </a:rPr>
              <a:t>LB234 comment resolutions - PHY and BF II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llow-up on CIDs 3216, 3461, 3226, and 3229</a:t>
            </a: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FB5649-BB70-46A9-8D40-BEAFB8523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November 7,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4A527DD-B923-44EC-8435-D178F3B00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3D141F3-2F61-47A3-9290-91220E2C5D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8E12AD-7E7F-4647-BFF4-FC3FA9481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AFF457-033E-4FFB-804A-D470543CB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54E109F-4007-43F5-932C-3B15100B7E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D48D76-B2E9-448D-9EF1-3064EC56C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E81B65-F42C-4952-ACC6-1AC8E0C16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7 2018</cp:keywords>
  <dc:language>en-US</dc:language>
  <cp:lastModifiedBy>Edward Au</cp:lastModifiedBy>
  <cp:lastPrinted>2014-11-04T15:04:57Z</cp:lastPrinted>
  <dcterms:modified xsi:type="dcterms:W3CDTF">2018-10-31T15:17:32Z</dcterms:modified>
  <cp:revision>4261</cp:revision>
  <dc:subject>Task Group AY November 2015 Meeting Agenda</dc:subject>
  <dc:title>18/1792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