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774247D0-144F-4BD4-8493-A3A9B14010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00493D-B427-4F49-88D6-8CDF06436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54160" y="701640"/>
            <a:ext cx="4626000" cy="3468600"/>
          </a:xfrm>
          <a:prstGeom prst="rect">
            <a:avLst/>
          </a:prstGeom>
          <a:ln w="0">
            <a:noFill/>
          </a:ln>
        </p:spPr>
      </p:sp>
      <p:sp>
        <p:nvSpPr>
          <p:cNvPr id="8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07CDA1-C04E-47DF-9419-27CCD69C1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8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9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9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8EBF25-F154-4893-B808-11D3FA12D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54160" y="701640"/>
            <a:ext cx="4626000" cy="3468600"/>
          </a:xfrm>
          <a:prstGeom prst="rect">
            <a:avLst/>
          </a:prstGeom>
          <a:ln w="0">
            <a:noFill/>
          </a:ln>
        </p:spPr>
      </p:sp>
      <p:sp>
        <p:nvSpPr>
          <p:cNvPr id="8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35ABCB-601C-4B21-9C81-A96393EFA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9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0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0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7ED09E-45E9-437E-8487-BDF474F8E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54160" y="701640"/>
            <a:ext cx="4626000" cy="3468600"/>
          </a:xfrm>
          <a:prstGeom prst="rect">
            <a:avLst/>
          </a:prstGeom>
          <a:ln w="0">
            <a:noFill/>
          </a:ln>
        </p:spPr>
      </p:sp>
      <p:sp>
        <p:nvSpPr>
          <p:cNvPr id="9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0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06"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0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882E73-2AD2-4048-86E5-0D608E7BD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54160" y="701640"/>
            <a:ext cx="4626000" cy="3468600"/>
          </a:xfrm>
          <a:prstGeom prst="rect">
            <a:avLst/>
          </a:prstGeom>
          <a:ln w="0">
            <a:noFill/>
          </a:ln>
        </p:spPr>
      </p:sp>
      <p:sp>
        <p:nvSpPr>
          <p:cNvPr id="9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8DF914-ACF2-4A4E-AE0A-957ECB081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D49067-0F0D-428E-B549-271410EB2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1154160" y="701640"/>
            <a:ext cx="4626000" cy="3468600"/>
          </a:xfrm>
          <a:prstGeom prst="rect">
            <a:avLst/>
          </a:prstGeom>
          <a:ln w="0">
            <a:noFill/>
          </a:ln>
        </p:spPr>
      </p:sp>
      <p:sp>
        <p:nvSpPr>
          <p:cNvPr id="9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54160" y="701640"/>
            <a:ext cx="4626000" cy="3468600"/>
          </a:xfrm>
          <a:prstGeom prst="rect">
            <a:avLst/>
          </a:prstGeom>
          <a:ln w="0">
            <a:noFill/>
          </a:ln>
        </p:spPr>
      </p:sp>
      <p:sp>
        <p:nvSpPr>
          <p:cNvPr id="9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5C5955-DBF9-44A9-B48C-8DC4BB1D0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54160" y="701640"/>
            <a:ext cx="4626000" cy="3468600"/>
          </a:xfrm>
          <a:prstGeom prst="rect">
            <a:avLst/>
          </a:prstGeom>
          <a:ln w="0">
            <a:noFill/>
          </a:ln>
        </p:spPr>
      </p:sp>
      <p:sp>
        <p:nvSpPr>
          <p:cNvPr id="9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C67712-DFFE-4A94-8C4D-7B178EFB5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54160" y="701640"/>
            <a:ext cx="4626000" cy="3468600"/>
          </a:xfrm>
          <a:prstGeom prst="rect">
            <a:avLst/>
          </a:prstGeom>
          <a:ln w="0">
            <a:noFill/>
          </a:ln>
        </p:spPr>
      </p:sp>
      <p:sp>
        <p:nvSpPr>
          <p:cNvPr id="9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4D6476-8E36-4AAB-95F9-D467ED3DE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54160" y="701640"/>
            <a:ext cx="4626000" cy="3468600"/>
          </a:xfrm>
          <a:prstGeom prst="rect">
            <a:avLst/>
          </a:prstGeom>
          <a:ln w="0">
            <a:noFill/>
          </a:ln>
        </p:spPr>
      </p:sp>
      <p:sp>
        <p:nvSpPr>
          <p:cNvPr id="9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ED1D7A-390E-4349-A715-A8239B5BF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54160" y="701640"/>
            <a:ext cx="4626000" cy="3468600"/>
          </a:xfrm>
          <a:prstGeom prst="rect">
            <a:avLst/>
          </a:prstGeom>
          <a:ln w="0">
            <a:noFill/>
          </a:ln>
        </p:spPr>
      </p:sp>
      <p:sp>
        <p:nvSpPr>
          <p:cNvPr id="9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D94FE9-1557-4B80-9193-1E872AB1F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4160" y="701640"/>
            <a:ext cx="4626000" cy="3468600"/>
          </a:xfrm>
          <a:prstGeom prst="rect">
            <a:avLst/>
          </a:prstGeom>
          <a:ln w="0">
            <a:noFill/>
          </a:ln>
        </p:spPr>
      </p:sp>
      <p:sp>
        <p:nvSpPr>
          <p:cNvPr id="8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DA0EE1-BB7E-431D-824A-EFBE93A67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54160" y="701640"/>
            <a:ext cx="4626000" cy="3468600"/>
          </a:xfrm>
          <a:prstGeom prst="rect">
            <a:avLst/>
          </a:prstGeom>
          <a:ln w="0">
            <a:noFill/>
          </a:ln>
        </p:spPr>
      </p:sp>
      <p:sp>
        <p:nvSpPr>
          <p:cNvPr id="9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4AAFB8-18E6-46AD-AFAC-D8B314BAA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54160" y="701640"/>
            <a:ext cx="4626000" cy="3468600"/>
          </a:xfrm>
          <a:prstGeom prst="rect">
            <a:avLst/>
          </a:prstGeom>
          <a:ln w="0">
            <a:noFill/>
          </a:ln>
        </p:spPr>
      </p:sp>
      <p:sp>
        <p:nvSpPr>
          <p:cNvPr id="9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D27636-E720-4B61-8F0D-387D8AED5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54160" y="701640"/>
            <a:ext cx="4626000" cy="3468600"/>
          </a:xfrm>
          <a:prstGeom prst="rect">
            <a:avLst/>
          </a:prstGeom>
          <a:ln w="0">
            <a:noFill/>
          </a:ln>
        </p:spPr>
      </p:sp>
      <p:sp>
        <p:nvSpPr>
          <p:cNvPr id="9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299B29-76DB-4326-B290-9B387C669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54160" y="701640"/>
            <a:ext cx="4626000" cy="3468600"/>
          </a:xfrm>
          <a:prstGeom prst="rect">
            <a:avLst/>
          </a:prstGeom>
          <a:ln w="0">
            <a:noFill/>
          </a:ln>
        </p:spPr>
      </p:sp>
      <p:sp>
        <p:nvSpPr>
          <p:cNvPr id="9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E62DC1-060B-4CF8-9258-44955479A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4160" y="701640"/>
            <a:ext cx="4626000" cy="3468600"/>
          </a:xfrm>
          <a:prstGeom prst="rect">
            <a:avLst/>
          </a:prstGeom>
          <a:ln w="0">
            <a:noFill/>
          </a:ln>
        </p:spPr>
      </p:sp>
      <p:sp>
        <p:nvSpPr>
          <p:cNvPr id="9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2E4021-6DB0-4106-B957-4F716D166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54160" y="701640"/>
            <a:ext cx="4626000" cy="3468600"/>
          </a:xfrm>
          <a:prstGeom prst="rect">
            <a:avLst/>
          </a:prstGeom>
          <a:ln w="0">
            <a:noFill/>
          </a:ln>
        </p:spPr>
      </p:sp>
      <p:sp>
        <p:nvSpPr>
          <p:cNvPr id="9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7455E0-071C-4073-84BF-831FFE88E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54160" y="701640"/>
            <a:ext cx="4626000" cy="3468600"/>
          </a:xfrm>
          <a:prstGeom prst="rect">
            <a:avLst/>
          </a:prstGeom>
          <a:ln w="0">
            <a:noFill/>
          </a:ln>
        </p:spPr>
      </p:sp>
      <p:sp>
        <p:nvSpPr>
          <p:cNvPr id="9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4C132D-BFB4-4D59-9C59-FD0148157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54160" y="701640"/>
            <a:ext cx="4626000" cy="3468600"/>
          </a:xfrm>
          <a:prstGeom prst="rect">
            <a:avLst/>
          </a:prstGeom>
          <a:ln w="0">
            <a:noFill/>
          </a:ln>
        </p:spPr>
      </p:sp>
      <p:sp>
        <p:nvSpPr>
          <p:cNvPr id="9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7690BC-BD05-45A8-AC57-57F8857AF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54160" y="701640"/>
            <a:ext cx="4626000" cy="3468600"/>
          </a:xfrm>
          <a:prstGeom prst="rect">
            <a:avLst/>
          </a:prstGeom>
          <a:ln w="0">
            <a:noFill/>
          </a:ln>
        </p:spPr>
      </p:sp>
      <p:sp>
        <p:nvSpPr>
          <p:cNvPr id="10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7D98EC-9FFE-4BE2-9E93-CCE525422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AE94AB-BAA5-4B73-983B-005B5A329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1154160" y="701640"/>
            <a:ext cx="4626000" cy="3468600"/>
          </a:xfrm>
          <a:prstGeom prst="rect">
            <a:avLst/>
          </a:prstGeom>
          <a:ln w="0">
            <a:noFill/>
          </a:ln>
        </p:spPr>
      </p:sp>
      <p:sp>
        <p:nvSpPr>
          <p:cNvPr id="10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07142E-54B9-4D7C-B62F-F9BC549DA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PlaceHolder 1"/>
          <p:cNvSpPr>
            <a:spLocks noGrp="1"/>
          </p:cNvSpPr>
          <p:nvPr>
            <p:ph type="sldImg"/>
          </p:nvPr>
        </p:nvSpPr>
        <p:spPr>
          <a:xfrm>
            <a:off x="1154160" y="701640"/>
            <a:ext cx="4626000" cy="3468600"/>
          </a:xfrm>
          <a:prstGeom prst="rect">
            <a:avLst/>
          </a:prstGeom>
          <a:ln w="0">
            <a:noFill/>
          </a:ln>
        </p:spPr>
      </p:sp>
      <p:sp>
        <p:nvSpPr>
          <p:cNvPr id="8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54160" y="701640"/>
            <a:ext cx="4626000" cy="3468600"/>
          </a:xfrm>
          <a:prstGeom prst="rect">
            <a:avLst/>
          </a:prstGeom>
          <a:ln w="0">
            <a:noFill/>
          </a:ln>
        </p:spPr>
      </p:sp>
      <p:sp>
        <p:nvSpPr>
          <p:cNvPr id="10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8F0871-11B8-4243-9F13-6E8B20DAE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54160" y="701640"/>
            <a:ext cx="4626000" cy="3468600"/>
          </a:xfrm>
          <a:prstGeom prst="rect">
            <a:avLst/>
          </a:prstGeom>
          <a:ln w="0">
            <a:noFill/>
          </a:ln>
        </p:spPr>
      </p:sp>
      <p:sp>
        <p:nvSpPr>
          <p:cNvPr id="10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FEF6BD-8823-4C9F-8832-98DE1A404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54160" y="701640"/>
            <a:ext cx="4626000" cy="3468600"/>
          </a:xfrm>
          <a:prstGeom prst="rect">
            <a:avLst/>
          </a:prstGeom>
          <a:ln w="0">
            <a:noFill/>
          </a:ln>
        </p:spPr>
      </p:sp>
      <p:sp>
        <p:nvSpPr>
          <p:cNvPr id="10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2202BB-9547-45DD-924E-D1CBF05E4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54160" y="701640"/>
            <a:ext cx="4626000" cy="3468600"/>
          </a:xfrm>
          <a:prstGeom prst="rect">
            <a:avLst/>
          </a:prstGeom>
          <a:ln w="0">
            <a:noFill/>
          </a:ln>
        </p:spPr>
      </p:sp>
      <p:sp>
        <p:nvSpPr>
          <p:cNvPr id="10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27E763-2530-4430-AE8C-986C7EFDC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0AF089-BFD7-44D9-81B7-5AC669E4C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730133-64CA-4176-808E-E5E939102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54160" y="701640"/>
            <a:ext cx="4626000" cy="3468600"/>
          </a:xfrm>
          <a:prstGeom prst="rect">
            <a:avLst/>
          </a:prstGeom>
          <a:ln w="0">
            <a:noFill/>
          </a:ln>
        </p:spPr>
      </p:sp>
      <p:sp>
        <p:nvSpPr>
          <p:cNvPr id="10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06C989-0F41-4098-BCDE-7E25240A8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54160" y="701640"/>
            <a:ext cx="4626000" cy="3468600"/>
          </a:xfrm>
          <a:prstGeom prst="rect">
            <a:avLst/>
          </a:prstGeom>
          <a:ln w="0">
            <a:noFill/>
          </a:ln>
        </p:spPr>
      </p:sp>
      <p:sp>
        <p:nvSpPr>
          <p:cNvPr id="10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1E61E3-7544-434C-97C1-F8A618FB7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54160" y="701640"/>
            <a:ext cx="4626000" cy="3468600"/>
          </a:xfrm>
          <a:prstGeom prst="rect">
            <a:avLst/>
          </a:prstGeom>
          <a:ln w="0">
            <a:noFill/>
          </a:ln>
        </p:spPr>
      </p:sp>
      <p:sp>
        <p:nvSpPr>
          <p:cNvPr id="10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F993A7-EAE8-41A1-A997-9F1626EB6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AFCDB97-2C6A-449D-831A-C318C5E868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47680" y="696960"/>
            <a:ext cx="4640400" cy="3479760"/>
          </a:xfrm>
          <a:prstGeom prst="rect">
            <a:avLst/>
          </a:prstGeom>
          <a:ln w="0">
            <a:noFill/>
          </a:ln>
        </p:spPr>
      </p:sp>
      <p:sp>
        <p:nvSpPr>
          <p:cNvPr id="85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54160" y="701640"/>
            <a:ext cx="4626000" cy="3468600"/>
          </a:xfrm>
          <a:prstGeom prst="rect">
            <a:avLst/>
          </a:prstGeom>
          <a:ln w="0">
            <a:noFill/>
          </a:ln>
        </p:spPr>
      </p:sp>
      <p:sp>
        <p:nvSpPr>
          <p:cNvPr id="10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C6AFEB-5C7E-419E-BDD0-B9AB215D9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AF3403-172B-45B0-AA74-83274ECA3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99A51B-1186-4558-A196-E39983D26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1154160" y="701640"/>
            <a:ext cx="4626000" cy="3468600"/>
          </a:xfrm>
          <a:prstGeom prst="rect">
            <a:avLst/>
          </a:prstGeom>
          <a:ln w="0">
            <a:noFill/>
          </a:ln>
        </p:spPr>
      </p:sp>
      <p:sp>
        <p:nvSpPr>
          <p:cNvPr id="10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8FEB88-DEC6-4617-B59A-464F1C98E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54160" y="701640"/>
            <a:ext cx="4626000" cy="3468600"/>
          </a:xfrm>
          <a:prstGeom prst="rect">
            <a:avLst/>
          </a:prstGeom>
          <a:ln w="0">
            <a:noFill/>
          </a:ln>
        </p:spPr>
      </p:sp>
      <p:sp>
        <p:nvSpPr>
          <p:cNvPr id="10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4EED3D-204B-4395-9092-64DF2C22B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9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FE8B8D-D297-4B01-98FD-805D15083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1154160" y="701640"/>
            <a:ext cx="4626000" cy="3468600"/>
          </a:xfrm>
          <a:prstGeom prst="rect">
            <a:avLst/>
          </a:prstGeom>
          <a:ln w="0">
            <a:noFill/>
          </a:ln>
        </p:spPr>
      </p:sp>
      <p:sp>
        <p:nvSpPr>
          <p:cNvPr id="1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4160" y="701640"/>
            <a:ext cx="4626000" cy="3468600"/>
          </a:xfrm>
          <a:prstGeom prst="rect">
            <a:avLst/>
          </a:prstGeom>
          <a:ln w="0">
            <a:noFill/>
          </a:ln>
        </p:spPr>
      </p:sp>
      <p:sp>
        <p:nvSpPr>
          <p:cNvPr id="11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1B17B0-4DAA-4DC5-AC22-9ACF2DEC2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54160" y="701640"/>
            <a:ext cx="4626000" cy="3468600"/>
          </a:xfrm>
          <a:prstGeom prst="rect">
            <a:avLst/>
          </a:prstGeom>
          <a:ln w="0">
            <a:noFill/>
          </a:ln>
        </p:spPr>
      </p:sp>
      <p:sp>
        <p:nvSpPr>
          <p:cNvPr id="11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E306B1-C6E7-429C-B422-06B0AFD4B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BB4484-B536-4866-8D47-D41450911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1154160" y="701640"/>
            <a:ext cx="4626000" cy="3468600"/>
          </a:xfrm>
          <a:prstGeom prst="rect">
            <a:avLst/>
          </a:prstGeom>
          <a:ln w="0">
            <a:noFill/>
          </a:ln>
        </p:spPr>
      </p:sp>
      <p:sp>
        <p:nvSpPr>
          <p:cNvPr id="11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54160" y="701640"/>
            <a:ext cx="4626000" cy="3468600"/>
          </a:xfrm>
          <a:prstGeom prst="rect">
            <a:avLst/>
          </a:prstGeom>
          <a:ln w="0">
            <a:noFill/>
          </a:ln>
        </p:spPr>
      </p:sp>
      <p:sp>
        <p:nvSpPr>
          <p:cNvPr id="11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D54C19-5137-4C8B-BC70-53FA24384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51541F6-7833-4632-982F-832E51312A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PlaceHolder 1"/>
          <p:cNvSpPr>
            <a:spLocks noGrp="1"/>
          </p:cNvSpPr>
          <p:nvPr>
            <p:ph type="sldImg"/>
          </p:nvPr>
        </p:nvSpPr>
        <p:spPr>
          <a:xfrm>
            <a:off x="1147680" y="696960"/>
            <a:ext cx="4640400" cy="3479760"/>
          </a:xfrm>
          <a:prstGeom prst="rect">
            <a:avLst/>
          </a:prstGeom>
          <a:ln w="0">
            <a:noFill/>
          </a:ln>
        </p:spPr>
      </p:sp>
      <p:sp>
        <p:nvSpPr>
          <p:cNvPr id="86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54160" y="701640"/>
            <a:ext cx="4626000" cy="3468600"/>
          </a:xfrm>
          <a:prstGeom prst="rect">
            <a:avLst/>
          </a:prstGeom>
          <a:ln w="0">
            <a:noFill/>
          </a:ln>
        </p:spPr>
      </p:sp>
      <p:sp>
        <p:nvSpPr>
          <p:cNvPr id="11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37F947-307D-4439-98A0-5C64BB8D9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3D4C2D-B918-409E-B904-F4F3DA4F3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PlaceHolder 1"/>
          <p:cNvSpPr>
            <a:spLocks noGrp="1"/>
          </p:cNvSpPr>
          <p:nvPr>
            <p:ph type="sldImg"/>
          </p:nvPr>
        </p:nvSpPr>
        <p:spPr>
          <a:xfrm>
            <a:off x="1154160" y="701640"/>
            <a:ext cx="4626000" cy="3468600"/>
          </a:xfrm>
          <a:prstGeom prst="rect">
            <a:avLst/>
          </a:prstGeom>
          <a:ln w="0">
            <a:noFill/>
          </a:ln>
        </p:spPr>
      </p:sp>
      <p:sp>
        <p:nvSpPr>
          <p:cNvPr id="11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54160" y="701640"/>
            <a:ext cx="4626000" cy="3468600"/>
          </a:xfrm>
          <a:prstGeom prst="rect">
            <a:avLst/>
          </a:prstGeom>
          <a:ln w="0">
            <a:noFill/>
          </a:ln>
        </p:spPr>
      </p:sp>
      <p:sp>
        <p:nvSpPr>
          <p:cNvPr id="11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047F68-9A94-49D7-9B0E-7A06251C8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54160" y="701640"/>
            <a:ext cx="4626000" cy="3468600"/>
          </a:xfrm>
          <a:prstGeom prst="rect">
            <a:avLst/>
          </a:prstGeom>
          <a:ln w="0">
            <a:noFill/>
          </a:ln>
        </p:spPr>
      </p:sp>
      <p:sp>
        <p:nvSpPr>
          <p:cNvPr id="1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0B24C8-4E6F-4A05-936A-A5576E67F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536ABD-280F-4E87-84C7-F7AF83585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PlaceHolder 1"/>
          <p:cNvSpPr>
            <a:spLocks noGrp="1"/>
          </p:cNvSpPr>
          <p:nvPr>
            <p:ph type="sldImg"/>
          </p:nvPr>
        </p:nvSpPr>
        <p:spPr>
          <a:xfrm>
            <a:off x="1154160" y="701640"/>
            <a:ext cx="4626000" cy="3468600"/>
          </a:xfrm>
          <a:prstGeom prst="rect">
            <a:avLst/>
          </a:prstGeom>
          <a:ln w="0">
            <a:noFill/>
          </a:ln>
        </p:spPr>
      </p:sp>
      <p:sp>
        <p:nvSpPr>
          <p:cNvPr id="11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54160" y="701640"/>
            <a:ext cx="4626000" cy="3468600"/>
          </a:xfrm>
          <a:prstGeom prst="rect">
            <a:avLst/>
          </a:prstGeom>
          <a:ln w="0">
            <a:noFill/>
          </a:ln>
        </p:spPr>
      </p:sp>
      <p:sp>
        <p:nvSpPr>
          <p:cNvPr id="11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619E89-ED0B-454F-9451-BE8A5F599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6320DD-34C2-44EF-B81D-9B6564310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6BD0C1-90D3-4E90-AEDA-70F5B5A08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54160" y="701640"/>
            <a:ext cx="4626000" cy="3468600"/>
          </a:xfrm>
          <a:prstGeom prst="rect">
            <a:avLst/>
          </a:prstGeom>
          <a:ln w="0">
            <a:noFill/>
          </a:ln>
        </p:spPr>
      </p:sp>
      <p:sp>
        <p:nvSpPr>
          <p:cNvPr id="11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71CF93-D96E-49A2-A269-4E9582EE1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C94FD01-8BD8-4C5A-B79B-91E498696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29CA2A0-39EA-42A6-A39E-537008B02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PlaceHolder 1"/>
          <p:cNvSpPr>
            <a:spLocks noGrp="1"/>
          </p:cNvSpPr>
          <p:nvPr>
            <p:ph type="sldImg"/>
          </p:nvPr>
        </p:nvSpPr>
        <p:spPr>
          <a:xfrm>
            <a:off x="1154160" y="701640"/>
            <a:ext cx="4626000" cy="3468600"/>
          </a:xfrm>
          <a:prstGeom prst="rect">
            <a:avLst/>
          </a:prstGeom>
          <a:ln w="0">
            <a:noFill/>
          </a:ln>
        </p:spPr>
      </p:sp>
      <p:sp>
        <p:nvSpPr>
          <p:cNvPr id="8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7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7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232FF1-8628-4D8B-8673-63F3583B8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1154160" y="701640"/>
            <a:ext cx="4626000" cy="3468600"/>
          </a:xfrm>
          <a:prstGeom prst="rect">
            <a:avLst/>
          </a:prstGeom>
          <a:ln w="0">
            <a:noFill/>
          </a:ln>
        </p:spPr>
      </p:sp>
      <p:sp>
        <p:nvSpPr>
          <p:cNvPr id="87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DB916E-2E28-4CBF-A4E2-5359B66B9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54160" y="701640"/>
            <a:ext cx="4626000" cy="3468600"/>
          </a:xfrm>
          <a:prstGeom prst="rect">
            <a:avLst/>
          </a:prstGeom>
          <a:ln w="0">
            <a:noFill/>
          </a:ln>
        </p:spPr>
      </p:sp>
      <p:sp>
        <p:nvSpPr>
          <p:cNvPr id="8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CA41D-266F-40DF-8024-9DD3DBE57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6FB06-2DBD-408C-A2D2-26931F761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B1BBC2-AF38-4A61-A6FC-320E9F297B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E55CC4-7DCA-4A47-9661-87660DBCD3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62F037-A41A-4021-8B09-E6701644A9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787FC0-5EDD-428E-B471-2A0505F9F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7C1C39-2619-422A-9D66-7358AC97D0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87D977-2A59-4664-B20F-E807FF5D2A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27DB83-9710-4AE8-B2E0-B7522AD565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34F8E1-144C-4404-9313-A1563E8A98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225371-3F57-4FA9-864F-35E0916140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CFD4C4-75A8-4332-B226-DDB3102578E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27184-76FD-457F-B54E-93B6F7B92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5C445D-E0BE-406F-AC2C-A0584F6076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D4CCD2-9F48-49DD-8BA4-38D175924D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474A08-E4E4-4F35-8DA6-74C0662CC1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BC0000-733F-4E41-8B19-8A3CE3D9D6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F70A05-1D88-43F9-998A-EC7FC26821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8F64F7-A0A6-45CD-B450-BD3A88EFDE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BE70B7-05DC-4C42-8B3D-24D47A066C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C08A36-F041-4187-9663-8A3B8F4073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0AC200-E0F0-42EA-B072-00572E2BC1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96C446-97B2-415B-9647-EA28E7F5F2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1035B-9A03-4927-A4F8-62856CB2E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EB0363-56AE-4A16-BBED-A32D56F00F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03D7BD-4276-4427-A119-60DC87ADF7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1D10FA-E6F6-4F4B-A365-4FD273B5D0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89FEA8-E4B6-4B50-8988-553C05CD31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343F5C-D61D-4A22-A890-0E41C0146B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67CD4D-2D34-4F0D-8ED2-289AFE41F2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ADAE4E-EA35-421A-AE19-4EF2D0E47E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BBFD2F-DF2B-40DF-8532-85FECA0975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96F68E-06B8-4EBE-8508-E10FEBCBDA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FF144D-2D5C-466D-AEDF-12C0C2E281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ABDD3-67C8-4B01-AE72-19AD8CBDD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885336-965B-4B78-B275-CAC1D5E1B5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586D4C-F376-44E7-8482-04D739756A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B71057-0189-4E8B-BF6C-D4BC57B583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14569A-515F-4C7A-B19A-30F618B356F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6A1648-EB59-4C20-9CB9-B870A80688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BD8941-380B-4F7C-8388-F8971B55A6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5C3E27-2541-4052-8799-4BBFD46F0B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667D58-4E24-4313-9388-0C47F8DA63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382728-85AC-438F-954D-807B29061C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700959-5DD3-49CE-A090-013DD63097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BF3E3-E6D2-4E68-817F-8C35102CC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11F1E8-972F-4ED6-B386-D3174D5D91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C49A69-055A-4E95-BD26-B102987D65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B36FF3-5521-45B3-8CEA-389FBD4EB0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F5B103-0D28-46C7-BE75-1622C1335E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DCC417-11CE-4B65-A000-AB4710DD8E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18E3D-7A05-4E46-B6AC-7756DE854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4B554-4C5B-4522-AD3E-699A7FA37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04809-A561-4353-86DB-702DA0C45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128BF-36D8-4D2B-A55F-F72F6C80F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FFE99-E442-4851-A9DF-871ADBC10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73394-C687-461F-8E41-03970549E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12DCD-1B6A-4453-A074-2232C06D2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691AA-66E9-4ED4-A520-61389BC26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9F3D5-F4E6-4B2A-B98E-5B174389C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D6066-C240-4EF0-9DB4-DC285E1A5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3D79C-52B2-48AC-979C-AA041663E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2C1978-40C0-4898-861D-9F1B9FFBEE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E94C7-A26B-48B1-8DE1-3A683D2A59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A16C6-1D17-4AE8-A532-7961A7206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E6A76-E5B5-498B-9930-2D380DBF1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72A84-3BD6-426E-B574-B999630246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B8859-E31A-4AEC-A9FE-6A1657A83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8692B-BA08-4DD1-BE40-11E5A2A75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D12BE-1574-4B8A-A2B0-94121D55B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3440B-06D0-4192-A75E-ACA816347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2D6F0-0D18-4646-ABEE-1FDB32C11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03BAA6-3C27-47EC-A188-31AE8265D3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E4A741-A68E-4844-B218-8067680C1F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6EF532-57D5-473C-B2CA-21786BCE6D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C3EE2A-1684-4FDE-8D9E-3CAE316550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AFC3C6-548A-402A-A1DA-E4C354DD70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2765C-FFA4-4B6D-BEBE-2234810299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0B224-C8A3-4A11-B0FA-6DD978DE0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5579E3-9DD8-47B9-B435-B3598BD0C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1CEF93-D4E9-4633-AAF1-78D7DB035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84058-DE4C-4326-9EF9-9E87257836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AD305-5D6A-4CAD-A794-FC5805E9B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165B1-B9B9-4D46-92B3-C3519721D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6DB62-C570-4E83-9AA5-099F70628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3DF5F8-266B-4B47-AD0F-B42A747FF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322EDC-F3A5-48EF-A9DB-63B72A1B99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88348F-10E5-42A9-8899-9DFF35E150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E69C2D-032B-4C0B-9AD9-57B5DB8321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AF3D3-3088-4BEF-B6B1-86981C7C5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C3F0BE-04FB-4720-A593-5D8E46DAA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E5767-924E-497E-ADFC-3691D0857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6C8614-A062-4958-BCB7-CD70CA2292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E2B5C-7024-4277-9DB9-2F99634612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CF1706-51F4-4EEE-88A3-F8D765A19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D5D33-62E2-49F7-A333-A4A0D1509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D4F591-281E-4237-880D-9D3C124E5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2DC82-038C-4AC9-837C-2A2F2F753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ED3E73-701B-42FF-9446-E192CF064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576C4B-E5BA-4102-B547-D4A84498F7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D2677-9F92-4BC7-8A8E-EA8AF689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22A0AF-67A6-404E-88FA-CCE31775D8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F6E33E-A206-4B15-A73D-CBFA609F4B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8F1F65-14D8-43B5-8269-2AE4BADBB2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AEC04B-E79C-4F28-A13A-6DFD9C84DE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01ED23-9B8C-42F7-9044-9B57B0FAAB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8AA758-8365-47ED-A1DB-E837DDD503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729D95-7056-4C79-A47C-EA07038E1C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BF900-D257-47F2-ADED-AD1D44D2D2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7E212F-90DE-454A-8652-CE606A324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F1F52-37D8-430D-A580-9EED812AE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53C9E-4846-40F0-940C-66EBDBE61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61FD19-3D7F-4D26-BE7E-519DF3F7ED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1D9DC4-406C-46CA-B78E-9CF415B9FF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84AC8A-047E-4BFA-B1FE-981A948B9E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F93712-C2B3-4DB8-BEDA-0A855418F9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35888B-F2C6-4DA4-BD0F-1BD38A8CF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16618F-77F8-42CE-B26D-84B06F475F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E46E54-DA69-4680-B6DA-991E69134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148B41-41F8-4662-94C3-0B3930BE1D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26B810-E4A4-430F-867E-65CC6A9691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FE2F2B-44DA-4182-B7C1-B7FBA5A73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6D49-8BD6-4377-9741-F84C68F8E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02884B-CE33-4913-AE4C-54F05A5B3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523114-8469-4757-91C3-BEB2071FF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0FD2C0-DA99-4C5B-83FE-1F31014BF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365755-40D1-4E92-AF3B-95105C115C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F434D8-5F61-495F-B14E-0547CA7BC1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6E4AFA-E668-406E-976A-C7C0CB35DA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A044B0-C956-4A7C-90A8-B32658F4A8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0C1001-7E22-4CF3-8832-A298426E27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3CF722-B975-4D25-A8B7-9F15B2CDEC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C2E73-1875-47B2-8B06-03894DE45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11378-F003-4498-A0D2-8CB16F3A1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106D2C-25F6-49AD-99DA-78D715729A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A50E05-3B8E-4EE1-BA84-7C55AADCF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5EC66-3510-432A-8A9B-2414806A53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1DF174-DB20-4D40-A4D6-53B679EE2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20BF1D-2ADE-4802-8D98-67D348E8B8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0F1389-EA0B-4DDF-8AEB-939E670E23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302AC6-FE70-4290-B0CC-E3D7997CBC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178BE4-6423-483A-B10F-94F8A4C8B2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DCBD01-4512-458B-A8E1-60B2C56D27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3E6554-9A91-4F94-8B1A-B30B907EE5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86E95C8-644E-4549-B1B1-393C846C67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13695D4-C4AC-4AD1-89F4-CD0695DE9A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7017705-CA8A-4383-9D4C-F687B915DF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3C6FAD5-E305-4C38-9550-939A02C180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C739E09-06E4-4D0C-BF69-21DF6155BE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38B5545-B2EB-412A-AE55-D89D7520F7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B7AC5F4-A102-4E2E-8D5B-47DBB37FDB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2CD1BA3-F35B-4A98-9569-7899145FF5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834CB2A-CED3-4B19-9A02-A5951AE05E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AE7F092-12F3-437A-B75B-FF268852F8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8384D94-9F1D-41DD-9AD6-F294FE3FD1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D4E4FCF-1414-409D-94D9-28CF0EE943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8/11-18-1681-02-00ay-tg-ay-september-2018-waikoloa-village-meeting-minutes.docx" TargetMode="External"/><Relationship Id="rId2" Type="http://schemas.openxmlformats.org/officeDocument/2006/relationships/hyperlink" Target="https://mentor.ieee.org/802.11/dcn/18/11-18-1681-02-00ay-tg-ay-september-2018-waikoloa-village-meeting-minutes.docx" TargetMode="External"/><Relationship Id="rId3" Type="http://schemas.openxmlformats.org/officeDocument/2006/relationships/hyperlink" Target="https://mentor.ieee.org/802.11/dcn/18/11-18-1681-02-00ay-tg-ay-september-2018-waikoloa-village-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8/11-18-1718-04-00ay-task-group-ay-october-2018-conference-call-meeting-minutes.docx" TargetMode="External"/><Relationship Id="rId2" Type="http://schemas.openxmlformats.org/officeDocument/2006/relationships/hyperlink" Target="https://mentor.ieee.org/802.11/dcn/18/11-18-1793-00-00ay-tg-ay-november-7-2018-conference-call-meeting-minutes.docx" TargetMode="External"/><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CC4110-024E-4E04-94C2-4A7626E51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November 2018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1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E27B65-0EBA-4509-A972-E8AA5E0CD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790059-2927-404A-9F81-78D7C4504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10CF0A-EB21-4540-92CE-A5FFBBD92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C06C69-FB43-4AAA-9767-F271F82A2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5C3BDB-851E-48B1-9593-19E51648C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22BBB6-65F0-45A7-9916-85292959F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upda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E8E949-F343-4100-A31E-761AB1F6C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upda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LB #234</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anuar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DF9545-CEEB-4DF4-A134-4A3B388A1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September 2018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3 technical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D84E41-DB1C-4248-98D7-76D94ADE0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October 2018 teleconference calls</a:t>
            </a:r>
            <a:endParaRPr b="0" lang="en-US" sz="3200" spc="-1" strike="noStrike">
              <a:solidFill>
                <a:srgbClr val="000000"/>
              </a:solidFill>
              <a:latin typeface="Times New Roman"/>
            </a:endParaRPr>
          </a:p>
        </p:txBody>
      </p:sp>
      <p:sp>
        <p:nvSpPr>
          <p:cNvPr id="64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45" name=""/>
          <p:cNvGraphicFramePr/>
          <p:nvPr/>
        </p:nvGraphicFramePr>
        <p:xfrm>
          <a:off x="696960" y="1727280"/>
          <a:ext cx="7913520" cy="42148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67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X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3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EDMG encoding example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nex I text for EDMG encoding example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6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s – Coexistence Assurance Documen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Coexistenc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1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s - PHY and BF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1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X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7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XVECTOR comments of LB23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C30585-2AE4-489A-AAC6-2C6237233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ember 2018 teleconference calls</a:t>
            </a:r>
            <a:endParaRPr b="0" lang="en-US" sz="3200" spc="-1" strike="noStrike">
              <a:solidFill>
                <a:srgbClr val="000000"/>
              </a:solidFill>
              <a:latin typeface="Times New Roman"/>
            </a:endParaRPr>
          </a:p>
        </p:txBody>
      </p:sp>
      <p:sp>
        <p:nvSpPr>
          <p:cNvPr id="64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16120"/>
          <a:ext cx="7913520" cy="114768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6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s to CIDs related to TDD scheduling, channel access and power save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Bangkok, Thailand</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vember 11 - 16,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5CB16B-71DF-410B-8EE1-83F93A8C6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8E2201-C971-4727-AC58-BF9195BAE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655" name=""/>
          <p:cNvGraphicFramePr/>
          <p:nvPr/>
        </p:nvGraphicFramePr>
        <p:xfrm>
          <a:off x="685800" y="1676520"/>
          <a:ext cx="7772400" cy="411480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4A0C9A-9A51-421B-AEB7-1A2F91999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4: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tember 2018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September 2018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1681-02-00ay-tg-ay-september-2018-waikoloa-village-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5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23C531-839B-4961-8593-8166E5796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5: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ctober/November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October 3, October 10, October 17, October 31, and November 7:</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1718-04-00ay-task-group-ay-october-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1793-00-00ay-tg-ay-november-7-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734E08-1199-4C2D-B44A-7F1738E9E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5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s - PHY and BF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6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s - PHY and BF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DD B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824415-DDBE-43C4-A519-D30AB9570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7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DD sector switch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3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SAR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hannel aggregation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2F01D4-2086-4778-8665-E53A33B25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7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4213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68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IMO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2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345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3289 and 3533-35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 3460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editorial com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section 9.4.2.21.1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CH_BANDWIDTH</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823D8D-E963-4C45-BA82-9F42F5A15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8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38926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 3460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91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91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7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XVECTOR comments of LB23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6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6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s to CIDs related to TDD scheduling, channel access and power save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uogang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B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AFF803-877D-4DC3-BDCF-63ACA78EF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8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alc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for line of sight determin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44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9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CID 336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uj Batr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Unsolicited Block ACK Resolu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BF3A74-8C2D-4F31-8467-1AABCEFC7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9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34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9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introduction to TDD general and TDD MLME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 for CID 3358 and other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0D3EAE-9E15-4855-A890-A54FFBFF3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p:nvPr>
        </p:nvSpPr>
        <p:spPr>
          <a:xfrm>
            <a:off x="685440" y="1294920"/>
            <a:ext cx="4343400" cy="495324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updat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99" name="Rectangle 3"/>
          <p:cNvSpPr/>
          <p:nvPr/>
        </p:nvSpPr>
        <p:spPr>
          <a:xfrm>
            <a:off x="4876920" y="129528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January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B3A413-E934-4FD5-927A-A96D8847E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November 2018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D71BF3-AAF9-4F11-A7E6-55FC52D1C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May 2018 interim</a:t>
            </a:r>
            <a:endParaRPr b="0" lang="en-US" sz="3200" spc="-1" strike="noStrike">
              <a:solidFill>
                <a:srgbClr val="000000"/>
              </a:solidFill>
              <a:latin typeface="Times New Roman"/>
            </a:endParaRPr>
          </a:p>
        </p:txBody>
      </p:sp>
      <p:sp>
        <p:nvSpPr>
          <p:cNvPr id="70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71480" y="183996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07:  Draft 2.0  </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11:  Form Sponsor Ballot Poo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1:  Initial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5:  Recirculation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292641-3973-4CB1-974C-741B2B4DC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timeline for discussion/approval</a:t>
            </a:r>
            <a:endParaRPr b="0" lang="en-US" sz="3200" spc="-1" strike="noStrike">
              <a:solidFill>
                <a:srgbClr val="000000"/>
              </a:solidFill>
              <a:latin typeface="Times New Roman"/>
            </a:endParaRPr>
          </a:p>
        </p:txBody>
      </p:sp>
      <p:sp>
        <p:nvSpPr>
          <p:cNvPr id="70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771480" y="183996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Recirculation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Second Recirculation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5:  Third Recirculation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Fall: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71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EC8FB4-92C1-4E60-AFE6-9A8D1B8E0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C93F42-ADF0-4FEC-B923-28C7DBA02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1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8F9A1C-9F2D-4373-9025-A7863C18D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6:  Comment Resolution</a:t>
            </a:r>
            <a:endParaRPr b="0" lang="en-US" sz="3200" spc="-1" strike="noStrike">
              <a:solidFill>
                <a:srgbClr val="000000"/>
              </a:solidFill>
              <a:latin typeface="Times New Roman"/>
            </a:endParaRPr>
          </a:p>
        </p:txBody>
      </p:sp>
      <p:sp>
        <p:nvSpPr>
          <p:cNvPr id="72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a:t>
            </a:r>
            <a:r>
              <a:rPr b="0" lang="en-GB" sz="1600" spc="-1" strike="noStrike">
                <a:solidFill>
                  <a:srgbClr val="000000"/>
                </a:solidFill>
                <a:latin typeface="Times New Roman"/>
              </a:rPr>
              <a:t>3311, 3382, 3312, 3313, 3314, 3315, 3316, 3331, 3332, 3333, 3334, 3375, </a:t>
            </a:r>
            <a:r>
              <a:rPr b="0" lang="en-GB" sz="1600" spc="-1" strike="noStrike">
                <a:solidFill>
                  <a:srgbClr val="000000"/>
                </a:solidFill>
                <a:latin typeface="Times New Roman"/>
              </a:rPr>
              <a:t>	</a:t>
            </a:r>
            <a:r>
              <a:rPr b="0" lang="en-GB" sz="1600" spc="-1" strike="noStrike">
                <a:solidFill>
                  <a:srgbClr val="000000"/>
                </a:solidFill>
                <a:latin typeface="Times New Roman"/>
              </a:rPr>
              <a:t>3376, 3596, 3622, 3704, 3377, 3623, 3705, 3201, 3378, 3624, 3706, 3202, 3625, </a:t>
            </a:r>
            <a:r>
              <a:rPr b="0" lang="en-GB" sz="1600" spc="-1" strike="noStrike">
                <a:solidFill>
                  <a:srgbClr val="000000"/>
                </a:solidFill>
                <a:latin typeface="Times New Roman"/>
              </a:rPr>
              <a:t>	</a:t>
            </a:r>
            <a:r>
              <a:rPr b="0" lang="en-GB" sz="1600" spc="-1" strike="noStrike">
                <a:solidFill>
                  <a:srgbClr val="000000"/>
                </a:solidFill>
                <a:latin typeface="Times New Roman"/>
              </a:rPr>
              <a:t>3301, 3732, 3175, 3720, 3721, 3724, 3212, 3213, 3178, 3179, 3725, 3214, 3730, </a:t>
            </a:r>
            <a:r>
              <a:rPr b="0" lang="en-GB" sz="1600" spc="-1" strike="noStrike">
                <a:solidFill>
                  <a:srgbClr val="000000"/>
                </a:solidFill>
                <a:latin typeface="Times New Roman"/>
              </a:rPr>
              <a:t>	</a:t>
            </a:r>
            <a:r>
              <a:rPr b="0" lang="en-GB" sz="1600" spc="-1" strike="noStrike">
                <a:solidFill>
                  <a:srgbClr val="000000"/>
                </a:solidFill>
                <a:latin typeface="Times New Roman"/>
              </a:rPr>
              <a:t>3722, 3602, 3381, 3380, 3268, 3177, 3180, 3181, 3172, 3173, 3174, 3183, 3090, </a:t>
            </a:r>
            <a:r>
              <a:rPr b="0" lang="en-GB" sz="1600" spc="-1" strike="noStrike">
                <a:solidFill>
                  <a:srgbClr val="000000"/>
                </a:solidFill>
                <a:latin typeface="Times New Roman"/>
              </a:rPr>
              <a:t>	</a:t>
            </a:r>
            <a:r>
              <a:rPr b="0" lang="en-GB" sz="1600" spc="-1" strike="noStrike">
                <a:solidFill>
                  <a:srgbClr val="000000"/>
                </a:solidFill>
                <a:latin typeface="Times New Roman"/>
              </a:rPr>
              <a:t>3091, 3166, 3740, 3086, 3092, 3093, 3088, 3087, 3089, 3130, 3120, 3121, 3122, </a:t>
            </a:r>
            <a:r>
              <a:rPr b="0" lang="en-GB" sz="1600" spc="-1" strike="noStrike">
                <a:solidFill>
                  <a:srgbClr val="000000"/>
                </a:solidFill>
                <a:latin typeface="Times New Roman"/>
              </a:rPr>
              <a:t>	</a:t>
            </a:r>
            <a:r>
              <a:rPr b="0" lang="en-GB" sz="1600" spc="-1" strike="noStrike">
                <a:solidFill>
                  <a:srgbClr val="000000"/>
                </a:solidFill>
                <a:latin typeface="Times New Roman"/>
              </a:rPr>
              <a:t>3123, 3062, 3064, and 3065 </a:t>
            </a:r>
            <a:r>
              <a:rPr b="0" lang="en-US" sz="1600" spc="-1" strike="noStrike">
                <a:solidFill>
                  <a:srgbClr val="000000"/>
                </a:solidFill>
                <a:latin typeface="Times New Roman"/>
              </a:rPr>
              <a:t>as proposed in 18/1678r1;</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3667 as proposed in 18/1347r0;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317, 3318, 3319, 3320, 3321, 3322, 3323, 3324, 3325, 3326, 3327, 3328, </a:t>
            </a:r>
            <a:r>
              <a:rPr b="0" lang="en-US" sz="1600" spc="-1" strike="noStrike">
                <a:solidFill>
                  <a:srgbClr val="000000"/>
                </a:solidFill>
                <a:latin typeface="Times New Roman"/>
              </a:rPr>
              <a:t>	</a:t>
            </a:r>
            <a:r>
              <a:rPr b="0" lang="en-US" sz="1600" spc="-1" strike="noStrike">
                <a:solidFill>
                  <a:srgbClr val="000000"/>
                </a:solidFill>
                <a:latin typeface="Times New Roman"/>
              </a:rPr>
              <a:t>3329, 3330, and 3288 as proposed in 18/1753r0.</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2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735610-6F54-4D13-BEDC-19D313A68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7:  Comment Resolution for Coexistence Assurance Document</a:t>
            </a:r>
            <a:endParaRPr b="0" lang="en-US" sz="3200" spc="-1" strike="noStrike">
              <a:solidFill>
                <a:srgbClr val="000000"/>
              </a:solidFill>
              <a:latin typeface="Times New Roman"/>
            </a:endParaRPr>
          </a:p>
        </p:txBody>
      </p:sp>
      <p:sp>
        <p:nvSpPr>
          <p:cNvPr id="72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031, 3272, 3672, 3675, 3674, 3678, 3681, 3677, 3676, 3683, 3682, 3686, 3673, 3687, 3684, 3679, 3680, and 3685 as proposed in 18/1691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3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EF56B4-3A7F-4E2E-8845-34789622F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8:  Comment Resolution</a:t>
            </a:r>
            <a:endParaRPr b="0" lang="en-US" sz="3200" spc="-1" strike="noStrike">
              <a:solidFill>
                <a:srgbClr val="000000"/>
              </a:solidFill>
              <a:latin typeface="Times New Roman"/>
            </a:endParaRPr>
          </a:p>
        </p:txBody>
      </p:sp>
      <p:sp>
        <p:nvSpPr>
          <p:cNvPr id="73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007, 3267, 3448, 3231, 3719, 3399, 3367, 3525, and 3526 as proposed in 18/1751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3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6D88A7-1246-4C00-A7EA-1225D95D8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9:  Comment Resolution</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106, 3107, 3114, 3115, 3116, 3117, 3197, 3274, 3368, 3698, 3695, 3696, 3697, 3699, 3701, 3702, and 3703 as proposed in 18/1773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81E12F-9D0C-4817-A9C5-E3FBFC6EF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2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265, 3437, 3438, 3439, 3440, 3441, 3442, 3483, 3484, 3485, 3486, 3490, 3567, 3568, 3653, 3691, 3726, 3097, 3294, 3459, 3360, 3405, 3406, 3408, 3417, 3434, and 3436 as proposed in 18/1768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3CEA30-1CA6-4095-915C-3EC0B6F7D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2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139, 3271, and 3694 as proposed in 18/1569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263ED71-B75B-4DA1-A7F8-85435A9E11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687233-1BCB-48C1-B8D7-A33D5E20E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2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3580 as proposed in 18/1648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D82EAE-D139-426C-8B5A-1AE82D516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5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91D19C-A762-46B0-999E-5C383672E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D8E0F4-4043-4200-97A1-73B360926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9C83F1-9DCD-440C-AF39-FE4F1E921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39E173-A323-4358-86A6-910D46B86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7FC0BD-4D8F-4E0D-8C6C-DC132D5A7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B4078B-CE12-40A2-83DA-4470D6789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9D8E62-CFCF-48E9-A59C-53A4CDA07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1F3416-E1B3-406A-A953-1F6B609FC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9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0D8671A-B382-4F5B-A552-F238BD7B6C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1854E7-A6BC-458C-9ABB-FF8C0C74B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9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8A35D1-7204-48A2-947E-75FC6DBE5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0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E61426-6CD4-4530-95D7-128AD767C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0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C49397-F5CB-4B3A-A10D-485A6C342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B7B993-885F-4037-9862-332700CC0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20741E-B864-4797-BAF0-8F27CB291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9"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anuar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15D3FD-243D-4071-B676-0B5E62BD2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2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507C03-B00C-4A4E-8C15-E6914A3FF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anuary 2019 interim</a:t>
            </a:r>
            <a:endParaRPr b="0" lang="en-US" sz="3200" spc="-1" strike="noStrike">
              <a:solidFill>
                <a:srgbClr val="000000"/>
              </a:solidFill>
              <a:latin typeface="Times New Roman"/>
            </a:endParaRPr>
          </a:p>
        </p:txBody>
      </p:sp>
      <p:sp>
        <p:nvSpPr>
          <p:cNvPr id="8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8197E3-6055-45F5-ADB8-E80DB7E5A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3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vember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cember 5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cember 12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cember 19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anuary 9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0DE405-6BE2-46A5-9023-3CAFEC613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08128E-7D73-4B1E-8DF5-FACBD7F69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66D7063-7C20-4721-8594-97C287264E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060BFF-4631-4533-834A-FC2AC9C87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018</cp:keywords>
  <dc:language>en-US</dc:language>
  <cp:lastModifiedBy>Edward Au</cp:lastModifiedBy>
  <cp:lastPrinted>2014-11-04T15:04:57Z</cp:lastPrinted>
  <dcterms:modified xsi:type="dcterms:W3CDTF">2018-11-10T09:15:31Z</dcterms:modified>
  <cp:revision>7977</cp:revision>
  <dc:subject>Task Group AY November 2015 Meeting Agenda</dc:subject>
  <dc:title>11-18/1727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