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ABD60C0-0C07-432D-88E3-80912FFE09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6F5B95-D842-4698-858B-2D666FFBD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4160" y="701640"/>
            <a:ext cx="4626000" cy="3468600"/>
          </a:xfrm>
          <a:prstGeom prst="rect">
            <a:avLst/>
          </a:prstGeom>
          <a:ln w="0">
            <a:noFill/>
          </a:ln>
        </p:spPr>
      </p:sp>
      <p:sp>
        <p:nvSpPr>
          <p:cNvPr id="8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721BF9-74FB-4C4B-9939-740232CFF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8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9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9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6BF6DA-B2FC-4530-9D07-BF35B45C8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54160" y="701640"/>
            <a:ext cx="4626000" cy="3468600"/>
          </a:xfrm>
          <a:prstGeom prst="rect">
            <a:avLst/>
          </a:prstGeom>
          <a:ln w="0">
            <a:noFill/>
          </a:ln>
        </p:spPr>
      </p:sp>
      <p:sp>
        <p:nvSpPr>
          <p:cNvPr id="8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C84791-8219-4C9B-947C-75843F7C2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9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0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0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1F72E1-9974-4CBB-856D-37D5F5D3E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0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06"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6EFE39C-B4CD-4AA1-8A36-2E9B0AA9A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54160" y="701640"/>
            <a:ext cx="4626000" cy="3468600"/>
          </a:xfrm>
          <a:prstGeom prst="rect">
            <a:avLst/>
          </a:prstGeom>
          <a:ln w="0">
            <a:noFill/>
          </a:ln>
        </p:spPr>
      </p:sp>
      <p:sp>
        <p:nvSpPr>
          <p:cNvPr id="9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8B0C18-7D18-4ED5-B926-6924F2B12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21E415-982D-4371-ADE9-9816EEF41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54160" y="701640"/>
            <a:ext cx="4626000" cy="3468600"/>
          </a:xfrm>
          <a:prstGeom prst="rect">
            <a:avLst/>
          </a:prstGeom>
          <a:ln w="0">
            <a:noFill/>
          </a:ln>
        </p:spPr>
      </p:sp>
      <p:sp>
        <p:nvSpPr>
          <p:cNvPr id="9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B6E52C-24C4-4F97-ACEB-3880AFE24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54160" y="701640"/>
            <a:ext cx="4626000" cy="3468600"/>
          </a:xfrm>
          <a:prstGeom prst="rect">
            <a:avLst/>
          </a:prstGeom>
          <a:ln w="0">
            <a:noFill/>
          </a:ln>
        </p:spPr>
      </p:sp>
      <p:sp>
        <p:nvSpPr>
          <p:cNvPr id="9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0E9F4D-C382-44AC-8F1A-7BE05D0E5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54160" y="701640"/>
            <a:ext cx="4626000" cy="3468600"/>
          </a:xfrm>
          <a:prstGeom prst="rect">
            <a:avLst/>
          </a:prstGeom>
          <a:ln w="0">
            <a:noFill/>
          </a:ln>
        </p:spPr>
      </p:sp>
      <p:sp>
        <p:nvSpPr>
          <p:cNvPr id="9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CCDDCC-DB24-42E0-A780-BE1E1B7E8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E7BBDF-9689-4E54-9E2B-FFE878482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54160" y="701640"/>
            <a:ext cx="4626000" cy="3468600"/>
          </a:xfrm>
          <a:prstGeom prst="rect">
            <a:avLst/>
          </a:prstGeom>
          <a:ln w="0">
            <a:noFill/>
          </a:ln>
        </p:spPr>
      </p:sp>
      <p:sp>
        <p:nvSpPr>
          <p:cNvPr id="9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DB11B5-0CE1-4195-AB31-F27654759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3D6825-8523-41E1-B2A9-E7722EC76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54160" y="701640"/>
            <a:ext cx="4626000" cy="3468600"/>
          </a:xfrm>
          <a:prstGeom prst="rect">
            <a:avLst/>
          </a:prstGeom>
          <a:ln w="0">
            <a:noFill/>
          </a:ln>
        </p:spPr>
      </p:sp>
      <p:sp>
        <p:nvSpPr>
          <p:cNvPr id="9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A157AB-D99A-4D6A-B01F-24DAAAF43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2F69D3-9AAA-4CF8-B7A2-7E168E8AB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54160" y="701640"/>
            <a:ext cx="4626000" cy="3468600"/>
          </a:xfrm>
          <a:prstGeom prst="rect">
            <a:avLst/>
          </a:prstGeom>
          <a:ln w="0">
            <a:noFill/>
          </a:ln>
        </p:spPr>
      </p:sp>
      <p:sp>
        <p:nvSpPr>
          <p:cNvPr id="9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C3E48B-7B1D-4BBD-B994-E45F8736D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54160" y="701640"/>
            <a:ext cx="4626000" cy="3468600"/>
          </a:xfrm>
          <a:prstGeom prst="rect">
            <a:avLst/>
          </a:prstGeom>
          <a:ln w="0">
            <a:noFill/>
          </a:ln>
        </p:spPr>
      </p:sp>
      <p:sp>
        <p:nvSpPr>
          <p:cNvPr id="9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D40E8E-B056-4334-9F09-745D30310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54160" y="701640"/>
            <a:ext cx="4626000" cy="3468600"/>
          </a:xfrm>
          <a:prstGeom prst="rect">
            <a:avLst/>
          </a:prstGeom>
          <a:ln w="0">
            <a:noFill/>
          </a:ln>
        </p:spPr>
      </p:sp>
      <p:sp>
        <p:nvSpPr>
          <p:cNvPr id="9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C97E68-A827-4188-950B-CFCF70F3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54160" y="701640"/>
            <a:ext cx="4626000" cy="3468600"/>
          </a:xfrm>
          <a:prstGeom prst="rect">
            <a:avLst/>
          </a:prstGeom>
          <a:ln w="0">
            <a:noFill/>
          </a:ln>
        </p:spPr>
      </p:sp>
      <p:sp>
        <p:nvSpPr>
          <p:cNvPr id="9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CC9A88-80F1-4128-8A8A-95529A854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54160" y="701640"/>
            <a:ext cx="4626000" cy="3468600"/>
          </a:xfrm>
          <a:prstGeom prst="rect">
            <a:avLst/>
          </a:prstGeom>
          <a:ln w="0">
            <a:noFill/>
          </a:ln>
        </p:spPr>
      </p:sp>
      <p:sp>
        <p:nvSpPr>
          <p:cNvPr id="9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0C009C-0E27-4825-B37B-5D63E048C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54160" y="701640"/>
            <a:ext cx="4626000" cy="3468600"/>
          </a:xfrm>
          <a:prstGeom prst="rect">
            <a:avLst/>
          </a:prstGeom>
          <a:ln w="0">
            <a:noFill/>
          </a:ln>
        </p:spPr>
      </p:sp>
      <p:sp>
        <p:nvSpPr>
          <p:cNvPr id="9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9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9E6853-CEC7-4874-9EBD-D9DB1EC46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54160" y="701640"/>
            <a:ext cx="4626000" cy="3468600"/>
          </a:xfrm>
          <a:prstGeom prst="rect">
            <a:avLst/>
          </a:prstGeom>
          <a:ln w="0">
            <a:noFill/>
          </a:ln>
        </p:spPr>
      </p:sp>
      <p:sp>
        <p:nvSpPr>
          <p:cNvPr id="10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5165ED-120B-49D2-9C8B-A5711F6A2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CCFB41-A6E9-4B5A-B31E-FA57CFF08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AA7F53-0657-494C-8B9F-0DB3C0925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54160" y="701640"/>
            <a:ext cx="4626000" cy="3468600"/>
          </a:xfrm>
          <a:prstGeom prst="rect">
            <a:avLst/>
          </a:prstGeom>
          <a:ln w="0">
            <a:noFill/>
          </a:ln>
        </p:spPr>
      </p:sp>
      <p:sp>
        <p:nvSpPr>
          <p:cNvPr id="8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54160" y="701640"/>
            <a:ext cx="4626000" cy="3468600"/>
          </a:xfrm>
          <a:prstGeom prst="rect">
            <a:avLst/>
          </a:prstGeom>
          <a:ln w="0">
            <a:noFill/>
          </a:ln>
        </p:spPr>
      </p:sp>
      <p:sp>
        <p:nvSpPr>
          <p:cNvPr id="10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4CACE1-8E67-4A50-AD93-75FEEDFB8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54160" y="701640"/>
            <a:ext cx="4626000" cy="3468600"/>
          </a:xfrm>
          <a:prstGeom prst="rect">
            <a:avLst/>
          </a:prstGeom>
          <a:ln w="0">
            <a:noFill/>
          </a:ln>
        </p:spPr>
      </p:sp>
      <p:sp>
        <p:nvSpPr>
          <p:cNvPr id="10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34FA4F-2A79-42EB-B11D-CC9B6B3BD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54160" y="701640"/>
            <a:ext cx="4626000" cy="3468600"/>
          </a:xfrm>
          <a:prstGeom prst="rect">
            <a:avLst/>
          </a:prstGeom>
          <a:ln w="0">
            <a:noFill/>
          </a:ln>
        </p:spPr>
      </p:sp>
      <p:sp>
        <p:nvSpPr>
          <p:cNvPr id="10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B2F7CE-2E33-4AC3-A31E-FB68B8968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54160" y="701640"/>
            <a:ext cx="4626000" cy="3468600"/>
          </a:xfrm>
          <a:prstGeom prst="rect">
            <a:avLst/>
          </a:prstGeom>
          <a:ln w="0">
            <a:noFill/>
          </a:ln>
        </p:spPr>
      </p:sp>
      <p:sp>
        <p:nvSpPr>
          <p:cNvPr id="10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DE1E86-2A5B-40E0-9169-BB8326E53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54160" y="701640"/>
            <a:ext cx="4626000" cy="3468600"/>
          </a:xfrm>
          <a:prstGeom prst="rect">
            <a:avLst/>
          </a:prstGeom>
          <a:ln w="0">
            <a:noFill/>
          </a:ln>
        </p:spPr>
      </p:sp>
      <p:sp>
        <p:nvSpPr>
          <p:cNvPr id="10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A35096-D738-4D9C-8408-9EC2A569E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54160" y="701640"/>
            <a:ext cx="4626000" cy="3468600"/>
          </a:xfrm>
          <a:prstGeom prst="rect">
            <a:avLst/>
          </a:prstGeom>
          <a:ln w="0">
            <a:noFill/>
          </a:ln>
        </p:spPr>
      </p:sp>
      <p:sp>
        <p:nvSpPr>
          <p:cNvPr id="10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72CBA7-7B4D-48BB-A08D-BA7A3C395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4160" y="701640"/>
            <a:ext cx="4626000" cy="3468600"/>
          </a:xfrm>
          <a:prstGeom prst="rect">
            <a:avLst/>
          </a:prstGeom>
          <a:ln w="0">
            <a:noFill/>
          </a:ln>
        </p:spPr>
      </p:sp>
      <p:sp>
        <p:nvSpPr>
          <p:cNvPr id="10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1AAF1E-59FA-4B86-B257-25AB9A522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54160" y="701640"/>
            <a:ext cx="4626000" cy="3468600"/>
          </a:xfrm>
          <a:prstGeom prst="rect">
            <a:avLst/>
          </a:prstGeom>
          <a:ln w="0">
            <a:noFill/>
          </a:ln>
        </p:spPr>
      </p:sp>
      <p:sp>
        <p:nvSpPr>
          <p:cNvPr id="10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00E8CE-C99B-4FEC-A121-0D0CE76B8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54160" y="701640"/>
            <a:ext cx="4626000" cy="3468600"/>
          </a:xfrm>
          <a:prstGeom prst="rect">
            <a:avLst/>
          </a:prstGeom>
          <a:ln w="0">
            <a:noFill/>
          </a:ln>
        </p:spPr>
      </p:sp>
      <p:sp>
        <p:nvSpPr>
          <p:cNvPr id="10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51C6AA-5319-4C1E-A864-DD1480414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5"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6"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384BB64-23F4-41A3-BA43-7FA974F87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7680" y="696960"/>
            <a:ext cx="4640400" cy="3479760"/>
          </a:xfrm>
          <a:prstGeom prst="rect">
            <a:avLst/>
          </a:prstGeom>
          <a:ln w="0">
            <a:noFill/>
          </a:ln>
        </p:spPr>
      </p:sp>
      <p:sp>
        <p:nvSpPr>
          <p:cNvPr id="85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84F32F-164C-4FBA-94AC-677FB6C3D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54160" y="701640"/>
            <a:ext cx="4626000" cy="3468600"/>
          </a:xfrm>
          <a:prstGeom prst="rect">
            <a:avLst/>
          </a:prstGeom>
          <a:ln w="0">
            <a:noFill/>
          </a:ln>
        </p:spPr>
      </p:sp>
      <p:sp>
        <p:nvSpPr>
          <p:cNvPr id="10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E0547C-DEAB-4563-89BB-10DF13AA3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6D3CB9-4E96-4BF9-B343-4C8B09EED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54160" y="701640"/>
            <a:ext cx="4626000" cy="3468600"/>
          </a:xfrm>
          <a:prstGeom prst="rect">
            <a:avLst/>
          </a:prstGeom>
          <a:ln w="0">
            <a:noFill/>
          </a:ln>
        </p:spPr>
      </p:sp>
      <p:sp>
        <p:nvSpPr>
          <p:cNvPr id="10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C66AA5-4ED5-417F-AE1C-637D93937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54160" y="701640"/>
            <a:ext cx="4626000" cy="3468600"/>
          </a:xfrm>
          <a:prstGeom prst="rect">
            <a:avLst/>
          </a:prstGeom>
          <a:ln w="0">
            <a:noFill/>
          </a:ln>
        </p:spPr>
      </p:sp>
      <p:sp>
        <p:nvSpPr>
          <p:cNvPr id="10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3B3CBE-2D29-495C-A5DC-D7C06A12A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9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310915-9367-45DD-BC66-B9E20A99E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D7B07E-E5A3-47E7-A2C6-5BD6C809D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54160" y="701640"/>
            <a:ext cx="4626000" cy="3468600"/>
          </a:xfrm>
          <a:prstGeom prst="rect">
            <a:avLst/>
          </a:prstGeom>
          <a:ln w="0">
            <a:noFill/>
          </a:ln>
        </p:spPr>
      </p:sp>
      <p:sp>
        <p:nvSpPr>
          <p:cNvPr id="1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D7C022-98A1-4E6E-B45D-9489EA3EB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4B8270-565D-45B8-842A-EB0EE8AB7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154160" y="701640"/>
            <a:ext cx="4626000" cy="3468600"/>
          </a:xfrm>
          <a:prstGeom prst="rect">
            <a:avLst/>
          </a:prstGeom>
          <a:ln w="0">
            <a:noFill/>
          </a:ln>
        </p:spPr>
      </p:sp>
      <p:sp>
        <p:nvSpPr>
          <p:cNvPr id="11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3577E1-15C6-4EB8-A97F-52B4CE8B9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6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9361172-0EF8-4C3C-AF09-154C8C19D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7680" y="696960"/>
            <a:ext cx="4640400" cy="3479760"/>
          </a:xfrm>
          <a:prstGeom prst="rect">
            <a:avLst/>
          </a:prstGeom>
          <a:ln w="0">
            <a:noFill/>
          </a:ln>
        </p:spPr>
      </p:sp>
      <p:sp>
        <p:nvSpPr>
          <p:cNvPr id="86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54160" y="701640"/>
            <a:ext cx="4626000" cy="3468600"/>
          </a:xfrm>
          <a:prstGeom prst="rect">
            <a:avLst/>
          </a:prstGeom>
          <a:ln w="0">
            <a:noFill/>
          </a:ln>
        </p:spPr>
      </p:sp>
      <p:sp>
        <p:nvSpPr>
          <p:cNvPr id="11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C3AD21-D130-4896-87EF-A8880DB77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71A640-66AE-45BE-AD82-8B2F1B9B4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1154160" y="701640"/>
            <a:ext cx="4626000" cy="3468600"/>
          </a:xfrm>
          <a:prstGeom prst="rect">
            <a:avLst/>
          </a:prstGeom>
          <a:ln w="0">
            <a:noFill/>
          </a:ln>
        </p:spPr>
      </p:sp>
      <p:sp>
        <p:nvSpPr>
          <p:cNvPr id="1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B1B6AE-7095-469A-AEA6-C2F810936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54160" y="701640"/>
            <a:ext cx="4626000" cy="3468600"/>
          </a:xfrm>
          <a:prstGeom prst="rect">
            <a:avLst/>
          </a:prstGeom>
          <a:ln w="0">
            <a:noFill/>
          </a:ln>
        </p:spPr>
      </p:sp>
      <p:sp>
        <p:nvSpPr>
          <p:cNvPr id="1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938EB9-CD42-4709-9FB7-C8609C74A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2E15A9-093A-4AEF-AB6C-30C42F9A5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1154160" y="701640"/>
            <a:ext cx="4626000" cy="3468600"/>
          </a:xfrm>
          <a:prstGeom prst="rect">
            <a:avLst/>
          </a:prstGeom>
          <a:ln w="0">
            <a:noFill/>
          </a:ln>
        </p:spPr>
      </p:sp>
      <p:sp>
        <p:nvSpPr>
          <p:cNvPr id="11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54160" y="701640"/>
            <a:ext cx="4626000" cy="3468600"/>
          </a:xfrm>
          <a:prstGeom prst="rect">
            <a:avLst/>
          </a:prstGeom>
          <a:ln w="0">
            <a:noFill/>
          </a:ln>
        </p:spPr>
      </p:sp>
      <p:sp>
        <p:nvSpPr>
          <p:cNvPr id="1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33E640-E152-4C8E-A21F-6DA2B4361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54160" y="701640"/>
            <a:ext cx="4626000" cy="3468600"/>
          </a:xfrm>
          <a:prstGeom prst="rect">
            <a:avLst/>
          </a:prstGeom>
          <a:ln w="0">
            <a:noFill/>
          </a:ln>
        </p:spPr>
      </p:sp>
      <p:sp>
        <p:nvSpPr>
          <p:cNvPr id="1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CBDBF4-830E-4A5C-9FBC-EB4152145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54160" y="701640"/>
            <a:ext cx="4626000" cy="3468600"/>
          </a:xfrm>
          <a:prstGeom prst="rect">
            <a:avLst/>
          </a:prstGeom>
          <a:ln w="0">
            <a:noFill/>
          </a:ln>
        </p:spPr>
      </p:sp>
      <p:sp>
        <p:nvSpPr>
          <p:cNvPr id="1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FA2786-FAE9-42AA-9BBA-F8B3F943A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54160" y="701640"/>
            <a:ext cx="4626000" cy="3468600"/>
          </a:xfrm>
          <a:prstGeom prst="rect">
            <a:avLst/>
          </a:prstGeom>
          <a:ln w="0">
            <a:noFill/>
          </a:ln>
        </p:spPr>
      </p:sp>
      <p:sp>
        <p:nvSpPr>
          <p:cNvPr id="1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59DBB4-0E05-4B76-BEAD-1B1A6F7F5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0730F5E-AFFE-4949-89E4-5D68C196E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54160" y="701640"/>
            <a:ext cx="4626000" cy="3468600"/>
          </a:xfrm>
          <a:prstGeom prst="rect">
            <a:avLst/>
          </a:prstGeom>
          <a:ln w="0">
            <a:noFill/>
          </a:ln>
        </p:spPr>
      </p:sp>
      <p:sp>
        <p:nvSpPr>
          <p:cNvPr id="8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C5F4BC-E554-48EB-B7EF-D8E52BFC8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1154160" y="701640"/>
            <a:ext cx="4626000" cy="3468600"/>
          </a:xfrm>
          <a:prstGeom prst="rect">
            <a:avLst/>
          </a:prstGeom>
          <a:ln w="0">
            <a:noFill/>
          </a:ln>
        </p:spPr>
      </p:sp>
      <p:sp>
        <p:nvSpPr>
          <p:cNvPr id="8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87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74"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8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34FC0C-EF43-4F31-A2CB-7ADF68B67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54160" y="701640"/>
            <a:ext cx="4626000" cy="3468600"/>
          </a:xfrm>
          <a:prstGeom prst="rect">
            <a:avLst/>
          </a:prstGeom>
          <a:ln w="0">
            <a:noFill/>
          </a:ln>
        </p:spPr>
      </p:sp>
      <p:sp>
        <p:nvSpPr>
          <p:cNvPr id="87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9F4DB7-0F02-4E13-BEA1-17E027449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54160" y="701640"/>
            <a:ext cx="4626000" cy="3468600"/>
          </a:xfrm>
          <a:prstGeom prst="rect">
            <a:avLst/>
          </a:prstGeom>
          <a:ln w="0">
            <a:noFill/>
          </a:ln>
        </p:spPr>
      </p:sp>
      <p:sp>
        <p:nvSpPr>
          <p:cNvPr id="8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8FB91-236B-4609-9E2E-A132EFE73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53C2-F308-4CD2-A1A9-474489F85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4B1E9-9EE2-4BDC-9C49-40D264266F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EDEB8B-ACC2-4B49-A44C-22CCA1BDA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95A37-3688-4B6F-9D3E-865BC3092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6CA96-3136-44CC-B59E-8D758129F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9315C-2D02-4789-A668-C65EA19A3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C7E76-824B-4456-BA2F-A2ABD5549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80E84-4393-45E4-B2AF-89F30880F5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10DD18-F7A4-42F4-94C0-FB0B96F55C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9B1874-335E-4BD1-9D86-8E7AF16FB6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41FDDB-AC1E-430C-AD27-0C61B7C650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61CFB-1D83-4B29-AF43-D23B6862A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9ED147-C236-4018-A63E-58352B9821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71127A-1B56-49A9-8824-227411ECED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38055C-1B83-4C94-8485-65B2A4B40D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F89507-5FCF-497A-824C-0BAF13E29E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46C9A9-FC9E-4CD8-9F5B-2521CEA665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496216-9449-4C87-B007-9698565B01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5A69D-912A-475F-BB1F-F599AEBFBB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7B031F-FF8C-4E7F-9DF9-B565FEC0E8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E4A1C2-057D-417F-ABC2-DA5113C60C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E9A044-3BDD-47AF-8756-42C7249001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312D4-BD08-4CC6-A6F6-1DF912805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9D46EA-8390-4EBD-A9B4-2B44B5B9A4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BEACC0-FE9C-46FE-8003-C275231F9A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BD9428-36CE-4FE2-AE09-3D8AF88F60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C1D9C1-1685-411C-A671-A669E5B54C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ACD612-E823-4CCC-8049-B7CB66DD8A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6CF4D6-213B-4EB0-8166-0EAAB1B967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A2174C-BA26-40DA-8172-24C84C8360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4E884-B8A8-449C-829D-3AFE6B47C3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5B46F-01F5-4B41-A323-66ED004F4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172AE7-3BF3-4AB6-8E2C-8737EB2AA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EFA55-5288-4554-BDD6-6BBC2B0FF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9E35B5-FCF8-4D36-8A0D-4D9A7D48E8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CABB6D-5B97-440E-8CB3-FF563F505D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8FA9BB-5B28-48DC-BDAD-5D8A78717E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2DD974-48C2-43BD-95BB-D62CFD72F3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B375D2-30AD-4F6C-A419-D4DAD3AF0B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007601-85D1-4A1C-9C0C-D535F59F5C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EE641E-8A11-4A8A-A540-8777627556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4620C0-5879-4D78-B9CC-90D1606254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89274B-C993-4478-BE31-15DD0F9181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C5ED16-5D72-45CB-A0DE-53E0C3611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77C59-B8A3-41F6-929E-1A95BAA6A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3397B7-D932-4C5D-827D-F946EFF50D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5F2053-0C9A-4DD6-999D-0E45FCC75E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0EC0A4-12A0-4DFF-9463-B0E1D562D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125E8C-2BB3-439E-BA3F-CD269A6DB8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E3D3F0-E558-4091-A43A-4926405E76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4BDB9-DD7B-4984-A5DB-CD29976B8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9B1FA-A9FF-48C5-BAA1-870EA425C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25BE6-17DB-408A-A795-DFBEF6ED6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911CC-A672-4ABC-8F03-5BAF4CF19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A403A-9285-4990-9FDD-A9B0E1F5B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152CE-0BD3-4C95-ADDA-B9626B727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51753-BF02-4F82-915F-D0ECAA1BD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2CFE9-7D04-43D8-9713-4DB3F3848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3B88A-654E-4013-85D4-1EF8CDFC8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520A8-CDFF-4575-8CB1-454F03407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D815A-45C0-4BDE-90AC-989895AA4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EA2209-2BA3-4BFE-9DC7-E826AB1C9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7F3CD-5402-49B1-8EC2-DE64EA037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111D0-6064-428C-AB9E-CAFB697D3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95FAA-F24E-487E-8CED-BFC8637B0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78D4D-EB24-407D-8FFE-DB063E980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14EC-FB7B-4567-8838-E2017576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2BA57-D2C8-4C3E-A44B-0AD43E432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5454C-A870-4910-B231-3C423A5DB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0729C-DB84-4DFA-B1FA-B98E750D6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B6058-41E6-4B78-870F-90B31FE40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7F716-A859-4AFA-B95B-35766E55E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E68723-4648-402B-A028-2E3B41D45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609AC-CB07-4EE3-A24E-F756EACD1A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0E2496-BBE3-4A0A-BADC-2DE8CECA48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3EFEA-4394-4856-94B3-6977D9E0C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9F212-AF1C-4729-B2A3-096E94CAE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4F72-5AA4-4903-8440-5FDD5CCBE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DA5EA-4710-4A57-915C-5041B8E11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6E7A1-8DA1-4170-BC03-BE94CA49F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64322-362F-4E8E-8C51-D07D9E800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A6790-E5E6-42D5-9416-345107FDA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FE2CD-EE25-4CD0-937F-E0FBD788F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BE73C-DED3-458D-9447-7C9777133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7EF89-1409-4110-86FA-E51D258D0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5CB003-A6DC-402F-83D9-4D7E7FB70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1F4898-879F-4256-A44E-79DF8141FF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24FDE-DD57-407F-9A3D-42075FE98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A227-EEA0-4A3C-A665-A9F544C7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AD412-6592-4580-8876-959506F05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06B23-A058-46BD-90D5-AEA1ADDFB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121EE-1853-4B77-A021-1B9FFD965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001EE-199F-42FE-AA7C-3E8D22A4A5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9415D-A96D-4229-BC02-C0B42760D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9FCE7-9779-4BB6-B3C5-4F9CD1334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D1623-F757-49F7-A178-6E15120E1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C9F2E-718F-4FD2-8FDA-AEADA04D3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A61C1-10B9-446C-A638-54537BA96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6260B-8045-4580-843A-462F99A70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3BEC-A652-4766-AEA4-1B77A4A8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E2E69-C2B2-4A8B-B376-8294E3E279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2AA90-FA31-4632-B1BE-69CAA15D64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DBCBB-413B-4523-9CB0-58680D111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31051-5459-4B5D-8EB4-00BEA4DB9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0E48C4-0A14-4B45-91A5-DC27716F9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A9CD9-89EE-47AB-B77E-13506DFBC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CF9F7-494E-4943-8CFE-07D56FBF3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DA0B5-534F-4A9B-8331-91A8158E3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122F0-C57E-4153-82C4-71A75A461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FFFFB-C697-4ECA-936F-55407B8A6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25CA-7A56-4C02-91E4-CB157954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83E16-BFDA-470A-974A-9B38BE04E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A2AD7E-3444-4D5A-8B4D-AC83061D3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AD64CE-245A-4E10-A3A7-B708A30453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DC46F0-AC40-472D-8341-7BEE7D59B8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F25EC-CFCD-48B5-B59D-A4874CD69D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F62BF-00D4-4695-B9E3-AE8234CA6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C1D6B-9BC5-4A1F-BB9D-5596EB4B7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3BEEA-EC3A-455E-918A-0057009B10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54C07-B905-4284-838E-AC4F93967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16BF5-B243-48CC-AFF7-28833FB70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C504-6239-4808-97FA-B0AB248C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291F0-CF88-4966-A1C6-9A8792830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C4AE7-5BFE-415D-9B0D-1C12FD5C1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395E56-78B8-446C-AE29-968ABD01B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E74329-FFDB-4C91-BF87-F8348E7EA8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D13174-6814-47AC-BE48-9B6D0510E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7239C-7B49-40A7-B8D0-9A70E0E9F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93B57D-B97A-4324-9F52-D19C6480AE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E2969-1120-4FB3-8CAA-802BB70CE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3BB44-79DC-43C7-BC1D-00D018BA0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A5F6A-AF21-4B6C-8743-9B7B4F0AA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016E3-9457-4BBF-9DA3-D74E4E726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F6B0C-B42A-4D87-BF5D-0757836D5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48E14-B0A5-4295-BCA4-697BDBD4A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21EAD-63C4-4B80-8BFE-377CB38AF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BF2E2-91A5-427E-84E9-8988079B8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17BE9-393E-4716-BD67-41B467060E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88DDC0-4A83-48F9-82E7-1A91004A9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C1D1C3-4C9A-4734-B69A-654A15CBAE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9FF32-172B-45E1-84C7-A9D69C61DF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AB44E-D7DC-4A16-89BB-79A4B06FED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FB5C75-DBD8-48FA-8FD0-9B0729F496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13AA840-2FFD-4A68-AC08-0F45AEFB8A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E48F065-0F80-4DA9-B205-1B289B0DED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1CDB36-5E83-445F-9D87-BEFAB16BDB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FC4E711-C477-4E1A-811F-602CF2CF56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2E28D1C-519A-4A7F-B431-13485E6E7D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0184D6-FF3C-4021-A5AE-C34A12E7D5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34706A2-41B0-4B52-9AFF-D3771F58D6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4DAAB7-A687-407E-9B94-87E9E3E5AB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623A870-201C-49AE-8938-13BB1681AB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9212772-55DB-437A-823E-E23D34726F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FBCBDC0-C89A-400D-8AC0-552B96B5F2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727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9B57871-54D3-4B10-A7BC-996E986493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8/11-18-1681-02-00ay-tg-ay-september-2018-waikoloa-village-meeting-minutes.docx" TargetMode="External"/><Relationship Id="rId2" Type="http://schemas.openxmlformats.org/officeDocument/2006/relationships/hyperlink" Target="https://mentor.ieee.org/802.11/dcn/18/11-18-1681-02-00ay-tg-ay-september-2018-waikoloa-village-meeting-minutes.docx" TargetMode="External"/><Relationship Id="rId3" Type="http://schemas.openxmlformats.org/officeDocument/2006/relationships/hyperlink" Target="https://mentor.ieee.org/802.11/dcn/18/11-18-1681-02-00ay-tg-ay-september-2018-waikoloa-village-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8/11-18-1718-04-00ay-task-group-ay-october-2018-conference-call-meeting-minutes.docx" TargetMode="External"/><Relationship Id="rId2" Type="http://schemas.openxmlformats.org/officeDocument/2006/relationships/hyperlink" Target="https://mentor.ieee.org/802.11/dcn/18/11-18-1793-00-00ay-tg-ay-november-7-2018-conference-call-meeting-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3/11-13-0230-03-0000-comment-resolution-tutorial.ppt" TargetMode="External"/><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4B9DD2-24A8-46C8-9032-F8EE1026D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018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11</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957BFA-176E-4DFA-8C3C-1375BEBA3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cuments are prepared by individuals, not compani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CE12DA-9DDA-4342-9548-18F12AF4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270C0A-B64E-4F4C-8AC9-705CF5E60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66408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oexistence Assurance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7AB713-36D3-48D4-89E6-776798C8D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696080" cy="4132440"/>
        </p:xfrm>
        <a:graphic>
          <a:graphicData uri="http://schemas.openxmlformats.org/drawingml/2006/table">
            <a:tbl>
              <a:tblPr/>
              <a:tblGrid>
                <a:gridCol w="855720"/>
                <a:gridCol w="1398240"/>
                <a:gridCol w="1400400"/>
                <a:gridCol w="1398600"/>
                <a:gridCol w="1398600"/>
                <a:gridCol w="12445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728649-069D-43CD-ABD3-8F2E01906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657BAC-96C1-4921-8F2A-83F228D07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 for each se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6C10D2-E81D-4BF4-A88B-6DE1CB03D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ew/upda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Letter Ballot LB #23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D24679-8DA2-408A-AF4C-0EEA0CE0F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8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 submissions are covered during the meeting covering areas related to:</a:t>
            </a:r>
            <a:endParaRPr b="0" lang="en-US" sz="24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resolution on Letter Ballot 234 (Draft 2.0)</a:t>
            </a:r>
            <a:endParaRPr b="0" lang="en-US" sz="1800" spc="-1" strike="noStrike">
              <a:solidFill>
                <a:srgbClr val="000000"/>
              </a:solidFill>
              <a:latin typeface="Times New Roman"/>
            </a:endParaRPr>
          </a:p>
          <a:p>
            <a:pPr lvl="1" marL="800280" indent="-343080" algn="just">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presentation</a:t>
            </a:r>
            <a:endParaRPr b="0" lang="en-US" sz="18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83 technical CIDs are resolved and approved.</a:t>
            </a:r>
            <a:endParaRPr b="0" lang="en-US" sz="2400" spc="-1" strike="noStrike">
              <a:solidFill>
                <a:srgbClr val="000000"/>
              </a:solidFill>
              <a:latin typeface="Times New Roman"/>
            </a:endParaRPr>
          </a:p>
          <a:p>
            <a:pPr lvl="1" marL="800280" indent="-343080" algn="just">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7C53CC-DF4A-4324-AF86-33AF3A61D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October 2018 teleconference calls</a:t>
            </a:r>
            <a:endParaRPr b="0" lang="en-US" sz="3200" spc="-1" strike="noStrike">
              <a:solidFill>
                <a:srgbClr val="000000"/>
              </a:solidFill>
              <a:latin typeface="Times New Roman"/>
            </a:endParaRPr>
          </a:p>
        </p:txBody>
      </p:sp>
      <p:sp>
        <p:nvSpPr>
          <p:cNvPr id="6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5" name=""/>
          <p:cNvGraphicFramePr/>
          <p:nvPr/>
        </p:nvGraphicFramePr>
        <p:xfrm>
          <a:off x="696960" y="1727280"/>
          <a:ext cx="7913520" cy="421488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78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X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7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3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EDMG encoding example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3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nex I text for EDMG encoding examples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0</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LB234 comment resolutions – Coexistence Assurance Document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Coexistenc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17</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ID resolution – part X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XVECTOR comments of LB23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ctober 31</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ED5CA0-1DA3-4897-AEC1-4BB1C77E3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Documents reviewed i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ovember 2018 teleconference calls</a:t>
            </a:r>
            <a:endParaRPr b="0" lang="en-US" sz="3200" spc="-1" strike="noStrike">
              <a:solidFill>
                <a:srgbClr val="000000"/>
              </a:solidFill>
              <a:latin typeface="Times New Roman"/>
            </a:endParaRPr>
          </a:p>
        </p:txBody>
      </p:sp>
      <p:sp>
        <p:nvSpPr>
          <p:cNvPr id="6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96960" y="1716120"/>
          <a:ext cx="7913520" cy="1147680"/>
        </p:xfrm>
        <a:graphic>
          <a:graphicData uri="http://schemas.openxmlformats.org/drawingml/2006/table">
            <a:tbl>
              <a:tblPr/>
              <a:tblGrid>
                <a:gridCol w="979560"/>
                <a:gridCol w="1752480"/>
                <a:gridCol w="3581280"/>
                <a:gridCol w="16002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Da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77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s to CIDs related to TDD scheduling, channel access and power save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vember 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Bangkok, Thailand</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1 - 16, 2018</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LitePoint)</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3E3C45-9FC9-4F02-92F6-7A1154F73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D7C6C4-2748-428E-AEDD-160F0A643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graphicFrame>
        <p:nvGraphicFramePr>
          <p:cNvPr id="655" name=""/>
          <p:cNvGraphicFramePr/>
          <p:nvPr/>
        </p:nvGraphicFramePr>
        <p:xfrm>
          <a:off x="685800" y="1676520"/>
          <a:ext cx="7772400" cy="411480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08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7/0186r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18/1483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146E8D-963B-487B-8E10-2FE771702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4: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8 meeting minutes</a:t>
            </a:r>
            <a:endParaRPr b="0" lang="en-US" sz="3200" spc="-1" strike="noStrike">
              <a:solidFill>
                <a:srgbClr val="000000"/>
              </a:solidFill>
              <a:latin typeface="Times New Roman"/>
            </a:endParaRPr>
          </a:p>
        </p:txBody>
      </p:sp>
      <p:sp>
        <p:nvSpPr>
          <p:cNvPr id="65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meetings from September 2018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8/11-18-1681-02-00ay-tg-ay-september-2018-waikoloa-village-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B8922F-201E-44B7-A1FA-1A07DD953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380880" y="533520"/>
            <a:ext cx="83059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ctober/November teleconference call minutes</a:t>
            </a:r>
            <a:endParaRPr b="0" lang="en-US" sz="3200" spc="-1" strike="noStrike">
              <a:solidFill>
                <a:srgbClr val="000000"/>
              </a:solidFill>
              <a:latin typeface="Times New Roman"/>
            </a:endParaRPr>
          </a:p>
        </p:txBody>
      </p:sp>
      <p:sp>
        <p:nvSpPr>
          <p:cNvPr id="66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October 3, October 10, October 17, October 31, and November 7:</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8/11-18-1718-04-00ay-task-group-ay-october-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8/11-18-1793-00-00ay-tg-ay-november-7-2018-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6B545D-FB62-4E4B-BB29-2DF6B52CF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51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1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s - PHY and BF II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1,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1292F1-189C-4B5F-9D6A-19AD428F3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7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96960" y="1650960"/>
          <a:ext cx="7913520" cy="2567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DD sector switch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4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39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SAR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30mi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  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hannel aggregation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 PM2,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23FC1E-6044-435D-BE83-B32F2EE27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7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0" name=""/>
          <p:cNvGraphicFramePr/>
          <p:nvPr/>
        </p:nvGraphicFramePr>
        <p:xfrm>
          <a:off x="696960" y="1650960"/>
          <a:ext cx="7913520" cy="421344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6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MIMO BF</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2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Resolution on CID 345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3289 and 3533-35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460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editorial com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4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s related to section 9.4.2.21.1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8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to CID related to CH_BANDWID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2,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2EA373-23A9-4CFB-858B-A28D321DB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8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8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85" name=""/>
          <p:cNvGraphicFramePr/>
          <p:nvPr/>
        </p:nvGraphicFramePr>
        <p:xfrm>
          <a:off x="696960" y="1650960"/>
          <a:ext cx="7913520" cy="3892680"/>
        </p:xfrm>
        <a:graphic>
          <a:graphicData uri="http://schemas.openxmlformats.org/drawingml/2006/table">
            <a:tbl>
              <a:tblPr/>
              <a:tblGrid>
                <a:gridCol w="979560"/>
                <a:gridCol w="1752480"/>
                <a:gridCol w="3581280"/>
                <a:gridCol w="1600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ssaf Kash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ID 3460 resolu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1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91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hamed Abouelseou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91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518 tex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7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omas Handt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TXVECTOR comments of LB23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6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6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eng Ch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s to CIDs related to TDD scheduling, channel access and power save -part 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uogang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DD BF related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1, 25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D8FA7E-A95D-447C-8404-C796639DB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8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0" name=""/>
          <p:cNvGraphicFramePr/>
          <p:nvPr/>
        </p:nvGraphicFramePr>
        <p:xfrm>
          <a:off x="696960" y="1650960"/>
          <a:ext cx="7913520" cy="311616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orge Calc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IDs for line of sight determin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posed resolution of CID 344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9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 on CID 336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uj Batr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Technica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5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ris Hanse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Unsolicited Block ACK Resolution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AM1, 3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204451-A947-47F1-B370-30A2A229A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9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5" name=""/>
          <p:cNvGraphicFramePr/>
          <p:nvPr/>
        </p:nvGraphicFramePr>
        <p:xfrm>
          <a:off x="696960" y="1650960"/>
          <a:ext cx="7913520" cy="2017800"/>
        </p:xfrm>
        <a:graphic>
          <a:graphicData uri="http://schemas.openxmlformats.org/drawingml/2006/table">
            <a:tbl>
              <a:tblPr/>
              <a:tblGrid>
                <a:gridCol w="979560"/>
                <a:gridCol w="1752480"/>
                <a:gridCol w="3581280"/>
                <a:gridCol w="1600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7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olution of CID 346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2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79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lomon Train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introduction to TDD general and TDD MLME CID'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1, 40m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8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B234 comment resolution for CID 3358 and other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95CF32-C32F-4785-B49E-857FED76B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p:nvPr>
        </p:nvSpPr>
        <p:spPr>
          <a:xfrm>
            <a:off x="685440" y="1294920"/>
            <a:ext cx="4343400" cy="495324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items for the week</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  Approve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 for each se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ew/updat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4:00pm – 6:0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10:30am – 12: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699" name="Rectangle 3"/>
          <p:cNvSpPr/>
          <p:nvPr/>
        </p:nvSpPr>
        <p:spPr>
          <a:xfrm>
            <a:off x="4876920" y="1295280"/>
            <a:ext cx="41148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resolution/Presentation</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for January 2019 interim</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0D689E-10D6-44F8-A861-24EADCAF7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November 2018 plenary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C7503C-9399-4411-8CDF-3143F7A6C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as of May 2018 interim</a:t>
            </a:r>
            <a:endParaRPr b="0" lang="en-US" sz="3200" spc="-1" strike="noStrike">
              <a:solidFill>
                <a:srgbClr val="000000"/>
              </a:solidFill>
              <a:latin typeface="Times New Roman"/>
            </a:endParaRPr>
          </a:p>
        </p:txBody>
      </p:sp>
      <p:sp>
        <p:nvSpPr>
          <p:cNvPr id="70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06" name="Rectangle 3"/>
          <p:cNvSpPr/>
          <p:nvPr/>
        </p:nvSpPr>
        <p:spPr>
          <a:xfrm>
            <a:off x="771480" y="183996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07:  Draft 2.0  </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8/11:  Form Sponsor Ballot Poo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1:  Initial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5:  Recirculation Sponsor Ballo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09:  Final 802.11 WG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1:  Final EC Approval</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9/12:  RevCom &amp; Standards Board Final</a:t>
            </a:r>
            <a:endParaRPr b="0" lang="en-US" sz="2400" spc="-1" strike="noStrike">
              <a:solidFill>
                <a:srgbClr val="000000"/>
              </a:solidFill>
              <a:latin typeface="Times New Roman"/>
            </a:endParaRPr>
          </a:p>
          <a:p>
            <a:pPr lvl="1" marL="743040" indent="-28584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5F023E-F44A-4BA0-9DB6-FC480B9B8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timeline for discussion/approval</a:t>
            </a:r>
            <a:endParaRPr b="0" lang="en-US" sz="3200" spc="-1" strike="noStrike">
              <a:solidFill>
                <a:srgbClr val="000000"/>
              </a:solidFill>
              <a:latin typeface="Times New Roman"/>
            </a:endParaRPr>
          </a:p>
        </p:txBody>
      </p:sp>
      <p:sp>
        <p:nvSpPr>
          <p:cNvPr id="70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1" name="Rectangle 3"/>
          <p:cNvSpPr/>
          <p:nvPr/>
        </p:nvSpPr>
        <p:spPr>
          <a:xfrm>
            <a:off x="771480" y="1839960"/>
            <a:ext cx="7772400" cy="4484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1:  Draft 3.0 Letter Ballot recirculation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2:  Complete Mandatory Draft Review</a:t>
            </a:r>
            <a:endParaRPr b="0" lang="en-US" sz="1800" spc="-1" strike="noStrike">
              <a:solidFill>
                <a:srgbClr val="000000"/>
              </a:solidFill>
              <a:latin typeface="Times New Roman"/>
            </a:endParaRPr>
          </a:p>
          <a:p>
            <a:pPr marL="335880" indent="-3358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019/03:  Form Sponsor Ballot Pool </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5:  Draft 4.0 Letter Ballot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Seek EC approval for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7:  Draft 4.0 unchanged recirculation</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08:  Initial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1: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3:  Second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5:  Third Recirculation Sponsor Ballot</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Final 802.11 WG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07:  Final EC Approval</a:t>
            </a:r>
            <a:endParaRPr b="0" lang="en-US" sz="18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 Fall:  RevCom &amp; Standards Board Final</a:t>
            </a:r>
            <a:endParaRPr b="0" lang="en-US" sz="1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Reminder on </a:t>
            </a:r>
            <a:br>
              <a:rPr sz="3200"/>
            </a:br>
            <a:r>
              <a:rPr b="1" lang="en-CA" sz="3200" spc="-1" strike="noStrike">
                <a:solidFill>
                  <a:srgbClr val="000000"/>
                </a:solidFill>
                <a:latin typeface="Times New Roman"/>
                <a:ea typeface="Times New Roman"/>
              </a:rPr>
              <a:t>the development of draft amendment</a:t>
            </a:r>
            <a:endParaRPr b="1" lang="en-US" sz="3200" spc="-1" strike="noStrike">
              <a:solidFill>
                <a:srgbClr val="000000"/>
              </a:solidFill>
              <a:latin typeface="Times New Roman"/>
            </a:endParaRPr>
          </a:p>
        </p:txBody>
      </p:sp>
      <p:sp>
        <p:nvSpPr>
          <p:cNvPr id="71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1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08F9F2-2164-4A3F-AE49-1BD68B003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From 15/1079r2:</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he draft amendment requires at least 75% TG approval.</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Recommend to conduct </a:t>
            </a:r>
            <a:r>
              <a:rPr b="1" lang="en-US" sz="2400" spc="-1" strike="noStrike">
                <a:solidFill>
                  <a:srgbClr val="000000"/>
                </a:solidFill>
                <a:latin typeface="Times New Roman"/>
                <a:ea typeface="Times New Roman"/>
              </a:rPr>
              <a:t>straw polls first to gauge the interest of the TG:</a:t>
            </a:r>
            <a:endParaRPr b="1"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ly straw polls that achieve at least 75% approval rate will be converted to motion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4A2C57-AF37-41A4-BDE8-78750449E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comment resolution</a:t>
            </a:r>
            <a:endParaRPr b="0" lang="en-US" sz="3200" spc="-1" strike="noStrike">
              <a:solidFill>
                <a:srgbClr val="000000"/>
              </a:solidFill>
              <a:latin typeface="Times New Roman"/>
            </a:endParaRPr>
          </a:p>
        </p:txBody>
      </p:sp>
      <p:sp>
        <p:nvSpPr>
          <p:cNvPr id="71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721"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ew reminder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e proposed resolution is executable by the Editor, e.g., please avoid that there is not enough info to be able for the Editor to resolve the comment without creating text by himself.</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o call out not only the page and line number, but also the draft version and clause number in your comment resolution document, because the page and line numbers (also the figure and table numbers) change on subsequent revisions of the drafts</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1391-00-0000-september-2018-working-group-chair-supplementary-material.pp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230-03-0000-comment-resolution-tutorial.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FADA3B-93AF-4CAC-8C81-C366D8134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6:  Comment Resolution</a:t>
            </a:r>
            <a:endParaRPr b="0" lang="en-US" sz="3200" spc="-1" strike="noStrike">
              <a:solidFill>
                <a:srgbClr val="000000"/>
              </a:solidFill>
              <a:latin typeface="Times New Roman"/>
            </a:endParaRPr>
          </a:p>
        </p:txBody>
      </p:sp>
      <p:sp>
        <p:nvSpPr>
          <p:cNvPr id="72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a:t>
            </a:r>
            <a:endParaRPr b="0" lang="en-US" sz="20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a:t>
            </a:r>
            <a:r>
              <a:rPr b="0" lang="en-GB" sz="1600" spc="-1" strike="noStrike">
                <a:solidFill>
                  <a:srgbClr val="000000"/>
                </a:solidFill>
                <a:latin typeface="Times New Roman"/>
              </a:rPr>
              <a:t>3311, 3382, 3312, 3313, 3314, 3315, 3316, 3331, 3332, 3333, 3334, 3375, </a:t>
            </a:r>
            <a:r>
              <a:rPr b="0" lang="en-GB" sz="1600" spc="-1" strike="noStrike">
                <a:solidFill>
                  <a:srgbClr val="000000"/>
                </a:solidFill>
                <a:latin typeface="Times New Roman"/>
              </a:rPr>
              <a:t>	</a:t>
            </a:r>
            <a:r>
              <a:rPr b="0" lang="en-GB" sz="1600" spc="-1" strike="noStrike">
                <a:solidFill>
                  <a:srgbClr val="000000"/>
                </a:solidFill>
                <a:latin typeface="Times New Roman"/>
              </a:rPr>
              <a:t>3376, 3596, 3622, 3704, 3377, 3623, 3705, 3201, 3378, 3624, 3706, 3202, 3625, </a:t>
            </a:r>
            <a:r>
              <a:rPr b="0" lang="en-GB" sz="1600" spc="-1" strike="noStrike">
                <a:solidFill>
                  <a:srgbClr val="000000"/>
                </a:solidFill>
                <a:latin typeface="Times New Roman"/>
              </a:rPr>
              <a:t>	</a:t>
            </a:r>
            <a:r>
              <a:rPr b="0" lang="en-GB" sz="1600" spc="-1" strike="noStrike">
                <a:solidFill>
                  <a:srgbClr val="000000"/>
                </a:solidFill>
                <a:latin typeface="Times New Roman"/>
              </a:rPr>
              <a:t>3301, 3732, 3175, 3720, 3721, 3724, 3212, 3213, 3178, 3179, 3725, 3214, 3730, </a:t>
            </a:r>
            <a:r>
              <a:rPr b="0" lang="en-GB" sz="1600" spc="-1" strike="noStrike">
                <a:solidFill>
                  <a:srgbClr val="000000"/>
                </a:solidFill>
                <a:latin typeface="Times New Roman"/>
              </a:rPr>
              <a:t>	</a:t>
            </a:r>
            <a:r>
              <a:rPr b="0" lang="en-GB" sz="1600" spc="-1" strike="noStrike">
                <a:solidFill>
                  <a:srgbClr val="000000"/>
                </a:solidFill>
                <a:latin typeface="Times New Roman"/>
              </a:rPr>
              <a:t>3722, 3602, 3381, 3380, 3268, 3177, 3180, 3181, 3172, 3173, 3174, 3183, 3090, </a:t>
            </a:r>
            <a:r>
              <a:rPr b="0" lang="en-GB" sz="1600" spc="-1" strike="noStrike">
                <a:solidFill>
                  <a:srgbClr val="000000"/>
                </a:solidFill>
                <a:latin typeface="Times New Roman"/>
              </a:rPr>
              <a:t>	</a:t>
            </a:r>
            <a:r>
              <a:rPr b="0" lang="en-GB" sz="1600" spc="-1" strike="noStrike">
                <a:solidFill>
                  <a:srgbClr val="000000"/>
                </a:solidFill>
                <a:latin typeface="Times New Roman"/>
              </a:rPr>
              <a:t>3091, 3166, 3740, 3086, 3092, 3093, 3088, 3087, 3089, 3130, 3120, 3121, 3122, </a:t>
            </a:r>
            <a:r>
              <a:rPr b="0" lang="en-GB" sz="1600" spc="-1" strike="noStrike">
                <a:solidFill>
                  <a:srgbClr val="000000"/>
                </a:solidFill>
                <a:latin typeface="Times New Roman"/>
              </a:rPr>
              <a:t>	</a:t>
            </a:r>
            <a:r>
              <a:rPr b="0" lang="en-GB" sz="1600" spc="-1" strike="noStrike">
                <a:solidFill>
                  <a:srgbClr val="000000"/>
                </a:solidFill>
                <a:latin typeface="Times New Roman"/>
              </a:rPr>
              <a:t>3123, 3062, 3064, and 3065 </a:t>
            </a:r>
            <a:r>
              <a:rPr b="0" lang="en-US" sz="1600" spc="-1" strike="noStrike">
                <a:solidFill>
                  <a:srgbClr val="000000"/>
                </a:solidFill>
                <a:latin typeface="Times New Roman"/>
              </a:rPr>
              <a:t>as proposed in 18/1678r1;</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 3667 as proposed in 18/1347r0;  and</a:t>
            </a:r>
            <a:endParaRPr b="0" lang="en-US" sz="1600" spc="-1" strike="noStrike">
              <a:solidFill>
                <a:srgbClr val="000000"/>
              </a:solidFill>
              <a:latin typeface="Times New Roman"/>
            </a:endParaRPr>
          </a:p>
          <a:p>
            <a:pPr lvl="1" marL="515880" indent="3985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Ds 3317, 3318, 3319, 3320, 3321, 3322, 3323, 3324, 3325, 3326, 3327, 3328, </a:t>
            </a:r>
            <a:r>
              <a:rPr b="0" lang="en-US" sz="1600" spc="-1" strike="noStrike">
                <a:solidFill>
                  <a:srgbClr val="000000"/>
                </a:solidFill>
                <a:latin typeface="Times New Roman"/>
              </a:rPr>
              <a:t>	</a:t>
            </a:r>
            <a:r>
              <a:rPr b="0" lang="en-US" sz="1600" spc="-1" strike="noStrike">
                <a:solidFill>
                  <a:srgbClr val="000000"/>
                </a:solidFill>
                <a:latin typeface="Times New Roman"/>
              </a:rPr>
              <a:t>3329, 3330, and 3288 as proposed in 18/1753r0.</a:t>
            </a: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435DE3-44BE-4082-A630-262066A0A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7:  Comment Resolution for Coexistence Assurance Document</a:t>
            </a:r>
            <a:endParaRPr b="0" lang="en-US" sz="3200" spc="-1" strike="noStrike">
              <a:solidFill>
                <a:srgbClr val="000000"/>
              </a:solidFill>
              <a:latin typeface="Times New Roman"/>
            </a:endParaRPr>
          </a:p>
        </p:txBody>
      </p:sp>
      <p:sp>
        <p:nvSpPr>
          <p:cNvPr id="72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31, 3272, 3672, 3675, 3674, 3678, 3681, 3677, 3676, 3683, 3682, 3686, 3673, 3687, 3684, 3679, 3680, and 3685 as proposed in 18/1691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3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19ACF4-10AD-41B4-BFD5-1C0EF65BE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8:  Comment Resolution</a:t>
            </a:r>
            <a:endParaRPr b="0" lang="en-US" sz="3200" spc="-1" strike="noStrike">
              <a:solidFill>
                <a:srgbClr val="000000"/>
              </a:solidFill>
              <a:latin typeface="Times New Roman"/>
            </a:endParaRPr>
          </a:p>
        </p:txBody>
      </p:sp>
      <p:sp>
        <p:nvSpPr>
          <p:cNvPr id="73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007, 3267, 3448, 3231, 3719, 3399, 3367, 3525, and 3526 as proposed in 18/1751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3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46B84E-CBA3-4F59-85B0-6B70312E0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9:  Comment Resolution</a:t>
            </a:r>
            <a:endParaRPr b="0" lang="en-US" sz="3200" spc="-1" strike="noStrike">
              <a:solidFill>
                <a:srgbClr val="000000"/>
              </a:solidFill>
              <a:latin typeface="Times New Roman"/>
            </a:endParaRPr>
          </a:p>
        </p:txBody>
      </p:sp>
      <p:sp>
        <p:nvSpPr>
          <p:cNvPr id="73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106, 3107, 3114, 3115, 3116, 3117, 3197, 3274, 3368, 3698, 3695, 3696, 3697, 3699, 3701, 3702, and 3703 as proposed in 18/177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homas Handt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9EFDB3-E7F9-4043-8BFB-7998777ED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0:  Comment Resolution</a:t>
            </a:r>
            <a:endParaRPr b="0" lang="en-US" sz="3200" spc="-1" strike="noStrike">
              <a:solidFill>
                <a:srgbClr val="000000"/>
              </a:solidFill>
              <a:latin typeface="Times New Roman"/>
            </a:endParaRPr>
          </a:p>
        </p:txBody>
      </p:sp>
      <p:sp>
        <p:nvSpPr>
          <p:cNvPr id="74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265, 3437, 3438, 3439, 3440, 3441, 3442, 3483, 3484, 3485, 3486, 3490, 3567, 3568, 3653, 3691, 3726, 3097, 3294, 3459, 3360, 3405, 3406, 3408, 3417, 3434, and 3436 as proposed in 18/1768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heng Che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8E829C-7DF3-4482-942E-D251DF5A3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1:  Comment Resolution</a:t>
            </a:r>
            <a:endParaRPr b="0" lang="en-US" sz="3200" spc="-1" strike="noStrike">
              <a:solidFill>
                <a:srgbClr val="000000"/>
              </a:solidFill>
              <a:latin typeface="Times New Roman"/>
            </a:endParaRPr>
          </a:p>
        </p:txBody>
      </p:sp>
      <p:sp>
        <p:nvSpPr>
          <p:cNvPr id="7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3139, 3271, and 3694 as proposed in 18/1569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B0336BF-2566-4CF3-A637-D974C68D9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807AF5-BD4A-4912-B982-10BA2D772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2:  Comment Resolution</a:t>
            </a:r>
            <a:endParaRPr b="0" lang="en-US" sz="3200" spc="-1" strike="noStrike">
              <a:solidFill>
                <a:srgbClr val="000000"/>
              </a:solidFill>
              <a:latin typeface="Times New Roman"/>
            </a:endParaRPr>
          </a:p>
        </p:txBody>
      </p:sp>
      <p:sp>
        <p:nvSpPr>
          <p:cNvPr id="7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3580 as proposed in 18/1648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C216E7-3E64-4558-888D-5F9CD939D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5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57114A-3884-450F-97B0-341914BEB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4:00pm – 6:00pm</a:t>
            </a:r>
            <a:r>
              <a:rPr b="1" lang="en-US" sz="3600" spc="-1" strike="noStrike">
                <a:solidFill>
                  <a:srgbClr val="ff0000"/>
                </a:solidFill>
                <a:latin typeface="Times New Roman"/>
              </a:rPr>
              <a:t> </a:t>
            </a:r>
            <a:endParaRPr b="0" lang="en-US" sz="36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D6D280-FAAC-407C-82C8-E68E2ED24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1065FB-18A3-40AA-B1DD-131D83699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7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09B7F8-34E1-4179-9E1D-9EE4ED06E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0:30am – 12: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B0F54E-5323-45FF-8B41-B82A7F857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8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B98BD-60BD-4874-8187-F13ADE901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E61CB0-DC50-4ECC-88D0-5BF6E3829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8EE006-CE95-4E44-98CD-54AAC632B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9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B046C11-7ABB-4561-9B81-DE8BFC40C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1F87D6-5492-4243-89D8-C99B785BF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79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7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B3E43F-27FE-42C2-BE9E-22158EC42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0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97E5BE-8552-4779-B42A-9257D39A6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0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63523A-8D98-4842-A5CA-A1A53F25A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3DCB88-1940-4AC9-BF96-ADDBAFB76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A5F31A-2F90-4DDD-BA24-38D32EC0C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19" name="Rectangle 3"/>
          <p:cNvSpPr/>
          <p:nvPr/>
        </p:nvSpPr>
        <p:spPr>
          <a:xfrm>
            <a:off x="685800" y="1676520"/>
            <a:ext cx="77724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9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ther busin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EAC190-3200-413D-9098-0198C0B29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contributions</a:t>
            </a:r>
            <a:endParaRPr b="0" lang="en-US" sz="3200" spc="-1" strike="noStrike">
              <a:solidFill>
                <a:srgbClr val="000000"/>
              </a:solidFill>
              <a:latin typeface="Times New Roman"/>
            </a:endParaRPr>
          </a:p>
        </p:txBody>
      </p:sp>
      <p:sp>
        <p:nvSpPr>
          <p:cNvPr id="8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078822-A099-4063-9CCD-70638BDAF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9 interim</a:t>
            </a:r>
            <a:endParaRPr b="0" lang="en-US" sz="3200" spc="-1" strike="noStrike">
              <a:solidFill>
                <a:srgbClr val="000000"/>
              </a:solidFill>
              <a:latin typeface="Times New Roman"/>
            </a:endParaRPr>
          </a:p>
        </p:txBody>
      </p:sp>
      <p:sp>
        <p:nvSpPr>
          <p:cNvPr id="8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D1CF75-1BBA-4DDD-8F0A-D0DFBA6FB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3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vember 28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5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12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cember 19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anuary 9 (Wednesday), 10:00am ET – 11:30am E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8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875042-77BB-47F9-9C11-DEB8E3C92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3E1099-455F-4ECD-8B58-8C326AA3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8D185FB-1D77-4674-8057-B25A644113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fontScale="99000"/>
          </a:bodyPr>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39480" indent="-3394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35480" indent="-28296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79BD7D-3052-4EF2-9E7B-3CC635058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8</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18</cp:keywords>
  <dc:language>en-US</dc:language>
  <cp:lastModifiedBy>Edward Au</cp:lastModifiedBy>
  <cp:lastPrinted>2014-11-04T15:04:57Z</cp:lastPrinted>
  <dcterms:modified xsi:type="dcterms:W3CDTF">2018-11-10T09:15:31Z</dcterms:modified>
  <cp:revision>7977</cp:revision>
  <dc:subject>Task Group AY November 2015 Meeting Agenda</dc:subject>
  <dc:title>11-18/1727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