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5EEEEBD1-1117-4BD9-8B3D-0A0BD1F7A95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3"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4"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2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F6B4CA7-8440-4BE2-B216-41A7027DE3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6" name="PlaceHolder 1"/>
          <p:cNvSpPr>
            <a:spLocks noGrp="1"/>
          </p:cNvSpPr>
          <p:nvPr>
            <p:ph type="sldImg"/>
          </p:nvPr>
        </p:nvSpPr>
        <p:spPr>
          <a:xfrm>
            <a:off x="1154160" y="701640"/>
            <a:ext cx="4626000" cy="3468600"/>
          </a:xfrm>
          <a:prstGeom prst="rect">
            <a:avLst/>
          </a:prstGeom>
          <a:ln w="0">
            <a:noFill/>
          </a:ln>
        </p:spPr>
      </p:sp>
      <p:sp>
        <p:nvSpPr>
          <p:cNvPr id="62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54160" y="701640"/>
            <a:ext cx="4626000" cy="3468600"/>
          </a:xfrm>
          <a:prstGeom prst="rect">
            <a:avLst/>
          </a:prstGeom>
          <a:ln w="0">
            <a:noFill/>
          </a:ln>
        </p:spPr>
      </p:sp>
      <p:sp>
        <p:nvSpPr>
          <p:cNvPr id="675"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br>
              <a:rPr sz="1200"/>
            </a:br>
            <a:endParaRPr b="0" lang="en-US" sz="1200" spc="-1" strike="noStrike">
              <a:solidFill>
                <a:srgbClr val="000000"/>
              </a:solidFill>
              <a:latin typeface="Times New Roman"/>
            </a:endParaRPr>
          </a:p>
        </p:txBody>
      </p:sp>
      <p:sp>
        <p:nvSpPr>
          <p:cNvPr id="67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7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0780076-0EF8-471E-8A7F-68F6F4F3E0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54160" y="701640"/>
            <a:ext cx="4626000" cy="3468600"/>
          </a:xfrm>
          <a:prstGeom prst="rect">
            <a:avLst/>
          </a:prstGeom>
          <a:ln w="0">
            <a:noFill/>
          </a:ln>
        </p:spPr>
      </p:sp>
      <p:sp>
        <p:nvSpPr>
          <p:cNvPr id="681"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br>
              <a:rPr sz="1200"/>
            </a:br>
            <a:endParaRPr b="0" lang="en-US" sz="1200" spc="-1" strike="noStrike">
              <a:solidFill>
                <a:srgbClr val="000000"/>
              </a:solidFill>
              <a:latin typeface="Times New Roman"/>
            </a:endParaRPr>
          </a:p>
        </p:txBody>
      </p:sp>
      <p:sp>
        <p:nvSpPr>
          <p:cNvPr id="68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8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4CEF2A5-3680-4BF3-AAD5-87DF4B1FC4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54160" y="701640"/>
            <a:ext cx="4626000" cy="3468600"/>
          </a:xfrm>
          <a:prstGeom prst="rect">
            <a:avLst/>
          </a:prstGeom>
          <a:ln w="0">
            <a:noFill/>
          </a:ln>
        </p:spPr>
      </p:sp>
      <p:sp>
        <p:nvSpPr>
          <p:cNvPr id="687"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br>
              <a:rPr sz="1200"/>
            </a:br>
            <a:endParaRPr b="0" lang="en-US" sz="1200" spc="-1" strike="noStrike">
              <a:solidFill>
                <a:srgbClr val="000000"/>
              </a:solidFill>
              <a:latin typeface="Times New Roman"/>
            </a:endParaRPr>
          </a:p>
        </p:txBody>
      </p:sp>
      <p:sp>
        <p:nvSpPr>
          <p:cNvPr id="68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9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9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624E0CD-6FCD-4D9D-B1C8-71EBAD3666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54160" y="701640"/>
            <a:ext cx="4626000" cy="3468600"/>
          </a:xfrm>
          <a:prstGeom prst="rect">
            <a:avLst/>
          </a:prstGeom>
          <a:ln w="0">
            <a:noFill/>
          </a:ln>
        </p:spPr>
      </p:sp>
      <p:sp>
        <p:nvSpPr>
          <p:cNvPr id="693"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br>
              <a:rPr sz="1200"/>
            </a:br>
            <a:endParaRPr b="0" lang="en-US" sz="1200" spc="-1" strike="noStrike">
              <a:solidFill>
                <a:srgbClr val="000000"/>
              </a:solidFill>
              <a:latin typeface="Times New Roman"/>
            </a:endParaRPr>
          </a:p>
        </p:txBody>
      </p:sp>
      <p:sp>
        <p:nvSpPr>
          <p:cNvPr id="69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9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9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9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820BD54-3DEA-43E4-8237-C63538542B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9"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0"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F5DC948-FE90-4E75-B371-2492415196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PlaceHolder 1"/>
          <p:cNvSpPr>
            <a:spLocks noGrp="1"/>
          </p:cNvSpPr>
          <p:nvPr>
            <p:ph type="sldImg"/>
          </p:nvPr>
        </p:nvSpPr>
        <p:spPr>
          <a:xfrm>
            <a:off x="1154160" y="701640"/>
            <a:ext cx="4626000" cy="3468600"/>
          </a:xfrm>
          <a:prstGeom prst="rect">
            <a:avLst/>
          </a:prstGeom>
          <a:ln w="0">
            <a:noFill/>
          </a:ln>
        </p:spPr>
      </p:sp>
      <p:sp>
        <p:nvSpPr>
          <p:cNvPr id="63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5"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6"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BE9A8A01-4183-4622-8CE4-8505D482F03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8" name="PlaceHolder 1"/>
          <p:cNvSpPr>
            <a:spLocks noGrp="1"/>
          </p:cNvSpPr>
          <p:nvPr>
            <p:ph type="sldImg"/>
          </p:nvPr>
        </p:nvSpPr>
        <p:spPr>
          <a:xfrm>
            <a:off x="1147680" y="696960"/>
            <a:ext cx="4640400" cy="3479760"/>
          </a:xfrm>
          <a:prstGeom prst="rect">
            <a:avLst/>
          </a:prstGeom>
          <a:ln w="0">
            <a:noFill/>
          </a:ln>
        </p:spPr>
      </p:sp>
      <p:sp>
        <p:nvSpPr>
          <p:cNvPr id="639"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1"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2"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43"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82B3148D-B5BD-4419-8095-513953780AD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4" name="PlaceHolder 1"/>
          <p:cNvSpPr>
            <a:spLocks noGrp="1"/>
          </p:cNvSpPr>
          <p:nvPr>
            <p:ph type="sldImg"/>
          </p:nvPr>
        </p:nvSpPr>
        <p:spPr>
          <a:xfrm>
            <a:off x="1147680" y="696960"/>
            <a:ext cx="4640400" cy="3479760"/>
          </a:xfrm>
          <a:prstGeom prst="rect">
            <a:avLst/>
          </a:prstGeom>
          <a:ln w="0">
            <a:noFill/>
          </a:ln>
        </p:spPr>
      </p:sp>
      <p:sp>
        <p:nvSpPr>
          <p:cNvPr id="645"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3B4C624-F982-466D-A7E6-ECF6CFF864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7" name="PlaceHolder 1"/>
          <p:cNvSpPr>
            <a:spLocks noGrp="1"/>
          </p:cNvSpPr>
          <p:nvPr>
            <p:ph type="sldImg"/>
          </p:nvPr>
        </p:nvSpPr>
        <p:spPr>
          <a:xfrm>
            <a:off x="1154160" y="701640"/>
            <a:ext cx="4626000" cy="3468600"/>
          </a:xfrm>
          <a:prstGeom prst="rect">
            <a:avLst/>
          </a:prstGeom>
          <a:ln w="0">
            <a:noFill/>
          </a:ln>
        </p:spPr>
      </p:sp>
      <p:sp>
        <p:nvSpPr>
          <p:cNvPr id="64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4B3DD49-3812-4747-AF2B-3C41049D50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0" name="PlaceHolder 1"/>
          <p:cNvSpPr>
            <a:spLocks noGrp="1"/>
          </p:cNvSpPr>
          <p:nvPr>
            <p:ph type="sldImg"/>
          </p:nvPr>
        </p:nvSpPr>
        <p:spPr>
          <a:xfrm>
            <a:off x="1154160" y="701640"/>
            <a:ext cx="4626000" cy="3468600"/>
          </a:xfrm>
          <a:prstGeom prst="rect">
            <a:avLst/>
          </a:prstGeom>
          <a:ln w="0">
            <a:noFill/>
          </a:ln>
        </p:spPr>
      </p:sp>
      <p:sp>
        <p:nvSpPr>
          <p:cNvPr id="65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653"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654"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65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E114930-66FC-4A25-B3A6-C416FCF8B6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6" name="PlaceHolder 1"/>
          <p:cNvSpPr>
            <a:spLocks noGrp="1"/>
          </p:cNvSpPr>
          <p:nvPr>
            <p:ph type="sldImg"/>
          </p:nvPr>
        </p:nvSpPr>
        <p:spPr>
          <a:xfrm>
            <a:off x="1154160" y="701640"/>
            <a:ext cx="4626000" cy="3468600"/>
          </a:xfrm>
          <a:prstGeom prst="rect">
            <a:avLst/>
          </a:prstGeom>
          <a:ln w="0">
            <a:noFill/>
          </a:ln>
        </p:spPr>
      </p:sp>
      <p:sp>
        <p:nvSpPr>
          <p:cNvPr id="657"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9"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0"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6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E27CFBF-8897-4800-AB8A-403806D9C4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2"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663"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664"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665"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0BD4814-A948-470B-B130-C93DF4A72C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6" name="PlaceHolder 1"/>
          <p:cNvSpPr>
            <a:spLocks noGrp="1"/>
          </p:cNvSpPr>
          <p:nvPr>
            <p:ph type="sldImg"/>
          </p:nvPr>
        </p:nvSpPr>
        <p:spPr>
          <a:xfrm>
            <a:off x="1154160" y="701640"/>
            <a:ext cx="4626000" cy="3468600"/>
          </a:xfrm>
          <a:prstGeom prst="rect">
            <a:avLst/>
          </a:prstGeom>
          <a:ln w="0">
            <a:noFill/>
          </a:ln>
        </p:spPr>
      </p:sp>
      <p:sp>
        <p:nvSpPr>
          <p:cNvPr id="66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54160" y="701640"/>
            <a:ext cx="4626000" cy="3468600"/>
          </a:xfrm>
          <a:prstGeom prst="rect">
            <a:avLst/>
          </a:prstGeom>
          <a:ln w="0">
            <a:noFill/>
          </a:ln>
        </p:spPr>
      </p:sp>
      <p:sp>
        <p:nvSpPr>
          <p:cNvPr id="66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7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7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30D84DE-6E68-42AA-ADAC-D25154819D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04266C-7E11-4A10-B1B6-6BA06CDC78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2C8F4-312A-4C72-A73C-362F844D6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FB33B7-E855-46E9-8FF0-5204E10ABF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A94CEC-358C-4303-9089-FFCDB5FD77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D07EDF-549D-4B29-9A26-5120CDE4C9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17B79F-D875-4EA7-8E4E-034F2AD3B3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8DACA8-ABD6-46E2-9245-D12102313D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E98313-E41B-49E8-97ED-768164DC4E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1BBBC7-9DEA-48D7-992D-331193F806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C03A7E3-429E-461A-95B7-AFA100DC831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7ED4449-8FF5-421D-9439-A10ACC278AA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AB297C5-C15A-448F-B119-AAE581C28D7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881790-411A-4452-AD31-C6851F6A45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2CCD053-434E-4AF1-9699-9BA7125AC74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E101B51-8E5E-4F4C-B8DF-1BB3F9DA0A0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3CB1C83-E6BF-42A1-8B05-D7687B37E76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8BD56A8-8CC3-4F28-9E2C-E5F44E1E296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E7E5AAF-E7DE-43A6-A9F3-F94E5BD5A2D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CB73BE7-CE7A-4E88-968C-366ED5668B6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ADCE2A1-78AB-4205-9ED4-09D3B53FECD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8E6631F-CBD1-41A8-8FCD-5E0C2CA38CA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33A082B-E8E0-4EE6-BEBF-F2644312487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D6E1274-FF53-4C88-99D7-BE2EE835090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7446A2-0B94-44DF-A6A1-6ECE1689DB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DF78A44-608C-4CB0-A2E4-F5780CC0650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0508F5F-46B7-4781-BF23-6D30E7E871E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546FD9E-48BC-48A7-9E54-71B7A58FB06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F22D5B5-F90E-4ABC-A631-42ABEAFC3AA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6C7A8C0-8E71-4B1E-A8B2-41699538DC6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4F0F9C7-E4A8-4F1D-A3BE-D5D9969A633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51AD6D2-9032-4542-8946-225FF533C3E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3D0197C-CB1B-4D4E-B826-A9FBB8C1F67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1CE8332-2506-4347-BDCB-9BB5A6AF857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80531EC-A465-44C6-A8E0-44A84A76D3E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6A77FD-DC8B-4C9F-AA3E-1C4A52A6D4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B192DB7-E024-4B92-ABB0-F8D894CC561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A033A04-E7DA-471B-93B6-10852A6BA7C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259C028-45E0-4A7B-A13A-B28DBF53989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00FF087-5698-4933-98B7-EE57A82AC71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1C837E6-1C94-4F33-A912-C904881D09E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ADC8D75-BB00-42EA-AD3F-9BA9056D02F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CF50277-CCCB-4B15-B79C-E2A1EA4A8DB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F238CB5-8877-423C-B5B1-8AA79460313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592D78C-08A5-4D37-98BD-21072AA1E18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7D256B3-99CF-46FC-B67E-CAAA92A9526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67A382-EF19-44D8-B34E-D7BA20807B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888A42F-57DE-4D65-BC98-71E6FBF7926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3D29E8B-3849-4119-8C60-B86A158FBD9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214BB96-CE31-4662-8831-439769E10CC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4A1D238-3C4C-4041-831D-B43A10F85C4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6301A4F-83DE-4ED3-A8B6-866A22F63BC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208799-24CB-440C-8F77-BD30D84FC4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357B26-364D-4C5C-A5FA-06CDD88C5B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C97E45-4CC8-4AAA-BF82-18383D264F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2D159A-FAC5-4E8D-AAB8-0DBEAFE441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D79446-B2FE-44ED-8952-8C9E67FDA4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1FF75-B36D-4604-B76D-2B25C4DC8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B78569-0085-4738-B271-CDB4816A60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937B59-6E83-41CC-BD05-C2D1F72583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546221-46D8-439D-9FA9-7441F52E03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70C7CD-7148-4F93-9CFB-D16E14F1A8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2C7DB8-4D63-43A5-AC05-7689DC4DE3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8A3C6F-A8B9-4878-B12E-3516DFEA9B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F4CEA7-6E64-4EC0-9F48-2CEC1E38D5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DF7B9B-4290-4C27-976A-E471405D62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F421BF-BCC5-4E6E-A510-D0A055D0CD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B436A3-1F65-48D1-BEBA-743AB62B6F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11192-CD85-4712-A13E-2BEEE8D1F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53FDD8-AB00-43D6-81EE-20AEAF552C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2C12E9-5C24-4A1E-8B5F-866D5B59B5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AA3839-4F1E-470F-B1E2-A6C707980A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3DF9EF-1F77-49F6-B214-ED559FD8ED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538173-269A-41A0-B312-88584F0F4F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F9905E-21DF-4C91-8486-2AABAB39E9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C2CE9B-D8ED-48B7-9B3F-7CAA4472A4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A4A8212-EDF6-4CF5-9F7A-AD60F464F5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236799-E0E9-4FAB-BA76-4CA0B7FCB7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DA52F7-E5AA-44E5-A114-9EEF886DAA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20767-B87E-4B0D-A81F-5D5FE4ACF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1D18C0-B751-48C9-9D5B-D3DFFFEFE5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58CB7D-D678-44B8-8998-46C609E786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8322B8-5ED0-46F0-90FF-7FF2F44AB7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54C029-0833-46A3-8400-0535FA59BC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9C85F1-0699-4F0A-8010-1E1EEFDFFF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51C2AD-47EA-4D49-8D0A-36334B907E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634B03-4C55-48F6-9852-9C32624A8B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BEB5D8-4645-471E-8481-DF38F69386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48A265-1CC9-4FDB-A43B-C270216B45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240DB3A-81A1-410C-8F86-18A7BC7F35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4D8AE-6124-44A1-8D5C-920B773FF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B1ACC9-4CCD-4258-A4E7-181C7C1F09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2B5CE5-673B-490B-823A-DD9EEF6C67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41ACE4-D951-4034-8709-95D93FC8AE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D5B6F8-566E-462F-B5B9-26F8F46D54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958676-D25D-4044-B33A-7F282A2B26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08601E-7C1E-45B7-B599-13449930BA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C64C6E-7BA8-423F-B243-3056FE124E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1BFBD2-EE5B-48EF-8656-CD5CEC0C15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F1B223-FE22-4FF0-9E25-364AE2E6C9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8A347D3-DF2B-4134-B1E7-0DEBC77F3C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B4DDA-A691-40D4-AD69-34CF19930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0AFDA1-D0C0-448C-8B7F-33AEF2DEA8E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3F9C8E9-CB2E-47D7-8401-8D342CCD943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230271-4BA1-42CC-AB86-C055F934B6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09D5AB-68D7-4CC9-959B-D12C2B95AA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681767-EAEB-457C-A104-2C0E8AB63F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80D0F1-34F3-4936-A9A1-518F6A40DA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1D4B07-3A7E-417B-8CFC-B65342311E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2B3B9D-0823-4EF5-934F-26023FEED4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C10FCC-8B07-49EC-AFBC-0660819300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1406A4-4FD4-4C10-A368-7686E1A1DD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00BD4-224B-42F0-BD9F-3FDCD4A24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D383DC-E0CA-4734-BB2D-E3961D301C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1AD5589-A941-4F2F-9D71-8427E14EC59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C8DAF4D-C102-4FE7-A407-70CB8B7A82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64FA9F7-AC2F-4F6C-9C18-4369141E63A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B4E544-66A4-4BFC-B603-DBC2EBE395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B4E0EA-EF67-4288-8A6D-1FF4EAA5F9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34FDE2-B9E2-4093-83E8-B4F7DAFB3C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AC2A8C-D4D6-4F89-BAA5-04A6657A58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FD1D5E-44B6-495D-BFDB-112F3974AD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7480E0-5C13-46E3-A51C-08B3D2591D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B5966-7ADF-4345-8E09-AB2AF1BDC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A641C6-1663-4B1D-83D5-CD3BCA39DA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4F95BA-D322-40D7-9582-FDC7F2ABA2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551F1A-11B5-4527-B766-13D7D54ED6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9C4FF24-1CBE-41E5-9017-06FB8C5B576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BA3DFD8-E76C-4764-B94C-7220CDAB5FD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2156B29-A94E-4007-83C1-AA36BC95438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638D82-ED48-402B-B096-226C7F9A40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A28F22-4B24-4A50-BBE4-03D13401E5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522AF4-BBDA-4F36-8FF5-012495E56D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298CE2-0EFD-4B81-9079-E95825AED5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EC4A8-AF6D-4B7B-AD41-6FC327A5F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F11F0E-AEC6-427E-B762-EA1013E41A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B595B5-28ED-4A3F-B988-6409041C94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FF7958-0F97-4696-B91E-A2F035C5D4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25D2D7-5186-4D26-B386-2C54B73716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F1230E-E497-45C6-A610-0A37269B9C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3DFE17F-D3A8-45A4-880E-C5E50F2ACA0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D190D43-6BEC-415C-9EC4-8F8C4838E91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2B8FCD9-E771-4ED7-BA87-4041FBE424F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B15D55-8045-435D-B37B-FDCE9F1A382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02E418-B372-4960-BA14-BDAB33B5E51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E01D9A9-1E12-447A-B56B-CE004157270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3</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3</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407581D-ECCE-432C-9194-9E63BD43C57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3</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72AB7C8-DAB2-4085-857A-C00EE5504A7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3</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CEE2A1D-A910-455F-B75E-F37E5DF3B7B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3</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04FC98D-6E88-46E9-A72E-945714A9F9C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3</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6D86A88-FB11-456F-956E-0C2E38F37EE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3</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D896DDF-47AD-4B68-8376-79F2755EEA1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3</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A8B97D0-65A6-44B3-BEDE-D1D291095CC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3</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7E3F7A2-A685-4852-A56E-8A4E4914339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3</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17C8F8C-8746-4333-A8FB-F6D25DBE0C3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3</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6538FBC-E840-498E-94EC-5FD01ABFCA2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3</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8CAFE2B-D5E2-4F4B-A1A8-A58E4F29D73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ieee802.org/11/email/stds-802-11-tgay/msg00643.html" TargetMode="External"/><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mailto:edward.ks.au@gmail.com" TargetMode="External"/><Relationship Id="rId2" Type="http://schemas.openxmlformats.org/officeDocument/2006/relationships/hyperlink" Target="mailto:jeorge.hurtarte@litepoint.com" TargetMode="External"/><Relationship Id="rId3" Type="http://schemas.openxmlformats.org/officeDocument/2006/relationships/hyperlink" Target="http://mentor.ieee.org/" TargetMode="External"/><Relationship Id="rId4" Type="http://schemas.openxmlformats.org/officeDocument/2006/relationships/slideLayout" Target="../slideLayouts/slideLayout8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mentor.ieee.org/802.11/dcn/13/11-13-0230-03-0000-comment-resolution-tutorial.ppt" TargetMode="External"/><Relationship Id="rId2" Type="http://schemas.openxmlformats.org/officeDocument/2006/relationships/hyperlink" Target="https://mentor.ieee.org/802.11/dcn/13/11-13-0230-03-0000-comment-resolution-tutorial.ppt" TargetMode="External"/><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2CDF009-0023-4DBC-A513-C5828683D6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October 2018 Teleconference Call Agendas</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6765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8-10-31</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0F9A2F6-8789-4D79-97C4-2C6CE0186A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October 3</a:t>
            </a:r>
            <a:endParaRPr b="0" lang="en-US" sz="3200" spc="-1" strike="noStrike">
              <a:solidFill>
                <a:srgbClr val="000000"/>
              </a:solidFill>
              <a:latin typeface="Times New Roman"/>
            </a:endParaRPr>
          </a:p>
        </p:txBody>
      </p:sp>
      <p:sp>
        <p:nvSpPr>
          <p:cNvPr id="604"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1678r0:  </a:t>
            </a:r>
            <a:r>
              <a:rPr b="0" lang="en-GB" sz="1700" spc="-1" strike="noStrike">
                <a:solidFill>
                  <a:srgbClr val="000000"/>
                </a:solidFill>
                <a:latin typeface="Times New Roman"/>
              </a:rPr>
              <a:t>CID resolution – part XI </a:t>
            </a:r>
            <a:r>
              <a:rPr b="0" lang="en-US" sz="1700" spc="-1" strike="noStrike">
                <a:solidFill>
                  <a:srgbClr val="000000"/>
                </a:solidFill>
                <a:latin typeface="Times New Roman"/>
              </a:rPr>
              <a:t>(Arytom Lomayev</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5"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D857B14-A728-4437-9FC3-9B24BB0968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October 10</a:t>
            </a:r>
            <a:endParaRPr b="0" lang="en-US" sz="3200" spc="-1" strike="noStrike">
              <a:solidFill>
                <a:srgbClr val="000000"/>
              </a:solidFill>
              <a:latin typeface="Times New Roman"/>
            </a:endParaRPr>
          </a:p>
        </p:txBody>
      </p:sp>
      <p:sp>
        <p:nvSpPr>
          <p:cNvPr id="609"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nouncement:</a:t>
            </a:r>
            <a:endParaRPr b="0" lang="en-US" sz="20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Draft 2.1 is posted to Members Area</a:t>
            </a:r>
            <a:endParaRPr b="0" lang="en-US" sz="17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all for comment resolution/technical presentation on the October 31</a:t>
            </a:r>
            <a:r>
              <a:rPr b="0" lang="en-US" sz="1700" spc="-1" strike="noStrike" baseline="30000">
                <a:solidFill>
                  <a:srgbClr val="000000"/>
                </a:solidFill>
                <a:latin typeface="Times New Roman"/>
              </a:rPr>
              <a:t>st</a:t>
            </a:r>
            <a:r>
              <a:rPr b="0" lang="en-US" sz="1700" spc="-1" strike="noStrike">
                <a:solidFill>
                  <a:srgbClr val="000000"/>
                </a:solidFill>
                <a:latin typeface="Times New Roman"/>
              </a:rPr>
              <a:t> and November 7</a:t>
            </a:r>
            <a:r>
              <a:rPr b="0" lang="en-US" sz="1700" spc="-1" strike="noStrike" baseline="30000">
                <a:solidFill>
                  <a:srgbClr val="000000"/>
                </a:solidFill>
                <a:latin typeface="Times New Roman"/>
              </a:rPr>
              <a:t>th</a:t>
            </a:r>
            <a:r>
              <a:rPr b="0" lang="en-US" sz="1700" spc="-1" strike="noStrike">
                <a:solidFill>
                  <a:srgbClr val="000000"/>
                </a:solidFill>
                <a:latin typeface="Times New Roman"/>
              </a:rPr>
              <a:t> calls</a:t>
            </a:r>
            <a:endParaRPr b="0" lang="en-US" sz="17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chnical presentation</a:t>
            </a:r>
            <a:endParaRPr b="0" lang="en-US" sz="20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1346r0:  </a:t>
            </a:r>
            <a:r>
              <a:rPr b="0" lang="en-GB" sz="1700" spc="-1" strike="noStrike">
                <a:solidFill>
                  <a:srgbClr val="000000"/>
                </a:solidFill>
                <a:latin typeface="Times New Roman"/>
              </a:rPr>
              <a:t>EDMG encoding examples </a:t>
            </a:r>
            <a:r>
              <a:rPr b="0" lang="en-US" sz="1700" spc="-1" strike="noStrike">
                <a:solidFill>
                  <a:srgbClr val="000000"/>
                </a:solidFill>
                <a:latin typeface="Times New Roman"/>
              </a:rPr>
              <a:t>(Arytom Lomayev)</a:t>
            </a:r>
            <a:endParaRPr b="0" lang="en-US" sz="17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1347r0:  </a:t>
            </a:r>
            <a:r>
              <a:rPr b="0" lang="en-US" sz="1700" spc="-1" strike="noStrike">
                <a:solidFill>
                  <a:srgbClr val="000000"/>
                </a:solidFill>
                <a:latin typeface="Times New Roman"/>
              </a:rPr>
              <a:t>Annex I text for EDMG encoding examples (Artyom Lomayev)</a:t>
            </a:r>
            <a:endParaRPr b="0" lang="en-US" sz="17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0"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29AD04C-1360-48AF-B645-048085E8B9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October 17</a:t>
            </a:r>
            <a:endParaRPr b="0" lang="en-US" sz="3200" spc="-1" strike="noStrike">
              <a:solidFill>
                <a:srgbClr val="000000"/>
              </a:solidFill>
              <a:latin typeface="Times New Roman"/>
            </a:endParaRPr>
          </a:p>
        </p:txBody>
      </p:sp>
      <p:sp>
        <p:nvSpPr>
          <p:cNvPr id="614"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nouncement:</a:t>
            </a:r>
            <a:endParaRPr b="0" lang="en-US" sz="20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Latest comment resolution spreadsheet (18/1483r4) is posted.  See Editor’s email:  </a:t>
            </a:r>
            <a:r>
              <a:rPr b="0" lang="en-US" sz="1700" spc="-1" strike="noStrike" u="sng">
                <a:solidFill>
                  <a:srgbClr val="0066ff"/>
                </a:solidFill>
                <a:uFillTx/>
                <a:latin typeface="Times New Roman"/>
                <a:hlinkClick r:id="rId1"/>
              </a:rPr>
              <a:t>http://www.ieee802.org/11/email/stds-802-11-tgay/msg00643.html</a:t>
            </a: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all for comment resolution/technical presentation on the October 31</a:t>
            </a:r>
            <a:r>
              <a:rPr b="0" lang="en-US" sz="1700" spc="-1" strike="noStrike" baseline="30000">
                <a:solidFill>
                  <a:srgbClr val="000000"/>
                </a:solidFill>
                <a:latin typeface="Times New Roman"/>
              </a:rPr>
              <a:t>st</a:t>
            </a:r>
            <a:r>
              <a:rPr b="0" lang="en-US" sz="1700" spc="-1" strike="noStrike">
                <a:solidFill>
                  <a:srgbClr val="000000"/>
                </a:solidFill>
                <a:latin typeface="Times New Roman"/>
              </a:rPr>
              <a:t> and November 7</a:t>
            </a:r>
            <a:r>
              <a:rPr b="0" lang="en-US" sz="1700" spc="-1" strike="noStrike" baseline="30000">
                <a:solidFill>
                  <a:srgbClr val="000000"/>
                </a:solidFill>
                <a:latin typeface="Times New Roman"/>
              </a:rPr>
              <a:t>th</a:t>
            </a:r>
            <a:r>
              <a:rPr b="0" lang="en-US" sz="1700" spc="-1" strike="noStrike">
                <a:solidFill>
                  <a:srgbClr val="000000"/>
                </a:solidFill>
                <a:latin typeface="Times New Roman"/>
              </a:rPr>
              <a:t> calls</a:t>
            </a:r>
            <a:endParaRPr b="0" lang="en-US" sz="17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1691r0:  </a:t>
            </a:r>
            <a:r>
              <a:rPr b="0" lang="en-GB" sz="1700" spc="-1" strike="noStrike">
                <a:solidFill>
                  <a:srgbClr val="000000"/>
                </a:solidFill>
                <a:latin typeface="Times New Roman"/>
              </a:rPr>
              <a:t>LB234 comment resolutions – Coexistence Assurance Document </a:t>
            </a:r>
            <a:r>
              <a:rPr b="0" lang="en-GB" sz="1700" spc="-1" strike="noStrike">
                <a:solidFill>
                  <a:srgbClr val="000000"/>
                </a:solidFill>
                <a:latin typeface="Times New Roman"/>
              </a:rPr>
              <a:t>	</a:t>
            </a:r>
            <a:r>
              <a:rPr b="0" lang="en-GB" sz="1700" spc="-1" strike="noStrike">
                <a:solidFill>
                  <a:srgbClr val="000000"/>
                </a:solidFill>
                <a:latin typeface="Times New Roman"/>
              </a:rPr>
              <a:t>	</a:t>
            </a:r>
            <a:r>
              <a:rPr b="0" lang="en-US" sz="1700" spc="-1" strike="noStrike">
                <a:solidFill>
                  <a:srgbClr val="000000"/>
                </a:solidFill>
                <a:latin typeface="Times New Roman"/>
              </a:rPr>
              <a:t>(Claudio da Silva)</a:t>
            </a:r>
            <a:endParaRPr b="0" lang="en-US" sz="17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1751r0:</a:t>
            </a:r>
            <a:r>
              <a:rPr b="0" lang="en-US" sz="1700" spc="-1" strike="noStrike">
                <a:solidFill>
                  <a:srgbClr val="000000"/>
                </a:solidFill>
                <a:latin typeface="Times New Roman"/>
              </a:rPr>
              <a:t>  </a:t>
            </a:r>
            <a:r>
              <a:rPr b="0" lang="en-US" sz="1800" spc="-1" strike="noStrike">
                <a:solidFill>
                  <a:srgbClr val="000000"/>
                </a:solidFill>
                <a:latin typeface="Times New Roman"/>
              </a:rPr>
              <a:t>LB234 Comment Resolutions - PHY and BF II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700" spc="-1" strike="noStrike">
                <a:solidFill>
                  <a:srgbClr val="000000"/>
                </a:solidFill>
                <a:latin typeface="Times New Roman"/>
              </a:rPr>
              <a:t>(Claudio da Silva)</a:t>
            </a:r>
            <a:endParaRPr b="0" lang="en-US" sz="17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5"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61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12A4EDA-0F77-4BEA-9DE5-1E8EBD0310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October 31</a:t>
            </a:r>
            <a:endParaRPr b="0" lang="en-US" sz="3200" spc="-1" strike="noStrike">
              <a:solidFill>
                <a:srgbClr val="000000"/>
              </a:solidFill>
              <a:latin typeface="Times New Roman"/>
            </a:endParaRPr>
          </a:p>
        </p:txBody>
      </p:sp>
      <p:sp>
        <p:nvSpPr>
          <p:cNvPr id="619"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nouncement:</a:t>
            </a:r>
            <a:endParaRPr b="0" lang="en-US" sz="20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Next call:  10am ET, November 7</a:t>
            </a:r>
            <a:endParaRPr b="0" lang="en-US" sz="17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all for comment resolution/technical presentation in the November 2018 plenary</a:t>
            </a:r>
            <a:endParaRPr b="0" lang="en-US" sz="17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1753r0:  </a:t>
            </a:r>
            <a:r>
              <a:rPr b="0" lang="en-US" sz="1700" spc="-1" strike="noStrike">
                <a:solidFill>
                  <a:srgbClr val="000000"/>
                </a:solidFill>
                <a:latin typeface="Times New Roman"/>
              </a:rPr>
              <a:t>CID resolution – part XI (Arytom Lomayev)</a:t>
            </a:r>
            <a:endParaRPr b="0" lang="en-US" sz="17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1773r0:  </a:t>
            </a:r>
            <a:r>
              <a:rPr b="0" lang="en-US" sz="1800" spc="-1" strike="noStrike">
                <a:solidFill>
                  <a:srgbClr val="000000"/>
                </a:solidFill>
                <a:latin typeface="Times New Roman"/>
              </a:rPr>
              <a:t>Resolution of TXVECTOR comments of LB234 </a:t>
            </a:r>
            <a:r>
              <a:rPr b="0" lang="en-US" sz="1700" spc="-1" strike="noStrike">
                <a:solidFill>
                  <a:srgbClr val="000000"/>
                </a:solidFill>
                <a:latin typeface="Times New Roman"/>
              </a:rPr>
              <a:t>(Thomas Handte)</a:t>
            </a:r>
            <a:endParaRPr b="0" lang="en-US" sz="17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0"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6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A147A49-6D87-48E0-B997-837627C400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teleconference calls on October 3, October 10, October 17, and October 31, 2018.</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1"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5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7D6FFA24-E3F8-44EF-B7AD-E4B912802F4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5"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6"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7"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6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57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62DB45AA-3EF4-4E6B-A83B-5FE00E5228F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2"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3"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7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5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AF904E2-6878-4B52-88C9-DB47222C25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58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2"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E36134A-8C7F-4C48-AE4C-5335879FF8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58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26E0E65F-5E65-42D3-BDA3-D1C6207C152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8"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8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0"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59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5583236-31A0-403E-921B-3CA7FCFF4F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ease send an email to the addresses below to have your attendance recorded:</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edward.ks.au@gmail.com</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jeorge.hurtarte@litepoint.com</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3"/>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a:t>
            </a:r>
            <a:endParaRPr b="0" lang="en-US" sz="3200" spc="-1" strike="noStrike">
              <a:solidFill>
                <a:srgbClr val="000000"/>
              </a:solidFill>
              <a:latin typeface="Times New Roman"/>
            </a:endParaRPr>
          </a:p>
        </p:txBody>
      </p:sp>
      <p:sp>
        <p:nvSpPr>
          <p:cNvPr id="595"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59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02F7024-2767-4521-8237-A914D814EF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comment resolution</a:t>
            </a:r>
            <a:endParaRPr b="0" lang="en-US" sz="3200" spc="-1" strike="noStrike">
              <a:solidFill>
                <a:srgbClr val="000000"/>
              </a:solidFill>
              <a:latin typeface="Times New Roman"/>
            </a:endParaRPr>
          </a:p>
        </p:txBody>
      </p:sp>
      <p:sp>
        <p:nvSpPr>
          <p:cNvPr id="599"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60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01"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he proposed resolution is executable by the Editor, e.g., please avoid that there is not enough info to be able for the Editor to resolve the comment without creating text by himself.</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o call out not only the page and line number, but also the draft version and clause number in your comment resolution document, because the page and line numbers (also the figure and table numbers) change on subsequent revisions of the draft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8/11-18-1391-00-0000-september-2018-working-group-chair-supplementary-material.ppt</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s://mentor.ieee.org/802.11/dcn/13/11-13-0230-03-0000-comment-resolution-tutorial.pp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October 2018</cp:keywords>
  <dc:language>en-US</dc:language>
  <cp:lastModifiedBy>Edward Au</cp:lastModifiedBy>
  <cp:lastPrinted>2014-11-04T15:04:57Z</cp:lastPrinted>
  <dcterms:modified xsi:type="dcterms:W3CDTF">2018-10-17T17:02:37Z</dcterms:modified>
  <cp:revision>4257</cp:revision>
  <dc:subject>Task Group AY November 2015 Meeting Agenda</dc:subject>
  <dc:title>18/1702r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5"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6"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7" name="_ms_pID_72534310_00">
    <vt:lpwstr>_ms_pID_72534310</vt:lpwstr>
  </property>
  <property fmtid="{D5CDD505-2E9C-101B-9397-08002B2CF9AE}" pid="8" name="_ms_pID_72534311">
    <vt:lpwstr>w8PjN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2" name="_ms_pID_7253432_00">
    <vt:lpwstr>_ms_pID_7253432</vt:lpwstr>
  </property>
  <property fmtid="{D5CDD505-2E9C-101B-9397-08002B2CF9AE}" pid="13"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4" name="_ms_pID_7253433_00">
    <vt:lpwstr>_ms_pID_7253433</vt:lpwstr>
  </property>
  <property fmtid="{D5CDD505-2E9C-101B-9397-08002B2CF9AE}" pid="15"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6" name="_ms_pID_7253434_00">
    <vt:lpwstr>_ms_pID_7253434</vt:lpwstr>
  </property>
  <property fmtid="{D5CDD505-2E9C-101B-9397-08002B2CF9AE}" pid="17"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8" name="_ms_pID_7253435_00">
    <vt:lpwstr>_ms_pID_7253435</vt:lpwstr>
  </property>
  <property fmtid="{D5CDD505-2E9C-101B-9397-08002B2CF9AE}" pid="19"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0" name="_ms_pID_7253436_00">
    <vt:lpwstr>_ms_pID_7253436</vt:lpwstr>
  </property>
  <property fmtid="{D5CDD505-2E9C-101B-9397-08002B2CF9AE}" pid="21"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2" name="_ms_pID_7253437_00">
    <vt:lpwstr>_ms_pID_7253437</vt:lpwstr>
  </property>
  <property fmtid="{D5CDD505-2E9C-101B-9397-08002B2CF9AE}" pid="23"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4" name="_ms_pID_7253438_00">
    <vt:lpwstr>_ms_pID_7253438</vt:lpwstr>
  </property>
  <property fmtid="{D5CDD505-2E9C-101B-9397-08002B2CF9AE}" pid="25"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readonly">
    <vt:lpwstr/>
  </property>
  <property fmtid="{D5CDD505-2E9C-101B-9397-08002B2CF9AE}" pid="29" name="sflag">
    <vt:lpwstr>1508261703</vt:lpwstr>
  </property>
</Properties>
</file>