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1CE6900A-4CE0-46B8-B5B8-DC44853816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1B0FF2-55A9-47AE-8791-F84A1A015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54160" y="701640"/>
            <a:ext cx="4626000" cy="3468600"/>
          </a:xfrm>
          <a:prstGeom prst="rect">
            <a:avLst/>
          </a:prstGeom>
          <a:ln w="0">
            <a:noFill/>
          </a:ln>
        </p:spPr>
      </p:sp>
      <p:sp>
        <p:nvSpPr>
          <p:cNvPr id="67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C33D36-BDE2-4C6C-BC23-4DEA17249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54160" y="701640"/>
            <a:ext cx="4626000" cy="3468600"/>
          </a:xfrm>
          <a:prstGeom prst="rect">
            <a:avLst/>
          </a:prstGeom>
          <a:ln w="0">
            <a:noFill/>
          </a:ln>
        </p:spPr>
      </p:sp>
      <p:sp>
        <p:nvSpPr>
          <p:cNvPr id="68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F45AAF-3BAD-42C6-9554-50DDD30C6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54160" y="701640"/>
            <a:ext cx="4626000" cy="3468600"/>
          </a:xfrm>
          <a:prstGeom prst="rect">
            <a:avLst/>
          </a:prstGeom>
          <a:ln w="0">
            <a:noFill/>
          </a:ln>
        </p:spPr>
      </p:sp>
      <p:sp>
        <p:nvSpPr>
          <p:cNvPr id="68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005A25-59FE-41F5-A6EA-2F361F620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54160" y="701640"/>
            <a:ext cx="4626000" cy="3468600"/>
          </a:xfrm>
          <a:prstGeom prst="rect">
            <a:avLst/>
          </a:prstGeom>
          <a:ln w="0">
            <a:noFill/>
          </a:ln>
        </p:spPr>
      </p:sp>
      <p:sp>
        <p:nvSpPr>
          <p:cNvPr id="69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AFD1CD4-421D-4D0C-9B83-D07B7022D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D7650B-9A79-4F41-A0D8-31B67307B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919BE29-EE43-45F1-9ED4-7CE6E93AD7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47680" y="696960"/>
            <a:ext cx="4640400" cy="3479760"/>
          </a:xfrm>
          <a:prstGeom prst="rect">
            <a:avLst/>
          </a:prstGeom>
          <a:ln w="0">
            <a:noFill/>
          </a:ln>
        </p:spPr>
      </p:sp>
      <p:sp>
        <p:nvSpPr>
          <p:cNvPr id="63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54633E0-DD5F-4DF3-8B77-096DC81671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7680" y="696960"/>
            <a:ext cx="4640400" cy="3479760"/>
          </a:xfrm>
          <a:prstGeom prst="rect">
            <a:avLst/>
          </a:prstGeom>
          <a:ln w="0">
            <a:noFill/>
          </a:ln>
        </p:spPr>
      </p:sp>
      <p:sp>
        <p:nvSpPr>
          <p:cNvPr id="64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8B0BD6B-2565-4C1D-BD19-6E8C43B72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986759C-CDFF-4980-9EF9-C84C35438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5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54"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5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B83E6A-A008-471D-B447-722CBAF20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54160" y="701640"/>
            <a:ext cx="4626000" cy="3468600"/>
          </a:xfrm>
          <a:prstGeom prst="rect">
            <a:avLst/>
          </a:prstGeom>
          <a:ln w="0">
            <a:noFill/>
          </a:ln>
        </p:spPr>
      </p:sp>
      <p:sp>
        <p:nvSpPr>
          <p:cNvPr id="657"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CF97EC-A559-4D8F-A5C9-19F605A3C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6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6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6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F0A765-D346-48D0-8141-ECFC050A9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54160" y="701640"/>
            <a:ext cx="4626000" cy="3468600"/>
          </a:xfrm>
          <a:prstGeom prst="rect">
            <a:avLst/>
          </a:prstGeom>
          <a:ln w="0">
            <a:noFill/>
          </a:ln>
        </p:spPr>
      </p:sp>
      <p:sp>
        <p:nvSpPr>
          <p:cNvPr id="6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4160" y="701640"/>
            <a:ext cx="4626000" cy="3468600"/>
          </a:xfrm>
          <a:prstGeom prst="rect">
            <a:avLst/>
          </a:prstGeom>
          <a:ln w="0">
            <a:noFill/>
          </a:ln>
        </p:spPr>
      </p:sp>
      <p:sp>
        <p:nvSpPr>
          <p:cNvPr id="6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EDBCA0-9B47-4E23-9070-2254A236C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3338A-7546-43C3-A3E9-EB1AEA299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253DF-3E99-4974-ADF0-AE5E51187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C69050-A0CA-4BA5-8C2E-7F22E7C875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E188E9-4532-45BD-BF9D-46F4C37FCF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FBC604-143F-4274-AACE-D9DD182DF9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CA0F25-1EAA-4748-8343-FE09D31C8B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C8236C-779A-4EC0-BFEB-BA17E988B3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44DF33-DBC3-4B16-B339-7C4E06EA2D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DC3573-DBE6-4E83-A54B-99E9FB8480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766A72-1DE0-4033-9460-6DA769EBA1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BFA087-5964-48D6-89E1-DCF4E3E99C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F27C510-17B3-458B-B862-6AF9547AAD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538EB-16B4-4D20-836E-BEECEBD58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EB5F17-06ED-4C72-B7C7-7920FD7CF3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7F67E7-F360-49D0-B6EB-FD66FB2F1B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D8B19F-FDAA-46D0-99D2-B4B830B0E3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D3FBB5-C817-4C00-946F-17E117AC99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F737A2-816F-4246-BFBB-E2EDE0BA2E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4C3036-D6E8-4A3F-8595-7FB6C4BA47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2FA0BC-5739-41F6-BD87-2FB09DD242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9393C0-9E64-4DF9-BD7A-09FA4A79AF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2C4B86-5B1B-4695-990E-A0077AED14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FA812B-101F-4C77-850B-0A4FB8C3504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22901-0F49-48AF-A036-18FD32172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20B17B-BE5F-4806-9AD8-49B80CB3797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9B751FA-AC17-4226-BEE1-46B41ECFE05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7DAC27-9B81-446E-AB74-3AA4DC6519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310612-719B-4C90-AB50-202F9BD26E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15F4F5-26CA-47E3-AB41-197CDA3C8E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CE8467-07AE-433C-8446-3C853C4251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14F7FC-E3A2-4FA4-9A0A-52B6877E7A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88CCEB-8276-4D14-AAF8-A85A50ABDE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036B7E-BCC7-40B5-B142-40E5AFD7A7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131146-5490-4DFA-95DD-3B33B66577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B0F6C-A108-470E-B447-D550E7196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4F2CBF-349F-49B1-BF8B-4FA501ED68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AEDA3D-4D68-40B2-8B9F-D81E918A63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C6E196-5F1A-4BE4-A323-09BCE070C2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D794BBC-4E38-477D-8083-6F3CC74980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066FED-34F2-48AC-A1B4-5FB2116546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897AD4-0A2E-41C6-99F1-BB05DED268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6A6136-9655-422E-A404-8E72F3EE58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CD1BBE-9DBD-496F-AC17-BA27312E96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5F3440-56FD-42BD-86F0-43403F0F53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B498E0-E961-42EB-A824-E46545C57A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01656-6854-4258-AB59-E6CD8C7BC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B38191-B6EF-416C-B2F8-F63EA01D55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2DA0D7-D6E8-48D0-8BC7-7E7730B12C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03B80B-07D7-40E5-8254-05A79D082A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AD6D7FC-CE31-4C90-898C-4838B52C529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487F97C-B56B-4CAC-B856-CE48C5C8AD3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801E7-E25F-4DA8-AD46-6D60A3689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15D09-23A3-4ECE-87D0-F7BCB2DFE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FEE99-A8BE-4EE6-9E3B-79EF7121D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9458D-4017-4167-9E6A-69B5175DD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2A155-D17A-440A-8C45-F5856DA9F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13A0C-E6DD-4B50-AE51-F49E86086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BF72B-77A4-4046-8D98-8B129BACF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ED61E-C7F8-4F91-A2B1-3E7E7F3D1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6D346-AB2F-4EF8-A3ED-A607F744C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D8F15C-C9A4-43FF-89CF-EAE07E14C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8C35C-0838-4141-B345-DBBDD4C10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C233A2-BC15-4923-BB84-5E8F800D0B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5ABBC7-322A-448B-AFB6-3FEB46CCF5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86DBD5-4434-4398-AE6E-C4439387D2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22102A-5587-4ACB-BB72-1656B553D4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79AFA7-8363-4998-8771-1FFF613C50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DA7BE-7845-4913-A642-00275DB20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CBD074-79E4-411E-AC0A-41B36851B5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178548-51E3-4C2D-87D2-A4F457C84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88347-42C9-4FFD-AFC4-D67C1CED10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DEC993-8A62-4265-818B-534A8FCE2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2228FB-7E70-4CCA-B0FC-42B135926B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1EE5D8-8FCA-4EE5-A051-F5DED70B75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1F92E8-BAF1-4B3B-B7B8-C1FEE1E821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77471D-D4D2-4C23-B073-A52F45B81C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91F700-D09E-4B3B-9A6D-ED88E927DF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CF49B3-E574-46EC-AC56-AA8E524C59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2A57F-DA9C-496A-A1BA-EE4E56295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8F2B6C-3DBC-4C34-B24A-171A55AC18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F53204-B1B7-4F42-AFA7-CD570DF683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92CDA3-D073-439B-A7C6-59FE419F2A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D81697-0E6E-4675-A8DD-B0DBFAA59E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56EC06-36C8-48B4-A6ED-FB2209A84E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53D26-B724-4662-81F1-76CFE95F6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EFF5FB-46BD-4A41-A1A2-882271D7DA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84BB93-AED5-4F82-AA64-C132291219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58C94F-4223-46AF-BC87-E7F5ADE2F4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86D106-FE36-4A2E-A67B-5DEA3B63B7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8F4FB-F600-428D-87D7-13B9627EC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65FACF-D16F-40EA-A773-7F91CC2D59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1BE67F-7EB1-4B1C-8F4E-FF0295FF22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BEB221-C0F9-4233-8760-016A4D3165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0BB63B-5777-4DDF-ACE0-5A78A21B73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50B959-0723-40AF-872A-C2C2E9C57D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CB8F74-4609-427E-A045-581D218EA8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B368BF-6CFE-4978-A5F7-6384CB2454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5827E3-6A0C-49D5-B654-F282192DD2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EA3B63-2A6C-46A5-BC07-EA4446CF3F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F783D8-BA71-4A4B-B702-9514E69F4D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76EF2-5B9B-4AB4-95B5-E1CD19EEC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741545-7665-47D7-AFED-E8AD2C8B55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7A6383-C1B2-4C54-8BCF-06378C20B1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BF25F5-A9C3-4107-860A-DA0B468881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D701EF-1955-4715-A16A-6407710CD6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56746C-87E5-4F67-B456-E0B0FBE147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A31AAE-A92E-4C6F-9E65-2BB6167DB8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681C3B-5631-479A-B98D-EBE8839AFA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B1D4E7-D847-40C5-8965-B2C7016966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1321B0-CFFC-46AD-BDCF-C62598087C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4C5F57-CAB4-40BD-9376-C1B4FC91E3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46704-0EE3-42A9-A9FB-9C09E2BE9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BD243E-2769-4FA1-A854-BC2B7D4338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71AE02-C004-4B84-9CC3-E2ADBE3C04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BBB143-12FC-467C-8EBB-80C66E9718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28EF2E-1EFE-4075-96D6-8E61C7F882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679205-0B34-40E3-B70D-FE7B9775B0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DAEC36-15CA-4644-A795-7AF4E91DA0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FB3782-9D30-467B-A731-197BF0CD96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A730CA-8235-473F-9FDA-54B9811448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75BCE8-8481-4DFA-8316-D54B090ADD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9EECE1-0FAF-4796-B362-E9017D2D22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832F0-6EC6-4CDD-9319-33E552B38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3B97A-DF2C-44FA-9EAA-ADA95CB37F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A990C-DAD7-4005-A744-2A0D357E30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61131A-6A98-41AB-BD5B-EB6C803633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5E027C-6FAD-47A4-9F17-F7227C28C6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24AF58-45F9-4FD2-AB59-24D02C0742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4FC98A-BB33-4D0E-B15A-879ECA5670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7C8FA1-7901-4359-A87F-FC27AABA6E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9182D0-308D-4100-A513-E858E8F64B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5A3BC7-815D-44FB-BE99-F0334DCC62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8A0187-7025-4728-A9C2-8FDB846906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0DF01-110C-47B7-A318-B0F00CDCA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4491F1-5320-499B-A71F-4AAE894BAB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C00796-6BF8-430B-BE65-50B939713E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AA1517-25A0-495E-8E35-99EB729C80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B210B6-2720-4ADA-9E7F-21CA5A2B02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B2235D-A750-47CB-A294-6391010C3B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B5CEE4-9994-4D47-B671-6A538F0BB6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7A001E-C6EC-4B2E-AAEB-288156D766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41DD02-087F-46B4-9F00-B311D6B760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77434D-C2CB-4FC2-B90A-1E19D6B374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7DA5DC-CEBB-4284-A3C1-34F84FBF17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FC23158-A834-4577-ABD1-74D9667E29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633F72F-9E4A-4CE3-9893-AE904A680E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B2AB85C-2AF1-49AC-BD94-36AC565C5A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89D0B16-5F52-40D8-BA6B-9E70C7250A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6252A49-9F63-4355-9030-A9AA2247579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E991146-D83B-448E-A4B7-A1CEF6F1DF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E00FAE8-B91A-4F8C-991F-74631F46981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33CB9B7-8BF7-4189-921E-E59FF791EF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2F150FF-1A31-4BD3-A63B-02CD25A3D3C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52FEBC7-3907-4AB5-BD80-09F20868D6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8768C90-64F9-4C88-A37C-7A240075C4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2</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64EDF8D-8AB2-4479-8376-C6F1170A2D4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ieee802.org/11/email/stds-802-11-tgay/msg00643.html" TargetMode="External"/><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180896-9745-4F72-BF41-8771D548C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October 2018 Teleconference Call Agendas</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0-17</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50E023-6413-44FF-9EE3-DAF5D52FB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678r0:  </a:t>
            </a:r>
            <a:r>
              <a:rPr b="0" lang="en-GB" sz="1700" spc="-1" strike="noStrike">
                <a:solidFill>
                  <a:srgbClr val="000000"/>
                </a:solidFill>
                <a:latin typeface="Times New Roman"/>
              </a:rPr>
              <a:t>CID resolution – part XI </a:t>
            </a:r>
            <a:r>
              <a:rPr b="0" lang="en-US" sz="1700" spc="-1" strike="noStrike">
                <a:solidFill>
                  <a:srgbClr val="000000"/>
                </a:solidFill>
                <a:latin typeface="Times New Roman"/>
              </a:rPr>
              <a:t>(Arytom Lomaye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7C6EEB-8A99-4BE8-8FF0-4FEF75880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10</a:t>
            </a:r>
            <a:endParaRPr b="0" lang="en-US" sz="3200" spc="-1" strike="noStrike">
              <a:solidFill>
                <a:srgbClr val="000000"/>
              </a:solidFill>
              <a:latin typeface="Times New Roman"/>
            </a:endParaRPr>
          </a:p>
        </p:txBody>
      </p:sp>
      <p:sp>
        <p:nvSpPr>
          <p:cNvPr id="60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raft 2.1 is posted to Members Area</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October 31</a:t>
            </a:r>
            <a:r>
              <a:rPr b="0" lang="en-US" sz="1700" spc="-1" strike="noStrike" baseline="30000">
                <a:solidFill>
                  <a:srgbClr val="000000"/>
                </a:solidFill>
                <a:latin typeface="Times New Roman"/>
              </a:rPr>
              <a:t>st</a:t>
            </a:r>
            <a:r>
              <a:rPr b="0" lang="en-US" sz="1700" spc="-1" strike="noStrike">
                <a:solidFill>
                  <a:srgbClr val="000000"/>
                </a:solidFill>
                <a:latin typeface="Times New Roman"/>
              </a:rPr>
              <a:t> and November 7</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s</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presenta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346r0:  </a:t>
            </a:r>
            <a:r>
              <a:rPr b="0" lang="en-GB" sz="1700" spc="-1" strike="noStrike">
                <a:solidFill>
                  <a:srgbClr val="000000"/>
                </a:solidFill>
                <a:latin typeface="Times New Roman"/>
              </a:rPr>
              <a:t>EDMG encoding examples </a:t>
            </a:r>
            <a:r>
              <a:rPr b="0" lang="en-US" sz="1700" spc="-1" strike="noStrike">
                <a:solidFill>
                  <a:srgbClr val="000000"/>
                </a:solidFill>
                <a:latin typeface="Times New Roman"/>
              </a:rPr>
              <a:t>(Arytom Lomayev)</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347r0:  </a:t>
            </a:r>
            <a:r>
              <a:rPr b="0" lang="en-US" sz="1700" spc="-1" strike="noStrike">
                <a:solidFill>
                  <a:srgbClr val="000000"/>
                </a:solidFill>
                <a:latin typeface="Times New Roman"/>
              </a:rPr>
              <a:t>Annex I text for EDMG encoding examples (Artyom Lomayev)</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3A7B28-4C33-4384-996E-34B60C276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17</a:t>
            </a:r>
            <a:endParaRPr b="0" lang="en-US" sz="3200" spc="-1" strike="noStrike">
              <a:solidFill>
                <a:srgbClr val="000000"/>
              </a:solidFill>
              <a:latin typeface="Times New Roman"/>
            </a:endParaRPr>
          </a:p>
        </p:txBody>
      </p:sp>
      <p:sp>
        <p:nvSpPr>
          <p:cNvPr id="61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Latest comment resolution spreadsheet (18/1483r4) is posted.  See Editor’s email:  </a:t>
            </a:r>
            <a:r>
              <a:rPr b="0" lang="en-US" sz="1700" spc="-1" strike="noStrike" u="sng">
                <a:solidFill>
                  <a:srgbClr val="0066ff"/>
                </a:solidFill>
                <a:uFillTx/>
                <a:latin typeface="Times New Roman"/>
                <a:hlinkClick r:id="rId1"/>
              </a:rPr>
              <a:t>http://www.ieee802.org/11/email/stds-802-11-tgay/msg00643.html</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October 31</a:t>
            </a:r>
            <a:r>
              <a:rPr b="0" lang="en-US" sz="1700" spc="-1" strike="noStrike" baseline="30000">
                <a:solidFill>
                  <a:srgbClr val="000000"/>
                </a:solidFill>
                <a:latin typeface="Times New Roman"/>
              </a:rPr>
              <a:t>st</a:t>
            </a:r>
            <a:r>
              <a:rPr b="0" lang="en-US" sz="1700" spc="-1" strike="noStrike">
                <a:solidFill>
                  <a:srgbClr val="000000"/>
                </a:solidFill>
                <a:latin typeface="Times New Roman"/>
              </a:rPr>
              <a:t> and November 7</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s</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691r0:  </a:t>
            </a:r>
            <a:r>
              <a:rPr b="0" lang="en-GB" sz="1700" spc="-1" strike="noStrike">
                <a:solidFill>
                  <a:srgbClr val="000000"/>
                </a:solidFill>
                <a:latin typeface="Times New Roman"/>
              </a:rPr>
              <a:t>LB234 comment resolutions – Coexistence Assurance Document </a:t>
            </a:r>
            <a:r>
              <a:rPr b="0" lang="en-GB" sz="1700" spc="-1" strike="noStrike">
                <a:solidFill>
                  <a:srgbClr val="000000"/>
                </a:solidFill>
                <a:latin typeface="Times New Roman"/>
              </a:rPr>
              <a:t>	</a:t>
            </a:r>
            <a:r>
              <a:rPr b="0" lang="en-GB" sz="1700" spc="-1" strike="noStrike">
                <a:solidFill>
                  <a:srgbClr val="000000"/>
                </a:solidFill>
                <a:latin typeface="Times New Roman"/>
              </a:rPr>
              <a:t>	</a:t>
            </a:r>
            <a:r>
              <a:rPr b="0" lang="en-US" sz="1700" spc="-1" strike="noStrike">
                <a:solidFill>
                  <a:srgbClr val="000000"/>
                </a:solidFill>
                <a:latin typeface="Times New Roman"/>
              </a:rPr>
              <a:t>(Claudio da Silva)</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51r0:</a:t>
            </a:r>
            <a:r>
              <a:rPr b="0" lang="en-US" sz="1700" spc="-1" strike="noStrike">
                <a:solidFill>
                  <a:srgbClr val="000000"/>
                </a:solidFill>
                <a:latin typeface="Times New Roman"/>
              </a:rPr>
              <a:t>  </a:t>
            </a:r>
            <a:r>
              <a:rPr b="0" lang="en-US" sz="1800" spc="-1" strike="noStrike">
                <a:solidFill>
                  <a:srgbClr val="000000"/>
                </a:solidFill>
                <a:latin typeface="Times New Roman"/>
              </a:rPr>
              <a:t>LB234 Comment Resolutions - PHY and BF II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700" spc="-1" strike="noStrike">
                <a:solidFill>
                  <a:srgbClr val="000000"/>
                </a:solidFill>
                <a:latin typeface="Times New Roman"/>
              </a:rPr>
              <a:t>(Claudio da Silva)</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B2AD20-FCE3-433A-A848-473EF689D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1</a:t>
            </a:r>
            <a:endParaRPr b="0" lang="en-US" sz="3200" spc="-1" strike="noStrike">
              <a:solidFill>
                <a:srgbClr val="000000"/>
              </a:solidFill>
              <a:latin typeface="Times New Roman"/>
            </a:endParaRPr>
          </a:p>
        </p:txBody>
      </p:sp>
      <p:sp>
        <p:nvSpPr>
          <p:cNvPr id="61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53r0:  </a:t>
            </a:r>
            <a:r>
              <a:rPr b="0" lang="en-US" sz="1700" spc="-1" strike="noStrike">
                <a:solidFill>
                  <a:srgbClr val="000000"/>
                </a:solidFill>
                <a:latin typeface="Times New Roman"/>
              </a:rPr>
              <a:t>CID resolution – part XI (Arytom Lomayev)</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55511E-4D0F-4DE8-9A79-83F294A47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s on October 3, October 10, October 17, and October 31,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1408E37-9706-4B5B-9BFE-7FE2AAB451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F149516-1AD9-44D8-813E-A0FB40087D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EB6216-0871-4A0F-9479-AFF79A95E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3EC92C-446C-4B67-B8B3-302F02AED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C837044-A16D-4DB6-9DE8-818483646A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F033CD-C77F-40BD-AAA5-E7AE72953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B8C7B6-012B-434A-B246-46A327C6D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October 2018</cp:keywords>
  <dc:language>en-US</dc:language>
  <cp:lastModifiedBy>Edward Au</cp:lastModifiedBy>
  <cp:lastPrinted>2014-11-04T15:04:57Z</cp:lastPrinted>
  <dcterms:modified xsi:type="dcterms:W3CDTF">2018-10-11T18:34:34Z</dcterms:modified>
  <cp:revision>4252</cp:revision>
  <dc:subject>Task Group AY November 2015 Meeting Agenda</dc:subject>
  <dc:title>18/1702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