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796B91E-050B-4A32-A3AA-B21119CB29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1CFA09-888D-4F5E-8CEB-0EF1DCB16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F08720-1D41-4F96-AD3B-AF630323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F6A5CA-57FE-475D-91F1-8B613C199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60856E-5A7A-4EF5-97EF-947144D8E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FE7040-B342-49AB-965E-5FA4A8A77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F36832-8DA6-4479-A625-ABD389480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F580A8D-3079-48A0-ACCB-9482340012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0A578D0-9201-4CCC-A9B3-D1D97A14FC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C312EBC-7970-4C57-88AD-423B0A7F6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B11287-B66F-4B3E-AFAF-1FB7A996B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00CDC7-4393-4B0B-BA50-37AAB5BF8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733FF6-0B69-4A6E-A589-3E13E01EB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517FB-0184-4D2E-A282-F5C50C47E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A1B8BF-B59B-4ADA-A890-9297A9AE4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7F7C0-6B7B-47C2-A5D5-0CDA657B8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EEF4-83EA-4AFC-96A2-F236813E3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664752-C970-4C6C-82FE-90FCA85579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A89115-BC7B-4767-9C4D-A26E149D7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5D380-8016-4E9F-9000-66AA995FD6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30961-5387-4639-BA50-FB3C3DDF2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08CB5-8942-4EA9-B009-C78E1CEF6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10EC2A-7B2A-4081-ABDE-78A490044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B4BBB-B1C2-4AFA-8CD7-5B89CBFF3F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699E3A-A8AC-47BD-A6D9-5C26040448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1C5EBA-DF07-4D98-B5AA-F442092E34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4DAF7D-A801-4EBB-9C59-29AAB9CF96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502B7-B83F-4553-9A3E-7DEB442E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3F7AB3-B0CF-4B3E-9C9C-D5B0B8752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D8F722-6637-4969-AE04-4529ECBBC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89D62D-BED7-4753-B5F0-7D744A7DFA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8CFB38-8183-4D8C-A553-C16C19E516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1380B1-845E-4A82-8DFB-3DC9DD1C6B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831F0B-85B1-486E-9325-533F0BC1EB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6F32DE-536A-4E7B-98BE-61ED553905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114049-3668-4CF7-84CC-591D7EEBB5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296B76-B8F7-4916-B4BF-414B739A5B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CD3EA4-C19A-4EF7-BC38-6B50B7F64A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FA095-44D5-4518-8B1D-6CEACEAE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C04628-5FB4-48E0-992C-C5F30BEDA6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36DEAD-D668-4F07-A9F5-2C8EA9FC43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E60EF2-0E1A-4DBF-A29D-B60C616108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6E9F56-93FB-4951-98E9-C19ABFD318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994E31-A6EA-453E-AD0B-BE83948AE3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58C55C-B547-493F-B7C4-E3073E3C8E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DC7E8B-1DE2-4DBF-9343-8005DDF813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71A003-8817-4E79-8458-86829CBDD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35565C-2C85-4A80-A326-E1B244208C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B0708E-A186-4AEA-8924-3ADC90A54C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F55E0-EF45-46D5-95D8-6CBB84A4A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9BF4F9-E1F1-4093-8495-5249BE3D91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15552A-E3FF-4AD1-A30A-274211A945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B2605D-D677-415F-B717-A874851B66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64C29C-83EC-4C1C-A38A-FFE08385AA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CE7157-5006-4F15-9D2C-D5F011684B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70836E-9A81-4E90-8AE0-22FAAD68E8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E21B7E-3D6D-4DC4-A0D5-4CA3EAA66B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82E96C-B93B-41DA-A36E-8B72970D63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BF7AE2-6E10-4710-919F-7BEF4E88DD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51AD01-4327-47CA-8CB7-52F8D836E1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287BB-677F-4AEF-9F3C-30D5A3378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045A39-65A2-4F44-8C4D-12B0B71900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94051E-FC30-48C5-9CF9-12E8B8A5A3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135752-0BD3-4E44-B2A5-E7D7AC5F41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F2D907-9B14-4321-8BC3-0A48BB7991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B444F2-0E38-4C9C-949D-371CBB69D0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3ED1A-906A-4AEB-B5C8-6E60B42EC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39DEC-15B7-455B-A29E-4B3C76C3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0D3DD-0FE5-48DE-9D09-25E3CE15F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19DA9-D1B7-49B8-A3F3-274F6998D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8A0D6-8A73-420E-9BFB-449A54F86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52B7-2CC4-4506-99C5-B424E2E4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BAB3-0A16-4FDF-B03D-DF235795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B39EF-79C9-4CA4-8BC7-5CEE629C4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39A67-6188-4043-9E52-D8C96B851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F7E5B-CDE3-42B6-9BA7-82D4025E2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CB3FB-4CEB-4117-87DB-61A5EBE8B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C05B87-AB90-4144-9397-CACBF51E7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AAC2C-5A61-4C2D-BE32-2C4B1E639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B5A10-53B8-46F1-A26D-6452A7AE5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BBB85-5ED0-474A-BA2E-C8A8FAA95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4FFAB-9763-4A6C-8D93-D8BB44BB5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CA289-7151-47F6-8BB6-0952D602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075CE-4CAC-4B1E-95A6-6C387905F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710F7-4F2C-49BA-A8F7-C4B20C9BB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16CAA-7C9C-457B-8B8C-A34A9003C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B17B7-A722-49CD-8B02-04A6FC7F6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798F8-B716-484F-B9A3-266AED9BD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8530C-9BAE-4716-B2DB-0C6F26A97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A41B7-B5E1-499D-A652-9C0759103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89452-47B1-407F-BEE7-54C4EBD583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64247-5162-434F-B9E8-A1DC2E62B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27C87-500D-4C65-88EC-C8DEF8BA6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6813-A940-48A0-97C8-0A2DCBC2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9B1BE-37C9-4ABA-85C8-27B56FD3C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3F505-2D38-4D46-AA3E-219235712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433CA-FC1B-4FEC-BBA2-FC49FEE75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47ABE-938F-4733-A9E2-0D553D883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9160D-AF7E-4D5D-9437-B0385E784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72A35-3DAD-4F05-88E7-57026BED7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B47C6-D5AD-4CCC-8745-F95C1F2BC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DDEEA1-6ED6-4CF6-9532-F4F5BA1AE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76EEB-53C0-48A9-BA76-877030BF60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677C9-2BF1-4F12-8A1E-D2C0520718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F40C-3A6D-4895-A979-7F8FD225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6B995-7B9A-4ABB-BAFC-B7CB7D322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2DFDA-7073-41CD-8D46-D2018CBAF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D5716-0FEE-4D16-BEE2-07B4E0882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586E3-DA54-49D4-B2F4-AEFDAF1B9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FDEAF-3390-4316-B98D-5A81A41FF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73D4D-9181-42AD-9C12-90660B3F9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9EE18-C932-4455-9596-9DDB19417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F5F5B-3E48-401B-956E-70FFA3AD9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E14FB-D135-45BA-9660-3FD23137F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4FAFEA-6D0B-4339-B5F2-EF67CED1FF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3B28-8B77-41AB-8099-2BBB79DA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3F093-25D1-4178-93CF-EE4DD253E0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E1734-766C-4D9B-A298-8DFA48AC1D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974F2-BD41-4FBA-B3B3-6506BB68E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82B0A-0676-4DA3-90E5-0E7B28009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1A196-FCAD-4B8F-9BED-22ED2225F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60E60-5F5B-422E-88A9-639A88664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6FC02-421B-4FFB-A02E-CB4C261C0F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B2E16-0791-42F6-87C9-808C0B638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0FB40-D897-447C-B196-9AE0B2F64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85EED-AE2F-453E-A6E7-6B03C5FA8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D4AE-2E97-499B-B875-435D1363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00AC6-B18C-476B-BBF1-C2154A70D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514CD2-EC6D-47EB-A1CC-FBB25C1F66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90244-1D82-4DC0-B98B-984DBAEB1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7D1819-44C3-450B-A7CE-9B58BBE4F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8EE03-CB6D-4F65-AF80-B4921EED9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09689-34E5-4247-97A2-AE8DD70A9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BEF0E-3904-4A97-AFBA-BE49A20164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D48057-39E6-40AA-B616-0B040689D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E4E5E-F593-45A5-8575-2BB6F37A8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68534-947B-40DE-A7AE-91E2A1108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F3BE-F34B-4CE2-8309-A0936CD1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DA9CA-38FC-4AB2-B70F-7DD324853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F1B95-5023-4730-A839-F4A429C92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62D07-04C2-407B-A2FD-F873B50CC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F78D0D-5F3F-4235-A0A8-13F2B4E1B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C2AFF3-023F-4914-AA3C-CD7127A353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7D140-8295-4337-95F6-C9AF0E318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4EE09-C2EA-4BFE-B5C1-9AF67AF9D2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A23A9-3B1B-4A88-9234-0F4989EA8F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66D46-B386-478E-8E11-F381EE477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F5701C-4423-45E2-98D3-3D02A3DAB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7C22-1B2D-4FA0-A82E-154E368D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60560-CBE6-4E9C-905D-C6F5DDC519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FC869-BCF8-4C77-921E-40E91AC93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B78F2-4F83-4136-A389-03C40491F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61CFC-352C-43BC-ABB2-042EF3FB2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8ECC3-56AA-4F94-9837-549EA6A8F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4A0C39-7FDD-4D2E-86D8-526E82A0E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FF03BC-9558-4E67-8E65-A5281194C3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D0DECC-B85B-4031-8342-33A8EC9B8C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62937-DC80-42D9-8FC8-36DA893BC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04832E-5E7D-43AB-A6A5-F700C35C8F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3B2EB3-5765-4583-82F2-A11EFD9047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595FE4-ACB7-4F91-A82D-E261CDDB49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6F2154-720B-4B94-AF5A-1B939F17CB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C07435-C643-4A1C-BBF6-585C0BC7DE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8D1B43-4AA1-40D0-8770-7A7A371F79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49F3E21-FB88-4F3A-94F2-28B39F8075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5087CC-A664-4F70-9FCE-3485DA7F0C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4FD88B-98FC-465E-B1CC-F920C071EC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73A22B-78E5-4C5B-A2C1-1CCA1FE44F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8547DF-9C33-4FFC-902D-E85E759E0C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925C0E-59DB-4EA2-A8F8-0498B1C379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6EAEB3-27A6-468F-A3A3-304ED354EC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eee802.org/11/email/stds-802-11-tgay/msg00643.html"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C8D42-AB4D-4F4E-AC12-CB8E2039B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1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C250FB-4637-4B5D-8C3A-6EB0ADBB8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BBA9A0-4879-465C-8215-3717BD5FB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0FA15D-9517-4546-932A-A28011F15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atest comment resolution spreadsheet (18/1483r4) is posted.  See Editor’s email:  </a:t>
            </a:r>
            <a:r>
              <a:rPr b="0" lang="en-US" sz="1700" spc="-1" strike="noStrike" u="sng">
                <a:solidFill>
                  <a:srgbClr val="0066ff"/>
                </a:solidFill>
                <a:uFillTx/>
                <a:latin typeface="Times New Roman"/>
                <a:hlinkClick r:id="rId1"/>
              </a:rPr>
              <a:t>http://www.ieee802.org/11/email/stds-802-11-tgay/msg00643.htm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a:t>
            </a:r>
            <a:r>
              <a:rPr b="0" lang="en-US" sz="1700" spc="-1" strike="noStrike">
                <a:solidFill>
                  <a:srgbClr val="000000"/>
                </a:solidFill>
                <a:latin typeface="Times New Roman"/>
              </a:rPr>
              <a:t>  </a:t>
            </a:r>
            <a:r>
              <a:rPr b="0" lang="en-US" sz="1800" spc="-1" strike="noStrike">
                <a:solidFill>
                  <a:srgbClr val="000000"/>
                </a:solidFill>
                <a:latin typeface="Times New Roman"/>
              </a:rPr>
              <a:t>LB234 Comment Resolutions - PHY and BF II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E848B8-FBCF-46A1-96D6-10EE5136B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3r0:  </a:t>
            </a:r>
            <a:r>
              <a:rPr b="0" lang="en-US" sz="1700" spc="-1" strike="noStrike">
                <a:solidFill>
                  <a:srgbClr val="000000"/>
                </a:solidFill>
                <a:latin typeface="Times New Roman"/>
              </a:rPr>
              <a:t>CID resolution – part XI (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DD86AC-BD95-4DC9-A838-EBCFAC71D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4BB095D-DB17-44B1-87C5-E3559AF82C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AFED7AC-6320-421F-91B8-7456F487AE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A13E85-1C00-4854-84F6-8226141FA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EF229-060A-45BD-B685-BEA8771EB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D1FDDA4-7D9B-4A7E-808B-68E7CAC59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FBE289-97A7-41BB-A86C-027854C11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9DCF2C-2014-403D-AC61-D3E34FF69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11T18:34:34Z</dcterms:modified>
  <cp:revision>4252</cp:revision>
  <dc:subject>Task Group AY November 2015 Meeting Agenda</dc:subject>
  <dc:title>18/1702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