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2D52E0C-F869-485D-9D5A-E39F0872CC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90E9E1-5E04-4B39-9A1E-CF3B5071B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C0778C-9825-4045-AB71-F851D1FA7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920101-C642-4A43-98F3-E8E7B2D1A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7CCEEA-2E69-4686-A23E-5F17C90CF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85A765-7AC2-4DCD-BBD0-89BE6DC89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56626A-0E3F-42EB-B329-463DAC7B6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D5AAF4D-20C6-41FF-8FCB-088E24400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11CDDE9-B2CD-4B87-ADD1-ECCBBEB98B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B93752-0DA0-409E-9E5D-4D22AA503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5EDFE13-EFDA-4C58-961E-613D516B7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924D2A-CCEF-4F4C-A653-F1FFC23D8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2714DF-2AA9-4AB8-9966-49584F053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2A3C7F-BA2C-417C-B8E0-1170CB426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2AB9A3-685A-404C-99C8-6D0365196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D468-FDEA-482C-8BB1-EBB8CCDC3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87AC1-CA63-406A-B9D9-DC17B4DA0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00B05-BE7E-435E-95BD-3D9A78088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CE081B-94FE-488A-98F8-BD441BCE6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12E843-DFF1-4D9F-BE71-59CC45416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FCC6C-E9CA-4B16-A69D-30672FB40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AD9F8-30B1-4E6E-91EA-5408B85A2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D2F03F-2963-4F3E-971C-24CABF7A5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ADBC6C-BCD5-4FE2-A6A0-43B32F9D73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572B85-E694-4B04-A5F7-749B547635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19CBB5-57B5-47D8-9B88-8050566EB5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28D0A5-F100-44EE-9B23-9154DB01B3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26263-1205-4B32-B60E-1AE3E697D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A878EF-172F-4618-BDFA-75666C2B5F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01005E-7D15-4B48-935F-EEE7AEC705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D8EB19-CD7A-4558-AE1A-672F0BCB26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C223B9-9621-4434-84D3-BBBDBC09E6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492D01-6BB8-4EEA-8EA6-488ED5FD8F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240B3-B1E8-44BD-B146-4B3AF40E14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EA4D22-EC15-4048-B1A2-D24985CCF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D3953-21E8-4C4C-991F-4080A6E57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3AE5E-B9E2-44F6-8C5E-E3A7C1022C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D1A5A2-A4DF-4B88-A942-265F074981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E338-CD1A-46E8-9DEA-8C89D328D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0F3D26-DDFB-476C-B19A-EDAD24CD2D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C4940A-76BC-4506-B4A7-642B863CE6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2B8F8A-DF8B-41D0-9474-619BA87A1F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477CED-E095-435A-82D6-6A0D0CE5CB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BA62A-6FE2-4ECE-A27B-AEBCC50246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05C2FF-101F-4F92-B8C3-7B7FEA1167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466C03-B4D9-4D62-B5F4-0DAD164F6E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D886E6-8D6A-4AA5-BCEC-F5CE484FF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B04BF4-B4F3-40E1-8AAB-D96CFC1579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FA753A-0E2B-41FF-A5D0-00C1A27DEB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DCB7B-AB65-4B81-870E-EFA2114BE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857D61-85FA-416A-A78D-343F9FC026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B2DF97-7FD2-4755-8EB0-68E456645B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E1AEE2-DC1A-47B4-958A-34990C820E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39F414-55BD-4118-AF8C-4414DE44A3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F2E31E-5C31-4811-A280-1E616F0D94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186736-8AF3-4DFE-868F-033EEC82AD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128939-B159-4E37-AAF4-91525F8DB3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BACF11-6351-4D43-86CA-1480E2B9C7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92B329-077E-449F-82DE-699F499906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6649B7-4561-41D2-A240-5C48549757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1F22-28BD-46B7-9FA2-5CA859F51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486618-F113-4920-A8F4-C455406CE3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2388B6-C64C-4EC1-BACD-D44DE32052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4BECC8-6270-42F2-B0F1-A348E84220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29DE24-4682-4605-947C-B321E04FC7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140BE7-64A5-42AC-BC18-E3EBFB2E53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DAB93-85DA-4245-BA52-CED7B8DD1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D4944-1D01-4951-BD1A-3C12BEAA3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8643E-C0B0-4C9C-A0D0-9BCF46C84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3C221-60ED-486D-B86F-27ABAC06C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F916-7F0A-4BAD-B2BC-11941DBD2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0EB7-16F4-4F6A-BFFF-48F2194D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DC1D2-DF6F-4F26-AD39-969C637E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9D3CA-5510-4888-BF48-B0C7B209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D0C37-000D-4470-B13B-7ECF0235B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B42D6-AE13-4989-BBB5-DE352B263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E271E-1AD2-4D2C-AAD6-F0B03ECC1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D55211-D02E-42A5-B90A-EF1EE7F77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B4343-AB64-4F53-B085-14A7B9D86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C5C05-26D3-4835-A275-7AE72E179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A5727-EE10-4507-A731-922DCD4E4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D707D-B91D-4C2E-9839-CBD2D2B67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245B-86B5-446D-88B4-092CCB85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A0862-2C87-46A4-8898-64BB22D7D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82FE5-965B-4FB9-97BF-48BA5F645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FD3A8-51C5-4B64-AF64-8EE1397D8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7BB84-D962-4195-865A-0A41811EA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AA84F-6073-4DA3-B86E-0A346301E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3C36EC-78F8-4DA1-B48D-97497F71A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577C8-8AC7-48CC-8802-32A8187D53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A8E11C-EEB2-43DC-9E8C-0E752F21F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D7EBB-B702-4FB9-93AA-8D6CF0F1F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E5DF0-C3C3-44EF-86E0-B233871C7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7C162-C4FC-4880-A3A3-EC3F31081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55FBE-E438-4BBE-B195-9A6A19E599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1DFA1-4E6D-477D-8097-62509B88C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21DF0-824F-4127-89A9-1D92B8D1F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3460F-4A39-4769-908D-095AE24C9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BA30C-411B-489F-B0A0-92DF1CB2E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591A3-825A-4293-B5B0-D2AE6A9D2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B1DCD-1648-462B-B83F-9E197E523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4E3B6-653A-4A66-BAF1-F794753FC4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B0906D-B6C3-492C-BB80-DF5B0274E4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059269-C898-4F82-B3AA-D16F5968CD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8A8E-C009-4121-B71E-C9619A62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63410-07D5-432D-8995-0E1CBB45E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BC5FE-7ABD-46F3-A877-60843F0A0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CBA91-3E5C-4EB3-8BA9-A0054BABA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66D70-6376-442B-AAAD-9B5638CEC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8CBDD-4517-4E9E-913F-0838593F2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B72CB-8DC4-46B9-BB68-04F4D2183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A6DE0-9EC1-408F-8186-D7D158C10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8B881-C3C9-42AC-938F-29798BCF4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5A84C-70B9-437E-AACB-7343DBBC6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380C5F-A784-485C-BCE1-21C00E4A68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E2FA-8781-4055-90D3-29DA0005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E0B95-607F-4DDF-B73E-BB42AE2AB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F6A9B2-2743-40EA-857B-1CB35A527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CD0C8-FD0A-4575-91B7-474F4A331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01DF7F-780C-4F3A-AADE-AE90BBE05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62F30-FD14-4E4D-9EC8-B85F143E6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9F2EA0-5E22-4E9B-A757-61FE814E3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52D5E-F869-4BB8-BF08-7FC1DBA88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67080-84AC-4FBF-952B-8B5392D44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52ADF-3CF8-449B-AD2E-DD258C5C8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4C255-3BD0-4E99-9838-B1DBE2003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E5730-F224-4A08-8746-5544B182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D3476-E03A-497F-93E9-2B624D1EE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DAC837-71C7-41EE-BFD7-60E21282A2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BC3BC7-1EB2-489E-B740-1A42FD9B24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EB426B-061F-492E-9C1F-A48C3C14D5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0ACF8F-EF83-4367-A280-FA1FAC57B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3DCB0-49C8-4263-A9B9-824A98ACD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3D2E7-9B9D-49AB-AAB2-C692C8A35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ED558-F5B5-4A68-A1A8-5F5A45809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88F686-B655-408E-A9CF-5CF496F9C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12598-CF87-49EC-AA5F-9E009A89F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4325-901A-4A8A-A08D-19B05A8C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88444-757F-469C-B840-0E8FF5BBC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1C121-F4EF-4FB7-AFC5-8DDC08172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937F8-EC1D-441F-8DDB-1541600AA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D70596-5FC2-4300-963D-098D95F138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75D3A-4740-40E4-9917-46665A072A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8366F-DD97-485B-9A44-4529175D59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AE82F-6F70-4EDA-A402-1D636632A0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A2B548-6C1E-4D7A-AEA5-19F55D52F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E1333-26A1-4CF3-8ED7-5D47E2552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CA00A-5835-4851-9005-AB2140961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02A6-A7E3-44A7-BE58-C768CAE5E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50951E-0395-4B09-A89C-45714571A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EE2C9-FA8D-4A5C-B254-1DF58E738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18958-A832-4CB2-B058-FEB8A68F13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5231C-0A8F-4FE0-A3CF-3E8877C7B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16E6D-ADB6-4452-A573-B0B5B67CB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9BB62-EA56-4D2D-ABED-3664DAE99B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0D5E29-703E-48EB-A3A6-A9F73FC15E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2845FE-14A3-4827-8FF5-2B62D32B7F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AE32E-4690-4407-9501-8F4899F20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74C65-A6E9-4BA4-BD8B-C792678F9F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BD6CD5A-CC7A-42FD-944A-06077F922E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53CF0F4-7628-4BA1-AC7E-200C5CA47F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6511C4-5E01-4652-833E-C0E0D14514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8D3602-233E-4DAC-B600-6CA8C2AC0B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20EB4A-E1BB-4329-847C-2254189BFF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F3F69F-BD3F-4B44-9B01-AD13529FDD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4F8411-69EF-46F7-8E5F-EDE649F5D9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7EAB68-7841-4A7B-B259-80F21756EF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43AC0F-342F-456B-B85B-1B07B0A631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83E5F5-3D01-4A45-BEC2-BBDEC3BD01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3546ED-C95B-4C79-A613-3C97296B5B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A0025D-CB00-483C-B81A-04F9125ABF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6F507E-B4E1-411C-810D-2A1558649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8D9AEB-DBCD-4ACE-9B46-E15FD0F99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372A7B-AA73-41DF-89BC-C78B44AB7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621EEB-0D9C-4C6F-ABD7-9C517C5BF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52D730-9F37-4053-AA51-3ABD6F8B5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BD</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8DB271-748F-4B9F-9D9E-9925EAF1B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5E3F8EB-6222-4D9F-B831-126243D629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C9E21FB-CE4B-47E6-B724-1A1B063C5C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C05975-0919-4509-85F8-1B947C96C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E69105-2664-463C-96CD-7CF2DD461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7B4C3E6-13AB-47B5-84AB-BD89B876D1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6B7BAE-2857-45A3-A316-CC8B46534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022E15-FAF1-4037-8EEE-C64C5B4FF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08T19:21:02Z</dcterms:modified>
  <cp:revision>4249</cp:revision>
  <dc:subject>Task Group AY November 2015 Meeting Agenda</dc:subject>
  <dc:title>18/1702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