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F5F21DE5-4C1C-4F82-9136-EE276E19979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8CB5DAE-25CE-4ABA-B6E4-C5E548B77B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6" name="PlaceHolder 1"/>
          <p:cNvSpPr>
            <a:spLocks noGrp="1"/>
          </p:cNvSpPr>
          <p:nvPr>
            <p:ph type="sldImg"/>
          </p:nvPr>
        </p:nvSpPr>
        <p:spPr>
          <a:xfrm>
            <a:off x="1154160" y="701640"/>
            <a:ext cx="4626000" cy="3468600"/>
          </a:xfrm>
          <a:prstGeom prst="rect">
            <a:avLst/>
          </a:prstGeom>
          <a:ln w="0">
            <a:noFill/>
          </a:ln>
        </p:spPr>
      </p:sp>
      <p:sp>
        <p:nvSpPr>
          <p:cNvPr id="6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54160" y="701640"/>
            <a:ext cx="4626000" cy="3468600"/>
          </a:xfrm>
          <a:prstGeom prst="rect">
            <a:avLst/>
          </a:prstGeom>
          <a:ln w="0">
            <a:noFill/>
          </a:ln>
        </p:spPr>
      </p:sp>
      <p:sp>
        <p:nvSpPr>
          <p:cNvPr id="675"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7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F13102D-7F7E-4F5B-B8C1-3CD5F0E91F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54160" y="701640"/>
            <a:ext cx="4626000" cy="3468600"/>
          </a:xfrm>
          <a:prstGeom prst="rect">
            <a:avLst/>
          </a:prstGeom>
          <a:ln w="0">
            <a:noFill/>
          </a:ln>
        </p:spPr>
      </p:sp>
      <p:sp>
        <p:nvSpPr>
          <p:cNvPr id="681"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8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82AFE0B-739A-4164-AAD4-E8AC97DFAF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54160" y="701640"/>
            <a:ext cx="4626000" cy="3468600"/>
          </a:xfrm>
          <a:prstGeom prst="rect">
            <a:avLst/>
          </a:prstGeom>
          <a:ln w="0">
            <a:noFill/>
          </a:ln>
        </p:spPr>
      </p:sp>
      <p:sp>
        <p:nvSpPr>
          <p:cNvPr id="687"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8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AAA5ED3-4BBA-48FA-AA87-39F1F5BC4D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54160" y="701640"/>
            <a:ext cx="4626000" cy="3468600"/>
          </a:xfrm>
          <a:prstGeom prst="rect">
            <a:avLst/>
          </a:prstGeom>
          <a:ln w="0">
            <a:noFill/>
          </a:ln>
        </p:spPr>
      </p:sp>
      <p:sp>
        <p:nvSpPr>
          <p:cNvPr id="693"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9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9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745640D-D40A-4951-BA2F-525BC9E79C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9"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0"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63DF2E9-F86F-4A9D-A475-C9B824079D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154160" y="701640"/>
            <a:ext cx="4626000" cy="3468600"/>
          </a:xfrm>
          <a:prstGeom prst="rect">
            <a:avLst/>
          </a:prstGeom>
          <a:ln w="0">
            <a:noFill/>
          </a:ln>
        </p:spPr>
      </p:sp>
      <p:sp>
        <p:nvSpPr>
          <p:cNvPr id="6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5"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6"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FB29A323-CD99-4903-AB62-4506A9F12D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PlaceHolder 1"/>
          <p:cNvSpPr>
            <a:spLocks noGrp="1"/>
          </p:cNvSpPr>
          <p:nvPr>
            <p:ph type="sldImg"/>
          </p:nvPr>
        </p:nvSpPr>
        <p:spPr>
          <a:xfrm>
            <a:off x="1147680" y="696960"/>
            <a:ext cx="4640400" cy="3479760"/>
          </a:xfrm>
          <a:prstGeom prst="rect">
            <a:avLst/>
          </a:prstGeom>
          <a:ln w="0">
            <a:noFill/>
          </a:ln>
        </p:spPr>
      </p:sp>
      <p:sp>
        <p:nvSpPr>
          <p:cNvPr id="639"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1"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2"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4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329DAB91-727F-4C79-9BDF-7A7FA95C0E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4" name="PlaceHolder 1"/>
          <p:cNvSpPr>
            <a:spLocks noGrp="1"/>
          </p:cNvSpPr>
          <p:nvPr>
            <p:ph type="sldImg"/>
          </p:nvPr>
        </p:nvSpPr>
        <p:spPr>
          <a:xfrm>
            <a:off x="1147680" y="696960"/>
            <a:ext cx="4640400" cy="3479760"/>
          </a:xfrm>
          <a:prstGeom prst="rect">
            <a:avLst/>
          </a:prstGeom>
          <a:ln w="0">
            <a:noFill/>
          </a:ln>
        </p:spPr>
      </p:sp>
      <p:sp>
        <p:nvSpPr>
          <p:cNvPr id="645"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12BE907-BE2F-4243-9BE4-261C44A951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PlaceHolder 1"/>
          <p:cNvSpPr>
            <a:spLocks noGrp="1"/>
          </p:cNvSpPr>
          <p:nvPr>
            <p:ph type="sldImg"/>
          </p:nvPr>
        </p:nvSpPr>
        <p:spPr>
          <a:xfrm>
            <a:off x="1154160" y="701640"/>
            <a:ext cx="4626000" cy="3468600"/>
          </a:xfrm>
          <a:prstGeom prst="rect">
            <a:avLst/>
          </a:prstGeom>
          <a:ln w="0">
            <a:noFill/>
          </a:ln>
        </p:spPr>
      </p:sp>
      <p:sp>
        <p:nvSpPr>
          <p:cNvPr id="6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9FC2560-5E06-4103-88B7-A45D2E86A9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0" name="PlaceHolder 1"/>
          <p:cNvSpPr>
            <a:spLocks noGrp="1"/>
          </p:cNvSpPr>
          <p:nvPr>
            <p:ph type="sldImg"/>
          </p:nvPr>
        </p:nvSpPr>
        <p:spPr>
          <a:xfrm>
            <a:off x="1154160" y="701640"/>
            <a:ext cx="4626000" cy="3468600"/>
          </a:xfrm>
          <a:prstGeom prst="rect">
            <a:avLst/>
          </a:prstGeom>
          <a:ln w="0">
            <a:noFill/>
          </a:ln>
        </p:spPr>
      </p:sp>
      <p:sp>
        <p:nvSpPr>
          <p:cNvPr id="6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53"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54"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5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DBDA6FB-39BF-4727-9D6A-A4DF1E361D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6" name="PlaceHolder 1"/>
          <p:cNvSpPr>
            <a:spLocks noGrp="1"/>
          </p:cNvSpPr>
          <p:nvPr>
            <p:ph type="sldImg"/>
          </p:nvPr>
        </p:nvSpPr>
        <p:spPr>
          <a:xfrm>
            <a:off x="1154160" y="701640"/>
            <a:ext cx="4626000" cy="3468600"/>
          </a:xfrm>
          <a:prstGeom prst="rect">
            <a:avLst/>
          </a:prstGeom>
          <a:ln w="0">
            <a:noFill/>
          </a:ln>
        </p:spPr>
      </p:sp>
      <p:sp>
        <p:nvSpPr>
          <p:cNvPr id="657"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9"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0"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6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32D2235-7368-437F-89F7-AEE77FEB36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63"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64"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6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DFDF4FB-C94E-4A81-98DC-BEA38F3AFE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54160" y="701640"/>
            <a:ext cx="4626000" cy="3468600"/>
          </a:xfrm>
          <a:prstGeom prst="rect">
            <a:avLst/>
          </a:prstGeom>
          <a:ln w="0">
            <a:noFill/>
          </a:ln>
        </p:spPr>
      </p:sp>
      <p:sp>
        <p:nvSpPr>
          <p:cNvPr id="6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54160" y="701640"/>
            <a:ext cx="4626000" cy="3468600"/>
          </a:xfrm>
          <a:prstGeom prst="rect">
            <a:avLst/>
          </a:prstGeom>
          <a:ln w="0">
            <a:noFill/>
          </a:ln>
        </p:spPr>
      </p:sp>
      <p:sp>
        <p:nvSpPr>
          <p:cNvPr id="6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7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EC5F828-1165-40B7-A8BF-72210DAEB5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3315A9-E201-4951-B6A0-C60EA29517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B61D5-C8EA-4CEA-BD97-24092727E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E238A8-9FFC-4E32-A20B-366FDFCBDC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D24B27-82CD-4F5B-9DD0-91C1D6A750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EC3421-75AA-4652-BE14-412235D2A8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5755E5-4E97-4AD8-9D77-AB34612D48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CCC438-04A9-4756-921B-0AC2109534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BE544C-125C-4F61-9490-F2665481FD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AB1EA7-6B7A-412D-8481-0DEE0D7B22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F0FEBC-FC66-46FB-945D-D43C5E3DA3E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278D8F-93E1-4AB8-A496-FFC74E0810F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5E83C4A-C35B-4594-8581-A520496D4D4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90EEAE-D426-4556-8154-9415499869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396AD71-38E5-4BAE-9B85-674BC15CF44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3F4889B-F60C-4DAF-96C3-99B4463DECB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C02BE02-E74C-4DE0-8659-0200A9D50E7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8D0A837-73F8-4926-AF42-96564D4A605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8BBECB5-7E5D-45C8-834D-211CC25C537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72DAB6-63D0-41BD-B3C3-6984C30BB4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C9555F-1F6C-42C3-BD4F-3F9912C2F8D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9BBF67-66D2-4E28-BBEC-A00815FABC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8424A06-8D16-4323-A3E5-20D41D8C688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753D243-960D-4D9E-B9D6-BBC5CD05D09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34AE2-A211-4297-B837-21C4BCB11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3DFDAA6-0228-4684-B394-531F5430764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328D979-2705-4C11-9657-C1524719ECF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93A69C8-B985-410C-B183-BCBD4F2E39C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6FE2C0B-2FF2-4B5F-9116-FDA1638E5CD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5E6AFCF-3729-48DA-848E-17B66E70940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185ADC1-20AB-4E75-92D5-066877FC5E7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BF32099-CF4C-433A-BBCC-F6EA68635F4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18152EB-7E39-4763-91D3-D53535831DC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B3E19B6-1322-48DB-B8F5-F1CC0240F2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C6ECC00-0F35-41AD-8DDC-196BDC1F28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94A9A5-89AD-464A-97AB-27A8339734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F4E8CEF-98E0-4CF3-A748-BAFFC693248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A6EC071-BC22-49C8-9654-5060726F85B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8B1038D-718C-495D-97E0-A42D1B3BC6C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29030FD-1D93-4429-8A8B-DD956E6F89A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467E36A-9E20-4263-B466-1D2CB21D4DB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BFCD4A2-48FC-49B1-A5F6-94DF43114C0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877740B-1FF9-4C59-89B5-AD1DDA414A2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489099B-04FE-4400-8D4E-C3E712AD5CB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A4C238A-C52B-4B74-ACFE-35084C576A3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871B46C-0AC2-48CA-9765-09D22D29F12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BA18E4-B975-46A2-889F-ED8972581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01A8764-4ACE-4BDC-85F6-0DAB1B27431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BF46639-1098-4F01-96F0-5AB3F75393C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D6D4BCE-C8E4-4535-BA66-EF60B804287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B3DFE02-F65A-4B89-B9ED-75DDF85999C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0817D8C-6216-4FBA-95D9-67F250D33A2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5F6973-2246-47C4-8E78-C6F437F421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43AAF0-FC1D-4709-BEA5-FDFC33794D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5B70C9-1A24-4A86-BB12-BCAF1598BF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29B571-D2C6-4A81-A039-3478D7258A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68171-01DE-40C6-A004-B1EEFFF53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29906-B33A-455A-BFF5-C64EAA25A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F9592-3668-4368-9474-61D8A7086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B9CC4-9EEB-4815-B3E8-E8B2E3B8A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8CCB1-F191-4BA9-B34C-C374417A4F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86CC66-411F-427A-BED2-4AA0EB0E51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0A7B3D-6EC0-4471-8D2E-F8E167841A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DB7388-66D3-48E3-83AF-F9E7448012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91D3E6-BAC0-4AE4-AABE-AA2A663D44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30B0F5-0AC9-46B8-9BB6-5496DC9456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693B94-142E-4101-8587-445F84EE94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7DF878-EA6D-4DCB-B592-04279296BF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4B89D-5D80-4EE0-95E3-92AAC0CAD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2D6F0F-7DF5-490F-B756-B5DFB413EF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0E47D4-194E-4BD4-B812-610B6A1BFF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321E08-2C90-4B60-BCD2-9DC66C2A3F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7AA060-B5EB-4792-A6CE-2367904FA8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6FBE74-0B64-4832-9826-74BD63C52F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618A65-4A9F-4D30-BCCA-34F02E705C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982CCE-D361-461C-B67E-7BEB959B3C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FE4DDC-F562-465E-80A9-6C6C2E3766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D59911-97B5-4D8F-92DE-B6A70DFA7E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127E3B-4D68-4D0D-9DEE-DB8518BDAA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707F9-7935-4C27-9A6B-6B073AA23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888443-2DA8-40B5-8E5B-831414FA56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6C2A77-CB3D-4CD7-A9EB-866029C55B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020EE1-DB9D-496A-A62E-FDC803CE24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D8853E-C613-4203-B221-2AEDFBB678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7AEA27-33B1-4D02-B4E8-FBE2D195B5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CD4FA2-DC49-4734-A9A4-7C79A19EF6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5FC41D-9FEE-490A-A5C7-F0C9B72FA4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1E05FC-805A-46A2-88BC-4817C403D7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873438-6185-433A-8E4D-AA9150B6B6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815254-E6AF-409F-BC35-128967EEE5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679DF-BA05-444E-BE98-E15B73760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BC3408-B74C-45E5-BF27-14991A012A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C43D48-B0B4-4A16-B6D8-09AD421B3C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E4C0B8-7412-4EC8-9186-81C376A1D5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6F272A-52D7-45CB-B896-59D7A35FFD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C0AB16-A485-4F93-945A-DCD7626938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7F449D-AACC-429A-8F44-45497D3ACE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03AFAD-E9B1-4E66-8A9B-14BD0DA3D0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108ACE-EB47-4D43-BECB-34A3DA8021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A01F97-34BD-4DE3-855E-62852FE1F6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EF93C1-8E58-4EA4-8E90-E5B774CA28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4F17D-EA20-4120-A821-D620B63DD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4AE539-B63B-4832-B1E7-C2305BD41F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4B25D4-BDB8-4006-A7E2-2AEC6AA428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259F12-7960-465E-9983-4D4BD560FF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7D629E-CF6D-413D-9A87-BE516B2655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19D728-EBE5-473C-A399-7E7D47E558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56B3D6-54C2-4F57-AF33-5856F7B733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AE5B5F-3483-4E9D-9FAB-954522223B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55622B-228C-4E63-82ED-528FEFC291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6B31EF-6386-4652-8BB9-616AABECCA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CDE893-9495-4B09-8005-D66D164C63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3CB75-089B-49BD-9ADE-C66375EB0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D27B73-FF59-49B3-9C91-2C70125E3E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BBDF44E-455B-4B62-A5A9-60CF86590C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F1E505-C43B-46B6-BA51-ED14D29242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331530-B21E-4B5B-9702-673902F950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5DEC11-61E1-4B78-825D-F5FB406DB9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291520-56EB-4E8F-A194-48178CF4E8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5B2C57-2B0A-4EF7-BDF2-8E0EDEA856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652CD3-3E04-4C32-823F-CB8B4FDB0A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7917DD-650B-45BF-AC68-BB5D93C5A7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88DE88-7E96-43A1-AD4B-D6500C2A94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055F0-27C2-4684-BD04-BEA2FD054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D843C1-6961-4F1A-A878-20827663EA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E6D87B-3AA1-45C1-B500-165F97776E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550FCE-FA04-4415-8CD8-B343C65299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7BBBE4-7E32-4B40-B30B-7BA58F42AC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36A910-76E2-4C97-A0FF-36BCFE9669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55F020-0030-4979-A6B0-FA9DEC20CE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5AFDBF-E73B-419C-A818-68204FFE8E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90395C-6C30-4D36-92A8-D5FE171F40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1A73C0-41D5-48D0-BEBE-6E31F47BAE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05D9B9-ADB2-4BDA-B234-55673C5E0E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FD9A6-82FF-4AB2-B288-344BCBED2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6A3CB9-A982-4B67-9E55-7E24E75257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1587C0-FACB-45B2-B541-D7FF2ADA6A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0AF057-9B66-423B-AF0C-F18C1C8156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D5D6B0-BDD2-44CB-BF7A-A891F4CC04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1FB5B9-92ED-456B-A285-866B814FC1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CAB6BE-64EA-4B68-9A3C-7A6CC736489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65B12F-8DED-4058-B535-754560F9658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C851FD-B5CF-4DD7-9163-F4E58789662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67053A-00AE-486D-97FF-2761353449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B43C8D-A479-4A03-9038-25C2BDCDF96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9E3AADF-8DA8-4414-AF58-9A4DDE8AE4F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1</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E286766-3B0A-4E73-987B-396AAA2E21F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1</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CDF6FB4-92F1-4CD4-AD06-97FF9B38406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1</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AC831DB-80BB-4131-B37D-89712FAB411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1</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24EE4A6-E9E8-4839-99DD-DCD552DB697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1</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98CC861-3025-4222-A2BB-05866155973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1</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214C0E4-D03B-4D12-A6C7-0C1DCA36606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1</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5639F01-BE30-4442-906F-DEE5BBE940F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1</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2194D3A-ABC7-4598-B09A-5E188968975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1</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540001F-DD19-470D-A2D2-D27541C17DE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1</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DBBE8CA-694A-4260-B86C-CFED7382D43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02r1</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5A53AD4-8B6B-40A3-A20E-2BC9BE567A0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3/11-13-0230-03-0000-comment-resolution-tutorial.ppt" TargetMode="External"/><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0913630-924E-4CC8-8EDA-F198DA1B0B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October 2018 Teleconference Call Agendas</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10-10</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05B0011-CB5F-4DDB-AB59-970DF67509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October 3</a:t>
            </a:r>
            <a:endParaRPr b="0" lang="en-US" sz="3200" spc="-1" strike="noStrike">
              <a:solidFill>
                <a:srgbClr val="000000"/>
              </a:solidFill>
              <a:latin typeface="Times New Roman"/>
            </a:endParaRPr>
          </a:p>
        </p:txBody>
      </p:sp>
      <p:sp>
        <p:nvSpPr>
          <p:cNvPr id="604"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678r0:  </a:t>
            </a:r>
            <a:r>
              <a:rPr b="0" lang="en-GB" sz="1700" spc="-1" strike="noStrike">
                <a:solidFill>
                  <a:srgbClr val="000000"/>
                </a:solidFill>
                <a:latin typeface="Times New Roman"/>
              </a:rPr>
              <a:t>CID resolution – part XI </a:t>
            </a:r>
            <a:r>
              <a:rPr b="0" lang="en-US" sz="1700" spc="-1" strike="noStrike">
                <a:solidFill>
                  <a:srgbClr val="000000"/>
                </a:solidFill>
                <a:latin typeface="Times New Roman"/>
              </a:rPr>
              <a:t>(Arytom Lomayev</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031A8A5-64B9-4003-B85C-DC770D5FEE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October 10</a:t>
            </a:r>
            <a:endParaRPr b="0" lang="en-US" sz="3200" spc="-1" strike="noStrike">
              <a:solidFill>
                <a:srgbClr val="000000"/>
              </a:solidFill>
              <a:latin typeface="Times New Roman"/>
            </a:endParaRPr>
          </a:p>
        </p:txBody>
      </p:sp>
      <p:sp>
        <p:nvSpPr>
          <p:cNvPr id="609"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nouncement:</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raft 2.1 is posted to Members Area</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ll for comment resolution/technical presentation on the October 31</a:t>
            </a:r>
            <a:r>
              <a:rPr b="0" lang="en-US" sz="1700" spc="-1" strike="noStrike" baseline="30000">
                <a:solidFill>
                  <a:srgbClr val="000000"/>
                </a:solidFill>
                <a:latin typeface="Times New Roman"/>
              </a:rPr>
              <a:t>st</a:t>
            </a:r>
            <a:r>
              <a:rPr b="0" lang="en-US" sz="1700" spc="-1" strike="noStrike">
                <a:solidFill>
                  <a:srgbClr val="000000"/>
                </a:solidFill>
                <a:latin typeface="Times New Roman"/>
              </a:rPr>
              <a:t> and November 7</a:t>
            </a:r>
            <a:r>
              <a:rPr b="0" lang="en-US" sz="1700" spc="-1" strike="noStrike" baseline="30000">
                <a:solidFill>
                  <a:srgbClr val="000000"/>
                </a:solidFill>
                <a:latin typeface="Times New Roman"/>
              </a:rPr>
              <a:t>th</a:t>
            </a:r>
            <a:r>
              <a:rPr b="0" lang="en-US" sz="1700" spc="-1" strike="noStrike">
                <a:solidFill>
                  <a:srgbClr val="000000"/>
                </a:solidFill>
                <a:latin typeface="Times New Roman"/>
              </a:rPr>
              <a:t> calls</a:t>
            </a:r>
            <a:endParaRPr b="0" lang="en-US" sz="17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chnical presentation</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346r0:  </a:t>
            </a:r>
            <a:r>
              <a:rPr b="0" lang="en-GB" sz="1700" spc="-1" strike="noStrike">
                <a:solidFill>
                  <a:srgbClr val="000000"/>
                </a:solidFill>
                <a:latin typeface="Times New Roman"/>
              </a:rPr>
              <a:t>EDMG encoding examples </a:t>
            </a:r>
            <a:r>
              <a:rPr b="0" lang="en-US" sz="1700" spc="-1" strike="noStrike">
                <a:solidFill>
                  <a:srgbClr val="000000"/>
                </a:solidFill>
                <a:latin typeface="Times New Roman"/>
              </a:rPr>
              <a:t>(Arytom Lomayev)</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347r0:  </a:t>
            </a:r>
            <a:r>
              <a:rPr b="0" lang="en-US" sz="1700" spc="-1" strike="noStrike">
                <a:solidFill>
                  <a:srgbClr val="000000"/>
                </a:solidFill>
                <a:latin typeface="Times New Roman"/>
              </a:rPr>
              <a:t>Annex I text for EDMG encoding examples (Artyom Lomayev)</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48DF73-0ECE-48C9-B295-C5F263419D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October 17</a:t>
            </a:r>
            <a:endParaRPr b="0" lang="en-US" sz="3200" spc="-1" strike="noStrike">
              <a:solidFill>
                <a:srgbClr val="000000"/>
              </a:solidFill>
              <a:latin typeface="Times New Roman"/>
            </a:endParaRPr>
          </a:p>
        </p:txBody>
      </p:sp>
      <p:sp>
        <p:nvSpPr>
          <p:cNvPr id="614"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691r0:  </a:t>
            </a:r>
            <a:r>
              <a:rPr b="0" lang="en-GB" sz="1700" spc="-1" strike="noStrike">
                <a:solidFill>
                  <a:srgbClr val="000000"/>
                </a:solidFill>
                <a:latin typeface="Times New Roman"/>
              </a:rPr>
              <a:t>LB234 comment resolutions – Coexistence Assurance Document </a:t>
            </a:r>
            <a:r>
              <a:rPr b="0" lang="en-GB" sz="1700" spc="-1" strike="noStrike">
                <a:solidFill>
                  <a:srgbClr val="000000"/>
                </a:solidFill>
                <a:latin typeface="Times New Roman"/>
              </a:rPr>
              <a:t>	</a:t>
            </a:r>
            <a:r>
              <a:rPr b="0" lang="en-GB" sz="1700" spc="-1" strike="noStrike">
                <a:solidFill>
                  <a:srgbClr val="000000"/>
                </a:solidFill>
                <a:latin typeface="Times New Roman"/>
              </a:rPr>
              <a:t>	</a:t>
            </a:r>
            <a:r>
              <a:rPr b="0" lang="en-US" sz="1700" spc="-1" strike="noStrike">
                <a:solidFill>
                  <a:srgbClr val="000000"/>
                </a:solidFill>
                <a:latin typeface="Times New Roman"/>
              </a:rPr>
              <a:t>(Claudio da Silva)</a:t>
            </a:r>
            <a:endParaRPr b="0" lang="en-US" sz="17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6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35C337E-23A9-4882-925E-45B5A01B76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October 31</a:t>
            </a:r>
            <a:endParaRPr b="0" lang="en-US" sz="3200" spc="-1" strike="noStrike">
              <a:solidFill>
                <a:srgbClr val="000000"/>
              </a:solidFill>
              <a:latin typeface="Times New Roman"/>
            </a:endParaRPr>
          </a:p>
        </p:txBody>
      </p:sp>
      <p:sp>
        <p:nvSpPr>
          <p:cNvPr id="619"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TBD</a:t>
            </a:r>
            <a:endParaRPr b="0" lang="en-US" sz="17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766BE2B-C4C8-4AD3-AE12-AE8814C6DB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teleconference calls on October 3, October 10, October 17, and October 31, 2018.</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1"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ACD41D0D-9B68-4751-84F6-27DF279F78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5"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7"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6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E28D9C4A-A686-46E7-86CE-3B7669DEAE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3"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C9FA1E5-CAFC-4983-89FD-3CCC8B90AD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234452-8A0D-419F-8654-0D86F63006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9B9E929F-6D25-4E12-B5D7-41F8E95F55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8"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9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0D334B-26FB-417A-9691-FF13E8FB43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59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5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13E4ED8-BC01-4713-BB6D-FB768C273A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comment resolution</a:t>
            </a:r>
            <a:endParaRPr b="0" lang="en-US" sz="3200" spc="-1" strike="noStrike">
              <a:solidFill>
                <a:srgbClr val="000000"/>
              </a:solidFill>
              <a:latin typeface="Times New Roman"/>
            </a:endParaRPr>
          </a:p>
        </p:txBody>
      </p:sp>
      <p:sp>
        <p:nvSpPr>
          <p:cNvPr id="599"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8</a:t>
            </a:r>
            <a:endParaRPr b="0" lang="en-US" sz="1800" spc="-1" strike="noStrike">
              <a:solidFill>
                <a:srgbClr val="000000"/>
              </a:solidFill>
              <a:latin typeface="Times New Roman"/>
            </a:endParaRPr>
          </a:p>
        </p:txBody>
      </p:sp>
      <p:sp>
        <p:nvSpPr>
          <p:cNvPr id="6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01"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e proposed resolution is executable by the Editor, e.g., please avoid that there is not enough info to be able for the Editor to resolve the comment without creating text by himself.</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o call out not only the page and line number, but also the draft version and clause number in your comment resolution document, because the page and line numbers (also the figure and table numbers) change on subsequent revisions of the draft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1391-00-0000-september-2018-working-group-chair-supplementary-material.pp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October 2018</cp:keywords>
  <dc:language>en-US</dc:language>
  <cp:lastModifiedBy>Edward Au</cp:lastModifiedBy>
  <cp:lastPrinted>2014-11-04T15:04:57Z</cp:lastPrinted>
  <dcterms:modified xsi:type="dcterms:W3CDTF">2018-10-08T19:21:02Z</dcterms:modified>
  <cp:revision>4249</cp:revision>
  <dc:subject>Task Group AY November 2015 Meeting Agenda</dc:subject>
  <dc:title>18/1702r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08261703</vt:lpwstr>
  </property>
</Properties>
</file>