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7F5EB3FB-76EC-49C8-B4D8-53DA88F08E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C582C0-80F6-4EDC-A714-CEF1942E2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54160" y="701640"/>
            <a:ext cx="4626000" cy="3468600"/>
          </a:xfrm>
          <a:prstGeom prst="rect">
            <a:avLst/>
          </a:prstGeom>
          <a:ln w="0">
            <a:noFill/>
          </a:ln>
        </p:spPr>
      </p:sp>
      <p:sp>
        <p:nvSpPr>
          <p:cNvPr id="6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4160" y="701640"/>
            <a:ext cx="4626000" cy="3468600"/>
          </a:xfrm>
          <a:prstGeom prst="rect">
            <a:avLst/>
          </a:prstGeom>
          <a:ln w="0">
            <a:noFill/>
          </a:ln>
        </p:spPr>
      </p:sp>
      <p:sp>
        <p:nvSpPr>
          <p:cNvPr id="67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C61C7E-5DE4-46A3-B96A-D38DD8FFA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54160" y="701640"/>
            <a:ext cx="4626000" cy="3468600"/>
          </a:xfrm>
          <a:prstGeom prst="rect">
            <a:avLst/>
          </a:prstGeom>
          <a:ln w="0">
            <a:noFill/>
          </a:ln>
        </p:spPr>
      </p:sp>
      <p:sp>
        <p:nvSpPr>
          <p:cNvPr id="67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65CD2E-4D26-4B38-A194-0329FF74F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701640"/>
            <a:ext cx="4626000" cy="3468600"/>
          </a:xfrm>
          <a:prstGeom prst="rect">
            <a:avLst/>
          </a:prstGeom>
          <a:ln w="0">
            <a:noFill/>
          </a:ln>
        </p:spPr>
      </p:sp>
      <p:sp>
        <p:nvSpPr>
          <p:cNvPr id="68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A32567-61B0-4772-8537-6486CB6EF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002CAD-633C-4063-90C6-480EE60F7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54160" y="701640"/>
            <a:ext cx="4626000" cy="3468600"/>
          </a:xfrm>
          <a:prstGeom prst="rect">
            <a:avLst/>
          </a:prstGeom>
          <a:ln w="0">
            <a:noFill/>
          </a:ln>
        </p:spPr>
      </p:sp>
      <p:sp>
        <p:nvSpPr>
          <p:cNvPr id="6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C0FB63D-EAFC-4183-8CE3-87A701591C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7680" y="696960"/>
            <a:ext cx="4640400" cy="3479760"/>
          </a:xfrm>
          <a:prstGeom prst="rect">
            <a:avLst/>
          </a:prstGeom>
          <a:ln w="0">
            <a:noFill/>
          </a:ln>
        </p:spPr>
      </p:sp>
      <p:sp>
        <p:nvSpPr>
          <p:cNvPr id="63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CF715DA-B928-4B14-BC53-46DE4479F3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7680" y="696960"/>
            <a:ext cx="4640400" cy="3479760"/>
          </a:xfrm>
          <a:prstGeom prst="rect">
            <a:avLst/>
          </a:prstGeom>
          <a:ln w="0">
            <a:noFill/>
          </a:ln>
        </p:spPr>
      </p:sp>
      <p:sp>
        <p:nvSpPr>
          <p:cNvPr id="64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9D44C59-B722-4AD2-9F59-86BCCB6F2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7B477E5-D352-4D80-A88E-6934CCAE9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4160" y="701640"/>
            <a:ext cx="4626000" cy="3468600"/>
          </a:xfrm>
          <a:prstGeom prst="rect">
            <a:avLst/>
          </a:prstGeom>
          <a:ln w="0">
            <a:noFill/>
          </a:ln>
        </p:spPr>
      </p:sp>
      <p:sp>
        <p:nvSpPr>
          <p:cNvPr id="6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4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4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997BE9-93E8-45FA-9F33-D46A0360B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F5EE57-A88C-4DD4-A50E-69C93D6BE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5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5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F7B164-6B82-4789-9609-B64837F46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276588-5BC9-4E3E-8FC8-E9CB9A93E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1BA06-DEEB-4242-A58D-B8E5D3F75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3CD3C-358E-42CC-87D4-0C33709B2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B44E16-26AA-4453-8CBD-7D8976CEFA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3E467E-A914-4DD9-90C0-3E57C03CEE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40D280-4B2E-4014-92D6-29E9D3B46C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BB378-5060-4784-B86C-C0A55D53C0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EF6EE2-C7A2-45ED-BB8F-A072B595BF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E1895-2B33-4B66-A8D4-0BBF6804E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2ACB93-EF98-4FF2-A45F-8A593C7783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D48929-7687-4978-8CFB-0E2A4ABBF4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5CE4CF-629E-4FAA-84C5-4E84591125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F9BF02-509C-4CCA-A105-C3248CD765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0BD8A-0470-409D-8EDB-88F60E128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8A3A47-E404-48B6-B206-B126AD7314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7AB7F2-3436-4FD9-BA6E-DC386E7A19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F6B923-7597-451A-9341-85FF2835C0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8FE786-E7E9-4678-AECE-AFFA4069F2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59D061-D6A3-4D60-98FE-9573EDEC09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08C391-3602-44F1-93A1-BB0DDE4FDA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50031B-C01C-48F6-A023-5F2C744248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C4B752-EFE2-4CB4-BAD1-BD3E796BD9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83BB1A-672D-49EA-A833-8B42B6536B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73376F-EFDE-45C1-B361-2BFC961B89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99A55-71F3-4FF4-84C7-4D4DC1D5A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496BA5-86B4-4D04-A85C-2F9B73E521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001670-9E8B-4D2F-91A0-E8AA04CDE7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FCA6B9-EEB2-4061-8593-16289F1FEC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E41565-2182-48DB-A740-9E62DB0D0E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99BDF8-0A03-4C5B-8111-033B4F42D9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7920E7-BB38-4281-A8C1-C68FC61AAD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D4EA7A-1929-4506-B656-6D5BDF4815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04BB0F-E694-4447-B4B8-12C0EB56FC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501906-195C-4A9C-93D5-257CF44AB2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74FFAC-8F26-441D-8A0B-3110F0AEFB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655E6-AD24-44D5-9E99-B8E20AF3F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778D92-E765-4FB4-BB64-05D265BD24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4792CA-D68E-4D49-B816-160589BF56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8682DF-4E2C-46E4-B918-918E149654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3AEA86-BEE7-42F9-BE6C-D6AC9B2C02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356FC7-8EC6-451B-80F7-7BDA766EC8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E7D9AC-EF99-4AF3-B380-0B67A1AF6C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B85B33-D492-4228-9DC0-D419E1157B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F4B93E-7B42-44D9-AA80-2AD252A29D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CDF623-176C-4B53-8BAC-B568FD3E99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E6437C-FBFB-4109-A5C5-30BFDF6C02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2619D-9360-4DDE-893A-445F66354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8A7AAB-0FFE-4CBC-B979-D6B8A8F555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D7CA65-9224-42F1-A97A-7B1D9E12BC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8F9DCC-D520-4DAF-96FE-9732BF84C3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E5F282-42DB-4851-B629-6E2C5F7460B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1DECD47-048D-4655-8860-1C6A6F63A1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42D0B-E9DB-4FAB-9419-D1A22D057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DEF09-4C81-490B-A84C-03C4E11F8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CD7A1-D362-4258-8764-AE2E3D028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7DB07-24C9-4FD3-9302-E006A3A82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9648E-1A94-4B48-BB4D-38C3A2365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EE81E-5B33-4D4E-8244-8D74E9BD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F02FF-B5F6-4F44-9F75-12FF4E5BF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397A3-5AA5-472B-A77F-EA53AF642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31BFE-23F0-47AD-9C1F-5506FC073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D0020-0036-40D4-AD11-92A9692B1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C29FF-F2BD-44BA-B31F-726361CFB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DB9CD3-527B-418B-B473-C2191BD863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B91627-53FB-45B3-9980-9DD4AAB78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B77532-F34B-4DFB-8AE3-0A3B37A2F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DD826-9CE5-4D7B-BCCF-E72BE57C14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8D89BB-62FA-46BC-B3E7-4AE13F2E7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59379-6ABE-401B-BB84-0BFFDCA12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78373-7A8F-47A0-B567-11E026E78D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38A9F-68BA-40A4-9922-7B0AA1D20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7A4DD-F260-4AB2-9CF6-F144DDC69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4F72B-DFFC-4EB9-86E6-D3CC05472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C67CE-6516-4C23-A6E9-C6457B36ED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334DF8-0F4A-4D7F-9587-0DE94FC07D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6581E1-DF80-4397-BF9A-4A3CEB8D8C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738106-7F90-421B-8781-A085F25760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DC4DA-3B0B-4E0C-9727-02DCAC9B0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810A22-1386-47AD-B816-9FD3730E74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2E7AC-9379-47C4-80FD-D80DBF242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41F6C-2F6A-48D9-AA0A-79110DBE37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A7811-5E74-47DC-9611-48B31C6DC0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3C2DC-E491-41FD-B55C-BEC17386C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7327F-BE0F-4DA2-8F3C-18CDB6D2B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CD91F-510F-4C58-B370-8109CA9D9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A08C2-7587-4521-BEB9-766636F3D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BA365-DEBE-4811-969B-D202DB509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8BAF6D-6C0C-4228-B93F-1FAE8A9E18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64AC40-DB5B-4611-8198-577F180DDA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7E1187-96B8-45FB-A4E4-3B39303A7A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30944-F6B1-4608-BE3B-A35C6B4D7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6DC188-C0BD-4BC5-B7EA-611D6F3E53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033064-4FFE-41C7-AA5B-1203A3F9D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6EFF1E-82FC-49F5-81BC-F6C90F9AE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2AC161-8798-472F-9F65-39057DCCFE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013029-13C4-4259-A324-6C218C8CC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ABD44C-0694-4A1E-9FEA-01AE22358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8C255-3E2C-4AB4-91ED-8DBCE37D2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B0BFE-CCD7-4309-9C94-9444DD275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D567B-535A-4AB3-B7E7-55424A9AC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9F2602-50EB-45E9-AD07-118F1B1D53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E709F-CF4A-4FFA-8EC2-1BCAF81F0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1B3037-480D-4E0B-946C-A9AC95EDAD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F2AC27-6B10-4EAE-85D7-BAB6BDD7B7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F030F4-1BBB-4A51-97CA-813ED47BA7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147987-5A2A-44E6-9A00-CDC7E247C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5584CF-273B-49A9-8122-0FD685F02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06032B-E183-4E0E-BDCA-D946B6ABCD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7D5806-01F8-40AB-9545-681F3477DB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F3BA6-A98C-45AB-BF33-95342636C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00E2A-AEA2-4954-A19E-2E1324077F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A4030-57FE-430E-BD79-ACDE7B8A8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E5EA-4A2A-401A-A6C2-4DA8E92E7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808C62-2849-4341-B5C7-9F06A21DB4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1434BB-F790-4C62-861B-88FF58CC70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6B6E9F-AB85-42F2-884F-02F6748984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6C1A98-24BC-4BA9-8D6B-EDA87884AF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EE4301-57AE-45EE-9A84-88CB35AB25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711490-FE78-46F4-BE1D-87833C81D7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EB0343-508A-41F4-8EA6-2DFC586E52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3F80E2-7229-4A96-BBF6-FD32678112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30FF98-99BD-4C9F-9FD6-A376A65F5F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6E4C2E-8222-4DBC-9E0B-B69B8B949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2CE90-2B8B-4754-84DF-4BBAD32EC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EC426-F61C-44C8-8E4C-D3966B4E8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1EE19-F510-41A5-9A72-6E98F162F7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A453D6-45E4-43A5-B6CF-0A1DBD274A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A29A6E-DA14-42EC-B9DE-07C93609F7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630B5F-F5F4-48E9-9A2C-D5E38C2073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C447BA-8B49-4A80-9D71-9EE9AF504D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310F6A-61DE-42E5-AA2D-62A30F0DE9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A47EE8-D422-4033-94D5-2BF7ED327C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B1DCF5-757B-4704-8ADB-0AE56AA7B8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0F298B-D442-4FCF-A7A8-62FA60C8B5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2B0C-E427-4A6D-A97D-94140D1AE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51D320-5C24-461C-B09B-4C72E9403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802C55-DD91-4CCD-877B-C0B89322DF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602EBA-D68D-484E-A3FC-F13FBDDEE0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41B0D-2F61-450C-B3F2-C78185F607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6B620D-E186-4AA1-A70E-17B1C66564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3BD7CC-3BA9-4125-902C-BDA7E2F010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AE9522-7D9C-46CB-AFB3-6B715FC3EA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4F9A15-E520-4140-81ED-091BE94512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A0B492-C7B6-441C-B6C2-ED675F5589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EA1051-3F3A-45F6-844D-8D9EFCC79A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4B94714-929B-4703-B952-FCD88B64A1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DA46EA-77E3-4C48-8C11-FE4249A8B6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E303D86-468D-42D8-8C5F-721815FC7D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41F8DFE-991F-4D8A-9A50-9C0E0DDC83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74EBDF3-A53E-40F3-A7CD-FA2A82C0B5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112AB80-3691-4583-85D0-BE570C247D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CC0A40A-682A-4449-8B6A-5F1F42E3C2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D7E56F9-7EA7-429F-A3A2-980F8A40A0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76C6DBE-9EC9-4D08-A8F8-BD7CDE2A5A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C52F7C2-9EE1-4393-A29A-75884614E7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D08906-9A45-41DD-9853-E6E27D0F26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F392047-0763-4F64-A4FA-E4E287FEAC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564F93-C40D-4BD1-8809-F475A91DB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Octo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0-03</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A1FEAC-2C0E-4677-B293-E0613264F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0</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6r0:  </a:t>
            </a:r>
            <a:r>
              <a:rPr b="0" lang="en-GB" sz="1700" spc="-1" strike="noStrike">
                <a:solidFill>
                  <a:srgbClr val="000000"/>
                </a:solidFill>
                <a:latin typeface="Times New Roman"/>
              </a:rPr>
              <a:t>EDMG encoding examples </a:t>
            </a:r>
            <a:r>
              <a:rPr b="0" lang="en-US" sz="1700" spc="-1" strike="noStrike">
                <a:solidFill>
                  <a:srgbClr val="000000"/>
                </a:solidFill>
                <a:latin typeface="Times New Roman"/>
              </a:rPr>
              <a:t>(Arytom Lomaye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7r0:  </a:t>
            </a:r>
            <a:r>
              <a:rPr b="0" lang="en-US" sz="1700" spc="-1" strike="noStrike">
                <a:solidFill>
                  <a:srgbClr val="000000"/>
                </a:solidFill>
                <a:latin typeface="Times New Roman"/>
              </a:rPr>
              <a:t>Annex I text for EDMG encoding examples (Artyom Lomayev)</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2EEA28-77A8-464C-A841-C74663522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7</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91r0:  </a:t>
            </a:r>
            <a:r>
              <a:rPr b="0" lang="en-GB" sz="1800" spc="-1" strike="noStrike">
                <a:solidFill>
                  <a:srgbClr val="000000"/>
                </a:solidFill>
                <a:latin typeface="Times New Roman"/>
              </a:rPr>
              <a:t>LB234 Comment Resolutions – Coexistence Assurance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Document  </a:t>
            </a:r>
            <a:r>
              <a:rPr b="0" lang="en-US" sz="1700" spc="-1" strike="noStrike">
                <a:solidFill>
                  <a:srgbClr val="000000"/>
                </a:solidFill>
                <a:latin typeface="Times New Roman"/>
              </a:rPr>
              <a:t>(Claudio da Silva</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4F32FD-6C03-4134-A7DA-F6CC0349B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1</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BD</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D23BDD-2B8C-4959-8025-4B8ECCFE2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October 3, October 10, October 17, and October 31,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FA3F298-8C7D-4383-8CD0-C1C7B6E455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2D67218-EBD8-448A-A141-04D20292E3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8C1B75-381D-400D-AEDD-00B423415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8404FE-285C-4434-BC26-A6F94AD24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B5CDE82-74A7-4723-98D1-4D35F1FCDD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100516-5C77-4755-A13F-D6765C507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C2B685-22BF-4DB7-BCF9-BE6995B04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a:t>
            </a:r>
            <a:endParaRPr b="0" lang="en-US" sz="3200" spc="-1" strike="noStrike">
              <a:solidFill>
                <a:srgbClr val="000000"/>
              </a:solidFill>
              <a:latin typeface="Times New Roman"/>
            </a:endParaRPr>
          </a:p>
        </p:txBody>
      </p:sp>
      <p:sp>
        <p:nvSpPr>
          <p:cNvPr id="59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78r0:  </a:t>
            </a:r>
            <a:r>
              <a:rPr b="0" lang="en-GB" sz="1700" spc="-1" strike="noStrike">
                <a:solidFill>
                  <a:srgbClr val="000000"/>
                </a:solidFill>
                <a:latin typeface="Times New Roman"/>
              </a:rPr>
              <a:t>CID resolution – part XI </a:t>
            </a:r>
            <a:r>
              <a:rPr b="0" lang="en-US" sz="1700" spc="-1" strike="noStrike">
                <a:solidFill>
                  <a:srgbClr val="000000"/>
                </a:solidFill>
                <a:latin typeface="Times New Roman"/>
              </a:rPr>
              <a:t>(Arytom Lomaye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October 2018</cp:keywords>
  <dc:language>en-US</dc:language>
  <cp:lastModifiedBy>Edward Au</cp:lastModifiedBy>
  <cp:lastPrinted>2014-11-04T15:04:57Z</cp:lastPrinted>
  <dcterms:modified xsi:type="dcterms:W3CDTF">2018-09-28T23:04:59Z</dcterms:modified>
  <cp:revision>4243</cp:revision>
  <dc:subject>Task Group AY November 2015 Meeting Agenda</dc:subject>
  <dc:title>18/1702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