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5B3E92-EF18-480E-8554-28721CCD1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39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39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0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D5EBDF-2A37-4BB8-9316-81781ED2A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54160" y="701640"/>
            <a:ext cx="4626000" cy="346860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4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4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0BF348-3D62-40D7-B911-32AA226F6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5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5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46B915-A98D-45A2-AF01-E457DE17E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54160" y="701640"/>
            <a:ext cx="4626000" cy="3468600"/>
          </a:xfrm>
          <a:prstGeom prst="rect">
            <a:avLst/>
          </a:prstGeom>
          <a:ln w="0">
            <a:noFill/>
          </a:ln>
        </p:spPr>
      </p:sp>
      <p:sp>
        <p:nvSpPr>
          <p:cNvPr id="4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5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061709-9C87-4862-92E8-4DC276372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46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46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4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66119D-AF21-41B7-9D48-B0E6034E8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4160" y="701640"/>
            <a:ext cx="4626000" cy="3468600"/>
          </a:xfrm>
          <a:prstGeom prst="rect">
            <a:avLst/>
          </a:prstGeom>
          <a:ln w="0">
            <a:noFill/>
          </a:ln>
        </p:spPr>
      </p:sp>
      <p:sp>
        <p:nvSpPr>
          <p:cNvPr id="4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46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467"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4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C71150-D857-414A-807C-A658C6F94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4160" y="701640"/>
            <a:ext cx="4626000" cy="3468600"/>
          </a:xfrm>
          <a:prstGeom prst="rect">
            <a:avLst/>
          </a:prstGeom>
          <a:ln w="0">
            <a:noFill/>
          </a:ln>
        </p:spPr>
      </p:sp>
      <p:sp>
        <p:nvSpPr>
          <p:cNvPr id="4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54160" y="701640"/>
            <a:ext cx="4626000" cy="3468600"/>
          </a:xfrm>
          <a:prstGeom prst="rect">
            <a:avLst/>
          </a:prstGeom>
          <a:ln w="0">
            <a:noFill/>
          </a:ln>
        </p:spPr>
      </p:sp>
      <p:sp>
        <p:nvSpPr>
          <p:cNvPr id="4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827C85-81E1-4C07-A987-D97737105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F57A0A-0EC6-4E64-939D-50F3041BE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54160" y="701640"/>
            <a:ext cx="4626000" cy="3468600"/>
          </a:xfrm>
          <a:prstGeom prst="rect">
            <a:avLst/>
          </a:prstGeom>
          <a:ln w="0">
            <a:noFill/>
          </a:ln>
        </p:spPr>
      </p:sp>
      <p:sp>
        <p:nvSpPr>
          <p:cNvPr id="4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54160" y="701640"/>
            <a:ext cx="4626000" cy="3468600"/>
          </a:xfrm>
          <a:prstGeom prst="rect">
            <a:avLst/>
          </a:prstGeom>
          <a:ln w="0">
            <a:noFill/>
          </a:ln>
        </p:spPr>
      </p:sp>
      <p:sp>
        <p:nvSpPr>
          <p:cNvPr id="4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3A7559-3178-48E8-B012-EF86532E3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54160" y="701640"/>
            <a:ext cx="4626000" cy="3468600"/>
          </a:xfrm>
          <a:prstGeom prst="rect">
            <a:avLst/>
          </a:prstGeom>
          <a:ln w="0">
            <a:noFill/>
          </a:ln>
        </p:spPr>
      </p:sp>
      <p:sp>
        <p:nvSpPr>
          <p:cNvPr id="4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F96CDB-6CBD-481F-B02F-939A05890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4160" y="701640"/>
            <a:ext cx="4626000" cy="3468600"/>
          </a:xfrm>
          <a:prstGeom prst="rect">
            <a:avLst/>
          </a:prstGeom>
          <a:ln w="0">
            <a:noFill/>
          </a:ln>
        </p:spPr>
      </p:sp>
      <p:sp>
        <p:nvSpPr>
          <p:cNvPr id="4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5179E5-5EBF-4BFF-B0BB-A6A89450A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4160" y="701640"/>
            <a:ext cx="4626000" cy="3468600"/>
          </a:xfrm>
          <a:prstGeom prst="rect">
            <a:avLst/>
          </a:prstGeom>
          <a:ln w="0">
            <a:noFill/>
          </a:ln>
        </p:spPr>
      </p:sp>
      <p:sp>
        <p:nvSpPr>
          <p:cNvPr id="5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68DF2D-0DF1-42D4-902F-4016DF05A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4160" y="701640"/>
            <a:ext cx="4626000" cy="3468600"/>
          </a:xfrm>
          <a:prstGeom prst="rect">
            <a:avLst/>
          </a:prstGeom>
          <a:ln w="0">
            <a:noFill/>
          </a:ln>
        </p:spPr>
      </p:sp>
      <p:sp>
        <p:nvSpPr>
          <p:cNvPr id="5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ECF8FC-991D-4488-A1C6-2CE2DB047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54160" y="701640"/>
            <a:ext cx="4626000" cy="3468600"/>
          </a:xfrm>
          <a:prstGeom prst="rect">
            <a:avLst/>
          </a:prstGeom>
          <a:ln w="0">
            <a:noFill/>
          </a:ln>
        </p:spPr>
      </p:sp>
      <p:sp>
        <p:nvSpPr>
          <p:cNvPr id="4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938B82-F164-4945-A5F9-9B4C9F52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4160" y="701640"/>
            <a:ext cx="4626000" cy="3468600"/>
          </a:xfrm>
          <a:prstGeom prst="rect">
            <a:avLst/>
          </a:prstGeom>
          <a:ln w="0">
            <a:noFill/>
          </a:ln>
        </p:spPr>
      </p:sp>
      <p:sp>
        <p:nvSpPr>
          <p:cNvPr id="5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330B30-D53D-4B8A-9707-B2810BD1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4160" y="701640"/>
            <a:ext cx="4626000" cy="3468600"/>
          </a:xfrm>
          <a:prstGeom prst="rect">
            <a:avLst/>
          </a:prstGeom>
          <a:ln w="0">
            <a:noFill/>
          </a:ln>
        </p:spPr>
      </p:sp>
      <p:sp>
        <p:nvSpPr>
          <p:cNvPr id="5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B85038-9624-40EA-AB90-6B4A9E309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54160" y="701640"/>
            <a:ext cx="4626000" cy="3468600"/>
          </a:xfrm>
          <a:prstGeom prst="rect">
            <a:avLst/>
          </a:prstGeom>
          <a:ln w="0">
            <a:noFill/>
          </a:ln>
        </p:spPr>
      </p:sp>
      <p:sp>
        <p:nvSpPr>
          <p:cNvPr id="5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823A69-E6A8-4C03-89E6-9D751BDEF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54160" y="701640"/>
            <a:ext cx="4626000" cy="3468600"/>
          </a:xfrm>
          <a:prstGeom prst="rect">
            <a:avLst/>
          </a:prstGeom>
          <a:ln w="0">
            <a:noFill/>
          </a:ln>
        </p:spPr>
      </p:sp>
      <p:sp>
        <p:nvSpPr>
          <p:cNvPr id="5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0FAE43-B9DE-498A-80EB-EC61F7898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54160" y="701640"/>
            <a:ext cx="4626000" cy="3468600"/>
          </a:xfrm>
          <a:prstGeom prst="rect">
            <a:avLst/>
          </a:prstGeom>
          <a:ln w="0">
            <a:noFill/>
          </a:ln>
        </p:spPr>
      </p:sp>
      <p:sp>
        <p:nvSpPr>
          <p:cNvPr id="5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04174D-E199-471D-B7FD-8EF39B4A0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54160" y="701640"/>
            <a:ext cx="4626000" cy="3468600"/>
          </a:xfrm>
          <a:prstGeom prst="rect">
            <a:avLst/>
          </a:prstGeom>
          <a:ln w="0">
            <a:noFill/>
          </a:ln>
        </p:spPr>
      </p:sp>
      <p:sp>
        <p:nvSpPr>
          <p:cNvPr id="5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53DCED-60AB-437E-B283-58E037943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E58106-68E6-4F70-B288-FB97FD1D5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E381D6-6461-4C98-83C1-95792BBA8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34B237-A287-421B-AC5A-004854446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4160" y="701640"/>
            <a:ext cx="4626000" cy="3468600"/>
          </a:xfrm>
          <a:prstGeom prst="rect">
            <a:avLst/>
          </a:prstGeom>
          <a:ln w="0">
            <a:noFill/>
          </a:ln>
        </p:spPr>
      </p:sp>
      <p:sp>
        <p:nvSpPr>
          <p:cNvPr id="5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0B77A7-1258-4F69-A5DB-D9120BA86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1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1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1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2AAF06-1F7F-4BA1-86D3-D8F139ECE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54160" y="701640"/>
            <a:ext cx="4626000" cy="3468600"/>
          </a:xfrm>
          <a:prstGeom prst="rect">
            <a:avLst/>
          </a:prstGeom>
          <a:ln w="0">
            <a:noFill/>
          </a:ln>
        </p:spPr>
      </p:sp>
      <p:sp>
        <p:nvSpPr>
          <p:cNvPr id="4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4A28D3-F9E5-43FD-AFE2-88326A3C9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002C32-F570-4BB0-8690-C1C26E4B2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51BF1B-46AC-4709-8092-376B2453C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CB1EA6-2C57-4149-B9FD-B7495683B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54160" y="701640"/>
            <a:ext cx="4626000" cy="3468600"/>
          </a:xfrm>
          <a:prstGeom prst="rect">
            <a:avLst/>
          </a:prstGeom>
          <a:ln w="0">
            <a:noFill/>
          </a:ln>
        </p:spPr>
      </p:sp>
      <p:sp>
        <p:nvSpPr>
          <p:cNvPr id="5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4160" y="701640"/>
            <a:ext cx="4626000" cy="3468600"/>
          </a:xfrm>
          <a:prstGeom prst="rect">
            <a:avLst/>
          </a:prstGeom>
          <a:ln w="0">
            <a:noFill/>
          </a:ln>
        </p:spPr>
      </p:sp>
      <p:sp>
        <p:nvSpPr>
          <p:cNvPr id="5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2613F0-5B5D-4197-87B1-4B4F9BD8D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736298-C8C8-4A1F-8495-0E160A64D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AE0D3A-B1F8-4D8C-BE3E-F014B32DA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4160" y="701640"/>
            <a:ext cx="4626000" cy="3468600"/>
          </a:xfrm>
          <a:prstGeom prst="rect">
            <a:avLst/>
          </a:prstGeom>
          <a:ln w="0">
            <a:noFill/>
          </a:ln>
        </p:spPr>
      </p:sp>
      <p:sp>
        <p:nvSpPr>
          <p:cNvPr id="6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D0DB65-D724-4A4D-BADF-266519E7C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7343F6-3671-45AA-A4F1-BE3B9097E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D5EDD8-315A-49BE-B235-9EEF973B7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1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1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1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A8194A2-D97D-42D5-9504-801C88E2F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7680" y="696960"/>
            <a:ext cx="4640400" cy="3479760"/>
          </a:xfrm>
          <a:prstGeom prst="rect">
            <a:avLst/>
          </a:prstGeom>
          <a:ln w="0">
            <a:noFill/>
          </a:ln>
        </p:spPr>
      </p:sp>
      <p:sp>
        <p:nvSpPr>
          <p:cNvPr id="42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E30A44-9904-40AD-829C-3A41658ED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54160" y="701640"/>
            <a:ext cx="4626000" cy="3468600"/>
          </a:xfrm>
          <a:prstGeom prst="rect">
            <a:avLst/>
          </a:prstGeom>
          <a:ln w="0">
            <a:noFill/>
          </a:ln>
        </p:spPr>
      </p:sp>
      <p:sp>
        <p:nvSpPr>
          <p:cNvPr id="6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816737-48BD-458B-84FB-FA3CBBD0F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845F88-BC0C-42DE-8B50-881E73AA8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83F2EA-F5AC-4540-AED1-83F23A9BF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BE4259-9A3B-4385-8C87-5013E9829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FBC4BD-50DA-442B-BFBB-12A2F4CB0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670CAB-9D13-4EFB-9BDB-3D4163121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26FA8A-3618-4EFE-887B-DD56149F8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65A81D-E92D-4F05-87D7-816644FE8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2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554F750-86C1-4342-BC6A-A195646E19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7680" y="696960"/>
            <a:ext cx="4640400" cy="3479760"/>
          </a:xfrm>
          <a:prstGeom prst="rect">
            <a:avLst/>
          </a:prstGeom>
          <a:ln w="0">
            <a:noFill/>
          </a:ln>
        </p:spPr>
      </p:sp>
      <p:sp>
        <p:nvSpPr>
          <p:cNvPr id="42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54160" y="701640"/>
            <a:ext cx="4626000" cy="3468600"/>
          </a:xfrm>
          <a:prstGeom prst="rect">
            <a:avLst/>
          </a:prstGeom>
          <a:ln w="0">
            <a:noFill/>
          </a:ln>
        </p:spPr>
      </p:sp>
      <p:sp>
        <p:nvSpPr>
          <p:cNvPr id="6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9B49D9-FA01-4AFC-A0DA-F823D3135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48AB49-F921-4D3D-BCB0-4BA2C5551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54160" y="701640"/>
            <a:ext cx="4626000" cy="3468600"/>
          </a:xfrm>
          <a:prstGeom prst="rect">
            <a:avLst/>
          </a:prstGeom>
          <a:ln w="0">
            <a:noFill/>
          </a:ln>
        </p:spPr>
      </p:sp>
      <p:sp>
        <p:nvSpPr>
          <p:cNvPr id="7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80762A-9530-4A8D-8334-976F38CC6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92A9C7-CFF8-4789-9993-33C42A099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80E007-8F14-4FDA-849C-A07818FAA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54160" y="701640"/>
            <a:ext cx="4626000" cy="3468600"/>
          </a:xfrm>
          <a:prstGeom prst="rect">
            <a:avLst/>
          </a:prstGeom>
          <a:ln w="0">
            <a:noFill/>
          </a:ln>
        </p:spPr>
      </p:sp>
      <p:sp>
        <p:nvSpPr>
          <p:cNvPr id="7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AA0200-AAFB-4CAF-9A51-A4C3D00F5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BC120A-7B0F-4704-A70B-79E5466BA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CF9A86-DA37-4614-8754-0936A4302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54160" y="701640"/>
            <a:ext cx="4626000" cy="3468600"/>
          </a:xfrm>
          <a:prstGeom prst="rect">
            <a:avLst/>
          </a:prstGeom>
          <a:ln w="0">
            <a:noFill/>
          </a:ln>
        </p:spPr>
      </p:sp>
      <p:sp>
        <p:nvSpPr>
          <p:cNvPr id="7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DA0424-AE44-4A55-812E-693FCE12D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1A9D85-94BD-4DB1-B325-EF6AAC3F9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36AB53-EDAC-405F-96CD-6D0EC8C4B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54160" y="701640"/>
            <a:ext cx="4626000" cy="3468600"/>
          </a:xfrm>
          <a:prstGeom prst="rect">
            <a:avLst/>
          </a:prstGeom>
          <a:ln w="0">
            <a:noFill/>
          </a:ln>
        </p:spPr>
      </p:sp>
      <p:sp>
        <p:nvSpPr>
          <p:cNvPr id="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109904-521B-4C50-8E33-C140985F2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54160" y="701640"/>
            <a:ext cx="4626000" cy="3468600"/>
          </a:xfrm>
          <a:prstGeom prst="rect">
            <a:avLst/>
          </a:prstGeom>
          <a:ln w="0">
            <a:noFill/>
          </a:ln>
        </p:spPr>
      </p:sp>
      <p:sp>
        <p:nvSpPr>
          <p:cNvPr id="7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54160" y="701640"/>
            <a:ext cx="4626000" cy="3468600"/>
          </a:xfrm>
          <a:prstGeom prst="rect">
            <a:avLst/>
          </a:prstGeom>
          <a:ln w="0">
            <a:noFill/>
          </a:ln>
        </p:spPr>
      </p:sp>
      <p:sp>
        <p:nvSpPr>
          <p:cNvPr id="7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AADB29-2C8D-40D6-B6A0-634D28FAC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4DB8CC-1B19-47E4-8A9E-0C2E702BE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09E2B4-7C34-4620-A41F-CD94B4B0B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54160" y="701640"/>
            <a:ext cx="4626000" cy="3468600"/>
          </a:xfrm>
          <a:prstGeom prst="rect">
            <a:avLst/>
          </a:prstGeom>
          <a:ln w="0">
            <a:noFill/>
          </a:ln>
        </p:spPr>
      </p:sp>
      <p:sp>
        <p:nvSpPr>
          <p:cNvPr id="7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4160" y="701640"/>
            <a:ext cx="4626000" cy="3468600"/>
          </a:xfrm>
          <a:prstGeom prst="rect">
            <a:avLst/>
          </a:prstGeom>
          <a:ln w="0">
            <a:noFill/>
          </a:ln>
        </p:spPr>
      </p:sp>
      <p:sp>
        <p:nvSpPr>
          <p:cNvPr id="7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3E6D58-66F8-4CF7-A8CE-19B931E77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75E1A5-FD58-4B9B-B69B-C7EE4AE85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AC6AFC-2067-4C29-93F6-1F4045BFE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54160" y="701640"/>
            <a:ext cx="4626000" cy="3468600"/>
          </a:xfrm>
          <a:prstGeom prst="rect">
            <a:avLst/>
          </a:prstGeom>
          <a:ln w="0">
            <a:noFill/>
          </a:ln>
        </p:spPr>
      </p:sp>
      <p:sp>
        <p:nvSpPr>
          <p:cNvPr id="7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4160" y="701640"/>
            <a:ext cx="4626000" cy="3468600"/>
          </a:xfrm>
          <a:prstGeom prst="rect">
            <a:avLst/>
          </a:prstGeom>
          <a:ln w="0">
            <a:noFill/>
          </a:ln>
        </p:spPr>
      </p:sp>
      <p:sp>
        <p:nvSpPr>
          <p:cNvPr id="7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A4FD99-B5BD-4582-9647-EB9260F21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B92F0F-5391-4DF2-892E-8F6FD35C1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4160" y="701640"/>
            <a:ext cx="4626000" cy="3468600"/>
          </a:xfrm>
          <a:prstGeom prst="rect">
            <a:avLst/>
          </a:prstGeom>
          <a:ln w="0">
            <a:noFill/>
          </a:ln>
        </p:spPr>
      </p:sp>
      <p:sp>
        <p:nvSpPr>
          <p:cNvPr id="8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5455C5-3F9E-400A-A8C6-1D318FC83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7DBF71-72C2-4459-83B8-76EDF3849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54160" y="701640"/>
            <a:ext cx="4626000" cy="3468600"/>
          </a:xfrm>
          <a:prstGeom prst="rect">
            <a:avLst/>
          </a:prstGeom>
          <a:ln w="0">
            <a:noFill/>
          </a:ln>
        </p:spPr>
      </p:sp>
      <p:sp>
        <p:nvSpPr>
          <p:cNvPr id="4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4160" y="701640"/>
            <a:ext cx="4626000" cy="3468600"/>
          </a:xfrm>
          <a:prstGeom prst="rect">
            <a:avLst/>
          </a:prstGeom>
          <a:ln w="0">
            <a:noFill/>
          </a:ln>
        </p:spPr>
      </p:sp>
      <p:sp>
        <p:nvSpPr>
          <p:cNvPr id="8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15B741-3E40-4FEA-BB8A-48E5304D0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3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3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03074B-A6FF-4E49-A4E8-4C473AA9B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701640"/>
            <a:ext cx="4626000" cy="3468600"/>
          </a:xfrm>
          <a:prstGeom prst="rect">
            <a:avLst/>
          </a:prstGeom>
          <a:ln w="0">
            <a:noFill/>
          </a:ln>
        </p:spPr>
      </p:sp>
      <p:sp>
        <p:nvSpPr>
          <p:cNvPr id="43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4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4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BFE1AC-DE8E-468E-B31E-5D65189A4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54160" y="701640"/>
            <a:ext cx="4626000" cy="3468600"/>
          </a:xfrm>
          <a:prstGeom prst="rect">
            <a:avLst/>
          </a:prstGeom>
          <a:ln w="0">
            <a:noFill/>
          </a:ln>
        </p:spPr>
      </p:sp>
      <p:sp>
        <p:nvSpPr>
          <p:cNvPr id="4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FD031-5672-4613-922E-137ECDEE1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4F96F-91B7-4808-973D-5A82852E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DD96D-C62F-44AA-8584-C9EB84050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2E1A3-C0F2-4AE0-84A4-BE05B12EE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1BCD-E556-4A8A-9D8E-D56500FA3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F5F40-2197-4D39-A53E-3406FE81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519A5-5B2A-4756-AB59-AA059B2B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DD052-7A0F-4081-B0CC-1B079D26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5E833-04E6-4CE1-850F-B260B985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E8F3-9B84-4599-95FB-D0B62413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9F15-23E1-466F-93B3-D47782885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13ED-EE6E-4F1F-9FFC-49D64A28F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827FFC-318D-4013-A241-B27E7F3C0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04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0847-00-00ay-tg-ay-may-2018-warsaw-meeting-minutes.docx" TargetMode="External"/><Relationship Id="rId2" Type="http://schemas.openxmlformats.org/officeDocument/2006/relationships/hyperlink" Target="https://mentor.ieee.org/802.11/dcn/18/11-18-0847-00-00ay-tg-ay-may-2018-warsaw-meeting-minutes.docx" TargetMode="External"/><Relationship Id="rId3" Type="http://schemas.openxmlformats.org/officeDocument/2006/relationships/hyperlink" Target="https://mentor.ieee.org/802.11/dcn/18/11-18-0847-00-00ay-tg-ay-may-2018-warsaw-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0998-02-00ay-task-group-ay-may-2018-conference-call-meeting-minutes.docx" TargetMode="External"/><Relationship Id="rId2" Type="http://schemas.openxmlformats.org/officeDocument/2006/relationships/hyperlink" Target="https://mentor.ieee.org/802.11/dcn/18/11-18-1015-03-00ay-task-group-ay-june-2018-conference-call-meeting-minutes.docx" TargetMode="External"/><Relationship Id="rId3" Type="http://schemas.openxmlformats.org/officeDocument/2006/relationships/hyperlink" Target="https://mentor.ieee.org/802.11/dcn/18/11-18-1176-00-00ay-tg-ay-july-6-2018-conference-call-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ieee802.org/11/email/stds-802-11-tgay/msg00555.html"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093465-922A-4DB3-BD15-38C4E56D1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08</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3389E1-0DFF-4608-B3EB-92DB901A4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F90A33-2FED-4D56-82E7-06F335A59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2DE95-E1F4-4DD1-AB8B-7AA8EE535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28E43C-F9FB-47C7-8A0B-55EB574CC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bor 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4480D0-5C80-4B8C-8AA0-024267259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DADBF-A319-4521-988D-A78B34831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 of the draft amendmen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80D077-98D6-436E-B495-791FB0883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 of the draft amend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07C743-6C88-4E0E-B165-1DA6E9165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 chair and secretary are reaffirmed.</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391 CIDs are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25B3B7-B71B-4DCF-870C-5B44656C3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Jul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since May 16:</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85 comments are discussed</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54 comments are resolved and ready for motion</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7 technical contributions are discussed</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4 technical contributions are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AB4E5C-A7DB-403D-94CF-C2745BA1B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July teleconference calls (1)</a:t>
            </a:r>
            <a:endParaRPr b="0" lang="en-US" sz="3200" spc="-1" strike="noStrike">
              <a:solidFill>
                <a:srgbClr val="000000"/>
              </a:solidFill>
              <a:latin typeface="Times New Roman"/>
            </a:endParaRPr>
          </a:p>
        </p:txBody>
      </p:sp>
      <p:sp>
        <p:nvSpPr>
          <p:cNvPr id="15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421164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9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cedure for slot structure start ti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cedure for slot structure start tim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9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aseband feedback for hybrid MU 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6, 3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95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s 1951 &amp; 202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3, June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0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nex G – frame exchange sequen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3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itya Pada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existence of distribution nodes and short range device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3, 3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an Diego, Californ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8 - 13,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5717B9-F61A-4A20-B4C5-95D84DC06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57F95-8410-4CE3-B51F-781DF6829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July teleconference calls (2)</a:t>
            </a:r>
            <a:endParaRPr b="0" lang="en-US" sz="3200" spc="-1" strike="noStrike">
              <a:solidFill>
                <a:srgbClr val="000000"/>
              </a:solidFill>
              <a:latin typeface="Times New Roman"/>
            </a:endParaRPr>
          </a:p>
        </p:txBody>
      </p:sp>
      <p:sp>
        <p:nvSpPr>
          <p:cNvPr id="15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421164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1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A-PPDU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3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Draft text for hybrid MU MIMO beamforming baseband feedback</a:t>
                      </a:r>
                      <a:r>
                        <a:rPr b="0" lang="en-US" sz="1500" spc="-1" strike="noStrike">
                          <a:solidFill>
                            <a:srgbClr val="000000"/>
                          </a:solidFill>
                          <a:latin typeface="Times New Roman"/>
                        </a:rPr>
                        <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3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5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rective measurement CID195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5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6, 1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13,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BW configuration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0, July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918A8F-E433-4614-8144-9C8A61C23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July teleconference calls (3)</a:t>
            </a:r>
            <a:endParaRPr b="0" lang="en-US" sz="3200" spc="-1" strike="noStrike">
              <a:solidFill>
                <a:srgbClr val="000000"/>
              </a:solidFill>
              <a:latin typeface="Times New Roman"/>
            </a:endParaRPr>
          </a:p>
        </p:txBody>
      </p:sp>
      <p:sp>
        <p:nvSpPr>
          <p:cNvPr id="16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5" name=""/>
          <p:cNvGraphicFramePr/>
          <p:nvPr/>
        </p:nvGraphicFramePr>
        <p:xfrm>
          <a:off x="696960" y="1727280"/>
          <a:ext cx="7913520" cy="256536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ssing header fields for MU PPDU transmiss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9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7, July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0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rstin Johnss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R on CIDs for 10.61 (Distributed schedul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ne 2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0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n EDMG-MCS field defini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uly 6</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7F2843-DB8E-4674-88BB-8B31BB90B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70"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0067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A055C1-3739-4B80-A534-5BE92D6D7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6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18 meeting minutes</a:t>
            </a:r>
            <a:endParaRPr b="0" lang="en-US" sz="3200" spc="-1" strike="noStrike">
              <a:solidFill>
                <a:srgbClr val="000000"/>
              </a:solidFill>
              <a:latin typeface="Times New Roman"/>
            </a:endParaRPr>
          </a:p>
        </p:txBody>
      </p:sp>
      <p:sp>
        <p:nvSpPr>
          <p:cNvPr id="1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847-00-00ay-tg-ay-may-2018-warsaw-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09BEDF-5AD2-472F-82F7-552E89DE6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6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June/July Teleconference call minutes</a:t>
            </a:r>
            <a:endParaRPr b="0" lang="en-US" sz="3200" spc="-1" strike="noStrike">
              <a:solidFill>
                <a:srgbClr val="000000"/>
              </a:solidFill>
              <a:latin typeface="Times New Roman"/>
            </a:endParaRPr>
          </a:p>
        </p:txBody>
      </p:sp>
      <p:sp>
        <p:nvSpPr>
          <p:cNvPr id="1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y 16, May 23, May 30, June 6, June 13, June 20, June 27, and July 6:</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998-02-00ay-task-group-ay-may-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1015-03-00ay-task-group-ay-june-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8/11-18-1176-00-00ay-tg-ay-july-6-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7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54A97E-7A76-4579-8F7F-088B19933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18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 Petri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pro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about asymmetric beamforming and 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0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1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of CIDs 2271-240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3A6092-CE54-4E6F-A640-30EE0446D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18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Xiao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mment resolution on A-B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ID resolutions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unsolicited block ACK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5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related to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20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for 802.11ay (CR on CID 177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2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Multi-band discovery assistance for 802.11ay normative text (CR on CID 177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3FB8CB-562E-410A-AD96-49804DA75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19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99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misc</a:t>
                      </a:r>
                      <a:r>
                        <a:rPr b="0" lang="en-US" sz="1500" spc="-1" strike="noStrike">
                          <a:solidFill>
                            <a:srgbClr val="000000"/>
                          </a:solidFill>
                          <a:latin typeface="Times New Roman"/>
                        </a:rPr>
                        <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formance requirements for the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IMO-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HY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for EDMG channel access CIDs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693 - LOS determin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AC08B5-5F7C-49ED-8543-6404F4620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19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nal D1.0 comment resolutions on hybri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EDMG TPC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raft text for EDMG TPC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1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MG TRN field ambiguit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2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0F67DC-3AAD-4584-8F72-35C54D202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20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se 12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EBC11A-11EA-40E7-9840-1E1F667B3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uly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E95DAB-1C8D-4ABE-8E9F-0C91BD815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20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0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itya Pada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etwork simulations for FWA mesh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itya Pada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work to enhance DN-SRD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ACK operation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ower saving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7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
                      </a:r>
                      <a:r>
                        <a:rPr b="0" lang="en-US" sz="1500" spc="-1" strike="noStrike">
                          <a:solidFill>
                            <a:srgbClr val="000000"/>
                          </a:solidFill>
                          <a:latin typeface="Times New Roman"/>
                          <a:ea typeface="MS PGothic"/>
                        </a:rPr>
                        <a:t>ower saving in TDD SP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7A0DCC-FEAA-4AE6-A83D-E8DE5B7D7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21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1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nsecutive transmission of EDMG BRP packet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C66D39-1212-4E06-BD55-4CD7CA990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8)</a:t>
            </a:r>
            <a:endParaRPr b="0" lang="en-US" sz="3200" spc="-1" strike="noStrike">
              <a:solidFill>
                <a:srgbClr val="000000"/>
              </a:solidFill>
              <a:latin typeface="Times New Roman"/>
            </a:endParaRPr>
          </a:p>
        </p:txBody>
      </p:sp>
      <p:sp>
        <p:nvSpPr>
          <p:cNvPr id="21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042436-A458-4733-89C5-E21B07476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p:nvPr>
        </p:nvSpPr>
        <p:spPr>
          <a:xfrm>
            <a:off x="685440" y="1294920"/>
            <a:ext cx="4343400" cy="495324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iness of the draft amend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224" name="Rectangle 3"/>
          <p:cNvSpPr/>
          <p:nvPr/>
        </p:nvSpPr>
        <p:spPr>
          <a:xfrm>
            <a:off x="4876920" y="129528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0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September 2018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5E9F85-C4FF-496C-956A-1A2AFC3CE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69:  Comment Resolution</a:t>
            </a:r>
            <a:endParaRPr b="0" lang="en-US" sz="3200" spc="-1" strike="noStrike">
              <a:solidFill>
                <a:srgbClr val="000000"/>
              </a:solidFill>
              <a:latin typeface="Times New Roman"/>
            </a:endParaRPr>
          </a:p>
        </p:txBody>
      </p:sp>
      <p:sp>
        <p:nvSpPr>
          <p:cNvPr id="22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11, 1313, 1589, and 1590 as proposed in 18/0696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0696r0 was presented on May 16.</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3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6BBB60-BB78-415F-8BE6-8E48E9257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0:  Draft</a:t>
            </a:r>
            <a:endParaRPr b="0" lang="en-US" sz="3200" spc="-1" strike="noStrike">
              <a:solidFill>
                <a:srgbClr val="000000"/>
              </a:solidFill>
              <a:latin typeface="Times New Roman"/>
            </a:endParaRPr>
          </a:p>
        </p:txBody>
      </p:sp>
      <p:sp>
        <p:nvSpPr>
          <p:cNvPr id="23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950r0 related to the modification of the TDD slot start time in clause 10.36.6.2.2 of Draft 1.4 of the IEEE 802.11ay draft amendment.</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0950r0 was presented on May 16.</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aehee B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3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0E7224-FCDB-4FA8-A607-D6CFAEEEA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1:  Comment Resolution</a:t>
            </a:r>
            <a:endParaRPr b="0" lang="en-US" sz="3200" spc="-1" strike="noStrike">
              <a:solidFill>
                <a:srgbClr val="000000"/>
              </a:solidFill>
              <a:latin typeface="Times New Roman"/>
            </a:endParaRPr>
          </a:p>
        </p:txBody>
      </p:sp>
      <p:sp>
        <p:nvSpPr>
          <p:cNvPr id="2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2021 as proposed in 18/0995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07 and 2315 as proposed in 18/0993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18/0995r3 and 18/0993r0 were presented on May 23 and June 6.</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4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223AEE-1492-4BD0-B9B0-FDBFACEF6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2:  Comment Resolution</a:t>
            </a:r>
            <a:endParaRPr b="0" lang="en-US" sz="3200" spc="-1" strike="noStrike">
              <a:solidFill>
                <a:srgbClr val="000000"/>
              </a:solidFill>
              <a:latin typeface="Times New Roman"/>
            </a:endParaRPr>
          </a:p>
        </p:txBody>
      </p:sp>
      <p:sp>
        <p:nvSpPr>
          <p:cNvPr id="2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a:t>
            </a:r>
            <a:r>
              <a:rPr b="1" lang="en-GB" sz="2000" spc="-1" strike="noStrike">
                <a:solidFill>
                  <a:srgbClr val="000000"/>
                </a:solidFill>
                <a:latin typeface="Times New Roman"/>
              </a:rPr>
              <a:t>1805, 1390, 1675,  2169, 1990, 1883, 2230, 1436, 1428, 1677, 1832, 1923, 2222, 1175, 1560, and 2183</a:t>
            </a:r>
            <a:r>
              <a:rPr b="1" lang="en-US" sz="2000" spc="-1" strike="noStrike">
                <a:solidFill>
                  <a:srgbClr val="000000"/>
                </a:solidFill>
                <a:latin typeface="Times New Roman"/>
              </a:rPr>
              <a:t> as proposed in 18/1004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1004r1 was presented on May 2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4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5D44EA-1D5C-4989-9E5B-E24556A26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3:  Comment Resolution</a:t>
            </a:r>
            <a:endParaRPr b="0" lang="en-US" sz="3200" spc="-1" strike="noStrike">
              <a:solidFill>
                <a:srgbClr val="000000"/>
              </a:solidFill>
              <a:latin typeface="Times New Roman"/>
            </a:endParaRPr>
          </a:p>
        </p:txBody>
      </p:sp>
      <p:sp>
        <p:nvSpPr>
          <p:cNvPr id="2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1099 as proposed in 18/1018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1018r1 was presented on May 3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5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AE4B63-BE14-46A6-8995-F1EE0B7A1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4:  Draft</a:t>
            </a:r>
            <a:endParaRPr b="0" lang="en-US" sz="3200" spc="-1" strike="noStrike">
              <a:solidFill>
                <a:srgbClr val="000000"/>
              </a:solidFill>
              <a:latin typeface="Times New Roman"/>
            </a:endParaRPr>
          </a:p>
        </p:txBody>
      </p:sp>
      <p:sp>
        <p:nvSpPr>
          <p:cNvPr id="2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1035r1 related to the addition of a </a:t>
            </a:r>
            <a:r>
              <a:rPr b="1" lang="en-GB" sz="2000" spc="-1" strike="noStrike">
                <a:solidFill>
                  <a:srgbClr val="000000"/>
                </a:solidFill>
                <a:latin typeface="Times New Roman"/>
              </a:rPr>
              <a:t>Tx Antenna Mask subfield to the Digital Feedback Control Field in the MIMO Feedback Control element </a:t>
            </a:r>
            <a:r>
              <a:rPr b="1" lang="en-US" sz="2000" spc="-1" strike="noStrike">
                <a:solidFill>
                  <a:srgbClr val="000000"/>
                </a:solidFill>
                <a:latin typeface="Times New Roman"/>
              </a:rPr>
              <a:t>in clause </a:t>
            </a:r>
            <a:r>
              <a:rPr b="1" lang="en-GB" sz="2000" spc="-1" strike="noStrike">
                <a:solidFill>
                  <a:srgbClr val="000000"/>
                </a:solidFill>
                <a:latin typeface="Times New Roman"/>
              </a:rPr>
              <a:t>9.4.2.261 of</a:t>
            </a:r>
            <a:r>
              <a:rPr b="1" lang="en-US" sz="2000" spc="-1" strike="noStrike">
                <a:solidFill>
                  <a:srgbClr val="000000"/>
                </a:solidFill>
                <a:latin typeface="Times New Roman"/>
              </a:rPr>
              <a:t> Draft 1.4 of the IEEE 802.11ay draft amendment.</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1035r1 was presented on May 3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5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82E15A8-710A-41EA-8BBA-50ADC8D1C8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1DB367-8504-4DA9-AD64-2A859622E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5:  Comment Resolution</a:t>
            </a:r>
            <a:endParaRPr b="0" lang="en-US" sz="3200" spc="-1" strike="noStrike">
              <a:solidFill>
                <a:srgbClr val="000000"/>
              </a:solidFill>
              <a:latin typeface="Times New Roman"/>
            </a:endParaRPr>
          </a:p>
        </p:txBody>
      </p:sp>
      <p:sp>
        <p:nvSpPr>
          <p:cNvPr id="2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951 as proposed in 18/1054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63, 1264, 1482, 1695, 1952, 1495, 1961, 2108, 2269, 1967, and 228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107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18/1054r1 and 18/1070r0 were presented on June 6, 13 and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7A0419-D192-4F57-B2D2-DA7F1AB9D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6:  Comment Resolution</a:t>
            </a:r>
            <a:endParaRPr b="0" lang="en-US" sz="3200" spc="-1" strike="noStrike">
              <a:solidFill>
                <a:srgbClr val="000000"/>
              </a:solidFill>
              <a:latin typeface="Times New Roman"/>
            </a:endParaRPr>
          </a:p>
        </p:txBody>
      </p:sp>
      <p:sp>
        <p:nvSpPr>
          <p:cNvPr id="2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095, 1261, 1262, 1420, 1421, 1703, 1891, 2165, 2197, and 2331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1053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09, 1706, and 1707 as proposed in 18/10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s 18/1053r1 and 18/1094r2 were presented on June 6, 13, 20, and July 6.</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22EF73-91BD-4A53-8458-7E4E95659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7:  Draft</a:t>
            </a:r>
            <a:endParaRPr b="0" lang="en-US" sz="3200" spc="-1" strike="noStrike">
              <a:solidFill>
                <a:srgbClr val="000000"/>
              </a:solidFill>
              <a:latin typeface="Times New Roman"/>
            </a:endParaRPr>
          </a:p>
        </p:txBody>
      </p:sp>
      <p:sp>
        <p:nvSpPr>
          <p:cNvPr id="2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1083r0 related to the </a:t>
            </a:r>
            <a:r>
              <a:rPr b="1" lang="en-GB" sz="2000" spc="-1" strike="noStrike">
                <a:solidFill>
                  <a:srgbClr val="000000"/>
                </a:solidFill>
                <a:latin typeface="Times New Roman"/>
              </a:rPr>
              <a:t>additional fields for the EDMG-Header-A and EDMG-Header-B </a:t>
            </a:r>
            <a:r>
              <a:rPr b="1" lang="en-US" sz="2000" spc="-1" strike="noStrike">
                <a:solidFill>
                  <a:srgbClr val="000000"/>
                </a:solidFill>
                <a:latin typeface="Times New Roman"/>
              </a:rPr>
              <a:t>in clause 29.3.3.2.4.1 of Draft 1.4 of the IEEE 802.11ay draft amendment.</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1083r0 was presented on June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2588AC-5C17-4627-8CD9-0023DD740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8:  Comment Resolution</a:t>
            </a:r>
            <a:endParaRPr b="0" lang="en-US" sz="3200" spc="-1" strike="noStrike">
              <a:solidFill>
                <a:srgbClr val="000000"/>
              </a:solidFill>
              <a:latin typeface="Times New Roman"/>
            </a:endParaRPr>
          </a:p>
        </p:txBody>
      </p:sp>
      <p:sp>
        <p:nvSpPr>
          <p:cNvPr id="2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a:t>
            </a:r>
            <a:r>
              <a:rPr b="1" lang="en-GB" sz="2000" spc="-1" strike="noStrike">
                <a:solidFill>
                  <a:srgbClr val="000000"/>
                </a:solidFill>
                <a:latin typeface="Times New Roman"/>
              </a:rPr>
              <a:t>1161, 1657, 1796, 1797, and 1801 </a:t>
            </a:r>
            <a:r>
              <a:rPr b="1" lang="en-US" sz="2000" spc="-1" strike="noStrike">
                <a:solidFill>
                  <a:srgbClr val="000000"/>
                </a:solidFill>
                <a:latin typeface="Times New Roman"/>
              </a:rPr>
              <a:t>as proposed in 18/0905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0905r0 was presented on June 2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Kerstin Johnsso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74CA4C-DA50-4D63-9E05-BC2C9622E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9:  Draft</a:t>
            </a:r>
            <a:endParaRPr b="0" lang="en-US" sz="3200" spc="-1" strike="noStrike">
              <a:solidFill>
                <a:srgbClr val="000000"/>
              </a:solidFill>
              <a:latin typeface="Times New Roman"/>
            </a:endParaRPr>
          </a:p>
        </p:txBody>
      </p:sp>
      <p:sp>
        <p:nvSpPr>
          <p:cNvPr id="2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1102r1 related to the </a:t>
            </a:r>
            <a:r>
              <a:rPr b="1" lang="en-GB" sz="2000" spc="-1" strike="noStrike">
                <a:solidFill>
                  <a:srgbClr val="000000"/>
                </a:solidFill>
                <a:latin typeface="Times New Roman"/>
              </a:rPr>
              <a:t>modification of differential EDMG-MCS signalling in </a:t>
            </a:r>
            <a:r>
              <a:rPr b="1" lang="en-US" sz="2000" spc="-1" strike="noStrike">
                <a:solidFill>
                  <a:srgbClr val="000000"/>
                </a:solidFill>
                <a:latin typeface="Times New Roman"/>
              </a:rPr>
              <a:t>clause 29.3.3.2.4.1 of Draft 1.4 of the IEEE 802.11ay draft amendment.</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18/1102r1 was presented on July 6.</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D2D036-D1B5-467E-BAD4-2435C1AF6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ess of the draft amendment</a:t>
            </a:r>
            <a:endParaRPr b="0" lang="en-US" sz="3200" spc="-1" strike="noStrike">
              <a:solidFill>
                <a:srgbClr val="000000"/>
              </a:solidFill>
              <a:latin typeface="Times New Roman"/>
            </a:endParaRPr>
          </a:p>
        </p:txBody>
      </p:sp>
      <p:sp>
        <p:nvSpPr>
          <p:cNvPr id="28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g Group letter ballot against D1.0</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of May 12, 2018, there are 198 open CIDs resulting from the working group letter ballot against D1.0</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http://www.ieee802.org/11/email/stds-802-11-tgay/msg00555.html</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 CIDs are subject to approval (motions 469, 470, 471, 472, 473, 475, 476, 478)</a:t>
            </a:r>
            <a:endParaRPr b="0" lang="en-US" sz="1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aft amendment D1.4</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ex B and C are completed and integrated</a:t>
            </a: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ex G is completed and subject to approval (motion 472)</a:t>
            </a: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6 TBDs in Table 89, which will be addressed by the comment resolution submission 18/1152r0</a:t>
            </a: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8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8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F55469-5300-4ED9-9C1F-AC8BCEA37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C86B9-00B2-4EB5-B07D-FC2A14F5F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ED9D29-DF36-4424-8ABD-EEF12E219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4F631C-8841-4F05-92A1-0A038CA0D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423B5A0-6E15-4ED9-8F5C-228BB4E848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FEBB28-21A0-49C4-B735-DC4B1F693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7"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52DB26-616C-4753-B461-01F5B2735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206FB7-CEAB-4485-9418-E8C1668AE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F35AF3-B86E-44E6-AC65-F88A620AE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504F7F-BBB3-4E92-9F10-37630DC73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063776-5955-436F-9FC0-FAD2BDAF4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A36744-4B19-4731-9AA0-C8BFCB21C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5D86E0-B47F-4362-94DC-160C1CD44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B1AB13-44CC-49DA-8F04-FA1133A6D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C3018D-241C-4038-AA9F-161425457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4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FAD320-8645-43F8-B019-ACD519A39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BEA72D-A178-494D-859D-ED8076BBF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95690D-AC3E-424D-A63D-2CAC0DB5F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5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289065-AC70-471F-8EAB-E895F0CC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5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EB50A1-38E3-42B7-B725-69477FADA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0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9FDF1C-AB12-474F-A880-6FFE54BDA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A8E4F5-8BAE-4159-BC7F-CF326AB55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7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070667-5501-49A7-9A55-0EF35DD6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8</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968101-AA34-44EC-AEDF-E5C4566A9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80" name="Rectangle 3"/>
          <p:cNvSpPr/>
          <p:nvPr/>
        </p:nvSpPr>
        <p:spPr>
          <a:xfrm>
            <a:off x="685800" y="167652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September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0E40DA-1BBA-4354-8ACB-F458852B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8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971977-9CE3-43FE-BAEB-ACA6F97E3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September 2018 interim</a:t>
            </a:r>
            <a:endParaRPr b="0" lang="en-US" sz="3200" spc="-1" strike="noStrike">
              <a:solidFill>
                <a:srgbClr val="000000"/>
              </a:solidFill>
              <a:latin typeface="Times New Roman"/>
            </a:endParaRPr>
          </a:p>
        </p:txBody>
      </p:sp>
      <p:sp>
        <p:nvSpPr>
          <p:cNvPr id="38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297E03-9ACB-4258-871C-BA83CB9A4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8E6630-F90E-47BE-BBED-701690562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39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ptember 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07BDFC9-50BA-4633-8120-505B71EEE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443A06-043C-408C-B5A3-0DDDF00EE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2018</cp:keywords>
  <dc:language>en-US</dc:language>
  <cp:lastModifiedBy>Edward Au</cp:lastModifiedBy>
  <cp:lastPrinted>2014-11-04T15:04:57Z</cp:lastPrinted>
  <dcterms:modified xsi:type="dcterms:W3CDTF">2018-07-09T16:45:59Z</dcterms:modified>
  <cp:revision>7563</cp:revision>
  <dc:subject>Task Group AY November 2015 Meeting Agenda</dc:subject>
  <dc:title>11-18/1044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