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8/1027r1</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ly 2018</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8FCDE54-EBAB-4A14-BDFD-CCDA8A238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4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44"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04E86AC-EDB1-4327-A82D-26AB715582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341280" y="701640"/>
            <a:ext cx="6178680" cy="3476520"/>
          </a:xfrm>
          <a:prstGeom prst="rect">
            <a:avLst/>
          </a:prstGeom>
          <a:ln w="0">
            <a:noFill/>
          </a:ln>
        </p:spPr>
      </p:sp>
      <p:sp>
        <p:nvSpPr>
          <p:cNvPr id="2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6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8"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66B34C0-53EF-4EA2-968C-CCA8FD2E8B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384120" y="701640"/>
            <a:ext cx="6166080" cy="3468600"/>
          </a:xfrm>
          <a:prstGeom prst="rect">
            <a:avLst/>
          </a:prstGeom>
          <a:ln w="0">
            <a:noFill/>
          </a:ln>
        </p:spPr>
      </p:sp>
      <p:sp>
        <p:nvSpPr>
          <p:cNvPr id="27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41280" y="701640"/>
            <a:ext cx="6178680" cy="3476520"/>
          </a:xfrm>
          <a:prstGeom prst="rect">
            <a:avLst/>
          </a:prstGeom>
          <a:ln w="0">
            <a:noFill/>
          </a:ln>
        </p:spPr>
      </p:sp>
      <p:sp>
        <p:nvSpPr>
          <p:cNvPr id="2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75"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7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1253643-1750-4700-87A0-66E754ED8D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341280" y="701640"/>
            <a:ext cx="6178680" cy="3476520"/>
          </a:xfrm>
          <a:prstGeom prst="rect">
            <a:avLst/>
          </a:prstGeom>
          <a:ln w="0">
            <a:noFill/>
          </a:ln>
        </p:spPr>
      </p:sp>
      <p:sp>
        <p:nvSpPr>
          <p:cNvPr id="27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81"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3E710A3-E7DD-42F1-A8BE-AC67D3C3195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5"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86"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87"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8"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DDFA97F6-53E8-4087-8AC1-1BBC409B98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9" name="PlaceHolder 1"/>
          <p:cNvSpPr>
            <a:spLocks noGrp="1"/>
          </p:cNvSpPr>
          <p:nvPr>
            <p:ph type="sldImg"/>
          </p:nvPr>
        </p:nvSpPr>
        <p:spPr>
          <a:xfrm>
            <a:off x="341280" y="701640"/>
            <a:ext cx="6178680" cy="3476520"/>
          </a:xfrm>
          <a:prstGeom prst="rect">
            <a:avLst/>
          </a:prstGeom>
          <a:ln w="0">
            <a:noFill/>
          </a:ln>
        </p:spPr>
      </p:sp>
      <p:sp>
        <p:nvSpPr>
          <p:cNvPr id="29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2" name="PlaceHolder 1"/>
          <p:cNvSpPr>
            <a:spLocks noGrp="1"/>
          </p:cNvSpPr>
          <p:nvPr>
            <p:ph type="sldImg"/>
          </p:nvPr>
        </p:nvSpPr>
        <p:spPr>
          <a:xfrm>
            <a:off x="2335320" y="538200"/>
            <a:ext cx="4701960" cy="2646360"/>
          </a:xfrm>
          <a:prstGeom prst="rect">
            <a:avLst/>
          </a:prstGeom>
          <a:ln w="0">
            <a:noFill/>
          </a:ln>
        </p:spPr>
      </p:sp>
      <p:sp>
        <p:nvSpPr>
          <p:cNvPr id="29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95"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96"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7"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E0DA9206-84F6-4106-A1AA-3F28081DBF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9" name="PlaceHolder 1"/>
          <p:cNvSpPr>
            <a:spLocks noGrp="1"/>
          </p:cNvSpPr>
          <p:nvPr>
            <p:ph type="sldImg"/>
          </p:nvPr>
        </p:nvSpPr>
        <p:spPr>
          <a:xfrm>
            <a:off x="2335320" y="538200"/>
            <a:ext cx="4701960" cy="2646360"/>
          </a:xfrm>
          <a:prstGeom prst="rect">
            <a:avLst/>
          </a:prstGeom>
          <a:ln w="0">
            <a:noFill/>
          </a:ln>
        </p:spPr>
      </p:sp>
      <p:sp>
        <p:nvSpPr>
          <p:cNvPr id="30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1"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302"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3"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4"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99687B20-4535-4192-A73A-3D2F395640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41280" y="701640"/>
            <a:ext cx="6178680" cy="3476520"/>
          </a:xfrm>
          <a:prstGeom prst="rect">
            <a:avLst/>
          </a:prstGeom>
          <a:ln w="0">
            <a:noFill/>
          </a:ln>
        </p:spPr>
      </p:sp>
      <p:sp>
        <p:nvSpPr>
          <p:cNvPr id="30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308"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30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9515DAA-C1DA-4730-89D3-70608D08DA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4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0"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5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79E0864-DA98-4FC2-B69C-F6DD47C205B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384120" y="701640"/>
            <a:ext cx="6166080" cy="3468600"/>
          </a:xfrm>
          <a:prstGeom prst="rect">
            <a:avLst/>
          </a:prstGeom>
          <a:ln w="0">
            <a:noFill/>
          </a:ln>
        </p:spPr>
      </p:sp>
      <p:sp>
        <p:nvSpPr>
          <p:cNvPr id="2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41280" y="701640"/>
            <a:ext cx="6178680" cy="3476520"/>
          </a:xfrm>
          <a:prstGeom prst="rect">
            <a:avLst/>
          </a:prstGeom>
          <a:ln w="0">
            <a:noFill/>
          </a:ln>
        </p:spPr>
      </p:sp>
      <p:sp>
        <p:nvSpPr>
          <p:cNvPr id="2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57"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5E98DDA-96AC-477C-A3AA-36428EE75C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41280" y="701640"/>
            <a:ext cx="6178680" cy="3476520"/>
          </a:xfrm>
          <a:prstGeom prst="rect">
            <a:avLst/>
          </a:prstGeom>
          <a:ln w="0">
            <a:noFill/>
          </a:ln>
        </p:spPr>
      </p:sp>
      <p:sp>
        <p:nvSpPr>
          <p:cNvPr id="2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63"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4"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0E42814-5C7F-4593-9C92-C71067E816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DE41A-E71C-4710-96A5-B59D4EF63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10F94-C745-491E-99A3-E678A46F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8C525-1C1A-4D76-A3BD-4B997E22B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29B0-D03F-4CAF-9309-EF27B736F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85AA6-0478-4B9F-84AE-F9C7CE53F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522E1-CF68-4E72-8BF8-3D53E9C7A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D60B1-19B5-4CBE-B31A-60CA112FD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5B569-9F92-4CCE-A14E-D8ECCFD53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3FB4F-6E9E-4264-BA29-E9214ABC1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513E9-1286-46C1-86D1-65D76ACE6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F1E67-9C81-4B78-8800-5BBC1C516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4C4B-48C5-4901-A37A-B4213AB1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C3EFE-BE81-4692-9B5F-AABEFD316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DE147-E6B8-4C32-8E8D-DE3E73F7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CEDDC-EA73-4DD1-9276-2A033DE3E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EA5A8-DA64-4A06-8D04-503A522AF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51C43-C1D7-46F5-9D1C-5C01BEBB3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26717C-E1CA-4747-883D-36AD6538B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DAFCD-B33F-4733-8688-6BD4428B6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E81C66-523B-48C9-BEAA-533DF0FA1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826F7-4B3D-475F-82DB-2CFDA7D58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7792DF-439B-43CB-A030-6D2643B30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0B39-C6CF-4248-A15C-797CE8D9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2AA52-BB89-451F-8678-0E7ABBE8E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86AAB-7891-4B36-8853-15F24DDA3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437A9-0FC1-4880-9A74-F70E99EC4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DDB0B-8EC9-40A3-86C9-5D15583E6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68638-5272-4FF1-9DC5-6E38EF72C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7528B-0DE0-4CD2-9FA9-5A528EB6B8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F733C8-1972-4AFB-950B-00C6B5667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070A6-095E-478D-9F00-30FE0696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1B728-8DBB-41B7-8632-68BBBFE2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EA5E1-FFE7-4F49-92EB-273F717EB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721F-3EAC-4622-8DB6-7D2C9C20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E48D8-2E25-4E43-8C78-64CFCCC3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4447-9C40-4F62-A262-3CD6CFF36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3BD10B-B83C-45F1-A65C-FCF5C0674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1</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1B2F-17BB-45EA-8186-06A39F7DB2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1</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626775-98F7-4C21-B4F4-7243D03E1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standards.ieee.org/about/sasb/patcom/pat802_11.html" TargetMode="External"/><Relationship Id="rId2" Type="http://schemas.openxmlformats.org/officeDocument/2006/relationships/hyperlink" Target="https://standards.ieee.org/about/sasb/patcom/pat802_11.html" TargetMode="External"/><Relationship Id="rId3" Type="http://schemas.openxmlformats.org/officeDocument/2006/relationships/hyperlink" Target="https://mentor.ieee.org/802.11/dcn/15/11-15-1489-12-0000-register-of-loa-requests.docx" TargetMode="External"/><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18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13</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D42C3-07B7-4D91-9339-ECE2851B48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92"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93"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5"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147CCB-1B20-48CC-A9E3-159E164203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928440" y="1600200"/>
            <a:ext cx="103489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7"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 2.1 - Participation in IEEE 802 Meetings</a:t>
            </a:r>
            <a:endParaRPr b="1" lang="en-US" sz="3200" spc="-1" strike="noStrike">
              <a:solidFill>
                <a:srgbClr val="000000"/>
              </a:solidFill>
              <a:latin typeface="Times New Roman"/>
            </a:endParaRPr>
          </a:p>
        </p:txBody>
      </p:sp>
      <p:sp>
        <p:nvSpPr>
          <p:cNvPr id="19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9"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835F9D-2D92-4BE8-BB5D-54AAB2FB20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0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0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4"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5"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D95D00-6F63-4A3D-B30C-C53CC97F87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2018-09-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Monday 2018-08-06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Tuesday 2018-09-04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nday is a public holiday in some count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0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0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EEF0B9-4CCB-447B-8DF1-DBFA65B28C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914040" y="1883880"/>
            <a:ext cx="10363320" cy="4419720"/>
          </a:xfrm>
          <a:prstGeom prst="rect">
            <a:avLst/>
          </a:prstGeom>
          <a:noFill/>
          <a:ln w="0">
            <a:noFill/>
          </a:ln>
        </p:spPr>
        <p:txBody>
          <a:bodyPr lIns="92160" rIns="92160" tIns="46080" bIns="4608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standards.ieee.org/about/sasb/patcom/pat802_11.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GB" sz="2400" spc="-1" strike="noStrike">
                <a:solidFill>
                  <a:srgbClr val="000000"/>
                </a:solidFill>
                <a:latin typeface="Times New Roman"/>
              </a:rPr>
              <a:t>Siemens related to P802.11ax</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3"/>
              </a:rPr>
              <a:t>https://</a:t>
            </a:r>
            <a:r>
              <a:rPr b="1" lang="en-GB" sz="2400" spc="-1" strike="noStrike">
                <a:solidFill>
                  <a:srgbClr val="000000"/>
                </a:solidFill>
                <a:latin typeface="Times New Roman"/>
              </a:rPr>
              <a:t>mentor.ieee.org/802.11/dcn/15/11-15-1489-12-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LoA request to 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1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1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29D8F5-FAC0-447E-945E-C6D0FDC567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7"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8-07-12</a:t>
            </a:r>
            <a:endParaRPr b="1" lang="en-US" sz="3200" spc="-1" strike="noStrike">
              <a:solidFill>
                <a:srgbClr val="000000"/>
              </a:solidFill>
              <a:latin typeface="Times New Roman"/>
            </a:endParaRPr>
          </a:p>
        </p:txBody>
      </p:sp>
      <p:graphicFrame>
        <p:nvGraphicFramePr>
          <p:cNvPr id="218" name=""/>
          <p:cNvGraphicFramePr/>
          <p:nvPr/>
        </p:nvGraphicFramePr>
        <p:xfrm>
          <a:off x="928800" y="1038240"/>
          <a:ext cx="10463040" cy="5326200"/>
        </p:xfrm>
        <a:graphic>
          <a:graphicData uri="http://schemas.openxmlformats.org/drawingml/2006/table">
            <a:tbl>
              <a:tblPr/>
              <a:tblGrid>
                <a:gridCol w="3487680"/>
                <a:gridCol w="2266920"/>
                <a:gridCol w="1657440"/>
                <a:gridCol w="1481040"/>
                <a:gridCol w="1569960"/>
              </a:tblGrid>
              <a:tr h="57276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80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q</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 $84</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f-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c-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d-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e-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a-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x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0</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9"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0"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60A4B9-0AE7-48DA-906B-D06DD69619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llots: </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aj-2018 and IEEE Std 802.11™ak-2018 are now available to be sent; IEEE Std 802.11™ak-2018 in public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raft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liaised subject to EC approval</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24"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5"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E42C75-183D-4CA5-A273-01BC48920F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 Status</a:t>
            </a:r>
            <a:endParaRPr b="1" lang="en-US" sz="3200" spc="-1" strike="noStrike">
              <a:solidFill>
                <a:srgbClr val="000000"/>
              </a:solidFill>
              <a:latin typeface="Times New Roman"/>
            </a:endParaRPr>
          </a:p>
        </p:txBody>
      </p:sp>
      <p:sp>
        <p:nvSpPr>
          <p:cNvPr id="22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EB487B-98F5-416A-B25C-D1CCFAA0B0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31" name="Table 1" descr=""/>
          <p:cNvPicPr/>
          <p:nvPr/>
        </p:nvPicPr>
        <p:blipFill>
          <a:blip r:embed="rId1"/>
          <a:stretch/>
        </p:blipFill>
        <p:spPr>
          <a:xfrm>
            <a:off x="523800" y="1530360"/>
            <a:ext cx="11161800" cy="483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33"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3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5"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3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2CA9B-F5DF-465A-A99D-6E7B1BEF09E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8-09-09 to 2018-09-14 at </a:t>
            </a:r>
            <a:r>
              <a:rPr b="1" lang="es-ES" sz="3200" spc="-1" strike="noStrike">
                <a:solidFill>
                  <a:srgbClr val="000000"/>
                </a:solidFill>
                <a:latin typeface="Times New Roman"/>
              </a:rPr>
              <a:t> </a:t>
            </a:r>
            <a:r>
              <a:rPr b="1" lang="en-US" sz="3200" spc="-1" strike="noStrike">
                <a:solidFill>
                  <a:srgbClr val="000000"/>
                </a:solidFill>
                <a:latin typeface="Times New Roman"/>
              </a:rPr>
              <a:t>Hilton Waikoloa Village</a:t>
            </a:r>
            <a:r>
              <a:rPr b="1" lang="en-GB" sz="3200" spc="-1" strike="noStrike">
                <a:solidFill>
                  <a:srgbClr val="000000"/>
                </a:solidFill>
                <a:latin typeface="Times New Roman"/>
              </a:rPr>
              <a:t>, Hawaii USA</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are op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eeting registration is open</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39"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4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CC574B-5E37-4336-9C9F-AB78BBB7DB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July 2018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8/1025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CE2D92-3B6B-4863-B486-A4A876A0F1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BFC098-3DFC-4912-ADC3-75AA632EDB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E34AAD-F3B0-43E0-B566-EE635AE4F3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13A2C0-61C6-425C-9C06-4F9ABB7D941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is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57664A-9E6E-4918-B335-6137096B45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E8DA53-B02B-48E0-8A87-29C8E34167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7010280" cy="3353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elcom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amin’s remark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ation of award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otographs after re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5 TGAJ Recognition</a:t>
            </a:r>
            <a:endParaRPr b="1" lang="en-US" sz="3200" spc="-1" strike="noStrike">
              <a:solidFill>
                <a:srgbClr val="000000"/>
              </a:solidFill>
              <a:latin typeface="Times New Roman"/>
            </a:endParaRPr>
          </a:p>
        </p:txBody>
      </p:sp>
      <p:sp>
        <p:nvSpPr>
          <p:cNvPr id="182"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5756CA-1A1C-46B9-9801-E0E1EFAA5A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7"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A0E3DA-608B-4C14-BB74-41B6E8CDBB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8" name="PlaceHolder 1"/>
          <p:cNvSpPr>
            <a:spLocks noGrp="1"/>
          </p:cNvSpPr>
          <p:nvPr>
            <p:ph type="title"/>
          </p:nvPr>
        </p:nvSpPr>
        <p:spPr>
          <a:xfrm>
            <a:off x="2134800" y="686880"/>
            <a:ext cx="7467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aj Recognition</a:t>
            </a:r>
            <a:endParaRPr b="1" lang="en-US" sz="3200" spc="-1" strike="noStrike">
              <a:solidFill>
                <a:srgbClr val="000000"/>
              </a:solidFill>
              <a:latin typeface="Times New Roman"/>
            </a:endParaRPr>
          </a:p>
        </p:txBody>
      </p:sp>
      <p:pic>
        <p:nvPicPr>
          <p:cNvPr id="189" name="Picture 1" descr=""/>
          <p:cNvPicPr/>
          <p:nvPr/>
        </p:nvPicPr>
        <p:blipFill>
          <a:blip r:embed="rId1"/>
          <a:stretch/>
        </p:blipFill>
        <p:spPr>
          <a:xfrm>
            <a:off x="5878440" y="1676520"/>
            <a:ext cx="5824440" cy="4368600"/>
          </a:xfrm>
          <a:prstGeom prst="rect">
            <a:avLst/>
          </a:prstGeom>
          <a:ln w="0">
            <a:noFill/>
          </a:ln>
        </p:spPr>
      </p:pic>
      <p:pic>
        <p:nvPicPr>
          <p:cNvPr id="190" name="Picture 3" descr=""/>
          <p:cNvPicPr/>
          <p:nvPr/>
        </p:nvPicPr>
        <p:blipFill>
          <a:blip r:embed="rId2"/>
          <a:stretch/>
        </p:blipFill>
        <p:spPr>
          <a:xfrm>
            <a:off x="228600" y="1585800"/>
            <a:ext cx="5181480" cy="475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dc:language>en-US</dc:language>
  <cp:lastModifiedBy>Stanley, Dorothy</cp:lastModifiedBy>
  <cp:lastPrinted>1998-02-10T13:28:06Z</cp:lastPrinted>
  <dcterms:modified xsi:type="dcterms:W3CDTF">2018-07-13T05:25:34Z</dcterms:modified>
  <cp:revision>2052</cp:revision>
  <dc:subject/>
  <dc:title>July 2018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