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8/1027r1</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97200"/>
            <a:ext cx="826920" cy="21348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July 2018</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6EF8142-CE6E-4680-A0A3-DB1083B2D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4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44"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DE3FF0D-7C0D-4BCD-B6F9-A62095E64C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341280" y="701640"/>
            <a:ext cx="6178680" cy="3476520"/>
          </a:xfrm>
          <a:prstGeom prst="rect">
            <a:avLst/>
          </a:prstGeom>
          <a:ln w="0">
            <a:noFill/>
          </a:ln>
        </p:spPr>
      </p:sp>
      <p:sp>
        <p:nvSpPr>
          <p:cNvPr id="2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6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8"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6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22412DF-11AC-44C2-9187-8FFCF002A1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384120" y="701640"/>
            <a:ext cx="6166080" cy="3468600"/>
          </a:xfrm>
          <a:prstGeom prst="rect">
            <a:avLst/>
          </a:prstGeom>
          <a:ln w="0">
            <a:noFill/>
          </a:ln>
        </p:spPr>
      </p:sp>
      <p:sp>
        <p:nvSpPr>
          <p:cNvPr id="27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41280" y="701640"/>
            <a:ext cx="6178680" cy="3476520"/>
          </a:xfrm>
          <a:prstGeom prst="rect">
            <a:avLst/>
          </a:prstGeom>
          <a:ln w="0">
            <a:noFill/>
          </a:ln>
        </p:spPr>
      </p:sp>
      <p:sp>
        <p:nvSpPr>
          <p:cNvPr id="27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75"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76"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29107B3-2B06-4ED8-904A-EEDA187D8D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341280" y="701640"/>
            <a:ext cx="6178680" cy="3476520"/>
          </a:xfrm>
          <a:prstGeom prst="rect">
            <a:avLst/>
          </a:prstGeom>
          <a:ln w="0">
            <a:noFill/>
          </a:ln>
        </p:spPr>
      </p:sp>
      <p:sp>
        <p:nvSpPr>
          <p:cNvPr id="27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81"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6359CEF-120D-4614-8890-5A7B909D7A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5"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86"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87"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8"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4999B6CC-28EC-4933-9FC2-409AECCECD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9" name="PlaceHolder 1"/>
          <p:cNvSpPr>
            <a:spLocks noGrp="1"/>
          </p:cNvSpPr>
          <p:nvPr>
            <p:ph type="sldImg"/>
          </p:nvPr>
        </p:nvSpPr>
        <p:spPr>
          <a:xfrm>
            <a:off x="341280" y="701640"/>
            <a:ext cx="6178680" cy="3476520"/>
          </a:xfrm>
          <a:prstGeom prst="rect">
            <a:avLst/>
          </a:prstGeom>
          <a:ln w="0">
            <a:noFill/>
          </a:ln>
        </p:spPr>
      </p:sp>
      <p:sp>
        <p:nvSpPr>
          <p:cNvPr id="29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2" name="PlaceHolder 1"/>
          <p:cNvSpPr>
            <a:spLocks noGrp="1"/>
          </p:cNvSpPr>
          <p:nvPr>
            <p:ph type="sldImg"/>
          </p:nvPr>
        </p:nvSpPr>
        <p:spPr>
          <a:xfrm>
            <a:off x="2335320" y="538200"/>
            <a:ext cx="4701960" cy="2646360"/>
          </a:xfrm>
          <a:prstGeom prst="rect">
            <a:avLst/>
          </a:prstGeom>
          <a:ln w="0">
            <a:noFill/>
          </a:ln>
        </p:spPr>
      </p:sp>
      <p:sp>
        <p:nvSpPr>
          <p:cNvPr id="29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95"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96"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7"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BD61BF9B-59A6-477E-8834-2B85B547D0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9" name="PlaceHolder 1"/>
          <p:cNvSpPr>
            <a:spLocks noGrp="1"/>
          </p:cNvSpPr>
          <p:nvPr>
            <p:ph type="sldImg"/>
          </p:nvPr>
        </p:nvSpPr>
        <p:spPr>
          <a:xfrm>
            <a:off x="2335320" y="538200"/>
            <a:ext cx="4701960" cy="2646360"/>
          </a:xfrm>
          <a:prstGeom prst="rect">
            <a:avLst/>
          </a:prstGeom>
          <a:ln w="0">
            <a:noFill/>
          </a:ln>
        </p:spPr>
      </p:sp>
      <p:sp>
        <p:nvSpPr>
          <p:cNvPr id="30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1"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302"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03"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4"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CF6DE9CE-6522-4B00-9DD6-6655CAACEB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41280" y="701640"/>
            <a:ext cx="6178680" cy="3476520"/>
          </a:xfrm>
          <a:prstGeom prst="rect">
            <a:avLst/>
          </a:prstGeom>
          <a:ln w="0">
            <a:noFill/>
          </a:ln>
        </p:spPr>
      </p:sp>
      <p:sp>
        <p:nvSpPr>
          <p:cNvPr id="30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308"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309"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DC4E0FD-0C06-49F2-BC05-E84D3DFF40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4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0"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5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50AF66D-FF85-4F00-A0CF-C96E796C23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384120" y="701640"/>
            <a:ext cx="6166080" cy="3468600"/>
          </a:xfrm>
          <a:prstGeom prst="rect">
            <a:avLst/>
          </a:prstGeom>
          <a:ln w="0">
            <a:noFill/>
          </a:ln>
        </p:spPr>
      </p:sp>
      <p:sp>
        <p:nvSpPr>
          <p:cNvPr id="2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41280" y="701640"/>
            <a:ext cx="6178680" cy="3476520"/>
          </a:xfrm>
          <a:prstGeom prst="rect">
            <a:avLst/>
          </a:prstGeom>
          <a:ln w="0">
            <a:noFill/>
          </a:ln>
        </p:spPr>
      </p:sp>
      <p:sp>
        <p:nvSpPr>
          <p:cNvPr id="25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57"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AB18E17-FC95-4C58-81FB-725EDBB1C12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41280" y="701640"/>
            <a:ext cx="6178680" cy="3476520"/>
          </a:xfrm>
          <a:prstGeom prst="rect">
            <a:avLst/>
          </a:prstGeom>
          <a:ln w="0">
            <a:noFill/>
          </a:ln>
        </p:spPr>
      </p:sp>
      <p:sp>
        <p:nvSpPr>
          <p:cNvPr id="2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r1</a:t>
            </a:r>
            <a:endParaRPr b="1" lang="en-US" sz="1400" spc="-1" strike="noStrike">
              <a:solidFill>
                <a:srgbClr val="000000"/>
              </a:solidFill>
              <a:latin typeface="Times New Roman"/>
            </a:endParaRPr>
          </a:p>
        </p:txBody>
      </p:sp>
      <p:sp>
        <p:nvSpPr>
          <p:cNvPr id="263"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4"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0BFE286-B53B-4ED9-8534-158A4D4259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934DD-2860-425B-A1F8-7CADC025E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90A2E-EAA7-4095-92BB-97575E56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A4449-1EDE-4C7D-ADA6-B96DAEF2E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CF99F-0117-4EAD-A24A-CEF1F7F2F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39A78-7D19-4E5E-8975-CE654AC41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C5DFA-ACE9-40CC-9E02-B7DAA56CF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73301-282A-4E71-B2DC-6FDB8B4AE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B98A2-3908-4BD7-B3AC-1C4A8AE7D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491F0-8883-44DA-86B6-88FCD0C25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88CE1-C47F-4AA0-B6C2-D136DD99B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8883F-08D0-469E-8D15-AB7DA5111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BC067-BC88-434D-8A0F-016CCE3D2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8215F-7879-4EFA-979F-DA1C6F4ED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FAE29-A6B3-4B52-BF88-83AFADA82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8BBD4-DAFA-445A-A734-0CF77E79A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DCB3D-B492-43B0-993E-BCB5EF551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6EC77-2CAD-4EEF-A207-EE83CF20D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5C64AA-581B-4413-910C-15BA8DBEA5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413A5-0F46-4C2D-A9BC-B1991BB96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8C81E-BD9F-44F0-BA62-92060AE49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2B41A-876E-42B6-8FD8-77C5938F6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2D4703-3A5F-4DBC-8767-E1CFA7E2A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2C6B8-65DC-453E-A36E-270D186C5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4DE14-ABC3-4563-B8CF-E5EEC32E50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FF77D-942D-49E7-A254-9024D62F7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3DDA7-9A33-4249-96AE-C6B4A65E7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C0D44-04B1-42D1-8639-982BC1D31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811B0-F032-4351-9728-3000C9CA6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EE1F77-0769-47E1-A7CE-C271EE7BB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FE595-A2C5-40B2-8F5A-DF62AA19DC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2BA70-00E8-487D-A9FE-28E1E2679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536F2-C61B-4AAE-A234-4E10E6D50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3927C-E1A9-4706-9184-9EFD1A8B9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91DE-8135-4723-B813-A7EA9231C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F4F6-DFFE-4B83-B741-2A491A244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D88B-B821-445F-8488-68D221AC1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0592D2-390A-4293-9C25-F1E3401EA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1</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FB8A-2414-4528-815C-EBEBDBB8DD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1</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53790D-8FD7-4E7A-AC76-B1579C962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standards.ieee.org/about/sasb/patcom/pat802_11.html" TargetMode="External"/><Relationship Id="rId2" Type="http://schemas.openxmlformats.org/officeDocument/2006/relationships/hyperlink" Target="https://standards.ieee.org/about/sasb/patcom/pat802_11.html" TargetMode="External"/><Relationship Id="rId3" Type="http://schemas.openxmlformats.org/officeDocument/2006/relationships/hyperlink" Target="https://mentor.ieee.org/802.11/dcn/15/11-15-1489-12-0000-register-of-loa-requests.docx" TargetMode="External"/><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18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4"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13</a:t>
            </a:r>
            <a:endParaRPr b="1" lang="en-US" sz="2000" spc="-1" strike="noStrike">
              <a:solidFill>
                <a:srgbClr val="000000"/>
              </a:solidFill>
              <a:latin typeface="Times New Roman"/>
            </a:endParaRPr>
          </a:p>
        </p:txBody>
      </p:sp>
      <p:graphicFrame>
        <p:nvGraphicFramePr>
          <p:cNvPr id="145" name="Object 11"/>
          <p:cNvGraphicFramePr/>
          <p:nvPr/>
        </p:nvGraphicFramePr>
        <p:xfrm>
          <a:off x="2054160" y="3206880"/>
          <a:ext cx="7731360" cy="2587320"/>
        </p:xfrm>
        <a:graphic>
          <a:graphicData uri="http://schemas.openxmlformats.org/presentationml/2006/ole">
            <p:oleObj progId="Word.Document.12" r:id="rId1" spid="">
              <p:embed/>
              <p:pic>
                <p:nvPicPr>
                  <p:cNvPr id="146"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7"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7AA03C-E051-43AC-B900-4B67F1465B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192"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93"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5"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D1712F-D5C7-4BED-B148-C64B38A22F7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928440" y="1600200"/>
            <a:ext cx="1034892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7"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 2.1 - Participation in IEEE 802 Meetings</a:t>
            </a:r>
            <a:endParaRPr b="1" lang="en-US" sz="3200" spc="-1" strike="noStrike">
              <a:solidFill>
                <a:srgbClr val="000000"/>
              </a:solidFill>
              <a:latin typeface="Times New Roman"/>
            </a:endParaRPr>
          </a:p>
        </p:txBody>
      </p:sp>
      <p:sp>
        <p:nvSpPr>
          <p:cNvPr id="19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9"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4FF909-9756-4CC9-8FF8-7D43018CB6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0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0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4"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5"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2D35A2-D877-43B1-A31C-B28F01C86D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2018-09-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Monday 2018-08-06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Tuesday 2018-09-04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nday is a public holiday in some count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0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0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9"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B66F70-1573-47AD-AD18-70CDB79CCE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914040" y="1883880"/>
            <a:ext cx="10363320" cy="4419720"/>
          </a:xfrm>
          <a:prstGeom prst="rect">
            <a:avLst/>
          </a:prstGeom>
          <a:noFill/>
          <a:ln w="0">
            <a:noFill/>
          </a:ln>
        </p:spPr>
        <p:txBody>
          <a:bodyPr lIns="92160" rIns="92160" tIns="46080" bIns="46080"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standards.ieee.org/about/sasb/patcom/pat802_11.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GB" sz="2400" spc="-1" strike="noStrike">
                <a:solidFill>
                  <a:srgbClr val="000000"/>
                </a:solidFill>
                <a:latin typeface="Times New Roman"/>
              </a:rPr>
              <a:t>Siemens related to P802.11ax</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3"/>
              </a:rPr>
              <a:t>https://</a:t>
            </a:r>
            <a:r>
              <a:rPr b="1" lang="en-GB" sz="2400" spc="-1" strike="noStrike">
                <a:solidFill>
                  <a:srgbClr val="000000"/>
                </a:solidFill>
                <a:latin typeface="Times New Roman"/>
              </a:rPr>
              <a:t>mentor.ieee.org/802.11/dcn/15/11-15-1489-12-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LoA request to 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1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1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DFD8C3-567C-4C9C-A88F-30A7656E91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7"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8-07-12</a:t>
            </a:r>
            <a:endParaRPr b="1" lang="en-US" sz="3200" spc="-1" strike="noStrike">
              <a:solidFill>
                <a:srgbClr val="000000"/>
              </a:solidFill>
              <a:latin typeface="Times New Roman"/>
            </a:endParaRPr>
          </a:p>
        </p:txBody>
      </p:sp>
      <p:graphicFrame>
        <p:nvGraphicFramePr>
          <p:cNvPr id="218" name=""/>
          <p:cNvGraphicFramePr/>
          <p:nvPr/>
        </p:nvGraphicFramePr>
        <p:xfrm>
          <a:off x="928800" y="1038240"/>
          <a:ext cx="10463040" cy="5326200"/>
        </p:xfrm>
        <a:graphic>
          <a:graphicData uri="http://schemas.openxmlformats.org/drawingml/2006/table">
            <a:tbl>
              <a:tblPr/>
              <a:tblGrid>
                <a:gridCol w="3487680"/>
                <a:gridCol w="2266920"/>
                <a:gridCol w="1657440"/>
                <a:gridCol w="1481040"/>
                <a:gridCol w="1569960"/>
              </a:tblGrid>
              <a:tr h="57276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80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q</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 $84</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f-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c-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d-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e-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8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6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a-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5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6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x D3.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3.0</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19"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0"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B7F23A-6F61-4ABA-8EB1-8F23AD74AD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llots: </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aj-2018 and IEEE Std 802.11™ak-2018 are now available to be sent; IEEE Std 802.11™ak-2018 in public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raft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liaised subject to EC approval</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24"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5"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8D8E07-9246-40FF-B6FF-CB0CD91655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 Status</a:t>
            </a:r>
            <a:endParaRPr b="1" lang="en-US" sz="3200" spc="-1" strike="noStrike">
              <a:solidFill>
                <a:srgbClr val="000000"/>
              </a:solidFill>
              <a:latin typeface="Times New Roman"/>
            </a:endParaRPr>
          </a:p>
        </p:txBody>
      </p:sp>
      <p:sp>
        <p:nvSpPr>
          <p:cNvPr id="22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DA6176-4697-470A-987D-2B456998F95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31" name="Table 1" descr=""/>
          <p:cNvPicPr/>
          <p:nvPr/>
        </p:nvPicPr>
        <p:blipFill>
          <a:blip r:embed="rId1"/>
          <a:stretch/>
        </p:blipFill>
        <p:spPr>
          <a:xfrm>
            <a:off x="523800" y="1530360"/>
            <a:ext cx="11161800" cy="483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33"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3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5"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3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4849F9-292F-478D-B748-266CFD4295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8-09-09 to 2018-09-14 at </a:t>
            </a:r>
            <a:r>
              <a:rPr b="1" lang="es-ES" sz="3200" spc="-1" strike="noStrike">
                <a:solidFill>
                  <a:srgbClr val="000000"/>
                </a:solidFill>
                <a:latin typeface="Times New Roman"/>
              </a:rPr>
              <a:t> </a:t>
            </a:r>
            <a:r>
              <a:rPr b="1" lang="en-US" sz="3200" spc="-1" strike="noStrike">
                <a:solidFill>
                  <a:srgbClr val="000000"/>
                </a:solidFill>
                <a:latin typeface="Times New Roman"/>
              </a:rPr>
              <a:t>Hilton Waikoloa Village</a:t>
            </a:r>
            <a:r>
              <a:rPr b="1" lang="en-GB" sz="3200" spc="-1" strike="noStrike">
                <a:solidFill>
                  <a:srgbClr val="000000"/>
                </a:solidFill>
                <a:latin typeface="Times New Roman"/>
              </a:rPr>
              <a:t>, Hawaii USA</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are op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eeting registration is open</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Plenary</a:t>
            </a:r>
            <a:endParaRPr b="1" lang="en-US" sz="3200" spc="-1" strike="noStrike">
              <a:solidFill>
                <a:srgbClr val="000000"/>
              </a:solidFill>
              <a:latin typeface="Times New Roman"/>
            </a:endParaRPr>
          </a:p>
        </p:txBody>
      </p:sp>
      <p:sp>
        <p:nvSpPr>
          <p:cNvPr id="239"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40"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CB4E4E-9C6B-4AA1-918E-C9F68ECB29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July 2018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8/1025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D54702-A10E-443D-8DCE-FC1545FC602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CE75EA-35CD-47DA-AF39-EA42DE45F6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6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833A95-4775-4086-9F98-42FD075BC0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6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67"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F80033-B469-491D-8395-E968F7AF47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is responsibilities as an EC member</a:t>
            </a:r>
            <a:endParaRPr b="0" lang="en-US" sz="20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7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7418C1-9F15-4820-B452-2A1F302E6B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77"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649132-E37A-4742-AFEF-BA92B8E166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160" y="1814400"/>
            <a:ext cx="7010280" cy="3353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elcom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amin’s remark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ation of award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otographs after re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5 TGAJ Recognition</a:t>
            </a:r>
            <a:endParaRPr b="1" lang="en-US" sz="3200" spc="-1" strike="noStrike">
              <a:solidFill>
                <a:srgbClr val="000000"/>
              </a:solidFill>
              <a:latin typeface="Times New Roman"/>
            </a:endParaRPr>
          </a:p>
        </p:txBody>
      </p:sp>
      <p:sp>
        <p:nvSpPr>
          <p:cNvPr id="182"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D8294A-8E46-4FB6-993A-15C6E3346E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7"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CF9AF9-8CB7-4E02-8900-1DCAA0A549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8" name="PlaceHolder 1"/>
          <p:cNvSpPr>
            <a:spLocks noGrp="1"/>
          </p:cNvSpPr>
          <p:nvPr>
            <p:ph type="title"/>
          </p:nvPr>
        </p:nvSpPr>
        <p:spPr>
          <a:xfrm>
            <a:off x="2134800" y="686880"/>
            <a:ext cx="7467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aj Recognition</a:t>
            </a:r>
            <a:endParaRPr b="1" lang="en-US" sz="3200" spc="-1" strike="noStrike">
              <a:solidFill>
                <a:srgbClr val="000000"/>
              </a:solidFill>
              <a:latin typeface="Times New Roman"/>
            </a:endParaRPr>
          </a:p>
        </p:txBody>
      </p:sp>
      <p:pic>
        <p:nvPicPr>
          <p:cNvPr id="189" name="Picture 1" descr=""/>
          <p:cNvPicPr/>
          <p:nvPr/>
        </p:nvPicPr>
        <p:blipFill>
          <a:blip r:embed="rId1"/>
          <a:stretch/>
        </p:blipFill>
        <p:spPr>
          <a:xfrm>
            <a:off x="5878440" y="1676520"/>
            <a:ext cx="5824440" cy="4368600"/>
          </a:xfrm>
          <a:prstGeom prst="rect">
            <a:avLst/>
          </a:prstGeom>
          <a:ln w="0">
            <a:noFill/>
          </a:ln>
        </p:spPr>
      </p:pic>
      <p:pic>
        <p:nvPicPr>
          <p:cNvPr id="190" name="Picture 3" descr=""/>
          <p:cNvPicPr/>
          <p:nvPr/>
        </p:nvPicPr>
        <p:blipFill>
          <a:blip r:embed="rId2"/>
          <a:stretch/>
        </p:blipFill>
        <p:spPr>
          <a:xfrm>
            <a:off x="228600" y="1585800"/>
            <a:ext cx="5181480" cy="475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dc:language>en-US</dc:language>
  <cp:lastModifiedBy>Stanley, Dorothy</cp:lastModifiedBy>
  <cp:lastPrinted>1998-02-10T13:28:06Z</cp:lastPrinted>
  <dcterms:modified xsi:type="dcterms:W3CDTF">2018-07-13T05:25:34Z</dcterms:modified>
  <cp:revision>2052</cp:revision>
  <dc:subject/>
  <dc:title>July 2018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