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0D0245-1A90-4C40-9CC5-16F961D61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5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5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E6995C-B239-4C82-B362-F0D6CAC5F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4160" y="701640"/>
            <a:ext cx="4626000" cy="3468600"/>
          </a:xfrm>
          <a:prstGeom prst="rect">
            <a:avLst/>
          </a:prstGeom>
          <a:ln w="0">
            <a:noFill/>
          </a:ln>
        </p:spPr>
      </p:sp>
      <p:sp>
        <p:nvSpPr>
          <p:cNvPr id="4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EBACB0-E0B7-49D8-AE7A-70A09B58D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0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0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0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4EFE82-DDF4-4330-9A3E-5E82C94EA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54160" y="701640"/>
            <a:ext cx="4626000" cy="3468600"/>
          </a:xfrm>
          <a:prstGeom prst="rect">
            <a:avLst/>
          </a:prstGeom>
          <a:ln w="0">
            <a:noFill/>
          </a:ln>
        </p:spPr>
      </p:sp>
      <p:sp>
        <p:nvSpPr>
          <p:cNvPr id="5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2C9512-7AC0-4257-8BE0-2683C8BAB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1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1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1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07FDB0-5A56-4186-AF58-3203BC89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54160" y="701640"/>
            <a:ext cx="4626000" cy="3468600"/>
          </a:xfrm>
          <a:prstGeom prst="rect">
            <a:avLst/>
          </a:prstGeom>
          <a:ln w="0">
            <a:noFill/>
          </a:ln>
        </p:spPr>
      </p:sp>
      <p:sp>
        <p:nvSpPr>
          <p:cNvPr id="5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2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23"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BE2DC4-60A7-4A91-9BF7-D03EE7DE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4160" y="701640"/>
            <a:ext cx="4626000" cy="3468600"/>
          </a:xfrm>
          <a:prstGeom prst="rect">
            <a:avLst/>
          </a:prstGeom>
          <a:ln w="0">
            <a:noFill/>
          </a:ln>
        </p:spPr>
      </p:sp>
      <p:sp>
        <p:nvSpPr>
          <p:cNvPr id="5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54160" y="701640"/>
            <a:ext cx="4626000" cy="3468600"/>
          </a:xfrm>
          <a:prstGeom prst="rect">
            <a:avLst/>
          </a:prstGeom>
          <a:ln w="0">
            <a:noFill/>
          </a:ln>
        </p:spPr>
      </p:sp>
      <p:sp>
        <p:nvSpPr>
          <p:cNvPr id="5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840457-A5E5-4012-A065-BB545AE67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54160" y="701640"/>
            <a:ext cx="4626000" cy="3468600"/>
          </a:xfrm>
          <a:prstGeom prst="rect">
            <a:avLst/>
          </a:prstGeom>
          <a:ln w="0">
            <a:noFill/>
          </a:ln>
        </p:spPr>
      </p:sp>
      <p:sp>
        <p:nvSpPr>
          <p:cNvPr id="5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E6E655-E383-4822-9B13-61AF8E861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71928F-1F0B-49FF-B864-57CC0E996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4160" y="701640"/>
            <a:ext cx="4626000" cy="3468600"/>
          </a:xfrm>
          <a:prstGeom prst="rect">
            <a:avLst/>
          </a:prstGeom>
          <a:ln w="0">
            <a:noFill/>
          </a:ln>
        </p:spPr>
      </p:sp>
      <p:sp>
        <p:nvSpPr>
          <p:cNvPr id="5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54160" y="701640"/>
            <a:ext cx="4626000" cy="3468600"/>
          </a:xfrm>
          <a:prstGeom prst="rect">
            <a:avLst/>
          </a:prstGeom>
          <a:ln w="0">
            <a:noFill/>
          </a:ln>
        </p:spPr>
      </p:sp>
      <p:sp>
        <p:nvSpPr>
          <p:cNvPr id="5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24503D-9017-4AAF-B739-1CCE7A742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4160" y="701640"/>
            <a:ext cx="4626000" cy="3468600"/>
          </a:xfrm>
          <a:prstGeom prst="rect">
            <a:avLst/>
          </a:prstGeom>
          <a:ln w="0">
            <a:noFill/>
          </a:ln>
        </p:spPr>
      </p:sp>
      <p:sp>
        <p:nvSpPr>
          <p:cNvPr id="5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6CD5B3-DF82-47FA-B126-917E054EC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4160" y="701640"/>
            <a:ext cx="4626000" cy="3468600"/>
          </a:xfrm>
          <a:prstGeom prst="rect">
            <a:avLst/>
          </a:prstGeom>
          <a:ln w="0">
            <a:noFill/>
          </a:ln>
        </p:spPr>
      </p:sp>
      <p:sp>
        <p:nvSpPr>
          <p:cNvPr id="5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8FF81C-62E2-47D7-B62C-67846B93F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4160" y="701640"/>
            <a:ext cx="4626000" cy="3468600"/>
          </a:xfrm>
          <a:prstGeom prst="rect">
            <a:avLst/>
          </a:prstGeom>
          <a:ln w="0">
            <a:noFill/>
          </a:ln>
        </p:spPr>
      </p:sp>
      <p:sp>
        <p:nvSpPr>
          <p:cNvPr id="5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566C7D-278F-4608-9592-BDD6C11BE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54160" y="701640"/>
            <a:ext cx="4626000" cy="3468600"/>
          </a:xfrm>
          <a:prstGeom prst="rect">
            <a:avLst/>
          </a:prstGeom>
          <a:ln w="0">
            <a:noFill/>
          </a:ln>
        </p:spPr>
      </p:sp>
      <p:sp>
        <p:nvSpPr>
          <p:cNvPr id="4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C11EB8-17AF-40A2-AC39-DF82429D4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4160" y="701640"/>
            <a:ext cx="4626000" cy="3468600"/>
          </a:xfrm>
          <a:prstGeom prst="rect">
            <a:avLst/>
          </a:prstGeom>
          <a:ln w="0">
            <a:noFill/>
          </a:ln>
        </p:spPr>
      </p:sp>
      <p:sp>
        <p:nvSpPr>
          <p:cNvPr id="5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F87153-5C47-43B0-B87E-AE36AC47B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4160" y="701640"/>
            <a:ext cx="4626000" cy="3468600"/>
          </a:xfrm>
          <a:prstGeom prst="rect">
            <a:avLst/>
          </a:prstGeom>
          <a:ln w="0">
            <a:noFill/>
          </a:ln>
        </p:spPr>
      </p:sp>
      <p:sp>
        <p:nvSpPr>
          <p:cNvPr id="5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DA953-BE33-4B56-85CF-10D18DEB4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4160" y="701640"/>
            <a:ext cx="4626000" cy="3468600"/>
          </a:xfrm>
          <a:prstGeom prst="rect">
            <a:avLst/>
          </a:prstGeom>
          <a:ln w="0">
            <a:noFill/>
          </a:ln>
        </p:spPr>
      </p:sp>
      <p:sp>
        <p:nvSpPr>
          <p:cNvPr id="5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BD5105-954F-494A-86B6-3795B8FA0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4160" y="701640"/>
            <a:ext cx="4626000" cy="3468600"/>
          </a:xfrm>
          <a:prstGeom prst="rect">
            <a:avLst/>
          </a:prstGeom>
          <a:ln w="0">
            <a:noFill/>
          </a:ln>
        </p:spPr>
      </p:sp>
      <p:sp>
        <p:nvSpPr>
          <p:cNvPr id="5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90B190-76C8-4FEE-93C9-10D9CA451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5195C8-2F36-4835-964D-5C8D7DE89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DA1767-D14C-4CBB-946D-058CB3021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520AF2-FCA5-40FD-9F77-DA5901B42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6FA99B-C9B4-413C-8386-A8EEA700B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36D2FB-21F6-4405-A5CA-D5D2BE0C8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AC604C-F754-417A-9A7E-29E33D2D8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FFDEE2-C566-4D05-A560-564D3BD64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4160" y="701640"/>
            <a:ext cx="4626000" cy="3468600"/>
          </a:xfrm>
          <a:prstGeom prst="rect">
            <a:avLst/>
          </a:prstGeom>
          <a:ln w="0">
            <a:noFill/>
          </a:ln>
        </p:spPr>
      </p:sp>
      <p:sp>
        <p:nvSpPr>
          <p:cNvPr id="4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883CBD-F876-4321-AF1B-60879D218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F17C4D-A17D-4AE7-A41F-0B4F4C4D2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864B1C-174D-40E4-8D99-EC28ECB4B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C17067-5AF5-4524-87EE-D53DCFD83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DD9A16-78DE-43B9-AF7D-34333381E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C71192-7F72-443D-B044-BD04E814A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789360-D466-45DD-8FF8-8DF348293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72E26B-C8B8-4449-BE59-DB989D847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5D9F78-A85C-41CC-8720-BA0696A68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45C572-A585-4709-B112-18367B57A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3F4365B-49D4-4125-8923-926564BDBB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7680" y="696960"/>
            <a:ext cx="4640400" cy="3479760"/>
          </a:xfrm>
          <a:prstGeom prst="rect">
            <a:avLst/>
          </a:prstGeom>
          <a:ln w="0">
            <a:noFill/>
          </a:ln>
        </p:spPr>
      </p:sp>
      <p:sp>
        <p:nvSpPr>
          <p:cNvPr id="47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D007DF-E4E7-453F-B9D3-FB900D37C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4AB7EE-07F0-4D69-A243-9C3E2EF0E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DB2884-BFE8-4BBD-B7AB-8111EA746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F16EFA-BB0C-4AD8-BFBE-F04F97DF7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54C400-E50C-4D2E-81CE-4D29B1E34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FD9F33-4B0F-4474-83F7-CDF0A483E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78FBB0-1408-44DC-8EEA-7BF1481B8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E941D1-B9B1-41AE-812D-F252F1ABE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664A00-D69E-48A3-B8B5-CE180FBCB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98F0635-DF16-4480-9583-DDA5B08691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7680" y="696960"/>
            <a:ext cx="4640400" cy="3479760"/>
          </a:xfrm>
          <a:prstGeom prst="rect">
            <a:avLst/>
          </a:prstGeom>
          <a:ln w="0">
            <a:noFill/>
          </a:ln>
        </p:spPr>
      </p:sp>
      <p:sp>
        <p:nvSpPr>
          <p:cNvPr id="48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A38B77-6802-4F5E-9F43-F52D4001D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D19F23-AA7E-4CCB-B62D-C404CB6DE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E673A1-3717-4A07-B912-035A809D0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5B23D6-CCD6-42D8-9CE8-A069B9665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04CCAA-939C-4A44-808E-914624B13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4AFE50-1CCB-415D-93B1-28F8FE3F4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4647F7-0596-4E11-BD09-2FE77FB09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781B76-9458-4F4E-8732-EA24360EE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F24F9F-A161-4738-ACBC-4A4D47021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54160" y="701640"/>
            <a:ext cx="4626000" cy="3468600"/>
          </a:xfrm>
          <a:prstGeom prst="rect">
            <a:avLst/>
          </a:prstGeom>
          <a:ln w="0">
            <a:noFill/>
          </a:ln>
        </p:spPr>
      </p:sp>
      <p:sp>
        <p:nvSpPr>
          <p:cNvPr id="7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B921F1-26A3-441B-A52C-D25FC90C6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3106EEB-98D6-4848-A8F3-ED08FF3A3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4160" y="701640"/>
            <a:ext cx="4626000" cy="3468600"/>
          </a:xfrm>
          <a:prstGeom prst="rect">
            <a:avLst/>
          </a:prstGeom>
          <a:ln w="0">
            <a:noFill/>
          </a:ln>
        </p:spPr>
      </p:sp>
      <p:sp>
        <p:nvSpPr>
          <p:cNvPr id="4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EC3678-3F8F-42D2-9FE8-BE56BB2E2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4A5192-FA0B-4D3C-8265-904BF5FF7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982791-2410-476D-A0FC-687F85153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2CB315-5BEC-4BEF-B3E7-0B9C32296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70C72D-DA6C-4BD5-AEB4-52E1F6F04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54160" y="701640"/>
            <a:ext cx="4626000" cy="3468600"/>
          </a:xfrm>
          <a:prstGeom prst="rect">
            <a:avLst/>
          </a:prstGeom>
          <a:ln w="0">
            <a:noFill/>
          </a:ln>
        </p:spPr>
      </p:sp>
      <p:sp>
        <p:nvSpPr>
          <p:cNvPr id="8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0D3C7A-7D3A-4A36-8EAB-D54929D44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C2DFA7-1063-460E-A16B-0391E2077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BEB33C-47D3-472B-B1BF-5DDE0BF33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B63286-FB46-40F4-AF5B-96D99979D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91A848-8F85-4FD2-99CF-3B9F350AD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PlaceHolder 1"/>
          <p:cNvSpPr>
            <a:spLocks noGrp="1"/>
          </p:cNvSpPr>
          <p:nvPr>
            <p:ph type="sldImg"/>
          </p:nvPr>
        </p:nvSpPr>
        <p:spPr>
          <a:xfrm>
            <a:off x="1154160" y="701640"/>
            <a:ext cx="4626000" cy="3468600"/>
          </a:xfrm>
          <a:prstGeom prst="rect">
            <a:avLst/>
          </a:prstGeom>
          <a:ln w="0">
            <a:noFill/>
          </a:ln>
        </p:spPr>
      </p:sp>
      <p:sp>
        <p:nvSpPr>
          <p:cNvPr id="8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A5C502-2E4E-45B7-8814-EB31E22DC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4160" y="701640"/>
            <a:ext cx="4626000" cy="3468600"/>
          </a:xfrm>
          <a:prstGeom prst="rect">
            <a:avLst/>
          </a:prstGeom>
          <a:ln w="0">
            <a:noFill/>
          </a:ln>
        </p:spPr>
      </p:sp>
      <p:sp>
        <p:nvSpPr>
          <p:cNvPr id="4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54160" y="701640"/>
            <a:ext cx="4626000" cy="3468600"/>
          </a:xfrm>
          <a:prstGeom prst="rect">
            <a:avLst/>
          </a:prstGeom>
          <a:ln w="0">
            <a:noFill/>
          </a:ln>
        </p:spPr>
      </p:sp>
      <p:sp>
        <p:nvSpPr>
          <p:cNvPr id="8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333F87-6F65-45D4-8555-B0110F48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4160" y="701640"/>
            <a:ext cx="4626000" cy="3468600"/>
          </a:xfrm>
          <a:prstGeom prst="rect">
            <a:avLst/>
          </a:prstGeom>
          <a:ln w="0">
            <a:noFill/>
          </a:ln>
        </p:spPr>
      </p:sp>
      <p:sp>
        <p:nvSpPr>
          <p:cNvPr id="8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620CC2-7499-4899-A44C-13FC0F2C2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097ADC-D89D-4380-AD2D-C422A8886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7B77AF-3514-43D9-B838-EE247522D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6DD2F7-840E-43A6-AD6F-ABDBD7F1D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0803B0-D717-4375-8E11-AABF2129D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DE0410-82F2-482E-B9AA-7F8E9DFA4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70D415-DA83-400B-9EBD-1E7257C57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54160" y="701640"/>
            <a:ext cx="4626000" cy="3468600"/>
          </a:xfrm>
          <a:prstGeom prst="rect">
            <a:avLst/>
          </a:prstGeom>
          <a:ln w="0">
            <a:noFill/>
          </a:ln>
        </p:spPr>
      </p:sp>
      <p:sp>
        <p:nvSpPr>
          <p:cNvPr id="9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96056F-57AC-4AF9-B7AC-51552DBFE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018214-E1D4-422B-BC46-446B84555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9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91"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7D9D57-B56E-42B1-A972-8AE9E9770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4160" y="701640"/>
            <a:ext cx="4626000" cy="3468600"/>
          </a:xfrm>
          <a:prstGeom prst="rect">
            <a:avLst/>
          </a:prstGeom>
          <a:ln w="0">
            <a:noFill/>
          </a:ln>
        </p:spPr>
      </p:sp>
      <p:sp>
        <p:nvSpPr>
          <p:cNvPr id="49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7501AF-B318-4D66-9E23-7710D82B7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A1C6C5-5278-49DC-8EB2-7BC168F4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EEBCCA-710F-42C4-BE25-0DF3B1FC9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9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9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83D919-0293-475E-90A7-E9D15E0A8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4160" y="701640"/>
            <a:ext cx="4626000" cy="3468600"/>
          </a:xfrm>
          <a:prstGeom prst="rect">
            <a:avLst/>
          </a:prstGeom>
          <a:ln w="0">
            <a:noFill/>
          </a:ln>
        </p:spPr>
      </p:sp>
      <p:sp>
        <p:nvSpPr>
          <p:cNvPr id="5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C8974-BBDA-41C9-8BAE-21DF8693A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9617-7094-49AC-B819-B037152A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7C4A-B576-4393-82BE-137CF4DCF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8311A-9C81-4154-93F4-71AC79BBC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F40B-9D67-43F9-821A-882ADF359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2860B-27C6-4470-94B1-616EC879F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F8D0-46D9-4F7E-A1D9-36683572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0145-C543-4E89-969D-201CF0F5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06EF-AA1C-40A9-9207-412D0DA5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F64E-365A-45B5-AD3E-BDA82C98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D07B-8168-44F1-9CA0-71A7C09AB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17B9-FB01-4CC5-B930-E3195A9BF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7F00B3-9A4D-4F99-9D9E-BE717B0F2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645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8/11-18-0505-01-00ay-tg-ay-march-2018-rosemont-meeting-minutes.docx" TargetMode="External"/><Relationship Id="rId2" Type="http://schemas.openxmlformats.org/officeDocument/2006/relationships/hyperlink" Target="https://mentor.ieee.org/802.11/dcn/18/11-18-0505-01-00ay-tg-ay-march-2018-rosemont-meeting-minutes.docx" TargetMode="External"/><Relationship Id="rId3" Type="http://schemas.openxmlformats.org/officeDocument/2006/relationships/hyperlink" Target="https://mentor.ieee.org/802.11/dcn/18/11-18-0505-01-00ay-tg-ay-march-2018-rosemont-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8/11-18-0601-02-00ay-task-group-ay-march-2018-conference-call-meeting-minutes.docx" TargetMode="External"/><Relationship Id="rId2" Type="http://schemas.openxmlformats.org/officeDocument/2006/relationships/hyperlink" Target="https://mentor.ieee.org/802.11/dcn/18/11-18-0609-03-00ay-task-group-ay-april-2018-conference-call-meeting-minutes.docx" TargetMode="External"/><Relationship Id="rId3" Type="http://schemas.openxmlformats.org/officeDocument/2006/relationships/hyperlink" Target="https://mentor.ieee.org/802.11/dcn/18/11-18-0736-00-00ay-tg-ay-may-2-2018-conference-call-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68EEE0-5BBA-4EA5-AFB2-3097FE0FB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5-06</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2D2F8-8E5D-4BEE-9222-D4726BD7E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D12B3E-3599-4DCA-9BD2-1E8586D38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FDEC26-1FD4-4548-98A0-D65C80F43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B7165A-1500-4703-BBFD-0636936B6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NOTE - Baltic 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tic I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216B1D-59FA-4174-A6A4-1C9D42D0D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 Chair and Secretary election/reaffirm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713E62-5DBE-4A44-917E-373D3C02B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3B518C-5B67-440C-A965-DF8DB95EC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052F8C-AF3C-4341-AF75-B26343CF3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plenary</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459 CIDs are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88F15D-81C7-48C2-BC30-E880E0E47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168 comments are discussed</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146 comments are resolved and ready for motion</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5 technical contributions are discussed</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1 technical contribution is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6AC1F1-12F6-412E-8188-4426DF0C1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s (1)</a:t>
            </a:r>
            <a:endParaRPr b="0" lang="en-US" sz="3200" spc="-1" strike="noStrike">
              <a:solidFill>
                <a:srgbClr val="000000"/>
              </a:solidFill>
              <a:latin typeface="Times New Roman"/>
            </a:endParaRPr>
          </a:p>
        </p:txBody>
      </p:sp>
      <p:sp>
        <p:nvSpPr>
          <p:cNvPr id="1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088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V, clause 30.4</a:t>
                      </a:r>
                      <a:r>
                        <a:rPr b="0" lang="en-US" sz="1500" spc="-1" strike="noStrike">
                          <a:solidFill>
                            <a:srgbClr val="000000"/>
                          </a:solidFill>
                          <a:latin typeface="Times New Roman"/>
                        </a:rPr>
                        <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of multirate support related CID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V, clause 30.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1,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VI, clause 30.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itions to group beamforming in support of beam measurement for mmWave distribution network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Warsaw, Poland</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6 - 11,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9E0C60-B766-4BDB-A81B-A6CFF4760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DFDDFC-F978-493A-A8D1-2545C5A93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s (2)</a:t>
            </a:r>
            <a:endParaRPr b="0" lang="en-US" sz="3200" spc="-1" strike="noStrike">
              <a:solidFill>
                <a:srgbClr val="000000"/>
              </a:solidFill>
              <a:latin typeface="Times New Roman"/>
            </a:endParaRPr>
          </a:p>
        </p:txBody>
      </p:sp>
      <p:sp>
        <p:nvSpPr>
          <p:cNvPr id="1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444960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4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4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nex B </a:t>
                      </a:r>
                      <a:r>
                        <a:rPr b="0" lang="en-GB" sz="1500" spc="-1" strike="noStrike">
                          <a:solidFill>
                            <a:srgbClr val="000000"/>
                          </a:solidFill>
                          <a:latin typeface="Times New Roman"/>
                        </a:rPr>
                        <a:t>– </a:t>
                      </a:r>
                      <a:r>
                        <a:rPr b="0" lang="en-US" sz="1500" spc="-1" strike="noStrike">
                          <a:solidFill>
                            <a:srgbClr val="000000"/>
                          </a:solidFill>
                          <a:latin typeface="Times New Roman"/>
                        </a:rPr>
                        <a:t>PIC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ao (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dditional beamforming procedures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0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VII, clause 30.7, 30.8, 30.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8, 25</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DCM mod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8, 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V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4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6872A0-FA69-4315-9837-14022364A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s (3)</a:t>
            </a:r>
            <a:endParaRPr b="0" lang="en-US" sz="3200" spc="-1" strike="noStrike">
              <a:solidFill>
                <a:srgbClr val="000000"/>
              </a:solidFill>
              <a:latin typeface="Times New Roman"/>
            </a:endParaRPr>
          </a:p>
        </p:txBody>
      </p:sp>
      <p:sp>
        <p:nvSpPr>
          <p:cNvPr id="1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5"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36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ius We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94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5, May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4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Update on RXTIME computation for control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cussion on the multi-band discovery assistance proposa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6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n TXSS sector lis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8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ec text proposal for TXSS sector lis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of CID in range of 1069 - 240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11F11A-D3C7-483F-9527-9182BD73F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70"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6ADA5F-DBCA-44C9-99B0-F8B9CC7DD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meeting minutes</a:t>
            </a:r>
            <a:endParaRPr b="0" lang="en-US" sz="3200" spc="-1" strike="noStrike">
              <a:solidFill>
                <a:srgbClr val="000000"/>
              </a:solidFill>
              <a:latin typeface="Times New Roman"/>
            </a:endParaRPr>
          </a:p>
        </p:txBody>
      </p:sp>
      <p:sp>
        <p:nvSpPr>
          <p:cNvPr id="1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505-01-00ay-tg-ay-march-2018-rosemont-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p:txBody>
      </p:sp>
      <p:sp>
        <p:nvSpPr>
          <p:cNvPr id="1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FFDDB2-C592-4C80-AC8D-A552C1610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1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14, March 21, March 28, April 4, April 11, April 18, April 25, and May 2:</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601-02-00ay-task-group-ay-march-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609-03-00ay-task-group-ay-april-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8/11-18-0736-00-00ay-tg-ay-may-2-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162D83-ABDE-42BF-A82B-1E1220A8D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AM2)</a:t>
            </a:r>
            <a:endParaRPr b="0" lang="en-US" sz="3200" spc="-1" strike="noStrike">
              <a:solidFill>
                <a:srgbClr val="000000"/>
              </a:solidFill>
              <a:latin typeface="Times New Roman"/>
            </a:endParaRPr>
          </a:p>
        </p:txBody>
      </p:sp>
      <p:sp>
        <p:nvSpPr>
          <p:cNvPr id="1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5" name=""/>
          <p:cNvGraphicFramePr/>
          <p:nvPr/>
        </p:nvGraphicFramePr>
        <p:xfrm>
          <a:off x="696960" y="1650960"/>
          <a:ext cx="7913520" cy="31464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3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Yutaka Murakam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phase ho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1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CIDs for 10.39.9.4 (Group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43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nex B </a:t>
                      </a:r>
                      <a:r>
                        <a:rPr b="0" lang="en-GB" sz="1500" spc="-1" strike="noStrike">
                          <a:solidFill>
                            <a:srgbClr val="000000"/>
                          </a:solidFill>
                          <a:latin typeface="Times New Roman"/>
                        </a:rPr>
                        <a:t>– </a:t>
                      </a:r>
                      <a:r>
                        <a:rPr b="0" lang="en-US" sz="1500" spc="-1" strike="noStrike">
                          <a:solidFill>
                            <a:srgbClr val="000000"/>
                          </a:solidFill>
                          <a:latin typeface="Times New Roman"/>
                        </a:rPr>
                        <a:t>PIC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67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1 CID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78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3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channel measurement for TDD s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3A9093-87E5-4454-900D-EBB75074C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1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1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formance requirements for the EDMG SC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BRP TXSS for channel aggregation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3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BRP TXSS-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HY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EF87BE-4B9B-4A12-823C-8DB50BD4D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3)</a:t>
            </a:r>
            <a:endParaRPr b="0" lang="en-US" sz="3200" spc="-1" strike="noStrike">
              <a:solidFill>
                <a:srgbClr val="000000"/>
              </a:solidFill>
              <a:latin typeface="Times New Roman"/>
            </a:endParaRPr>
          </a:p>
        </p:txBody>
      </p:sp>
      <p:sp>
        <p:nvSpPr>
          <p:cNvPr id="1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5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related to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3,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s for EDMG channel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3,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MU Exclusive field for H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3,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GB" sz="1500" spc="-1" strike="noStrike">
                          <a:solidFill>
                            <a:srgbClr val="000000"/>
                          </a:solidFill>
                          <a:latin typeface="Times New Roman"/>
                          <a:ea typeface="MS PGothic"/>
                        </a:rPr>
                        <a:t>MU Exclusive Beamforming Report fiel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EA0D63-B20E-4A58-867D-CE79BD44C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1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22464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2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unsolicited Block 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channel interference mitigation requirements for millimeter 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7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Alireza Mehraban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ea typeface="MS PGothic"/>
                        </a:rPr>
                        <a:t>Adjacent channel rejection requirements for DM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574F46-1DC2-4A14-8030-DC53CE71A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1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covery assistance for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1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covery assistance for 802.11ay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4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Field measurement results for distribution networks and short range devices coexistence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72BD61-2F0E-4C8A-8E34-0F01BB024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8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6347B-FE93-4EA2-997D-AC131FDA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PM3)</a:t>
            </a:r>
            <a:endParaRPr b="0" lang="en-US" sz="3200" spc="-1" strike="noStrike">
              <a:solidFill>
                <a:srgbClr val="000000"/>
              </a:solidFill>
              <a:latin typeface="Times New Roman"/>
            </a:endParaRPr>
          </a:p>
        </p:txBody>
      </p:sp>
      <p:sp>
        <p:nvSpPr>
          <p:cNvPr id="2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ACK operation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Efficient TDD slot schedule mechanis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ehee B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cedure for slot structure start ti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Observations on DMG CCA lev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7FAD59-021B-465F-B6DD-17716B1C7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AM1)</a:t>
            </a:r>
            <a:endParaRPr b="0" lang="en-US" sz="3200" spc="-1" strike="noStrike">
              <a:solidFill>
                <a:srgbClr val="000000"/>
              </a:solidFill>
              <a:latin typeface="Times New Roman"/>
            </a:endParaRPr>
          </a:p>
        </p:txBody>
      </p:sp>
      <p:sp>
        <p:nvSpPr>
          <p:cNvPr id="2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1355, 1597 and 195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2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595816-84A8-46E2-95AE-9DDC3B9C6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822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1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comment resolutions on clause 10.36.11.4.4 (MU-MIMO channel access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822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1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9.2.4 (Hybrid beamforming for SU-MIMO and MU-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ea typeface="MS PGothic"/>
                        </a:rPr>
                        <a:t>MLME definition for TDD slot structure and TDD slot schedul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of CID in range of 1069 – 2402 –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2AFD3F-7592-4E00-979C-E9F34AD69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flow control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variou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2A786E-31FF-40E9-8A67-38BC05D7E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1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z related CID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ple antenna CCA and MIMO channel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7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8DE315-8BA6-40E6-9E7F-191928652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tandby)</a:t>
            </a:r>
            <a:endParaRPr b="0" lang="en-US" sz="3200" spc="-1" strike="noStrike">
              <a:solidFill>
                <a:srgbClr val="000000"/>
              </a:solidFill>
              <a:latin typeface="Times New Roman"/>
            </a:endParaRPr>
          </a:p>
        </p:txBody>
      </p:sp>
      <p:sp>
        <p:nvSpPr>
          <p:cNvPr id="23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R on CIDs in clause 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R on CIDs in clause 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R on CIDs in clause 10 and clause 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693 - LOS determin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8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anhua 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existence of distribution nodes and short range devi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B9D199-EE60-4BD5-8943-6905348A5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p:nvPr>
        </p:nvSpPr>
        <p:spPr>
          <a:xfrm>
            <a:off x="685440" y="1066320"/>
            <a:ext cx="4343400" cy="541044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7:30pm – 9:30pm</a:t>
            </a:r>
            <a:endParaRPr b="1"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35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39" name="Rectangle 3"/>
          <p:cNvSpPr/>
          <p:nvPr/>
        </p:nvSpPr>
        <p:spPr>
          <a:xfrm>
            <a:off x="4876920" y="1066680"/>
            <a:ext cx="4114800" cy="54104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7:30pm – 9:30pm</a:t>
            </a:r>
            <a:endParaRPr b="0"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ce Chair/Secretary election/reaffirmation</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July 2018 plenary</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35480" indent="-2829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1097CD-C701-4E40-A834-50205039F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4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5: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4584C8-2849-44B7-89B8-13D86B3F0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3:  Comment Resolution</a:t>
            </a:r>
            <a:endParaRPr b="0" lang="en-US" sz="3200" spc="-1" strike="noStrike">
              <a:solidFill>
                <a:srgbClr val="000000"/>
              </a:solidFill>
              <a:latin typeface="Times New Roman"/>
            </a:endParaRPr>
          </a:p>
        </p:txBody>
      </p:sp>
      <p:sp>
        <p:nvSpPr>
          <p:cNvPr id="2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75, 1579, 1580, 1581, 1905, and 2026 as proposed in 18/0441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in the March plenary.</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unWoong Y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C6BBBB-97F6-48F5-965F-461E5065C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4:  Comment Resolution</a:t>
            </a:r>
            <a:endParaRPr b="0" lang="en-US" sz="3200" spc="-1" strike="noStrike">
              <a:solidFill>
                <a:srgbClr val="000000"/>
              </a:solidFill>
              <a:latin typeface="Times New Roman"/>
            </a:endParaRPr>
          </a:p>
        </p:txBody>
      </p:sp>
      <p:sp>
        <p:nvSpPr>
          <p:cNvPr id="2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1099 as proposed in 18/0375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in the March plenary.</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8CBAFEF-1B7E-4B20-A99A-DC722418BD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6BF6E3-915C-4277-B429-2E0481F3D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5:  Comment Resolution</a:t>
            </a:r>
            <a:endParaRPr b="0" lang="en-US" sz="3200" spc="-1" strike="noStrike">
              <a:solidFill>
                <a:srgbClr val="000000"/>
              </a:solidFill>
              <a:latin typeface="Times New Roman"/>
            </a:endParaRPr>
          </a:p>
        </p:txBody>
      </p:sp>
      <p:sp>
        <p:nvSpPr>
          <p:cNvPr id="2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80, 1214, 1964, 2257, 2261, 2126, 2127, 2255, 2125, 2256, 1079, 1566, 1567, 1565, 1852, 1853, 1854, and 1965 as proposed in 18/0375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1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681DBD-38A0-4304-B603-5FA35EEC0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6: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a:t>
            </a:r>
            <a:endParaRPr b="0" lang="en-US" sz="20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606 as proposed in 18/0210r7;</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632 as proposed in 18/0307r3;</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512, 1929, 1930, 1932, 2177, 1931, 1514, 1933, 1515, 1414, 1614, </a:t>
            </a:r>
            <a:r>
              <a:rPr b="0" lang="en-US" sz="1600" spc="-1" strike="noStrike">
                <a:solidFill>
                  <a:srgbClr val="000000"/>
                </a:solidFill>
                <a:latin typeface="Times New Roman"/>
              </a:rPr>
              <a:t>	</a:t>
            </a:r>
            <a:r>
              <a:rPr b="0" lang="en-US" sz="1600" spc="-1" strike="noStrike">
                <a:solidFill>
                  <a:srgbClr val="000000"/>
                </a:solidFill>
                <a:latin typeface="Times New Roman"/>
              </a:rPr>
              <a:t>1615, 1270, 1271, 1812, 1813, 1814, 1822, 1616, 1618, 2032, 1549, 1619, 1916, </a:t>
            </a:r>
            <a:r>
              <a:rPr b="0" lang="en-US" sz="1600" spc="-1" strike="noStrike">
                <a:solidFill>
                  <a:srgbClr val="000000"/>
                </a:solidFill>
                <a:latin typeface="Times New Roman"/>
              </a:rPr>
              <a:t>	</a:t>
            </a:r>
            <a:r>
              <a:rPr b="0" lang="en-US" sz="1600" spc="-1" strike="noStrike">
                <a:solidFill>
                  <a:srgbClr val="000000"/>
                </a:solidFill>
                <a:latin typeface="Times New Roman"/>
              </a:rPr>
              <a:t>1928, 1399, 1668, 1517, 1518, 1519, 1516, 1511, 1312, and 151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308r3; and</a:t>
            </a:r>
            <a:endParaRPr b="0" lang="en-US" sz="1600" spc="-1" strike="noStrike">
              <a:solidFill>
                <a:srgbClr val="000000"/>
              </a:solidFill>
              <a:latin typeface="Times New Roman"/>
            </a:endParaRPr>
          </a:p>
          <a:p>
            <a:pPr lvl="1" marL="447840" indent="447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5, 1626, 1316, 2093, 1317, 2094, 1815, 1816, 1625, 1320, 1318, 1319, </a:t>
            </a:r>
            <a:r>
              <a:rPr b="0" lang="en-US" sz="1600" spc="-1" strike="noStrike">
                <a:solidFill>
                  <a:srgbClr val="000000"/>
                </a:solidFill>
                <a:latin typeface="Times New Roman"/>
              </a:rPr>
              <a:t>	</a:t>
            </a:r>
            <a:r>
              <a:rPr b="0" lang="en-US" sz="1600" spc="-1" strike="noStrike">
                <a:solidFill>
                  <a:srgbClr val="000000"/>
                </a:solidFill>
                <a:latin typeface="Times New Roman"/>
              </a:rPr>
              <a:t>1623, 1621, 1534, 1622, 1322, and 1969 as proposed in 18/0325r1. </a:t>
            </a:r>
            <a:endParaRPr b="0" lang="en-US" sz="1600" spc="-1" strike="noStrike">
              <a:solidFill>
                <a:srgbClr val="000000"/>
              </a:solidFill>
              <a:latin typeface="Times New Roman"/>
            </a:endParaRPr>
          </a:p>
          <a:p>
            <a:pPr lvl="1" marL="447840" indent="447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14, March 21, and March 28.</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9FFF90-EE67-41D7-AD0A-B443CA943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7: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665, 2100, 2101, 2102, 2329, 1325, 1326, 1327, 1825, 1173, and 1415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30r3;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95, 2096, 1624, 2033, and 2097 as proposed in 18/0331r2;</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4, 2328, 1332, 2091, 1321, and 2098 as proposed in 18/0639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34 and 1569 as proposed in 18/0640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s 18/0330r3, 18/0331r2, 18/0639r1, and 18/0640r1 were presented on April 18 and April 25.</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10ACF0-895E-49FF-8803-0E5F05648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8:  Draft</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641r1 </a:t>
            </a:r>
            <a:r>
              <a:rPr b="1" lang="en-GB" sz="2000" spc="-1" strike="noStrike">
                <a:solidFill>
                  <a:srgbClr val="000000"/>
                </a:solidFill>
                <a:latin typeface="Times New Roman"/>
              </a:rPr>
              <a:t>related to the updated RXTIME computation formula for control mode PPDU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April 25</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4E643-8CF8-4D53-A480-729D797DA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9: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75, 1996, 2018, 2237, and 2019 as proposed in 18/0430r2; and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03, 1904, 1976, 2001, 2020, 2239, and 1342 as proposed in 18/0610r1.</a:t>
            </a:r>
            <a:endParaRPr b="0" lang="en-US" sz="16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revised contribution 18/04303r2 was uploaded in the March plenary.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The contribution 18/0610r1 was presented on April 4.</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63C034-71D4-44B1-901B-3F3C255DA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0: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he comment resolution for CIDs 1949 and 1465 as proposed in 18/0636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18/0636r3 was presented on May 2.  The author has uploaded 18/0636r4 because of two editorial fixe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AF3A2A-C938-4B42-83A1-1BEEBFCF6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1: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he comment resolution for CIDs 1069, 1072, 1081, 2400, 1083, 1112, 1163, 1164, 1722, 1188, 1189, 1217, 1254, 1255, 1256, 1257, 1285, 1380, 1381, 1656, 1692, 1858, 1859, 1867, 1940, 1943, 2113, 2202, 2114, 2173, 2174, 2201, 1258, 1259, 1260, and 2203 as proposed in 18/066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was presented on May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2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2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0B16E4-7874-473B-AD55-1C49B6F7D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E612E7-0E4C-4024-8288-815698876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9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1C5AD1-0C68-4AE8-8024-A40A1BD8C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C0A8E8E-2FB3-417C-B3AA-BCFCD1008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FF57E8-F5D9-4DAA-A5F2-905DC3E45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54EBC5-9D82-4DB0-B1FC-41B7F661E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1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DA5F8F-B8AC-42D4-9D66-90F163492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7:30pm – 9: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18021F-DDDF-448C-8975-DBDF26428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2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2F0B79-0BE9-4BCF-A38B-AA082B98C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1FAF11-C1F5-4B23-B6A1-2E4C9DE97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2B6C7B-29BF-49DC-9A63-7C93F1BE6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58228F-9363-428E-A77F-879ACA304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DD3BCF-9E83-4CB3-BEBF-334E3AE57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571C8B-FF29-4E46-81A3-EA8E87672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A7AE74-E48A-413A-A92B-D1CD494AD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8D3146-AC41-47D5-86EF-4811DBAB2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96DF69-504C-4B59-8E12-47466C3BB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07:30pm – 09: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6B2612-88DA-474C-83E2-EBC6A657C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70B75B-70CD-428A-88D0-B91606888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6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4393D5-043B-472A-915B-D8D12252B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0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28673-5843-4CBD-938A-71A67CD4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7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589D58-75E0-4C76-9682-B89B786CF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xx:  Comment Resolution</a:t>
            </a:r>
            <a:endParaRPr b="0" lang="en-US" sz="3200" spc="-1" strike="noStrike">
              <a:solidFill>
                <a:srgbClr val="000000"/>
              </a:solidFill>
              <a:latin typeface="Times New Roman"/>
            </a:endParaRPr>
          </a:p>
        </p:txBody>
      </p:sp>
      <p:sp>
        <p:nvSpPr>
          <p:cNvPr id="3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a:t>
            </a:r>
            <a:r>
              <a:rPr b="1" lang="en-GB" sz="2000" spc="-1" strike="noStrike">
                <a:solidFill>
                  <a:srgbClr val="000000"/>
                </a:solidFill>
                <a:latin typeface="Times New Roman"/>
              </a:rPr>
              <a:t>1388, 1423, 1047, 1673, 1247, 1432, 1561, 1630, 2228, 1833, 1881, 1988, 1824, 1679, 1922, 2220, 1086, 1736, 1558, 1176, and 1638</a:t>
            </a:r>
            <a:r>
              <a:rPr b="1" lang="en-US" sz="2000" spc="-1" strike="noStrike">
                <a:solidFill>
                  <a:srgbClr val="000000"/>
                </a:solidFill>
                <a:latin typeface="Times New Roman"/>
              </a:rPr>
              <a:t> as proposed in 18/0643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645A96-150A-45F1-BEC7-173B9187B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xx:  Draft</a:t>
            </a:r>
            <a:endParaRPr b="0" lang="en-US" sz="3200" spc="-1" strike="noStrike">
              <a:solidFill>
                <a:srgbClr val="000000"/>
              </a:solidFill>
              <a:latin typeface="Times New Roman"/>
            </a:endParaRPr>
          </a:p>
        </p:txBody>
      </p:sp>
      <p:sp>
        <p:nvSpPr>
          <p:cNvPr id="3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547r3 </a:t>
            </a:r>
            <a:r>
              <a:rPr b="1" lang="en-GB" sz="2000" spc="-1" strike="noStrike">
                <a:solidFill>
                  <a:srgbClr val="000000"/>
                </a:solidFill>
                <a:latin typeface="Times New Roman"/>
              </a:rPr>
              <a:t>that supports additional TDD beamforming procedures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18/0547r1 was presented on April 11.  Editorial fixes are made and the contribution is uploaded to 18/0547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ony H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3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B53B9E-35A6-4176-8623-0A9CD612D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8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BD1C07-EDE5-4E54-8542-30A6267E6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8</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5BDAB0-2CFF-400E-A6FA-BB67D6AD3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8CE89E-BEB8-4B58-AE42-8E4FA7BCF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3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50F1AD-7C45-49A8-B032-508CE41E0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884830-4B44-4CFF-B626-E40AB0ED5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9</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12BF83-62BE-4E38-B866-4DE70BEA8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E4FE29-14A3-4F35-B3AE-6540F0FC8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9F9847-29DF-458C-8693-339B77865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0</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5C79AD-3F83-4936-B841-2712943C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 Chair/Secretary election/reaffirm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uly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F9DDCB-59AE-4F9F-8622-5FF6A4BED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ce Chair/Secretary election/reaffirmation</a:t>
            </a:r>
            <a:endParaRPr b="0" lang="en-US" sz="3200" spc="-1" strike="noStrike">
              <a:solidFill>
                <a:srgbClr val="000000"/>
              </a:solidFill>
              <a:latin typeface="Times New Roman"/>
            </a:endParaRPr>
          </a:p>
        </p:txBody>
      </p:sp>
      <p:sp>
        <p:nvSpPr>
          <p:cNvPr id="42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 Manual (14/0629r21):</a:t>
            </a:r>
            <a:endParaRPr b="0" lang="en-US" sz="2400" spc="-1" strike="noStrike">
              <a:solidFill>
                <a:srgbClr val="000000"/>
              </a:solidFill>
              <a:latin typeface="Times New Roman"/>
            </a:endParaRPr>
          </a:p>
          <a:p>
            <a:pPr lvl="1" marL="8002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G Vice-Chair is elected by a TG majority approval and confirmed by a WG majority approval.  </a:t>
            </a:r>
            <a:r>
              <a:rPr b="1" lang="en-US" sz="2000" spc="-1" strike="noStrike">
                <a:solidFill>
                  <a:srgbClr val="000000"/>
                </a:solidFill>
                <a:latin typeface="Times New Roman"/>
                <a:ea typeface="MS PGothic"/>
              </a:rPr>
              <a:t>The TG Vice-Chair is reaffirmed every 2 years; one session after the WG Chair is elected.</a:t>
            </a:r>
            <a:endParaRPr b="0" lang="en-US" sz="2000" spc="-1" strike="noStrike">
              <a:solidFill>
                <a:srgbClr val="000000"/>
              </a:solidFill>
              <a:latin typeface="Times New Roman"/>
            </a:endParaRPr>
          </a:p>
          <a:p>
            <a:pPr lvl="1" marL="8002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he TG Secretary shall be appointed by the TG Chair and confirmed by a TG motion that is approved with a minimum 50% majority. </a:t>
            </a:r>
            <a:r>
              <a:rPr b="1" lang="en-US" sz="2000" spc="-1" strike="noStrike">
                <a:solidFill>
                  <a:srgbClr val="000000"/>
                </a:solidFill>
                <a:latin typeface="Times New Roman"/>
                <a:ea typeface="MS PGothic"/>
              </a:rPr>
              <a:t> The TG Secretary is re-affirmed every 2 years; one session after the WG Chair is elected.</a:t>
            </a:r>
            <a:endParaRPr b="0" lang="en-US" sz="20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Date Placeholder 3"/>
          <p:cNvSpPr/>
          <p:nvPr/>
        </p:nvSpPr>
        <p:spPr>
          <a:xfrm>
            <a:off x="88632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6</a:t>
            </a:r>
            <a:endParaRPr b="0" lang="en-US" sz="1800" spc="-1" strike="noStrike">
              <a:solidFill>
                <a:srgbClr val="000000"/>
              </a:solidFill>
              <a:latin typeface="Times New Roman"/>
            </a:endParaRPr>
          </a:p>
        </p:txBody>
      </p:sp>
      <p:sp>
        <p:nvSpPr>
          <p:cNvPr id="4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14422D-86E8-40B0-A279-702D547D4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xx: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ce Chair election/reaffirmation</a:t>
            </a:r>
            <a:endParaRPr b="0" lang="en-US" sz="3200" spc="-1" strike="noStrike">
              <a:solidFill>
                <a:srgbClr val="000000"/>
              </a:solidFill>
              <a:latin typeface="Times New Roman"/>
            </a:endParaRPr>
          </a:p>
        </p:txBody>
      </p:sp>
      <p:sp>
        <p:nvSpPr>
          <p:cNvPr id="43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to reaffirm Sang Kim as vice chair of Task Group AY.</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Date Placeholder 3"/>
          <p:cNvSpPr/>
          <p:nvPr/>
        </p:nvSpPr>
        <p:spPr>
          <a:xfrm>
            <a:off x="88632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6</a:t>
            </a:r>
            <a:endParaRPr b="0" lang="en-US" sz="1800" spc="-1" strike="noStrike">
              <a:solidFill>
                <a:srgbClr val="000000"/>
              </a:solidFill>
              <a:latin typeface="Times New Roman"/>
            </a:endParaRPr>
          </a:p>
        </p:txBody>
      </p:sp>
      <p:sp>
        <p:nvSpPr>
          <p:cNvPr id="4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E273A2-CD8F-4EFB-A04A-8BD5C2A09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xx:  Secretary reaffirmation</a:t>
            </a:r>
            <a:endParaRPr b="0" lang="en-US" sz="3200" spc="-1" strike="noStrike">
              <a:solidFill>
                <a:srgbClr val="000000"/>
              </a:solidFill>
              <a:latin typeface="Times New Roman"/>
            </a:endParaRPr>
          </a:p>
        </p:txBody>
      </p:sp>
      <p:sp>
        <p:nvSpPr>
          <p:cNvPr id="43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to reaffirm Jeorge Hurtarte as seecretary of Task Group AY.</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Date Placeholder 3"/>
          <p:cNvSpPr/>
          <p:nvPr/>
        </p:nvSpPr>
        <p:spPr>
          <a:xfrm>
            <a:off x="88632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6</a:t>
            </a:r>
            <a:endParaRPr b="0" lang="en-US" sz="1800" spc="-1" strike="noStrike">
              <a:solidFill>
                <a:srgbClr val="000000"/>
              </a:solidFill>
              <a:latin typeface="Times New Roman"/>
            </a:endParaRPr>
          </a:p>
        </p:txBody>
      </p:sp>
      <p:sp>
        <p:nvSpPr>
          <p:cNvPr id="4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720B97F-CB2B-4254-8E9A-BD50F893C7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3697AF-143B-4917-8001-4A3D55677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4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34DDCA-F4DA-438E-881C-F47F6998A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8 plenary</a:t>
            </a:r>
            <a:endParaRPr b="0" lang="en-US" sz="3200" spc="-1" strike="noStrike">
              <a:solidFill>
                <a:srgbClr val="000000"/>
              </a:solidFill>
              <a:latin typeface="Times New Roman"/>
            </a:endParaRPr>
          </a:p>
        </p:txBody>
      </p:sp>
      <p:sp>
        <p:nvSpPr>
          <p:cNvPr id="44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e for D2.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85C0AC-E7FA-4124-8B60-FC88E0FDA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5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3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ne 6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ne 1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ne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une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4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BED82E-2A96-444A-B78D-AC28414EE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8</cp:keywords>
  <dc:language>en-US</dc:language>
  <cp:lastModifiedBy>Edward Au</cp:lastModifiedBy>
  <cp:lastPrinted>2014-11-04T15:04:57Z</cp:lastPrinted>
  <dcterms:modified xsi:type="dcterms:W3CDTF">2018-05-06T04:29:27Z</dcterms:modified>
  <cp:revision>7179</cp:revision>
  <dc:subject>Task Group AY November 2015 Meeting Agenda</dc:subject>
  <dc:title>11-18/0645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