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1235E846-F405-4854-82E4-1A4C9BBCB58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03BCCB7-635E-476B-8A4E-FC121F7035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1" name="PlaceHolder 1"/>
          <p:cNvSpPr>
            <a:spLocks noGrp="1"/>
          </p:cNvSpPr>
          <p:nvPr>
            <p:ph type="sldImg"/>
          </p:nvPr>
        </p:nvSpPr>
        <p:spPr>
          <a:xfrm>
            <a:off x="1154160" y="701640"/>
            <a:ext cx="4626000" cy="3468600"/>
          </a:xfrm>
          <a:prstGeom prst="rect">
            <a:avLst/>
          </a:prstGeom>
          <a:ln w="0">
            <a:noFill/>
          </a:ln>
        </p:spPr>
      </p:sp>
      <p:sp>
        <p:nvSpPr>
          <p:cNvPr id="6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54160" y="701640"/>
            <a:ext cx="4626000" cy="3468600"/>
          </a:xfrm>
          <a:prstGeom prst="rect">
            <a:avLst/>
          </a:prstGeom>
          <a:ln w="0">
            <a:noFill/>
          </a:ln>
        </p:spPr>
      </p:sp>
      <p:sp>
        <p:nvSpPr>
          <p:cNvPr id="6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DBFDC9C-A536-4886-8A83-138B5635D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54160" y="701640"/>
            <a:ext cx="4626000" cy="3468600"/>
          </a:xfrm>
          <a:prstGeom prst="rect">
            <a:avLst/>
          </a:prstGeom>
          <a:ln w="0">
            <a:noFill/>
          </a:ln>
        </p:spPr>
      </p:sp>
      <p:sp>
        <p:nvSpPr>
          <p:cNvPr id="6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C4AFB9F-D844-4750-9F99-4E07D99CD4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54160" y="701640"/>
            <a:ext cx="4626000" cy="3468600"/>
          </a:xfrm>
          <a:prstGeom prst="rect">
            <a:avLst/>
          </a:prstGeom>
          <a:ln w="0">
            <a:noFill/>
          </a:ln>
        </p:spPr>
      </p:sp>
      <p:sp>
        <p:nvSpPr>
          <p:cNvPr id="6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9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17B1B0C-27C2-4F3D-94A1-1B971B1B2A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54160" y="701640"/>
            <a:ext cx="4626000" cy="3468600"/>
          </a:xfrm>
          <a:prstGeom prst="rect">
            <a:avLst/>
          </a:prstGeom>
          <a:ln w="0">
            <a:noFill/>
          </a:ln>
        </p:spPr>
      </p:sp>
      <p:sp>
        <p:nvSpPr>
          <p:cNvPr id="6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8E9FDE8-C22C-4158-BB5B-6CB3781165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54160" y="701640"/>
            <a:ext cx="4626000" cy="3468600"/>
          </a:xfrm>
          <a:prstGeom prst="rect">
            <a:avLst/>
          </a:prstGeom>
          <a:ln w="0">
            <a:noFill/>
          </a:ln>
        </p:spPr>
      </p:sp>
      <p:sp>
        <p:nvSpPr>
          <p:cNvPr id="7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7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216338D-99FD-4D31-B7A4-BAE5B0A607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54160" y="701640"/>
            <a:ext cx="4626000" cy="3468600"/>
          </a:xfrm>
          <a:prstGeom prst="rect">
            <a:avLst/>
          </a:prstGeom>
          <a:ln w="0">
            <a:noFill/>
          </a:ln>
        </p:spPr>
      </p:sp>
      <p:sp>
        <p:nvSpPr>
          <p:cNvPr id="6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69453B6-53BA-461F-A068-6395AE163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499085F-E976-40D1-8A5C-CA3B6A05A2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1154160" y="701640"/>
            <a:ext cx="4626000" cy="3468600"/>
          </a:xfrm>
          <a:prstGeom prst="rect">
            <a:avLst/>
          </a:prstGeom>
          <a:ln w="0">
            <a:noFill/>
          </a:ln>
        </p:spPr>
      </p:sp>
      <p:sp>
        <p:nvSpPr>
          <p:cNvPr id="6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CB0405F-93E1-463E-B8CB-6BCD44E179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1147680" y="696960"/>
            <a:ext cx="4640400" cy="3479760"/>
          </a:xfrm>
          <a:prstGeom prst="rect">
            <a:avLst/>
          </a:prstGeom>
          <a:ln w="0">
            <a:noFill/>
          </a:ln>
        </p:spPr>
      </p:sp>
      <p:sp>
        <p:nvSpPr>
          <p:cNvPr id="65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3"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588D5B1-69F8-4A54-92B1-DF6C1D8DC2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5" name="PlaceHolder 1"/>
          <p:cNvSpPr>
            <a:spLocks noGrp="1"/>
          </p:cNvSpPr>
          <p:nvPr>
            <p:ph type="sldImg"/>
          </p:nvPr>
        </p:nvSpPr>
        <p:spPr>
          <a:xfrm>
            <a:off x="1147680" y="696960"/>
            <a:ext cx="4640400" cy="3479760"/>
          </a:xfrm>
          <a:prstGeom prst="rect">
            <a:avLst/>
          </a:prstGeom>
          <a:ln w="0">
            <a:noFill/>
          </a:ln>
        </p:spPr>
      </p:sp>
      <p:sp>
        <p:nvSpPr>
          <p:cNvPr id="656"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1E3E6C2-6DF5-44F3-B0FE-86EDC9A7A5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1154160" y="701640"/>
            <a:ext cx="4626000" cy="3468600"/>
          </a:xfrm>
          <a:prstGeom prst="rect">
            <a:avLst/>
          </a:prstGeom>
          <a:ln w="0">
            <a:noFill/>
          </a:ln>
        </p:spPr>
      </p:sp>
      <p:sp>
        <p:nvSpPr>
          <p:cNvPr id="6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7F132CE-2E51-4CC6-8359-6159BA4DA4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1" name="PlaceHolder 1"/>
          <p:cNvSpPr>
            <a:spLocks noGrp="1"/>
          </p:cNvSpPr>
          <p:nvPr>
            <p:ph type="sldImg"/>
          </p:nvPr>
        </p:nvSpPr>
        <p:spPr>
          <a:xfrm>
            <a:off x="1154160" y="701640"/>
            <a:ext cx="4626000" cy="3468600"/>
          </a:xfrm>
          <a:prstGeom prst="rect">
            <a:avLst/>
          </a:prstGeom>
          <a:ln w="0">
            <a:noFill/>
          </a:ln>
        </p:spPr>
      </p:sp>
      <p:sp>
        <p:nvSpPr>
          <p:cNvPr id="6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64"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65"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6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8BE758C-76B4-46FE-BC15-C87D0DA9F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PlaceHolder 1"/>
          <p:cNvSpPr>
            <a:spLocks noGrp="1"/>
          </p:cNvSpPr>
          <p:nvPr>
            <p:ph type="sldImg"/>
          </p:nvPr>
        </p:nvSpPr>
        <p:spPr>
          <a:xfrm>
            <a:off x="1154160" y="701640"/>
            <a:ext cx="4626000" cy="3468600"/>
          </a:xfrm>
          <a:prstGeom prst="rect">
            <a:avLst/>
          </a:prstGeom>
          <a:ln w="0">
            <a:noFill/>
          </a:ln>
        </p:spPr>
      </p:sp>
      <p:sp>
        <p:nvSpPr>
          <p:cNvPr id="668"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7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77B31B3-5CA0-4710-83DD-D86278B97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7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7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7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94EB3AA-CB15-4B24-99EB-79E17D88B6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PlaceHolder 1"/>
          <p:cNvSpPr>
            <a:spLocks noGrp="1"/>
          </p:cNvSpPr>
          <p:nvPr>
            <p:ph type="sldImg"/>
          </p:nvPr>
        </p:nvSpPr>
        <p:spPr>
          <a:xfrm>
            <a:off x="1154160" y="701640"/>
            <a:ext cx="4626000" cy="3468600"/>
          </a:xfrm>
          <a:prstGeom prst="rect">
            <a:avLst/>
          </a:prstGeom>
          <a:ln w="0">
            <a:noFill/>
          </a:ln>
        </p:spPr>
      </p:sp>
      <p:sp>
        <p:nvSpPr>
          <p:cNvPr id="6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4686A-8E25-41E1-ACE3-C65A84577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E1888-1986-4FDD-B708-F86996B0C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7EA28E-A4C0-4BED-98EA-F5C244D6F9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AD0F21-9796-4C46-9FFB-63F3F31333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5A178A-D8D4-4A9B-9963-D599BFD080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A8424F-8A45-4BA9-B60E-B4E7A05EDF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1A22D5-9AA6-4C3F-BA43-8EA7359C35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9DD3FE-3E58-4F72-8F80-B55E51EF67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9BCCF1-BF04-408F-B162-E604D602F4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8F08EE-BC87-4330-91A5-05204A990F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F7824F-E98C-4FCE-A591-F728A691FF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1A7FCED-76D7-4BE1-BE89-668E109C129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99095-8D03-4FDB-86EC-A531B1566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4168DBC-4394-4BE5-B2AA-946E84F849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381C7BF-D615-43A6-A431-B124DF93F36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1967719-005D-49C9-AA27-A3FA0E1E527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234CA9-D378-4EAD-8787-D149A50DC3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28819D-B754-48ED-B8EB-CFCA5CFF343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BE7055-C0C7-40D4-9BA3-3131DA1C94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C7CF5F-4D3A-4919-990B-BE2E69CE1B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95A677-4A4C-43A8-B7CA-3F09C89BB2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FF3B21-C3BF-44BE-8DCE-4A906F8CC23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0DE6980-2BFC-4C2F-8A47-9026A22DA08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A7A24-9BB8-4BF8-A8B5-EE5633819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1E724D5-21E7-4E7D-954A-8233973662F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73A54CE-3375-4019-B4CE-EF345F88379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EB3664F-7CF5-4856-8E25-9DAD309E00F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C576E7B-716C-409A-9B81-0A21BC6C15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BE3C65-DC45-4119-8DA1-A02BE53ECA0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BBCE9B-61CA-4C7B-BB81-C1F60C4118F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4F3284-20CF-4BE8-B442-28110DFA4D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85E3D4-E5DE-40F2-8E5B-1853BFD279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7906CE4-65D5-4771-AD4B-120AB1A467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B92F76-6640-48D7-ADA2-D04A7A1851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4929ED-5C99-46C7-A28C-4938E69423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DB4CA42-EB4C-446C-835C-AB69FA8B4FD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4C25CD7-4E9D-4ED3-AF13-959344A660D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AF789F6-EE9A-4DD4-B662-9817840484C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178C2F5-CE46-458A-B024-184B7D9EF7A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F4D2414-D69E-43AE-AB5B-AB134997AA2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D48EE52-BE53-4B08-99DF-0164E485CDC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1FFF884-2DC1-4184-8F54-EC033330FDF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AB1FC02-2474-4634-8224-F0B2EA799B4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A5487F-64D3-4C49-90C3-2CE1A100151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C8576C-A000-4ADB-B76D-EF4BBA97B2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2FEE6C-1443-4ECB-8C3C-59308EA26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33B161-7543-467B-B342-CE0CFFF675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E57600-DBC4-4E2E-B3E0-B6868A9FC5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ABC99FC-331F-4454-9799-96249B16B58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BA36481-A7FC-45D5-A9B2-D999F93C593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355F8FD-009E-4E04-8B83-54AE213DF2E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F681F-6EF1-4440-9BA5-7DAAE031C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2437D-EA57-428C-891B-C459C8712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828BCD-80E1-4C7A-B7EC-63C76DEFA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6DE1D-9621-40AB-86D4-F91132C84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C146A-71E4-415D-8F3F-651742C38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2AEF4-8E31-420A-B846-43A089F7D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F3779-71C2-4A37-AEAF-2D2808547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5D74D-11F0-45E0-85FD-5A678EBC5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8AC387-FDAE-44E1-BEB9-F97FDB518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E9126E-8499-4665-A9DD-EA7F8FDF3D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139EAB-5799-40FA-9454-0E09E5E946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9BD172-8367-4FB9-A2D5-451F76BCF4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D63CDE-7009-4997-BD6F-96B9D51E1F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26EC14-D967-4524-853E-CF9A27D3DC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CFF269-3974-4CCE-B74A-9BAD4E5482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AF4E35-716C-426D-9DB9-7ABFAF2161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FF05F-BD25-4BE7-B681-54D2733AD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0A8E7F-FB81-4802-8380-48B264C800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936930-BA5A-4489-9216-491EF3AD30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CC2C59-4EDA-47DB-B04E-CFBE843A89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44B647-AA13-403D-B9F2-F9E9B100F6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9DD81A-E5F1-4339-85CB-BE14EDD3C2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ED6D63-08B3-4ACA-9913-C40CE27CCA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68E904-F2B5-45F3-9954-EB008608FC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7CD601-8895-4878-85EB-2B99FCAFB6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EAE85D-CB47-40D0-A79D-CEE80DCBB2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C7E545-DDCD-4BEC-B48C-202781E27C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950D3-E374-49CA-87E3-28EEC992C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3B6CAA-289B-456F-80E1-12CC04CB37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3B77F7-F038-4D63-8A69-48BE6E1C9A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4841CC-E7FF-40E6-B4B5-CF246A0463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18915A-04FC-4D52-8389-1405C6721D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029004-49BF-4F62-AFE6-904071397A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13F0D7-4785-41F9-A83B-DBDC3225AD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37BF3B-9133-4AF9-89F0-BA22072F67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FF5035-9E94-4E23-9CB3-01A2CA4032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49BB7E-2966-43C0-9926-2E5F3C357B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C214FE-AC55-4007-92A7-1A38D52F9A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FFA46-C60D-4F8B-A1CF-04E846762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49B411-74E4-4460-BE1B-AD8701261F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F7816E-F2E5-4A85-8B76-67AB927E28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F62676-9169-4E5C-B797-B2D2D98DE4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22BB0A-F5DB-4FA9-9341-9EB600EE43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8ABE0A-5269-4E05-842D-BC0A6E1F5E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155D4B-3930-46A6-8488-1853FB032C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5DC37A-C588-41B2-86DA-C8EE1423E2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73DAC5-7F4B-4A11-A66A-D5C677EBFC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DF6E8F-0009-4E96-93CA-DC22C60E8A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9CE48B-4042-4FD2-9290-C3AF26B2D2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731B0-65F7-46C7-B515-7B0C36C6C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79CE96-FC64-426C-9621-1374B4204F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BC1D07-92F0-472C-A965-879CC9909F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5B6715-36BA-412B-BCAD-21B206BA55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2756BD-A285-45E9-B941-498E2751C4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267BB5-175F-45A4-9C4E-4FFBF30027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5A25C9-99A2-450F-ACDA-76790F7455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23EEEE-1458-47FC-81B2-E88F410639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91BBD4-482A-45A2-BF67-EE1C174880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819A2B-2A66-48DA-806A-DB58D844D8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FD6500-E8FD-4E47-B00A-63583AD9E2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7ABFC-EDB6-4F8C-93AA-2E0C780FE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8C48CB-244F-41B8-9C34-A49313CE99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412B71-989E-4855-BE5E-715449CA1E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04339E-1998-4085-B415-DC22125ADF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E4CBC9-BE75-43CB-8848-2111031432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197101-CD58-45EF-A546-A1CD0B713B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3E63EF-1BCC-4D95-9640-1BDC94BBB4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258671-7C5F-48B0-B213-A434C7AE6C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43D6A7-0B95-4404-98E1-9945E70BA1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A741A1-1B71-4EC8-BDE4-D5428BF540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2EB3D5-F89E-4A12-8A39-E8B589EC9B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EE7FC-E018-4E70-857F-D4E4107FF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A18D32-D95F-4002-978B-527D865ACB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A515DD-BB52-4C32-A2D5-E990639E4E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DC67B7-337D-4A71-8CF6-3A5ED3C06A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D098E5-000E-4C41-9C5A-5C4D61F982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AF229C-B18E-408C-B38B-EF13A9878E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873A910-1B20-4D5F-AF02-DF911C169E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B03729-051B-45A1-925F-4884A3F61D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8FC681-B7C8-49BF-940F-5BA5186ADD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E6E695-26BF-4C32-B08A-D7D093A736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3DE10E-0557-40CB-B0C1-126EF16B19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978B5-20BB-485E-B809-A86E95D21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1A7A24-5990-4528-B16F-4A02E12DB6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E57998-C85B-4864-A818-7EB6030F7E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56F8E6-D26B-4A86-8292-BF2CBEBE79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4A0D73-4855-42FF-B6BC-B0F2EDB39A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8AFEF1-3359-4131-849A-50BDC1C7E1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449AEA-E46F-4015-936D-74E61D0FC9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0DC407-A84B-47E4-B0EE-F6366322D5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521B3C-5A52-4EB2-B915-6A3E1094DE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BA2F43-1D8F-4C66-8713-4578D7A748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F12148-9425-403F-8D4E-CE89B864F50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87226D0-E506-4EB8-8620-32E74F3FDD4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3</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3</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56709BB-7E3B-4603-9599-1B2DF68027F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3</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DF27222-3FBE-45D9-88B3-0DD5146C2DD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3</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E1EC6F5-F1F9-4FEA-A074-5CF8DF61A41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3</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821CEA5-353A-4E25-B6DB-C2A3B21B634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3</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7622202-5A86-4463-A317-EBE2A515F07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3</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5B009BB-B1E8-4146-904E-AA1028866DA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3</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0001907-595E-4544-B3BB-65D1A97156E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3</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78925F3-D20A-4995-A571-8B39E108492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3</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BFBE643-1ADE-4529-8C49-2E61B68751E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3</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037BF2C-ABD3-4C82-ADD1-228252E78B6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3</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6B162F0-7D75-402E-82AA-21306364A85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7BBDA4-22B6-4917-946B-0AB82C6D44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2018</a:t>
            </a:r>
            <a:br>
              <a:rPr sz="3200"/>
            </a:br>
            <a:r>
              <a:rPr b="1" lang="en-US" sz="3200" spc="-1" strike="noStrike">
                <a:solidFill>
                  <a:srgbClr val="000000"/>
                </a:solidFill>
                <a:latin typeface="Times New Roman"/>
              </a:rPr>
              <a:t>Ad-hoc Meeting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03-02</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7CC85B-240D-41C6-99BA-3F5C42859B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04"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eciation</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nks Rui Yang and Joe Levy (InterDigital) for sponsoring the ad-hoc meeting!</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nks Jon Rosdahl, George Calcev, Face To Face Events Inc. and Verilan for the logistics!</a:t>
            </a: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inder</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md plans to include an item in the March plenary to review a TGmd submission for Annex I changes to complete the DMG OFDM PHY removal</a:t>
            </a: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e</a:t>
            </a:r>
            <a:endParaRPr b="0" lang="en-US" sz="2000" spc="-1" strike="noStrike">
              <a:solidFill>
                <a:srgbClr val="000000"/>
              </a:solidFill>
              <a:latin typeface="Times New Roman"/>
            </a:endParaRPr>
          </a:p>
          <a:p>
            <a:pPr lvl="1" marL="743040" indent="-285840" algn="just">
              <a:spcBef>
                <a:spcPts val="3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9:00am CT – 5:00pm CT @ meeting room DFW</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rning coffee break from 10:00am CT to 10:30am CT</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unch from 12:30pm CT to 1:30pm CT</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noon coffee break from 3:30pm CT to 4:00pm CT</a:t>
            </a: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of February 28, about 129 comments are resolved and 207 comments are ready for motion.</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ease refer to the next few slides for the submission and estimated time for presentation</a:t>
            </a: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3E5DEA-C09E-44B6-8830-38041694AD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Friday morning)</a:t>
            </a:r>
            <a:endParaRPr b="0" lang="en-US" sz="3200" spc="-1" strike="noStrike">
              <a:solidFill>
                <a:srgbClr val="000000"/>
              </a:solidFill>
              <a:latin typeface="Times New Roman"/>
            </a:endParaRPr>
          </a:p>
        </p:txBody>
      </p:sp>
      <p:sp>
        <p:nvSpPr>
          <p:cNvPr id="6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11" name=""/>
          <p:cNvGraphicFramePr/>
          <p:nvPr/>
        </p:nvGraphicFramePr>
        <p:xfrm>
          <a:off x="696960" y="1650960"/>
          <a:ext cx="7913520" cy="47610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4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lock interleaver and \pi/2 rotation clarific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5">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915 – 1000)</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30 – 11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4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rification of the scrambler subclaus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2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analog beam tracking-related CIDs II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75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BRP TXSS-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4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BF-related CIDs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nnex 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125 – 1225)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2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Comment resolution on EDMG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7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OFDM DC relative shi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D254011-E50C-469D-8EDC-510B5E2FA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Friday afternoon)</a:t>
            </a:r>
            <a:endParaRPr b="0" lang="en-US" sz="3200" spc="-1" strike="noStrike">
              <a:solidFill>
                <a:srgbClr val="000000"/>
              </a:solidFill>
              <a:latin typeface="Times New Roman"/>
            </a:endParaRPr>
          </a:p>
        </p:txBody>
      </p:sp>
      <p:sp>
        <p:nvSpPr>
          <p:cNvPr id="6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16" name=""/>
          <p:cNvGraphicFramePr/>
          <p:nvPr/>
        </p:nvGraphicFramePr>
        <p:xfrm>
          <a:off x="696960" y="1650960"/>
          <a:ext cx="7913520" cy="22716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CA-Indications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330 – 150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76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Procedures common to the DCF and EDCAF”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76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5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related to TDD scheduling - Part 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9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0 – 1530)</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00 – 1700)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8621F5E-16A7-4E41-A6CE-68079097D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Saturday morning)</a:t>
            </a:r>
            <a:endParaRPr b="0" lang="en-US" sz="3200" spc="-1" strike="noStrike">
              <a:solidFill>
                <a:srgbClr val="000000"/>
              </a:solidFill>
              <a:latin typeface="Times New Roman"/>
            </a:endParaRPr>
          </a:p>
        </p:txBody>
      </p:sp>
      <p:sp>
        <p:nvSpPr>
          <p:cNvPr id="6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21" name=""/>
          <p:cNvGraphicFramePr/>
          <p:nvPr/>
        </p:nvGraphicFramePr>
        <p:xfrm>
          <a:off x="696960" y="1650960"/>
          <a:ext cx="7913520" cy="421344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4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anchu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beamforming in BT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5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910 – 0935)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Hsiang S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10.38.2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935 – 0945)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1529 – on EDMG BRP packet dur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945 – 1000)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 231 Partial SLS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30 – 1130)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75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 231 CID1387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2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1 BF comment resolution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4-QAM rate 1/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130 – 1150)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D6E760-2CC2-4D07-B7BC-F48DCBD8D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Saturday afternoon)</a:t>
            </a:r>
            <a:endParaRPr b="0" lang="en-US" sz="3200" spc="-1" strike="noStrike">
              <a:solidFill>
                <a:srgbClr val="000000"/>
              </a:solidFill>
              <a:latin typeface="Times New Roman"/>
            </a:endParaRPr>
          </a:p>
        </p:txBody>
      </p:sp>
      <p:sp>
        <p:nvSpPr>
          <p:cNvPr id="62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26" name=""/>
          <p:cNvGraphicFramePr/>
          <p:nvPr/>
        </p:nvGraphicFramePr>
        <p:xfrm>
          <a:off x="696960" y="1650960"/>
          <a:ext cx="7913520" cy="11476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7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150 – 1230)</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330 – 1350)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rch 2 – 3, 2018</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Rosemont, Illinois, United States</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2C422CD-9421-467E-875F-78B4227490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714C7C9-A01A-4CDC-B947-DD6F2D8363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March 2018 ad-hoc meeting on March 2 and 3, 2018.</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8F89E47-E4C3-46B8-A8B0-AE7E677099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C5D42A7B-2B08-467E-8F9F-020C23051D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E00C497-4645-4180-BA44-24AB48274B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5E83073-F7F6-462B-9978-5216B2A9C0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798E836-07B7-472A-8575-A79124A5CA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6E1F40E-00EB-4615-B73C-43D3B7E281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6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2018 ad-hoc</cp:keywords>
  <dc:language>en-US</dc:language>
  <cp:lastModifiedBy>Edward Au</cp:lastModifiedBy>
  <cp:lastPrinted>2014-11-04T15:04:57Z</cp:lastPrinted>
  <dcterms:modified xsi:type="dcterms:W3CDTF">2018-03-03T02:54:25Z</dcterms:modified>
  <cp:revision>4195</cp:revision>
  <dc:subject>Task Group AY November 2015 Meeting Agenda</dc:subject>
  <dc:title>18/0351r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