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BE6FDCC0-5818-4EE0-88C2-7DDD81F318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154635-80E7-4CB9-BEEC-5D5A4C6B6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54160" y="701640"/>
            <a:ext cx="4626000" cy="3468600"/>
          </a:xfrm>
          <a:prstGeom prst="rect">
            <a:avLst/>
          </a:prstGeom>
          <a:ln w="0">
            <a:noFill/>
          </a:ln>
        </p:spPr>
      </p:sp>
      <p:sp>
        <p:nvSpPr>
          <p:cNvPr id="6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54160" y="701640"/>
            <a:ext cx="4626000" cy="3468600"/>
          </a:xfrm>
          <a:prstGeom prst="rect">
            <a:avLst/>
          </a:prstGeom>
          <a:ln w="0">
            <a:noFill/>
          </a:ln>
        </p:spPr>
      </p:sp>
      <p:sp>
        <p:nvSpPr>
          <p:cNvPr id="6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80A469-F254-44AD-BAC9-D56C3FA27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54160" y="701640"/>
            <a:ext cx="4626000" cy="3468600"/>
          </a:xfrm>
          <a:prstGeom prst="rect">
            <a:avLst/>
          </a:prstGeom>
          <a:ln w="0">
            <a:noFill/>
          </a:ln>
        </p:spPr>
      </p:sp>
      <p:sp>
        <p:nvSpPr>
          <p:cNvPr id="6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CB4883-1E2E-48F7-BF3F-59F721470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54160" y="701640"/>
            <a:ext cx="4626000" cy="3468600"/>
          </a:xfrm>
          <a:prstGeom prst="rect">
            <a:avLst/>
          </a:prstGeom>
          <a:ln w="0">
            <a:noFill/>
          </a:ln>
        </p:spPr>
      </p:sp>
      <p:sp>
        <p:nvSpPr>
          <p:cNvPr id="6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FA72C9-D3FA-4F49-8968-5B674F981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B03F1A-5812-4949-A792-A071E2B05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BE4450-7F73-4D98-9F54-0FED375DA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4160" y="701640"/>
            <a:ext cx="4626000" cy="3468600"/>
          </a:xfrm>
          <a:prstGeom prst="rect">
            <a:avLst/>
          </a:prstGeom>
          <a:ln w="0">
            <a:noFill/>
          </a:ln>
        </p:spPr>
      </p:sp>
      <p:sp>
        <p:nvSpPr>
          <p:cNvPr id="6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A42758-5B91-413C-8C66-0E26A72FB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1B7DE9-F96D-47E6-BEDD-C8D3BF33C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1EE1EE8-B87C-49BD-8E20-A23F5DA2D4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7680" y="696960"/>
            <a:ext cx="4640400" cy="3479760"/>
          </a:xfrm>
          <a:prstGeom prst="rect">
            <a:avLst/>
          </a:prstGeom>
          <a:ln w="0">
            <a:noFill/>
          </a:ln>
        </p:spPr>
      </p:sp>
      <p:sp>
        <p:nvSpPr>
          <p:cNvPr id="65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8357A92-6688-4F37-88EE-61AC3571D5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7680" y="696960"/>
            <a:ext cx="4640400" cy="3479760"/>
          </a:xfrm>
          <a:prstGeom prst="rect">
            <a:avLst/>
          </a:prstGeom>
          <a:ln w="0">
            <a:noFill/>
          </a:ln>
        </p:spPr>
      </p:sp>
      <p:sp>
        <p:nvSpPr>
          <p:cNvPr id="65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4553CA3-0AB4-4446-AFC3-D1B1B5285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E2A9591-C9CD-4788-87D4-F5B1C69AF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6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6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035192-1F38-4A6E-B84C-77BDB8BF3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54160" y="701640"/>
            <a:ext cx="4626000" cy="3468600"/>
          </a:xfrm>
          <a:prstGeom prst="rect">
            <a:avLst/>
          </a:prstGeom>
          <a:ln w="0">
            <a:noFill/>
          </a:ln>
        </p:spPr>
      </p:sp>
      <p:sp>
        <p:nvSpPr>
          <p:cNvPr id="66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FF128B-24EA-4AD7-8405-8CD336E36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7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7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457D62-907C-42FA-95D7-E49F623A0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3A40B-ADC2-46F4-B3A5-CFCDD6173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9B171-C6F3-4B68-AF15-E54E3E012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954DB7-D0F0-47E6-B516-0D552A1FA2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BFB666-0FA3-4741-9DE1-D47A37B34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CED8AD-B2BE-4716-904D-DCD4C1E493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1E38B3-C75E-4492-B0EC-6C94891608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7404A4-7306-4128-AC77-4DDB4EBF13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F9BEF5-9275-4365-9FEE-ECF30723DA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D14AA9-A853-4535-B67C-B3DDD193B5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8F6DB1-98B0-47B0-BF74-EB94600F29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E131FA-CB54-41FB-83E1-794FDD2320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0BBDB6A-4DBB-4C5B-838C-1333BCB375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FB0E7-0424-4F99-9725-12875487A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876C4D-CEAE-444A-878E-F8621EF7B5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2F5B94-B029-4C81-8A06-377185CA15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31F01C-6CA9-4A8B-88AE-ADEC1B7537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F7BE14-ED38-462E-B461-C95F5E7BB0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BCC761-4484-4FDE-B50C-FA95602121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8D6EF3-9594-49BE-9BE5-79C55BBEFF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F64422-6D41-4A11-807C-A0E580784A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CCE547-944D-432A-A836-8A5FBBCC12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F7693E-5C27-49F5-8F74-505EDFBD14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66E888-0461-4E31-BA5B-052CB20DF5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526C3-D09D-4EB8-9C72-8E00600AD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778F48-1A60-4FA7-A5C4-60A1AC8596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A40F65-2CD8-4B93-B3A3-B9FAFE52056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FBED93-350B-4EE6-AE33-A141E4CAC7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8056F3-60FB-4046-A8E1-E3AAC96FBA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6775E2-25A5-485B-A13B-B01D7C6B52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71676F-199D-47C3-B0A1-1E05B4B783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2497EA-704A-45EC-ABAD-A87D209F47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C85A10-C123-4D2C-B93F-7DEEECC156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BCDD4A-5B6A-4EA1-97D8-0CED00FA56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6DFD6E-0730-48AD-88B9-5EEF39CFF7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FED6F-3A84-437A-A74B-D5DC250B7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3811AB-6023-40DC-808F-0492CD41E5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489C79-DB1E-42E0-ABC7-8D40E4AE23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A6019A-6AF7-46C2-9D79-4245F1AFF4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7108E5-3394-4CA2-8BEA-D84F2F5E986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8BE2A9-FABA-4CB6-8E65-28518F90F9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139B9C-39E6-44DA-BB9B-D406CF2AFD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6C493D-BEC7-4F64-9F9E-ECCEDC19A2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69BFC6-0AE4-463F-85F7-67500D004C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2CADA5-C632-4532-B9E8-1B0DC3ECE3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2FDD29-3E05-42E5-8A71-642EF333B7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37224-EBEF-4F52-82BA-E7765FF84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A3C7C3-5E78-437E-9335-356E102D0D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B77641-24A3-44AE-A1DC-8BFF333272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53F1F9-937A-4235-9C54-9AF6C13F91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CABA3C1-D27A-4979-B691-9437AA5681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37445DF-E311-4ED6-91C8-4B08D50181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82B8D-62E1-4C9C-9C73-A3AFBF21A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E3DDE-4007-4D27-8E73-475830B49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0B51D-47A8-45A7-B010-604983A83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4E1C5-463F-499C-9B1F-AEA286C6E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2F0AF-150F-4A26-86AE-96F9321EE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98366-E721-43C7-B561-5BF2C7E08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0327B-635E-473F-AB33-AE4743447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2735E-B8B4-4D68-8F20-0AB09E4B1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80658-06B8-4860-8F13-1DF6A6C57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07667-BEBC-4F09-9BC3-0624E7B48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746B6-9015-44D1-80AD-4FB928050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30B23D-518B-4F48-8BE9-5C775B9D93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9D10A4-A9FB-4B35-BAA2-5D2D542E1A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6AC71-35BA-4317-8CC4-816CA1295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866D0-C017-4C02-AF22-CBBC8D431C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17E2B-A154-4169-B9A4-7A81F4B08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91160-EC5E-4856-8471-F73A04899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78EBF-B7F9-42B7-8456-03A77EA04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85199-C4B1-43D4-A541-244822201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3FF90-7533-4A9B-82BA-79A180645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AA1DF-FC06-4C00-9FD3-6F7963927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B0C21F-592D-4715-BA62-72C3AF9C8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CB342F-E952-4838-817D-AFE110C775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D11853-5F09-4A21-B903-12BB146CF1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229C03-94BE-40FF-B6EF-BFA256AED7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8EC9FD-B5BF-4D54-AEBF-0EF6FA2DED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22A2FB-41FF-4975-AC32-E4BB4037E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BFAD9-D157-4424-A7A2-AAFCF9A2E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358238-A6B0-42B8-B1E5-A5F258310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67C33-09E4-451B-A909-8E07DE8FA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F1BBB7-AFB0-4CB0-964D-2454814A9D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60B664-D593-4A18-BE51-56EA1B8295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49E40F-9E97-4C6B-A614-27E97DD98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6BDB1-8889-4E09-950B-CCBBDC6065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3F7FE8-CB0A-4FFF-A981-B9062F64EC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0C4771-571C-420C-8262-7F25A56B7C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5801E6-A1E8-4B03-A0C9-D25DFED9C8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A2772A-7542-4BC5-8D09-2294E78FA7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82D8C-5725-481C-A81B-7F9EB2611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60404-50D3-4119-ADCB-28B6BC14A0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CD6100-9276-4DD2-BDC1-C337A3BBF2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66C5BF-8BCC-465A-9762-53326346CC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C02641-1AA8-4934-ACA8-3D69728AD0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1060AE-CF40-484E-A1B7-3CBFBBF5A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01438E-E973-4224-9575-CFF606635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5E4CF-CB3C-4A1D-939A-38DC28ACFF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3B966-A283-446D-8FFA-2D4CD98DB4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AC33EE-29F2-4D5C-B965-E5EB78E3B2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F08B65-2F47-497F-9587-5EB35FD321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B8794-0539-4B7E-A92F-413E2B3A2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1780AF-D7FE-4193-AB21-91C3CEB419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58E791-C92F-4C2D-881F-2DEDA94676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C9A201-8696-4252-8DBA-F464B23BA0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4A8A39-2DB3-4F29-B34B-3CBD4BA3AE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9730C4-2884-42E4-AFAE-200C19B8A9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A7470B-B1C9-4F76-8F8F-E10C667462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5E526B-DB92-4923-AE6F-5947DB1DAB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9AC96E-B740-4248-BC4A-3AE0B42949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6EF2F-72DD-4872-A829-6E44686E1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043A4-985E-4D15-B4AD-59E72A8DF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C7C06-3AF6-4723-AE08-E007AA541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C75ED4-25AC-493A-BEFD-F87DC9BD19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2087F9-EDE1-41C4-BE33-17E9D7B60C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9965DD-1285-4F2E-B8F3-9AADD738EF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65C669-E50D-4D49-A4A2-8FC74467B4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D3C4DF-0660-4CA8-9789-5B81606032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DA700C-38B8-4A40-BB03-C09AA27BF7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6A1E84-1915-46A7-AF63-9629BD6076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599F78-4E02-476B-9551-A8F736FC0A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954F3B-D419-44B2-8335-B0ACA7D3D5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05D5F9-A646-4B5F-AAC4-EB5BF96078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62354-C412-4159-963C-55DB1EE31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356EBE-8C1E-456B-8C84-11B5D45756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D03969-E6BF-474F-963F-FDF09ACD28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AD7270-3AEE-4867-8CA1-BD38F765B8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02EE08-51D9-41A3-B920-383F05AEF3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26AAC2-157C-4024-90AD-16FC637B19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E4D3FE-6214-49E5-93F9-D78CF3B8C9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5E1181-D1E1-44DB-8668-96C72B2111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F9A7E2-E45E-455C-A29D-25B944DA5A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F1E148-DABE-45C2-9A7D-898BD20B8E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838AE6-2381-4785-B609-694BC86E03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AFE67-27DE-4DF3-A927-2AD27BD9D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B195A2-F04D-45E6-9B50-AB2CE0887B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16FF8-7174-4C8B-BF5D-6B4E27C2EC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B0CEF-65DB-40FA-9BA3-BE8098BB21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1CEB10-605C-401B-88E4-4484D5723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16FBE-A5B3-4EFD-BEBD-3DE35DC80A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36DBBB-E94B-406E-80F3-A0CC81C060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F1CB97-FAB6-4F54-9D6E-2C0DC64D63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312A70-3A35-4539-A55E-3FE4794296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55D801-6B00-421F-9763-8B498AC39A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C6F10F-9A90-4F68-9AB8-9165B26227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1F80C56-0C2C-4F59-BA57-C35E554DDD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6BCE91F-8002-45D1-B193-168896474F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F09F834-86D8-4EA7-89FF-5AB80660591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9D6C321-9175-44EE-9DF7-4D1CBDEEE2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01B38C5-CDC1-41BA-A7E1-F6CF3DB464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53FDAC9-6241-4EC5-BC40-6B3B3E271A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027DA21-9CBC-4ABC-95FF-CA679BB5A6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6277792-E0AC-40CF-8EF7-A0A5EB284D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8A37CC9-0DFB-4612-8A7E-8D094DEA8E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9C69725-4CB4-4D10-9015-AF660EA219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3C24511-4F02-489F-ABDB-53B8BEB9B7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3</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6BE0D60-55C5-49E8-88BE-343E265942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67336B-921C-42D5-B6FF-0F3A7B6AD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a:t>
            </a:r>
            <a:br>
              <a:rPr sz="3200"/>
            </a:br>
            <a:r>
              <a:rPr b="1" lang="en-US" sz="3200" spc="-1" strike="noStrike">
                <a:solidFill>
                  <a:srgbClr val="000000"/>
                </a:solidFill>
                <a:latin typeface="Times New Roman"/>
              </a:rPr>
              <a:t>Ad-hoc Meeting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91A53D-5AFE-4D60-BB88-4FECB2C65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ecia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Rui Yang and Joe Levy (InterDigital) for sponsoring the ad-hoc meeting!</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Jon Rosdahl, George Calcev, Face To Face Events Inc. and Verilan for the logistics!</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nder</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md plans to include an item in the March plenary to review a TGmd submission for Annex I changes to complete the DMG OFDM PHY removal</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a:t>
            </a:r>
            <a:endParaRPr b="0" lang="en-US" sz="2000" spc="-1" strike="noStrike">
              <a:solidFill>
                <a:srgbClr val="000000"/>
              </a:solidFill>
              <a:latin typeface="Times New Roman"/>
            </a:endParaRPr>
          </a:p>
          <a:p>
            <a:pPr lvl="1" marL="743040" indent="-285840" algn="just">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9:00am CT – 5:00pm CT @ meeting room DFW</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ning coffee break from 10:00am CT to 10:30am C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nch from 12:30pm CT to 1:30pm C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noon coffee break from 3:30pm CT to 4:00pm CT</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of February 28, about 129 comments are resolved and 207 comments are ready for motion.</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ase refer to the next few slides for the submission and estimated time for presentation</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24CC50-9929-4CB9-96A5-C451FAFF0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Friday morning)</a:t>
            </a:r>
            <a:endParaRPr b="0" lang="en-US" sz="3200" spc="-1" strike="noStrike">
              <a:solidFill>
                <a:srgbClr val="000000"/>
              </a:solidFill>
              <a:latin typeface="Times New Roman"/>
            </a:endParaRPr>
          </a:p>
        </p:txBody>
      </p:sp>
      <p:sp>
        <p:nvSpPr>
          <p:cNvPr id="6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11" name=""/>
          <p:cNvGraphicFramePr/>
          <p:nvPr/>
        </p:nvGraphicFramePr>
        <p:xfrm>
          <a:off x="696960" y="1650960"/>
          <a:ext cx="7913520" cy="4761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5">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15 – 1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30 – 11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7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25 – 122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58C15A-3242-4580-B4DE-14F4AD3DE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Friday afternoon)</a:t>
            </a:r>
            <a:endParaRPr b="0" lang="en-US" sz="3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16" name=""/>
          <p:cNvGraphicFramePr/>
          <p:nvPr/>
        </p:nvGraphicFramePr>
        <p:xfrm>
          <a:off x="696960" y="1650960"/>
          <a:ext cx="7913520" cy="22716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330 – 150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76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6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9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0 – 153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00 – 170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3E1CB8-1630-4C4A-8391-730E7B389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aturday morning)</a:t>
            </a:r>
            <a:endParaRPr b="0" lang="en-US" sz="3200" spc="-1" strike="noStrike">
              <a:solidFill>
                <a:srgbClr val="000000"/>
              </a:solidFill>
              <a:latin typeface="Times New Roman"/>
            </a:endParaRPr>
          </a:p>
        </p:txBody>
      </p:sp>
      <p:sp>
        <p:nvSpPr>
          <p:cNvPr id="6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21" name=""/>
          <p:cNvGraphicFramePr/>
          <p:nvPr/>
        </p:nvGraphicFramePr>
        <p:xfrm>
          <a:off x="696960" y="1650960"/>
          <a:ext cx="7913520" cy="4213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beamforming in B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10 – 093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10.38.2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35 – 094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529 – on EDMG BRP packet dur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45 – 100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Partial SLS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30 – 113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7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CID13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1 BF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30 – 115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BA2805-D967-456A-B027-43E032D8B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aturday afternoon)</a:t>
            </a:r>
            <a:endParaRPr b="0" lang="en-US" sz="32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26" name=""/>
          <p:cNvGraphicFramePr/>
          <p:nvPr/>
        </p:nvGraphicFramePr>
        <p:xfrm>
          <a:off x="696960" y="1650960"/>
          <a:ext cx="7913520" cy="11476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50 – 123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330 – 135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2 – 3, 2018</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73D700-3A17-4796-AEE7-702A5E330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1C568C-22EB-4C01-8017-91911E18A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March 2018 ad-hoc meeting on March 2 and 3,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769A26F-152B-4367-B4A0-F6D5B19196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A0E29CF-D5C4-4A88-8F82-5DD792D8C3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2256B5-1B09-4C74-ABD8-B950CF7E1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0BAB65-F58C-413E-84B3-6C2050180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83E6351-14D1-44D6-B155-F5AB72D743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108989-85FA-4BA4-9FEF-68378C4E3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 ad-hoc</cp:keywords>
  <dc:language>en-US</dc:language>
  <cp:lastModifiedBy>Edward Au</cp:lastModifiedBy>
  <cp:lastPrinted>2014-11-04T15:04:57Z</cp:lastPrinted>
  <dcterms:modified xsi:type="dcterms:W3CDTF">2018-03-03T02:54:25Z</dcterms:modified>
  <cp:revision>4195</cp:revision>
  <dc:subject>Task Group AY November 2015 Meeting Agenda</dc:subject>
  <dc:title>18/0351r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