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15CF9CD7-6452-42DB-BDB7-0C77822153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016F8B-A2FA-4B1C-8AE1-8EDEB5450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54160" y="701640"/>
            <a:ext cx="4626000" cy="3468600"/>
          </a:xfrm>
          <a:prstGeom prst="rect">
            <a:avLst/>
          </a:prstGeom>
          <a:ln w="0">
            <a:noFill/>
          </a:ln>
        </p:spPr>
      </p:sp>
      <p:sp>
        <p:nvSpPr>
          <p:cNvPr id="6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54160" y="701640"/>
            <a:ext cx="4626000" cy="3468600"/>
          </a:xfrm>
          <a:prstGeom prst="rect">
            <a:avLst/>
          </a:prstGeom>
          <a:ln w="0">
            <a:noFill/>
          </a:ln>
        </p:spPr>
      </p:sp>
      <p:sp>
        <p:nvSpPr>
          <p:cNvPr id="6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0797B8-10AA-4517-8817-FD5EFB6BC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54160" y="701640"/>
            <a:ext cx="4626000" cy="3468600"/>
          </a:xfrm>
          <a:prstGeom prst="rect">
            <a:avLst/>
          </a:prstGeom>
          <a:ln w="0">
            <a:noFill/>
          </a:ln>
        </p:spPr>
      </p:sp>
      <p:sp>
        <p:nvSpPr>
          <p:cNvPr id="6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387AD2-CC51-465E-BFD2-1F75E4A31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54160" y="701640"/>
            <a:ext cx="4626000" cy="3468600"/>
          </a:xfrm>
          <a:prstGeom prst="rect">
            <a:avLst/>
          </a:prstGeom>
          <a:ln w="0">
            <a:noFill/>
          </a:ln>
        </p:spPr>
      </p:sp>
      <p:sp>
        <p:nvSpPr>
          <p:cNvPr id="6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C76546-83A7-4236-A261-AEEA10360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4DBC32-3F4A-49D7-8FE3-5FB2CAE98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CB1E19-B781-4EDB-8294-B31087EB0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4160" y="701640"/>
            <a:ext cx="4626000" cy="3468600"/>
          </a:xfrm>
          <a:prstGeom prst="rect">
            <a:avLst/>
          </a:prstGeom>
          <a:ln w="0">
            <a:noFill/>
          </a:ln>
        </p:spPr>
      </p:sp>
      <p:sp>
        <p:nvSpPr>
          <p:cNvPr id="6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DC415B-E1E5-473D-BE1F-6C7622444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43C949-B94A-4076-82D8-4A56788B9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FD4D7E3-4D96-4796-945A-0E6CC14D69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7680" y="696960"/>
            <a:ext cx="4640400" cy="3479760"/>
          </a:xfrm>
          <a:prstGeom prst="rect">
            <a:avLst/>
          </a:prstGeom>
          <a:ln w="0">
            <a:noFill/>
          </a:ln>
        </p:spPr>
      </p:sp>
      <p:sp>
        <p:nvSpPr>
          <p:cNvPr id="65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91F1F39-492C-4F0D-AA46-7BCE7EA311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7680" y="696960"/>
            <a:ext cx="4640400" cy="3479760"/>
          </a:xfrm>
          <a:prstGeom prst="rect">
            <a:avLst/>
          </a:prstGeom>
          <a:ln w="0">
            <a:noFill/>
          </a:ln>
        </p:spPr>
      </p:sp>
      <p:sp>
        <p:nvSpPr>
          <p:cNvPr id="65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3A5E3A5-BB18-4782-B016-00768F425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37F7667-8504-4E21-97A9-7D339BABD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6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6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59CD4A-0530-4E2B-BE54-3D4BE3851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54160" y="701640"/>
            <a:ext cx="4626000" cy="3468600"/>
          </a:xfrm>
          <a:prstGeom prst="rect">
            <a:avLst/>
          </a:prstGeom>
          <a:ln w="0">
            <a:noFill/>
          </a:ln>
        </p:spPr>
      </p:sp>
      <p:sp>
        <p:nvSpPr>
          <p:cNvPr id="66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A3F515-7FA3-41AE-9AAD-B831CA4CB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7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7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1388F6-F4F2-436B-9BAA-160575C48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1DF53-89F6-4BF6-82ED-ABAD94CD5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5E1BB-B6C1-406A-9B8F-07DA5C1CD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85BB18-EC10-45EB-8E54-9F8817E9A6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FFC5ED-7BE7-48D8-905C-FFCCF7592F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D2C8CA-D972-41AD-83C0-58792BEE02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76B76B-C2B0-4A25-8C83-66973AC5AB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5538E3-6C27-4BAD-A456-4541E29081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7D11E9-D10E-4D60-B6E5-A702358EA0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3D222B-E96A-49CD-B4C8-40BC8DDBC4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13C0CB-0E3E-4B7C-9654-1AEED9F033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445423-864A-4A1F-B7CE-1A5368518C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8FEC66-354A-45A4-85C2-1B10B2A9E3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CEDD3-51DB-45E7-BA73-92609603C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A888B2-92BF-4395-B242-2C8F24D21A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9F2AC1-B0FA-47F8-AB87-D2A81C8E73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D8522F-7B40-4BE8-B75D-1CF11DEA0F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78244D-981C-4211-8BC6-FD92B75B60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6DD518-7556-499B-A8D4-6EAB6D7439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27CC26-622E-4A44-8F54-1B6542ED74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2517F3-1007-49B8-BEEE-28A2FEAED0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C5C554-C5A8-4038-B8E9-770DB65422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93F4A9-325E-415C-B6E1-68127AA3B0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7DA9E8-66DC-4C59-8B1B-FEE277B2E1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A5FDF-6227-4F75-BD32-4C474D57E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38491A-E1CB-48E9-87FB-8F7B80436A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C6362F-B436-4CE2-A1CD-FD1A9EB37E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488538-8133-4772-B167-9DACE1AA4A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D55872-C4BC-47B1-8C77-9641B691AF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5FF1BA-E863-4193-8BB3-31BEBBBAB5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2D91C3-04A8-47BA-8FE3-FB821A30FA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741267-4BFD-41B3-848F-1189AD1EE3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578D1F-BC9F-43F8-ACCA-D0AD2A42F4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CFD6B4-4BD2-42F3-B592-66F48EB79D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A60D8D-42C8-47D3-A767-78BD11FB11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37624-D21D-43AA-B406-4D35AE99A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1CEB4F-1F13-4ACD-9961-486BFD35CD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06AE690-5E72-452D-B5C0-22CC5CE261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63A5EF-88FE-433E-967D-264C4229FF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232DB40-5D37-4799-AE9F-86E196D9C1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AE0961-7ECA-4F65-8BE3-D06800D83D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738F9E-4830-44DF-8E32-624187CC31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CEA209-F8CA-454F-BE1B-03A44DE2B2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CCD6C2-AC06-41DA-8BD7-0433A1F13F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D6973E-206F-469E-84FF-DFF449E2BD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67AC7F-94CB-4389-8218-8A86A11F07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A6450-F0DB-4EDB-8FEE-6812AAF77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F1E35D-1696-4AFD-8C75-9782EBFB4F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9C8C45-5F9D-4C18-AB72-85019B7A17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30D250-FF5C-49F3-B0A8-CBB3DB3704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6541C9-476B-4B7E-9B43-A2388E47435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E0C0BD5-C230-4AF0-8D29-B463B3143F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364E0-CF61-404E-94EB-415C31C0D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FC658-88C4-4314-913F-4A8567790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5F2A2-C4FD-4093-A793-92093747D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3DF90-22BC-43B6-9239-840A85B4C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0A4E2-E248-4478-AC64-EB592DE36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30553-016D-4AC8-9C32-C2F87E161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53028-01B9-430D-A7D0-366499DFB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FEE0D-D463-4301-9506-7797E91D3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26AD4-0D36-4C39-AD0E-F5C381481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284C6-807D-4465-8BC4-906946722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38EC6-FBDC-4B44-AAFB-0273CA2D4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3E2BA9-B74E-43FE-BF7E-D4171196C4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9D462-A5BF-4533-B9CB-15526E4C66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48D132-9C8C-4CE2-BB7A-213E85D44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04ADF7-7B36-4086-88DC-502F66560E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05CC05-6586-442C-8190-E4ABAAC5C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14318-4FB3-4776-A739-00CCF23FE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6DFA2D-C4B6-4A19-9FE1-0E7D0AB529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948CDC-E6FF-4604-90FA-6897B2595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A49FC-6ED7-4E20-98A2-357644368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47552-1B4F-40D3-9FE6-7930D2A97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ED838-5C40-45FA-82FE-9484E515D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F921BA-B7A2-4A25-A32A-CA1CDFE5F6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3A0CB8-ABBB-42BC-937E-F0F23CCE78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610575-9A2D-448D-9BBC-4B3675FB6B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46146B-5BCF-4910-89B6-456AED7730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755BD-85B2-403D-B226-42F98A2DF5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3D3A4-7B9C-4B83-9005-66EB6EB2C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A65658-64BF-4CAD-AC30-72A5AF9B5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608AF3-F7DD-4D85-9AFB-CD2ADEF3F6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8DCE4D-3AE3-49A2-932B-D7C0A6E2D0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28453-2EF6-434F-9397-7317FA0000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5C69A-7BAD-4A10-9F87-D4CD3B097E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EBCA8-4313-47D5-9054-D5DE10A1B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49297F-EE4A-407E-AEDB-482E7AFF61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976CC0-D658-4D17-AC3E-5E11FB9E45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FDB09B-6DA4-49F8-A370-919A716F54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DBBF7A-78FB-4C90-A3B0-1E71721CEC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16C18-CF21-4A45-8887-E5FB6F4E3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F12A29-3434-43B8-9D15-4F8E42EAE9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227ECE-3495-442E-9EBE-E7801A4C00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B475D8-6548-4A88-BB0F-78F5CE8153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998827-B067-4DA6-96ED-29FA786ECD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97D67D-6EB8-4280-9484-5E91D725F1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8F434-AAC4-4EF7-ADAF-28EACDEE8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CA5750-86DE-4D01-9C39-6CCD4A8C89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ACC546-716B-4CAE-A36C-2C7FAE7FC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78B06F-D75B-485D-A343-84E42E84A6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003BB0-48BA-447D-8D2D-44CCA63F84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2A2B-AD14-4165-87C9-E8A66F330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F558E2-DD94-450A-A1AF-B1432A3DA0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E520E5-3FCA-489D-A0D6-A1B9B34EC2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3597CD-9FBF-449E-A84B-CB380949D3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FDA790-5FEC-4D3E-9D2F-1E24DAF670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3FEAC-6093-42E4-9FE9-54A3797004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B7322A-E836-412E-B6B3-47A57E7457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424BC1-A3EC-425C-8918-D4AFD92068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B1A9D0-2D58-4A2C-A430-701A3076CD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707E18-CBB7-4F5C-AF25-CE889CCF6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D670D8-7F39-4821-B263-0ECFE17B52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C45E3-F822-45B0-B450-E35CBE3B6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C4D1B3-7502-4989-AA84-1C0720302E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9C523A-2B2A-435E-85FA-F31B077827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81132B-0088-441C-B51A-6179B87E51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23BE79-AF4D-4D03-93EA-68E78FBEE1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56C07A-2E9B-4063-A6B5-1DC7CA5446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C33896-38D5-449F-AFB4-1703664F15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6A1BDB-83BA-4721-B843-398B6A455B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480B7C-1209-452E-A6F0-656B90A74E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5EBE02-5902-4755-A9C3-4A4E0DFDF0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1C0464-5170-40E7-9361-C5FCC29DCC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1425F-9C1F-4E59-AB11-5A347096E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FFE93C-4911-4CFB-A2E7-32B2D43964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37F3C-B6E4-4A9E-A78B-BA398259F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065714-C96C-445F-AFAA-F73C76C71E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CB556E-A1CE-4495-B7F5-23F758E296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B4DD88-0DCB-4B6E-A5F4-97E35416B3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3B1268-DA94-4B9C-B876-D4466CB964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616BAA-E28B-4D0C-B3D8-8779A20D18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30B1DE-6C95-40FA-BE5E-FD1B3CD215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E694BC-F21D-42D5-A656-FE18D9E347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76AAD2-190D-4EBE-B4F6-EE13ECA36A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CF170-2E52-4E7E-9273-1DBC09212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3A3863-B0D1-4E06-8D3C-D44CE2A6AB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F3C98E-CCFC-464A-9651-A2FE6FF27A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F9D9FB-246D-46B6-9F71-4BBEEE457D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E13153-4CAB-41B4-9101-681A4F6F53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EAEA59-9BB4-4DAF-8EF9-17010D69B2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74ECF5-DB91-4547-B1B7-FA5147360F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6E4348-768F-46E4-A263-E435FFE54A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38C180-A7CF-44A0-A2BE-7D4B43CC13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82A93F-6C68-4C92-BB1D-32FE1DDA5F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E67E9A-DFAC-4321-9BB9-439B0CC894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8419A49-D7EF-443E-80D7-58F0B6A5C4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7A6B149-DEE0-43C6-880A-3D8B625714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646B038-1E5F-4039-883F-196474117B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7515D16-C5A7-40D1-B28D-F311C6D5FB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E329410-C5D5-4B77-A048-AA92B7E2F3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B3291F6-4909-4426-A193-EC492D3EAE6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AA934FF-3D02-4B53-9474-04CC973E2A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0B4D6E1-5473-4289-AC99-E717AEC2A3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46E0DD4-FF01-442F-9C9D-C2410EA02F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07D42F0-541F-4BEA-9A12-2A71040E96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2277227-B07F-40A4-8782-78E56F16F74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51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61EBA25-29A1-446E-8615-E9A00EF3DF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EF1502-9346-4E08-9295-81E15243D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a:t>
            </a:r>
            <a:br>
              <a:rPr sz="3200"/>
            </a:br>
            <a:r>
              <a:rPr b="1" lang="en-US" sz="3200" spc="-1" strike="noStrike">
                <a:solidFill>
                  <a:srgbClr val="000000"/>
                </a:solidFill>
                <a:latin typeface="Times New Roman"/>
              </a:rPr>
              <a:t>Ad-hoc Meeting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0ED32C-BBC6-42D9-92DC-78BF05897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ecia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Rui Yang and Joe Levy (InterDigital) for sponsoring the ad-hoc meeting!</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Jon Rosdahl, George Calcev, Face To Face Events Inc. and Verilan for the logistics!</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nder</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md plans to include an item in the March plenary to review a TGmd submission for Annex I changes to complete the DMG OFDM PHY removal</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a:t>
            </a:r>
            <a:endParaRPr b="0" lang="en-US" sz="2000" spc="-1" strike="noStrike">
              <a:solidFill>
                <a:srgbClr val="000000"/>
              </a:solidFill>
              <a:latin typeface="Times New Roman"/>
            </a:endParaRPr>
          </a:p>
          <a:p>
            <a:pPr lvl="1" marL="743040" indent="-285840" algn="just">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9:00am CT – 5:00pm CT @ meeting room DFW</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ning coffee break from 10:00am CT to 10:30am C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nch from 12:30pm CT to 1:30pm C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noon coffee break from 3:30pm CT to 4:00pm CT</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of February 28, about 129 comments are resolved and 207 comments are ready for motion.</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ase refer to the next few slides for the submission and estimated time for presentation</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42CC3A-A124-4F9D-97A2-C6889C0DD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Friday morning)</a:t>
            </a:r>
            <a:endParaRPr b="0" lang="en-US" sz="3200" spc="-1" strike="noStrike">
              <a:solidFill>
                <a:srgbClr val="000000"/>
              </a:solidFill>
              <a:latin typeface="Times New Roman"/>
            </a:endParaRPr>
          </a:p>
        </p:txBody>
      </p:sp>
      <p:sp>
        <p:nvSpPr>
          <p:cNvPr id="6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11" name=""/>
          <p:cNvGraphicFramePr/>
          <p:nvPr/>
        </p:nvGraphicFramePr>
        <p:xfrm>
          <a:off x="696960" y="1650960"/>
          <a:ext cx="7913520" cy="4761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20 – 09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40 – 1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30 – 11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7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10 – 11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20 – 11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50 – 121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BA6256-D28B-4AD2-8288-EE0A2BC76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Friday afternoon)</a:t>
            </a:r>
            <a:endParaRPr b="0" lang="en-US" sz="3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16" name=""/>
          <p:cNvGraphicFramePr/>
          <p:nvPr/>
        </p:nvGraphicFramePr>
        <p:xfrm>
          <a:off x="696960" y="1650960"/>
          <a:ext cx="7913520" cy="3195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330 – 14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30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430 – 15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00 – 16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8A7632-0A4E-4939-8437-09645C610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aturday morning)</a:t>
            </a:r>
            <a:endParaRPr b="0" lang="en-US" sz="3200" spc="-1" strike="noStrike">
              <a:solidFill>
                <a:srgbClr val="000000"/>
              </a:solidFill>
              <a:latin typeface="Times New Roman"/>
            </a:endParaRPr>
          </a:p>
        </p:txBody>
      </p:sp>
      <p:sp>
        <p:nvSpPr>
          <p:cNvPr id="6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21" name=""/>
          <p:cNvGraphicFramePr/>
          <p:nvPr/>
        </p:nvGraphicFramePr>
        <p:xfrm>
          <a:off x="696960" y="1650960"/>
          <a:ext cx="7913520" cy="4762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beamforming in B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10 – 093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483, 1546, 15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35 – 094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529 – on EDMG BRP packet dur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945 – 100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Partial SLS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30 – 113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CID 13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1 BF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30 – 1150)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50 – 12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ECC512-C27A-4FB4-891F-07708C4CB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aturday afternoon)</a:t>
            </a:r>
            <a:endParaRPr b="0" lang="en-US" sz="32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26" name=""/>
          <p:cNvGraphicFramePr/>
          <p:nvPr/>
        </p:nvGraphicFramePr>
        <p:xfrm>
          <a:off x="696960" y="1650960"/>
          <a:ext cx="7913520" cy="1468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B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205 – 1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2 – 3, 2018</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3C137C-7CC7-464A-865F-8E4C3C20D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9DF72D-3E0A-47D8-8D5D-E0108F07D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March 2018 ad-hoc meeting on March 2 and 3,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B35BCF0-6F52-464A-A5B5-BACF75C9C2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5B30E12-FB1B-42BD-A201-EBF19EA960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B32594-F28C-4686-B3F7-1A9DD8AD9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588D81-13A6-4786-AE97-C76D09B76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77A5DD3-592C-4AA1-985E-11F811A523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94F468-77F7-4528-A1F1-3066E0650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 ad-hoc</cp:keywords>
  <dc:language>en-US</dc:language>
  <cp:lastModifiedBy>Edward Au</cp:lastModifiedBy>
  <cp:lastPrinted>2014-11-04T15:04:57Z</cp:lastPrinted>
  <dcterms:modified xsi:type="dcterms:W3CDTF">2018-03-02T02:12:18Z</dcterms:modified>
  <cp:revision>4175</cp:revision>
  <dc:subject>Task Group AY November 2015 Meeting Agenda</dc:subject>
  <dc:title>18/0351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