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9864B50-69D4-4CC9-B4C2-FFE386C189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C1F2BB-8F5D-485D-889A-142A4F847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AC47C8-9046-4FFF-8FD7-8105B320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ED446D-055B-4A10-8FC4-E5C77632E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7C1D31-2855-46AC-9765-FEC1336B7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51582A-E24B-4139-9240-714F836BB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3D6E45-4BD1-41BD-B809-2A09AA74A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83A7B1-141F-4858-A0D8-32236E0E6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7CB878-B017-4639-8563-BB1038358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713AE0C-1FCE-4E41-8C0D-BB952114D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0BCB8C5-2388-40EE-AD02-71601001F1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DB350E-0A1F-4FC6-94F6-2825ECB93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5660187-9E46-4ED6-BC54-9B4D472D2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1C0AD3-6ED4-4DA7-8FC9-6E140DAB4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372306-205A-4989-BF9B-B519BC78C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E1F4DC-C54B-4637-9E52-CF5715BBF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4ACC3-1078-46FF-A148-16011265D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336F-8194-405F-8515-503E96FE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464A1B-CA7D-4216-A215-E30F57226B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9F717-5946-4491-A660-CD27DA5B96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4E025-1B39-455E-A764-D9FB359971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70F91-796F-4FD4-A842-EAD7B0907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0A316E-5550-4F52-A672-6B5594650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DD909-B39A-4F0D-9E39-F38779C6E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E346EC-1746-4F0C-90F8-2A834C1A8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B65E81-21E9-4546-B9D9-FE26452BAF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CEB946-89CD-4C15-A58B-F0A9EF7E31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9788EC-F260-4FC3-A47D-E4871648A5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1B74F-9930-4F37-92B1-4C7D42BA0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523698-CA5E-493D-9549-0EC37D5E0B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2231A2-7180-45A0-A11C-E1A19DC7C9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B91C70-0320-46A8-80A7-823830ED8A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55123D-CCAD-4F9A-BCAE-62D59E96EF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696ED0-6668-4BC3-A2BD-48B8AE95D7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54B541-86C2-4E95-A31E-5C7C2DB38F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E2A18-6650-445C-89A5-68E6303D1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FF674E-75BE-4358-A728-63E7FFEFAC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01CD5D-EFE4-476E-8C73-1FDC2EE4E8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4FDFF1-470D-4D2B-A8A5-0AFF907364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8D2CB-EF36-47E1-A543-26C46BF78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5A5559-DB2E-43AE-9E70-52FE75FC5F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60C521-FC1C-438D-A5D6-9951C1B491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65C28C-D4C4-4253-97DD-1686EEF713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73B018-5122-43D8-82A8-41661028AB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8DF7D9-D0F9-45EB-9923-417329F8C6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0B6EA2-622A-4A1C-992C-5E59BA4DA9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6D91D4-04ED-4DE2-9FE1-65D881BEE3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F106A0-E5CC-4AE4-BC5B-4592B61427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90BBBA-533A-4D9F-A8B8-93DAF8C71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47A6E3-B02C-4F1B-8737-1DB87A2019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99704-FF49-4261-A4B2-9FEE4693D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CCCB8C-83C7-4AF9-8E19-DCBD17DB5F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46CE14-D84A-46A2-9654-F0DA97739F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652538-DCA1-409F-BCA1-55114023AF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C1E34B-B8E3-45DA-97A4-FCC1E1F4C3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A76E34-34A4-442E-B082-E03D23E4BB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1A1112-90B4-436D-BB30-31A9EE38C3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36AB17-B5D2-46B2-B7E3-AC6FED6D29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118C3C-6EF2-419E-BFE2-ADB5D0AD7C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920591-A2E6-4C8D-87B7-D1118F8B41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B5A8B7-662D-417C-B561-F6A3EE8E02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68191-BA76-4257-B140-B15D8E63D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8BA6D4-2F87-425F-9D9C-35AF90F252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693495-A9FF-424F-8330-4858AABA0B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2F820E-02A4-4B92-978B-681C37E51B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9A0F5A-DCDD-4ED4-87B8-81103189F6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E4F35D-87FB-4720-9EFF-2EE327900D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FC79E-ACA2-4751-B61F-ADB59A790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7A08D-B78C-4708-A9CD-93120ECCB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D9C82-5396-42FD-9929-FAFF4D902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54606-3100-4A8B-8F03-9BED87B7F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0912-C215-4D2C-AF99-634C3973F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754A-0018-404F-91C4-D8531E28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7B2BE-D3B9-431E-BCF1-7CAA6D202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36964-F0B9-4611-A1FE-5A4F2B5F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1EDC5-939C-4343-95DF-FF713251E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07522-E872-4E45-A8FC-AF3B8F0D5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61AFB-E0BB-489C-895A-BC266D7B2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E7E7A-6642-4373-850B-3E55D7394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0635C-6B94-45A8-AC19-30DB70CB3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3860E-DDF0-48F6-899E-089DD86B3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ADD91E-B56E-4AF9-BA6F-0E3DBC19F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35C6C-4D0C-45F3-8719-8D1FF101D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E289D-9E13-4A39-8F09-C2EA86EC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AED12-F12A-495D-9A60-F35D8184D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4C38D-1C33-40C3-A0D5-ACE99F61B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DF5AD-9614-4483-BF15-69E64EE77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51E9D-94FB-43D4-9F95-A33F4682E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D4141-4BA5-4384-8FD1-DA7F9875B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D05CA8-7FCD-4439-85E5-777C1DCA5D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DAF04B-E9FD-495B-9B44-76D67E8D02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C06FB9-B2CF-44CD-BFD7-8A4544632F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32113-62A7-425E-B7F4-F4640D89A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A5A80-90B9-41C4-BA7B-58C2C5262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CCBA-1BE3-4198-B646-C36D28A91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588ED-B433-4ADE-8F40-B5C5D6C92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32BD1-EFB7-4C76-84DD-01AACDE10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4935B-FB2F-43E0-B961-35C6B9656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6B08B-A731-4325-89DF-C095F13F6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D9DE2-CA3F-4C5E-A873-899E1DE12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B2C22-B1F6-4E2C-BE1B-6C2B3A967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E7DE2-0CAB-4605-97F0-B1571B0B3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77B1E-77EE-45FD-895E-267A8591D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EF21B-0FAA-441B-BB73-292F13A3B0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796DB-3225-4577-94A6-5AE846A49A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7A67B-970A-42D6-947E-5E50D83C6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EC285F-208D-427B-B538-B838E8247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973C41-EFAD-4A1C-BF46-92D102ADB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E7D74-F5AE-4575-8E8A-BC9C1E850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639BB-3F5B-4B47-AE3B-32597DE017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9382F-5C68-410E-8822-533D9C72C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B93B9-58A9-4E14-97F9-2313DDB1C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EC93C-9ABA-416C-B455-BD05700F9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8AE15-8612-4F4C-A2C9-71B663397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A7A68-116A-4033-8E74-F3D5112B7B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90A52-5189-438E-90E3-F08DEC1785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6ED9-DCB8-428C-B463-328AE46D5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19C52B-10D8-4611-BB36-B35489CC2A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D80C09-2AEF-4775-871D-11645F60DE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9711C-5188-4A0A-892C-07B418C4D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C8B13-D7A9-4596-9C32-F00613774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84579-CE39-4BB0-9CEA-31EAD15BC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018F35-1CBA-4FA2-A082-F301788D2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812E96-C43C-476D-9D26-E20FFB2FEE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704DD9-3B62-44EF-8A02-B7327706F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84FB0-37CC-4457-B735-FA14A1F16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3D1B5-3CFA-49E7-9EE4-BA2274DDA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F6E9-332E-4781-BB02-64003DAA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C725D-9741-4971-A019-D34CFBD9B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15862-7E56-4FC3-BD17-917250CFEB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598945-C9F8-4DD4-9373-B867190EE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F45BCE-4D57-42E9-A2DE-D8E340CA5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B30E0-1802-44F1-BDE7-74D143B0E4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B9FF0-183E-49A3-9843-7A665E5FB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B8032-529B-4ABF-B10C-031532D2C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06DB2F-B9AB-462A-91E1-9A53B1C574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33C6A-AB20-4B22-BC3F-2470BE94C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3F6FA-43B8-4F83-96F6-DC263FEDF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7275-A6BD-43B1-A7A8-0DDB84D2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9DBD7-9F10-477A-B91B-567E71C63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C3CCC-0309-4E06-8D51-F50194289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A79382-355B-4F7B-82B5-48922AF28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8600E2-2E9F-4C8F-B871-01A22C43E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A1025E-8793-4BB4-B83B-F4D70A3182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333D93-91C3-4192-8A9C-99538CE1A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B61B1A-5696-4EE2-AC4B-4C150C532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DE8CE-4A9F-4A2C-85B2-1B09B7FBEF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A8C76-E09A-48C4-A78E-3BDAE9FFBB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84874-FB86-4E7F-A26A-8D67FC4B8F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DA8BB-001A-4B8C-B370-26078C252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68808-ABA4-403B-B64D-D24BAFC21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110C3-2277-47EE-B126-EBDA518172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3FA9D-000D-421F-9E2E-6CAB588B0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9B2E0-B2E8-4140-A93C-8BAEFB44E3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CDDF5C-B4A2-45F3-BE13-11F04EA270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A66446-20CB-48A9-9EC0-390BD618B9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5224A4-CFB8-43C4-822E-3E638BB25D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A602C2-E452-4E3D-90F7-40597FC6DD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BB48C6-EE36-4A38-A032-D908777005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D53D16-D196-4097-B77F-FA11203330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B621427-C765-4594-B730-1C618BBE36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794590E-36AD-4938-B0E2-DEF11A3DDD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D91475-710D-4250-8FE8-63A5E1C1B3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87BED7-F9CD-41FD-A743-F9E2FFFCC7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73CC5F-49A8-4521-87D2-CCA181A866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0B73629-9D08-4647-8213-FC85E42582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74D87E-82CF-45BA-A7E9-FF97EAC80E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FAB6BB8-5B9F-4A78-9EDD-9E8A7B1C0E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B397866-B393-4D90-8E91-168FE83E1A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E2339B-CAD7-451B-A587-2B3F582591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1F1909-7F2E-4E0B-A509-36F4EB8F71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EA52E36-0A8D-4689-9192-E6FBACBD3E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6CE19A-78CC-45B8-A18F-F7DB98518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a:t>
            </a:r>
            <a:br>
              <a:rPr sz="3200"/>
            </a:br>
            <a:r>
              <a:rPr b="1" lang="en-US" sz="3200" spc="-1" strike="noStrike">
                <a:solidFill>
                  <a:srgbClr val="000000"/>
                </a:solidFill>
                <a:latin typeface="Times New Roman"/>
              </a:rPr>
              <a:t>Ad-hoc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B352B1-A91B-4610-B81F-4F1D44E7E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eci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Rui Yang and Joe Levy (InterDigital) for sponsoring the ad-hoc meeting!</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Jon Rosdahl, George Calcev, Face To Face Events Inc. and Verilan for the logistic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md plans to include an item in the March plenary to review a TGmd submission for Annex I changes to complete the DMG OFDM PHY removal</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lgn="just">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9:00am CT – 5:00pm CT @ meeting room DFW</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ning coffee break from 10:00am CT to 10:30a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nch from 12:30pm CT to 1:30p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noon coffee break from 3:30pm CT to 4:00pm CT</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February 28, about 129 comments are resolved and 207 comments are ready for motion.</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refer to the next few slides for the submission and estimated time for presentation</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46AEEC-5253-479E-A4F7-46DE96A11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morning)</a:t>
            </a:r>
            <a:endParaRPr b="0" lang="en-US" sz="3200" spc="-1" strike="noStrike">
              <a:solidFill>
                <a:srgbClr val="000000"/>
              </a:solidFill>
              <a:latin typeface="Times New Roman"/>
            </a:endParaRPr>
          </a:p>
        </p:txBody>
      </p:sp>
      <p:sp>
        <p:nvSpPr>
          <p:cNvPr id="6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1" name=""/>
          <p:cNvGraphicFramePr/>
          <p:nvPr/>
        </p:nvGraphicFramePr>
        <p:xfrm>
          <a:off x="696960" y="1650960"/>
          <a:ext cx="7913520" cy="4761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20 – 09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40 – 1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10 – 11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20 – 11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50 – 121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6AF90D-6C24-477B-9DB6-474BAF701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afternoon)</a:t>
            </a:r>
            <a:endParaRPr b="0" lang="en-US" sz="3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6" name=""/>
          <p:cNvGraphicFramePr/>
          <p:nvPr/>
        </p:nvGraphicFramePr>
        <p:xfrm>
          <a:off x="696960" y="1650960"/>
          <a:ext cx="7913520" cy="3195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4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30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430 – 15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0 – 16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5F1D4F-EA34-4F23-A0EF-157FD9629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morning)</a:t>
            </a:r>
            <a:endParaRPr b="0" lang="en-US" sz="3200" spc="-1" strike="noStrike">
              <a:solidFill>
                <a:srgbClr val="000000"/>
              </a:solidFill>
              <a:latin typeface="Times New Roman"/>
            </a:endParaRPr>
          </a:p>
        </p:txBody>
      </p:sp>
      <p:sp>
        <p:nvSpPr>
          <p:cNvPr id="6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1" name=""/>
          <p:cNvGraphicFramePr/>
          <p:nvPr/>
        </p:nvGraphicFramePr>
        <p:xfrm>
          <a:off x="696960" y="1650960"/>
          <a:ext cx="7913520" cy="4762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0 – 093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483, 1546, 15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35 – 094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45 – 100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3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 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30 – 115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50 – 12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19AA66-76E4-4EB4-9828-1604943BC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afternoon)</a:t>
            </a:r>
            <a:endParaRPr b="0" lang="en-US" sz="32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6"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205 – 1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2 – 3, 2018</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FE9728-39EE-4354-8346-92AF6AE41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E68E54-0B25-4F34-90D0-E6D74D3CC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March 2018 ad-hoc meeting on March 2 and 3,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8BEC5E7-6412-45CD-BB6E-3BB729BB9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21405E0-8785-4F44-9A6D-79955664FC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E0775D-6C15-4066-AE80-E79EEB135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BAB9A-DFD7-4A60-825C-F3475AB3E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7301800-A77B-4745-BDEB-4BA418464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378180-652B-44F8-BA8D-5C3D78F72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 ad-hoc</cp:keywords>
  <dc:language>en-US</dc:language>
  <cp:lastModifiedBy>Edward Au</cp:lastModifiedBy>
  <cp:lastPrinted>2014-11-04T15:04:57Z</cp:lastPrinted>
  <dcterms:modified xsi:type="dcterms:W3CDTF">2018-03-02T02:12:18Z</dcterms:modified>
  <cp:revision>4175</cp:revision>
  <dc:subject>Task Group AY November 2015 Meeting Agenda</dc:subject>
  <dc:title>18/0351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