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87A663C-A2A9-4162-91CD-C3959B07F9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52EF87-3DDD-4A9F-B192-5EFAFCB65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54160" y="701640"/>
            <a:ext cx="4626000" cy="3468600"/>
          </a:xfrm>
          <a:prstGeom prst="rect">
            <a:avLst/>
          </a:prstGeom>
          <a:ln w="0">
            <a:noFill/>
          </a:ln>
        </p:spPr>
      </p:sp>
      <p:sp>
        <p:nvSpPr>
          <p:cNvPr id="6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999C44-43A7-4D65-9C61-634C185B5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9A051C-2EF0-4D37-A881-5A58B4891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D5F687-6661-462B-BAF4-5C970AE82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571D81-7941-442E-AB0B-F5B01CB2E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1991E0-CD6B-4271-94DB-D493CCE9A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2448E8-E8C7-40A9-BFD8-40ADD1778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151D7E-F4D0-4674-BEFE-42C02266E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0458985-C40A-4987-9342-46DDA8DD8A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7680" y="696960"/>
            <a:ext cx="4640400" cy="3479760"/>
          </a:xfrm>
          <a:prstGeom prst="rect">
            <a:avLst/>
          </a:prstGeom>
          <a:ln w="0">
            <a:noFill/>
          </a:ln>
        </p:spPr>
      </p:sp>
      <p:sp>
        <p:nvSpPr>
          <p:cNvPr id="6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05F41DE-C151-45F1-B5C2-46A2E7EB61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7680" y="696960"/>
            <a:ext cx="4640400" cy="3479760"/>
          </a:xfrm>
          <a:prstGeom prst="rect">
            <a:avLst/>
          </a:prstGeom>
          <a:ln w="0">
            <a:noFill/>
          </a:ln>
        </p:spPr>
      </p:sp>
      <p:sp>
        <p:nvSpPr>
          <p:cNvPr id="65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22FFBF-89AD-4A8A-BD5B-78C613506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70AFB8A-67EE-4E83-BDD3-296662074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6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183F77-5B0A-43AB-B679-414127BAC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4160" y="701640"/>
            <a:ext cx="4626000" cy="3468600"/>
          </a:xfrm>
          <a:prstGeom prst="rect">
            <a:avLst/>
          </a:prstGeom>
          <a:ln w="0">
            <a:noFill/>
          </a:ln>
        </p:spPr>
      </p:sp>
      <p:sp>
        <p:nvSpPr>
          <p:cNvPr id="66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67766B-6722-479E-A737-366A91124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45AA00-C434-4D53-BC93-CEBB1FE3F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F5ACC-15D7-4178-BF31-2516956EC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7E62B-9BD8-4D9F-AFB6-1D3160266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46F100-83E7-4832-AA4E-05E690EBD7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880C90-F5E5-4655-9754-3FF2886728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5A10E7-AC19-45E1-BDF7-6C7FFA412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AABD3-941F-4EF3-9BE3-DD7C5317F0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160EC-EFF6-4B5B-BBA9-255F50EE4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75E37-D641-4655-8DDA-D393806C42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87D714-4D0B-46B8-837E-8F5262581D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6CE12A-9022-4413-AA35-DFA0CE7383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35D2CA-9230-4676-89DB-D6F4146B94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2ABDC0-4CA0-4511-BAE7-13496E01CA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C8164-4456-483A-A492-FB8DD62B0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F1A453-175F-476D-B1D0-EB5B27739D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4CBF5E-CCC0-4CB6-8AD3-A78DC7AA5E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000601-3F8A-45D8-92BB-7483E66D03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6DC55E-B01F-4468-8433-AA7E77FB7E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B75F2D-785A-4463-9DB3-1C17EDFC49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894A6A-E128-4E0E-8359-127157C24D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FFA2F8-CA67-48A4-BFA4-2895EDE0A9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EA9B7F-2069-42E6-8D37-53D7B440F1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3CCF6F-894A-44D1-92DA-8D702C8D47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0BB5F9-DB42-48A4-B29B-16F8BEAECE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F9048-F25C-4F43-AEEB-E255B1BB3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126257-EF22-4026-891E-161F5DB006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1AD8D3-B22D-48C7-BC06-1BEA86585F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AF4C07-A8FB-4516-AD83-994C39BF51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30F89D-08B8-4601-A310-4FC9778B65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3CA330-E0D7-4F23-9156-FA79C65313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30ED4D-B1FA-4DDB-B65D-BF0A3D88A5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AF29F0-0EA8-4999-8B51-5B3EBD6F0A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F35FB4-C9CF-419B-B525-D1ED4E926A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D5AAF2-5655-40FB-ADAB-07D1DF78EA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1A9ADC-2DDE-4644-A67C-901572EBCA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28A2B-A50A-43BC-A406-317FE3C45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7D463F-F724-46B2-A2D4-39D00D3C64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8BE643-2A03-4496-9AA1-B3E60D1AD7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377FE8-AC67-4015-832F-33AAC81D5B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8233ED-8516-4809-AF0B-F52A4639E8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3BF4F6-E626-407D-8626-92E385207D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433CDC-3E34-4E4A-AEB5-B58EE91A61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78F0DD-E705-4CE1-944B-B2336FD292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1352A4-6859-476E-B618-B7F6A0EDCF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E34EE0-A7E7-4CD6-982D-7FE0D16BE1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9A186C-A9F6-48B2-AE8B-4F2FA13219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A42A6-0A8B-41A4-B7CC-8A79DBD9F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962FF9-85D9-4E56-B356-B381E380BF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4E64F0-9D08-44B6-B1C3-E04E62B533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B10639-B84F-41AF-88CF-357202B9DF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816354-D511-4019-81F0-8145D65B48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40BA4C4-8EBA-400B-A0A3-A3D57458D7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EC181-0680-4C83-9F94-106F7B796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0596B-8BE2-4F6E-BB89-344341C3D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170C2-D598-4BA7-A522-586D42407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7F3B3-8422-47C2-AA21-92AF50BEC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45C41-5055-483C-B168-6399ADC48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EE131-A6C9-4710-853D-8C7837042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4DD30-D0EA-40C6-A652-3A36BA502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5EF57-CD2A-4EE5-A283-505CE6DD5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CDA0C-84F7-4E0C-BA84-8E0E9FAE3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54C2F-A8E6-439D-B0D0-2778DF8DA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ADF7E-8D19-409E-B84E-C8B8D3762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D8850F-578E-42A5-9524-0044D2F981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1061D-AF1C-4576-B5A7-64DF2BBB2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27FB6-6135-4328-B287-0A95F06DD5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936B1-0A16-4E3F-A60E-3449FE5CB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F4474-4E84-4B23-9AEF-CA3C694F5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B413A-D13C-4793-B75E-0A48684B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3149E4-A558-455E-BB33-9C69C854C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20764-D055-4435-92A8-292112AA0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F42CE-6923-4442-A833-2862FBB7A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2F94B-48F4-4F9F-B130-2D86CB26D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9758C-A8F0-48D7-A412-3DD776585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92DF97-4BA4-4F85-AB08-5672B1FC4D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2D0EFE-2202-4703-BED2-AE30D4B716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37983C-72C5-4277-AA09-2BC5AB5A2C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9E840D-D0A6-4403-80DC-91B9A519F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F909B-DFD8-4148-940C-682D3018B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9E2D-3F70-41AF-B011-217DF559F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DC95EE-711B-488B-822A-6CF03F686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BA9BD-DFB9-4492-9D55-1649BB52C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1346A-86A7-4880-8AC3-18F26FFA5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E5BAC-29C3-415B-9517-C522BFB6C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BDE20-B3DA-485D-B610-F88238F1B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CFF8A-853D-4060-A0B2-0E6C845EF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964964-90FE-4D32-AFF5-D23148DDA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66DC59-E371-47A6-8FA6-0B08C9C019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0AA82F-9421-4EF3-9F49-63B3F5949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46049F-F18C-46FB-AFC8-A5E02EDD7A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4C0B1-058A-4892-B3ED-B84E2CAC3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6D26C2-B905-4129-A997-BBB707E91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DE639-6150-4024-B54B-0304DEC6B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2017EA-6A3C-4FF1-926C-E5B42BEBC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67C022-04CA-4994-A925-48DDC8BAA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96A8DC-E99C-4E18-89E8-022B81285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9B5DB-D427-49EE-8563-43FAD61EC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644B6-437B-4E7B-8596-B39EE6239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8A492-DCC4-4CF4-9347-82D7A5312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45BD6-0152-49FB-8239-ADA53D78F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CB835C-1E24-402A-B560-4AAF344AE8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5B95E-464C-41CF-9D87-7939DFFA7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E70414-48A2-402D-B53E-C18AC6E6E6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C80EA0-DFD7-4BAB-AC35-1E834036DE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7DABE6-5747-4A8B-84C6-941EA9AE6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1621C0-D909-41C4-A1E5-A544C664E5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4BCBD4-ACE5-4C6E-9156-8CC8D886E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CE473-76C0-41B1-B9D2-D6610C87E8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2D736F-8BAD-4602-9BE1-8ADC04B1B3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63755-4CBC-422F-9538-70BBE8E0E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9975CD-7615-4CC7-8A70-FC67D8A87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E286E-5489-44F2-BFE3-060B94904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A2F14-C136-4E0C-8437-5ED0B8C73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10FD1B-2F11-4781-818C-3567A51FB9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1ADD83-8451-487D-ADBA-4B42BC7F31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E88620-B406-4302-BD91-9A93C94123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0436C4-8829-4355-B505-C6A654AA56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0DB423-48F1-4898-9CB8-2C550D40D6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BEA94E-F161-4738-A8D7-0F1156EF2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B32655-F4F6-4AFD-871D-3B44743AD5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D1D7B5-416B-48CE-8BC9-03B8F98172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A3AABC-6D13-4D90-9B6A-125F8A532D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D39E1-4846-49A5-8B0F-8ED1764D3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5C0B6-39CE-41E3-BB15-158F98E58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6AFEF-3ACB-48FC-82F4-E68696814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E863C4-8670-4B9B-85C4-7328FB264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D73D42-2775-4D76-9683-8EBAC1E038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050A72-3BDC-4D69-89CE-EC9F983D9D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76C3CF-39F2-486A-A9EB-6FC35077ED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595391-861A-4305-A333-C8791EDCE1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F464D-E6D4-4D47-AEEC-1107132B06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F915F7-3606-418C-9A46-AEDC86B8FE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B962F9-9CF7-4246-B4BA-B322F8E5D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BB9A97-3477-4F6F-A41E-9CD0EFD896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92B5-37F0-4686-9770-5FFA6DF8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2C2DBD-7317-4140-812A-FF379F6520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86D6FB-8A3F-4D70-AB2F-BF3E3CBAD7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35290-469C-49B9-9274-84AEDBB461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A9DFD-F53E-444D-B0AB-1548FE5B4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2492E1-B516-4D67-8F87-FE745E5026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C16CC9-27A1-4560-A042-DE5C881170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99BC98-8D71-454B-A80B-AC61A8216B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1F5B07-4EFF-4A27-BEC6-BEB18C41F8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D17AEF-7B69-41FA-BD3C-A8ED9A32FD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3AE9FB-D20F-40A1-8631-29B922AEA6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1819159-FFB0-4225-B80E-D1F780F44C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4802CD9-F610-4C35-800B-A8B9EB8B02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0D40528-1163-40CD-9037-63757D164F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064F048-5ABA-4373-8971-D93926A2BF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7E2A7F7-EA1D-44A8-9FAA-80C5AB1DCF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91CA343-5E31-4CAA-B549-B5CCA0DAE7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2254339-B5BB-46C2-8707-E82C21F70E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E32F00-E820-4699-BCE8-CCCB70FF53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27A90CE-F8DC-4262-B6F0-52B4F3981E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E643CC9-3047-4790-922A-1F5916C04D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774EB87-7277-4079-A1A4-49FAB45505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32BC866-0438-4F6B-B901-DA7D302E70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63A058-7C54-411D-B5E4-C1A36D4DA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a:t>
            </a:r>
            <a:br>
              <a:rPr sz="3200"/>
            </a:br>
            <a:r>
              <a:rPr b="1" lang="en-US" sz="3200" spc="-1" strike="noStrike">
                <a:solidFill>
                  <a:srgbClr val="000000"/>
                </a:solidFill>
                <a:latin typeface="Times New Roman"/>
              </a:rPr>
              <a:t>Ad-hoc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49EFC3-5BAA-499F-8E57-31A252016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ecia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Rui Yang and Joe Levy (InterDigital) for sponsoring the ad-hoc meeting!</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Jon, Dawn (Face To Face Events Inc.) and Verilan for the logistics!</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md plans to include an item in the March plenary to review a TGmd submission for Annex I changes to complete the DMG OFDM PHY removal</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lgn="just">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9:00am CT – 5:00pm CT @ meeting room DFW</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ning coffee break from 10:00am CT to 10:30a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nch from 12:30pm CT to 1:30p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noon coffee break from 3:30pm CT to 4:00pm CT</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refer to the next few slides for the submission and estimated time for presentation</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0992D8-6962-48D1-AD46-FB8FEC65B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morning)</a:t>
            </a:r>
            <a:endParaRPr b="0" lang="en-US" sz="3200" spc="-1" strike="noStrike">
              <a:solidFill>
                <a:srgbClr val="000000"/>
              </a:solidFill>
              <a:latin typeface="Times New Roman"/>
            </a:endParaRPr>
          </a:p>
        </p:txBody>
      </p:sp>
      <p:sp>
        <p:nvSpPr>
          <p:cNvPr id="6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1" name=""/>
          <p:cNvGraphicFramePr/>
          <p:nvPr/>
        </p:nvGraphicFramePr>
        <p:xfrm>
          <a:off x="696960" y="1650960"/>
          <a:ext cx="7913520" cy="42116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5 – 09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35 – 1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05 – 111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15 – 114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716496-73B0-4AE2-8775-FF0D38D8E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afternoon)</a:t>
            </a:r>
            <a:endParaRPr b="0" lang="en-US" sz="3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6" name=""/>
          <p:cNvGraphicFramePr/>
          <p:nvPr/>
        </p:nvGraphicFramePr>
        <p:xfrm>
          <a:off x="696960" y="1650960"/>
          <a:ext cx="7913520" cy="3745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30 – 14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30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430 – 15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00 – 162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20 – 16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C69276-01AF-4459-A0FE-BEEC51C35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morning)</a:t>
            </a:r>
            <a:endParaRPr b="0" lang="en-US" sz="3200" spc="-1" strike="noStrike">
              <a:solidFill>
                <a:srgbClr val="000000"/>
              </a:solidFill>
              <a:latin typeface="Times New Roman"/>
            </a:endParaRPr>
          </a:p>
        </p:txBody>
      </p:sp>
      <p:sp>
        <p:nvSpPr>
          <p:cNvPr id="6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1"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 1485, 2298, 2299, 113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5 – 094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483, 1546, 15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5 – 095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78ADCD-70AF-4F44-B396-98A24354A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afternoon)</a:t>
            </a:r>
            <a:endParaRPr b="0" lang="en-US" sz="32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6"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2 – 3, 2018</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0A68AF-E2E8-4130-9EA6-2DF1FF449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765485-CF26-4015-B121-490E9A894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March 2018 ad-hoc meeting on March 2 and 3,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2213F12-9091-4295-8515-B08DC13D8A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B773388-4504-45C4-86DA-608CB0DCB0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928239-C915-42F7-9D30-FF7B9012B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3A6C30-D169-426C-8F61-085C11C66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4382A93-64B5-4E96-9ABA-B3CD0C5ADD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0774C4-F837-4186-9B30-420851786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 ad-hoc</cp:keywords>
  <dc:language>en-US</dc:language>
  <cp:lastModifiedBy>Edward Au</cp:lastModifiedBy>
  <cp:lastPrinted>2014-11-04T15:04:57Z</cp:lastPrinted>
  <dcterms:modified xsi:type="dcterms:W3CDTF">2018-02-26T21:47:39Z</dcterms:modified>
  <cp:revision>4157</cp:revision>
  <dc:subject>Task Group AY November 2015 Meeting Agenda</dc:subject>
  <dc:title>18/0351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