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7316D911-AD27-4491-A702-0551222FDEB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C823C23-0F88-4B4E-B4DA-0661A1BF0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1" name="PlaceHolder 1"/>
          <p:cNvSpPr>
            <a:spLocks noGrp="1"/>
          </p:cNvSpPr>
          <p:nvPr>
            <p:ph type="sldImg"/>
          </p:nvPr>
        </p:nvSpPr>
        <p:spPr>
          <a:xfrm>
            <a:off x="1154160" y="701640"/>
            <a:ext cx="4626000" cy="3468600"/>
          </a:xfrm>
          <a:prstGeom prst="rect">
            <a:avLst/>
          </a:prstGeom>
          <a:ln w="0">
            <a:noFill/>
          </a:ln>
        </p:spPr>
      </p:sp>
      <p:sp>
        <p:nvSpPr>
          <p:cNvPr id="6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54160" y="701640"/>
            <a:ext cx="4626000" cy="3468600"/>
          </a:xfrm>
          <a:prstGeom prst="rect">
            <a:avLst/>
          </a:prstGeom>
          <a:ln w="0">
            <a:noFill/>
          </a:ln>
        </p:spPr>
      </p:sp>
      <p:sp>
        <p:nvSpPr>
          <p:cNvPr id="6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7685122-616B-4F91-9132-E5BAD03F9D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54160" y="701640"/>
            <a:ext cx="4626000" cy="3468600"/>
          </a:xfrm>
          <a:prstGeom prst="rect">
            <a:avLst/>
          </a:prstGeom>
          <a:ln w="0">
            <a:noFill/>
          </a:ln>
        </p:spPr>
      </p:sp>
      <p:sp>
        <p:nvSpPr>
          <p:cNvPr id="6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A3B6624-FCC8-40C7-BB2E-0C745A090C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54160" y="701640"/>
            <a:ext cx="4626000" cy="3468600"/>
          </a:xfrm>
          <a:prstGeom prst="rect">
            <a:avLst/>
          </a:prstGeom>
          <a:ln w="0">
            <a:noFill/>
          </a:ln>
        </p:spPr>
      </p:sp>
      <p:sp>
        <p:nvSpPr>
          <p:cNvPr id="6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DBE33B2-05C9-4438-B177-26F1A36DF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54160" y="701640"/>
            <a:ext cx="4626000" cy="3468600"/>
          </a:xfrm>
          <a:prstGeom prst="rect">
            <a:avLst/>
          </a:prstGeom>
          <a:ln w="0">
            <a:noFill/>
          </a:ln>
        </p:spPr>
      </p:sp>
      <p:sp>
        <p:nvSpPr>
          <p:cNvPr id="6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B9AA9F-649A-49C3-80B2-7F715653B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54160" y="701640"/>
            <a:ext cx="4626000" cy="3468600"/>
          </a:xfrm>
          <a:prstGeom prst="rect">
            <a:avLst/>
          </a:prstGeom>
          <a:ln w="0">
            <a:noFill/>
          </a:ln>
        </p:spPr>
      </p:sp>
      <p:sp>
        <p:nvSpPr>
          <p:cNvPr id="7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7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5B82C8E-E37C-43B9-A17E-20968871B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54160" y="701640"/>
            <a:ext cx="4626000" cy="3468600"/>
          </a:xfrm>
          <a:prstGeom prst="rect">
            <a:avLst/>
          </a:prstGeom>
          <a:ln w="0">
            <a:noFill/>
          </a:ln>
        </p:spPr>
      </p:sp>
      <p:sp>
        <p:nvSpPr>
          <p:cNvPr id="6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3A0197C-EAB8-49C0-B38D-FCBD6062F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6F0EF4E-622B-4148-A372-291156A918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54160" y="701640"/>
            <a:ext cx="4626000" cy="3468600"/>
          </a:xfrm>
          <a:prstGeom prst="rect">
            <a:avLst/>
          </a:prstGeom>
          <a:ln w="0">
            <a:noFill/>
          </a:ln>
        </p:spPr>
      </p:sp>
      <p:sp>
        <p:nvSpPr>
          <p:cNvPr id="6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1E5654DB-7621-4F92-BFE2-0697702CC6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47680" y="696960"/>
            <a:ext cx="4640400" cy="3479760"/>
          </a:xfrm>
          <a:prstGeom prst="rect">
            <a:avLst/>
          </a:prstGeom>
          <a:ln w="0">
            <a:noFill/>
          </a:ln>
        </p:spPr>
      </p:sp>
      <p:sp>
        <p:nvSpPr>
          <p:cNvPr id="65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3"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C4F425C-025D-4380-B952-A96C2169E3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147680" y="696960"/>
            <a:ext cx="4640400" cy="3479760"/>
          </a:xfrm>
          <a:prstGeom prst="rect">
            <a:avLst/>
          </a:prstGeom>
          <a:ln w="0">
            <a:noFill/>
          </a:ln>
        </p:spPr>
      </p:sp>
      <p:sp>
        <p:nvSpPr>
          <p:cNvPr id="65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53AA8F3-0A59-4616-B887-0DF0607309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54160" y="701640"/>
            <a:ext cx="4626000" cy="3468600"/>
          </a:xfrm>
          <a:prstGeom prst="rect">
            <a:avLst/>
          </a:prstGeom>
          <a:ln w="0">
            <a:noFill/>
          </a:ln>
        </p:spPr>
      </p:sp>
      <p:sp>
        <p:nvSpPr>
          <p:cNvPr id="6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A0F2CA6-D6B1-4AA4-B120-02E8B9241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54160" y="701640"/>
            <a:ext cx="4626000" cy="3468600"/>
          </a:xfrm>
          <a:prstGeom prst="rect">
            <a:avLst/>
          </a:prstGeom>
          <a:ln w="0">
            <a:noFill/>
          </a:ln>
        </p:spPr>
      </p:sp>
      <p:sp>
        <p:nvSpPr>
          <p:cNvPr id="6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64"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65"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6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5665BA8-9AC5-4DEA-8C77-90C929BFE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1154160" y="701640"/>
            <a:ext cx="4626000" cy="3468600"/>
          </a:xfrm>
          <a:prstGeom prst="rect">
            <a:avLst/>
          </a:prstGeom>
          <a:ln w="0">
            <a:noFill/>
          </a:ln>
        </p:spPr>
      </p:sp>
      <p:sp>
        <p:nvSpPr>
          <p:cNvPr id="668"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FB6F19D-FE0C-4B29-8AF9-9DDBE05DC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7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7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7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FED5704-54EB-4D52-AB40-57E976503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PlaceHolder 1"/>
          <p:cNvSpPr>
            <a:spLocks noGrp="1"/>
          </p:cNvSpPr>
          <p:nvPr>
            <p:ph type="sldImg"/>
          </p:nvPr>
        </p:nvSpPr>
        <p:spPr>
          <a:xfrm>
            <a:off x="1154160" y="701640"/>
            <a:ext cx="4626000" cy="3468600"/>
          </a:xfrm>
          <a:prstGeom prst="rect">
            <a:avLst/>
          </a:prstGeom>
          <a:ln w="0">
            <a:noFill/>
          </a:ln>
        </p:spPr>
      </p:sp>
      <p:sp>
        <p:nvSpPr>
          <p:cNvPr id="6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2E299-1DC9-4C81-B755-F9E136BA5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C1ECA-D9C7-40B0-9426-D74E2CD38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1F53EE-9B19-4C2C-BDDB-D6F537C1B8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3A73AC-BF24-4CC6-A7F0-21C7D39125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BE9AE0-07B6-414F-832F-C56E3329A6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903AC0-7808-4497-8A4E-88A94CAE5F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50D65B-E3F2-4368-A6A6-FD027E2493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D82B55-E4F8-4B7B-A6F4-956ED4E22A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A289D8-495A-4C09-BEE5-F40D046D0B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0BFFB9C-DC82-4F43-869B-03F2F89A06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2AD089-DD98-43E8-9FF8-32322E8986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8EE39CD-D0BD-45B4-8E5C-B6327F61258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DD881-F4E1-4CFC-B84F-F1CF61424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3142B03-2677-48EA-92B6-93A3D91D03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3334AD-99C4-429C-A491-C27BB80F59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2A14022-678B-4749-A564-AFAA8581E0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F4EA45-738D-446C-8B88-E9DC1AEEFC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BAA50D-0C97-42F9-92CA-B1393C727F4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F60997-3DB1-4EBD-9A66-9D07689D33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AF0CBD-CD0E-4E86-BA30-9CF9D45A57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022673-5FEF-473D-BF6A-031318348C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8E80AF3-3E51-492D-8657-6B87E8B8DB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99C0739-5731-45F7-B745-C4767CAAE69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C3F82-7E31-436F-88A1-0E5FEF4F4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1213F97-D7BF-4418-9557-24FD7553A03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8FBE205-29AF-4F44-9312-5CFB6D4250B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27ECC9-BB56-4800-9815-8C67AB3608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1452A8-C9AD-4355-8792-11089BD6ED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2CAAAA-6915-4642-9A8E-9CA6128A9F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7341E9-1478-460C-B187-5F54AD8DBC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88AD0E-ED54-4F39-8D19-9CD55BA08E0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580209-A868-4FE0-8BAD-C216B379C8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9C57DB-5326-4E39-A431-08CCDB31F9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BF0759-3600-4935-A153-3D04D51259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9E5E7F-54AE-4DA7-AF17-76F3A0E958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91B063-D821-416D-96D2-DD02ED8197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AF05BA2-BB35-4309-8C46-A109999FF18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46CFC6C-36A9-48BD-86C8-7E3D755B451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E5FA3D5-7B38-487C-B365-2F27578D620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348C0D-1EBA-428D-949D-33EB5EE475A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38DA914-3AA6-4A8A-85AA-2688C05F6AA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AC29F67-9B19-4606-BF7D-BC5F588BEF4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DCA3D6B-8132-43AE-B310-6FCC75D652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F99137B-EF44-46CD-98A0-39A9A1B66D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67116B-1234-4B09-A75B-6D2404D092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F3C56-137E-483B-93D7-99611550A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7481BB-9A2F-44EE-88FD-24789F04F7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D855EE-6CE4-4C1E-B53B-4D6986ED08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8CFFBE3-16F1-46F6-B1A9-EC366121BDE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A294D0A-2AEC-4DFB-853B-03231449F18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2E956A9-8D79-4024-BF1D-3DEBBB3F6C2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0F54B-A652-4DC0-B054-7725DD9EB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C16E7-DEC7-4113-8D33-CCA4E0C94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75D73-BA8D-49A1-80C8-A50E2A2C5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0A219-33CC-4C69-BA8D-41201DD1F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C8C42-D9B2-4EEC-A1C6-3F82E50D4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B37AC-CBE9-4CF1-9116-8987BEDF2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0A426-5B3F-437C-AEDD-26A6CC768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6FFF8-79F4-4512-BE18-EA661DCFE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9612A-A15A-460E-B690-6CDE95A00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CDBF7A-86B8-4B87-A3FE-BC92B6EC4C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E62EC1-5954-4C4E-AAAC-8520E3A059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08C7CF-3AD1-45D2-B721-D123AC1986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B67228-7CB4-46A3-A3AF-81E0B53FAA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66F044-4173-4711-B8D6-EA72CF85BC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6A3748-9D55-4C82-8EB6-1162FCC2B8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24C342-C16A-4DB2-BF6E-6B26EF5EBE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CE4AD-4D97-414D-9C8A-B3B9FD058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90D178-4301-41F3-95FD-291593E493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ADE7E3-14F3-4DA9-9A01-64C19E6BF2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7C5E4A-9263-41A8-BF06-DD3D9DDF44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E0DCF2-1FD9-4764-8B44-E90C46FD66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E84A93-8CFF-43DC-BBA1-BE4C65E4C5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27467F-04EE-4B42-8F6F-B085D485C2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EA7395-DD50-4E6B-9778-275AB0FF02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102DE5-72B9-4025-87DB-B8ACD89564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F8DEEB-F518-4861-8FE3-58ED16651F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5A8366-A745-4489-9BB1-C574CBCB65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A3D53-B98E-4DBC-9389-981782CEB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9E70DD-3700-40BB-ADDD-B93E84CA37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22400F-DDBE-4918-A0F4-27A60C495F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32A923-4132-4D09-8C97-51C1FB5B56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5ED056-81E2-4F55-AEF6-4CA8E7B65E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6A9D8D-4EA5-4FAE-9DE3-47C3D07707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57E4C0-16D9-4C51-B1DE-665FE286F2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BA92F0-72F1-47F7-BE27-47FFB17DB9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A5FE98-8934-4F0F-853D-01379BE66D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C7DF1E-8FB7-4066-BC05-A697F2889B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DE9994-C6A1-409B-912B-A914BCCD57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E91CB-FEF7-4200-B9E3-4C816830A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5151F0-96B9-463F-A31C-879547A318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7336DD-C0AE-4580-B177-AA8128833F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99BEB5-BB66-41DC-9614-ADA9BBB056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DAD698-314D-4155-8CAE-B5C42DFFDC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A4DDBD-265A-494C-9C4C-21F7BCB64C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F0E4E0-2028-4AB3-8AE5-441EC285E8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B0E0A0-9271-43DE-9551-1297AD301F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836230-019F-444D-ACD3-56E59533AA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36005B-6035-4CD4-BB11-A3627907AD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FADEFA-9FFE-4E32-8855-724A8F0EBF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FF105-7404-442A-8599-468D1AFA6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290229-078D-42E3-942B-C62A26A0E5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1B62A8-94CB-4A30-A4FF-776412CBD3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58B62E-8188-45D8-9D7C-8AB1594A39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B8B028-9F08-4330-B295-0920AF4772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814F65-9B74-4A5B-B674-3ED78227E0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EBB17D-6978-4CDF-AE3D-5FE81A9841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BE66E5-4594-425E-BD2A-B3BD12529E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338B6D-9C54-421C-8284-18EE92ADC7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FF5CAC-2FF8-4182-B6B4-9D76C54792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0805A8-A001-4513-884E-D0614C9225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954CA-87A8-4930-859F-6C3F471A8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7F8562-03BC-4827-9F6D-A920AD3D59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215E4C-49C2-4008-967A-2DBFCB6BA9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5152DE-1C25-421F-95DA-C2B9700E7A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23C73E-8E74-4A66-B0F3-7BCAFBD6A3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9D5FD2-66F4-4655-89E7-5E3D2FB5E7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15448F-DE9F-4E44-B2AB-F8BA0000CD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AEFA95-0EF1-48BD-9376-B46E3AA7D3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2A02B4-AB4E-4A27-816A-EC18D72D49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FF439D-5805-48EA-A537-6A09D011D8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B47EA9-0637-4D5B-911B-CB246F19D7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ED2F6-2590-4F99-ABEF-6548A76B4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751D2A-6452-472B-AF69-365D73D0CD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CA429F-E025-441D-B86E-5649B61981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D26F8D-9428-4918-9E4A-4124E2E7CC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46522E-6C18-4414-BBA5-7FC11C2E49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F8D66A-2E64-4B25-AB82-753E5F8C49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B4AA82-29C1-4692-B91E-AC079102FC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C58001-C9EA-456D-90D3-20A7D50EAA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88FCF0-C8C1-4BD6-BF2C-478EFEE101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CDD1D4-9961-4402-B841-9D4DC9B5CC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435334-E30A-49B9-BA76-A96A64D16B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4912F-ADA9-4B52-865C-682965F7D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366E6D-5685-4576-AFAB-CC08097813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739D30-6AC6-4119-98CB-18E0FBD0AF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0B67AC-6389-4D4F-A54B-C2859C5D42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B1105B-6D2F-4070-ADE2-8597FE2606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C871E3-BFCB-4F92-80CB-A4A9DFB39B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DA4DC5-043E-4416-845E-AA662BCDC5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3C1157-6F22-4926-A91F-D149F690C0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95ADE8-0E7F-4D80-A513-F0FAAA276C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E5AE07-36BD-44BB-9E43-3946290236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F4AEDE-6882-4BC0-AC48-12784BD2A50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565C754-DAEF-4E10-A4E3-29E11D93800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22FBB0D-1671-4F8E-AA91-75E60CFB5ED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B857A56-273B-4BC4-949C-BC18B8213DE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B4E9F65-7282-4A63-81A0-84D06DFCD2B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A516D24-D6F2-4A17-BEF4-8077C30F9C2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08A8771-8039-4B43-B3F3-EC0C018D442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5894288-0DAC-4115-9A1F-2BC9310DEB9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70B175D-42EC-4F83-B477-EE172FBA127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2C614E5-A717-4097-B8EF-A4A98D9AD21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981E25E-9415-402D-81EE-DC67847F687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B0CCA0A-2C2B-430A-880B-111E72289D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DB2A725-3E40-42D9-8E57-4EA501A452C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7A830F-BD8A-4A35-B205-FB2CFBC82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2018</a:t>
            </a:r>
            <a:br>
              <a:rPr sz="3200"/>
            </a:br>
            <a:r>
              <a:rPr b="1" lang="en-US" sz="3200" spc="-1" strike="noStrike">
                <a:solidFill>
                  <a:srgbClr val="000000"/>
                </a:solidFill>
                <a:latin typeface="Times New Roman"/>
              </a:rPr>
              <a:t>Ad-hoc Meeting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3-02</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49FFCD-EB03-4319-B9E3-FAA1E5DCC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eciation</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nks Rui Yang and Joe Levy (InterDigital) for sponsoring the ad-hoc meeting!</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nks Jon, Dawn (Face To Face Events Inc.) and Verilan for the logistics!</a:t>
            </a: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inder</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md plans to include an item in the March plenary to review a TGmd submission for Annex I changes to complete the DMG OFDM PHY removal</a:t>
            </a: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a:t>
            </a:r>
            <a:endParaRPr b="0" lang="en-US" sz="2000" spc="-1" strike="noStrike">
              <a:solidFill>
                <a:srgbClr val="000000"/>
              </a:solidFill>
              <a:latin typeface="Times New Roman"/>
            </a:endParaRPr>
          </a:p>
          <a:p>
            <a:pPr lvl="1" marL="743040" indent="-285840" algn="just">
              <a:spcBef>
                <a:spcPts val="3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9:00am CT – 5:00pm CT @ meeting room DFW</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ning coffee break from 10:00am CT to 10:30am CT</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unch from 12:30pm CT to 1:30pm CT</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noon coffee break from 3:30pm CT to 4:00pm CT</a:t>
            </a: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ease refer to the next few slides for the submission and estimated time for presentation</a:t>
            </a: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E634CF-A9AA-47E3-8CE9-319CD84114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Friday morning)</a:t>
            </a:r>
            <a:endParaRPr b="0" lang="en-US" sz="3200" spc="-1" strike="noStrike">
              <a:solidFill>
                <a:srgbClr val="000000"/>
              </a:solidFill>
              <a:latin typeface="Times New Roman"/>
            </a:endParaRPr>
          </a:p>
        </p:txBody>
      </p:sp>
      <p:sp>
        <p:nvSpPr>
          <p:cNvPr id="6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11" name=""/>
          <p:cNvGraphicFramePr/>
          <p:nvPr/>
        </p:nvGraphicFramePr>
        <p:xfrm>
          <a:off x="696960" y="1650960"/>
          <a:ext cx="7913520" cy="421164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4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lock interleaver and \pi/2 rotation clarific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915 – 093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4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rification of the scrambler subclaus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analog beam tracking-related CIDs II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935 – 1000)</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30 – 110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RP TXSS-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F-related CIDs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nnex 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105 – 111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Comment resolution on EDMG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115 – 114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CD0A8D-9AC8-43B5-80A5-27A193C22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Friday afternoon)</a:t>
            </a:r>
            <a:endParaRPr b="0" lang="en-US" sz="3200" spc="-1" strike="noStrike">
              <a:solidFill>
                <a:srgbClr val="000000"/>
              </a:solidFill>
              <a:latin typeface="Times New Roman"/>
            </a:endParaRPr>
          </a:p>
        </p:txBody>
      </p:sp>
      <p:sp>
        <p:nvSpPr>
          <p:cNvPr id="6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16" name=""/>
          <p:cNvGraphicFramePr/>
          <p:nvPr/>
        </p:nvGraphicFramePr>
        <p:xfrm>
          <a:off x="696960" y="1650960"/>
          <a:ext cx="7913520" cy="3745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CA-Indications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330 – 14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630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Procedures common to the DCF and EDCA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multirate support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related to TDD scheduling - Part 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430 – 15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OFDM DC relative shi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00 – 1620)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20 – 165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BD769A-5295-4F14-A459-FDFED43B46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Saturday morning)</a:t>
            </a:r>
            <a:endParaRPr b="0" lang="en-US" sz="3200" spc="-1" strike="noStrike">
              <a:solidFill>
                <a:srgbClr val="000000"/>
              </a:solidFill>
              <a:latin typeface="Times New Roman"/>
            </a:endParaRPr>
          </a:p>
        </p:txBody>
      </p:sp>
      <p:sp>
        <p:nvSpPr>
          <p:cNvPr id="6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21"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nchu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 1485, 2298, 2299, 113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915 – 0945)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Hsiang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1483, 1546, 154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915 – 0955)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B063E7-395A-4343-B347-2EF8B2DDD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Saturday afternoon)</a:t>
            </a:r>
            <a:endParaRPr b="0" lang="en-US" sz="3200" spc="-1" strike="noStrike">
              <a:solidFill>
                <a:srgbClr val="000000"/>
              </a:solidFill>
              <a:latin typeface="Times New Roman"/>
            </a:endParaRPr>
          </a:p>
        </p:txBody>
      </p:sp>
      <p:sp>
        <p:nvSpPr>
          <p:cNvPr id="6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26"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2 – 3, 2018</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Rosemont, Illinois, United States</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7BD520-954C-4874-AC8D-FFBFBEDD9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225770-9EC1-40C0-827C-366A757E2C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March 2018 ad-hoc meeting on March 2 and 3, 2018.</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20F61B0-8A25-47F8-9D4B-D07FB6E940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9628FD9-DF42-4FAA-B139-3EEFFDB3F8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881754-B10C-48CC-B914-AD90EC3CF7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E4FFF2-0B8F-4A2A-BEB4-EB442DA0F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BF5FEB7-D8EE-4EC3-B8BD-E4AB156328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07153C-F208-44EF-8ADA-A22DEDB12A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2018 ad-hoc</cp:keywords>
  <dc:language>en-US</dc:language>
  <cp:lastModifiedBy>Edward Au</cp:lastModifiedBy>
  <cp:lastPrinted>2014-11-04T15:04:57Z</cp:lastPrinted>
  <dcterms:modified xsi:type="dcterms:W3CDTF">2018-02-26T21:47:39Z</dcterms:modified>
  <cp:revision>4157</cp:revision>
  <dc:subject>Task Group AY November 2015 Meeting Agenda</dc:subject>
  <dc:title>18/0351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