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7C073F7-3448-420D-ABA8-594C03F423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3F6F03-7CE0-4F1E-99D1-500F47509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E3165E-99D0-4536-B9BE-31BC6E2C7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C03F4E-C34B-454D-B5E5-B02D0C06A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490C0E-AD12-4E8C-84C6-F2C93DC87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5BF709-176F-4997-A2DA-C4E067F3E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F2727F-D6D1-460B-9AF6-BC224BC4F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6AA773-9DC2-421B-B459-6B47A57E5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7EC4E4-5C0C-41BC-A7BC-31D037CC0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F76BB5-3CFB-4C77-A392-93C09CB14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9564B0-8B32-4738-AAAB-B30036A60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39D5B-A3D6-401E-87B7-4BAB09645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388AF-2846-4A75-937F-08D34042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4F5616-14F6-4DBD-8468-7016C1C67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1F41C-B7EB-4585-A7D1-D9042AB6D8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6FE697-E1AE-43AC-9DAF-C7970B176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710FA-405D-47BE-B012-BC21BD761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21514-3BE5-47D3-AFB7-DC5A6DEF4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DED10-6E48-4DB2-8359-1658C9DD3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7C9DAA-88D5-45E2-A34B-BA78A1FB2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2DC5A6-5584-4FFB-8815-31C36C8FA3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435674-0B46-444C-A3ED-421E74E7AD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09451F-DB73-4410-9C87-3B0F90D678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6C22C-C52F-4A88-8B1C-DDAD75F2F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A5D890-7CF9-4C29-AB02-34D608F634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F64D03-6B26-4D77-A398-87135EE7A6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6467CD-7239-471B-8901-DF4FD8CA14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7C62E8-D290-4A95-8365-AD30D33B5C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CA38AB-8072-45BE-BA0E-2E8475FD15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FCD8EF-6273-4200-9C7B-50CC5BEBF4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B4CA3-3E1E-45E5-B583-A48A628641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DD015A-D4DC-4673-8541-BE8D2ABC8E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FEE1CA-4E52-470D-9DC6-6BF657B259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3E6961-74BB-475C-ABE3-295FA7D99C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C0F41-57F6-4353-A609-5738EB21C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224C7E-0681-405F-AE1F-F65A026BBB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7E2CC8-312E-47B9-B147-20A1F7C484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1FD569-968C-4440-8F8F-306C426F9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F4E984-1675-4E94-BC70-248DE01322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C38FA9-E57B-4D05-A215-3E65AD8CE4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20A997-E915-45F0-AEBA-1C43C9A319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E7A33D-9696-400C-8F5B-3320D2FFA3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BED8F7-0257-4DB7-9EDB-6C8CDE2F0E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94ABF9-CE1C-4C9C-B5F4-2BB5188812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36FC6F-A3B4-42D1-B6C1-D9F31B1098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20D9248D-0336-4388-ACD4-3A2C626228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E691CA-AAB5-442C-B645-ACB4D4BDC3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DAB525-219C-4300-A4D5-48479B1596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CBC16B-AD5C-4FCD-8043-2C6B65A8F1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BC43DD-65F2-4201-A687-1DAF04F3AB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EAEAEA-21E6-4D60-AA0A-E219A94BCF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D39530-BC09-4382-A62E-4FDB17FBA2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9E069D-764E-4EEF-A6BF-73C3582653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4EA7F0-C142-4AA6-9375-445A335AD5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46F41E-1929-4393-84BF-D1F58B0B2C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D3B2E2-CE96-4D28-BFCA-3B2661C7B4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F2FD703-5A31-4851-A1D5-BE971610FE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F32F15-4EF6-4570-8F1B-68BAABF567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4615A9-7E8B-4334-9110-F9AC10DD64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651CBE-04DD-4438-8AA3-03F2F7C7AD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6C3776-B11E-4428-AFD7-6441B1DC56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5115EC-596C-4872-9059-84706E9A7E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E42690A-B8E7-4D4E-9F9B-70E8A29CC1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3BB2D8C-27D6-4F2A-8C9B-E8B72DCB2A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CA91220-44D6-4DDC-AE98-4AB46B9C42E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EC3A171-8BA5-4E9C-8E3F-9E6AB79EB1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D3BD71F-0B71-4D4A-8B29-221E96A7A2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9F9B3-B490-43E0-AAA0-6176B5A0B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D4A0FD9-F1C7-4CDC-881F-49BC15CF2D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1DFDDE5-83A1-4298-94B1-E49627F5ED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A58F6D3-2290-4B3E-B768-65B6931C38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E7561492-4DBF-403B-99B2-7770638D0E6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85BBAD4-ABBE-4B93-B303-DF89A616BC2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3E2D92-8115-4C80-BE6B-B50DB43A2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0E038-9655-4680-A984-D2E11A00B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298BA-D77A-4760-8277-171FA44AC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9E506-8331-4074-8BC9-810334B0D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72939-E923-47FE-9ACC-36A240FC1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572D2-AF89-4AD2-93D8-43F14AC1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7AA7B-3D93-4D4B-9DAA-566BE8495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69918-3D87-4CBD-97BE-3A4CC60F4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31E29-100C-48D0-AFA4-C9547C5E8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F47CD-69CF-49D5-90E1-CB638781D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325AF-1027-4A9E-9125-6BAC694E0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EEECA3-8E64-4C5F-B49F-B6EA88120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B27A3A-B2D6-423D-BC47-56EDA2D285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F316AA-81E4-4204-A3A2-F3070D5DA5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3F555-B270-4B40-8F07-6DFEE0591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DFB1D-D374-4BF1-AD6B-0F763D2D2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867F-3BED-431C-944D-BE6E291A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A8611-0641-4B6F-B5D2-0B7FEC336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8F0A4-442B-4F7C-ACE1-B8A43719A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B2F3CC-653A-4CAE-B18B-43168C8FA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1F91B-5001-4317-B6D6-AF84941C9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B6056-27D7-4338-9701-60E9F54AC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03A14-DCF5-464C-B79C-FB3D92F6A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B7361-CF35-4BBF-8E03-55BE85F60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ED67A1-A22C-4DB6-98BA-98F270ED1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F1C582-3F84-463F-B2C8-208A4F2741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A46354-8135-4E39-B7FF-0F1B72896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FCA7-E572-4EDC-BA4F-794E198D5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EAEF3A-FA9A-4DCF-8681-BC4E19A68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5CA7B-C5E9-4449-BA8D-D3223E8BC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8C76E-3907-4042-8C43-F3F8234AE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21438-D321-4FF7-9477-268675225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86953-B25D-433B-A131-9D8A168C1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00BF3-C41C-40AA-B1F4-F4AE5DB1FA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DDCD3-3511-43C0-B2BF-7E2180872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5B222-0D9A-460E-9DF7-495D15C88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5314E-DF52-4BE3-9984-D767F6CD7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1BFAC-B8EC-489A-8434-03FEC7D272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157D-B1C9-46F0-8161-1C549C62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6AAC14-7A0C-4763-97DB-079B6503A2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5BC0C-CD58-4BA9-A117-58F3395C61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21223-5C07-41F8-910F-BAA93B657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6B794-A778-45D0-A2EC-1C778695F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84DC6-3CF1-4239-983F-E7E1DC07C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F79B6-982C-4FCC-9652-76544C70C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7D06CB-9D65-47CE-A189-81434B21F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6C1B8-454D-4F37-9C29-013E4E8D1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120BB-CD58-4A57-9E77-0DE8A7B25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FEBE9-086D-48E0-B945-B32705CE5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032C-269E-4521-B5A8-DE64F6AA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764F9-9C4E-49E7-A3BF-A807D95F3B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F588D-8420-4890-9581-67BE8912E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8B21F2-FB75-40A3-8718-235994B05C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5131E1-E5A7-4123-AFEE-B8F6E69DF6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55E6A-0191-459F-AB60-9BD380966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71008-4A20-4E2C-A40F-4F52368FD7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8F790D-EA7E-4828-885E-B5F049435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9E6896-1E84-44AD-A07C-3540C55B8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9EC7C-3671-4FA3-8598-9CBEFEC64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8AE50-DD3D-4FBB-868D-62DA0BAFA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1376-AF38-45B9-B887-74DAE2E8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CDDE3-7B0D-4EF2-9721-D8818694B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600F9-1C07-457F-9458-675E56622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DE9F23-C76D-4DDC-9ABB-EF60FD0613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932B3-450E-4648-BC77-3DB0F7346B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F5EE63-9EBE-4FBE-B985-020704B543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CC559E-1EC3-4F20-AEC5-57F78B87A3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B79B8-EB3E-4AD4-986C-CB1BB8DF32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C9F50-58CD-4E56-B5E6-31FBB524C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DF8047-22CB-42F5-940A-A9F10F1B2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47B71-8F0F-4F81-81E6-C7D565498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FE7E-1BE8-4DA4-A6F1-17752704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74C8FA-63A1-41E5-9F0C-BDE7D0272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94DDA-D38F-4D44-B43F-60FF78D95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57F27-1F3B-4FFA-B5A8-4AF2AF8F3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34FBB-1B9D-49E5-9CEE-BEC0D7C1C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2CF8F-CA6E-4E2B-BAD9-009DF3AAA4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6926E0-36EE-4205-8EBA-6C1446C311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B33406-F9C2-446A-9E14-96A4D8605C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7074B8-1D00-4710-A290-0905152018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FAEF6-E279-449D-B60A-DEF70FE0AC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D4C1C3-4584-4B70-8FA6-766A9373FF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AB4320C-52CA-4E9A-AEE9-424FC7A90F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2B3FEEC-273E-4CC4-85A7-11ECDFEB65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12C2DA-BA90-4103-8A7F-F6847F1146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165C2B2-8177-4BD5-9888-FD63754A0C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D5C9BD2-C55D-4B92-834B-60BB68286C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132B6E5-FCEB-448B-8508-C0FD3BE2B1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BB4752-F888-4045-9947-11853CC7BC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DAE902-7214-4601-92CB-EE185187F1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F895C3-708E-4B84-870B-DF232AD4CF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399D6D9-6A59-40A2-814E-B6768BB9F3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1C817D-2E08-4DA2-8109-8BC12643CA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82D0E52-232D-4BF4-9D09-2CE0F393CF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802.org/3/email_dialog/msg00769.html"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D7FCAD-8CC4-4FC4-852E-283F79D51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Study Group teleconference February 2018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2-26</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C7968C-3D63-4CE9-A79D-5692D621F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Study Group agenda for the teleconference before the February 2018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315889-0688-4D64-AD08-787CF63FF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4F5DE0-FB7E-4AED-B822-567ED3913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8B4411-FBEE-40FC-AB65-CD9977C1A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S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68DE2C-7EB5-4F38-94AD-D2D7D535B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1034D6-4ED5-4AB5-A31D-52E8E2EE6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283BF2-0D80-4259-8AD2-F32357D79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comments submitted against the draft LC PAR (doc. 11-17/1604r8) and CSD (doc. 11-17/1603r7)</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1"/>
              </a:rPr>
              <a:t>http://www.ieee802.org/3/email_dialog/msg00769.htm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E93F7A-83DD-4962-A31B-2296397F4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February 2018</cp:keywords>
  <dc:language>en-US</dc:language>
  <cp:lastModifiedBy>Serafimovski, Nikola</cp:lastModifiedBy>
  <cp:lastPrinted>2014-11-04T15:04:57Z</cp:lastPrinted>
  <dcterms:modified xsi:type="dcterms:W3CDTF">2018-02-12T14:48:49Z</dcterms:modified>
  <cp:revision>3786</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