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F339646F-957D-484E-ACA0-3382EA77D98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DC3F65-36B0-404F-BF8E-9E89D0DB3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154160" y="701640"/>
            <a:ext cx="4626000" cy="3468600"/>
          </a:xfrm>
          <a:prstGeom prst="rect">
            <a:avLst/>
          </a:prstGeom>
          <a:ln w="0">
            <a:noFill/>
          </a:ln>
        </p:spPr>
      </p:sp>
      <p:sp>
        <p:nvSpPr>
          <p:cNvPr id="6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8CC45B-CFE4-42D4-AE1C-92DB7F639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54160" y="701640"/>
            <a:ext cx="4626000" cy="3468600"/>
          </a:xfrm>
          <a:prstGeom prst="rect">
            <a:avLst/>
          </a:prstGeom>
          <a:ln w="0">
            <a:noFill/>
          </a:ln>
        </p:spPr>
      </p:sp>
      <p:sp>
        <p:nvSpPr>
          <p:cNvPr id="6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B5D54C-6FA0-48DD-9E49-760A38978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154160" y="701640"/>
            <a:ext cx="4626000" cy="3468600"/>
          </a:xfrm>
          <a:prstGeom prst="rect">
            <a:avLst/>
          </a:prstGeom>
          <a:ln w="0">
            <a:noFill/>
          </a:ln>
        </p:spPr>
      </p:sp>
      <p:sp>
        <p:nvSpPr>
          <p:cNvPr id="6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763B5A-F3D3-4910-A453-019FA40CB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54160" y="701640"/>
            <a:ext cx="4626000" cy="3468600"/>
          </a:xfrm>
          <a:prstGeom prst="rect">
            <a:avLst/>
          </a:prstGeom>
          <a:ln w="0">
            <a:noFill/>
          </a:ln>
        </p:spPr>
      </p:sp>
      <p:sp>
        <p:nvSpPr>
          <p:cNvPr id="6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7C02D6-1F8B-4A62-89F6-0465F475B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19E7FC-2EF7-4A79-833B-5A973FAC4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96025E-B669-4532-A7EE-30E42CC10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3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4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4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A56189-54B0-49FC-84E2-62FB63C92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701640"/>
            <a:ext cx="4626000" cy="3468600"/>
          </a:xfrm>
          <a:prstGeom prst="rect">
            <a:avLst/>
          </a:prstGeom>
          <a:ln w="0">
            <a:noFill/>
          </a:ln>
        </p:spPr>
      </p:sp>
      <p:sp>
        <p:nvSpPr>
          <p:cNvPr id="6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54160" y="701640"/>
            <a:ext cx="4626000" cy="3468600"/>
          </a:xfrm>
          <a:prstGeom prst="rect">
            <a:avLst/>
          </a:prstGeom>
          <a:ln w="0">
            <a:noFill/>
          </a:ln>
        </p:spPr>
      </p:sp>
      <p:sp>
        <p:nvSpPr>
          <p:cNvPr id="6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69C715-F66E-46AA-B929-BE3528E4D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9B96E40-0947-4F03-B4B5-C3B8A01F7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5AB21-E964-4685-8A86-4EF8126B3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BF189-5645-4964-8329-3D0A5B41D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21D8C6-473E-46D8-8D6C-C6961EAFCC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F3CDAD-CC1C-478C-A673-D35C7C0AF6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CF2EEC-DFD8-48B2-9A19-747442F32E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5D6369-2C0E-4E78-A3CC-4A51EB29FB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B32CBF-1258-4BF0-9FB2-AF91792BCE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A238E6-71B1-4A0A-960A-B591E670E8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2D2D51-C984-4BD3-902B-E866EDB3E8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C290D3-5AD3-424C-87EE-63EDC572DC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D71789-B058-42AC-9688-87C8D20139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AAD8B1D-77C5-4955-B9FE-02B95920901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AB904-4E05-4CA7-ADAF-4CEC52868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E15DCD-C6FF-45A9-965C-EFC1F1E0E1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8B755D-DE6B-4367-A1AD-9764B06D70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351B86-9DB0-4AF2-BD38-27B8962481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FD5031-EE6C-418E-AE95-6602174376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858300-4D76-4164-A645-C59D152945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DAC004-133E-40FF-9D37-727F91A27A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D2F99A-14D8-4435-A5DE-633A46C1D5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6194C9-E493-44CC-A1DD-FBE8DF8CBE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6F2DAA-532D-46AA-804E-E61C91BADF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592AF2D-71FB-49ED-B142-99291214C5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774FD-3A6F-4027-A425-D613452D7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2F59701-95F7-4E3C-BEC9-50C95CD3877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10A17C-2C35-4C68-97DA-9D3E6AE9C2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CD09BA-8FE0-418A-99B6-E2FB8C22A6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24AAA3-DA66-422A-8A9B-60778176E2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85F76D-3C1B-4048-9279-8C7EB3B56E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63D58C-681A-45AF-96FD-0206DD89F8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C3D5AA-B160-4DDA-8E0D-7BA51DE89A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403148-2CAA-433A-93A1-9313F53045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977AE5-BFF0-433C-B493-5D0D33C2A1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2393DD-6BC1-42A0-B191-9AD13399DF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DF93CB79-8A7E-41BD-9F46-E6DCBAB80FA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78F3BD-DABA-4F4A-B5B8-F63B87EB5B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C12831E-0BAD-441B-944F-4B4BACC0AC5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C258AE-0E6B-44FD-AA38-0FC91456371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956DC78-D344-4C04-B40D-B3BF38CF08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E8A727-701F-41FC-994F-285B494B23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DA212C-AD65-40C5-AD2B-84EF16F021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3C9107-7E2A-4CD3-AC77-3402AA9DD3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717E6D-E22F-4990-A939-B2DC3490C5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F5CD5A-E3B8-4232-A2F7-B517C35601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94433C-8CD6-49DA-BC39-C1F4535292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FBB3F63F-44FD-4A1B-9529-0D1300A2379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CD43C2-BE86-47BA-B86A-B74619A69E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318D70-97A9-44C5-9D49-A0E83A435C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8D72FD-4DF9-4E65-B9D9-85EFFF9208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9C1D276-BE79-42B8-A696-E13AE47760A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780589A-612D-4912-94A6-9983FDC590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E168535E-8EB3-47C5-A989-4380DB3DC86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DCA70184-0B54-4B93-ACDA-13019C49A21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875B6394-C09B-4F76-BE66-904D006AF75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56770DE-EDB1-4D01-B132-1D1764A24A7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A55FC11-0A4B-41A7-8E16-F943D7158D9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0CE76-05A0-43F8-A247-6BB9F9ACE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F3D72435-F5F9-4407-AE89-41206FB5AA9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E14E3F1-DA39-4EF8-AC76-050B98E0CD3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6BF59E0-F314-4804-B40D-90781844DC7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FF4E0F23-A6D6-468B-B6D1-E025A600EE6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3B5DDEE2-DA11-4DD6-998C-FABE8D17E1A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D9E07C-17DE-4ED1-AD08-12A78371BA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E3DAE5-54AE-4B71-B5A4-A56448E2C5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498E46-4715-4F97-B0D8-F30645DAE4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05548B-53A8-4969-ACB4-A0B2874A21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347B40-E54A-4457-828F-8926A95C1B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74204-9A24-4FE2-BCF4-7DBBAA3E2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FA6B9D-4A85-4E5A-9866-967520A6D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A4610E-BCAE-4817-9FC4-CC642B231A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87F6AE-FD13-41CA-B3E5-AB7AE72FF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1AD18-A8FA-423F-806A-DD73A1DB9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6C9D5C-FA35-4BFD-AFAD-546119F219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E2F6BE-EB1D-47E6-B678-1BC68321AF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1DF4A4-209E-4F3F-AA7A-44FAE25062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CB4631-0D6E-4A9D-BA59-B35FACDB2C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619215-D36D-45C9-90D5-D41904844F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E06934-2B6F-4E65-8AA7-70AEE92850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F4049-7D2B-431B-8DF2-100EE9611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C035E-7DD9-43C0-8CE4-36A3E33DF6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2A3147-EC13-468E-8CE6-993228714F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B1FC9B-8848-41B3-BD57-2BA32F8A60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5EA7CA-FB62-4004-B3F3-B1B5B4F8B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08431B-75A1-47F9-A837-6C4FE027B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CF548F-1A2D-462E-82C0-4E2DEDDE5A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3BD789-7DE9-40AC-861C-6447CFC00C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46C037-6A71-4662-B383-6B85C1FBCA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6FD0E2-186A-4A02-BEAC-CE094C3EA3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8616E9-CE33-4D0F-A964-D3D8FE5E98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FC96E-2F40-4773-BDF9-AF5E490E1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8455CA-CA76-4615-B01D-BC03B90332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C59561-B0A5-48C8-A8D6-0D90EF1BD0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284CD6-3B0F-47D3-BDA0-3AAEECBB95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745A74-EFEA-4990-96BB-7B00DB9856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0D7333-A5DC-4EF8-B718-31ECFAACE5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38E656-06C9-45CA-BEDB-71CE05320A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5B59FE-1E12-43C2-8FB0-946B115BB8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143736-C82C-4A38-9611-A61C0328D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E8C63B-B34E-4661-A5C0-14A9B3F3AC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2215DD-3BE4-4302-82A4-404028ACC6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C5848-9976-4784-AE09-C90347B26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672F36-8238-435D-816B-F88172248D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90DC78-DDF2-4DEF-ADC7-96BC4570D5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EACFAA-A674-4DAC-82C7-ACD9E82DB6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30C520-767F-4BD8-9ED5-84136ABD8F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2562BF-A3FD-42D9-B970-CC7590B9CD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8EB4C2-254F-4DF9-9F3F-04044EED40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3FE866-D085-4C0D-A182-915E02F3BF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FDC9C-1A20-45F2-892E-2C753343A6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26B3AC-BA2D-4FE6-91D6-3D791BD3F8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D781DF-40F5-4EDD-AD08-E86A94CEEB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7B835-64E0-41AC-A4A1-1C2784217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1315E9-DAE6-425E-BECA-B545277C55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CE43C3-62D1-4727-B558-6E55BC20E0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87038E-034B-44A2-BD60-90735D60FA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067E95-CE6C-47E8-BCDC-160C5C9536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864574-F21F-4DAA-8094-2D6C10C1F5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ECE48C-825F-4389-BD17-09963C7F3E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D0DDB5-40B7-40B0-AE67-CC60387C6F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2AF3A4-51DA-46A5-9C43-14B80BB04B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712D9B-EEF0-4B45-B9D2-C2A87D78ED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75EFC5-BFF3-4177-BF0B-8AB618C2E3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998B7-440B-4D6F-8A54-CD6E5FD76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AE558-6C09-41F2-A2E7-241F5B0DAD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192A25-2A37-42E4-8096-12E91B7A8D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8FB0A3-DCDB-4FF6-BDAF-1922E46CBB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DB29F8-975F-450F-9CFD-F88B039017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02542F-8C52-4359-97F4-3DCE7877BE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AE4661-B818-4557-BD5E-0C0A7BA69A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A93CF0-6607-4500-A6ED-1550EDA756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A91225-47A0-49EF-8DF4-C3973B7033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6A5A25-7176-432B-BFB3-4C8D32E308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ED9A84-8C8A-4C5E-BAC4-F58AB8878D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A8563-9CC9-40BA-B814-4E6B3E8F7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03819B-4290-4318-BB36-9D6AF68FF0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97265C-1DE3-4CD9-AFFB-A48C687E0E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719BCC-EAFB-45C5-BAAC-A089482920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6A5665-E2F4-45C7-8CAB-214673110E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FC4875-A761-4519-859A-65F4849109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E1E2A1-02CC-4BBC-9639-76E701274B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EBD68D-3A1B-4BB8-915F-B9DBD8E590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8C01FC-85E3-4F5A-A7AC-6AC62C554D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C4D0A8-D222-451D-BC2B-250AF61BD9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664D8C-4B92-4578-905A-38A96DB7B2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E08DE4D-039F-47D4-BD4E-BD3BE12F61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599816A-5ADE-45FA-9B4F-E574FB665B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D852796-6E91-4B76-AAF7-27E7087E92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362DEFD-926A-4656-84AC-745FCB0B76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09CD6A1-4EC5-4A27-A771-7E53B79A89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 name="PlaceHolder 4"/>
          <p:cNvSpPr>
            <a:spLocks noGrp="1"/>
          </p:cNvSpPr>
          <p:nvPr>
            <p:ph type="dt" idx="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3" name="PlaceHolder 5"/>
          <p:cNvSpPr>
            <a:spLocks noGrp="1"/>
          </p:cNvSpPr>
          <p:nvPr>
            <p:ph type="ftr" idx="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4BAF7A5-038D-4D03-B09A-50C134A6241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DEF28A5-B9C4-4607-984E-850E67E355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A24EF36-D8DB-4AA3-BE82-8E51931436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129BABA-6620-4365-90FC-AC1A1BEF988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423D25B-B68E-4F87-92AA-A0CB15C5D9D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21B20DB-5243-407A-A9C7-23DBBA9E3B7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0341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AA9A91C-428B-49BD-B3F3-B746839677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mentor.ieee.org/" TargetMode="External"/><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eee802.org/3/email_dialog/msg00769.html"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217EE2-472F-4751-9E3D-34712E26C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ht Communications Study Group teleconference February 2018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2329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2-26</a:t>
            </a:r>
            <a:endParaRPr b="1" lang="en-US" sz="2000" spc="-1" strike="noStrike">
              <a:solidFill>
                <a:srgbClr val="000000"/>
              </a:solidFill>
              <a:latin typeface="Times New Roman"/>
            </a:endParaRPr>
          </a:p>
        </p:txBody>
      </p:sp>
      <p:graphicFrame>
        <p:nvGraphicFramePr>
          <p:cNvPr id="555" name="Object 11"/>
          <p:cNvGraphicFramePr/>
          <p:nvPr/>
        </p:nvGraphicFramePr>
        <p:xfrm>
          <a:off x="671400" y="3244680"/>
          <a:ext cx="9126720" cy="1175040"/>
        </p:xfrm>
        <a:graphic>
          <a:graphicData uri="http://schemas.openxmlformats.org/presentationml/2006/ole">
            <p:oleObj progId="Word.Document.12" r:id="rId1" spid="">
              <p:embed/>
              <p:pic>
                <p:nvPicPr>
                  <p:cNvPr id="556" name="Object 11" descr=""/>
                  <p:cNvPicPr/>
                  <p:nvPr/>
                </p:nvPicPr>
                <p:blipFill>
                  <a:blip r:embed="rId2"/>
                  <a:stretch/>
                </p:blipFill>
                <p:spPr>
                  <a:xfrm>
                    <a:off x="671400" y="3244680"/>
                    <a:ext cx="9126720" cy="1175040"/>
                  </a:xfrm>
                  <a:prstGeom prst="rect">
                    <a:avLst/>
                  </a:prstGeom>
                  <a:ln w="0">
                    <a:noFill/>
                  </a:ln>
                </p:spPr>
              </p:pic>
            </p:oleObj>
          </a:graphicData>
        </a:graphic>
      </p:graphicFrame>
      <p:sp>
        <p:nvSpPr>
          <p:cNvPr id="557" name="Rectangle 12"/>
          <p:cNvSpPr/>
          <p:nvPr/>
        </p:nvSpPr>
        <p:spPr>
          <a:xfrm>
            <a:off x="685800" y="27115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C0B435-375F-4EC2-A07B-B3080EB1E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Light Communications Study Group agenda for the teleconference before the February 2018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8A1FEC-DEE1-4620-9545-DEAFBEA3E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 not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ieee.org/about/corporate/governance/p7-8.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tandards.ieee.org/faqs/affiliation.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tandards.ieee.org/resources/antitrust-guidelines.pdf</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ministrative Items</a:t>
            </a:r>
            <a:endParaRPr b="0" lang="en-US" sz="3200" spc="-1" strike="noStrike">
              <a:solidFill>
                <a:srgbClr val="000000"/>
              </a:solidFill>
              <a:latin typeface="Times New Roman"/>
            </a:endParaRPr>
          </a:p>
        </p:txBody>
      </p:sp>
      <p:sp>
        <p:nvSpPr>
          <p:cNvPr id="566"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5C108D-10E1-400E-B095-45C80E761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1" lang="en-US" sz="3200" spc="-1" strike="noStrike">
              <a:solidFill>
                <a:srgbClr val="000000"/>
              </a:solidFill>
              <a:latin typeface="Times New Roman"/>
            </a:endParaRPr>
          </a:p>
        </p:txBody>
      </p:sp>
      <p:sp>
        <p:nvSpPr>
          <p:cNvPr id="572" name="Rectangle 2"/>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0" lang="en-US" sz="16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     </a:t>
            </a:r>
            <a:r>
              <a:rPr b="1" i="1" lang="en-GB" sz="1400" spc="-1" strike="noStrike">
                <a:solidFill>
                  <a:srgbClr val="000000"/>
                </a:solidFill>
                <a:latin typeface="Times New Roman"/>
              </a:rPr>
              <a:t>Participants in the IEEE standards development individual process shall act based on their qualifications and experience. (</a:t>
            </a:r>
            <a:r>
              <a:rPr b="1" lang="en-GB" sz="1400" spc="-1" strike="noStrike" u="sng">
                <a:solidFill>
                  <a:srgbClr val="0066ff"/>
                </a:solidFill>
                <a:uFillTx/>
                <a:latin typeface="Times New Roman"/>
                <a:hlinkClick r:id="rId1"/>
              </a:rPr>
              <a:t>https://standards.ieee.org/develop/policies/bylaws/sb_bylaws.pdf</a:t>
            </a:r>
            <a:r>
              <a:rPr b="1" i="1" lang="en-GB" sz="1400" spc="-1" strike="noStrike">
                <a:solidFill>
                  <a:srgbClr val="000000"/>
                </a:solidFill>
                <a:latin typeface="Times New Roman"/>
              </a:rPr>
              <a:t>  section 5.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i="1" lang="en-US" sz="1400" spc="-1" strike="noStrike">
                <a:solidFill>
                  <a:srgbClr val="000000"/>
                </a:solidFill>
                <a:latin typeface="Times New Roman"/>
              </a:rPr>
              <a:t>IEEE 802 </a:t>
            </a:r>
            <a:r>
              <a:rPr b="1" i="1" lang="en-GB" sz="14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1" lang="en-GB" sz="1400" spc="-1" strike="noStrike" u="sng">
                <a:solidFill>
                  <a:srgbClr val="0066ff"/>
                </a:solidFill>
                <a:uFillTx/>
                <a:latin typeface="Times New Roman"/>
                <a:hlinkClick r:id="rId2"/>
              </a:rPr>
              <a:t>http://ieee802.org/PNP/approved/IEEE_802_WG_PandP_v19.pdf</a:t>
            </a:r>
            <a:r>
              <a:rPr b="1" i="1" lang="en-GB" sz="1400" spc="-1" strike="noStrike">
                <a:solidFill>
                  <a:srgbClr val="000000"/>
                </a:solidFill>
                <a:latin typeface="Times New Roman"/>
              </a:rPr>
              <a:t> section 4.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400" spc="-1" strike="noStrike" u="sng">
                <a:solidFill>
                  <a:srgbClr val="0066ff"/>
                </a:solidFill>
                <a:uFillTx/>
                <a:latin typeface="Times New Roman"/>
                <a:hlinkClick r:id="rId3"/>
              </a:rPr>
              <a:t>https://standards.ieee.org/develop/policies/bylaws/sb_bylaws.pdf </a:t>
            </a:r>
            <a:r>
              <a:rPr b="1" lang="en-US" sz="1400" spc="-1" strike="noStrike">
                <a:solidFill>
                  <a:srgbClr val="000000"/>
                </a:solidFill>
                <a:latin typeface="Times New Roman"/>
              </a:rPr>
              <a:t> section 5.2.1.3 and </a:t>
            </a:r>
            <a:r>
              <a:rPr b="1" lang="en-GB" sz="1400" spc="-1" strike="noStrike" u="sng">
                <a:solidFill>
                  <a:srgbClr val="0066ff"/>
                </a:solidFill>
                <a:uFillTx/>
                <a:latin typeface="Times New Roman"/>
                <a:hlinkClick r:id="rId4"/>
              </a:rPr>
              <a:t>http://ieee802.org/PNP/approved/IEEE_802_WG_PandP_v19.pdf</a:t>
            </a:r>
            <a:r>
              <a:rPr b="1" lang="en-GB" sz="1400" spc="-1" strike="noStrike">
                <a:solidFill>
                  <a:srgbClr val="000000"/>
                </a:solidFill>
                <a:latin typeface="Times New Roman"/>
              </a:rPr>
              <a:t>  section 3.4.1, list item x</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407F4B-BC0B-4309-9484-656E8ADA3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Operating Rules</a:t>
            </a:r>
            <a:endParaRPr b="1" lang="en-US" sz="3200" spc="-1" strike="noStrike">
              <a:solidFill>
                <a:srgbClr val="000000"/>
              </a:solidFill>
              <a:latin typeface="Times New Roman"/>
            </a:endParaRPr>
          </a:p>
        </p:txBody>
      </p:sp>
      <p:sp>
        <p:nvSpPr>
          <p:cNvPr id="577" name="Rectangle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body can vote, present, and make mo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tion in a SG during 802.11 Plenary or Interim counts towards voting righ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motions must pass by a 75% maj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F29496-1A50-4F92-96A9-79671A824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380520" y="68580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582" name="Rectangle 4"/>
          <p:cNvSpPr/>
          <p:nvPr/>
        </p:nvSpPr>
        <p:spPr>
          <a:xfrm>
            <a:off x="533520" y="121932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201"/>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spcAft>
                <a:spcPts val="10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interpretation, validity, or essentiality of patents/patent claims. </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specific license rates, terms, or conditions.</a:t>
            </a:r>
            <a:endParaRPr b="0" lang="en-US" sz="1800" spc="-1" strike="noStrike">
              <a:solidFill>
                <a:srgbClr val="000000"/>
              </a:solidFill>
              <a:latin typeface="Times New Roman"/>
            </a:endParaRPr>
          </a:p>
          <a:p>
            <a:pPr lvl="2" marL="9144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8b"/>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3716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2228b"/>
                </a:solidFill>
                <a:latin typeface="Times New Roman"/>
                <a:ea typeface="Arial"/>
              </a:rPr>
              <a:t>Technical considerations remain primary focus</a:t>
            </a:r>
            <a:endParaRPr b="0" lang="en-US" sz="16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or engage in the fixing of product prices, allocation of customers, or division of sales markets.</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status or substance of ongoing or threatened litigation.</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8b"/>
                </a:solidFill>
                <a:latin typeface="Times New Roman"/>
                <a:ea typeface="Arial"/>
              </a:rPr>
              <a:t>---------------------------------------------------------------   </a:t>
            </a:r>
            <a:endParaRPr b="0" lang="en-US" sz="10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8b"/>
                </a:solidFill>
                <a:latin typeface="Times New Roman"/>
                <a:ea typeface="Arial"/>
              </a:rPr>
              <a:t>See </a:t>
            </a:r>
            <a:r>
              <a:rPr b="1" i="1" lang="en-US" sz="1400" spc="-1" strike="noStrike">
                <a:solidFill>
                  <a:srgbClr val="22228b"/>
                </a:solidFill>
                <a:latin typeface="Times New Roman"/>
                <a:ea typeface="Arial"/>
              </a:rPr>
              <a:t>IEEE-SA Standards Board Operations Manual</a:t>
            </a:r>
            <a:r>
              <a:rPr b="1" lang="en-US" sz="1400" spc="-1" strike="noStrike">
                <a:solidFill>
                  <a:srgbClr val="22228b"/>
                </a:solidFill>
                <a:latin typeface="Times New Roman"/>
                <a:ea typeface="Arial"/>
              </a:rPr>
              <a:t>, clause 5.3.10 and </a:t>
            </a:r>
            <a:r>
              <a:rPr b="1" lang="en-GB" sz="1400" spc="-1" strike="noStrike">
                <a:solidFill>
                  <a:srgbClr val="22228b"/>
                </a:solidFill>
                <a:latin typeface="Times New Roman"/>
                <a:ea typeface="Arial"/>
              </a:rPr>
              <a:t>“Promoting Competition and Innovation: What You Need to Know about the IEEE Standards Association's Antitrust and Competition Policy”</a:t>
            </a:r>
            <a:r>
              <a:rPr b="1" lang="en-US" sz="1400" spc="-1" strike="noStrike">
                <a:solidFill>
                  <a:srgbClr val="22228b"/>
                </a:solidFill>
                <a:latin typeface="Times New Roman"/>
                <a:ea typeface="Arial"/>
              </a:rPr>
              <a:t> for more detail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92D664-E2CC-4D8C-828F-667858839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C TIG”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586"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E165B4-73FC-4F25-A454-124D431FD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teleconference</a:t>
            </a:r>
            <a:endParaRPr b="0" lang="en-US" sz="3200" spc="-1" strike="noStrike">
              <a:solidFill>
                <a:srgbClr val="000000"/>
              </a:solidFill>
              <a:latin typeface="Times New Roman"/>
            </a:endParaRPr>
          </a:p>
        </p:txBody>
      </p:sp>
      <p:sp>
        <p:nvSpPr>
          <p:cNvPr id="59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enda Agree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cuss comments submitted against the draft LC PAR (doc. 11-17/1604r8) and CSD (doc. 11-17/1603r7)</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1"/>
              </a:rPr>
              <a:t>http://www.ieee802.org/3/email_dialog/msg00769.htm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s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3CA427-28E6-497B-9433-C55973D5B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59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Date Placeholder 3"/>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February 2018</cp:keywords>
  <dc:language>en-US</dc:language>
  <cp:lastModifiedBy>Serafimovski, Nikola</cp:lastModifiedBy>
  <cp:lastPrinted>2014-11-04T15:04:57Z</cp:lastPrinted>
  <dcterms:modified xsi:type="dcterms:W3CDTF">2018-02-12T14:48:49Z</dcterms:modified>
  <cp:revision>3786</cp:revision>
  <dc:subject>Task Group AY November 2015 Meeting Agenda</dc:subject>
  <dc:title>11-17/XXXX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