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43588F-F799-4675-9DD4-6A4F1F20E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B781E6-AED0-4A8F-9BB3-764170AE0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4160" y="701640"/>
            <a:ext cx="4626000" cy="3468600"/>
          </a:xfrm>
          <a:prstGeom prst="rect">
            <a:avLst/>
          </a:prstGeom>
          <a:ln w="0">
            <a:noFill/>
          </a:ln>
        </p:spPr>
      </p:sp>
      <p:sp>
        <p:nvSpPr>
          <p:cNvPr id="5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1D97F7-91EE-4F83-B6C5-1E677D417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5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5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5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A7115F-AF95-440E-A2E4-0E0FAB219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54160" y="701640"/>
            <a:ext cx="4626000" cy="3468600"/>
          </a:xfrm>
          <a:prstGeom prst="rect">
            <a:avLst/>
          </a:prstGeom>
          <a:ln w="0">
            <a:noFill/>
          </a:ln>
        </p:spPr>
      </p:sp>
      <p:sp>
        <p:nvSpPr>
          <p:cNvPr id="5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20F017-A641-49CA-BB60-0794B9CA3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6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4B4DBC-56EB-47B6-974E-C12E4E291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4160" y="701640"/>
            <a:ext cx="4626000" cy="3468600"/>
          </a:xfrm>
          <a:prstGeom prst="rect">
            <a:avLst/>
          </a:prstGeom>
          <a:ln w="0">
            <a:noFill/>
          </a:ln>
        </p:spPr>
      </p:sp>
      <p:sp>
        <p:nvSpPr>
          <p:cNvPr id="5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6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6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6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A864A4-8C4C-4399-BAAE-DE3FF40FD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54160" y="701640"/>
            <a:ext cx="4626000" cy="3468600"/>
          </a:xfrm>
          <a:prstGeom prst="rect">
            <a:avLst/>
          </a:prstGeom>
          <a:ln w="0">
            <a:noFill/>
          </a:ln>
        </p:spPr>
      </p:sp>
      <p:sp>
        <p:nvSpPr>
          <p:cNvPr id="5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54160" y="701640"/>
            <a:ext cx="4626000" cy="3468600"/>
          </a:xfrm>
          <a:prstGeom prst="rect">
            <a:avLst/>
          </a:prstGeom>
          <a:ln w="0">
            <a:noFill/>
          </a:ln>
        </p:spPr>
      </p:sp>
      <p:sp>
        <p:nvSpPr>
          <p:cNvPr id="5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B8E6AD-5DF3-4270-B84A-A0827BFF8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4160" y="701640"/>
            <a:ext cx="4626000" cy="3468600"/>
          </a:xfrm>
          <a:prstGeom prst="rect">
            <a:avLst/>
          </a:prstGeom>
          <a:ln w="0">
            <a:noFill/>
          </a:ln>
        </p:spPr>
      </p:sp>
      <p:sp>
        <p:nvSpPr>
          <p:cNvPr id="5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1CD990-BB82-4C41-9F7E-45815539D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8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772E4F-47CB-4090-898D-35DC112EE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54160" y="701640"/>
            <a:ext cx="4626000" cy="3468600"/>
          </a:xfrm>
          <a:prstGeom prst="rect">
            <a:avLst/>
          </a:prstGeom>
          <a:ln w="0">
            <a:noFill/>
          </a:ln>
        </p:spPr>
      </p:sp>
      <p:sp>
        <p:nvSpPr>
          <p:cNvPr id="5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4160" y="701640"/>
            <a:ext cx="4626000" cy="3468600"/>
          </a:xfrm>
          <a:prstGeom prst="rect">
            <a:avLst/>
          </a:prstGeom>
          <a:ln w="0">
            <a:noFill/>
          </a:ln>
        </p:spPr>
      </p:sp>
      <p:sp>
        <p:nvSpPr>
          <p:cNvPr id="5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C4A25B-0E0A-4222-A318-88D0A0D3E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4160" y="701640"/>
            <a:ext cx="4626000" cy="3468600"/>
          </a:xfrm>
          <a:prstGeom prst="rect">
            <a:avLst/>
          </a:prstGeom>
          <a:ln w="0">
            <a:noFill/>
          </a:ln>
        </p:spPr>
      </p:sp>
      <p:sp>
        <p:nvSpPr>
          <p:cNvPr id="5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D7FFE4-CE24-46EC-AEA1-C966AF507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92802A-A9A3-4E2B-98C7-DEDD904D9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3BB202-3800-42AC-B0B5-EC74E9FFB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54160" y="701640"/>
            <a:ext cx="4626000" cy="3468600"/>
          </a:xfrm>
          <a:prstGeom prst="rect">
            <a:avLst/>
          </a:prstGeom>
          <a:ln w="0">
            <a:noFill/>
          </a:ln>
        </p:spPr>
      </p:sp>
      <p:sp>
        <p:nvSpPr>
          <p:cNvPr id="5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6654EB-B537-4725-A337-16A48FB16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C9F845-0087-4514-9B53-743597BC5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D3D45B-C248-4227-A04F-DB3966406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6C934F-4C90-4C99-B8D5-3CA79DED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276930-56EF-4FBE-A6A1-AF65C683F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AB1E18-3AC0-462C-A320-79BFFD739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05FA98-7554-4D96-921F-F521C8E19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A9BFB1-3233-4993-8DA3-438B59131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82C412-0E40-41E7-8185-0D6ADF528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C65126-76E2-4555-8ACA-A7708E269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8A8628-AF91-46E4-AD79-90B5ECEE8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F33579-DF7A-4137-A6C3-64A1BFBE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54160" y="701640"/>
            <a:ext cx="4626000" cy="3468600"/>
          </a:xfrm>
          <a:prstGeom prst="rect">
            <a:avLst/>
          </a:prstGeom>
          <a:ln w="0">
            <a:noFill/>
          </a:ln>
        </p:spPr>
      </p:sp>
      <p:sp>
        <p:nvSpPr>
          <p:cNvPr id="5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4361BF-8A28-4967-93CE-D3C256602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353ED3-B63A-4222-ACAD-99049FC1A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1CE3C0-5279-49C5-A7B7-E4047F2FB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47C446-953D-4AAA-8995-4AAE5BB8E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B99E4B-2CC1-440D-88E7-48C181FAC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B4397D-F090-4BA8-BE3C-FB734839E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A8AF42-525A-4848-917C-899EAF725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18BBE9-9E04-4506-9B3D-F08587293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384EF7-D189-4C3E-92EA-BC6008635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7BF9D1-C6DC-42C0-94D8-A898D2ECE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863BE22-A5D1-4290-9903-002B17F52B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7680" y="696960"/>
            <a:ext cx="4640400" cy="3479760"/>
          </a:xfrm>
          <a:prstGeom prst="rect">
            <a:avLst/>
          </a:prstGeom>
          <a:ln w="0">
            <a:noFill/>
          </a:ln>
        </p:spPr>
      </p:sp>
      <p:sp>
        <p:nvSpPr>
          <p:cNvPr id="52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4A76ED-7418-48AD-A398-1831F602D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822BCF-AC19-4C15-A9DA-AA5668ED8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83B6FA-3FC1-4B3A-B2EE-32F32B424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0A3EDE-6FA4-42AE-B710-AA6D21E62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4160" y="701640"/>
            <a:ext cx="4626000" cy="3468600"/>
          </a:xfrm>
          <a:prstGeom prst="rect">
            <a:avLst/>
          </a:prstGeom>
          <a:ln w="0">
            <a:noFill/>
          </a:ln>
        </p:spPr>
      </p:sp>
      <p:sp>
        <p:nvSpPr>
          <p:cNvPr id="7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D4D620-780B-4939-93B2-1C26AF9A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F55A30-B7EE-44B1-95AB-DEA6B10E3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6A8E71-D9C2-4EC9-B2C0-07FD83B97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4160" y="701640"/>
            <a:ext cx="4626000" cy="3468600"/>
          </a:xfrm>
          <a:prstGeom prst="rect">
            <a:avLst/>
          </a:prstGeom>
          <a:ln w="0">
            <a:noFill/>
          </a:ln>
        </p:spPr>
      </p:sp>
      <p:sp>
        <p:nvSpPr>
          <p:cNvPr id="7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6D46D7-E1D9-4C44-9F51-C75886316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4160" y="701640"/>
            <a:ext cx="4626000" cy="3468600"/>
          </a:xfrm>
          <a:prstGeom prst="rect">
            <a:avLst/>
          </a:prstGeom>
          <a:ln w="0">
            <a:noFill/>
          </a:ln>
        </p:spPr>
      </p:sp>
      <p:sp>
        <p:nvSpPr>
          <p:cNvPr id="7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42EAE9-94CB-42EF-ACAA-A95661512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C5828D1-30AD-4DD4-8E14-7C1724A615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7680" y="696960"/>
            <a:ext cx="4640400" cy="3479760"/>
          </a:xfrm>
          <a:prstGeom prst="rect">
            <a:avLst/>
          </a:prstGeom>
          <a:ln w="0">
            <a:noFill/>
          </a:ln>
        </p:spPr>
      </p:sp>
      <p:sp>
        <p:nvSpPr>
          <p:cNvPr id="52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AADC27-F22D-47EB-B929-D7E575056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54160" y="701640"/>
            <a:ext cx="4626000" cy="3468600"/>
          </a:xfrm>
          <a:prstGeom prst="rect">
            <a:avLst/>
          </a:prstGeom>
          <a:ln w="0">
            <a:noFill/>
          </a:ln>
        </p:spPr>
      </p:sp>
      <p:sp>
        <p:nvSpPr>
          <p:cNvPr id="7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4160" y="701640"/>
            <a:ext cx="4626000" cy="3468600"/>
          </a:xfrm>
          <a:prstGeom prst="rect">
            <a:avLst/>
          </a:prstGeom>
          <a:ln w="0">
            <a:noFill/>
          </a:ln>
        </p:spPr>
      </p:sp>
      <p:sp>
        <p:nvSpPr>
          <p:cNvPr id="7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583A32-2D8E-4F0E-899C-BF1DBF999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4160" y="701640"/>
            <a:ext cx="4626000" cy="3468600"/>
          </a:xfrm>
          <a:prstGeom prst="rect">
            <a:avLst/>
          </a:prstGeom>
          <a:ln w="0">
            <a:noFill/>
          </a:ln>
        </p:spPr>
      </p:sp>
      <p:sp>
        <p:nvSpPr>
          <p:cNvPr id="8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058802-243A-4738-8E71-EB70E18AF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06F7F2-1A0B-4EB0-B56C-F933B4545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0E1CD2-D009-4146-A386-9A438A7CD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54160" y="701640"/>
            <a:ext cx="4626000" cy="3468600"/>
          </a:xfrm>
          <a:prstGeom prst="rect">
            <a:avLst/>
          </a:prstGeom>
          <a:ln w="0">
            <a:noFill/>
          </a:ln>
        </p:spPr>
      </p:sp>
      <p:sp>
        <p:nvSpPr>
          <p:cNvPr id="8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4160" y="701640"/>
            <a:ext cx="4626000" cy="3468600"/>
          </a:xfrm>
          <a:prstGeom prst="rect">
            <a:avLst/>
          </a:prstGeom>
          <a:ln w="0">
            <a:noFill/>
          </a:ln>
        </p:spPr>
      </p:sp>
      <p:sp>
        <p:nvSpPr>
          <p:cNvPr id="8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3E3045-B348-488D-B909-13580491D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7CDB4D-270A-4DF6-A4BA-66523F28E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B4C570-7566-48C8-BADA-D8AB31936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4160" y="701640"/>
            <a:ext cx="4626000" cy="3468600"/>
          </a:xfrm>
          <a:prstGeom prst="rect">
            <a:avLst/>
          </a:prstGeom>
          <a:ln w="0">
            <a:noFill/>
          </a:ln>
        </p:spPr>
      </p:sp>
      <p:sp>
        <p:nvSpPr>
          <p:cNvPr id="8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4160" y="701640"/>
            <a:ext cx="4626000" cy="3468600"/>
          </a:xfrm>
          <a:prstGeom prst="rect">
            <a:avLst/>
          </a:prstGeom>
          <a:ln w="0">
            <a:noFill/>
          </a:ln>
        </p:spPr>
      </p:sp>
      <p:sp>
        <p:nvSpPr>
          <p:cNvPr id="8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57DA7E-63C0-4761-B9E6-3CA01C0C4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C1FB47-34AD-4377-A127-D0E907031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144E08B-C4DF-44D7-BF11-CED72AA81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54160" y="701640"/>
            <a:ext cx="4626000" cy="3468600"/>
          </a:xfrm>
          <a:prstGeom prst="rect">
            <a:avLst/>
          </a:prstGeom>
          <a:ln w="0">
            <a:noFill/>
          </a:ln>
        </p:spPr>
      </p:sp>
      <p:sp>
        <p:nvSpPr>
          <p:cNvPr id="5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B33AD1-856E-4201-9500-758CF9E54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4160" y="701640"/>
            <a:ext cx="4626000" cy="3468600"/>
          </a:xfrm>
          <a:prstGeom prst="rect">
            <a:avLst/>
          </a:prstGeom>
          <a:ln w="0">
            <a:noFill/>
          </a:ln>
        </p:spPr>
      </p:sp>
      <p:sp>
        <p:nvSpPr>
          <p:cNvPr id="8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F9BF45-A4E3-4FF8-9464-10FE3FAD0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4160" y="701640"/>
            <a:ext cx="4626000" cy="3468600"/>
          </a:xfrm>
          <a:prstGeom prst="rect">
            <a:avLst/>
          </a:prstGeom>
          <a:ln w="0">
            <a:noFill/>
          </a:ln>
        </p:spPr>
      </p:sp>
      <p:sp>
        <p:nvSpPr>
          <p:cNvPr id="8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112DCE-083A-4897-AB02-2036480B3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89400E-79A4-44D9-8001-209BCC7EC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4D4079-812A-4095-9C9D-A0E5B5106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BEF464-0FC3-44C4-8DB4-4EC607FE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8B778A-4CD2-4405-9D50-B6E2764FC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74246B-D85F-4A9B-9DBA-E62BFC4BC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F11FA3-807F-4A40-8A15-C48216208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951E4E-DB81-44AA-9BEA-854FF09D3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08392D-FA59-4C03-81E6-31E712055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54160" y="701640"/>
            <a:ext cx="4626000" cy="3468600"/>
          </a:xfrm>
          <a:prstGeom prst="rect">
            <a:avLst/>
          </a:prstGeom>
          <a:ln w="0">
            <a:noFill/>
          </a:ln>
        </p:spPr>
      </p:sp>
      <p:sp>
        <p:nvSpPr>
          <p:cNvPr id="5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1D700E-BD94-4187-9F07-BAB7B596F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494DB2-FAE9-45EA-BA8C-A1955FDA4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FAD0DA-88E1-4A55-A5CB-652343F89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54160" y="701640"/>
            <a:ext cx="4626000" cy="3468600"/>
          </a:xfrm>
          <a:prstGeom prst="rect">
            <a:avLst/>
          </a:prstGeom>
          <a:ln w="0">
            <a:noFill/>
          </a:ln>
        </p:spPr>
      </p:sp>
      <p:sp>
        <p:nvSpPr>
          <p:cNvPr id="9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0D7A31-C3DD-4B21-A32E-AC4FE5D10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FB804A-A012-4AA6-A646-AD6DD7412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54160" y="701640"/>
            <a:ext cx="4626000" cy="3468600"/>
          </a:xfrm>
          <a:prstGeom prst="rect">
            <a:avLst/>
          </a:prstGeom>
          <a:ln w="0">
            <a:noFill/>
          </a:ln>
        </p:spPr>
      </p:sp>
      <p:sp>
        <p:nvSpPr>
          <p:cNvPr id="9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C0FDDF-4A28-41C6-9A54-5C92BB512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080D28-2E92-4DB2-9605-0D6D827A7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198F0F-94DC-405A-80B8-1EE798A56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54160" y="701640"/>
            <a:ext cx="4626000" cy="3468600"/>
          </a:xfrm>
          <a:prstGeom prst="rect">
            <a:avLst/>
          </a:prstGeom>
          <a:ln w="0">
            <a:noFill/>
          </a:ln>
        </p:spPr>
      </p:sp>
      <p:sp>
        <p:nvSpPr>
          <p:cNvPr id="9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CCF508-A90E-44F3-AA84-A2B55081B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997EA7-FFC2-4113-BA6E-EF687C171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3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3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3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92EA97-B4A6-43C1-9F41-C3EC476AE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4160" y="701640"/>
            <a:ext cx="4626000" cy="3468600"/>
          </a:xfrm>
          <a:prstGeom prst="rect">
            <a:avLst/>
          </a:prstGeom>
          <a:ln w="0">
            <a:noFill/>
          </a:ln>
        </p:spPr>
      </p:sp>
      <p:sp>
        <p:nvSpPr>
          <p:cNvPr id="53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54160" y="701640"/>
            <a:ext cx="4626000" cy="3468600"/>
          </a:xfrm>
          <a:prstGeom prst="rect">
            <a:avLst/>
          </a:prstGeom>
          <a:ln w="0">
            <a:noFill/>
          </a:ln>
        </p:spPr>
      </p:sp>
      <p:sp>
        <p:nvSpPr>
          <p:cNvPr id="9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2C7498-0DE1-4740-9670-523E162DA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10641D-2492-4DFC-8AE0-6CD9F25E7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846AB2-84E4-4FC5-B203-FB2860095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6DE21F-F69A-4F1F-9AD4-44F512E8A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6953EC-E287-4894-A28A-4CE726B42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54160" y="701640"/>
            <a:ext cx="4626000" cy="3468600"/>
          </a:xfrm>
          <a:prstGeom prst="rect">
            <a:avLst/>
          </a:prstGeom>
          <a:ln w="0">
            <a:noFill/>
          </a:ln>
        </p:spPr>
      </p:sp>
      <p:sp>
        <p:nvSpPr>
          <p:cNvPr id="9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76E3C4-A60B-4E5E-B216-E3FB0192C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BC13E2-26BD-460E-AF84-840CCD32E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6E13BB-D444-420C-A77A-9ABE63B93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A73EC-D567-4768-A077-29909E07A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54160" y="701640"/>
            <a:ext cx="4626000" cy="3468600"/>
          </a:xfrm>
          <a:prstGeom prst="rect">
            <a:avLst/>
          </a:prstGeom>
          <a:ln w="0">
            <a:noFill/>
          </a:ln>
        </p:spPr>
      </p:sp>
      <p:sp>
        <p:nvSpPr>
          <p:cNvPr id="10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A6771A-83B9-4939-A2C8-5AE847359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CB9F57-106C-4D72-8294-8078FB734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54160" y="701640"/>
            <a:ext cx="4626000" cy="3468600"/>
          </a:xfrm>
          <a:prstGeom prst="rect">
            <a:avLst/>
          </a:prstGeom>
          <a:ln w="0">
            <a:noFill/>
          </a:ln>
        </p:spPr>
      </p:sp>
      <p:sp>
        <p:nvSpPr>
          <p:cNvPr id="5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9B19B-5317-461F-95D9-8F54D8C9E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B3BE4-5EBA-4E52-A934-7777280B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BEDE0-BF6E-4FBC-9C52-CD2AAAA8A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C8193-20AA-4E3D-A7F8-A7F68F954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A59F-1F23-4967-A8DE-F8963638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E400-565C-43E1-AC59-A2F26272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FA42-AD54-44A0-B3C4-FFE3A7D0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57B5-0643-46CE-9F27-6234111D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387A-5929-4B8E-A7E2-7833F47D0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427C-8A83-4DAA-AA76-EE19BD1B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6A38-CCDC-4B89-AF3E-59437C987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CE85-A8E1-4A09-8E49-3642F5892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23BD79-1E28-42C1-87CC-2A5C24FDA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FEEC68-9AA3-4432-A415-0978D88E8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BDB5C8-0DA2-4E55-97C4-C79B19B56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741DEB-D81A-4786-8568-057965DF7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C0799B-49ED-43FF-88CD-21F957B45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8300FB-4B56-4E45-B264-C38E61044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1812CC-697C-4A9B-8C26-70956083F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5BF6ED-5FBB-4B2A-9711-14D50C04D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A4DD35-050F-4C99-AF8E-E3F9CE1D7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D61E6E-55C6-414C-8D35-A27BDB117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9FD1C9-D4E4-476C-8337-81678B498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B904D7-B7D6-4F9D-A345-E69F74E26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956BE1-4024-48D9-BEF5-312FC582E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6FFCCE-B617-4859-96F1-D522D5CE1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8574AB-CA60-4005-AEFB-4C66667FF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ecia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InterDigital for sponsoring the ad-hoc meeting</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Jon Rosdahl, George Calcev, Face To Face Events Inc. and Verilan for the logistics</a:t>
            </a:r>
            <a:endParaRPr b="0" lang="en-US" sz="22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62FAC9-7792-4144-A8AB-F46C19D9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609B8A-AB1F-48A6-A094-D91C54199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FBD2DD-9161-4FB9-AECC-AB485FC7C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9760FF-9F29-4060-862B-AF23C7270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82904B-A840-4D8B-85FC-6FC02C311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EE9361-16A9-4C96-9D3B-CEE413FFC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A35141-8CBA-4D2B-B154-9462F7289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D27320-754A-4955-84FB-940F02AEA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3F7158-0852-4629-80D7-15753E8DA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C8131A-578E-4F5B-9B23-FDB64BF66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346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9BD050-290D-4108-94D1-8ECCC2432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ADB5FD-10CF-4BDE-9086-70E462ABC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CBFE65-71E6-4036-B4DF-DE75F3B1A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5C2F6E-39AF-459E-A1EF-34F832988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464028-B535-465A-A2C9-B55DF61B2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A7A107-91D6-4128-98EB-1A7B02313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1)</a:t>
            </a:r>
            <a:endParaRPr b="0" lang="en-US" sz="3200" spc="-1" strike="noStrike">
              <a:solidFill>
                <a:srgbClr val="000000"/>
              </a:solidFill>
              <a:latin typeface="Times New Roman"/>
            </a:endParaRPr>
          </a:p>
        </p:txBody>
      </p:sp>
      <p:sp>
        <p:nvSpPr>
          <p:cNvPr id="2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0" name=""/>
          <p:cNvGraphicFramePr/>
          <p:nvPr/>
        </p:nvGraphicFramePr>
        <p:xfrm>
          <a:off x="696960" y="1650960"/>
          <a:ext cx="7913520" cy="47592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968ACE-1EB3-4040-AEF2-FACCCDAAA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2)</a:t>
            </a:r>
            <a:endParaRPr b="0" lang="en-US" sz="3200" spc="-1" strike="noStrike">
              <a:solidFill>
                <a:srgbClr val="000000"/>
              </a:solidFill>
              <a:latin typeface="Times New Roman"/>
            </a:endParaRPr>
          </a:p>
        </p:txBody>
      </p:sp>
      <p:sp>
        <p:nvSpPr>
          <p:cNvPr id="2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5"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ao (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dditional beamforming procedures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29EF17-203D-40D1-B4D0-9B3FB9DAF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49"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2D8F29-A6C4-4B68-A21E-8B67CBC74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5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DE5D5C5-E976-4317-B9F0-A01554FFAA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98DC1D-CB6E-4022-894D-1C2E460E4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5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3EBE9B-886A-4CC1-8094-0D8D96913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0F1A4D-88E8-46E2-BFE5-91491E1ED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52520" indent="45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1 Abstain).</a:t>
            </a:r>
            <a:endParaRPr b="0" lang="en-US" sz="20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9B4DC3-03C4-4452-8A04-4534C72FE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Claudio da Silva</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Assaf Kasher</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 (36 Yes; 0 No; 2 Abstain).</a:t>
            </a:r>
            <a:endParaRPr b="0" lang="en-US" sz="16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20B7A0-1826-4975-898F-E51F4E8EC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7.</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4 Yes; 0 No; 1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70A153-847B-4F72-B851-27A974ED4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31C8EB-B02F-4929-9A8E-526EF084A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C28AA4-91CF-4859-82CD-4431E750F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7C5B7F-ECB7-44F7-AE52-5700B8140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8F1D8F-18D2-4063-9244-1570BD8D8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6"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1B9C955-6316-4B2C-A5B6-C1A6173DB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87534E-FDB7-49AA-810F-43F424513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B26C14-2E4C-4CF9-942D-B7206AC2A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276CE7-67F1-41FE-94A2-37BB87E2A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1)</a:t>
            </a:r>
            <a:endParaRPr b="0" lang="en-US" sz="3200" spc="-1" strike="noStrike">
              <a:solidFill>
                <a:srgbClr val="000000"/>
              </a:solidFill>
              <a:latin typeface="Times New Roman"/>
            </a:endParaRPr>
          </a:p>
        </p:txBody>
      </p:sp>
      <p:sp>
        <p:nvSpPr>
          <p:cNvPr id="3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0" name=""/>
          <p:cNvGraphicFramePr/>
          <p:nvPr/>
        </p:nvGraphicFramePr>
        <p:xfrm>
          <a:off x="696960" y="165096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DA4226-7B3A-4022-B602-B0E5E6F30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2)</a:t>
            </a:r>
            <a:endParaRPr b="0" lang="en-US" sz="3200" spc="-1" strike="noStrike">
              <a:solidFill>
                <a:srgbClr val="000000"/>
              </a:solidFill>
              <a:latin typeface="Times New Roman"/>
            </a:endParaRPr>
          </a:p>
        </p:txBody>
      </p:sp>
      <p:sp>
        <p:nvSpPr>
          <p:cNvPr id="3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5" name=""/>
          <p:cNvGraphicFramePr/>
          <p:nvPr/>
        </p:nvGraphicFramePr>
        <p:xfrm>
          <a:off x="696960" y="1650960"/>
          <a:ext cx="7913520" cy="14702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4F6473-8ACF-492D-92EE-633CC8160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A31784-AB99-49A4-9D9A-8632E0BAF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FBE284-4B35-47F5-A488-65B858861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39" name=""/>
          <p:cNvGraphicFramePr/>
          <p:nvPr/>
        </p:nvGraphicFramePr>
        <p:xfrm>
          <a:off x="696960" y="1650960"/>
          <a:ext cx="7913520" cy="42181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15508A-DEF1-4B70-8FAC-1926F675E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A18CA4-2E09-4484-89AE-8466790CC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4F22AE-4F3E-491F-9C8E-68EE3B313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0 Abstain).</a:t>
            </a:r>
            <a:endParaRPr b="0" lang="en-US" sz="2000" spc="-1" strike="noStrike">
              <a:solidFill>
                <a:srgbClr val="000000"/>
              </a:solidFill>
              <a:latin typeface="Times New Roman"/>
            </a:endParaRPr>
          </a:p>
        </p:txBody>
      </p:sp>
      <p:sp>
        <p:nvSpPr>
          <p:cNvPr id="3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3AEB17-D1F5-4EB1-B4A6-C6330FFE2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683D19-89F0-45BD-8E24-ED745722F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0 Yes; 0 No; 0 Abstain).</a:t>
            </a:r>
            <a:endParaRPr b="0" lang="en-US" sz="2000" spc="-1" strike="noStrike">
              <a:solidFill>
                <a:srgbClr val="000000"/>
              </a:solidFill>
              <a:latin typeface="Times New Roman"/>
            </a:endParaRPr>
          </a:p>
        </p:txBody>
      </p:sp>
      <p:sp>
        <p:nvSpPr>
          <p:cNvPr id="3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05E406-6698-4CBA-B188-351F05967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4825AB-8AA1-4567-A287-14CD3FB5E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29 as proposed in 18/040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3358E0-7771-4952-920E-9BCFBDB39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18/0377r1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A typo is fixed by the author and the latest version for approval is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EEC88B-7FE6-4662-86C9-8CFACB7CF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603F4E-8F08-451A-9B64-696ACF529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1 Yes; 0 No; 0 Abstain).</a:t>
            </a:r>
            <a:endParaRPr b="0" lang="en-US" sz="2000" spc="-1" strike="noStrike">
              <a:solidFill>
                <a:srgbClr val="000000"/>
              </a:solidFill>
              <a:latin typeface="Times New Roman"/>
            </a:endParaRPr>
          </a:p>
        </p:txBody>
      </p:sp>
      <p:sp>
        <p:nvSpPr>
          <p:cNvPr id="3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2C82F6-1FD0-4D53-B3EB-CC35F8FBF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Rui Y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7 Yes; 0 No; 0 Abstain).</a:t>
            </a:r>
            <a:endParaRPr b="0" lang="en-US" sz="2000" spc="-1" strike="noStrike">
              <a:solidFill>
                <a:srgbClr val="000000"/>
              </a:solidFill>
              <a:latin typeface="Times New Roman"/>
            </a:endParaRPr>
          </a:p>
        </p:txBody>
      </p:sp>
      <p:sp>
        <p:nvSpPr>
          <p:cNvPr id="38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716325-74F7-440E-BB59-B01CFFCB4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2 Yes; 0 No; 0 Abstain).</a:t>
            </a:r>
            <a:endParaRPr b="0" lang="en-US" sz="2000" spc="-1" strike="noStrike">
              <a:solidFill>
                <a:srgbClr val="000000"/>
              </a:solidFill>
              <a:latin typeface="Times New Roman"/>
            </a:endParaRPr>
          </a:p>
        </p:txBody>
      </p:sp>
      <p:sp>
        <p:nvSpPr>
          <p:cNvPr id="39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D11353-56E0-4E8F-BCA7-B24FA969A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6 Yes; 0 No; 0 Abstain).</a:t>
            </a:r>
            <a:endParaRPr b="0" lang="en-US" sz="2000" spc="-1" strike="noStrike">
              <a:solidFill>
                <a:srgbClr val="000000"/>
              </a:solidFill>
              <a:latin typeface="Times New Roman"/>
            </a:endParaRPr>
          </a:p>
        </p:txBody>
      </p:sp>
      <p:sp>
        <p:nvSpPr>
          <p:cNvPr id="39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EC098A-2B69-4862-B455-3C66F6A73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4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40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0716D2-3959-48BD-ACF3-4518F6E25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CACEF9-FD6E-45FF-9F9C-93F87E6EC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408"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F3925F-674A-4B2D-88B2-95D0EA60E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C141F5-890A-4AA8-9AB5-6759DEF2D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0B9818-D8CE-4C31-9D00-CE3ECFD3B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FC6658-2C9E-4F53-9FCB-2424C554D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4A3418-886C-4DE2-8181-75E0BD4B2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8DB297-7440-447C-8229-350CC761C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F9B26F-0587-4512-8F14-378598B63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9AAFD4-8B36-4056-AAAE-586324F04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99DBDF-6667-43AB-A766-BEA1D9EAA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Comment Resolution</a:t>
            </a:r>
            <a:endParaRPr b="0" lang="en-US" sz="3200" spc="-1" strike="noStrike">
              <a:solidFill>
                <a:srgbClr val="000000"/>
              </a:solidFill>
              <a:latin typeface="Times New Roman"/>
            </a:endParaRPr>
          </a:p>
        </p:txBody>
      </p:sp>
      <p:sp>
        <p:nvSpPr>
          <p:cNvPr id="44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32, 1746, 1786, 1787, and 1953 as proposed in 18/0506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98A8262-0D89-4CBF-A19C-9D17EFD11A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C3EE35-F853-4926-8C47-6D7E7D0BA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7:  Draft</a:t>
            </a:r>
            <a:endParaRPr b="0" lang="en-US" sz="3200" spc="-1" strike="noStrike">
              <a:solidFill>
                <a:srgbClr val="000000"/>
              </a:solidFill>
              <a:latin typeface="Times New Roman"/>
            </a:endParaRPr>
          </a:p>
        </p:txBody>
      </p:sp>
      <p:sp>
        <p:nvSpPr>
          <p:cNvPr id="4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410r1 for </a:t>
            </a:r>
            <a:r>
              <a:rPr b="1" lang="en-GB" sz="2000" spc="-1" strike="noStrike">
                <a:solidFill>
                  <a:srgbClr val="000000"/>
                </a:solidFill>
                <a:latin typeface="Times New Roman"/>
              </a:rPr>
              <a:t>the revised transmission rules for Beam Refinement Request and Respons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52693A-0553-4B0A-AA59-32F0FE582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8:  Comment Resolution</a:t>
            </a:r>
            <a:endParaRPr b="0" lang="en-US" sz="3200" spc="-1" strike="noStrike">
              <a:solidFill>
                <a:srgbClr val="000000"/>
              </a:solidFill>
              <a:latin typeface="Times New Roman"/>
            </a:endParaRPr>
          </a:p>
        </p:txBody>
      </p:sp>
      <p:sp>
        <p:nvSpPr>
          <p:cNvPr id="4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525 as proposed in 18/0332r4;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2138 as proposed in 18/0275r1; </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EB4B1F-EB7A-45EC-9882-61A571898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9:  Comment Resolution</a:t>
            </a:r>
            <a:endParaRPr b="0" lang="en-US" sz="3200" spc="-1" strike="noStrike">
              <a:solidFill>
                <a:srgbClr val="000000"/>
              </a:solidFill>
              <a:latin typeface="Times New Roman"/>
            </a:endParaRPr>
          </a:p>
        </p:txBody>
      </p:sp>
      <p:sp>
        <p:nvSpPr>
          <p:cNvPr id="4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7, 1488, and 2303 as proposed in 18/051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E2A8C-4F20-498A-8833-06CA48012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0:  Comment Resolution</a:t>
            </a:r>
            <a:endParaRPr b="0" lang="en-US" sz="3200" spc="-1" strike="noStrike">
              <a:solidFill>
                <a:srgbClr val="000000"/>
              </a:solidFill>
              <a:latin typeface="Times New Roman"/>
            </a:endParaRPr>
          </a:p>
        </p:txBody>
      </p:sp>
      <p:sp>
        <p:nvSpPr>
          <p:cNvPr id="4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03 as proposed in 18/039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AE6767-F024-4E3C-BBB9-0C6D6A820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1:  Comment Resolution</a:t>
            </a:r>
            <a:endParaRPr b="0" lang="en-US" sz="3200" spc="-1" strike="noStrike">
              <a:solidFill>
                <a:srgbClr val="000000"/>
              </a:solidFill>
              <a:latin typeface="Times New Roman"/>
            </a:endParaRPr>
          </a:p>
        </p:txBody>
      </p:sp>
      <p:sp>
        <p:nvSpPr>
          <p:cNvPr id="4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035 as proposed in 18/0489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24E2A5-64DB-44BD-98ED-2D5A2D733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2:  Comment Resolution</a:t>
            </a:r>
            <a:endParaRPr b="0" lang="en-US" sz="3200" spc="-1" strike="noStrike">
              <a:solidFill>
                <a:srgbClr val="000000"/>
              </a:solidFill>
              <a:latin typeface="Times New Roman"/>
            </a:endParaRPr>
          </a:p>
        </p:txBody>
      </p:sp>
      <p:sp>
        <p:nvSpPr>
          <p:cNvPr id="4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3, 1474, 1641, 1957, 1958, 1959, 1963, 2120, 2121, 2122, 2123, 2124, </a:t>
            </a:r>
            <a:r>
              <a:rPr b="0" lang="en-US" sz="1600" spc="-1" strike="noStrike">
                <a:solidFill>
                  <a:srgbClr val="000000"/>
                </a:solidFill>
                <a:latin typeface="Times New Roman"/>
              </a:rPr>
              <a:t>	</a:t>
            </a:r>
            <a:r>
              <a:rPr b="0" lang="en-US" sz="1600" spc="-1" strike="noStrike">
                <a:solidFill>
                  <a:srgbClr val="000000"/>
                </a:solidFill>
                <a:latin typeface="Times New Roman"/>
              </a:rPr>
              <a:t>2247, 2248, 2249, 2250, 2251, 2253, 2254, 1568, and 157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376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078 and 2176 as proposed in 18/0375r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CC4B8B-4E34-4701-AB6E-C261E707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3:  TBD</a:t>
            </a:r>
            <a:endParaRPr b="0" lang="en-US" sz="3200" spc="-1" strike="noStrike">
              <a:solidFill>
                <a:srgbClr val="000000"/>
              </a:solidFill>
              <a:latin typeface="Times New Roman"/>
            </a:endParaRPr>
          </a:p>
        </p:txBody>
      </p:sp>
      <p:sp>
        <p:nvSpPr>
          <p:cNvPr id="4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65E41D-5C45-4868-8E06-AAC2C5678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C804A6-B58B-48BD-BA9C-B79203508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9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FEFFCD-A850-4DB2-8C37-A1F99B945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9B536F-361B-4B69-9CA8-7586E647E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6T23:37:24Z</dcterms:modified>
  <cp:revision>6932</cp:revision>
  <dc:subject>Task Group AY November 2015 Meeting Agenda</dc:subject>
  <dc:title>11-18/0300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