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C4FBE8-C69F-4CA8-B943-B43CB9C5E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4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4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933200-F205-40D5-B125-14D0D41B0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54160" y="701640"/>
            <a:ext cx="4626000" cy="3468600"/>
          </a:xfrm>
          <a:prstGeom prst="rect">
            <a:avLst/>
          </a:prstGeom>
          <a:ln w="0">
            <a:noFill/>
          </a:ln>
        </p:spPr>
      </p:sp>
      <p:sp>
        <p:nvSpPr>
          <p:cNvPr id="4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9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DFCBB1-3EC4-4513-BF9E-18E5A87DF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49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49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49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0D6F5B-F846-4FA9-9760-94B777E4F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54160" y="701640"/>
            <a:ext cx="4626000" cy="3468600"/>
          </a:xfrm>
          <a:prstGeom prst="rect">
            <a:avLst/>
          </a:prstGeom>
          <a:ln w="0">
            <a:noFill/>
          </a:ln>
        </p:spPr>
      </p:sp>
      <p:sp>
        <p:nvSpPr>
          <p:cNvPr id="5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0342F4-E7FC-47EA-82C7-32F9B8C91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0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0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0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93F65F-76ED-4581-A6E2-5052DFD33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54160" y="701640"/>
            <a:ext cx="4626000" cy="3468600"/>
          </a:xfrm>
          <a:prstGeom prst="rect">
            <a:avLst/>
          </a:prstGeom>
          <a:ln w="0">
            <a:noFill/>
          </a:ln>
        </p:spPr>
      </p:sp>
      <p:sp>
        <p:nvSpPr>
          <p:cNvPr id="5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1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1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197B3A-F06C-4476-AB69-AD04798F2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54160" y="701640"/>
            <a:ext cx="4626000" cy="3468600"/>
          </a:xfrm>
          <a:prstGeom prst="rect">
            <a:avLst/>
          </a:prstGeom>
          <a:ln w="0">
            <a:noFill/>
          </a:ln>
        </p:spPr>
      </p:sp>
      <p:sp>
        <p:nvSpPr>
          <p:cNvPr id="5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54160" y="701640"/>
            <a:ext cx="4626000" cy="3468600"/>
          </a:xfrm>
          <a:prstGeom prst="rect">
            <a:avLst/>
          </a:prstGeom>
          <a:ln w="0">
            <a:noFill/>
          </a:ln>
        </p:spPr>
      </p:sp>
      <p:sp>
        <p:nvSpPr>
          <p:cNvPr id="5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DC86CB-E846-4E8F-BA4D-5673702A1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4160" y="701640"/>
            <a:ext cx="4626000" cy="3468600"/>
          </a:xfrm>
          <a:prstGeom prst="rect">
            <a:avLst/>
          </a:prstGeom>
          <a:ln w="0">
            <a:noFill/>
          </a:ln>
        </p:spPr>
      </p:sp>
      <p:sp>
        <p:nvSpPr>
          <p:cNvPr id="5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9D4EE0-437F-4C3D-9681-E4C0747C2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951421-392C-4930-839F-2A6E4A51D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54160" y="701640"/>
            <a:ext cx="4626000" cy="3468600"/>
          </a:xfrm>
          <a:prstGeom prst="rect">
            <a:avLst/>
          </a:prstGeom>
          <a:ln w="0">
            <a:noFill/>
          </a:ln>
        </p:spPr>
      </p:sp>
      <p:sp>
        <p:nvSpPr>
          <p:cNvPr id="5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54160" y="701640"/>
            <a:ext cx="4626000" cy="3468600"/>
          </a:xfrm>
          <a:prstGeom prst="rect">
            <a:avLst/>
          </a:prstGeom>
          <a:ln w="0">
            <a:noFill/>
          </a:ln>
        </p:spPr>
      </p:sp>
      <p:sp>
        <p:nvSpPr>
          <p:cNvPr id="5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A676EB-1322-45ED-9ACB-F59A3F06A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54160" y="701640"/>
            <a:ext cx="4626000" cy="3468600"/>
          </a:xfrm>
          <a:prstGeom prst="rect">
            <a:avLst/>
          </a:prstGeom>
          <a:ln w="0">
            <a:noFill/>
          </a:ln>
        </p:spPr>
      </p:sp>
      <p:sp>
        <p:nvSpPr>
          <p:cNvPr id="5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18A7BE-241F-4CC7-9F79-F989D7AF1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54160" y="701640"/>
            <a:ext cx="4626000" cy="3468600"/>
          </a:xfrm>
          <a:prstGeom prst="rect">
            <a:avLst/>
          </a:prstGeom>
          <a:ln w="0">
            <a:noFill/>
          </a:ln>
        </p:spPr>
      </p:sp>
      <p:sp>
        <p:nvSpPr>
          <p:cNvPr id="5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540772-C3FE-4777-9996-2DCB7CEE1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54160" y="701640"/>
            <a:ext cx="4626000" cy="3468600"/>
          </a:xfrm>
          <a:prstGeom prst="rect">
            <a:avLst/>
          </a:prstGeom>
          <a:ln w="0">
            <a:noFill/>
          </a:ln>
        </p:spPr>
      </p:sp>
      <p:sp>
        <p:nvSpPr>
          <p:cNvPr id="5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4A08D3-3C92-4CEE-BDAE-04EA189C8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54160" y="701640"/>
            <a:ext cx="4626000" cy="3468600"/>
          </a:xfrm>
          <a:prstGeom prst="rect">
            <a:avLst/>
          </a:prstGeom>
          <a:ln w="0">
            <a:noFill/>
          </a:ln>
        </p:spPr>
      </p:sp>
      <p:sp>
        <p:nvSpPr>
          <p:cNvPr id="4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D8DE52-A6C2-4EB8-AF2D-741952D09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54160" y="701640"/>
            <a:ext cx="4626000" cy="3468600"/>
          </a:xfrm>
          <a:prstGeom prst="rect">
            <a:avLst/>
          </a:prstGeom>
          <a:ln w="0">
            <a:noFill/>
          </a:ln>
        </p:spPr>
      </p:sp>
      <p:sp>
        <p:nvSpPr>
          <p:cNvPr id="5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8613C6-3838-4B0A-AB07-79CDA4C11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54160" y="701640"/>
            <a:ext cx="4626000" cy="3468600"/>
          </a:xfrm>
          <a:prstGeom prst="rect">
            <a:avLst/>
          </a:prstGeom>
          <a:ln w="0">
            <a:noFill/>
          </a:ln>
        </p:spPr>
      </p:sp>
      <p:sp>
        <p:nvSpPr>
          <p:cNvPr id="5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DA1C41-2E7B-4FA0-B25D-0819FC162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54160" y="701640"/>
            <a:ext cx="4626000" cy="3468600"/>
          </a:xfrm>
          <a:prstGeom prst="rect">
            <a:avLst/>
          </a:prstGeom>
          <a:ln w="0">
            <a:noFill/>
          </a:ln>
        </p:spPr>
      </p:sp>
      <p:sp>
        <p:nvSpPr>
          <p:cNvPr id="5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BDED4C-D563-4EC7-8FF1-2EA60AA21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54160" y="701640"/>
            <a:ext cx="4626000" cy="3468600"/>
          </a:xfrm>
          <a:prstGeom prst="rect">
            <a:avLst/>
          </a:prstGeom>
          <a:ln w="0">
            <a:noFill/>
          </a:ln>
        </p:spPr>
      </p:sp>
      <p:sp>
        <p:nvSpPr>
          <p:cNvPr id="5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FC2961-A369-40DF-8999-568F3CD3B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54160" y="701640"/>
            <a:ext cx="4626000" cy="3468600"/>
          </a:xfrm>
          <a:prstGeom prst="rect">
            <a:avLst/>
          </a:prstGeom>
          <a:ln w="0">
            <a:noFill/>
          </a:ln>
        </p:spPr>
      </p:sp>
      <p:sp>
        <p:nvSpPr>
          <p:cNvPr id="5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08F8FF-37C4-43AD-BAA6-0A2F24919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4160" y="701640"/>
            <a:ext cx="4626000" cy="3468600"/>
          </a:xfrm>
          <a:prstGeom prst="rect">
            <a:avLst/>
          </a:prstGeom>
          <a:ln w="0">
            <a:noFill/>
          </a:ln>
        </p:spPr>
      </p:sp>
      <p:sp>
        <p:nvSpPr>
          <p:cNvPr id="5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006780-DBA5-4A92-95DD-2B05BB311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4160" y="701640"/>
            <a:ext cx="4626000" cy="3468600"/>
          </a:xfrm>
          <a:prstGeom prst="rect">
            <a:avLst/>
          </a:prstGeom>
          <a:ln w="0">
            <a:noFill/>
          </a:ln>
        </p:spPr>
      </p:sp>
      <p:sp>
        <p:nvSpPr>
          <p:cNvPr id="5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1B1F6F-5D7E-4FCC-AC12-9C6227957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CE37D8-29D7-48D0-BB69-25E01324F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34A97B-B5DC-468C-A3A2-D63E4CC5A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5BB71B-C28E-42F1-8AAD-D6668B704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5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5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CF91CB-B8B8-408F-9475-ECAFADA21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54160" y="701640"/>
            <a:ext cx="4626000" cy="3468600"/>
          </a:xfrm>
          <a:prstGeom prst="rect">
            <a:avLst/>
          </a:prstGeom>
          <a:ln w="0">
            <a:noFill/>
          </a:ln>
        </p:spPr>
      </p:sp>
      <p:sp>
        <p:nvSpPr>
          <p:cNvPr id="4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05AC5F-1F95-4A2F-A185-C6BD2322D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C44FE4-D44A-4351-90F7-DC4323510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69D686-758C-4187-B29A-47A781F92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03C838-D56A-49F4-B262-9492FD08A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689AFB-7D81-46AC-AB04-0521A58F5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DA1C7A-0F3D-4C7B-A8E5-2ED675AD2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8908C8-0110-4641-A801-C05F74696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54160" y="701640"/>
            <a:ext cx="4626000" cy="3468600"/>
          </a:xfrm>
          <a:prstGeom prst="rect">
            <a:avLst/>
          </a:prstGeom>
          <a:ln w="0">
            <a:noFill/>
          </a:ln>
        </p:spPr>
      </p:sp>
      <p:sp>
        <p:nvSpPr>
          <p:cNvPr id="6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9673E5-8912-4E1A-9DBF-7CAB68540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D79105-9A94-4978-AF3B-4D03565E6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B57AD7-F7B0-4E9A-B4CB-A7B56C326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F2DBF45-3878-4796-9065-0658B0D6B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7680" y="696960"/>
            <a:ext cx="4640400" cy="3479760"/>
          </a:xfrm>
          <a:prstGeom prst="rect">
            <a:avLst/>
          </a:prstGeom>
          <a:ln w="0">
            <a:noFill/>
          </a:ln>
        </p:spPr>
      </p:sp>
      <p:sp>
        <p:nvSpPr>
          <p:cNvPr id="46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C0D370-CC95-4564-A4A2-92C68F3FF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E33E56-69E0-4127-94EA-893C405F5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6F018A-196A-40FC-B319-9544F166B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DD3F25-C8E0-470A-A73C-FD349F3B7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2A8FA6-E884-438D-B8EB-769E9DB62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121F0C-C967-44DF-9886-1C74507BE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4160" y="701640"/>
            <a:ext cx="4626000" cy="3468600"/>
          </a:xfrm>
          <a:prstGeom prst="rect">
            <a:avLst/>
          </a:prstGeom>
          <a:ln w="0">
            <a:noFill/>
          </a:ln>
        </p:spPr>
      </p:sp>
      <p:sp>
        <p:nvSpPr>
          <p:cNvPr id="7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06859D-57C4-4E36-AA1D-E3ADF211F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1EFF59-BE8A-425A-8B4D-47F8EA151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4160" y="701640"/>
            <a:ext cx="4626000" cy="3468600"/>
          </a:xfrm>
          <a:prstGeom prst="rect">
            <a:avLst/>
          </a:prstGeom>
          <a:ln w="0">
            <a:noFill/>
          </a:ln>
        </p:spPr>
      </p:sp>
      <p:sp>
        <p:nvSpPr>
          <p:cNvPr id="7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BFF268-9C1D-4152-A12D-5049AEF4B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7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A6FF3CC-FA2D-4F0B-9435-99C25B7B3B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7680" y="696960"/>
            <a:ext cx="4640400" cy="3479760"/>
          </a:xfrm>
          <a:prstGeom prst="rect">
            <a:avLst/>
          </a:prstGeom>
          <a:ln w="0">
            <a:noFill/>
          </a:ln>
        </p:spPr>
      </p:sp>
      <p:sp>
        <p:nvSpPr>
          <p:cNvPr id="47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C93D01-82BC-4B22-B715-176834ECB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17C22D-1DB9-4BA6-B984-D44B9A42B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54160" y="701640"/>
            <a:ext cx="4626000" cy="3468600"/>
          </a:xfrm>
          <a:prstGeom prst="rect">
            <a:avLst/>
          </a:prstGeom>
          <a:ln w="0">
            <a:noFill/>
          </a:ln>
        </p:spPr>
      </p:sp>
      <p:sp>
        <p:nvSpPr>
          <p:cNvPr id="7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4E99C9-5602-4023-9C63-7685D6DDD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0DE4E6-B211-4BA6-833A-9F09782DD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BA503A-A2E9-4721-BC5C-6907EAC4F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54160" y="701640"/>
            <a:ext cx="4626000" cy="3468600"/>
          </a:xfrm>
          <a:prstGeom prst="rect">
            <a:avLst/>
          </a:prstGeom>
          <a:ln w="0">
            <a:noFill/>
          </a:ln>
        </p:spPr>
      </p:sp>
      <p:sp>
        <p:nvSpPr>
          <p:cNvPr id="7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05A95E-18B1-46AE-B536-E1520CDD0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59C1BA-3889-4AA7-B78D-9B3B7D64F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4160" y="701640"/>
            <a:ext cx="4626000" cy="3468600"/>
          </a:xfrm>
          <a:prstGeom prst="rect">
            <a:avLst/>
          </a:prstGeom>
          <a:ln w="0">
            <a:noFill/>
          </a:ln>
        </p:spPr>
      </p:sp>
      <p:sp>
        <p:nvSpPr>
          <p:cNvPr id="7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1E85E5-37FD-4FE8-A817-BB07D3DCA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4160" y="701640"/>
            <a:ext cx="4626000" cy="3468600"/>
          </a:xfrm>
          <a:prstGeom prst="rect">
            <a:avLst/>
          </a:prstGeom>
          <a:ln w="0">
            <a:noFill/>
          </a:ln>
        </p:spPr>
      </p:sp>
      <p:sp>
        <p:nvSpPr>
          <p:cNvPr id="7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4B23AF-D3A2-4A4B-8099-EDADB6672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4160" y="701640"/>
            <a:ext cx="4626000" cy="3468600"/>
          </a:xfrm>
          <a:prstGeom prst="rect">
            <a:avLst/>
          </a:prstGeom>
          <a:ln w="0">
            <a:noFill/>
          </a:ln>
        </p:spPr>
      </p:sp>
      <p:sp>
        <p:nvSpPr>
          <p:cNvPr id="7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394C07-CC4E-447A-A0D6-D61BE39E2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A318D36-2699-456E-9AC8-C7C0152B7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4160" y="701640"/>
            <a:ext cx="4626000" cy="3468600"/>
          </a:xfrm>
          <a:prstGeom prst="rect">
            <a:avLst/>
          </a:prstGeom>
          <a:ln w="0">
            <a:noFill/>
          </a:ln>
        </p:spPr>
      </p:sp>
      <p:sp>
        <p:nvSpPr>
          <p:cNvPr id="4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4160" y="701640"/>
            <a:ext cx="4626000" cy="3468600"/>
          </a:xfrm>
          <a:prstGeom prst="rect">
            <a:avLst/>
          </a:prstGeom>
          <a:ln w="0">
            <a:noFill/>
          </a:ln>
        </p:spPr>
      </p:sp>
      <p:sp>
        <p:nvSpPr>
          <p:cNvPr id="7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C25EE4-ECA3-460D-AA86-E645F0FDC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4160" y="701640"/>
            <a:ext cx="4626000" cy="3468600"/>
          </a:xfrm>
          <a:prstGeom prst="rect">
            <a:avLst/>
          </a:prstGeom>
          <a:ln w="0">
            <a:noFill/>
          </a:ln>
        </p:spPr>
      </p:sp>
      <p:sp>
        <p:nvSpPr>
          <p:cNvPr id="8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A9CD5E-CDAD-4813-9E08-4DB6E67D9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4160" y="701640"/>
            <a:ext cx="4626000" cy="3468600"/>
          </a:xfrm>
          <a:prstGeom prst="rect">
            <a:avLst/>
          </a:prstGeom>
          <a:ln w="0">
            <a:noFill/>
          </a:ln>
        </p:spPr>
      </p:sp>
      <p:sp>
        <p:nvSpPr>
          <p:cNvPr id="8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EED32D-6B95-427F-8451-52BC02254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4160" y="701640"/>
            <a:ext cx="4626000" cy="3468600"/>
          </a:xfrm>
          <a:prstGeom prst="rect">
            <a:avLst/>
          </a:prstGeom>
          <a:ln w="0">
            <a:noFill/>
          </a:ln>
        </p:spPr>
      </p:sp>
      <p:sp>
        <p:nvSpPr>
          <p:cNvPr id="8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DE8183-3AFA-4A35-9FB5-9D9E018A2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4160" y="701640"/>
            <a:ext cx="4626000" cy="3468600"/>
          </a:xfrm>
          <a:prstGeom prst="rect">
            <a:avLst/>
          </a:prstGeom>
          <a:ln w="0">
            <a:noFill/>
          </a:ln>
        </p:spPr>
      </p:sp>
      <p:sp>
        <p:nvSpPr>
          <p:cNvPr id="8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457AB6-EE96-49BA-AD08-331F7E82C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4160" y="701640"/>
            <a:ext cx="4626000" cy="3468600"/>
          </a:xfrm>
          <a:prstGeom prst="rect">
            <a:avLst/>
          </a:prstGeom>
          <a:ln w="0">
            <a:noFill/>
          </a:ln>
        </p:spPr>
      </p:sp>
      <p:sp>
        <p:nvSpPr>
          <p:cNvPr id="8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C4C6D7-73A3-496F-8C07-21862B994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4160" y="701640"/>
            <a:ext cx="4626000" cy="3468600"/>
          </a:xfrm>
          <a:prstGeom prst="rect">
            <a:avLst/>
          </a:prstGeom>
          <a:ln w="0">
            <a:noFill/>
          </a:ln>
        </p:spPr>
      </p:sp>
      <p:sp>
        <p:nvSpPr>
          <p:cNvPr id="8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189EE3-8F58-44A1-8BC5-B71C179F4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4160" y="701640"/>
            <a:ext cx="4626000" cy="3468600"/>
          </a:xfrm>
          <a:prstGeom prst="rect">
            <a:avLst/>
          </a:prstGeom>
          <a:ln w="0">
            <a:noFill/>
          </a:ln>
        </p:spPr>
      </p:sp>
      <p:sp>
        <p:nvSpPr>
          <p:cNvPr id="8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1D181A-2D40-4A39-88ED-D1125AE4F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E57052-4F47-4F94-B9B3-8DB0CFDDB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54160" y="701640"/>
            <a:ext cx="4626000" cy="3468600"/>
          </a:xfrm>
          <a:prstGeom prst="rect">
            <a:avLst/>
          </a:prstGeom>
          <a:ln w="0">
            <a:noFill/>
          </a:ln>
        </p:spPr>
      </p:sp>
      <p:sp>
        <p:nvSpPr>
          <p:cNvPr id="8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4160" y="701640"/>
            <a:ext cx="4626000" cy="3468600"/>
          </a:xfrm>
          <a:prstGeom prst="rect">
            <a:avLst/>
          </a:prstGeom>
          <a:ln w="0">
            <a:noFill/>
          </a:ln>
        </p:spPr>
      </p:sp>
      <p:sp>
        <p:nvSpPr>
          <p:cNvPr id="8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3A24A7-1C3F-4BD7-9C55-4FE98503F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489A0A-DF43-4A35-856D-6478D045C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4160" y="701640"/>
            <a:ext cx="4626000" cy="3468600"/>
          </a:xfrm>
          <a:prstGeom prst="rect">
            <a:avLst/>
          </a:prstGeom>
          <a:ln w="0">
            <a:noFill/>
          </a:ln>
        </p:spPr>
      </p:sp>
      <p:sp>
        <p:nvSpPr>
          <p:cNvPr id="4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4160" y="701640"/>
            <a:ext cx="4626000" cy="3468600"/>
          </a:xfrm>
          <a:prstGeom prst="rect">
            <a:avLst/>
          </a:prstGeom>
          <a:ln w="0">
            <a:noFill/>
          </a:ln>
        </p:spPr>
      </p:sp>
      <p:sp>
        <p:nvSpPr>
          <p:cNvPr id="8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03374A-4FD5-418A-89ED-53DEA44C9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7EB657-F23B-45D8-9599-4482151CC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54160" y="701640"/>
            <a:ext cx="4626000" cy="3468600"/>
          </a:xfrm>
          <a:prstGeom prst="rect">
            <a:avLst/>
          </a:prstGeom>
          <a:ln w="0">
            <a:noFill/>
          </a:ln>
        </p:spPr>
      </p:sp>
      <p:sp>
        <p:nvSpPr>
          <p:cNvPr id="8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4160" y="701640"/>
            <a:ext cx="4626000" cy="346860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CEE314-9135-4337-9D4D-5541B6B4F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C02C14-50D1-49DB-86E9-1631F4527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1A599A-4B64-49A7-89E0-5135CCF2C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54160" y="701640"/>
            <a:ext cx="4626000" cy="3468600"/>
          </a:xfrm>
          <a:prstGeom prst="rect">
            <a:avLst/>
          </a:prstGeom>
          <a:ln w="0">
            <a:noFill/>
          </a:ln>
        </p:spPr>
      </p:sp>
      <p:sp>
        <p:nvSpPr>
          <p:cNvPr id="8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4160" y="701640"/>
            <a:ext cx="4626000" cy="3468600"/>
          </a:xfrm>
          <a:prstGeom prst="rect">
            <a:avLst/>
          </a:prstGeom>
          <a:ln w="0">
            <a:noFill/>
          </a:ln>
        </p:spPr>
      </p:sp>
      <p:sp>
        <p:nvSpPr>
          <p:cNvPr id="8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D8FBB5-FDBE-4BDA-AD22-62D304123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38F92C-5461-4064-9A7D-D1A448B6C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774A5C-8BB0-4822-981B-16974921B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445E8F-9FFD-4E60-B137-F6396B744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84E0D9-7742-4CB5-A9D0-4CC1E27CD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8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8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3DD358-265C-4E61-BA86-B12A23239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54160" y="701640"/>
            <a:ext cx="4626000" cy="3468600"/>
          </a:xfrm>
          <a:prstGeom prst="rect">
            <a:avLst/>
          </a:prstGeom>
          <a:ln w="0">
            <a:noFill/>
          </a:ln>
        </p:spPr>
      </p:sp>
      <p:sp>
        <p:nvSpPr>
          <p:cNvPr id="48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54CF8A-A160-4D1D-83C8-8D8C94045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4160" y="701640"/>
            <a:ext cx="4626000" cy="3468600"/>
          </a:xfrm>
          <a:prstGeom prst="rect">
            <a:avLst/>
          </a:prstGeom>
          <a:ln w="0">
            <a:noFill/>
          </a:ln>
        </p:spPr>
      </p:sp>
      <p:sp>
        <p:nvSpPr>
          <p:cNvPr id="4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65194-0E38-488D-BE92-DE00E591B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BB54-4F49-46AC-936E-F6BDAB4B1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825B5-99A0-4DBE-8A22-162F052E8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8F70C-C62E-4C9C-889C-165696E36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C1CA-B0B0-4F9B-A941-AC2CFDC7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7F9F-2F8B-4172-B3F4-19B4F47DC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75544-D53B-455F-9707-515A8652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B0F9-D89A-48DA-B44E-3FF0A663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8926-A659-4E30-8E37-E6F12767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DB1D-F774-4FD2-9F31-CA4A58B4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478E-B5AB-407D-AD28-94F8B0AA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7247-93EE-49A8-80C2-DE9033E84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23226D-06C6-45A9-8F3F-31E17FFF6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738923-C535-4BBB-89EA-F62B0A4CD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01E55E-500A-4BFE-A8C9-E0F24BA5C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5B9F2F-0444-4EE1-BAFE-AF841A42F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B394BB-32FF-4B64-8634-7272AEE32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95ED5E-4B49-443C-BC78-F026FDE20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3E6915-A970-40AA-A501-2F0B1A4D5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E022DA-2696-4C77-A6FD-E7A358E83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645883-E793-4998-9B0C-5F1ACE7A1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F7CA10-AB64-4293-92BB-FA03ED878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C24CEA-0D77-4192-B176-349536025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3BAD11-5490-4CAA-945C-53BDEB6E3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F58B2D-3058-423F-A1AD-B4052A228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698DE3-8F12-49CB-93D5-56532B36B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38909C-C425-4ECE-AF1A-5A275867A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4991CE-0C04-4CFF-9C2C-5ECF37186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3013F6-2B4E-4FA3-A644-DE859882B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CF9A30-B50D-46B9-8DC9-C52DAB42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421089-AF59-4233-B047-40E5F103B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A6FF48-FF63-4A13-AEFA-676FA70D3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4C8E5F-4FE5-49E9-8157-E66BDF8C2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943DAB-366A-4D4D-95BA-009523FDF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3F46F5-ECD0-4DE2-9E33-AD563665B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BCFB5B-0F3E-4CCC-A7F8-653D5E619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73EDB4-9255-4E2A-BE33-972C51689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27972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DE6DBE-2D98-4C79-870B-BBB9C8669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F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D00627-A05C-4CB0-AB04-6B9A75AE6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01021F-E58B-427E-AE27-87BD14AFA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finition of secondary, secondary1, and secondary 2 channel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62CCAD-99B3-4A7E-B042-72A36411B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68EC08-3DD3-4460-A541-D26D74404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25B846-B1D5-492D-8C0C-C1B9C07F8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39"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4B0B49-A313-4AD9-AF84-93BE3CEFF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4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3B4079-6146-4EFA-BEC3-67272245F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4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F4F7A1-5715-43D9-A4BD-B272F54BB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56"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9F2FA3B-233C-446D-8BE4-C07149E533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106E36-AB58-4ABE-855B-A2C6E41DE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47840" indent="447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701425-AA9C-4244-8618-061FCB4A3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Arytom Lomayev</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failed (XX Yes; XX No; XX Abstain).</a:t>
            </a:r>
            <a:endParaRPr b="0" lang="en-US" sz="16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BEE158-E7ED-4986-A2EB-1904BF01B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6.</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157114-AF50-4F6E-B2C9-CF49AF941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96,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E842D2-EB08-40F5-AA87-E0039BFA4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CCC0B6-F822-4980-9A16-DDDBB6E3C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782694-E654-4D4A-B006-AD31CB043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1513CE-F478-4EEA-923C-346AFB9F9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8458A8-3FD0-4AEF-8029-9AEBC61DF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D9EBB8-24CA-40B6-AEDD-652887662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8FCAB89-9219-46BE-91CE-F176E9D96B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AD3A7C-D1F1-4ABB-BD1C-080A1C742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30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D706C8-E9B4-4F6F-A2A9-257A010A6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E998FF-79C8-4BD8-A503-590D083F0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CD5506-D801-48CC-8E62-B275F791E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179701-3335-4364-9BBB-8CC271968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175005-8177-42EC-9C4B-0B6AC6C1A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844F68-8614-4CFE-87FC-FD460F961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BAB4C1-0E18-4AE5-9FCF-E06809C69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93EE8B-6231-4AEB-981D-BB01753CA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4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ED198D-B9A9-44B4-BCCA-EB347EAB8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4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B33FF5-E00C-4FEF-B672-72903A80D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41B3B4-1EEA-455E-AEF3-4E4B8FCCE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ED246E-9F41-4C36-9BE9-72B0BCC8C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B2EE8B-7CF0-4AD0-B046-D8C5E0EB8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BD4944-8894-44C3-86D0-0D4E42C56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58E4E0-9BD0-4940-8C33-60AEAF471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5C8596-0499-4A4F-BBE6-2D9E0FF7E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69026C-F790-4368-AE60-1462E1699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38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9D152B-5775-4D92-A5CE-5A371DAC7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99296B-9694-4195-9229-12B00C2DB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66D542-2D01-46E1-811C-A8BBF33CA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9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5C87AE-B2B5-4303-B116-48ED85C59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20DBB0-9255-4D77-AD63-F611353C4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D6A63B-DB69-4B71-AFE5-4CD84195D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44174E-5D09-42F5-9298-63A30055C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D2C11E-153A-4870-BA88-1F2AE5FBE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ABE81F-09C4-44A1-A83E-3FBE67C55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445B2B-2274-4BE2-94B1-61A1321AE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2A815F-24CC-4D47-9F1E-A5C864CA3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TBD</a:t>
            </a:r>
            <a:endParaRPr b="0" lang="en-US" sz="3200" spc="-1" strike="noStrike">
              <a:solidFill>
                <a:srgbClr val="000000"/>
              </a:solidFill>
              <a:latin typeface="Times New Roman"/>
            </a:endParaRPr>
          </a:p>
        </p:txBody>
      </p:sp>
      <p:sp>
        <p:nvSpPr>
          <p:cNvPr id="42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F4B833-3B7F-428A-A169-72FE13639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2198D9-EDBF-41E0-80FA-C6E5DF713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43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006C25-FB26-42DC-9319-F8C0C2457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5FD1023-EB74-481D-A81A-0030A0E63C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671124-78FB-446C-8794-7E599CB4E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4T18:50:03Z</dcterms:modified>
  <cp:revision>6836</cp:revision>
  <dc:subject>Task Group AY November 2015 Meeting Agenda</dc:subject>
  <dc:title>11-18/0300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