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7616431B-933A-46FD-AFAD-81050869AA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F3AE71-2D35-41E0-9F31-DF9039B6C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C39E4A-BC4F-4CA1-9BD7-C57837ABE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6E1DBC-A2DF-46C5-BC15-BBCA9704D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FAFDC8-10F4-4A00-8C32-22DABB439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A8A377-6ACC-4278-A9A2-7063C6542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372C27-E442-4364-89B8-26377EDC2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B534D9-4947-4129-80B5-520D6CD4E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1336F2-66A4-4CD3-905C-37E1BF64C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C88826-708B-422C-A650-4C02761B4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996DD6-4716-4AAA-B929-D6537D5C8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86D31-BF83-4D0D-897A-CB47FDC23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D7883-4C50-4133-AD26-A4EA5E5F7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206851-8E8E-4BD6-AAE3-5079E62DCC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FC0153-11EE-45BD-BB9B-376D2CD001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D46A36-833F-438F-A91C-25F738FB35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62A74-5C98-4F88-ABF1-D50415F233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F2DA70-3816-48A5-B236-90FB6B49AE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D14B07-BA93-4E98-8790-C94C662F96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644476-72A2-4CC1-B766-5A3F8D1EEC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2BD568-CE11-4431-BCDF-32A034C846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56CA07-82A3-4DB9-93DD-E6128D76F4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0B9358-03AF-4916-988D-C934EAEC4E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39070-3E65-472B-8CF1-84BDF3D2D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CEB354-4B6A-45FB-89A4-71A299CC9B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80C9CE-3F43-4DB7-8B3B-ED2E1BFAD6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8E0250-8B0B-414D-97E8-06AE844F33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7429F5-E299-4A19-8A4D-B7B8AB265A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016A7F-5E0C-4B1A-8FE0-65237220C9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C0271F-23BB-4CBD-B961-7FA5EF554F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4D9775-1675-4D85-8776-F541CBCE05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AFE918-AE83-40B4-AD91-4E1C5D9FC3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F5A8F8-6ABC-4F7A-8379-C5D1DEE43E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D96108-82FB-45FD-AAAA-AA421A97D8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57FAD-75DE-4726-9D31-DBC6B07EB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37278C-FB1D-4028-8082-0979DD6D78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D02327-92DB-4E34-9EB1-EC19060B0E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888EC3-2DEF-4C49-A717-3F2258ECEE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35C4C3-EA9E-44DE-8CC3-59338DC03B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E9C458-15B4-48A7-92E8-807C217D32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3CCFB2-3046-48A7-83A1-F540210D39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3ABC80-F1EF-4B3A-B99A-5CE650417C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A30E24-1BC3-4077-8CEF-A833DE31FD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EBB256-90AB-402A-8AD1-539DD49AFD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FF026D-7AFA-484B-9E3F-D6E4D1AF87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3DD06AE2-21D8-4BA4-BFDE-334C83CE149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CB511E-9FCE-4B87-8A9A-6CDCCA7AF3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9A4A6C-2C50-4C3A-A77F-40336DC630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9BCBD4-3DA8-476A-9146-D946C23D9D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0F4352-27CD-4D56-BDEA-8490DCE03A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FA27B4-8D99-4404-8598-DCBE833955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53B9FA-3A43-4ED4-9ABF-E851CA7DD6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6C2EAE-4703-4233-834A-DB075B3FA4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0F6E5A-BE5B-404A-80CB-A8EAAEFDB6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19CA6F-DDA0-4581-96C1-126CDC39A3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D68D8B-5263-4CF2-AC83-A0A5B24E49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F4A74BA-B409-4AB5-ABDC-B087C52DF1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DFB6C0-3848-4F78-9748-207A570B39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F1D588-A65C-4EF7-A5C1-D1766EEB79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76750E-4570-4C26-8FD1-4F195859E8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C99DBB0-293E-406E-9287-239D027E37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3C3D90-579F-44DD-BAE6-8763EC7B26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849BDA0-BEF3-44AF-8E87-6993DC70EF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D21EB38-B1DF-4983-874C-A0D4A51FA4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84D6FBD-F015-42B2-8544-8BB9FC5E4D6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3730432-66B4-4932-9F5A-AC78C034DAD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4884BFE-849D-4314-9F4C-D47BF670DEC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E6885-A31E-4390-AE36-415725CD7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E98C77F-8C9D-4285-8789-D44E979455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C57A410-B6DB-4B2C-A576-ABA9731518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26B7F63-A3AB-4D30-9D2D-4E83DF7E2F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1FA3DFE3-86AB-4A72-B17E-4DCFF10BCC4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A203C63-DAAA-4AD8-AD87-82D2A6893FE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818BB3-DC7E-438B-A9B9-DB46EEE0B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C4A48-1279-4F55-8CBE-91682FD87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2BFC82-8F23-4782-A3D0-44AA263712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5074D-F2D2-4295-862C-74A8A3D1B5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72285-CA49-443B-9149-1B57A58F1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6B206-383E-48C0-A888-350FF6803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ED419-ABF2-42EA-A7C0-A3F2C1DC1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416A9-01F9-41F3-BDE8-13281DC5D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D7F79-42D5-4560-A3DB-2D1CB48A5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36D38-36EF-45E5-B00A-A6E04969D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4DC94-C09B-4314-A4EC-FBFBA0C83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76090D-4318-4C03-AB3A-977849DC7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362B2B-A640-441B-9F19-6F9240ABC3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CB2022-F532-40D6-91AA-2B04423D04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A987A-F02F-48ED-BAD6-4BFC6AF5E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F9DA77-A8B3-4575-8C8B-D07ECCE447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E2730-1117-49FA-8517-180FA0659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3DEEB-E6EC-4B6A-A54E-A25BE15DA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2732D-992F-4460-90D5-30D882139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C7AFDF-86E2-40D0-93B0-E2E80EC43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0681B6-BBF1-4972-A492-194DB7CE6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D7629F-71AE-4152-B006-E513D0CFC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4FB3F-572D-443F-AD5C-2642775C6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C51D23-3473-43DD-A967-9AFEBA6725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A104DB-3FA3-4A41-A578-6504CE61EF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786402-D543-4BD2-A933-85C24F34E9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09A2FC-67BD-46A9-AC41-6BC2E6E230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A7BCB-19C5-403C-B229-B9582F18D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ABE88-90E6-4301-8636-5C788FE20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9D09C-5781-489B-BAEC-E91C7CFB0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A40903-BB9A-47DC-9EAC-E99FC05FD2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02AD6-B2E6-4BFC-8635-4A00E10623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DC142-FC70-4B6A-8EF7-FE9DD233A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0DA08-5E50-4C6F-9789-B36330E31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205EB-AAB0-45B8-8C18-61E141DE7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A0E00-4F99-4F05-A5AD-CC6E4EB0E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46607B-0453-4907-9D2A-0A17A7E19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C291C4-4804-439F-92E3-879D401705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30C82-AB5C-4C22-ADC5-968F37CE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35C3F6-AFEA-4C3F-BFD1-A1A1232CEC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CDA480-A2FB-4700-972E-F889146EAA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DA332-E95A-4867-BA28-FA060D1BD8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3BF38-BE17-42B1-90D3-CB52056C7A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2862F-A937-41FB-AFEF-04A743145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E197F4-0A07-485A-95A6-257BA71931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37896D-9C05-4171-AC63-5522DF6ECA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2CFFC-DE62-4B89-9599-844064AFE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330BF-88C0-476C-BC6A-1B2E6B975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DA2AF6-D80F-45EE-88C7-B40A2084C8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BD80-7E40-447F-955F-A777C014F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B530AE-6A59-433F-922A-FB076C5194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3E77AF-FD93-4A7C-8A73-D42A8E2909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987313-FB67-4811-93F3-314D27EAE8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943797-A10F-4F17-A5F5-BF1BE86432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5F26D9-C8C8-4597-ADF8-E12961B89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3316CD-B173-420A-9C84-59CF536821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AA341-A3C1-4632-98AC-C5EE3D9BA4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1713CA-7E99-4FF4-A936-2E6BC0B84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2FA48D-B55C-491B-A78C-4459E6887F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48A8F-1CAB-40C8-87C1-8FE33CD3C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1D383-4E51-4DB7-89A2-82037155F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6CE7A9-27D8-409A-A5A9-2991777A4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2F06A-E7C1-4770-BB65-0A5EA01A3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291E2-6D6E-4244-B634-69B5C89BC6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7A66E5-8376-408D-94BC-1802606C11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322BCF-2417-4294-A669-9AF756F90C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4A2DF9-296F-4E29-AA95-7AC33AFB13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3C1153-3F86-4710-96CF-F7C2119564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8BECEC-C533-495B-92F5-DB23CB8236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374515-F864-4B01-9FBF-3E3E47675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BB8D20-7BA7-4EFF-9308-8E8F01D416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8D0A-2E9D-4FD3-96D7-5ECB0BCF6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F89ACD-6D71-43D4-8175-DB42394C4F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CD704F-C44A-44FB-B965-C93E1CB99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819BF3-28DA-410D-BC87-C4D35B3F9A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B5A32-5283-4A6E-89FB-AF1710FF1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876243-6D32-452B-9233-BAF48ADD58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537071-D7D4-4F67-BE33-81BB2783DD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37E508-168A-4C14-B916-38CF669117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81582E-1959-457D-B4B4-461AF732FB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E9EA6E-997B-4147-A9AB-DFC3FE25F1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96213A-6B48-4D47-B81A-2E84714EB7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88E648B-1577-4506-A16F-7536EF3218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F75D216-6503-4F9D-B57B-02C75BB998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6330176-1189-4009-91FF-E04E868B8C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64E7406-DAB2-44C6-A819-EF51AD51B6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751C4CD-DE98-429D-BD54-7740A73C3C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08B5908-9E33-465B-9AB0-38BF24ED5E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AAEF8F9-4D5E-44CA-BC3A-62DDB13AAD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9D6926E-DAF7-40A7-B2FB-8D4016F974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15ABA3B-87B8-4934-888C-22893F8D88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A932F7B-AE0F-43E9-A2A1-AF95449F19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F77510A-F108-40D7-8E56-91BA598E67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32BE004-AB6E-47EE-8180-02E598509D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7DB075-AA4D-41BB-A641-A2A61C212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Study Group teleconference January 2018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12-12</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75F031-4EBC-4576-937E-F98D005EB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Study Group agenda for the teleconference before the January 2018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4215AF-F46C-477E-AB54-07C9692BC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9E78E8-1916-43CB-8E22-6EC9AA499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E0900F-554D-4EB0-86F4-C7F2E4525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F81C29-CA93-4389-9121-4AEAE346A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C35C0C-ABC0-4728-8E41-333DAACDA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320FF5-587C-47FD-B35E-B686AF92C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uss comments submitted against the draft LC PAR (doc. 11-17/1604r4) and CSD (doc. 11-17/1603r4)</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c. 11-17/1843r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uss agenda for the Jan. 2018 Interim meeting</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c. 11-17/1868r0</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A4E78B-BF2C-4751-9329-461AB9A5A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November 2017</cp:keywords>
  <dc:language>en-US</dc:language>
  <cp:lastModifiedBy>Serafimovski, Nikola</cp:lastModifiedBy>
  <cp:lastPrinted>2014-11-04T15:04:57Z</cp:lastPrinted>
  <dcterms:modified xsi:type="dcterms:W3CDTF">2017-12-12T14:28:10Z</dcterms:modified>
  <cp:revision>3779</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