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0F61989-9546-44C6-94CE-21A71CE44B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9011D7-74CD-4BE6-979F-E874D0FC8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C1C0DB-7499-41BA-BF9E-50D26E5AF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02C300-2FAF-479E-BA23-1F6303ED0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262FCD-5C54-40B9-91EC-EEB218E7D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EE2E65-5A2D-4D73-90CA-5BB5300C3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EAF9FE-245B-4271-907B-929BDBF0B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43F4A2-E188-42FE-ACA2-4580AFAFD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FF5392-2F0A-4ED5-A65D-20BB95A73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9BC2F2-8006-4707-8F8B-11E9E1608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2B890A-D7D9-4980-95F6-9DA941246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7C141-82A8-48B0-81BF-452C10F5D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796E-293F-4482-BBA4-5027E95D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DABA0-F9D1-4FD8-8519-EF0460F32B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3EB17F-8448-430C-AF4A-F0D6C0740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BEC65-7CD2-45BD-B489-435FCFA1E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C6621-AB20-474D-9291-7054AD4763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6F02B-E9D7-45AF-BB15-26BBA2FAC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63FD43-944F-45AE-B0D1-0AC3A434D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12AB5C-0BF7-474A-A243-458A4D8BC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6025BE-76A8-4760-9EBC-753E93DE1A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6DFFDA-6E95-4DC0-A89C-78F00748D3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24100F-AB88-4A59-9AF0-46F02AD466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2EF0-87E0-4EEB-A60B-D7872430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A6CE64-BDA3-4A09-B002-05C8B8DD76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E201DA-C271-44E9-8DA7-4995823A29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2DC016-B2C9-41CF-A3C0-560CAC6435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741E20-1A64-4DBD-B31B-3484D4ADDD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4D09ED-7848-417E-BC9A-3240C27E70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7FE6CE-5BB4-40AA-B143-ACB11F73A0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F7B2E0-C610-4910-A9CD-DBFC02D021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1CFF23-1E08-4401-B561-10C99BA0A5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3DE013-A0BE-4FC7-BBCB-DB3E193DEF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F6812E-E1A9-47C4-99AF-78AE22B6FF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5758-3A59-4D48-9EBB-869C7724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3716AD-FA63-4A0B-9087-8ADF6A14C8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1AB7A9-FE62-4A4C-9246-C02EBB6220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7086B5-AB45-47D1-9F17-A10529EB85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175652-187B-48C3-AA69-E4F3FF99BF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EF1D4F-0C2A-4F9B-9B29-DBDA32A732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7CDF1A-0060-4211-AEC3-9B894A65E2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A4E4FF-8B80-4ACB-B55F-24C57FA973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30186C-7276-4D6F-AC79-F7DFE66035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8C7CB5-A3CB-4E9C-9040-6BE59F371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C7BC82-F3E3-4FAC-A864-B2270848E3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3E7A8DA-20C8-46B2-8CAE-6C692A9A0BA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D32C49-71A9-4E54-B39C-76210BDE81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E87123-7AC5-4DDA-A7C5-1ED105EEF8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7872F5-9B04-4B26-B135-D48F18D578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AE0720-09C6-4622-9548-6A09380D77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F5D853-AE90-432D-8CE3-C40AD2E8DC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ED479B-8D37-44CE-8C62-A6843A8A85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844D9F-7EF3-43C7-993F-4E42D916F0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CF4046-20C2-4BBC-B5CF-FA6BEEBDC0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BF5AC2-CA40-435D-84E0-2A326A7972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2C549C-18CF-41B6-9CBD-5A1CB3D754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C9D1CF6-CE5D-4EBB-BD65-4DA673C07A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FEB5C2-B840-4FA3-BA13-96940D46D2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F5CB2A-99BF-4B9B-B3BE-775989BF0F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5BB330-D1E1-446F-976F-259237967C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BF22AC-A194-44FE-9D4A-E806AA8895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D9E3FD-4B53-4A89-8229-B7D606DA9C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90E3C67-71FB-4FE7-9A09-97BFA317DC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932B5C7-299C-4748-B6BF-1E376E546F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7B872AD-86F1-4996-961D-57B5B492530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33E9350-CDF1-40AE-8099-41FE3DD2D5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223207E-FC33-45F3-A69C-85F2648D15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DF7C-252B-4095-97B4-843A2C49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1404BA1-56EA-434F-AD66-8B65BDBD75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E3BCD95-5107-495B-A277-46B87960D1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31250AD-5628-4BF0-AA89-8867DE1C6E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A8DAFF8-1B6E-4F68-9B62-26443659692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5D951AA-1386-4BAC-8580-87690FBA9A1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24D026-1963-48F2-BBE1-8501D23B1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2686A-5ABE-4F16-8A99-A7056D284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05DFC-1A56-4A81-AB80-A8C3BD1F5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D791B-0212-4CED-B998-BADF5B883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6613F-0144-400F-9768-5DC6C1144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32B6-3FF9-4D45-B919-7A3684C04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8A4EB-489A-4D36-922C-A6FDF93DB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73A81-109B-4451-8FD4-5AD485214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7C0C5-964E-4645-9052-4E6BB5CDD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C6673-6AD6-4D5F-B266-F4088F7C6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7470A-F5F5-4FA7-A576-F72F86111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3D806-EFEF-4B49-AC59-76196D0675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7697F-7DD0-46F0-965A-2075BE34C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15F93-655A-4660-8AC7-58C6447EAA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44E44-E9E6-4621-AF59-A9F5A9DD2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C35F4-13F3-4ADA-B5CF-9B5C836EB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2E74-BE1C-4878-91D3-48B63041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E63FF-09B3-40F7-8CE0-2A45C0A34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CE7A3-0272-40AE-B675-82BF16EA7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77C02-8F79-451F-8E4D-D6CFADFC2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1CF2E-F73E-4364-9F29-2BF08511D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F7922-F9B0-49F8-A7D5-C7DCD7120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7051D-CE4B-4300-AAF8-A090271B4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3BAD0-613B-4739-B2DC-27E6EDCCB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53DF3-8770-4772-89D4-5574BC7E0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29DA5B-507B-4393-88B0-DA30B08EF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0B27AE-7C1B-49DB-B701-0092792E4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331DB-1AA4-41F2-B008-71B03843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870E77-0ECC-4571-9980-94B26CA83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0F8D4-4B6F-46AB-9792-D3C3FD1A1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A7E0B-8729-43CD-A5CF-8DCB6E454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EE487-545F-4C7D-8A51-A6EE64CA9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A351F-A2CD-41FC-9114-2B5812E6D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2261F-D6B1-4E16-9532-E223F64AB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83B0A-5699-4CE7-BA8B-A8CF959FF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DA571-936D-47D4-9218-CD9134720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8EE1F-7884-4F72-A46D-FE9C38170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DA1CF1-EAC9-4580-837A-C87417EC1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D0C73-FC97-43D9-A70A-E1943EFEE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812E55-46A4-454E-9F62-E0CCDA1889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586A9-7736-4FA4-84B6-9F661FD84E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43051-E7CC-43AD-A4DF-E42635967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28BA0-BD33-4AC4-95EC-8BC04A003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0FE0E-E5AD-4709-9B88-EE7C952D8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C76B20-8C33-47A7-B829-12888789F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232E5-7F80-464F-B132-D341600EE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B67AD-A493-49E8-B255-4DE1BEFE3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5BA75-5E67-41DA-9F9B-2A512BFAE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88BC29-0FC6-4DA5-9052-6C9236A04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B03D-D734-40D6-8A90-C8F74538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74A706-5964-4159-85E8-BC440DBBD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E0E545-DB90-45C7-BFB3-EFEDB5483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B9F56-E1DF-4317-ABE5-05FC4A3B8B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C875A-D35D-4EE0-A1C6-79094A1BD0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397CFE-819B-4E90-B6F7-473EE8406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B05FA-5B0E-4ACA-8414-CEC1793BB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F87ED-C6C0-4E2B-B06B-F293868B9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E07E7E-2809-4679-B394-5A6B354BE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39F4A-1A14-470D-B4BD-A6668A68B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9EAB5-2EAB-4154-9525-AB4702748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D7C2-2F9E-4D78-A631-CB085252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C27D2-AED1-454B-B0D6-389A54299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71A0E-59FF-4FA1-906C-E6C84CB35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8DBBF-B808-4CED-932B-EDC72404A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6D3B01-B8B7-4931-A18D-986FBA4B2C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62D327-243B-4C8C-85D6-12DAA0D539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7E3708-F539-453B-9041-85064D2B2A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9E390-FAB3-432E-B236-E6B69936B0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ED9E9-2149-4B6B-AFE4-294346DFC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E183C1-A193-4740-B6DE-B3C1638695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A13D1-2714-48FC-87AD-2A56DBA0E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BA0E-960C-453D-A89F-E059AD48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B3ABD-2586-42D8-8D6D-EB666C5CC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B80D1-232A-44D0-8B86-087DE58D4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887A6-6D8C-4195-91AF-B6015E26F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ADB19-6940-47D3-9A79-4588EF411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8E0A8C-9DEE-4A4B-A786-BB2C93947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E3A47B-A4DA-43FC-A6AA-9033ABC7C2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7278EA-CD8F-4A47-8D43-B153CF10E9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139031-9A95-41F0-B222-1B020EF72E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592B5F-FDE7-48E5-9906-D39B99795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ED1AE6-4994-4A6C-B821-67232D151D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5F392D-252F-4892-A374-FCA8271C84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1944842-A86F-4AB6-AB07-80A1B2AC77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D01648-71FA-43C1-AF9B-A9E14FAC60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87BED7-5B91-4FCD-86F2-140FD275AF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D3A28B-D0F7-4DC9-A377-E560056B55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4CC7D5F-00AB-4822-BBAB-30F0092397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B96ED33-276F-46E5-97DC-9C0053D5D4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7FB850-DEBA-4B13-A915-5C784808EC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9AF67CF-0B74-447A-BF17-5D237D3382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A3D9CF-13AF-4826-8D26-4CDF9A6BC7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8A549E-088D-433B-8273-0064D69ABA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1873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5F1C18-5649-4F85-9FFB-A4031EF2BF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A93227-6FD6-4D4C-957D-2404CD291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January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12-12</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E5D967-2E51-4682-81D8-05059A20E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January 2018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BEB760-E5BB-4585-AB42-96F3FFB3D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9B5410-52B5-438A-B23C-8C185D0AC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292A5D-D758-49D0-BA2E-9DFE9B7A0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50FE65-2CB7-41D8-BB1F-17E9D5169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A5E32-71A3-4A96-8084-7E86BE443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90B1A4-7226-49C3-8CF6-CB7A27740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comments submitted against the draft LC PAR (doc. 11-17/1604r4) and CSD (doc. 11-17/1603r4)</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 11-17/1843r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agenda for the Jan. 2018 Interim meeting</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 11-17/1868r0</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52913-F287-4956-9CC6-AA8976425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8035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November 2017</cp:keywords>
  <dc:language>en-US</dc:language>
  <cp:lastModifiedBy>Serafimovski, Nikola</cp:lastModifiedBy>
  <cp:lastPrinted>2014-11-04T15:04:57Z</cp:lastPrinted>
  <dcterms:modified xsi:type="dcterms:W3CDTF">2017-12-12T14:28:10Z</dcterms:modified>
  <cp:revision>3779</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