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66ADED7-F09B-4C5E-95C1-36E25B9D55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A12569-87A6-46D2-AF0B-84631CF94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17BCBE-78A2-473A-B246-9ABE8B6F9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96C102-B073-4FC4-B42E-E6970185A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84782E-85B0-4BC9-93C2-D86602D59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4B8FC7-9E90-423B-90E2-912F73C2B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E66499-1457-4312-8A82-9FB2AD1D6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A8163B-12B2-45CD-86C7-D6D9CE2DC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17D1C2-CDC9-4DBD-9EE0-207FB80E9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78ADEA-F7C1-4262-A040-53AC669EA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86B8FE-84D2-44E7-8A2B-B3184E9D5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3818F-23F1-4AA0-8EE4-DE7AA9995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F962B-311B-40CD-9021-F7F5FCCC6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B8550-2514-4094-9745-ED69239C8C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BE39A-E029-46A4-8E4E-FD8BBE895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6AFBA7-9DC7-463A-B88D-5090007769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579DB-335A-4C7C-A449-ADD9A7BE4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6ECC5A-2BCB-4E9B-B49B-8D7357D207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442A6-6B90-43CD-940B-7C0B5CF26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F65C9-FE9A-4826-B30E-7E7C9FC74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997C52-12D4-4121-9C2A-6F26BBD718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8CC24C-0B9A-4206-A846-AF1E3EFE88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C9C172-5B20-4ED3-ADC1-CA4966B28C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F844-10EF-4F87-A248-0D99F80C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C30C6E-3F66-4C06-B444-A6F70BC2F2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861490-BFFE-4CD8-BF2A-619AAF5742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C4FA41-49EC-4420-9610-761C8B9512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1FF1C3-6219-461F-80D1-44133B4DBF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D0BF33-04D8-45FE-9945-06F280FAD5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AFDF7C-5DFF-4556-8422-81FA0443CE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9EB464-C549-491C-BE19-31060034F1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522281-4F54-4EEA-9FD6-600E51BA79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0A430D-E653-43B4-96C4-3A5CAAF383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347DCF-D9D1-494C-A382-2FBDE6E102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F32D2-7923-4A68-B5B9-FE252A67D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89A1CE-E53B-4D6C-B634-BE6C362B65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6F6620-7BC7-4776-860A-DB1A66818B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41AB54-7F1B-4B50-9A7F-1C0B03ECDA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EDC669-3AB9-4926-9217-7216A6281A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231304-F5FE-4D88-999D-D7C99B9C85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36F64D-16E1-4371-91DB-9049A6A2F6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0DC406-140E-4267-9A0D-2F3DA150CF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D9A761-59CF-45C6-8C5C-61D16336A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024F28-D187-4DD7-9813-A45BE21B00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A704A5-E8AC-4270-8B97-D8A6912BB0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69586368-F07E-4743-98CF-BB6AD9FA82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16C89C-09CE-4082-BBCB-75EDC646C5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9017E0-79FA-434B-897D-DF567B14BA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388EE6-7A4C-49DF-95F2-6B6A4836C0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F88BC-4A13-4B09-AD7F-0C6747F543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7A411E-361C-4DF5-AB6F-CF9511D104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98853-4A9B-4706-8AA6-F175B668AE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72DB08-CC2A-4F87-8D9F-06797F1313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EE916F-E929-4621-A5ED-23A80630C4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37319C-3422-4F11-8288-26F75B83C0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C28037-E635-45B3-A50B-87A873E00D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16534E8-5DF0-4D90-922F-253579E3FD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3EA70A-AE97-4808-B8D3-6C6F19496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83207E-82C3-4FF1-B4D0-62463AB2E1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07C1C2-4301-4138-9285-40D5A82019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A00593-200B-4FEA-96E3-9D00D04537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40410C-70F4-482D-ADD3-33CE24BCA6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1F926B3-72C4-4BDE-A602-F3BC52E0CF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7505CA1-70D0-4957-8B69-F70F2E793A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E121C13-D5FF-428D-94E5-E8345C0EEB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A7D188C-3376-4247-BD4B-0E0637D2A5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8F3FA01-EE59-4A5E-941D-69D878E76B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9E3F-1B47-4C1E-BEEA-B12F247F2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EE8C936-D887-4A74-9E64-9D31E0AEC7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6B106B8-C5CD-421E-815A-4D49C47AD9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43D8AD7-69C3-4DDB-8674-E02E5C30B0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29AC1AF-AFDB-47EA-BBAD-15EE9FF82E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EBD81224-44C9-476F-8BFB-BBA70D1262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627CA-4AF6-49A3-A9BC-390951602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E5DF2-0C8C-4B40-AD93-39BCA268D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B27F4-572E-42C5-BB2A-339E7028C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367CC-AF8A-4D61-B353-6F686829E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B786B-3099-4EAB-B644-B5147E96F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E55C4-B5DB-4A73-AB5C-7602D3C4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54A82-2883-47EE-A9A5-3167C5C2C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7C289-97E8-4BA0-88E7-8A691FFB1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F88E5-64C7-43E3-BC44-54E82C0B3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AEECE-C4A7-4649-9513-553ECF026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C577A-FD07-4BF3-9735-C0581F57F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C6171-1DE1-446E-ACF2-26793448A3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B12D2-CAB1-4905-B109-9392F92B74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40E569-CD20-4928-90BD-CB61E16D0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BC430-43A0-4234-A2C4-CD776BE0F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23BE1-11C2-4B29-BD57-28063B3F9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B4659-3B16-47E3-B283-69FC764D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2523E-C48E-4A54-A40B-673826580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8C9FE-DF77-4445-8A32-1DE517BDD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21769-9371-422E-BCC5-A4811D4C4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C4C79-02D9-425A-9FE3-68B6B14F3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4D101-2D4E-4489-8FB2-F8B125712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1839B-C3BC-4BDF-85A2-64751BA89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B1FB6-401A-4BFA-96A2-969EF7CEC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14B092-2AB8-4FDF-8E66-6363970D7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0670A-67A7-4D66-8EF6-836C7B8808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3F4AF6-CDA4-4921-936F-52826C870D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71D5-595A-4D93-B487-0474A6D1A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F6006-324A-41FE-BA54-40C3159D2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7B77D-B65C-43FF-BE68-0E99BDEBF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3B19CB-6DD2-4B25-9208-615378A9C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6B556-9434-41AA-AC93-AC73A55FF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97A45B-1051-462E-AAF1-A8C3EC8B8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EB061-BD42-433C-A51B-5967F52E0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ACCF0-E88A-49D7-B26D-A17405D49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88DFC-6CC4-4A99-A4D6-213467635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3342C-C993-4314-B66E-378AC6855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F969C-15CD-40DD-8981-1C0DE79F26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D336E-7916-4D28-B16D-05AE12ED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E7DD89-FF0C-41AE-8C67-21C6480625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06644-7E10-4A80-91A5-8869C7350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E7BCD-01DC-47C7-887A-3834E1F26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112F7B-5C24-47CA-B2BE-9F023CDAFB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ECF0E-7A9E-41E6-8A51-15AA74539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8E6188-D7C1-4302-8CF8-D40A28AA6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3049D-CDBA-4E0C-AB95-CE2889525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B4376-C824-4F5C-A5F9-9175CD69CB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2FB54-185C-4910-8B99-DB9BE0AC4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961DE-43AA-4F3F-B2A7-96888F06E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8276-343C-4F4C-8451-CF130321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10931-03CF-41DC-AB16-E5E254DEA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7FED9A-D194-4116-B3AC-5FAA5CEB71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F8124D-97AE-4A99-B8DC-F4E564FDA4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82FD94-3B32-443F-9735-A6C1D4FA54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AB910-181C-4FC3-AC55-9ABD1BB35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A67DB-72F4-489A-BB85-B27C37FE2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0E32AB-415D-4812-AED7-AEBE651A5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66D36-92B9-445F-BD15-5613B134C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B4C157-357F-4950-B2EC-63C3E2DC1B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95337-ADA4-40D6-B2CC-ED4068B5B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0527-0152-4368-A682-A50E716D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C06CD-BBB1-45E7-AF26-D7EDC1D31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7EB4A-5ED3-41A8-8D26-FAFA03AC6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7E3B5-8F93-49D9-9B94-9AA787A01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CFA32-B99D-4898-9E09-918C86419D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C08D41-F495-4FB1-A8B7-57C14A15E7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27A5D5-20C0-4BFD-988D-91494D44A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6C4A5-40E4-43DB-812F-D2208E48F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6B5EC-AC93-469D-A8D7-500F467D5E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C1E75-5F2A-4CCE-A84A-C81274602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297EC-8C6A-48B3-A3FC-F6502D574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C3B6-094A-48EA-86F0-A091B66C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3A3B2-2431-4029-8C3D-47218FEFF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6D59F-87BB-45F2-B547-F340DAEF0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C29FD-EFF6-4A06-BB37-0DF7859E7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0F71A-D0EF-4784-A68E-15BECEEF69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61CDB-F39D-4450-892C-22DB901D0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A3B8B-44A1-4613-9407-CE87E6DD27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7B21F-E9FE-49CD-85F1-E63FBFE3B1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77C95B-54AF-49DB-974B-8A3508B1B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C16DD1-E668-4C08-AB94-8FE49022E2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ABF60-BB5E-43A9-BC73-C547F82CCC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D8CA2A-1B19-4033-8DC6-15321551D9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9EB8B4-9DED-48B4-9F70-C007F415CC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5CF4984-D9E4-47D2-A51B-5B8356681E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5A5946-CDF7-473F-8771-7A2AD87E3B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1F1AE30-A7C9-4AD7-9DC3-BE373AC058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461E5EF-B4FA-4273-A07B-B90A193506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A199A2-35BD-40C1-B1F0-CF98F51C55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83D42A-61EC-4AD7-B278-F2E2501AF0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CABC733-FE2A-4839-A9D5-D29291B00A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BC6514-2E08-4C22-AED6-BF6E117F79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6C7A00-B3BA-4C7D-9A12-82F040E5AA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0B3FDFE-EE26-4168-A2B7-E36C1AF7D4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8536A0-8B12-4500-B446-FEEF1FCB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November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11-29</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C31880-C0BD-4A94-8998-27F8AA902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November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A372A7-E79C-48F3-A709-F2E70F1EA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4CDCC8-A460-469C-A806-3E2309AB9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EA0B6C-B91E-44E7-A902-35F3C60D3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2BA685-E6A9-4AE3-87CE-5570F5C4C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F8241C-47DF-41D5-9E65-3D75A3835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00E034-6BC3-4D5C-B5CD-31DC1A8E9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comments submitted against the draft LC PAR (doc. 11-17/1604r3) and CSD (doc. 11-17/1603r3)</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 and conference call date/tim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BD8C13-C43C-4FE7-99FC-0AF80565F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November 2017</cp:keywords>
  <dc:language>en-US</dc:language>
  <cp:lastModifiedBy>Serafimovski, Nikola</cp:lastModifiedBy>
  <cp:lastPrinted>2014-11-04T15:04:57Z</cp:lastPrinted>
  <dcterms:modified xsi:type="dcterms:W3CDTF">2017-11-29T19:55:00Z</dcterms:modified>
  <cp:revision>3777</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