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A197653D-DC18-4959-886D-6EDD310FAD2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99"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0"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0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AD08E40-3FDD-4DCF-8D47-C6C15772E1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2" name="PlaceHolder 1"/>
          <p:cNvSpPr>
            <a:spLocks noGrp="1"/>
          </p:cNvSpPr>
          <p:nvPr>
            <p:ph type="sldImg"/>
          </p:nvPr>
        </p:nvSpPr>
        <p:spPr>
          <a:xfrm>
            <a:off x="1154160" y="701640"/>
            <a:ext cx="4626000" cy="3468600"/>
          </a:xfrm>
          <a:prstGeom prst="rect">
            <a:avLst/>
          </a:prstGeom>
          <a:ln w="0">
            <a:noFill/>
          </a:ln>
        </p:spPr>
      </p:sp>
      <p:sp>
        <p:nvSpPr>
          <p:cNvPr id="60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05"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6"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0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8822C18-D1FD-4B59-BCC2-1DAED88878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PlaceHolder 1"/>
          <p:cNvSpPr>
            <a:spLocks noGrp="1"/>
          </p:cNvSpPr>
          <p:nvPr>
            <p:ph type="sldImg"/>
          </p:nvPr>
        </p:nvSpPr>
        <p:spPr>
          <a:xfrm>
            <a:off x="1154160" y="701640"/>
            <a:ext cx="4626000" cy="3468600"/>
          </a:xfrm>
          <a:prstGeom prst="rect">
            <a:avLst/>
          </a:prstGeom>
          <a:ln w="0">
            <a:noFill/>
          </a:ln>
        </p:spPr>
      </p:sp>
      <p:sp>
        <p:nvSpPr>
          <p:cNvPr id="60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1"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2"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13"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41C883B-727C-4476-9ED5-1D0C93E805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4" name="PlaceHolder 1"/>
          <p:cNvSpPr>
            <a:spLocks noGrp="1"/>
          </p:cNvSpPr>
          <p:nvPr>
            <p:ph type="sldImg"/>
          </p:nvPr>
        </p:nvSpPr>
        <p:spPr>
          <a:xfrm>
            <a:off x="1154160" y="701640"/>
            <a:ext cx="4626000" cy="3468600"/>
          </a:xfrm>
          <a:prstGeom prst="rect">
            <a:avLst/>
          </a:prstGeom>
          <a:ln w="0">
            <a:noFill/>
          </a:ln>
        </p:spPr>
      </p:sp>
      <p:sp>
        <p:nvSpPr>
          <p:cNvPr id="61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7"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8"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1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E0032E2-EF09-48B1-A68F-B56D7799C9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0" name="PlaceHolder 1"/>
          <p:cNvSpPr>
            <a:spLocks noGrp="1"/>
          </p:cNvSpPr>
          <p:nvPr>
            <p:ph type="sldImg"/>
          </p:nvPr>
        </p:nvSpPr>
        <p:spPr>
          <a:xfrm>
            <a:off x="1154160" y="701640"/>
            <a:ext cx="4626000" cy="3468600"/>
          </a:xfrm>
          <a:prstGeom prst="rect">
            <a:avLst/>
          </a:prstGeom>
          <a:ln w="0">
            <a:noFill/>
          </a:ln>
        </p:spPr>
      </p:sp>
      <p:sp>
        <p:nvSpPr>
          <p:cNvPr id="62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3"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4"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25"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3332D41-3E60-4404-BDFB-C77FC21A7D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6" name="PlaceHolder 1"/>
          <p:cNvSpPr>
            <a:spLocks noGrp="1"/>
          </p:cNvSpPr>
          <p:nvPr>
            <p:ph type="sldImg"/>
          </p:nvPr>
        </p:nvSpPr>
        <p:spPr>
          <a:xfrm>
            <a:off x="1154160" y="701640"/>
            <a:ext cx="4626000" cy="3468600"/>
          </a:xfrm>
          <a:prstGeom prst="rect">
            <a:avLst/>
          </a:prstGeom>
          <a:ln w="0">
            <a:noFill/>
          </a:ln>
        </p:spPr>
      </p:sp>
      <p:sp>
        <p:nvSpPr>
          <p:cNvPr id="62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9"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0"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09D5EC0-C79F-4D18-8571-8DA30F0925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PlaceHolder 1"/>
          <p:cNvSpPr>
            <a:spLocks noGrp="1"/>
          </p:cNvSpPr>
          <p:nvPr>
            <p:ph type="sldImg"/>
          </p:nvPr>
        </p:nvSpPr>
        <p:spPr>
          <a:xfrm>
            <a:off x="1154160" y="701640"/>
            <a:ext cx="4626000" cy="3468600"/>
          </a:xfrm>
          <a:prstGeom prst="rect">
            <a:avLst/>
          </a:prstGeom>
          <a:ln w="0">
            <a:noFill/>
          </a:ln>
        </p:spPr>
      </p:sp>
      <p:sp>
        <p:nvSpPr>
          <p:cNvPr id="63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5"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6"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F7CE270-EF75-42EC-BD38-51A46ECE78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8"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639"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640"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64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005DD35-C544-4CBB-8615-5917E22C6B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54160" y="701640"/>
            <a:ext cx="4626000" cy="3468600"/>
          </a:xfrm>
          <a:prstGeom prst="rect">
            <a:avLst/>
          </a:prstGeom>
          <a:ln w="0">
            <a:noFill/>
          </a:ln>
        </p:spPr>
      </p:sp>
      <p:sp>
        <p:nvSpPr>
          <p:cNvPr id="64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54160" y="701640"/>
            <a:ext cx="4626000" cy="3468600"/>
          </a:xfrm>
          <a:prstGeom prst="rect">
            <a:avLst/>
          </a:prstGeom>
          <a:ln w="0">
            <a:noFill/>
          </a:ln>
        </p:spPr>
      </p:sp>
      <p:sp>
        <p:nvSpPr>
          <p:cNvPr id="64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4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4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832DF91-2EBA-45B4-BFD7-AB94F2E14C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54160" y="701640"/>
            <a:ext cx="4626000" cy="3468600"/>
          </a:xfrm>
          <a:prstGeom prst="rect">
            <a:avLst/>
          </a:prstGeom>
          <a:ln w="0">
            <a:noFill/>
          </a:ln>
        </p:spPr>
      </p:sp>
      <p:sp>
        <p:nvSpPr>
          <p:cNvPr id="65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5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5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FD8EE64-3466-4193-8AE0-F19CC5D712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A24634-E314-41EA-9F5C-0070619FE9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34B61-B93E-439F-9D22-5BF47EEC8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D1B130-1945-46A9-B485-67D8383B9A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56D59B-BC26-4D11-9AAF-E5F8E5F1F8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B80090-B276-4FFC-96CE-A292EB04CF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A36F72-A9CC-4831-86E2-7E5B908F2A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1C520B-D2B0-47DF-BB14-261747C328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1CF568-115E-4494-9725-A44443B024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DD9B1D-2DB5-4019-B8D7-6DC90163DD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09667F3-096F-417B-B76A-743386DD1E6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E514AFA-146C-48C3-B4CF-5A6F4986D34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F24FD80-CDE3-4DBB-B83C-4695BDC8314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3ECF1D-441E-4002-AFA6-6AB75E0075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A5F21EF-E905-439B-A058-9BCA7B8310D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3D13682-2193-42FC-A824-0C0B35361CB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06712EC-2984-44A7-945E-C1E011FC9F4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BFB802B-0ABD-479A-B741-B6150CAA4A0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6CF9292-91AA-4BDA-85D2-083CD4D774C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B364D7A-73A6-4FF1-9DF4-E67FB85E688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8560E70-C234-464E-BD8C-56AE19501FB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21DBB35-358A-49EF-8337-8D21603EA30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93BDD5F-84C2-44DC-AECC-28426E2E6A3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8A7EADD-B1E9-4F7C-890A-FDBC1F5FCC2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7C4899-0508-4031-BF54-B2DE67F312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08A01FB-8ACC-4F96-AA61-539443E8507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39B92B4-33BF-4680-AA06-4732FF9CDF8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7939B5D-9EC8-4A8E-A9DB-C9D762BAACE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C0F8DD8-039A-45BD-8FF6-C0A56BCEC60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20D115B-FB7E-4D39-9E8D-1B56E3F6363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BA5EF86-939F-48C5-ACDA-B7C7FAE889B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55E82E6-5B7A-46E6-8C33-A6CE8B19524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9B31ADA-DA3D-4BFB-8898-DA2E3114D3B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705D959-216E-4747-A5D6-0D0D240E786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6EDAAE0-AFC9-4252-B385-1CCC122E902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098FA705-1A74-476D-9FE8-92C1A1CE009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A8381CD-FABF-4E03-A73D-F4ABEC867B2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F0FF39D-AB84-4300-81BB-BA95B3C59C7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E7B9AA4-2878-4D27-8AC4-8C2667CA2D6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29BD632-74F0-4A88-996A-6F0A64C92E5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6EA368C-7FEF-4588-B9A5-033D00B8B87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2ACED29-2205-4047-9B95-ABE6EAD6468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95FBF4B-0E6E-4AEF-A80A-F1925185A2B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9EA7A48-A96D-487F-832C-B153F6CC3F2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B95F023-A718-460D-A0F3-271F81EDF63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96CF2F1-9FC0-4F87-B5FB-6C34F200D14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2A18C79A-F14B-4624-8C77-F2BA6D8C8F2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F78A63A-B3E8-4319-9134-07E8BDE1067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9FC5290-62C4-4702-BC88-4C8B2D27F2B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78DF5F7-3C78-4E50-9B91-0B490CD707C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D584EBE-1832-48DE-BFC5-EF096A5C724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5AACAC5-A464-4A6D-AF24-5D4C78759F9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26420239-88A8-4044-BAE1-DF3A8D934F8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83AB2071-1564-4BF6-A0DC-C2CA7C5E102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16E844C2-EB78-4A87-A2AB-78069D44895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D5320952-67B8-48E4-861A-69CB1142ED2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1022A7D5-2F54-42A0-A769-884C49A8DF1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2A445-3772-458D-8BE6-66070B546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4EAA59D3-7E88-449C-BF2F-0DE74B1B860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033E70F5-2193-4BDA-9D2E-B2ABDB2F71C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DD5FA5DD-B86C-48EE-8B0E-103D04E699A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6BF3A3BC-FAA1-410E-8AC5-8297998E32D1}"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0DC0ED85-5493-4032-9704-753AB48A1F06}"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193251-380D-45B1-AC8C-1A7AD4BB05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72A663-C3E3-4BEE-8F2B-A7861A7B74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C63F92-A1BC-47F3-BC6A-ACF6AD9847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CB7227-30AB-4A0E-8A4D-E722050DF5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2D5274-ADD1-4F4D-9A9B-DB0203F94A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8B417-B21C-4AC6-BE2D-D7FD8A502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4683DF-B5A9-46EE-B290-2C28132311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9280A7-6CE4-4650-A52B-7762271365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782AF8-E157-420B-9B86-A695ECCB64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592558-6E85-4AC9-BCA9-699AA877BA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341541-A834-4C09-A633-126C02C837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669E3C-0D34-412F-BD7A-FA48FD2006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117085-0094-47B0-BF91-919E60BA00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AF3D5F-6155-427E-BA77-C95BDABB9D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43669C-7A72-4017-A5F8-8706A5E4CB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C1B50E-926C-411F-B2DF-CB58156A40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29B92-A3A3-43FE-87AA-1D324F200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6A0AD9-558C-405F-8A0F-2BBABB6783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B8A27D-3004-4EDC-8B40-CB48D4C6A1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BF7DC5-4BF6-41B5-8D36-5B9B615A0C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6E2F7E-9375-4F24-94CF-A6117B0DF1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A48889-D816-4E76-B603-A90D5CB4ED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C5E31F-93F4-4092-A6C5-65B34FA19C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284FB5-9174-4C34-BF69-3E63F5EB82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64D687-5E60-4A49-A479-A4211E9EB9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0F75BD-33A4-4428-9EF8-3628251589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B135272-98F6-47F4-A642-E4C576907E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E56F9-48C3-4D41-A957-20A6B2B74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317662-8DAE-4709-A6C7-99C3915CC5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89AC4A-9537-4273-B3C7-A98AF38A41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7900D8-FAEB-47B5-8B47-D73B9E886F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3A7881-DDAF-4203-99F4-4B0E88E612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4E1380-0B9E-4768-8CF8-8E39C79737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D20F78-961D-48AF-82EA-2E5D238953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1F55AD-E9BF-4340-AE0E-EE755108B0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6F45DF-D2FC-4007-9C53-F5CE4D057A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EC6752-7638-4815-A502-58FB424651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8E07FE6-6452-464D-88ED-D70E5F987C2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0D1AE-8BCB-461C-99F5-A9E351090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36CB2DB-705A-4D6D-AF65-0A97290C308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3F86A34-2640-49E7-A772-BD40A345CEB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0B3DAF-BC2C-4904-8598-5E0DDFACA9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D1D11A-4EA8-4ABD-A78F-D4E46AFB38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E9EB50-82E4-4B75-8D29-EA9848EB7F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5E308F-F001-4AB3-86EA-82A8052967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E8CBE9-596B-4A32-B17C-B5597E6986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42F5B6-5653-476F-8B32-FCD87DF35F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506EBA-D675-4B57-B06B-9D9EB431C1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0AC0E3-ED27-452F-AFA6-1BAB7BE64A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AC230-1F6B-4E92-BEA3-ADD470A5C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DDACBD-BECA-4206-85D2-92CBAEAA90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7A4ADB5-5C63-405C-B14D-2A1285D20E9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34B2680-FEF7-4FDB-898F-95DFF6FE55E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A08BD2C-6C27-4637-BFAE-72A2C363870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09D7CE-2D44-481C-BE41-FF4D032B02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30A2C8-5C46-41C5-9A11-1CBDAA096C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24C2BD-7B5A-44CF-B859-D89E4E58EC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BB4598-2715-4F8D-8C49-0B1E4FA016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B9AC2E-74CF-459A-BBDA-3ADD9BE9A8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BC7CEE-9074-4324-995A-EFBAAAA893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5FB21-F2E1-4434-90B7-0FE4088C2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929043-C382-4C39-B28B-39FDD9E5F7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32746C-D4B8-42E7-95A8-6C73A3F6F6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AE39AA-1F51-4E87-866E-AD95687402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EC69303-EC21-4FC9-BE09-A1FDDDC1AAB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5C41A7C-0C78-4313-A0A9-1D6C48A494F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36E8B4A-73EF-4080-9BB4-100E3756D72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B1C7FC-9EF8-4FE2-AFDE-BC4CF59A72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E2916B-14EE-4A9C-ACF0-F11E0569A72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92EAB7-43CF-4BBB-BE2D-D5CF4B2E68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69B1CE-283E-4E37-8AD7-6F09B1C494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9D562-CF17-4F95-9780-FE990ADD3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44F91C-7B7B-4F41-8B23-EE31A7A12C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B21288-FB40-4E24-85C9-BF22FB853C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0D9BCB-061E-4333-BD76-403DD6670D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FF2F6D-99AA-44DB-8E2E-6523C4F538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40EFB3-4AC7-474A-994C-2D81C3111D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C86CF4A-A374-4B5A-8814-8D533D3D542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80B710D-53EC-41A5-BD84-F3816345559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2EBC00C-FD1A-40F7-8756-7AC6D1BCDB7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F971A1-CFC2-4209-9D5C-1D66829EA4E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3B5CE4-5EBC-415A-B7E6-860BA523709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7</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45F5145-E7EF-4F59-A1E8-27D4751B6B7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1832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1832r0</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7</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BEB83F4-2C7E-417B-9A60-EE48AC24837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1832r0</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7</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89FE1A2-ABA4-4AB2-B9CC-ACE8AC457A0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1832r0</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7</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37EC544-FD1C-470E-9522-6A38DE9CB96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1832r0</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sldNum" idx="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B0255D3-4316-43AB-8AE7-97B272EEA62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2" name="PlaceHolder 4"/>
          <p:cNvSpPr>
            <a:spLocks noGrp="1"/>
          </p:cNvSpPr>
          <p:nvPr>
            <p:ph type="dt" idx="5"/>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7</a:t>
            </a:r>
            <a:endParaRPr b="0" lang="en-US" sz="1800" spc="-1" strike="noStrike">
              <a:solidFill>
                <a:srgbClr val="000000"/>
              </a:solidFill>
              <a:latin typeface="Times New Roman"/>
            </a:endParaRPr>
          </a:p>
        </p:txBody>
      </p:sp>
      <p:sp>
        <p:nvSpPr>
          <p:cNvPr id="53" name="PlaceHolder 5"/>
          <p:cNvSpPr>
            <a:spLocks noGrp="1"/>
          </p:cNvSpPr>
          <p:nvPr>
            <p:ph type="ftr" idx="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1832r0</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7</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21B7F9D-F3CC-4B7A-A92F-52FF361078B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1832r0</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7</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FC0A3B5-1C74-467D-B7F0-99A2A4FD7B3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1832r0</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7</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D5E0D28-8E15-451E-A6C6-FA91BB3EC8B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1832r0</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7</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9E3B1F0-1315-4AB5-8297-03C088047D2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1832r0</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7</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235D8DB-BB1C-4B6F-81F2-CB783288DF3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1832r0</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7</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7A14372-810E-4FFF-B6C8-210161C5DB1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1832r0</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7</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4D45CD7-95AF-477C-9752-A264BDC8AC3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ieee.org/about/corporate/governance/p7-8.html" TargetMode="External"/><Relationship Id="rId2" Type="http://schemas.openxmlformats.org/officeDocument/2006/relationships/hyperlink" Target="http://standards.ieee.org/faqs/affiliation.html" TargetMode="External"/><Relationship Id="rId3" Type="http://schemas.openxmlformats.org/officeDocument/2006/relationships/hyperlink" Target="http://standards.ieee.org/resources/antitrust-guidelines.pdf" TargetMode="External"/><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s://standards.ieee.org/develop/policies/bylaws/sb_bylaws.pdf" TargetMode="External"/><Relationship Id="rId2" Type="http://schemas.openxmlformats.org/officeDocument/2006/relationships/hyperlink" Target="http://ieee802.org/PNP/approved/IEEE_802_WG_PandP_v19.pdf" TargetMode="External"/><Relationship Id="rId3" Type="http://schemas.openxmlformats.org/officeDocument/2006/relationships/hyperlink" Target="https://standards.ieee.org/develop/policies/bylaws/sb_bylaws.pdf%20section%205.2.1.3" TargetMode="External"/><Relationship Id="rId4" Type="http://schemas.openxmlformats.org/officeDocument/2006/relationships/hyperlink" Target="http://ieee802.org/PNP/approved/IEEE_802_WG_PandP_v19.pdf" TargetMode="External"/><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mentor.ieee.org/" TargetMode="External"/><Relationship Id="rId2" Type="http://schemas.openxmlformats.org/officeDocument/2006/relationships/slideLayout" Target="../slideLayouts/slideLayout8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7</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CA98E9E-64B3-43F9-BED8-26B93B268E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9140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ght Communications Study Group teleconference November 2017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23299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7-11-29</a:t>
            </a:r>
            <a:endParaRPr b="1" lang="en-US" sz="2000" spc="-1" strike="noStrike">
              <a:solidFill>
                <a:srgbClr val="000000"/>
              </a:solidFill>
              <a:latin typeface="Times New Roman"/>
            </a:endParaRPr>
          </a:p>
        </p:txBody>
      </p:sp>
      <p:graphicFrame>
        <p:nvGraphicFramePr>
          <p:cNvPr id="555" name="Object 11"/>
          <p:cNvGraphicFramePr/>
          <p:nvPr/>
        </p:nvGraphicFramePr>
        <p:xfrm>
          <a:off x="671400" y="3244680"/>
          <a:ext cx="9126720" cy="1175040"/>
        </p:xfrm>
        <a:graphic>
          <a:graphicData uri="http://schemas.openxmlformats.org/presentationml/2006/ole">
            <p:oleObj progId="Word.Document.12" r:id="rId1" spid="">
              <p:embed/>
              <p:pic>
                <p:nvPicPr>
                  <p:cNvPr id="556" name="Object 11" descr=""/>
                  <p:cNvPicPr/>
                  <p:nvPr/>
                </p:nvPicPr>
                <p:blipFill>
                  <a:blip r:embed="rId2"/>
                  <a:stretch/>
                </p:blipFill>
                <p:spPr>
                  <a:xfrm>
                    <a:off x="671400" y="3244680"/>
                    <a:ext cx="9126720" cy="1175040"/>
                  </a:xfrm>
                  <a:prstGeom prst="rect">
                    <a:avLst/>
                  </a:prstGeom>
                  <a:ln w="0">
                    <a:noFill/>
                  </a:ln>
                </p:spPr>
              </p:pic>
            </p:oleObj>
          </a:graphicData>
        </a:graphic>
      </p:graphicFrame>
      <p:sp>
        <p:nvSpPr>
          <p:cNvPr id="557" name="Rectangle 12"/>
          <p:cNvSpPr/>
          <p:nvPr/>
        </p:nvSpPr>
        <p:spPr>
          <a:xfrm>
            <a:off x="685800" y="27115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C4DFB03-6217-4B7D-8726-AFED19B6ED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Light Communications Study Group agenda for the teleconference before the November 2017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1"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7</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71812FC-87C2-4932-939B-8223648B10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quired notic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Code of Ethic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www.ieee.org/about/corporate/governance/p7-8.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Standards Association (IEEE-SA) Affiliation FAQ</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standards.ieee.org/faqs/affiliation.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titrust and Competition Policy</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standards.ieee.org/resources/antitrust-guidelines.pdf</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dministrative Items</a:t>
            </a:r>
            <a:endParaRPr b="0" lang="en-US" sz="3200" spc="-1" strike="noStrike">
              <a:solidFill>
                <a:srgbClr val="000000"/>
              </a:solidFill>
              <a:latin typeface="Times New Roman"/>
            </a:endParaRPr>
          </a:p>
        </p:txBody>
      </p:sp>
      <p:sp>
        <p:nvSpPr>
          <p:cNvPr id="566"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7</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8EC0010-1C95-42A2-A9F9-8E9C675378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9"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7</a:t>
            </a:r>
            <a:endParaRPr b="0" lang="en-US" sz="1800" spc="-1" strike="noStrike">
              <a:solidFill>
                <a:srgbClr val="000000"/>
              </a:solidFill>
              <a:latin typeface="Times New Roman"/>
            </a:endParaRPr>
          </a:p>
        </p:txBody>
      </p:sp>
      <p:sp>
        <p:nvSpPr>
          <p:cNvPr id="57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
        <p:nvSpPr>
          <p:cNvPr id="571" name="PlaceHolder 1"/>
          <p:cNvSpPr>
            <a:spLocks noGrp="1"/>
          </p:cNvSpPr>
          <p:nvPr>
            <p:ph type="title"/>
          </p:nvPr>
        </p:nvSpPr>
        <p:spPr>
          <a:xfrm>
            <a:off x="685440" y="609480"/>
            <a:ext cx="8001000" cy="116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1" lang="en-US" sz="3200" spc="-1" strike="noStrike">
              <a:solidFill>
                <a:srgbClr val="000000"/>
              </a:solidFill>
              <a:latin typeface="Times New Roman"/>
            </a:endParaRPr>
          </a:p>
        </p:txBody>
      </p:sp>
      <p:sp>
        <p:nvSpPr>
          <p:cNvPr id="572" name="Rectangle 2"/>
          <p:cNvSpPr/>
          <p:nvPr/>
        </p:nvSpPr>
        <p:spPr>
          <a:xfrm>
            <a:off x="685800" y="1676520"/>
            <a:ext cx="7848720" cy="44956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l participation in IEEE 802 Working Group meetings is on an individual basis</a:t>
            </a:r>
            <a:endParaRPr b="0" lang="en-US" sz="16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rPr>
              <a:t>•     </a:t>
            </a:r>
            <a:r>
              <a:rPr b="1" i="1" lang="en-GB" sz="1400" spc="-1" strike="noStrike">
                <a:solidFill>
                  <a:srgbClr val="000000"/>
                </a:solidFill>
                <a:latin typeface="Times New Roman"/>
              </a:rPr>
              <a:t>Participants in the IEEE standards development individual process shall act based on their qualifications and experience. (</a:t>
            </a:r>
            <a:r>
              <a:rPr b="1" lang="en-GB" sz="1400" spc="-1" strike="noStrike" u="sng">
                <a:solidFill>
                  <a:srgbClr val="0066ff"/>
                </a:solidFill>
                <a:uFillTx/>
                <a:latin typeface="Times New Roman"/>
                <a:hlinkClick r:id="rId1"/>
              </a:rPr>
              <a:t>https://standards.ieee.org/develop/policies/bylaws/sb_bylaws.pdf</a:t>
            </a:r>
            <a:r>
              <a:rPr b="1" i="1" lang="en-GB" sz="1400" spc="-1" strike="noStrike">
                <a:solidFill>
                  <a:srgbClr val="000000"/>
                </a:solidFill>
                <a:latin typeface="Times New Roman"/>
              </a:rPr>
              <a:t>  section 5.2.1)</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i="1" lang="en-US" sz="1400" spc="-1" strike="noStrike">
                <a:solidFill>
                  <a:srgbClr val="000000"/>
                </a:solidFill>
                <a:latin typeface="Times New Roman"/>
              </a:rPr>
              <a:t>IEEE 802 </a:t>
            </a:r>
            <a:r>
              <a:rPr b="1" i="1" lang="en-GB" sz="1400" spc="-1" strike="noStrike">
                <a:solidFill>
                  <a:srgbClr val="000000"/>
                </a:solidFill>
                <a:latin typeface="Times New Roman"/>
              </a:rPr>
              <a:t>Working Group membership is by individual; “Working Group members shall participate in the consensus process in a manner consistent with their professional expert opinion as individuals, and not as organizational representatives”. (</a:t>
            </a:r>
            <a:r>
              <a:rPr b="1" lang="en-GB" sz="1400" spc="-1" strike="noStrike" u="sng">
                <a:solidFill>
                  <a:srgbClr val="0066ff"/>
                </a:solidFill>
                <a:uFillTx/>
                <a:latin typeface="Times New Roman"/>
                <a:hlinkClick r:id="rId2"/>
              </a:rPr>
              <a:t>http://ieee802.org/PNP/approved/IEEE_802_WG_PandP_v19.pdf</a:t>
            </a:r>
            <a:r>
              <a:rPr b="1" i="1" lang="en-GB" sz="1400" spc="-1" strike="noStrike">
                <a:solidFill>
                  <a:srgbClr val="000000"/>
                </a:solidFill>
                <a:latin typeface="Times New Roman"/>
              </a:rPr>
              <a:t> section 4.2.1)</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ou have an obligation to act and vote as an individual and not under the direction of any other individual or group. Your obligation to act and vote as an individual applies in all cases, regardless of any external commitments, agreements, contracts, or orders. </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ou shall not direct the actions or votes of any other member of an IEEE 802 Working Group or retaliate against any other member for their actions or votes within IEEE 802 Working Group meetings, see </a:t>
            </a:r>
            <a:r>
              <a:rPr b="1" lang="en-US" sz="1400" spc="-1" strike="noStrike" u="sng">
                <a:solidFill>
                  <a:srgbClr val="0066ff"/>
                </a:solidFill>
                <a:uFillTx/>
                <a:latin typeface="Times New Roman"/>
                <a:hlinkClick r:id="rId3"/>
              </a:rPr>
              <a:t>https://standards.ieee.org/develop/policies/bylaws/sb_bylaws.pdf </a:t>
            </a:r>
            <a:r>
              <a:rPr b="1" lang="en-US" sz="1400" spc="-1" strike="noStrike">
                <a:solidFill>
                  <a:srgbClr val="000000"/>
                </a:solidFill>
                <a:latin typeface="Times New Roman"/>
              </a:rPr>
              <a:t> section 5.2.1.3 and </a:t>
            </a:r>
            <a:r>
              <a:rPr b="1" lang="en-GB" sz="1400" spc="-1" strike="noStrike" u="sng">
                <a:solidFill>
                  <a:srgbClr val="0066ff"/>
                </a:solidFill>
                <a:uFillTx/>
                <a:latin typeface="Times New Roman"/>
                <a:hlinkClick r:id="rId4"/>
              </a:rPr>
              <a:t>http://ieee802.org/PNP/approved/IEEE_802_WG_PandP_v19.pdf</a:t>
            </a:r>
            <a:r>
              <a:rPr b="1" lang="en-GB" sz="1400" spc="-1" strike="noStrike">
                <a:solidFill>
                  <a:srgbClr val="000000"/>
                </a:solidFill>
                <a:latin typeface="Times New Roman"/>
              </a:rPr>
              <a:t>  section 3.4.1, list item x</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y participating in IEEE 802 meetings, you accept these requirements.  If you do not agree to these policies then you shall not participate.</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A7045DE-28E4-463A-BC13-55657F5039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4"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7</a:t>
            </a:r>
            <a:endParaRPr b="0" lang="en-US" sz="1800" spc="-1" strike="noStrike">
              <a:solidFill>
                <a:srgbClr val="000000"/>
              </a:solidFill>
              <a:latin typeface="Times New Roman"/>
            </a:endParaRPr>
          </a:p>
        </p:txBody>
      </p:sp>
      <p:sp>
        <p:nvSpPr>
          <p:cNvPr id="57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
        <p:nvSpPr>
          <p:cNvPr id="5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G Operating Rules</a:t>
            </a:r>
            <a:endParaRPr b="1" lang="en-US" sz="3200" spc="-1" strike="noStrike">
              <a:solidFill>
                <a:srgbClr val="000000"/>
              </a:solidFill>
              <a:latin typeface="Times New Roman"/>
            </a:endParaRPr>
          </a:p>
        </p:txBody>
      </p:sp>
      <p:sp>
        <p:nvSpPr>
          <p:cNvPr id="577" name="Rectangle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ybody can vote, present, and make mo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ticipation in a TIG during 802.11 Plenary or Interim counts towards voting righ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l motions must pass by a 75% major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BDE91CB-4B0C-42CB-9D0A-49311424DE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7</a:t>
            </a:r>
            <a:endParaRPr b="0" lang="en-US" sz="1800" spc="-1" strike="noStrike">
              <a:solidFill>
                <a:srgbClr val="000000"/>
              </a:solidFill>
              <a:latin typeface="Times New Roman"/>
            </a:endParaRPr>
          </a:p>
        </p:txBody>
      </p:sp>
      <p:sp>
        <p:nvSpPr>
          <p:cNvPr id="58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
        <p:nvSpPr>
          <p:cNvPr id="581" name="PlaceHolder 1"/>
          <p:cNvSpPr>
            <a:spLocks noGrp="1"/>
          </p:cNvSpPr>
          <p:nvPr>
            <p:ph type="title"/>
          </p:nvPr>
        </p:nvSpPr>
        <p:spPr>
          <a:xfrm>
            <a:off x="380520" y="685800"/>
            <a:ext cx="84582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Other Guidelines for IEEE WG Meetings</a:t>
            </a:r>
            <a:endParaRPr b="1" lang="en-US" sz="2800" spc="-1" strike="noStrike">
              <a:solidFill>
                <a:srgbClr val="000000"/>
              </a:solidFill>
              <a:latin typeface="Times New Roman"/>
            </a:endParaRPr>
          </a:p>
        </p:txBody>
      </p:sp>
      <p:sp>
        <p:nvSpPr>
          <p:cNvPr id="582" name="Rectangle 4"/>
          <p:cNvSpPr/>
          <p:nvPr/>
        </p:nvSpPr>
        <p:spPr>
          <a:xfrm>
            <a:off x="533520" y="1219320"/>
            <a:ext cx="8229600" cy="5181480"/>
          </a:xfrm>
          <a:prstGeom prst="rect">
            <a:avLst/>
          </a:prstGeom>
          <a:noFill/>
          <a:ln w="0">
            <a:noFill/>
          </a:ln>
        </p:spPr>
        <p:style>
          <a:lnRef idx="0"/>
          <a:fillRef idx="0"/>
          <a:effectRef idx="0"/>
          <a:fontRef idx="minor"/>
        </p:style>
        <p:txBody>
          <a:bodyPr lIns="90000" rIns="90000" tIns="46800" bIns="46800" anchor="t">
            <a:noAutofit/>
          </a:bodyPr>
          <a:p>
            <a:pPr marL="230040" indent="-230040">
              <a:lnSpc>
                <a:spcPct val="80000"/>
              </a:lnSpc>
              <a:spcBef>
                <a:spcPts val="201"/>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30040" indent="-2300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30040" indent="-230040">
              <a:lnSpc>
                <a:spcPct val="80000"/>
              </a:lnSpc>
              <a:spcAft>
                <a:spcPts val="10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228b"/>
                </a:solidFill>
                <a:latin typeface="Times New Roman"/>
                <a:ea typeface="Arial"/>
              </a:rPr>
              <a:t>All IEEE-SA standards meetings shall be conducted in compliance with all applicable laws, including antitrust and competition laws. </a:t>
            </a:r>
            <a:endParaRPr b="0" lang="en-US" sz="20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discuss the interpretation, validity, or essentiality of patents/patent claims. </a:t>
            </a:r>
            <a:endParaRPr b="0" lang="en-US" sz="18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discuss specific license rates, terms, or conditions.</a:t>
            </a:r>
            <a:endParaRPr b="0" lang="en-US" sz="1800" spc="-1" strike="noStrike">
              <a:solidFill>
                <a:srgbClr val="000000"/>
              </a:solidFill>
              <a:latin typeface="Times New Roman"/>
            </a:endParaRPr>
          </a:p>
          <a:p>
            <a:pPr lvl="2" marL="914400">
              <a:lnSpc>
                <a:spcPct val="80000"/>
              </a:lnSpc>
              <a:spcAft>
                <a:spcPts val="799"/>
              </a:spcAft>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228b"/>
                </a:solidFill>
                <a:latin typeface="Times New Roman"/>
                <a:ea typeface="Arial"/>
              </a:rPr>
              <a:t>Relative costs, including licensing costs of essential patent claims, of different technical approaches may be discussed in standards development meetings. </a:t>
            </a:r>
            <a:endParaRPr b="0" lang="en-US" sz="1600" spc="-1" strike="noStrike">
              <a:solidFill>
                <a:srgbClr val="000000"/>
              </a:solidFill>
              <a:latin typeface="Times New Roman"/>
            </a:endParaRPr>
          </a:p>
          <a:p>
            <a:pPr lvl="3" marL="1371600">
              <a:lnSpc>
                <a:spcPct val="80000"/>
              </a:lnSpc>
              <a:spcAft>
                <a:spcPts val="799"/>
              </a:spcAft>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2228b"/>
                </a:solidFill>
                <a:latin typeface="Times New Roman"/>
                <a:ea typeface="Arial"/>
              </a:rPr>
              <a:t>Technical considerations remain primary focus</a:t>
            </a:r>
            <a:endParaRPr b="0" lang="en-US" sz="16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discuss or engage in the fixing of product prices, allocation of customers, or division of sales markets.</a:t>
            </a:r>
            <a:endParaRPr b="0" lang="en-US" sz="18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discuss the status or substance of ongoing or threatened litigation.</a:t>
            </a:r>
            <a:endParaRPr b="0" lang="en-US" sz="18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228b"/>
                </a:solidFill>
                <a:latin typeface="Times New Roman"/>
                <a:ea typeface="Arial"/>
              </a:rPr>
              <a:t>---------------------------------------------------------------   </a:t>
            </a:r>
            <a:endParaRPr b="0" lang="en-US" sz="1000" spc="-1" strike="noStrike">
              <a:solidFill>
                <a:srgbClr val="000000"/>
              </a:solidFill>
              <a:latin typeface="Times New Roman"/>
            </a:endParaRPr>
          </a:p>
          <a:p>
            <a:pPr marL="230040" indent="-2300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228b"/>
                </a:solidFill>
                <a:latin typeface="Times New Roman"/>
                <a:ea typeface="Arial"/>
              </a:rPr>
              <a:t>See </a:t>
            </a:r>
            <a:r>
              <a:rPr b="1" i="1" lang="en-US" sz="1400" spc="-1" strike="noStrike">
                <a:solidFill>
                  <a:srgbClr val="22228b"/>
                </a:solidFill>
                <a:latin typeface="Times New Roman"/>
                <a:ea typeface="Arial"/>
              </a:rPr>
              <a:t>IEEE-SA Standards Board Operations Manual</a:t>
            </a:r>
            <a:r>
              <a:rPr b="1" lang="en-US" sz="1400" spc="-1" strike="noStrike">
                <a:solidFill>
                  <a:srgbClr val="22228b"/>
                </a:solidFill>
                <a:latin typeface="Times New Roman"/>
                <a:ea typeface="Arial"/>
              </a:rPr>
              <a:t>, clause 5.3.10 and </a:t>
            </a:r>
            <a:r>
              <a:rPr b="1" lang="en-GB" sz="1400" spc="-1" strike="noStrike">
                <a:solidFill>
                  <a:srgbClr val="22228b"/>
                </a:solidFill>
                <a:latin typeface="Times New Roman"/>
                <a:ea typeface="Arial"/>
              </a:rPr>
              <a:t>“Promoting Competition and Innovation: What You Need to Know about the IEEE Standards Association's Antitrust and Competition Policy”</a:t>
            </a:r>
            <a:r>
              <a:rPr b="1" lang="en-US" sz="1400" spc="-1" strike="noStrike">
                <a:solidFill>
                  <a:srgbClr val="22228b"/>
                </a:solidFill>
                <a:latin typeface="Times New Roman"/>
                <a:ea typeface="Arial"/>
              </a:rPr>
              <a:t> for more detail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39DD997-8532-4850-8990-8AA22C5A4D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LC TIG”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1)</a:t>
            </a:r>
            <a:endParaRPr b="0" lang="en-US" sz="3200" spc="-1" strike="noStrike">
              <a:solidFill>
                <a:srgbClr val="000000"/>
              </a:solidFill>
              <a:latin typeface="Times New Roman"/>
            </a:endParaRPr>
          </a:p>
        </p:txBody>
      </p:sp>
      <p:sp>
        <p:nvSpPr>
          <p:cNvPr id="586"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7</a:t>
            </a:r>
            <a:endParaRPr b="0" lang="en-US" sz="1800" spc="-1" strike="noStrike">
              <a:solidFill>
                <a:srgbClr val="000000"/>
              </a:solidFill>
              <a:latin typeface="Times New Roman"/>
            </a:endParaRPr>
          </a:p>
        </p:txBody>
      </p:sp>
      <p:sp>
        <p:nvSpPr>
          <p:cNvPr id="58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5BEB5F9-86F4-4E15-B6B6-47A10A3D68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teleconference</a:t>
            </a:r>
            <a:endParaRPr b="0" lang="en-US" sz="3200" spc="-1" strike="noStrike">
              <a:solidFill>
                <a:srgbClr val="000000"/>
              </a:solidFill>
              <a:latin typeface="Times New Roman"/>
            </a:endParaRPr>
          </a:p>
        </p:txBody>
      </p:sp>
      <p:sp>
        <p:nvSpPr>
          <p:cNvPr id="59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genda Agreemen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iscuss comments submitted against the draft LC PAR (doc. 11-17/1604r3) and CSD (doc. 11-17/1603r3)</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iscuss next steps and conference call date/tim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los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1"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7</a:t>
            </a:r>
            <a:endParaRPr b="0" lang="en-US" sz="1800" spc="-1" strike="noStrike">
              <a:solidFill>
                <a:srgbClr val="000000"/>
              </a:solidFill>
              <a:latin typeface="Times New Roman"/>
            </a:endParaRPr>
          </a:p>
        </p:txBody>
      </p:sp>
      <p:sp>
        <p:nvSpPr>
          <p:cNvPr id="59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91AF9AF-0676-441B-98B0-A6DDE004DB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ferences</a:t>
            </a:r>
            <a:endParaRPr b="0" lang="en-US" sz="3200" spc="-1" strike="noStrike">
              <a:solidFill>
                <a:srgbClr val="000000"/>
              </a:solidFill>
              <a:latin typeface="Times New Roman"/>
            </a:endParaRPr>
          </a:p>
        </p:txBody>
      </p:sp>
      <p:sp>
        <p:nvSpPr>
          <p:cNvPr id="595"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6"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7</a:t>
            </a:r>
            <a:endParaRPr b="0" lang="en-US" sz="1800" spc="-1" strike="noStrike">
              <a:solidFill>
                <a:srgbClr val="000000"/>
              </a:solidFill>
              <a:latin typeface="Times New Roman"/>
            </a:endParaRPr>
          </a:p>
        </p:txBody>
      </p:sp>
      <p:sp>
        <p:nvSpPr>
          <p:cNvPr id="59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Nikola Serafimovski</dc:creator>
  <dc:description/>
  <cp:keywords>November 2017</cp:keywords>
  <dc:language>en-US</dc:language>
  <cp:lastModifiedBy>Serafimovski, Nikola</cp:lastModifiedBy>
  <cp:lastPrinted>2014-11-04T15:04:57Z</cp:lastPrinted>
  <dcterms:modified xsi:type="dcterms:W3CDTF">2017-11-29T19:55:00Z</dcterms:modified>
  <cp:revision>3777</cp:revision>
  <dc:subject>Task Group AY November 2015 Meeting Agenda</dc:subject>
  <dc:title>11-17/XXXXr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