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CDF247-403E-413D-BC06-954929BD1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C384E8-3C5D-4700-A800-B072B764B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4160" y="701640"/>
            <a:ext cx="4626000" cy="3468600"/>
          </a:xfrm>
          <a:prstGeom prst="rect">
            <a:avLst/>
          </a:prstGeom>
          <a:ln w="0">
            <a:noFill/>
          </a:ln>
        </p:spPr>
      </p:sp>
      <p:sp>
        <p:nvSpPr>
          <p:cNvPr id="4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DB7734-3BCF-4CFD-A0ED-20F4219CB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1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1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1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592269-D78E-46AB-9244-C6CE59E8C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4160" y="701640"/>
            <a:ext cx="4626000" cy="3468600"/>
          </a:xfrm>
          <a:prstGeom prst="rect">
            <a:avLst/>
          </a:prstGeom>
          <a:ln w="0">
            <a:noFill/>
          </a:ln>
        </p:spPr>
      </p:sp>
      <p:sp>
        <p:nvSpPr>
          <p:cNvPr id="5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9517FF-3798-4A1E-8AD8-1CF8777C8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2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054FE3-1AEB-48C6-9EBF-38403E4E7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4160" y="701640"/>
            <a:ext cx="4626000" cy="3468600"/>
          </a:xfrm>
          <a:prstGeom prst="rect">
            <a:avLst/>
          </a:prstGeom>
          <a:ln w="0">
            <a:noFill/>
          </a:ln>
        </p:spPr>
      </p:sp>
      <p:sp>
        <p:nvSpPr>
          <p:cNvPr id="5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2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2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3FA88E-47B0-41A2-996A-73421D0BA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54160" y="701640"/>
            <a:ext cx="4626000" cy="3468600"/>
          </a:xfrm>
          <a:prstGeom prst="rect">
            <a:avLst/>
          </a:prstGeom>
          <a:ln w="0">
            <a:noFill/>
          </a:ln>
        </p:spPr>
      </p:sp>
      <p:sp>
        <p:nvSpPr>
          <p:cNvPr id="5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54160" y="701640"/>
            <a:ext cx="4626000" cy="3468600"/>
          </a:xfrm>
          <a:prstGeom prst="rect">
            <a:avLst/>
          </a:prstGeom>
          <a:ln w="0">
            <a:noFill/>
          </a:ln>
        </p:spPr>
      </p:sp>
      <p:sp>
        <p:nvSpPr>
          <p:cNvPr id="5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9025D1-DD8C-4791-B91F-FAABD51FD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54160" y="701640"/>
            <a:ext cx="4626000" cy="3468600"/>
          </a:xfrm>
          <a:prstGeom prst="rect">
            <a:avLst/>
          </a:prstGeom>
          <a:ln w="0">
            <a:noFill/>
          </a:ln>
        </p:spPr>
      </p:sp>
      <p:sp>
        <p:nvSpPr>
          <p:cNvPr id="5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C1B7C8-358A-4068-8C51-C13F71000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CCDBD5-0D96-4F4C-BC57-F47C937B8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4160" y="701640"/>
            <a:ext cx="4626000" cy="3468600"/>
          </a:xfrm>
          <a:prstGeom prst="rect">
            <a:avLst/>
          </a:prstGeom>
          <a:ln w="0">
            <a:noFill/>
          </a:ln>
        </p:spPr>
      </p:sp>
      <p:sp>
        <p:nvSpPr>
          <p:cNvPr id="5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DC15B4-FECC-43A3-889A-70486A7EE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4160" y="701640"/>
            <a:ext cx="4626000" cy="3468600"/>
          </a:xfrm>
          <a:prstGeom prst="rect">
            <a:avLst/>
          </a:prstGeom>
          <a:ln w="0">
            <a:noFill/>
          </a:ln>
        </p:spPr>
      </p:sp>
      <p:sp>
        <p:nvSpPr>
          <p:cNvPr id="5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A544B0-E419-4B40-B498-4A7AFD6E2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4160" y="701640"/>
            <a:ext cx="4626000" cy="3468600"/>
          </a:xfrm>
          <a:prstGeom prst="rect">
            <a:avLst/>
          </a:prstGeom>
          <a:ln w="0">
            <a:noFill/>
          </a:ln>
        </p:spPr>
      </p:sp>
      <p:sp>
        <p:nvSpPr>
          <p:cNvPr id="5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7C507C-D039-43BE-9EB1-58E14D20D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4160" y="701640"/>
            <a:ext cx="4626000" cy="3468600"/>
          </a:xfrm>
          <a:prstGeom prst="rect">
            <a:avLst/>
          </a:prstGeom>
          <a:ln w="0">
            <a:noFill/>
          </a:ln>
        </p:spPr>
      </p:sp>
      <p:sp>
        <p:nvSpPr>
          <p:cNvPr id="5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7ABFED-1886-4C42-B90B-AC8B0634D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54160" y="701640"/>
            <a:ext cx="4626000" cy="3468600"/>
          </a:xfrm>
          <a:prstGeom prst="rect">
            <a:avLst/>
          </a:prstGeom>
          <a:ln w="0">
            <a:noFill/>
          </a:ln>
        </p:spPr>
      </p:sp>
      <p:sp>
        <p:nvSpPr>
          <p:cNvPr id="4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0370F6-1222-4EF5-844B-427A5C8FB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4160" y="701640"/>
            <a:ext cx="4626000" cy="3468600"/>
          </a:xfrm>
          <a:prstGeom prst="rect">
            <a:avLst/>
          </a:prstGeom>
          <a:ln w="0">
            <a:noFill/>
          </a:ln>
        </p:spPr>
      </p:sp>
      <p:sp>
        <p:nvSpPr>
          <p:cNvPr id="5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FD8D51-400B-4D52-BCBE-36FB16150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4160" y="701640"/>
            <a:ext cx="4626000" cy="3468600"/>
          </a:xfrm>
          <a:prstGeom prst="rect">
            <a:avLst/>
          </a:prstGeom>
          <a:ln w="0">
            <a:noFill/>
          </a:ln>
        </p:spPr>
      </p:sp>
      <p:sp>
        <p:nvSpPr>
          <p:cNvPr id="5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FA5B00-9BF6-4AE9-8C3F-4F74EF9F8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4160" y="701640"/>
            <a:ext cx="4626000" cy="3468600"/>
          </a:xfrm>
          <a:prstGeom prst="rect">
            <a:avLst/>
          </a:prstGeom>
          <a:ln w="0">
            <a:noFill/>
          </a:ln>
        </p:spPr>
      </p:sp>
      <p:sp>
        <p:nvSpPr>
          <p:cNvPr id="5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9AF178-1299-4023-A9F9-6FB6103B8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BE7CCF-1824-459B-AEAE-41E11CA04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684AF0-A28C-4A2A-956E-B3BA86E5F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F86DCD-9169-4AAF-8601-D228AD832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DBC7EC-D123-4A57-ACFC-B874C80B5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59C26F-3D9A-4045-B98B-04F9F564E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2B6C92-71B9-466C-A8B3-9B53A6DBD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E37F40-5BCC-4181-8792-F5BF1FFDB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55E639-4B26-4AD9-A6D7-B1AA6723B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4160" y="701640"/>
            <a:ext cx="4626000" cy="3468600"/>
          </a:xfrm>
          <a:prstGeom prst="rect">
            <a:avLst/>
          </a:prstGeom>
          <a:ln w="0">
            <a:noFill/>
          </a:ln>
        </p:spPr>
      </p:sp>
      <p:sp>
        <p:nvSpPr>
          <p:cNvPr id="4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536840-1BD0-41B1-AC7B-CB82F46F9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C938FD-E6B1-4006-A7C8-BAB0FD8E7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3321F2-BAF5-4486-BD7F-AA33DD91C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3D5AFB-BA1D-42C8-9DB9-5EAD7FFA7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1ACABE-1C97-4E9C-B2A9-394FB71BC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0A299D-2D87-4A96-B3E4-859F4D01F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492EFC-FD41-49AA-AE25-6173CFAC9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A7CCB2-5ED8-4B14-B245-D6F16765A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6B4C6B-CBC9-4238-A2A4-DD1295808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37D7DD6-E0EE-4C00-B7E3-1E0BFA5F4B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7680" y="696960"/>
            <a:ext cx="4640400" cy="3479760"/>
          </a:xfrm>
          <a:prstGeom prst="rect">
            <a:avLst/>
          </a:prstGeom>
          <a:ln w="0">
            <a:noFill/>
          </a:ln>
        </p:spPr>
      </p:sp>
      <p:sp>
        <p:nvSpPr>
          <p:cNvPr id="48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7D0CBC-BAF8-4F99-8788-303CEE717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02B62D-FB8E-428E-9187-1772430EA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A96C5-C17A-4502-9380-066C997B8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4BF3CF-D4EC-426C-A84D-16F1AFCA0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967D96-D532-4A0C-AFB1-643709CF6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DAA4BE-34F2-4E10-AB49-53ACC1955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8C2E7D-38AB-4E91-B32E-B5EFB776B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90C534-88E8-4D5E-8267-C8F744005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D95FC0-9FA0-4832-BC4F-E80FE3D2C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A00CEC-EB2D-49E2-B37E-84A231320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7803211-366A-439C-AE73-27B8BFD26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7680" y="696960"/>
            <a:ext cx="4640400" cy="3479760"/>
          </a:xfrm>
          <a:prstGeom prst="rect">
            <a:avLst/>
          </a:prstGeom>
          <a:ln w="0">
            <a:noFill/>
          </a:ln>
        </p:spPr>
      </p:sp>
      <p:sp>
        <p:nvSpPr>
          <p:cNvPr id="48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57312A-A72C-4FB9-A765-8FBA16CEE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520865-B3EE-4EB1-8E5D-6DFC87C47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E203B0-DE91-4D30-A2B0-B23B4D55D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79096D-838E-4D04-B089-040872D85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2098F9-360B-4BCB-BDE6-63EFC1106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27FF6B-5ACC-452F-8846-B97F1EF8C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5B8EA-C20E-410B-AF49-FAC7B0D8B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25F712-9246-4179-ADA2-6FD91E27F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42CA58-9B3B-49B9-B952-6B3998C7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8A90C8-5288-4D0A-94B8-97179E6D2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9F639AB-D46C-4A4E-839D-B193F7F4A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1640"/>
            <a:ext cx="4626000" cy="3468600"/>
          </a:xfrm>
          <a:prstGeom prst="rect">
            <a:avLst/>
          </a:prstGeom>
          <a:ln w="0">
            <a:noFill/>
          </a:ln>
        </p:spPr>
      </p:sp>
      <p:sp>
        <p:nvSpPr>
          <p:cNvPr id="4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7560C3-DD1F-4B17-A2CA-2D5976C38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F29E74-56E7-4267-B6ED-EBF3BBA8A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A9FF0A-52DC-4690-8E8D-769DCEF35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190C8A-D54E-4E1F-9D9F-85FEBC84B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25CD37-A168-428D-88AF-0BF7ABBFC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A51BC5-53D3-4F99-A3E7-5D5DCE5AB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91DA20-5315-47F3-AEEA-F419C3C54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BD2EFE-67C3-415A-8C16-4F25D4A71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EA4F29-950F-4E18-960F-B026E8733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48AC16-F9AF-408D-9127-62CC2F6F6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550AB3-2F19-45B4-ADFF-4C803D7C0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4160" y="701640"/>
            <a:ext cx="4626000" cy="3468600"/>
          </a:xfrm>
          <a:prstGeom prst="rect">
            <a:avLst/>
          </a:prstGeom>
          <a:ln w="0">
            <a:noFill/>
          </a:ln>
        </p:spPr>
      </p:sp>
      <p:sp>
        <p:nvSpPr>
          <p:cNvPr id="4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4160" y="701640"/>
            <a:ext cx="4626000" cy="3468600"/>
          </a:xfrm>
          <a:prstGeom prst="rect">
            <a:avLst/>
          </a:prstGeom>
          <a:ln w="0">
            <a:noFill/>
          </a:ln>
        </p:spPr>
      </p:sp>
      <p:sp>
        <p:nvSpPr>
          <p:cNvPr id="8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7726B3-B513-4A48-B626-01A67F8AA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7930D-3C17-4383-9180-0C76732EA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527DC2-8821-4650-BE2C-2C00FAAFF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2B97A4-AF2D-40BD-800D-588AF4966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89FA5C-1A94-4DB4-AFC1-63B0AD4A0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31CE90-F26F-4B53-A04A-5A4981BB6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FE915E-4C4A-4748-981B-71A0F909F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54160" y="701640"/>
            <a:ext cx="4626000" cy="3468600"/>
          </a:xfrm>
          <a:prstGeom prst="rect">
            <a:avLst/>
          </a:prstGeom>
          <a:ln w="0">
            <a:noFill/>
          </a:ln>
        </p:spPr>
      </p:sp>
      <p:sp>
        <p:nvSpPr>
          <p:cNvPr id="9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C06604-9C47-4B76-877B-EA079325B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D6F9D2-1F79-48E2-B479-242396194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6BAB27-C6EC-45A4-B05A-3FAE49641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9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9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66CD70-0F8F-433B-AA54-C751C24A9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4160" y="701640"/>
            <a:ext cx="4626000" cy="3468600"/>
          </a:xfrm>
          <a:prstGeom prst="rect">
            <a:avLst/>
          </a:prstGeom>
          <a:ln w="0">
            <a:noFill/>
          </a:ln>
        </p:spPr>
      </p:sp>
      <p:sp>
        <p:nvSpPr>
          <p:cNvPr id="50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A8D3D7-4ED1-4D69-8594-1CD3A8B48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365CB7-26A7-4A32-8D63-8328EE4DE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B2B593-1EF6-4670-96E9-92D368F65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4160" y="701640"/>
            <a:ext cx="4626000" cy="3468600"/>
          </a:xfrm>
          <a:prstGeom prst="rect">
            <a:avLst/>
          </a:prstGeom>
          <a:ln w="0">
            <a:noFill/>
          </a:ln>
        </p:spPr>
      </p:sp>
      <p:sp>
        <p:nvSpPr>
          <p:cNvPr id="5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87AE-B055-4698-8A78-6D58977AE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6F18C-936F-4C4A-9FC2-721A904A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2F11C-E646-44B8-A475-5034B28DB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017CF-4C9D-465C-8EAC-68ED6ABAB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EC32C-20C3-4E27-8038-5607AC18C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3CDF-A789-4E56-A3CD-A9D0B16D5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DDDFE-E3B1-4AB0-8B41-B422860F2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A4C1-7541-484C-944C-E6709B02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4843-B77C-4B57-9EB6-4041E3969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4E1C-7D54-4CD0-A0EE-B8D9D540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0190-1250-4A34-BB95-5432DA9A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C55C-80B4-4D2B-83EE-C34CFFAD9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2917A6-4E9F-4251-A99F-3DF193527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0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8/11-18-0067-03-00ay-11ay-d1-0-comment-database.xlsx"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1772-00-00ay-tg-ay-november-2017-orlando-meeting-minutes.docx" TargetMode="External"/><Relationship Id="rId2" Type="http://schemas.openxmlformats.org/officeDocument/2006/relationships/hyperlink" Target="https://mentor.ieee.org/802.11/dcn/17/11-17-1772-00-00ay-tg-ay-november-2017-orlando-meeting-minutes.docx" TargetMode="External"/><Relationship Id="rId3" Type="http://schemas.openxmlformats.org/officeDocument/2006/relationships/hyperlink" Target="https://mentor.ieee.org/802.11/dcn/17/11-17-1772-00-00ay-tg-ay-november-2017-orlando-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1829-00-00ay-tg-ay-november-29-2017-conference-call-meeting-minutes.docx" TargetMode="External"/><Relationship Id="rId2" Type="http://schemas.openxmlformats.org/officeDocument/2006/relationships/hyperlink" Target="https://mentor.ieee.org/802.11/dcn/17/11-17-1876-01-00ay-tg-ay-december-2017-conference-call-meeting-minutes.docx" TargetMode="External"/><Relationship Id="rId3" Type="http://schemas.openxmlformats.org/officeDocument/2006/relationships/hyperlink" Target="https://mentor.ieee.org/802.11/dcn/18/11-18-0005-00-00ay-tg-ay-january-10-2018-conference-call-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5D29CF-5DEB-44D0-8B6D-CDD696085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1-1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D6F0F-33FF-459C-AD3D-23C61C2FE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E38D6A-DA65-4514-A18A-85F9796DB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586E12-3B08-4AE1-B639-AF285725F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D16418-5316-4506-9E8C-F28906CA6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7ED4A2-FA48-4855-93CF-03D9E2788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torial on comment resolu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EAA4C9-F729-4B5D-8205-32AEFDA86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98E85C-0D2F-40E5-8AC8-7F6F7A103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 to TGmd on the removal of DMG-OFD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0B4E77-A2D1-4ECA-8C53-761B5C0B1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7 plenary</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amendment</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for CC24</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of most of the comments received on D0.3 is complet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1.0 and start a 30 day Working Group technical letter ballot</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7D71E5-8194-4E65-A5A2-6D32B0694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 of the Letter Ballot 231 for D1.0</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ailed with 74.24% approval</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6 comments (updated):  817 technical (updated), 450 editorial, 79 general</a:t>
            </a:r>
            <a:endParaRPr b="0" lang="en-US" sz="20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updated on January 17):</a:t>
            </a:r>
            <a:endParaRPr b="0" lang="en-US" sz="2000" spc="-1" strike="noStrike">
              <a:solidFill>
                <a:srgbClr val="000000"/>
              </a:solidFill>
              <a:latin typeface="Times New Roman"/>
            </a:endParaRPr>
          </a:p>
          <a:p>
            <a:pPr lvl="2" marL="114300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8/11-18-0067-03-00ay-11ay-d1-0-comment-database.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04678D-FC0F-442A-90EA-8B3E97B73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s</a:t>
            </a:r>
            <a:endParaRPr b="0" lang="en-US" sz="3200" spc="-1" strike="noStrike">
              <a:solidFill>
                <a:srgbClr val="000000"/>
              </a:solidFill>
              <a:latin typeface="Times New Roman"/>
            </a:endParaRPr>
          </a:p>
        </p:txBody>
      </p:sp>
      <p:sp>
        <p:nvSpPr>
          <p:cNvPr id="1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0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3.6 LDPC parity matri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i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0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12.3 TXTIME calc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i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protocol differences for mmWave distribution network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optim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pping DN/CN of mmWave distribution network to DMG entit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feedback/selection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Irvine, Californ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4 - 1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46B231-9F2B-4477-BC29-2E17F658B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F7508F-C10B-4E2E-8F22-85A981DB6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60"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80495C-F6F6-4E73-9F43-76C927A5F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7 meeting minutes</a:t>
            </a:r>
            <a:endParaRPr b="0" lang="en-US" sz="3200" spc="-1" strike="noStrike">
              <a:solidFill>
                <a:srgbClr val="000000"/>
              </a:solidFill>
              <a:latin typeface="Times New Roman"/>
            </a:endParaRPr>
          </a:p>
        </p:txBody>
      </p:sp>
      <p:sp>
        <p:nvSpPr>
          <p:cNvPr id="1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7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1772-00-00ay-tg-ay-november-2017-orlando-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E92CE1-0BD9-4527-8EAC-5932A5F75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9: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1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9, December 13, December 20 and January 10:</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829-00-00ay-tg-ay-november-29-2017-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7/11-17-1876-01-00ay-tg-ay-december-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8/11-18-0005-00-00ay-tg-ay-january-10-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9D743C-ED5C-4F68-91F1-9725060C7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AM2)</a:t>
            </a:r>
            <a:endParaRPr b="0" lang="en-US" sz="3200" spc="-1" strike="noStrike">
              <a:solidFill>
                <a:srgbClr val="000000"/>
              </a:solidFill>
              <a:latin typeface="Times New Roman"/>
            </a:endParaRPr>
          </a:p>
        </p:txBody>
      </p:sp>
      <p:sp>
        <p:nvSpPr>
          <p:cNvPr id="1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650960"/>
          <a:ext cx="7913520" cy="3662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sk Group Revie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for “Obsolete?” DMG OFD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MG Beamforming ML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IMO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R CID 23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2DFA09-EDC8-40E1-ABD4-86C41A777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1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4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ay MI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LME SAP (Re)Association interfa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heri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ACK/BA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frame exchange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21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634FBE-7742-459F-8E3C-576690E83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1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5"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FDM TRN subfield for channel aggreg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9.2.2.7 TRN subfield definition for EDMG OFDM PPDU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D112B7-1BF6-40D8-91B5-1B5221F1A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1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Group ID Set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por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 maintenance for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8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46ACA9-4A91-4AAA-B780-77A4E09B3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2)</a:t>
            </a:r>
            <a:endParaRPr b="0" lang="en-US" sz="3200" spc="-1" strike="noStrike">
              <a:solidFill>
                <a:srgbClr val="000000"/>
              </a:solidFill>
              <a:latin typeface="Times New Roman"/>
            </a:endParaRPr>
          </a:p>
        </p:txBody>
      </p:sp>
      <p:sp>
        <p:nvSpPr>
          <p:cNvPr id="1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shi Man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GHz propagation analysis for micro hotspot services in stadium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5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asymmetric beamforming and directiona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ce-time block co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slot assignment clarif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sk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C2532A-41E3-4421-A3D0-22007C6D1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1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20480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77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 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ic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ic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rference mitigation in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C11F21-997C-497C-A9E3-3A3B7BF33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31114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OFDM data ra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ybrid beamforming feedback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OFDM feedback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ion network use case for consumer devi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distribution network discove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A7049A-315F-4374-8C5C-E40EFF61A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8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0F0672-2BFA-4FEF-A7CA-BC07057B4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tandby)</a:t>
            </a:r>
            <a:endParaRPr b="0" lang="en-US" sz="3200" spc="-1" strike="noStrike">
              <a:solidFill>
                <a:srgbClr val="000000"/>
              </a:solidFill>
              <a:latin typeface="Times New Roman"/>
            </a:endParaRPr>
          </a:p>
        </p:txBody>
      </p:sp>
      <p:sp>
        <p:nvSpPr>
          <p:cNvPr id="2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917640"/>
        </p:xfrm>
        <a:graphic>
          <a:graphicData uri="http://schemas.openxmlformats.org/drawingml/2006/table">
            <a:tbl>
              <a:tblPr/>
              <a:tblGrid>
                <a:gridCol w="979560"/>
                <a:gridCol w="1752480"/>
                <a:gridCol w="3581280"/>
                <a:gridCol w="1600200"/>
              </a:tblGrid>
              <a:tr h="36936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 on A-PPDU and Sector ACK fram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097F07-A714-4C80-8601-39FEFB14D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 to TGmd on the removal of DMG-OFDM</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torial on comment resolution</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14"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8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88F791-7003-4367-ABAC-03877F0C0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pproved Timeline</a:t>
            </a:r>
            <a:endParaRPr b="0" lang="en-US" sz="3200" spc="-1" strike="noStrike">
              <a:solidFill>
                <a:srgbClr val="000000"/>
              </a:solidFill>
              <a:latin typeface="Times New Roman"/>
            </a:endParaRPr>
          </a:p>
        </p:txBody>
      </p:sp>
      <p:sp>
        <p:nvSpPr>
          <p:cNvPr id="21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3:  Draft 2.0  </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8FC46F-05DD-420B-871F-C410D3387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s?</a:t>
            </a:r>
            <a:endParaRPr b="0" lang="en-US" sz="3200" spc="-1" strike="noStrike">
              <a:solidFill>
                <a:srgbClr val="000000"/>
              </a:solidFill>
              <a:latin typeface="Times New Roman"/>
            </a:endParaRPr>
          </a:p>
        </p:txBody>
      </p:sp>
      <p:sp>
        <p:nvSpPr>
          <p:cNvPr id="22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rch plenary and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plenary and interim</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 (i.e., keep the current arrangement)</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D6AA85-506D-4547-A587-30CC5D8F6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info on ad-hoc meetings (1)</a:t>
            </a:r>
            <a:endParaRPr b="0" lang="en-US" sz="3200" spc="-1" strike="noStrike">
              <a:solidFill>
                <a:srgbClr val="000000"/>
              </a:solidFill>
              <a:latin typeface="Times New Roman"/>
            </a:endParaRPr>
          </a:p>
        </p:txBody>
      </p:sp>
      <p:sp>
        <p:nvSpPr>
          <p:cNvPr id="22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discussion</a:t>
            </a:r>
            <a:endParaRPr b="0" lang="en-US" sz="2000" spc="-1" strike="noStrike">
              <a:solidFill>
                <a:srgbClr val="000000"/>
              </a:solidFill>
              <a:latin typeface="Times New Roman"/>
            </a:endParaRPr>
          </a:p>
          <a:p>
            <a:pPr lvl="2" marL="1257480" indent="-34308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O’Hare, Rosemont, on March 2 (Friday) and March 3 (Saturday)</a:t>
            </a:r>
            <a:endParaRPr b="0" lang="en-US" sz="1800" spc="-1" strike="noStrike">
              <a:solidFill>
                <a:srgbClr val="000000"/>
              </a:solidFill>
              <a:latin typeface="Times New Roman"/>
            </a:endParaRPr>
          </a:p>
          <a:p>
            <a:pPr lvl="2" marL="1257480" indent="-34308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ton Long Island/Huntington, New York, on March 1 (Thursday) and March 2 (Friday)</a:t>
            </a:r>
            <a:endParaRPr b="0" lang="en-US" sz="18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Rui Yang and Joe Levy (InterDigital)</a:t>
            </a:r>
            <a:endParaRPr b="0" lang="en-US" sz="2000" spc="-1" strike="noStrike">
              <a:solidFill>
                <a:srgbClr val="000000"/>
              </a:solidFill>
              <a:latin typeface="Times New Roman"/>
            </a:endParaRPr>
          </a:p>
          <a:p>
            <a:pPr lvl="2" marL="1257480" indent="-3430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A1B719-992F-4024-AEF5-55116E098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info on ad-hoc meetings (2)</a:t>
            </a:r>
            <a:endParaRPr b="0" lang="en-US" sz="3200" spc="-1" strike="noStrike">
              <a:solidFill>
                <a:srgbClr val="000000"/>
              </a:solidFill>
              <a:latin typeface="Times New Roman"/>
            </a:endParaRPr>
          </a:p>
        </p:txBody>
      </p:sp>
      <p:sp>
        <p:nvSpPr>
          <p:cNvPr id="23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Center, Rhode &amp; Schwarz HQs, Munich, on May 3 (Thursday) and May 4 (Fri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Lisa Ward (Rhode &amp; Schwarz)</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570FF9-6EB4-41A1-BE46-44B05C52B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 to TGmd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the removal of DMG-OFDM</a:t>
            </a:r>
            <a:endParaRPr b="0" lang="en-US" sz="3200" spc="-1" strike="noStrike">
              <a:solidFill>
                <a:srgbClr val="000000"/>
              </a:solidFill>
              <a:latin typeface="Times New Roman"/>
            </a:endParaRPr>
          </a:p>
        </p:txBody>
      </p:sp>
      <p:sp>
        <p:nvSpPr>
          <p:cNvPr id="2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1" name="Rectangle 3"/>
          <p:cNvSpPr/>
          <p:nvPr/>
        </p:nvSpPr>
        <p:spPr>
          <a:xfrm>
            <a:off x="685800" y="18288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1238r2 has been uploaded since August 11</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based on inputs from Assaf Kasher and Lei Huan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further input to TGm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9FB6CD-93C3-4770-BA43-DB617B14E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BDE590-EF2E-4B87-B36A-87ED12052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0:  Comment Resolution</a:t>
            </a:r>
            <a:endParaRPr b="0" lang="en-US" sz="3200" spc="-1" strike="noStrike">
              <a:solidFill>
                <a:srgbClr val="000000"/>
              </a:solidFill>
              <a:latin typeface="Times New Roman"/>
            </a:endParaRPr>
          </a:p>
        </p:txBody>
      </p:sp>
      <p:sp>
        <p:nvSpPr>
          <p:cNvPr id="2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802r1 as comment resolution for CID 1007 and update the resolution status of the CID to “ACCEPTE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November 29.</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4 Abstain).</a:t>
            </a:r>
            <a:endParaRPr b="0" lang="en-US" sz="2000" spc="-1" strike="noStrike">
              <a:solidFill>
                <a:srgbClr val="000000"/>
              </a:solidFill>
              <a:latin typeface="Times New Roman"/>
            </a:endParaRPr>
          </a:p>
        </p:txBody>
      </p:sp>
      <p:sp>
        <p:nvSpPr>
          <p:cNvPr id="2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5F324A-6369-4C42-A21C-E509FD1D4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1:  Comment Resolution</a:t>
            </a:r>
            <a:endParaRPr b="0" lang="en-US" sz="3200" spc="-1" strike="noStrike">
              <a:solidFill>
                <a:srgbClr val="000000"/>
              </a:solidFill>
              <a:latin typeface="Times New Roman"/>
            </a:endParaRPr>
          </a:p>
        </p:txBody>
      </p:sp>
      <p:sp>
        <p:nvSpPr>
          <p:cNvPr id="2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806r2 as comment resolution for CIDs 1006 and 1629, update the resolution status of CID 1006 to “ACCEPTED”, and update the resolution status of CID 1629 to “REVISED, </a:t>
            </a:r>
            <a:r>
              <a:rPr b="1" lang="en-GB" sz="2000" spc="-1" strike="noStrike">
                <a:solidFill>
                  <a:srgbClr val="000000"/>
                </a:solidFill>
                <a:latin typeface="Times New Roman"/>
              </a:rPr>
              <a:t>TGay editor to make the changes shown in 11-17/1806r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November 29.</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1 Abstain).</a:t>
            </a:r>
            <a:endParaRPr b="0" lang="en-US" sz="2000" spc="-1" strike="noStrike">
              <a:solidFill>
                <a:srgbClr val="000000"/>
              </a:solidFill>
              <a:latin typeface="Times New Roman"/>
            </a:endParaRPr>
          </a:p>
        </p:txBody>
      </p:sp>
      <p:sp>
        <p:nvSpPr>
          <p:cNvPr id="2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4D960BD-0302-4B2B-A350-6844280175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F1E812-5138-4443-AC88-DA9B997AC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2:  Comment Resolution</a:t>
            </a:r>
            <a:endParaRPr b="0" lang="en-US" sz="3200" spc="-1" strike="noStrike">
              <a:solidFill>
                <a:srgbClr val="000000"/>
              </a:solidFill>
              <a:latin typeface="Times New Roman"/>
            </a:endParaRPr>
          </a:p>
        </p:txBody>
      </p:sp>
      <p:sp>
        <p:nvSpPr>
          <p:cNvPr id="2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233r1 as comment resolution for CID 1138 and update the resolution status of the CID to “ACCEPTE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December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3 Abstain).</a:t>
            </a:r>
            <a:endParaRPr b="0" lang="en-US" sz="2000" spc="-1" strike="noStrike">
              <a:solidFill>
                <a:srgbClr val="000000"/>
              </a:solidFill>
              <a:latin typeface="Times New Roman"/>
            </a:endParaRPr>
          </a:p>
        </p:txBody>
      </p:sp>
      <p:sp>
        <p:nvSpPr>
          <p:cNvPr id="2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5615B4-1B8F-48AD-9941-887CEC233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3: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41, 1680, and 2337 as proposed in 18/0093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has been presented on January 1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2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2BEAA9-26BF-41B5-8351-19CF97222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4: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504, 1605, 1684, 1720, 1910, 2080, 2341, 2342, and 1174 as proposed in 17/1834r3.</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ext corresponding to CID 1504 has been presented on December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2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B0EEB2-8E98-4B7E-A4E1-E48E9E4F4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76" name=""/>
          <p:cNvGraphicFramePr/>
          <p:nvPr/>
        </p:nvGraphicFramePr>
        <p:xfrm>
          <a:off x="696960" y="1650960"/>
          <a:ext cx="7913520" cy="3662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sk Group Revie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for “Obsolete?” DMG OFD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MG Beamforming ML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IMO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R CID 23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5FC95D-4B39-441F-BA76-FAF1E8FE0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B44A2C-1627-4311-8D42-2EE676D9C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8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torial on comment resolu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ECF852-4BE4-4121-B777-2582832D5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utorial on comment resolution</a:t>
            </a:r>
            <a:endParaRPr b="0" lang="en-US" sz="3200" spc="-1" strike="noStrike">
              <a:solidFill>
                <a:srgbClr val="000000"/>
              </a:solidFill>
              <a:latin typeface="Times New Roman"/>
            </a:endParaRPr>
          </a:p>
        </p:txBody>
      </p:sp>
      <p:sp>
        <p:nvSpPr>
          <p:cNvPr id="2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ed by Adrian Stephens (Intel), 30 minut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0A93C4-616A-4593-99FF-BFF89B4CE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95"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4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ay MI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LME SAP (Re)Association interfa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heri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ACK/BA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frame exchange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21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1BF223-A59D-42B7-A399-5AF608418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1F9C0-C4B1-4C27-8ECD-613083F1A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7553228-A842-4333-A548-C5CECBACE4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72E90D-FDD2-478C-B504-ED5C83FEE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9"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FDM TRN subfield for channel aggreg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9.2.2.7 TRN subfield definition for EDMG OFDM PPDU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03ECA7-BF25-4DAB-9E6F-11F32FC90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B0B7B1-BE75-456D-BC2B-BA480B5F0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C35251-F177-4C7C-91FC-6B647CB4B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3"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Group ID Set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por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 maintenance for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8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6D4EAA-7546-446F-8D86-6B18F5581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412284-9399-4FD5-82E7-97F3E7594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41FF7C-0AC4-4459-84D8-FF502AB10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5:  Draft</a:t>
            </a:r>
            <a:endParaRPr b="0" lang="en-US" sz="3200" spc="-1" strike="noStrike">
              <a:solidFill>
                <a:srgbClr val="000000"/>
              </a:solidFill>
              <a:latin typeface="Times New Roman"/>
            </a:endParaRPr>
          </a:p>
        </p:txBody>
      </p:sp>
      <p:sp>
        <p:nvSpPr>
          <p:cNvPr id="3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47r0 for </a:t>
            </a:r>
            <a:r>
              <a:rPr b="1" lang="en-GB" sz="2000" spc="-1" strike="noStrike">
                <a:solidFill>
                  <a:srgbClr val="000000"/>
                </a:solidFill>
                <a:latin typeface="Times New Roman"/>
              </a:rPr>
              <a:t>DMG Beamforming MLME</a:t>
            </a:r>
            <a:r>
              <a:rPr b="1" lang="en-US" sz="2000" spc="-1" strike="noStrike">
                <a:solidFill>
                  <a:srgbClr val="000000"/>
                </a:solidFill>
                <a:latin typeface="Times New Roman"/>
              </a:rPr>
              <a:t> 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2 Abstain).</a:t>
            </a:r>
            <a:endParaRPr b="0" lang="en-US" sz="2000" spc="-1" strike="noStrike">
              <a:solidFill>
                <a:srgbClr val="000000"/>
              </a:solidFill>
              <a:latin typeface="Times New Roman"/>
            </a:endParaRPr>
          </a:p>
        </p:txBody>
      </p:sp>
      <p:sp>
        <p:nvSpPr>
          <p:cNvPr id="3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AA3CA-918B-45FA-BB6D-3817A0006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6:  Comment Resolution</a:t>
            </a:r>
            <a:endParaRPr b="0" lang="en-US" sz="3200" spc="-1" strike="noStrike">
              <a:solidFill>
                <a:srgbClr val="000000"/>
              </a:solidFill>
              <a:latin typeface="Times New Roman"/>
            </a:endParaRPr>
          </a:p>
        </p:txBody>
      </p:sp>
      <p:sp>
        <p:nvSpPr>
          <p:cNvPr id="3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a:t>
            </a:r>
            <a:endParaRPr b="0" lang="en-US" sz="20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27, 1028, 1795, and 2324 as proposed in 18/0089r0,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49, 2305, 1032, 1053, 1050, 1051, 1052, 1338, 1055, and 1337 as </a:t>
            </a:r>
            <a:r>
              <a:rPr b="0" lang="en-US" sz="1800" spc="-1" strike="noStrike">
                <a:solidFill>
                  <a:srgbClr val="000000"/>
                </a:solidFill>
                <a:latin typeface="Times New Roman"/>
              </a:rPr>
              <a:t>	</a:t>
            </a:r>
            <a:r>
              <a:rPr b="0" lang="en-US" sz="1800" spc="-1" strike="noStrike">
                <a:solidFill>
                  <a:srgbClr val="000000"/>
                </a:solidFill>
                <a:latin typeface="Times New Roman"/>
              </a:rPr>
              <a:t>proposed in 18/0125r1, and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60, 1062, 1329, 1970, 1578, 2104, 1061, 1838, 2326, 1330, 1688, </a:t>
            </a:r>
            <a:r>
              <a:rPr b="0" lang="en-US" sz="1800" spc="-1" strike="noStrike">
                <a:solidFill>
                  <a:srgbClr val="000000"/>
                </a:solidFill>
                <a:latin typeface="Times New Roman"/>
              </a:rPr>
              <a:t>	</a:t>
            </a:r>
            <a:r>
              <a:rPr b="0" lang="en-US" sz="1800" spc="-1" strike="noStrike">
                <a:solidFill>
                  <a:srgbClr val="000000"/>
                </a:solidFill>
                <a:latin typeface="Times New Roman"/>
              </a:rPr>
              <a:t>1895, 1021, 1685, 2007, and 1140 as proposed in 18/0146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3 Abstain).</a:t>
            </a:r>
            <a:endParaRPr b="0" lang="en-US" sz="2000" spc="-1" strike="noStrike">
              <a:solidFill>
                <a:srgbClr val="000000"/>
              </a:solidFill>
              <a:latin typeface="Times New Roman"/>
            </a:endParaRPr>
          </a:p>
        </p:txBody>
      </p:sp>
      <p:sp>
        <p:nvSpPr>
          <p:cNvPr id="3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0A2186-4CF8-499C-B911-FF1D45D24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7:  Comment Resolution</a:t>
            </a:r>
            <a:endParaRPr b="0" lang="en-US" sz="3200" spc="-1" strike="noStrike">
              <a:solidFill>
                <a:srgbClr val="000000"/>
              </a:solidFill>
              <a:latin typeface="Times New Roman"/>
            </a:endParaRPr>
          </a:p>
        </p:txBody>
      </p:sp>
      <p:sp>
        <p:nvSpPr>
          <p:cNvPr id="3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327 as proposed in 18/0172r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Straw poll results:  31 Yes;  0 No;  2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Rui Y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0 Abstain).</a:t>
            </a:r>
            <a:endParaRPr b="0" lang="en-US" sz="2000" spc="-1" strike="noStrike">
              <a:solidFill>
                <a:srgbClr val="000000"/>
              </a:solidFill>
              <a:latin typeface="Times New Roman"/>
            </a:endParaRPr>
          </a:p>
        </p:txBody>
      </p:sp>
      <p:sp>
        <p:nvSpPr>
          <p:cNvPr id="3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A4505-319A-43E3-BA7D-B0ACBC942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8:  Comment Resolution</a:t>
            </a:r>
            <a:endParaRPr b="0" lang="en-US" sz="3200" spc="-1" strike="noStrike">
              <a:solidFill>
                <a:srgbClr val="000000"/>
              </a:solidFill>
              <a:latin typeface="Times New Roman"/>
            </a:endParaRPr>
          </a:p>
        </p:txBody>
      </p:sp>
      <p:sp>
        <p:nvSpPr>
          <p:cNvPr id="3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17, 1948, 1737, 1738, 1193, 1389, 1422, 1834, 1674, 1631, 1882, 2229, 1433, 1989, 1087, 1678, 1924, 2221, 1724, 1559, 1177, and 1639  as proposed in 18/0047r2, and update the resolution status of these CIDs to “REVISED, </a:t>
            </a:r>
            <a:r>
              <a:rPr b="1" lang="en-GB" sz="2000" spc="-1" strike="noStrike">
                <a:solidFill>
                  <a:srgbClr val="000000"/>
                </a:solidFill>
                <a:latin typeface="Times New Roman"/>
              </a:rPr>
              <a:t>TGay editor to make the changes shown in 11-18/0047r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6 Yes; 0 No; 0 Abstain).</a:t>
            </a:r>
            <a:endParaRPr b="0" lang="en-US" sz="2000" spc="-1" strike="noStrike">
              <a:solidFill>
                <a:srgbClr val="000000"/>
              </a:solidFill>
              <a:latin typeface="Times New Roman"/>
            </a:endParaRPr>
          </a:p>
        </p:txBody>
      </p:sp>
      <p:sp>
        <p:nvSpPr>
          <p:cNvPr id="35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AF7202-119A-43B8-A4C1-964A1AD44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8E6245-3982-445B-8665-3AC633CA3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9:  Draft</a:t>
            </a:r>
            <a:endParaRPr b="0" lang="en-US" sz="3200" spc="-1" strike="noStrike">
              <a:solidFill>
                <a:srgbClr val="000000"/>
              </a:solidFill>
              <a:latin typeface="Times New Roman"/>
            </a:endParaRPr>
          </a:p>
        </p:txBody>
      </p:sp>
      <p:sp>
        <p:nvSpPr>
          <p:cNvPr id="35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48r1 for</a:t>
            </a:r>
            <a:r>
              <a:rPr b="1" lang="en-GB" sz="2000" spc="-1" strike="noStrike">
                <a:solidFill>
                  <a:srgbClr val="000000"/>
                </a:solidFill>
                <a:latin typeface="Times New Roman"/>
              </a:rPr>
              <a:t> MLME SAP (Re)Association interfac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2 Yes; 0 No; 2 Abstain).</a:t>
            </a:r>
            <a:endParaRPr b="0" lang="en-US" sz="2000" spc="-1" strike="noStrike">
              <a:solidFill>
                <a:srgbClr val="000000"/>
              </a:solidFill>
              <a:latin typeface="Times New Roman"/>
            </a:endParaRPr>
          </a:p>
        </p:txBody>
      </p:sp>
      <p:sp>
        <p:nvSpPr>
          <p:cNvPr id="35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D44A31-E9D2-4C45-969E-29D28B691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0:  Draft</a:t>
            </a:r>
            <a:endParaRPr b="0" lang="en-US" sz="3200" spc="-1" strike="noStrike">
              <a:solidFill>
                <a:srgbClr val="000000"/>
              </a:solidFill>
              <a:latin typeface="Times New Roman"/>
            </a:endParaRPr>
          </a:p>
        </p:txBody>
      </p:sp>
      <p:sp>
        <p:nvSpPr>
          <p:cNvPr id="36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069r2 for</a:t>
            </a:r>
            <a:r>
              <a:rPr b="1" lang="en-GB" sz="2000" spc="-1" strike="noStrike">
                <a:solidFill>
                  <a:srgbClr val="000000"/>
                </a:solidFill>
                <a:latin typeface="Times New Roman"/>
              </a:rPr>
              <a:t> ACK/BA transmission in mmWave distribution networks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3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02C0D8-D64B-405A-B331-4E434FCCB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1:  Draft</a:t>
            </a:r>
            <a:endParaRPr b="0" lang="en-US" sz="3200" spc="-1" strike="noStrike">
              <a:solidFill>
                <a:srgbClr val="000000"/>
              </a:solidFill>
              <a:latin typeface="Times New Roman"/>
            </a:endParaRPr>
          </a:p>
        </p:txBody>
      </p:sp>
      <p:sp>
        <p:nvSpPr>
          <p:cNvPr id="3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hat, in TDD SP operation, the beam refinement response to a beam refinement request shall be transmitted at the start of the earliest occurring TDD Slot that allows for its transmission.</a:t>
            </a:r>
            <a:endParaRPr b="0" lang="en-US" sz="2000" spc="-1" strike="noStrike">
              <a:solidFill>
                <a:srgbClr val="000000"/>
              </a:solidFill>
              <a:latin typeface="Times New Roman"/>
            </a:endParaRPr>
          </a:p>
          <a:p>
            <a:pPr lvl="1" marL="914400" indent="-57456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is is introduced to prohibit bi-directional exchange of BRP request and BRP response frames in a Basic TDD Slot</a:t>
            </a:r>
            <a:endParaRPr b="0" lang="en-US" sz="1800" spc="-1" strike="noStrike">
              <a:solidFill>
                <a:srgbClr val="000000"/>
              </a:solidFill>
              <a:latin typeface="Times New Roman"/>
            </a:endParaRPr>
          </a:p>
          <a:p>
            <a:pPr lvl="1" marL="914400" indent="-57456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8/0121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5 Yes;  0 No;  1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3 Abstain).</a:t>
            </a:r>
            <a:endParaRPr b="0" lang="en-US" sz="2000" spc="-1" strike="noStrike">
              <a:solidFill>
                <a:srgbClr val="000000"/>
              </a:solidFill>
              <a:latin typeface="Times New Roman"/>
            </a:endParaRPr>
          </a:p>
        </p:txBody>
      </p:sp>
      <p:sp>
        <p:nvSpPr>
          <p:cNvPr id="3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1DBC2D-9934-4DF8-89E7-2ED1D7958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2:  Comment Resolution</a:t>
            </a:r>
            <a:endParaRPr b="0" lang="en-US" sz="3200" spc="-1" strike="noStrike">
              <a:solidFill>
                <a:srgbClr val="000000"/>
              </a:solidFill>
              <a:latin typeface="Times New Roman"/>
            </a:endParaRPr>
          </a:p>
        </p:txBody>
      </p:sp>
      <p:sp>
        <p:nvSpPr>
          <p:cNvPr id="3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24, 1240, 1293, 1300, 1336, 1347, 1348, and 1481 as proposed in 18/0184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2 Abstain).</a:t>
            </a:r>
            <a:endParaRPr b="0" lang="en-US" sz="2000" spc="-1" strike="noStrike">
              <a:solidFill>
                <a:srgbClr val="000000"/>
              </a:solidFill>
              <a:latin typeface="Times New Roman"/>
            </a:endParaRPr>
          </a:p>
        </p:txBody>
      </p:sp>
      <p:sp>
        <p:nvSpPr>
          <p:cNvPr id="3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6454B4-EDBB-400B-BB9A-0033F4EDF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3:  Comment Resolution</a:t>
            </a:r>
            <a:endParaRPr b="0" lang="en-US" sz="3200" spc="-1" strike="noStrike">
              <a:solidFill>
                <a:srgbClr val="000000"/>
              </a:solidFill>
              <a:latin typeface="Times New Roman"/>
            </a:endParaRPr>
          </a:p>
        </p:txBody>
      </p:sp>
      <p:sp>
        <p:nvSpPr>
          <p:cNvPr id="3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87 as proposed in 18/0168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2 Abstain).</a:t>
            </a:r>
            <a:endParaRPr b="0" lang="en-US" sz="2000" spc="-1" strike="noStrike">
              <a:solidFill>
                <a:srgbClr val="000000"/>
              </a:solidFill>
              <a:latin typeface="Times New Roman"/>
            </a:endParaRPr>
          </a:p>
        </p:txBody>
      </p:sp>
      <p:sp>
        <p:nvSpPr>
          <p:cNvPr id="37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83C4CC-705A-4C0C-8FC9-09C4A4D17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4:  Draft</a:t>
            </a:r>
            <a:endParaRPr b="0" lang="en-US" sz="3200" spc="-1" strike="noStrike">
              <a:solidFill>
                <a:srgbClr val="000000"/>
              </a:solidFill>
              <a:latin typeface="Times New Roman"/>
            </a:endParaRPr>
          </a:p>
        </p:txBody>
      </p:sp>
      <p:sp>
        <p:nvSpPr>
          <p:cNvPr id="3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79r3 for </a:t>
            </a:r>
            <a:r>
              <a:rPr b="1" lang="en-GB" sz="2000" spc="-1" strike="noStrike">
                <a:solidFill>
                  <a:srgbClr val="000000"/>
                </a:solidFill>
                <a:latin typeface="Times New Roman"/>
              </a:rPr>
              <a:t>beamforming training for TDD distributed networks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3 Abstain).</a:t>
            </a:r>
            <a:endParaRPr b="0" lang="en-US" sz="2000" spc="-1" strike="noStrike">
              <a:solidFill>
                <a:srgbClr val="000000"/>
              </a:solidFill>
              <a:latin typeface="Times New Roman"/>
            </a:endParaRPr>
          </a:p>
        </p:txBody>
      </p:sp>
      <p:sp>
        <p:nvSpPr>
          <p:cNvPr id="38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E43C7-BA1A-484A-83B7-9E535C51E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5:  Draft</a:t>
            </a:r>
            <a:endParaRPr b="0" lang="en-US" sz="3200" spc="-1" strike="noStrike">
              <a:solidFill>
                <a:srgbClr val="000000"/>
              </a:solidFill>
              <a:latin typeface="Times New Roman"/>
            </a:endParaRPr>
          </a:p>
        </p:txBody>
      </p:sp>
      <p:sp>
        <p:nvSpPr>
          <p:cNvPr id="3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97r2 for OFDM TRN subfield for channel aggregation 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SunWoong Y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ungJin Park</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1 Abstain).</a:t>
            </a:r>
            <a:endParaRPr b="0" lang="en-US" sz="2000" spc="-1" strike="noStrike">
              <a:solidFill>
                <a:srgbClr val="000000"/>
              </a:solidFill>
              <a:latin typeface="Times New Roman"/>
            </a:endParaRPr>
          </a:p>
        </p:txBody>
      </p:sp>
      <p:sp>
        <p:nvSpPr>
          <p:cNvPr id="38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CD3CAA-0844-4E30-B927-21805FE91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6:  Comment Resolution</a:t>
            </a:r>
            <a:endParaRPr b="0" lang="en-US" sz="3200" spc="-1" strike="noStrike">
              <a:solidFill>
                <a:srgbClr val="000000"/>
              </a:solidFill>
              <a:latin typeface="Times New Roman"/>
            </a:endParaRPr>
          </a:p>
        </p:txBody>
      </p:sp>
      <p:sp>
        <p:nvSpPr>
          <p:cNvPr id="3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a:t>
            </a:r>
            <a:endParaRPr b="0" lang="en-US" sz="20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46, 1152 as proposed in 18/0091r1,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154, 1974, 1995, 1821, 1977 as proposed in 18/0092r0,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466, 1467, 2118, 2119 as proposed in 18/0095r2, and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 1468 as proposed in 18/0135r2</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6 Yes; 0 No; 1 Abstain).</a:t>
            </a:r>
            <a:endParaRPr b="0" lang="en-US" sz="2000" spc="-1" strike="noStrike">
              <a:solidFill>
                <a:srgbClr val="000000"/>
              </a:solidFill>
              <a:latin typeface="Times New Roman"/>
            </a:endParaRPr>
          </a:p>
        </p:txBody>
      </p:sp>
      <p:sp>
        <p:nvSpPr>
          <p:cNvPr id="39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CF53D6-7769-4C83-994B-3FC4F01F5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97"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shi Man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GHz propagation analysis for micro hotspot services in stadium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5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asymmetric beamforming and directiona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ce-time block co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slot assignment clarif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sk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52DDF1-8232-45E4-B866-186BDAF17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4CDF74-CBD7-4858-9130-E43177A44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349828-5F3B-4E2A-A791-F508A1FAD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53F728-A19A-4D31-B881-93348E677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EB19C1-502A-4409-911D-13C6F37FB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35D452-4F15-4033-8DE9-568887386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1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B6222A-9B06-40B5-A9E1-ED0F91759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7:  Comment Resolution</a:t>
            </a:r>
            <a:endParaRPr b="0" lang="en-US" sz="3200" spc="-1" strike="noStrike">
              <a:solidFill>
                <a:srgbClr val="000000"/>
              </a:solidFill>
              <a:latin typeface="Times New Roman"/>
            </a:endParaRPr>
          </a:p>
        </p:txBody>
      </p:sp>
      <p:sp>
        <p:nvSpPr>
          <p:cNvPr id="42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11, 1157, 1356, 1357, 1412, 1358, 1371, 1779, 1780, 1781, 1789, 1945, 2139, 2140, 2141, 2142, 2317, and 2318 as proposed in 18/0158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BAEDC7-1DF6-448B-96D5-662A9378B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8:  Comment Resolution</a:t>
            </a:r>
            <a:endParaRPr b="0" lang="en-US" sz="3200" spc="-1" strike="noStrike">
              <a:solidFill>
                <a:srgbClr val="000000"/>
              </a:solidFill>
              <a:latin typeface="Times New Roman"/>
            </a:endParaRPr>
          </a:p>
        </p:txBody>
      </p:sp>
      <p:sp>
        <p:nvSpPr>
          <p:cNvPr id="42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627, 1835, and 2031 as proposed in 18/0186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92B3BA-93A9-435A-A01A-01378F2E5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9:  Comment Resolution</a:t>
            </a:r>
            <a:endParaRPr b="0" lang="en-US" sz="3200" spc="-1" strike="noStrike">
              <a:solidFill>
                <a:srgbClr val="000000"/>
              </a:solidFill>
              <a:latin typeface="Times New Roman"/>
            </a:endParaRPr>
          </a:p>
        </p:txBody>
      </p:sp>
      <p:sp>
        <p:nvSpPr>
          <p:cNvPr id="43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617, 2029, 2030, and 2034 as proposed in 18/0186r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Straw poll results:  31 Yes;  1 No;  2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A7F635-2617-4D54-AB01-7833BD66E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0:  Comment Resolution</a:t>
            </a:r>
            <a:endParaRPr b="0" lang="en-US" sz="3200" spc="-1" strike="noStrike">
              <a:solidFill>
                <a:srgbClr val="000000"/>
              </a:solidFill>
              <a:latin typeface="Times New Roman"/>
            </a:endParaRPr>
          </a:p>
        </p:txBody>
      </p:sp>
      <p:sp>
        <p:nvSpPr>
          <p:cNvPr id="43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1940 as proposed in 18/0139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523AD0-04F6-459F-A3BC-F09C1A5CF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1:  Comment Resolution</a:t>
            </a:r>
            <a:endParaRPr b="0" lang="en-US" sz="3200" spc="-1" strike="noStrike">
              <a:solidFill>
                <a:srgbClr val="000000"/>
              </a:solidFill>
              <a:latin typeface="Times New Roman"/>
            </a:endParaRPr>
          </a:p>
        </p:txBody>
      </p:sp>
      <p:sp>
        <p:nvSpPr>
          <p:cNvPr id="4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25, 1426, 1587, 2226, 2227, 2334, 2335, 1610, 1611, 1670, and 1671 as proposed in 18/0167r0, and update the resolution status of these CIDs to “REVISED, </a:t>
            </a:r>
            <a:r>
              <a:rPr b="1" lang="en-GB" sz="2000" spc="-1" strike="noStrike">
                <a:solidFill>
                  <a:srgbClr val="000000"/>
                </a:solidFill>
                <a:latin typeface="Times New Roman"/>
              </a:rPr>
              <a:t>TGay editor to make the changes shown in 11-18/0167r0</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B6DAB6-397B-4FA4-B152-04DE80B3B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E929F6-C9B9-4B26-B2C0-D8FFFAC34F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A3E24A-9631-4664-BDB8-CD902FFF7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8 plenary</a:t>
            </a:r>
            <a:endParaRPr b="0" lang="en-US" sz="3200" spc="-1" strike="noStrike">
              <a:solidFill>
                <a:srgbClr val="000000"/>
              </a:solidFill>
              <a:latin typeface="Times New Roman"/>
            </a:endParaRPr>
          </a:p>
        </p:txBody>
      </p:sp>
      <p:sp>
        <p:nvSpPr>
          <p:cNvPr id="45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3097B1-5B34-438D-8FC9-F707FC55A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06CF9B-7864-494B-A3F5-3F505C3F0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8</cp:keywords>
  <dc:language>en-US</dc:language>
  <cp:lastModifiedBy>Edward Au</cp:lastModifiedBy>
  <cp:lastPrinted>2014-11-04T15:04:57Z</cp:lastPrinted>
  <dcterms:modified xsi:type="dcterms:W3CDTF">2018-01-18T13:38:44Z</dcterms:modified>
  <cp:revision>6628</cp:revision>
  <dc:subject>Task Group AY November 2015 Meeting Agenda</dc:subject>
  <dc:title>11-17/1830r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