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513040" y="-73296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rPr>
              <a:t>doc.: IEEE 802.11-17/1704r10</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1520" y="117360"/>
            <a:ext cx="1226880" cy="2160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February 2018</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923760" y="750960"/>
            <a:ext cx="4948560" cy="371160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05040" y="4716360"/>
            <a:ext cx="4984560" cy="44719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230800" y="9615240"/>
            <a:ext cx="9237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ea typeface="Arial"/>
              </a:defRPr>
            </a:lvl1pPr>
          </a:lstStyle>
          <a:p>
            <a:pPr lvl="4" marL="45864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146400" y="961524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GB"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rPr>
              <a:t>Page </a:t>
            </a:r>
            <a:fld id="{26D114F9-91A9-4D1B-86DE-31FBB41CEF4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08480" y="961560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09560" y="9613800"/>
            <a:ext cx="537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35040" y="317520"/>
            <a:ext cx="5524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
          <p:cNvSpPr/>
          <p:nvPr/>
        </p:nvSpPr>
        <p:spPr>
          <a:xfrm>
            <a:off x="468936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10</a:t>
            </a:r>
            <a:endParaRPr b="0" lang="en-US" sz="1400" spc="-1" strike="noStrike">
              <a:solidFill>
                <a:srgbClr val="000000"/>
              </a:solidFill>
              <a:latin typeface="Times New Roman"/>
            </a:endParaRPr>
          </a:p>
        </p:txBody>
      </p:sp>
      <p:sp>
        <p:nvSpPr>
          <p:cNvPr id="230"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3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3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A8FB1EF3-C681-4A33-9B85-60A3372959C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922320" y="750960"/>
            <a:ext cx="4950000" cy="3711600"/>
          </a:xfrm>
          <a:prstGeom prst="rect">
            <a:avLst/>
          </a:prstGeom>
          <a:ln w="0">
            <a:noFill/>
          </a:ln>
        </p:spPr>
      </p:sp>
      <p:sp>
        <p:nvSpPr>
          <p:cNvPr id="234"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468936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10</a:t>
            </a:r>
            <a:endParaRPr b="0" lang="en-US" sz="1400" spc="-1" strike="noStrike">
              <a:solidFill>
                <a:srgbClr val="000000"/>
              </a:solidFill>
              <a:latin typeface="Times New Roman"/>
            </a:endParaRPr>
          </a:p>
        </p:txBody>
      </p:sp>
      <p:sp>
        <p:nvSpPr>
          <p:cNvPr id="236"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3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3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94E881E7-390C-4BDD-9DF9-A9F924DC3F2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922320" y="750960"/>
            <a:ext cx="4950000" cy="3711600"/>
          </a:xfrm>
          <a:prstGeom prst="rect">
            <a:avLst/>
          </a:prstGeom>
          <a:ln w="0">
            <a:noFill/>
          </a:ln>
        </p:spPr>
      </p:sp>
      <p:sp>
        <p:nvSpPr>
          <p:cNvPr id="240" name="PlaceHolder 2"/>
          <p:cNvSpPr>
            <a:spLocks noGrp="1"/>
          </p:cNvSpPr>
          <p:nvPr>
            <p:ph type="body"/>
          </p:nvPr>
        </p:nvSpPr>
        <p:spPr>
          <a:xfrm>
            <a:off x="905040" y="4716360"/>
            <a:ext cx="4984560" cy="44719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468936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10</a:t>
            </a:r>
            <a:endParaRPr b="0" lang="en-US" sz="1400" spc="-1" strike="noStrike">
              <a:solidFill>
                <a:srgbClr val="000000"/>
              </a:solidFill>
              <a:latin typeface="Times New Roman"/>
            </a:endParaRPr>
          </a:p>
        </p:txBody>
      </p:sp>
      <p:sp>
        <p:nvSpPr>
          <p:cNvPr id="242"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4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4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C28BFBE4-5294-4BD5-B43F-FAD62F6A955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5"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46" name="PlaceHolder 2"/>
          <p:cNvSpPr>
            <a:spLocks noGrp="1"/>
          </p:cNvSpPr>
          <p:nvPr>
            <p:ph type="sldImg"/>
          </p:nvPr>
        </p:nvSpPr>
        <p:spPr>
          <a:xfrm>
            <a:off x="917640" y="746280"/>
            <a:ext cx="4960800" cy="37209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468936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10</a:t>
            </a:r>
            <a:endParaRPr b="0" lang="en-US" sz="1400" spc="-1" strike="noStrike">
              <a:solidFill>
                <a:srgbClr val="000000"/>
              </a:solidFill>
              <a:latin typeface="Times New Roman"/>
            </a:endParaRPr>
          </a:p>
        </p:txBody>
      </p:sp>
      <p:sp>
        <p:nvSpPr>
          <p:cNvPr id="248"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49"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50"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D0EBDB21-2009-48DB-9B95-DC2585B6F8C6}"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52" name="PlaceHolder 2"/>
          <p:cNvSpPr>
            <a:spLocks noGrp="1"/>
          </p:cNvSpPr>
          <p:nvPr>
            <p:ph type="sldImg"/>
          </p:nvPr>
        </p:nvSpPr>
        <p:spPr>
          <a:xfrm>
            <a:off x="917640" y="746280"/>
            <a:ext cx="4960800" cy="37209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2"/>
          <p:cNvSpPr/>
          <p:nvPr/>
        </p:nvSpPr>
        <p:spPr>
          <a:xfrm>
            <a:off x="468936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10</a:t>
            </a:r>
            <a:endParaRPr b="0" lang="en-US" sz="1400" spc="-1" strike="noStrike">
              <a:solidFill>
                <a:srgbClr val="000000"/>
              </a:solidFill>
              <a:latin typeface="Times New Roman"/>
            </a:endParaRPr>
          </a:p>
        </p:txBody>
      </p:sp>
      <p:sp>
        <p:nvSpPr>
          <p:cNvPr id="254"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55"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56"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15199F08-3403-4B14-AE2F-EBB81D6857A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7"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58" name="PlaceHolder 2"/>
          <p:cNvSpPr>
            <a:spLocks noGrp="1"/>
          </p:cNvSpPr>
          <p:nvPr>
            <p:ph type="sldImg"/>
          </p:nvPr>
        </p:nvSpPr>
        <p:spPr>
          <a:xfrm>
            <a:off x="917640" y="746280"/>
            <a:ext cx="4960800" cy="37209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468936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10</a:t>
            </a:r>
            <a:endParaRPr b="0" lang="en-US" sz="1400" spc="-1" strike="noStrike">
              <a:solidFill>
                <a:srgbClr val="000000"/>
              </a:solidFill>
              <a:latin typeface="Times New Roman"/>
            </a:endParaRPr>
          </a:p>
        </p:txBody>
      </p:sp>
      <p:sp>
        <p:nvSpPr>
          <p:cNvPr id="260"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61"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62"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ED3ACFE6-411D-4002-9698-A7F44CA69D8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3"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64" name="PlaceHolder 2"/>
          <p:cNvSpPr>
            <a:spLocks noGrp="1"/>
          </p:cNvSpPr>
          <p:nvPr>
            <p:ph type="sldImg"/>
          </p:nvPr>
        </p:nvSpPr>
        <p:spPr>
          <a:xfrm>
            <a:off x="917640" y="746280"/>
            <a:ext cx="4960800" cy="37209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468936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10</a:t>
            </a:r>
            <a:endParaRPr b="0" lang="en-US" sz="1400" spc="-1" strike="noStrike">
              <a:solidFill>
                <a:srgbClr val="000000"/>
              </a:solidFill>
              <a:latin typeface="Times New Roman"/>
            </a:endParaRPr>
          </a:p>
        </p:txBody>
      </p:sp>
      <p:sp>
        <p:nvSpPr>
          <p:cNvPr id="266"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67"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68"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19148C78-374C-4236-BA6E-5216EC46600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9"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70" name="PlaceHolder 2"/>
          <p:cNvSpPr>
            <a:spLocks noGrp="1"/>
          </p:cNvSpPr>
          <p:nvPr>
            <p:ph type="sldImg"/>
          </p:nvPr>
        </p:nvSpPr>
        <p:spPr>
          <a:xfrm>
            <a:off x="917640" y="746280"/>
            <a:ext cx="4960800" cy="37209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4689360" y="119880"/>
            <a:ext cx="228960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400" spc="-1" strike="noStrike">
                <a:solidFill>
                  <a:srgbClr val="000000"/>
                </a:solidFill>
                <a:latin typeface="Times New Roman"/>
                <a:ea typeface="Arial"/>
              </a:rPr>
              <a:t>doc.: IEEE 802.11-17/1704r10</a:t>
            </a:r>
            <a:endParaRPr b="0" lang="en-US" sz="1400" spc="-1" strike="noStrike">
              <a:solidFill>
                <a:srgbClr val="000000"/>
              </a:solidFill>
              <a:latin typeface="Times New Roman"/>
            </a:endParaRPr>
          </a:p>
        </p:txBody>
      </p:sp>
      <p:sp>
        <p:nvSpPr>
          <p:cNvPr id="272" name="Rectangle 3"/>
          <p:cNvSpPr/>
          <p:nvPr/>
        </p:nvSpPr>
        <p:spPr>
          <a:xfrm>
            <a:off x="690480" y="119880"/>
            <a:ext cx="11286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ea typeface="Arial"/>
              </a:rPr>
              <a:t>February 2018</a:t>
            </a:r>
            <a:endParaRPr b="0" lang="en-US" sz="1400" spc="-1" strike="noStrike">
              <a:solidFill>
                <a:srgbClr val="000000"/>
              </a:solidFill>
              <a:latin typeface="Times New Roman"/>
            </a:endParaRPr>
          </a:p>
        </p:txBody>
      </p:sp>
      <p:sp>
        <p:nvSpPr>
          <p:cNvPr id="273" name="Rectangle 6"/>
          <p:cNvSpPr/>
          <p:nvPr/>
        </p:nvSpPr>
        <p:spPr>
          <a:xfrm>
            <a:off x="4547880" y="9615600"/>
            <a:ext cx="2289600" cy="182880"/>
          </a:xfrm>
          <a:prstGeom prst="rect">
            <a:avLst/>
          </a:prstGeom>
          <a:noFill/>
          <a:ln w="0">
            <a:noFill/>
          </a:ln>
        </p:spPr>
        <p:style>
          <a:lnRef idx="0"/>
          <a:fillRef idx="0"/>
          <a:effectRef idx="0"/>
          <a:fontRef idx="minor"/>
        </p:style>
        <p:txBody>
          <a:bodyPr wrap="none" lIns="0" rIns="0" tIns="0" bIns="0" anchor="t">
            <a:spAutoFit/>
          </a:bodyPr>
          <a:p>
            <a:pPr lvl="4" marL="45864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274" name="Rectangle 7"/>
          <p:cNvSpPr/>
          <p:nvPr/>
        </p:nvSpPr>
        <p:spPr>
          <a:xfrm>
            <a:off x="2917800" y="961560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GB" sz="1200" spc="-1" strike="noStrike">
                <a:solidFill>
                  <a:srgbClr val="000000"/>
                </a:solidFill>
                <a:latin typeface="Times New Roman"/>
                <a:ea typeface="Arial"/>
              </a:rPr>
              <a:t>Page </a:t>
            </a:r>
            <a:fld id="{508DD305-BCEF-469B-8F00-866CA322201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5" name="PlaceHolder 1"/>
          <p:cNvSpPr>
            <a:spLocks noGrp="1"/>
          </p:cNvSpPr>
          <p:nvPr>
            <p:ph type="body"/>
          </p:nvPr>
        </p:nvSpPr>
        <p:spPr>
          <a:xfrm>
            <a:off x="906480" y="4717800"/>
            <a:ext cx="4981680" cy="44672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76" name="PlaceHolder 2"/>
          <p:cNvSpPr>
            <a:spLocks noGrp="1"/>
          </p:cNvSpPr>
          <p:nvPr>
            <p:ph type="sldImg"/>
          </p:nvPr>
        </p:nvSpPr>
        <p:spPr>
          <a:xfrm>
            <a:off x="917640" y="746280"/>
            <a:ext cx="4960800" cy="3720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5DB52-F0A6-4C7E-A2AA-6CAB5CC90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95AD9-1702-49FC-88A9-A320A466D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2F55E-5493-4A6C-B201-BEBAAA8E5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0AB65-DC9D-45E1-A1D6-A738E83BBA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90AD3-D422-45A6-B6E8-ABDD91EDB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003B8-6DE5-4B77-A2A4-523D39346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2460C-C9F0-43F3-8EB9-E3387CA78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5AF92-02C7-47EC-B858-DE9FE0879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52EC6-0EAD-4608-9AD6-DDECB4E90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91352-5887-4D85-961C-CA31EC267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59E86-1696-4683-A880-4C98E1DF3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59CD4-9181-4F3F-8C81-2487418903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3000"/>
            <a:ext cx="1579680" cy="27612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ebruary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095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ephen McCann, BlackBerry</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lide </a:t>
            </a:r>
            <a:fld id="{9CE78727-3C8E-4175-AA7B-728EE5E75A2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54760" y="334800"/>
            <a:ext cx="338256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doc.: IEEE 802.11-17/1704r1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760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s://mentor.ieee.org/802.11/dcn/17/11-17-1755-01-00aq-sponsor-ballot-comments-on-tgaq-draft-for-attachment-to-report-to-ec-to-forward-to-revcom.xlsx"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5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3EDE85A7-4E73-4865-A9B7-2ADD213638A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57" name="PlaceHolder 1"/>
          <p:cNvSpPr>
            <a:spLocks noGrp="1"/>
          </p:cNvSpPr>
          <p:nvPr>
            <p:ph type="title"/>
          </p:nvPr>
        </p:nvSpPr>
        <p:spPr>
          <a:xfrm>
            <a:off x="685800" y="6537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802.11aq Waiver request regarding IEEE RAC comments</a:t>
            </a:r>
            <a:endParaRPr b="1" lang="en-US" sz="3200" spc="-1" strike="noStrike">
              <a:solidFill>
                <a:srgbClr val="000000"/>
              </a:solidFill>
              <a:latin typeface="Times New Roman"/>
            </a:endParaRPr>
          </a:p>
        </p:txBody>
      </p:sp>
      <p:sp>
        <p:nvSpPr>
          <p:cNvPr id="58" name="PlaceHolder 2"/>
          <p:cNvSpPr>
            <a:spLocks noGrp="1"/>
          </p:cNvSpPr>
          <p:nvPr>
            <p:ph/>
          </p:nvPr>
        </p:nvSpPr>
        <p:spPr>
          <a:xfrm>
            <a:off x="685800" y="169236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r>
              <a:rPr b="0" lang="en-GB" sz="2000" spc="-1" strike="noStrike">
                <a:solidFill>
                  <a:srgbClr val="000000"/>
                </a:solidFill>
                <a:latin typeface="Times New Roman"/>
              </a:rPr>
              <a:t> 2018-02-19</a:t>
            </a:r>
            <a:endParaRPr b="1" lang="en-US" sz="2000" spc="-1" strike="noStrike">
              <a:solidFill>
                <a:srgbClr val="000000"/>
              </a:solidFill>
              <a:latin typeface="Times New Roman"/>
            </a:endParaRPr>
          </a:p>
        </p:txBody>
      </p:sp>
      <p:graphicFrame>
        <p:nvGraphicFramePr>
          <p:cNvPr id="59" name="Object 5"/>
          <p:cNvGraphicFramePr/>
          <p:nvPr/>
        </p:nvGraphicFramePr>
        <p:xfrm>
          <a:off x="574560" y="2492280"/>
          <a:ext cx="7969320" cy="2259000"/>
        </p:xfrm>
        <a:graphic>
          <a:graphicData uri="http://schemas.openxmlformats.org/presentationml/2006/ole">
            <p:oleObj progId="Word.Document.12" r:id="rId1" spid="">
              <p:embed/>
              <p:pic>
                <p:nvPicPr>
                  <p:cNvPr id="60" name="Object 5" descr=""/>
                  <p:cNvPicPr/>
                  <p:nvPr/>
                </p:nvPicPr>
                <p:blipFill>
                  <a:blip r:embed="rId2"/>
                  <a:stretch/>
                </p:blipFill>
                <p:spPr>
                  <a:xfrm>
                    <a:off x="574560" y="2492280"/>
                    <a:ext cx="7969320" cy="2259000"/>
                  </a:xfrm>
                  <a:prstGeom prst="rect">
                    <a:avLst/>
                  </a:prstGeom>
                  <a:ln w="0">
                    <a:noFill/>
                  </a:ln>
                </p:spPr>
              </p:pic>
            </p:oleObj>
          </a:graphicData>
        </a:graphic>
      </p:graphicFrame>
      <p:sp>
        <p:nvSpPr>
          <p:cNvPr id="61" name="Rectangle 6"/>
          <p:cNvSpPr/>
          <p:nvPr/>
        </p:nvSpPr>
        <p:spPr>
          <a:xfrm>
            <a:off x="468360" y="209088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Arial"/>
              </a:rPr>
              <a:t>Authors:</a:t>
            </a:r>
            <a:endParaRPr b="0" lang="en-US" sz="2000" spc="-1" strike="noStrike">
              <a:solidFill>
                <a:srgbClr val="000000"/>
              </a:solidFill>
              <a:latin typeface="Times New Roman"/>
            </a:endParaRPr>
          </a:p>
        </p:txBody>
      </p:sp>
      <p:sp>
        <p:nvSpPr>
          <p:cNvPr id="62"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8 (10008) I</a:t>
            </a:r>
            <a:endParaRPr b="1" lang="en-US" sz="3200" spc="-1" strike="noStrike">
              <a:solidFill>
                <a:srgbClr val="000000"/>
              </a:solidFill>
              <a:latin typeface="Times New Roman"/>
            </a:endParaRPr>
          </a:p>
        </p:txBody>
      </p:sp>
      <p:sp>
        <p:nvSpPr>
          <p:cNvPr id="110"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q specifies that devices select a 48-bit MAC address using 46 bits selected randomly (the other two set to indicate local unicast), whereas IEEE Std 802 (since the June 2017 approval of the amendment IEEE Std 802c) provides for four types of local addresses, and the random use of 46 bits will likely cause collisions with this allocation scheme. Further 44 bits is a large enough space.</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s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behavior has been changed to allow a STA to conform to a local administered address space policy when it associates to a network.</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ximum number of bits of randomization for the MAC is beneficial to address privacy issues associated with network discovery when the STA is in the unassociated stat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14C5C681-E1AF-460C-85B8-CC20AD078EC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8 (10008) II</a:t>
            </a:r>
            <a:endParaRPr b="1" lang="en-US" sz="3200" spc="-1" strike="noStrike">
              <a:solidFill>
                <a:srgbClr val="000000"/>
              </a:solidFill>
              <a:latin typeface="Times New Roman"/>
            </a:endParaRPr>
          </a:p>
        </p:txBody>
      </p:sp>
      <p:sp>
        <p:nvSpPr>
          <p:cNvPr id="115"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 1 on slide #5</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has been changed, over subsequent re-circulation sponsor ballots, to not refer to the number of bits used for MAC address randomiz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The STA shall construct the randomized MAC address from the locally administered address space as defined in IEEE Std 802-2014 and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RC believes that this satisfy the intent of the original comment as this allows an administrator to configure a 44 bit address space for randomization compliant with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1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AF66973-A2A6-4DE4-828B-45D510EED36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1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9 (10009) I</a:t>
            </a:r>
            <a:endParaRPr b="1" lang="en-US" sz="3200" spc="-1" strike="noStrike">
              <a:solidFill>
                <a:srgbClr val="000000"/>
              </a:solidFill>
              <a:latin typeface="Times New Roman"/>
            </a:endParaRPr>
          </a:p>
        </p:txBody>
      </p:sp>
      <p:sp>
        <p:nvSpPr>
          <p:cNvPr id="120" name=""/>
          <p:cNvSpPr txBox="1"/>
          <p:nvPr/>
        </p:nvSpPr>
        <p:spPr>
          <a:xfrm>
            <a:off x="722160" y="1557000"/>
            <a:ext cx="7772400" cy="491796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nothing in the project scope to inform interested parties that the amendment will include specifications that present potential interoperability problems with many other standards that use IEEE Std 802 specified addressing</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s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ges were made to the P802.11aq draft to make the device manageable at layer-2. Privacy enhancements may be required to perform pre-association service discovery. The draft has been modified to minimize the addressing conflicts suggested by the commen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y managed network will need to separate unmanaged devices from that network. This can easily achieved with a router, or alternatively enterprise class access points, which can separate devices that they know how to provision, as opposed to those that they can not. Any necessary isolation of the unmanaged devices, can be achieved through such a router.  It is the responsibility of the network administrator to configure the network to provide these propertie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2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15E4AAF3-DAB7-4B25-8B72-3068A16D43D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9 (10009) II</a:t>
            </a:r>
            <a:endParaRPr b="1" lang="en-US" sz="3200" spc="-1" strike="noStrike">
              <a:solidFill>
                <a:srgbClr val="000000"/>
              </a:solidFill>
              <a:latin typeface="Times New Roman"/>
            </a:endParaRPr>
          </a:p>
        </p:txBody>
      </p:sp>
      <p:sp>
        <p:nvSpPr>
          <p:cNvPr id="125"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 on slide #5</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ministrators set the rules for the local address space and configure devices using methods which are out of scope of IEEE 802.11. P802.11aq provides mechanisms to enable such configuration that is applied before the STA associates to the LA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2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2135D31-1F8D-4CA9-9DD8-0D53441F50C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2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12 (10012) I</a:t>
            </a:r>
            <a:endParaRPr b="1" lang="en-US" sz="3200" spc="-1" strike="noStrike">
              <a:solidFill>
                <a:srgbClr val="000000"/>
              </a:solidFill>
              <a:latin typeface="Times New Roman"/>
            </a:endParaRPr>
          </a:p>
        </p:txBody>
      </p:sp>
      <p:sp>
        <p:nvSpPr>
          <p:cNvPr id="130" name=""/>
          <p:cNvSpPr txBox="1"/>
          <p:nvPr/>
        </p:nvSpPr>
        <p:spPr>
          <a:xfrm>
            <a:off x="611280" y="155736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raft is incompatible with IEEE Std 802-2014 because it doesn't allow for the local administrator administering the local addresses</a:t>
            </a:r>
            <a:endParaRPr b="0" lang="en-US" sz="16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s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ivacy enhancements may be required to perform pre-association service discovery. The P802.11aq draft has been modified to eliminate the addressing conflicts suggested by the comment and allow for the STA to be configured in a mode consistent with a locally administered address space polic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managed network would not expect to connect to an unmanaged access network, as it would typically connect via a router. A managed network might connect directly to an access network of enterprise (managed) APs.  Those APs would refuse to admit STAs that did not provide management of the local address spac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3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3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1A32C57D-DD5C-4C08-9F39-7CEC8B084A1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4-12 (10012) II</a:t>
            </a:r>
            <a:endParaRPr b="1" lang="en-US" sz="3200" spc="-1" strike="noStrike">
              <a:solidFill>
                <a:srgbClr val="000000"/>
              </a:solidFill>
              <a:latin typeface="Times New Roman"/>
            </a:endParaRPr>
          </a:p>
        </p:txBody>
      </p:sp>
      <p:sp>
        <p:nvSpPr>
          <p:cNvPr id="135"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2 and 3 on slide #5</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a non-AP STA …. shall check the value of dot11LocallyAdministeredMACConfig and shall configure its MAC address according to the rules of the local address space prior to the start of the transaction”.  Such a transaction can be associ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The default value of the dot11LocallyAdministeredMACConfig is that the local addresses comply with the Structured Local Address Plan (SLAP) as defined in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3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3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53A01C2-466D-4037-A497-100CC4FCBE0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3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5 (11005) I</a:t>
            </a:r>
            <a:endParaRPr b="1" lang="en-US" sz="3200" spc="-1" strike="noStrike">
              <a:solidFill>
                <a:srgbClr val="000000"/>
              </a:solidFill>
              <a:latin typeface="Times New Roman"/>
            </a:endParaRPr>
          </a:p>
        </p:txBody>
      </p:sp>
      <p:sp>
        <p:nvSpPr>
          <p:cNvPr id="140"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 MCC summary:</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AC is not satisfied with the response to Comment r04-9 (slide #11). However, considering the scope of the project, per the PAR, it seems apparent that specifying a new method to assign LAN data frame addresses is out of scope</a:t>
            </a:r>
            <a:endParaRPr b="0" lang="en-US" sz="14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iginal BRC Response summary:</a:t>
            </a:r>
            <a:endParaRPr b="1" lang="en-US" sz="18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jected</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mment makes a general claim that that there are interoperability issues with other standards that make use of IEEE addressing but does not describe a single interoperability issue or suggest a text change that would address the interoperability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association Service Discovery mechanisms specified in this amendment have the potential to leak privacy information. The privacy mechanisms incorporated into this amendment address privacy concerns with pre-association service discovery. Therefore it is the view of the CRC that privacy is within scope of the PAR.</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the draft specifies MAC address selection in the pre-associated state, the draft clarifies the selection of the MAC address used when a BSS is selected is associated with the MAC address.</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4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B0F2D22-4202-4181-A2F0-D2226F378AB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5 (11005) II</a:t>
            </a:r>
            <a:endParaRPr b="1" lang="en-US" sz="3200" spc="-1" strike="noStrike">
              <a:solidFill>
                <a:srgbClr val="000000"/>
              </a:solidFill>
              <a:latin typeface="Times New Roman"/>
            </a:endParaRPr>
          </a:p>
        </p:txBody>
      </p:sp>
      <p:sp>
        <p:nvSpPr>
          <p:cNvPr id="145"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 on slide #5</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ministrators set the rules for the local address space and configure devices using methods which are out of scope of IEEE 802.11. P802.11aq provides mechanisms to enable such configuration that is applied before the STA associates to the LA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5279CBA1-DD8C-46E5-8689-B605EFFEC5C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4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6 (11006) I</a:t>
            </a:r>
            <a:endParaRPr b="1" lang="en-US" sz="3200" spc="-1" strike="noStrike">
              <a:solidFill>
                <a:srgbClr val="000000"/>
              </a:solidFill>
              <a:latin typeface="Times New Roman"/>
            </a:endParaRPr>
          </a:p>
        </p:txBody>
      </p:sp>
      <p:sp>
        <p:nvSpPr>
          <p:cNvPr id="150" name=""/>
          <p:cNvSpPr txBox="1"/>
          <p:nvPr/>
        </p:nvSpPr>
        <p:spPr>
          <a:xfrm>
            <a:off x="69696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is not satisfied with the response to Comment r04-8 (slide #9). During the discovery process, the draft still specifies that station adopts a 46-bit random address</a:t>
            </a:r>
            <a:endParaRPr b="0" lang="en-US" sz="16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pre-associated state, the only communication is between STAs. Frames transmitted between a STA and an AP terminate at the AP and never reach the LAN. Security and duplication detection mechanisms prevent frames from a non-associated  STA with a conflicting MAC address from affecting any traffic in the BSS.  The P802.11aq draft does not specify any number of bits, as it refers to IEEE 802-2014 and IEEE 802c-2017.</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5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78226F3-80A9-4D5A-9355-D92EEA1E230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6 (11006) II</a:t>
            </a:r>
            <a:endParaRPr b="1" lang="en-US" sz="3200" spc="-1" strike="noStrike">
              <a:solidFill>
                <a:srgbClr val="000000"/>
              </a:solidFill>
              <a:latin typeface="Times New Roman"/>
            </a:endParaRPr>
          </a:p>
        </p:txBody>
      </p:sp>
      <p:sp>
        <p:nvSpPr>
          <p:cNvPr id="155"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 1 on slide #5</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has been changed, over subsequent re-circulation sponsor ballots, to not refer to the number of bits used for MAC address randomiz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RC made the following updates contained in D14.0:</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08576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A shall construct the randomized MAC address from the locally administered address space as defined in IEEE Std 802-2014 and IEEE Std 802c-2017</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RC believes that this satisfy the intent of the original comment as this allows an administrator to configure a 44 bit address space for randomization compliant with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5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86AC681-5D68-4F22-A460-6F63131E264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5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64"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6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265CD357-06BC-458F-9942-818CBAA3B32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bstract</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   </a:t>
            </a:r>
            <a:r>
              <a:rPr b="1" lang="en-GB" sz="3200" spc="-1" strike="noStrike">
                <a:solidFill>
                  <a:srgbClr val="000000"/>
                </a:solidFill>
                <a:latin typeface="Times New Roman"/>
              </a:rPr>
              <a:t>Waiver request for unsatisfied </a:t>
            </a:r>
            <a:r>
              <a:rPr b="1" lang="en-US" sz="3200" spc="-1" strike="noStrike">
                <a:solidFill>
                  <a:srgbClr val="000000"/>
                </a:solidFill>
                <a:latin typeface="Times New Roman"/>
              </a:rPr>
              <a:t>mandatory coordination comments received from the IEEE RAC during the P802.11aq sponsor ballot</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7 (11007) I</a:t>
            </a:r>
            <a:endParaRPr b="1" lang="en-US" sz="3200" spc="-1" strike="noStrike">
              <a:solidFill>
                <a:srgbClr val="000000"/>
              </a:solidFill>
              <a:latin typeface="Times New Roman"/>
            </a:endParaRPr>
          </a:p>
        </p:txBody>
      </p:sp>
      <p:sp>
        <p:nvSpPr>
          <p:cNvPr id="160"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is not satisfied with the response to Comment r04-12 (slide #13). The RAC would prefer a direct control functionality by which the network could specify a local address plan and policy. The current draft instead proposes a MIB-based solution without specifying any method to establish the relevant parameter</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ethod used to choose MAC addresses is performed using a MIB variable. This MIB variable can be set by a management agent such as an out-of-band provisioning protocol, for example: Passpoint, using an USB connection.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IB variable is the layer-2 part of a mechanism for management that needs additional support from the provisioning protocol. This is no different to the wired case, in that routers are configured through a proprietary management interfac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6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71947BEC-8FB6-4480-AB70-8EE7701539E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5-7 (11007) II</a:t>
            </a:r>
            <a:endParaRPr b="1" lang="en-US" sz="3200" spc="-1" strike="noStrike">
              <a:solidFill>
                <a:srgbClr val="000000"/>
              </a:solidFill>
              <a:latin typeface="Times New Roman"/>
            </a:endParaRPr>
          </a:p>
        </p:txBody>
      </p:sp>
      <p:sp>
        <p:nvSpPr>
          <p:cNvPr id="165"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2 and 3 on slide #5</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a non-AP STA …. shall check the value of dot11LocallyAdministeredMACConfig and shall configure its MAC address according to the rules of the local address space prior to the start of the transaction”.  Such a transaction can be associ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The default value of the dot11LocallyAdministeredMACConfig is that the local addresses comply with the Structured Local Address Plan (SLAP) as defined in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6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004C4F30-2B0B-482F-A05D-4C20ADDB47A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6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6-9 (12009) I</a:t>
            </a:r>
            <a:endParaRPr b="1" lang="en-US" sz="3200" spc="-1" strike="noStrike">
              <a:solidFill>
                <a:srgbClr val="000000"/>
              </a:solidFill>
              <a:latin typeface="Times New Roman"/>
            </a:endParaRPr>
          </a:p>
        </p:txBody>
      </p:sp>
      <p:sp>
        <p:nvSpPr>
          <p:cNvPr id="170" name=""/>
          <p:cNvSpPr txBox="1"/>
          <p:nvPr/>
        </p:nvSpPr>
        <p:spPr>
          <a:xfrm>
            <a:off x="685800" y="1782720"/>
            <a:ext cx="7772400" cy="440064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remains unsatisfied with the responses to unresolved RAC Mandatory Coordination comments. RAC believes all remaining Mandatory Coordination issues can best be satisfied by deleting all references and specifications in the draft to use of random MAC addresses</a:t>
            </a:r>
            <a:endParaRPr b="0" lang="en-US" sz="16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vised</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has been modified to specify that the STA select a random address from the local address space according to IEEE 802-2014 and IEEE 802c-2017 while in the unassociated state. When the device selects a AP (BSS) for association,  the STA checks the value for dot11LocallyAdministeredMACConfig and sets its MAC address according to the MAC address policy set by the Network Administrator for the BSS. Therefore a STA with MAC privacy enabled selects a random address compliant with IEEE 802c-2017 in the unassociated state and uses the Local Address configuration for a BSS once it associates to that BSS.</a:t>
            </a:r>
            <a:endParaRPr b="0" lang="en-US" sz="1600" spc="-1" strike="noStrike">
              <a:solidFill>
                <a:srgbClr val="000000"/>
              </a:solidFill>
              <a:latin typeface="Times New Roman"/>
            </a:endParaRPr>
          </a:p>
          <a:p>
            <a:pPr marL="339480" indent="-3394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7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3B66BD2-7FDF-4B52-AFFA-377F13C3F1E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6-9 (12009) II</a:t>
            </a:r>
            <a:endParaRPr b="1" lang="en-US" sz="3200" spc="-1" strike="noStrike">
              <a:solidFill>
                <a:srgbClr val="000000"/>
              </a:solidFill>
              <a:latin typeface="Times New Roman"/>
            </a:endParaRPr>
          </a:p>
        </p:txBody>
      </p:sp>
      <p:sp>
        <p:nvSpPr>
          <p:cNvPr id="175" name=""/>
          <p:cNvSpPr txBox="1"/>
          <p:nvPr/>
        </p:nvSpPr>
        <p:spPr>
          <a:xfrm>
            <a:off x="723960" y="162864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 on slide #5</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17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7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19C6C637-5167-4439-9AF3-E337DDD418E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0 (13010) I</a:t>
            </a:r>
            <a:endParaRPr b="1" lang="en-US" sz="3200" spc="-1" strike="noStrike">
              <a:solidFill>
                <a:srgbClr val="000000"/>
              </a:solidFill>
              <a:latin typeface="Times New Roman"/>
            </a:endParaRPr>
          </a:p>
        </p:txBody>
      </p:sp>
      <p:sp>
        <p:nvSpPr>
          <p:cNvPr id="180"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remains dissatisfied with the responses to unresolved RAC Mandatory Coordination comments submitted in earlier ballot rounds.</a:t>
            </a:r>
            <a:endParaRPr b="0" lang="en-US" sz="16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mment fails to identify changes in sufficient detail so that the specific wording of the changes that will satisfy the commenter can be determin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08075CD-5815-4437-B767-8AD623DA605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0 (13010) II</a:t>
            </a:r>
            <a:endParaRPr b="1" lang="en-US" sz="3200" spc="-1" strike="noStrike">
              <a:solidFill>
                <a:srgbClr val="000000"/>
              </a:solidFill>
              <a:latin typeface="Times New Roman"/>
            </a:endParaRPr>
          </a:p>
        </p:txBody>
      </p:sp>
      <p:sp>
        <p:nvSpPr>
          <p:cNvPr id="185"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 on slide #5</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802.11aq D14.0 clause 12.2.10 has been changed, over subsequent re-circulation sponsor ballots, to state that “a non-AP STA …. shall check the value of dot11LocallyAdministeredMACConfig and shall configure its MAC address according to the rules of the local address space prior to the start of the transaction”.  Such a transaction can be associ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The default value of the dot11LocallyAdministeredMACConfig is that the local addresses comply with the Structured Local Address Plan (SLAP) as defined in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8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04F5710-DC53-4F50-8DC1-B1FA0604875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738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1 (13011) I</a:t>
            </a:r>
            <a:endParaRPr b="1" lang="en-US" sz="3200" spc="-1" strike="noStrike">
              <a:solidFill>
                <a:srgbClr val="000000"/>
              </a:solidFill>
              <a:latin typeface="Times New Roman"/>
            </a:endParaRPr>
          </a:p>
        </p:txBody>
      </p:sp>
      <p:sp>
        <p:nvSpPr>
          <p:cNvPr id="190"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he RAC is dissatisfied with the response to Comment r06-9. The first paragraph of the response argues that the problematic material is important to privacy of pre-assocation discovery, without addressing prior RAC proposals (or many other possible alternatives) that would provide privacy without raising RAC objections. The RAC also notes that the problematic material was not included in the draft originally circulated for Sponsor Ballot but which, we presume, was considered acceptable by the 802.11 Working Group.</a:t>
            </a:r>
            <a:endParaRPr b="0" lang="en-US" sz="1300" spc="-1" strike="noStrike">
              <a:solidFill>
                <a:srgbClr val="000000"/>
              </a:solidFill>
              <a:latin typeface="Times New Roman"/>
            </a:endParaRPr>
          </a:p>
          <a:p>
            <a:pPr lvl="1" marL="743040" indent="-2858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lvl="1" marL="743040" indent="-2858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The change documented in the response to r06-9 lacks the critical features of prior comments necessary to resolve RAC concerns. The change adds the sentence "The STA shall construct the randomized MAC address from the locally administered address space as defined in IEEE Std 802-2014 and IEEE Std 802c-2017." This is problematic because (1) the cited standards (IEEE Std 802, or IEEE Std 802-2014 as amended by IEEE Std 802c-2017) do not "define" the construction of addresses, although they do "specify" address formats; (2) the reference is ambiguous since IEEE Std 802 specifies various address formats for various circumstances. While the RAC remains convinced that an address space far smaller than 46 bits of randomization would readily address the issue, it notes that two of the four quadrants of the Structured Local Address Plan (SLAP) specified therein could be suitable for randomized addresses (one requiring specification of currently reserved values in amended Std 802 to allow 45 bits for randomization), or using the AAI space only would provide 44 of the 46 bits that the draft currently specifies.</a:t>
            </a:r>
            <a:endParaRPr b="0" lang="en-US" sz="1300" spc="-1" strike="noStrike">
              <a:solidFill>
                <a:srgbClr val="000000"/>
              </a:solidFill>
              <a:latin typeface="Times New Roman"/>
            </a:endParaRPr>
          </a:p>
          <a:p>
            <a:pPr lvl="1" marL="743040" indent="-285840">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9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9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A3316EC9-4A34-4B63-BE54-9416093FA99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1 (13011) II</a:t>
            </a:r>
            <a:endParaRPr b="1" lang="en-US" sz="3200" spc="-1" strike="noStrike">
              <a:solidFill>
                <a:srgbClr val="000000"/>
              </a:solidFill>
              <a:latin typeface="Times New Roman"/>
            </a:endParaRPr>
          </a:p>
        </p:txBody>
      </p:sp>
      <p:sp>
        <p:nvSpPr>
          <p:cNvPr id="195"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RC believes that the proposed change would impose a MAC address allocation scheme on local administrators that they may not wish to us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 on slide #5</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has been changed, over subsequent re-circulation sponsor ballots, to not refer to the number of bits used for MAC address randomiz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clause 12.2.10 has been changed, over subsequent re-circulation sponsor ballots, to state that “The default value of the dot11LocallyAdministeredMACConfig is that the local addresses comply with the Structured Local Address Plan (SLAP) as defined in IEEE Std 802c-2017.”</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9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2B2CE59F-3825-4C0E-A842-E1BF1CE2687C}"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38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2 (13012) I</a:t>
            </a:r>
            <a:endParaRPr b="1" lang="en-US" sz="3200" spc="-1" strike="noStrike">
              <a:solidFill>
                <a:srgbClr val="000000"/>
              </a:solidFill>
              <a:latin typeface="Times New Roman"/>
            </a:endParaRPr>
          </a:p>
        </p:txBody>
      </p:sp>
      <p:sp>
        <p:nvSpPr>
          <p:cNvPr id="200"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is dissatisfied with the response to Comment r06-9. In the past, the RAC expressed concern regarding the draft scope exceeding the PAR scope (see, e.g., r04-9). In response to r04-9, the Working Group responded that it made changes and that "These changes include removal of any specification for behavior after discovery and selection." This is critical, because a key PAR scope limitation is succinctly summarized in the project title: "Pre-Association Discovery." Yet the response to r06-9 again recognizes that the draft ventures into post-discovery, stating that "When the device selects a AP (BSS) for association,  the STA checks the value for dot11LocalMACAddressConfig and sets its MAC address according to the MAC address policy set by the Network Administrator for the BSS." The group also states (r06-12) that "this draft specifies the use of MAC addresses for post-association use, for example see P66L57 in D13.0."</a:t>
            </a:r>
            <a:endParaRPr b="0" lang="en-US" sz="1600" spc="-1" strike="noStrike">
              <a:solidFill>
                <a:srgbClr val="000000"/>
              </a:solidFill>
              <a:latin typeface="Times New Roman"/>
            </a:endParaRPr>
          </a:p>
        </p:txBody>
      </p:sp>
      <p:sp>
        <p:nvSpPr>
          <p:cNvPr id="20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20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CC2D1A43-958B-4981-BBBC-F6E281E92D7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2 (13012) II</a:t>
            </a:r>
            <a:endParaRPr b="1" lang="en-US" sz="3200" spc="-1" strike="noStrike">
              <a:solidFill>
                <a:srgbClr val="000000"/>
              </a:solidFill>
              <a:latin typeface="Times New Roman"/>
            </a:endParaRPr>
          </a:p>
        </p:txBody>
      </p:sp>
      <p:sp>
        <p:nvSpPr>
          <p:cNvPr id="205"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TA discovers and selects a IEEE 802.11 network before it associates. In order to complete association, a STA must be configured. The configuration process takes place pre-association and therefore it is within scope of IEEE 802.11aq to impose requirements on the STA. This comment is in support of an unsatisfied IEEE RAC comment and does not provide substantive new proposed chang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EEE 802.11 STAs have many steps which prepare them for post-association operation. The comment identifies some of those pre-association configuration steps that are done in preparation for post-association operation. This amendment does not modify post-association behavior, which remains as defined in the IEEE 802.11 standard, using the MAC address configured pre-association.</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2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F6E9604-F55D-4A8F-8606-45AF27CE439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6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7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DE2AA31D-DEC0-4C33-A54E-C4C3CBD7363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 name="Rectangle 3"/>
          <p:cNvSpPr/>
          <p:nvPr/>
        </p:nvSpPr>
        <p:spPr>
          <a:xfrm>
            <a:off x="380880" y="838080"/>
            <a:ext cx="8458200" cy="563724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 name="Content Placeholder 2"/>
          <p:cNvSpPr/>
          <p:nvPr/>
        </p:nvSpPr>
        <p:spPr>
          <a:xfrm>
            <a:off x="473040" y="915840"/>
            <a:ext cx="8197920" cy="4575240"/>
          </a:xfrm>
          <a:prstGeom prst="rect">
            <a:avLst/>
          </a:prstGeom>
          <a:noFill/>
          <a:ln w="0">
            <a:noFill/>
          </a:ln>
        </p:spPr>
        <p:style>
          <a:lnRef idx="0"/>
          <a:fillRef idx="0"/>
          <a:effectRef idx="0"/>
          <a:fontRef idx="minor"/>
        </p:style>
        <p:txBody>
          <a:bodyPr lIns="92160" rIns="92160" tIns="46080" bIns="46080"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ea typeface="Arial"/>
              </a:rPr>
              <a:t>From the IEEE-SA Sponsor Ballot operations manual: (Dec 2016)</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5.4.4 Mandatory coordinatio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Comments from these entities shall be given appropriate consideration and response. At the time of project submittal to the IEEE-SA Standards Board for consideration for approval, the Sponsor shall supply the most recent coordination comments and indicate either acceptance** or a request for a waiver (see 4.2.3.2).</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 Note – “acceptance” also includes “acceptance in principle” (Chair opinion)</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4.2.3.2 Review of draft standards</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Arial"/>
              </a:rPr>
              <a:t>Coordination. Mandatory coordination comments shall be addressed. If the Sponsor believes that satisfying specific mandatory coordination comments will impede the utility of the draft standard,  appropriate documentation of this position shall be presented to RevCom.</a:t>
            </a: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2 (13012) III</a:t>
            </a:r>
            <a:endParaRPr b="1" lang="en-US" sz="3200" spc="-1" strike="noStrike">
              <a:solidFill>
                <a:srgbClr val="000000"/>
              </a:solidFill>
              <a:latin typeface="Times New Roman"/>
            </a:endParaRPr>
          </a:p>
        </p:txBody>
      </p:sp>
      <p:sp>
        <p:nvSpPr>
          <p:cNvPr id="210"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 on slide #5</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802.11aq draft has been changed, over subsequent re-circulation sponsor ballots, to not refer to “post-association us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21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C413A04-00DE-4DFD-A1F1-519BD76B5DD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738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3 (13013) I</a:t>
            </a:r>
            <a:endParaRPr b="1" lang="en-US" sz="3200" spc="-1" strike="noStrike">
              <a:solidFill>
                <a:srgbClr val="000000"/>
              </a:solidFill>
              <a:latin typeface="Times New Roman"/>
            </a:endParaRPr>
          </a:p>
        </p:txBody>
      </p:sp>
      <p:sp>
        <p:nvSpPr>
          <p:cNvPr id="215"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C remains dissatisfied with the changes to the second paragraph of 12.2.10 and to the specification of  dot11LocallyAdministeredMACConfig. The text specifies that the device "shall check the value of dot11LocallyAdministeredMACConfig and shall configure its MAC address according to the rules of the local address space." However, the relationship between the "rules of the local address space prior to the start of the transaction" and "the value of dot11LocallyAdministeredMACConfig" is not clear. Furthermore, it is not clear how a local parameter within the device is able to impart an awareness of the "rules of the local address space." For example, if the non-AP STA is in range of several BSSs and each belongs to a different ESS and subject to a different local administrator, is each such administrator enabled to establish such rules, and to convey knowledge of its rules, to the STA "prior to the start of the transaction?" If so, how?</a:t>
            </a:r>
            <a:endParaRPr b="0" lang="en-US" sz="1600" spc="-1" strike="noStrike">
              <a:solidFill>
                <a:srgbClr val="000000"/>
              </a:solidFill>
              <a:latin typeface="Times New Roman"/>
            </a:endParaRPr>
          </a:p>
        </p:txBody>
      </p:sp>
      <p:sp>
        <p:nvSpPr>
          <p:cNvPr id="21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21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98DBF217-29F7-4918-9A73-93EEB79CE95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3 (13013) II</a:t>
            </a:r>
            <a:endParaRPr b="1" lang="en-US" sz="3200" spc="-1" strike="noStrike">
              <a:solidFill>
                <a:srgbClr val="000000"/>
              </a:solidFill>
              <a:latin typeface="Times New Roman"/>
            </a:endParaRPr>
          </a:p>
        </p:txBody>
      </p:sp>
      <p:sp>
        <p:nvSpPr>
          <p:cNvPr id="220" name=""/>
          <p:cNvSpPr txBox="1"/>
          <p:nvPr/>
        </p:nvSpPr>
        <p:spPr>
          <a:xfrm>
            <a:off x="685800" y="1828800"/>
            <a:ext cx="7772400" cy="440064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ministrators configure devices using methods which are out of scope of IEEE 802.11. MAC address allocation is simply another configuration parameter that would need to be configured for a STA to operate on an administered LAN. P802.11aq provides mechanisms to enable such configuration that is applied before the STA associates to the LAN. </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mment fails to identify changes in sufficient detail so that the specific wording of the changes that will satisfy the commenter can be determined.</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 on slide #5</a:t>
            </a:r>
            <a:endParaRPr b="0" lang="en-US" sz="16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stated above in the BRC response summary.</a:t>
            </a:r>
            <a:endParaRPr b="0" lang="en-US" sz="1600" spc="-1" strike="noStrike">
              <a:solidFill>
                <a:srgbClr val="000000"/>
              </a:solidFill>
              <a:latin typeface="Times New Roman"/>
            </a:endParaRPr>
          </a:p>
          <a:p>
            <a:pPr lvl="1" marL="735480" indent="-28296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1"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22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1C9CE02F-4D39-42DE-B35B-3A4C058C511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73800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7-14 (13014)</a:t>
            </a:r>
            <a:endParaRPr b="1" lang="en-US" sz="3200" spc="-1" strike="noStrike">
              <a:solidFill>
                <a:srgbClr val="000000"/>
              </a:solidFill>
              <a:latin typeface="Times New Roman"/>
            </a:endParaRPr>
          </a:p>
        </p:txBody>
      </p:sp>
      <p:sp>
        <p:nvSpPr>
          <p:cNvPr id="225" name=""/>
          <p:cNvSpPr txBox="1"/>
          <p:nvPr/>
        </p:nvSpPr>
        <p:spPr>
          <a:xfrm>
            <a:off x="685800" y="1828800"/>
            <a:ext cx="7772400" cy="4400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RAC is dissatisfied with the response to Comment r06-4, which does not address the issues raised in the commen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BRC believes the resolution of r06-4 did address the issues raised by the comment and resulted in the commenter changing their vote to approv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 on slide #5</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 stated above in the BRC response summary.</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22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DFCB2656-671C-43BC-9719-7BED27EF9A9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75"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8DBA197C-B840-4939-B8AC-DC11727FF77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77"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PlaceHolder 1"/>
          <p:cNvSpPr>
            <a:spLocks noGrp="1"/>
          </p:cNvSpPr>
          <p:nvPr>
            <p:ph/>
          </p:nvPr>
        </p:nvSpPr>
        <p:spPr>
          <a:xfrm>
            <a:off x="544680" y="837720"/>
            <a:ext cx="7772400" cy="53276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802.11aq ballot resolution committee (BRC) requests the IEEE 802 Executive Committee to approve a waiver from satisfying the mandatory coordination comments (MCCs) from the IEEE RAC.</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802.11aq BRC has concluded that satisfying the MCCs received from the IEEE RAC will impede the utility of the P802.11aq amendment**. </a:t>
            </a:r>
            <a:endParaRPr b="1" lang="en-US" sz="20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 </a:t>
            </a:r>
            <a:r>
              <a:rPr b="0" i="1" lang="en-US" sz="1800" spc="-1" strike="noStrike">
                <a:solidFill>
                  <a:srgbClr val="000000"/>
                </a:solidFill>
                <a:latin typeface="Times New Roman"/>
              </a:rPr>
              <a:t>IEEE-SA Standards Board Operations Manual: (Dec 2016) section 4.2.3.2</a:t>
            </a:r>
            <a:endParaRPr b="1"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81"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82"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4D2C39EF-30D6-41C4-990F-C42BA0471A0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3"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p:nvPr>
        </p:nvSpPr>
        <p:spPr>
          <a:xfrm>
            <a:off x="544680" y="837720"/>
            <a:ext cx="7772400" cy="5327640"/>
          </a:xfrm>
          <a:prstGeom prst="rect">
            <a:avLst/>
          </a:prstGeom>
          <a:noFill/>
          <a:ln w="0">
            <a:noFill/>
          </a:ln>
        </p:spPr>
        <p:txBody>
          <a:bodyPr lIns="92160" rIns="92160" tIns="46080" bIns="460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chnical Summary</a:t>
            </a:r>
            <a:endParaRPr b="1" lang="en-US" sz="36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802.11aq BRC’s objection to making the changes requested by the IEEE RAC is based upon these fundamental observations:</a:t>
            </a:r>
            <a:endParaRPr b="1" lang="en-US" sz="2000" spc="-1" strike="noStrike">
              <a:solidFill>
                <a:srgbClr val="000000"/>
              </a:solidFill>
              <a:latin typeface="Times New Roman"/>
            </a:endParaRPr>
          </a:p>
          <a:p>
            <a:pPr lvl="1" marL="85716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servation 1: The pre-association operations defined in this amendment using a randomized MAC address are terminated in the access point (AP), meaning that none of them appear on the infrastructure LAN.</a:t>
            </a:r>
            <a:endParaRPr b="0" lang="en-US" sz="1800" spc="-1" strike="noStrike">
              <a:solidFill>
                <a:srgbClr val="000000"/>
              </a:solidFill>
              <a:latin typeface="Times New Roman"/>
            </a:endParaRPr>
          </a:p>
          <a:p>
            <a:pPr lvl="1" marL="85716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servation 2: Other operations using a randomized MAC address that would attempt to create state with a managed network are either rejected at the AP or subject to prior configuration in the device.</a:t>
            </a:r>
            <a:endParaRPr b="0" lang="en-US" sz="1800" spc="-1" strike="noStrike">
              <a:solidFill>
                <a:srgbClr val="000000"/>
              </a:solidFill>
              <a:latin typeface="Times New Roman"/>
            </a:endParaRPr>
          </a:p>
          <a:p>
            <a:pPr lvl="2" marL="1200240" indent="-4572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rent protocols in use by wireless devices that achieve this configuration:  Hotspot 2.0, ActiveSync, ANDSF, Wi-Fi Simple Config</a:t>
            </a:r>
            <a:endParaRPr b="0" lang="en-US" sz="1600" spc="-1" strike="noStrike">
              <a:solidFill>
                <a:srgbClr val="000000"/>
              </a:solidFill>
              <a:latin typeface="Times New Roman"/>
            </a:endParaRPr>
          </a:p>
          <a:p>
            <a:pPr lvl="1" marL="857160" indent="-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servation 3: Removal of the MAC address randomization feature will impede the utility of the resulting standard as it denies the ability of a device to protect its privacy during service discovery procedures.</a:t>
            </a:r>
            <a:endParaRPr b="0" lang="en-US" sz="1800" spc="-1" strike="noStrike">
              <a:solidFill>
                <a:srgbClr val="000000"/>
              </a:solidFill>
              <a:latin typeface="Times New Roman"/>
            </a:endParaRPr>
          </a:p>
          <a:p>
            <a:pPr lvl="1" marL="85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87"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8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FB828E8C-2BD6-44A8-BA1D-62B0647E24F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89"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0"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p:nvPr>
        </p:nvSpPr>
        <p:spPr>
          <a:xfrm>
            <a:off x="544680" y="837720"/>
            <a:ext cx="7772400" cy="5327640"/>
          </a:xfrm>
          <a:prstGeom prst="rect">
            <a:avLst/>
          </a:prstGeom>
          <a:noFill/>
          <a:ln w="0">
            <a:noFill/>
          </a:ln>
        </p:spPr>
        <p:txBody>
          <a:bodyPr lIns="92160" rIns="92160" tIns="46080" bIns="4608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ther Information</a:t>
            </a:r>
            <a:endParaRPr b="1" lang="en-US" sz="36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802.11aq BRC agrees with the IEEE RAC that there was a number registration issue with P802.11aq D12.0 (September 2017), as the draft was explicitly requesting a number of bits for MAC address randomization. </a:t>
            </a:r>
            <a:endParaRPr b="1"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requirement was removed in P802.11aq D13.0 (October 2017) and replaced with references to IEEE 802-2014 and IEEE 802c-2017. The revised P802.11aq D13.0 text states:</a:t>
            </a:r>
            <a:endParaRPr b="1" lang="en-US" sz="1800" spc="-1" strike="noStrike">
              <a:solidFill>
                <a:srgbClr val="000000"/>
              </a:solidFill>
              <a:latin typeface="Times New Roman"/>
            </a:endParaRPr>
          </a:p>
          <a:p>
            <a:pPr lvl="1" marL="857160" indent="-45720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To construct a random MAC address the STA shall select a randomized MAC address according to IEEE Std 802-2014 and IEEE Std 802c-2017.”</a:t>
            </a:r>
            <a:endParaRPr b="0" lang="en-US" sz="1400" spc="-1" strike="noStrike">
              <a:solidFill>
                <a:srgbClr val="000000"/>
              </a:solidFill>
              <a:latin typeface="Times New Roman"/>
            </a:endParaRPr>
          </a:p>
          <a:p>
            <a:pPr lvl="1" marL="857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93"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9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BC2078AE-A09D-429D-A944-5480BB7A2B7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95"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Rectangle 3"/>
          <p:cNvSpPr/>
          <p:nvPr/>
        </p:nvSpPr>
        <p:spPr>
          <a:xfrm>
            <a:off x="32400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p:nvPr>
        </p:nvSpPr>
        <p:spPr>
          <a:xfrm>
            <a:off x="544680" y="837720"/>
            <a:ext cx="7772400" cy="5327640"/>
          </a:xfrm>
          <a:prstGeom prst="rect">
            <a:avLst/>
          </a:prstGeom>
          <a:noFill/>
          <a:ln w="0">
            <a:noFill/>
          </a:ln>
        </p:spPr>
        <p:txBody>
          <a:bodyPr lIns="92160" rIns="92160" tIns="46080" bIns="46080" anchor="t">
            <a:normAutofit fontScale="98000"/>
          </a:bodyPr>
          <a:p>
            <a:pPr marL="447840" indent="-447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se specific MCCs from the P802.11aq sponsor ballot are as follows:</a:t>
            </a:r>
            <a:endParaRPr b="1" lang="en-US" sz="1800" spc="-1" strike="noStrike">
              <a:solidFill>
                <a:srgbClr val="000000"/>
              </a:solidFill>
              <a:latin typeface="Times New Roman"/>
            </a:endParaRPr>
          </a:p>
          <a:p>
            <a:pPr lvl="1" marL="839880" indent="-447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3-8   (9008)</a:t>
            </a:r>
            <a:endParaRPr b="0" lang="en-US" sz="1600" spc="-1" strike="noStrike">
              <a:solidFill>
                <a:srgbClr val="000000"/>
              </a:solidFill>
              <a:latin typeface="Times New Roman"/>
            </a:endParaRPr>
          </a:p>
          <a:p>
            <a:pPr lvl="1" marL="839880" indent="-447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4-8   (10008)</a:t>
            </a:r>
            <a:endParaRPr b="0" lang="en-US" sz="1600" spc="-1" strike="noStrike">
              <a:solidFill>
                <a:srgbClr val="000000"/>
              </a:solidFill>
              <a:latin typeface="Times New Roman"/>
            </a:endParaRPr>
          </a:p>
          <a:p>
            <a:pPr lvl="1" marL="839880" indent="-447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4-9   (10009)</a:t>
            </a:r>
            <a:endParaRPr b="0" lang="en-US" sz="1600" spc="-1" strike="noStrike">
              <a:solidFill>
                <a:srgbClr val="000000"/>
              </a:solidFill>
              <a:latin typeface="Times New Roman"/>
            </a:endParaRPr>
          </a:p>
          <a:p>
            <a:pPr lvl="1" marL="839880" indent="-447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4-12 (10012)</a:t>
            </a:r>
            <a:endParaRPr b="0" lang="en-US" sz="1600" spc="-1" strike="noStrike">
              <a:solidFill>
                <a:srgbClr val="000000"/>
              </a:solidFill>
              <a:latin typeface="Times New Roman"/>
            </a:endParaRPr>
          </a:p>
          <a:p>
            <a:pPr lvl="1" marL="839880" indent="-447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5-5   (11005) [this MCC references r04-9]</a:t>
            </a:r>
            <a:endParaRPr b="0" lang="en-US" sz="1600" spc="-1" strike="noStrike">
              <a:solidFill>
                <a:srgbClr val="000000"/>
              </a:solidFill>
              <a:latin typeface="Times New Roman"/>
            </a:endParaRPr>
          </a:p>
          <a:p>
            <a:pPr lvl="1" marL="839880" indent="-447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5-6   (11006) [this MCC references r04-8]</a:t>
            </a:r>
            <a:endParaRPr b="0" lang="en-US" sz="1600" spc="-1" strike="noStrike">
              <a:solidFill>
                <a:srgbClr val="000000"/>
              </a:solidFill>
              <a:latin typeface="Times New Roman"/>
            </a:endParaRPr>
          </a:p>
          <a:p>
            <a:pPr lvl="1" marL="839880" indent="-447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5-7   (11007) [this MCC references r04-12]</a:t>
            </a:r>
            <a:endParaRPr b="0" lang="en-US" sz="1600" spc="-1" strike="noStrike">
              <a:solidFill>
                <a:srgbClr val="000000"/>
              </a:solidFill>
              <a:latin typeface="Times New Roman"/>
            </a:endParaRPr>
          </a:p>
          <a:p>
            <a:pPr lvl="1" marL="839880" indent="-447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6-9   (12009)</a:t>
            </a:r>
            <a:endParaRPr b="0" lang="en-US" sz="1600" spc="-1" strike="noStrike">
              <a:solidFill>
                <a:srgbClr val="000000"/>
              </a:solidFill>
              <a:latin typeface="Times New Roman"/>
            </a:endParaRPr>
          </a:p>
          <a:p>
            <a:pPr lvl="1" marL="839880" indent="-447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7-10 (13010)</a:t>
            </a:r>
            <a:endParaRPr b="0" lang="en-US" sz="1600" spc="-1" strike="noStrike">
              <a:solidFill>
                <a:srgbClr val="000000"/>
              </a:solidFill>
              <a:latin typeface="Times New Roman"/>
            </a:endParaRPr>
          </a:p>
          <a:p>
            <a:pPr lvl="1" marL="839880" indent="-447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7-11 (13011) [this MCC references r06-9]</a:t>
            </a:r>
            <a:endParaRPr b="0" lang="en-US" sz="1600" spc="-1" strike="noStrike">
              <a:solidFill>
                <a:srgbClr val="000000"/>
              </a:solidFill>
              <a:latin typeface="Times New Roman"/>
            </a:endParaRPr>
          </a:p>
          <a:p>
            <a:pPr lvl="1" marL="839880" indent="-447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7-12 (13012) [this MCC references r04-9, r06-9 and r06-12)</a:t>
            </a:r>
            <a:endParaRPr b="0" lang="en-US" sz="1600" spc="-1" strike="noStrike">
              <a:solidFill>
                <a:srgbClr val="000000"/>
              </a:solidFill>
              <a:latin typeface="Times New Roman"/>
            </a:endParaRPr>
          </a:p>
          <a:p>
            <a:pPr lvl="1" marL="839880" indent="-447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7-13 (13013)</a:t>
            </a:r>
            <a:endParaRPr b="0" lang="en-US" sz="1600" spc="-1" strike="noStrike">
              <a:solidFill>
                <a:srgbClr val="000000"/>
              </a:solidFill>
              <a:latin typeface="Times New Roman"/>
            </a:endParaRPr>
          </a:p>
          <a:p>
            <a:pPr lvl="1" marL="839880" indent="-447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07-14 (13014) [this MCC references r06-4]</a:t>
            </a:r>
            <a:endParaRPr b="0" lang="en-US" sz="1600" spc="-1" strike="noStrike">
              <a:solidFill>
                <a:srgbClr val="000000"/>
              </a:solidFill>
              <a:latin typeface="Times New Roman"/>
            </a:endParaRPr>
          </a:p>
          <a:p>
            <a:pPr marL="447840" indent="-447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 detailed in the </a:t>
            </a:r>
            <a:r>
              <a:rPr b="1" lang="en-US" sz="1800" spc="-1" strike="noStrike" u="sng">
                <a:solidFill>
                  <a:srgbClr val="0066ff"/>
                </a:solidFill>
                <a:uFillTx/>
                <a:latin typeface="Times New Roman"/>
                <a:hlinkClick r:id="rId1"/>
              </a:rPr>
              <a:t>comment resolution spreadsheet</a:t>
            </a:r>
            <a:r>
              <a:rPr b="1" lang="en-US" sz="1800" spc="-1" strike="noStrike">
                <a:solidFill>
                  <a:srgbClr val="000000"/>
                </a:solidFill>
                <a:latin typeface="Times New Roman"/>
              </a:rPr>
              <a:t> tab “IEEE RAC Comments”</a:t>
            </a:r>
            <a:endParaRPr b="1" lang="en-US" sz="1800" spc="-1" strike="noStrike">
              <a:solidFill>
                <a:srgbClr val="000000"/>
              </a:solidFill>
              <a:latin typeface="Times New Roman"/>
            </a:endParaRPr>
          </a:p>
          <a:p>
            <a:pPr marL="447840" indent="-447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 the numbers in parentheses relate to the P802.11aq BRC comment numbering</a:t>
            </a:r>
            <a:endParaRPr b="1"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99"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
        <p:nvSpPr>
          <p:cNvPr id="1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lide </a:t>
            </a:r>
            <a:fld id="{71BC8D4C-D869-4610-9897-59CDD659B07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1" name="Rectangle 2"/>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Rectangle 3"/>
          <p:cNvSpPr/>
          <p:nvPr/>
        </p:nvSpPr>
        <p:spPr>
          <a:xfrm>
            <a:off x="380880" y="838080"/>
            <a:ext cx="8458200" cy="5562720"/>
          </a:xfrm>
          <a:prstGeom prst="rect">
            <a:avLst/>
          </a:prstGeom>
          <a:noFill/>
          <a:ln w="0">
            <a:noFill/>
          </a:ln>
        </p:spPr>
        <p:style>
          <a:lnRef idx="0"/>
          <a:fillRef idx="0"/>
          <a:effectRef idx="0"/>
          <a:fontRef idx="minor"/>
        </p:style>
        <p:txBody>
          <a:bodyPr lIns="90000" rIns="90000" tIns="46800" bIns="46800" anchor="t">
            <a:normAutofit/>
          </a:bodyPr>
          <a:p>
            <a:pPr marL="233280" indent="-18072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PlaceHolder 1"/>
          <p:cNvSpPr>
            <a:spLocks noGrp="1"/>
          </p:cNvSpPr>
          <p:nvPr>
            <p:ph/>
          </p:nvPr>
        </p:nvSpPr>
        <p:spPr>
          <a:xfrm>
            <a:off x="544680" y="837720"/>
            <a:ext cx="7772400" cy="5327640"/>
          </a:xfrm>
          <a:prstGeom prst="rect">
            <a:avLst/>
          </a:prstGeom>
          <a:noFill/>
          <a:ln w="0">
            <a:noFill/>
          </a:ln>
        </p:spPr>
        <p:txBody>
          <a:bodyPr lIns="92160" rIns="92160" tIns="46080" bIns="46080" anchor="t">
            <a:normAutofit/>
          </a:bodyPr>
          <a:p>
            <a:pPr marL="457200" indent="-45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ollowing slides summarize the specific MCCs. These summaries have been produced by the P802.11aq BRC to the best of their ability.</a:t>
            </a:r>
            <a:endParaRPr b="1" lang="en-US" sz="2000" spc="-1" strike="noStrike">
              <a:solidFill>
                <a:srgbClr val="000000"/>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45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ch MCC summary is formatted as follows:</a:t>
            </a:r>
            <a:endParaRPr b="1" lang="en-US" sz="20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mmary of the original MCC received from IEEE RAC</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mmary of the original BRC comment resolution</a:t>
            </a:r>
            <a:endParaRPr b="0" lang="en-US" sz="1600" spc="-1" strike="noStrike">
              <a:solidFill>
                <a:srgbClr val="000000"/>
              </a:solidFill>
              <a:latin typeface="Times New Roman"/>
            </a:endParaRPr>
          </a:p>
          <a:p>
            <a:pPr lvl="1" marL="857160" indent="-45720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RC waiver commentary based the current state of the P802.11aq draft.</a:t>
            </a:r>
            <a:endParaRPr b="0" lang="en-US" sz="1600" spc="-1" strike="noStrike">
              <a:solidFill>
                <a:srgbClr val="000000"/>
              </a:solidFill>
              <a:latin typeface="Times New Roman"/>
            </a:endParaRPr>
          </a:p>
          <a:p>
            <a:pPr lvl="2" marL="1200240" indent="-4572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may differ from the original P802.11aq comment resolution, due to subsequent changes made to the P802.11aq draft</a:t>
            </a:r>
            <a:endParaRPr b="0" lang="en-US" sz="1400" spc="-1" strike="noStrike">
              <a:solidFill>
                <a:srgbClr val="000000"/>
              </a:solidFill>
              <a:latin typeface="Times New Roman"/>
            </a:endParaRPr>
          </a:p>
          <a:p>
            <a:pPr marL="457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 summary of r03-8 (9008)</a:t>
            </a:r>
            <a:endParaRPr b="1" lang="en-US" sz="3200" spc="-1" strike="noStrike">
              <a:solidFill>
                <a:srgbClr val="000000"/>
              </a:solidFill>
              <a:latin typeface="Times New Roman"/>
            </a:endParaRPr>
          </a:p>
        </p:txBody>
      </p:sp>
      <p:sp>
        <p:nvSpPr>
          <p:cNvPr id="105" name=""/>
          <p:cNvSpPr txBox="1"/>
          <p:nvPr/>
        </p:nvSpPr>
        <p:spPr>
          <a:xfrm>
            <a:off x="711360" y="1742760"/>
            <a:ext cx="7772400" cy="46386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MCC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ndom MAC address assignment would seem to be out-of-scope for the PAR</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ginal BRC Response summ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ject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ndomizing the MAC address, as described in P802.11aq clause 12.2.10, is a perfectly reasonable part of the pre-association discovery scope. This avoids revealing privacy compromising information to STAs that are observing the P802.11aq traffic.</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C waiver commentary:</a:t>
            </a:r>
            <a:endParaRPr b="1"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e observations 1, 2 and 3 on slide #5</a:t>
            </a:r>
            <a:endParaRPr b="0" lang="en-US" sz="1600" spc="-1" strike="noStrike">
              <a:solidFill>
                <a:srgbClr val="000000"/>
              </a:solidFill>
              <a:latin typeface="Times New Roman"/>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6" name="Date Placeholder 3"/>
          <p:cNvSpPr/>
          <p:nvPr/>
        </p:nvSpPr>
        <p:spPr>
          <a:xfrm>
            <a:off x="764640" y="334800"/>
            <a:ext cx="144396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February 2018</a:t>
            </a:r>
            <a:endParaRPr b="0" lang="en-US" sz="1800" spc="-1" strike="noStrike">
              <a:solidFill>
                <a:srgbClr val="000000"/>
              </a:solidFill>
              <a:latin typeface="Times New Roman"/>
            </a:endParaRPr>
          </a:p>
        </p:txBody>
      </p:sp>
      <p:sp>
        <p:nvSpPr>
          <p:cNvPr id="10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lide </a:t>
            </a:r>
            <a:fld id="{F234F1DB-3D70-4894-B4BC-7C0A051F822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08" name="Footer Placeholder 4"/>
          <p:cNvSpPr/>
          <p:nvPr/>
        </p:nvSpPr>
        <p:spPr>
          <a:xfrm>
            <a:off x="7395120" y="6475320"/>
            <a:ext cx="183096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Arial"/>
              </a:rPr>
              <a:t>Stephen McCann, BlackBerr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2T14:01:45Z</dcterms:created>
  <dc:creator>Stephen McCann</dc:creator>
  <dc:description/>
  <dc:language>en-US</dc:language>
  <cp:lastModifiedBy>Stephen McCann</cp:lastModifiedBy>
  <cp:lastPrinted>1998-02-10T13:28:06Z</cp:lastPrinted>
  <dcterms:modified xsi:type="dcterms:W3CDTF">2018-02-19T09:14:56Z</dcterms:modified>
  <cp:revision>1975</cp:revision>
  <dc:subject/>
  <dc:title>ISD Agen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flag">
    <vt:lpwstr>1431529251</vt:lpwstr>
  </property>
</Properties>
</file>