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7"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7/1704r1</a:t>
            </a:r>
            <a:endParaRPr b="0" lang="en-US" sz="1400" spc="-1" strike="noStrike">
              <a:solidFill>
                <a:srgbClr val="000000"/>
              </a:solidFill>
              <a:latin typeface="Times New Roman"/>
            </a:endParaRPr>
          </a:p>
        </p:txBody>
      </p:sp>
      <p:sp>
        <p:nvSpPr>
          <p:cNvPr id="48" name="PlaceHolder 2"/>
          <p:cNvSpPr>
            <a:spLocks noGrp="1"/>
          </p:cNvSpPr>
          <p:nvPr>
            <p:ph type="dt" idx="4"/>
          </p:nvPr>
        </p:nvSpPr>
        <p:spPr>
          <a:xfrm>
            <a:off x="641520" y="117360"/>
            <a:ext cx="122688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7</a:t>
            </a:r>
            <a:endParaRPr b="0" lang="en-US" sz="1400" spc="-1" strike="noStrike">
              <a:solidFill>
                <a:srgbClr val="000000"/>
              </a:solidFill>
              <a:latin typeface="Times New Roman"/>
            </a:endParaRPr>
          </a:p>
        </p:txBody>
      </p:sp>
      <p:sp>
        <p:nvSpPr>
          <p:cNvPr id="49"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0"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5F53837-0171-4ACA-9F7B-7B1D3E8364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20"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2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9B96BC59-6275-4F73-A0E3-4F60950285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22320" y="750960"/>
            <a:ext cx="4950000" cy="3711600"/>
          </a:xfrm>
          <a:prstGeom prst="rect">
            <a:avLst/>
          </a:prstGeom>
          <a:ln w="0">
            <a:noFill/>
          </a:ln>
        </p:spPr>
      </p:sp>
      <p:sp>
        <p:nvSpPr>
          <p:cNvPr id="12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26"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2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4DCAF83D-CCE5-4A03-9237-11F75468BEA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22320" y="750960"/>
            <a:ext cx="4950000" cy="3711600"/>
          </a:xfrm>
          <a:prstGeom prst="rect">
            <a:avLst/>
          </a:prstGeom>
          <a:ln w="0">
            <a:noFill/>
          </a:ln>
        </p:spPr>
      </p:sp>
      <p:sp>
        <p:nvSpPr>
          <p:cNvPr id="13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32"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3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931E5A0-E7AD-4DD0-9102-1D36C62CFB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38"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3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66C01CB-2052-4934-A9A3-66792E6C570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22320" y="750960"/>
            <a:ext cx="4950000" cy="3711600"/>
          </a:xfrm>
          <a:prstGeom prst="rect">
            <a:avLst/>
          </a:prstGeom>
          <a:ln w="0">
            <a:noFill/>
          </a:ln>
        </p:spPr>
      </p:sp>
      <p:sp>
        <p:nvSpPr>
          <p:cNvPr id="14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06C49-6E10-4918-8A0F-27ADC3739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10609-816E-434C-8E0F-044E26ACD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0200-9BBA-4277-87A7-A9C3011AD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D1850-1033-4E2A-BA88-22B55A52D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46DEA-2CFB-4DBD-9AEE-25FABD8F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3EABC-4942-4DC5-BBF8-6BEBBC4E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DFA4-290C-4F34-91E3-A1A47D537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FC00-B428-4BF9-9D02-73B441CE0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88B7F-E74C-43E4-B7AE-7AAE5E223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EC46B-6CA6-4BB2-9796-73ECBC68E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668A-445C-4661-9297-770D0840B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4953-A48C-4CF0-979B-D43639D0D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A42F6DA-09C4-4B20-BD16-3A2E46CAB7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7/170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 name="TextBox 1"/>
          <p:cNvSpPr/>
          <p:nvPr/>
        </p:nvSpPr>
        <p:spPr>
          <a:xfrm rot="19471800">
            <a:off x="608760" y="2138040"/>
            <a:ext cx="7642080" cy="21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800" spc="-1" strike="noStrike">
                <a:solidFill>
                  <a:srgbClr val="eaeaea"/>
                </a:solidFill>
                <a:latin typeface="Times New Roman"/>
              </a:rPr>
              <a:t>DRAFT</a:t>
            </a:r>
            <a:endParaRPr b="0" lang="en-US" sz="13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7A67811-63C3-4CCD-8DCF-5228395E5E7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802.11aq Waiver request regarding IEEE RAC comments</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692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7-11-06</a:t>
            </a:r>
            <a:endParaRPr b="1" lang="en-US" sz="2000" spc="-1" strike="noStrike">
              <a:solidFill>
                <a:srgbClr val="000000"/>
              </a:solidFill>
              <a:latin typeface="Times New Roman"/>
            </a:endParaRPr>
          </a:p>
        </p:txBody>
      </p:sp>
      <p:graphicFrame>
        <p:nvGraphicFramePr>
          <p:cNvPr id="60" name="Object 5"/>
          <p:cNvGraphicFramePr/>
          <p:nvPr/>
        </p:nvGraphicFramePr>
        <p:xfrm>
          <a:off x="574560" y="2492280"/>
          <a:ext cx="7969320" cy="2259000"/>
        </p:xfrm>
        <a:graphic>
          <a:graphicData uri="http://schemas.openxmlformats.org/presentationml/2006/ole">
            <p:oleObj progId="Word.Document.12" r:id="rId1" spid="">
              <p:embed/>
              <p:pic>
                <p:nvPicPr>
                  <p:cNvPr id="61" name="Object 5" descr=""/>
                  <p:cNvPicPr/>
                  <p:nvPr/>
                </p:nvPicPr>
                <p:blipFill>
                  <a:blip r:embed="rId2"/>
                  <a:stretch/>
                </p:blipFill>
                <p:spPr>
                  <a:xfrm>
                    <a:off x="574560" y="2492280"/>
                    <a:ext cx="7969320" cy="2259000"/>
                  </a:xfrm>
                  <a:prstGeom prst="rect">
                    <a:avLst/>
                  </a:prstGeom>
                  <a:ln w="0">
                    <a:noFill/>
                  </a:ln>
                </p:spPr>
              </p:pic>
            </p:oleObj>
          </a:graphicData>
        </a:graphic>
      </p:graphicFrame>
      <p:sp>
        <p:nvSpPr>
          <p:cNvPr id="62" name="Rectangle 6"/>
          <p:cNvSpPr/>
          <p:nvPr/>
        </p:nvSpPr>
        <p:spPr>
          <a:xfrm>
            <a:off x="468360" y="20908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3"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5-6 (11006)</a:t>
            </a:r>
            <a:endParaRPr b="1" lang="en-US" sz="3200" spc="-1" strike="noStrike">
              <a:solidFill>
                <a:srgbClr val="000000"/>
              </a:solidFill>
              <a:latin typeface="Times New Roman"/>
            </a:endParaRPr>
          </a:p>
        </p:txBody>
      </p:sp>
      <p:sp>
        <p:nvSpPr>
          <p:cNvPr id="105"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RAC is not satisfied with the response to Comment r04-8 (slide #6). During the discovery process, the draft still specifies that station adopts a 46-bit random addres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discovery state, STAs are not operating on a LAN. The only communications is between STAs. Frames transmitted between a STA and an AP terminate at the AP and never reach the LAN. Security and duplication detection mechanisms prevent frames from a non-associated  STA with a conflicting MAC address from affecting any traffic in the BS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DB65077-DE21-49F9-9EF7-433DC7A4EC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5-7 (11007)</a:t>
            </a:r>
            <a:endParaRPr b="1" lang="en-US" sz="3200" spc="-1" strike="noStrike">
              <a:solidFill>
                <a:srgbClr val="000000"/>
              </a:solidFill>
              <a:latin typeface="Times New Roman"/>
            </a:endParaRPr>
          </a:p>
        </p:txBody>
      </p:sp>
      <p:sp>
        <p:nvSpPr>
          <p:cNvPr id="11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RAC is not satisfied with the response to Comment r04-12 (slide #8). The RAC would prefer a direct control functionality by which the network could specify a local address plan and policy. The current draft instead proposes a MIB-based solution without specifying any method to establish the relevant paramete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raft has been modified to provide a means for using a randomized MAC address during pre-association. When the device selects and associates to a network using an IEEE 802 technology, the device will conform with an IEEE 802 MAC address, either an assigned globally unique MAC address or a locally administered MAC address conformant with IEEE 802-2014 and IEEE 802c-2017.</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2158118-50E1-42AA-88A7-3C6C01E43A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6-9 (12009)</a:t>
            </a:r>
            <a:endParaRPr b="1" lang="en-US" sz="3200" spc="-1" strike="noStrike">
              <a:solidFill>
                <a:srgbClr val="000000"/>
              </a:solidFill>
              <a:latin typeface="Times New Roman"/>
            </a:endParaRPr>
          </a:p>
        </p:txBody>
      </p:sp>
      <p:pic>
        <p:nvPicPr>
          <p:cNvPr id="115" name="Content Placeholder 2" descr=""/>
          <p:cNvPicPr/>
          <p:nvPr/>
        </p:nvPicPr>
        <p:blipFill>
          <a:blip r:embed="rId1"/>
          <a:stretch/>
        </p:blipFill>
        <p:spPr>
          <a:xfrm>
            <a:off x="633240" y="1951200"/>
            <a:ext cx="7851960" cy="4430520"/>
          </a:xfrm>
          <a:prstGeom prst="rect">
            <a:avLst/>
          </a:prstGeom>
          <a:ln w="0">
            <a:noFill/>
          </a:ln>
        </p:spPr>
      </p:pic>
      <p:sp>
        <p:nvSpPr>
          <p:cNvPr id="11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179BDC3-F541-4667-B1AE-49EA60D0C8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6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B27ACAA8-B7DC-4569-8178-DE6A458AD2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aiver for not </a:t>
            </a:r>
            <a:r>
              <a:rPr b="1" lang="en-US" sz="3200" spc="-1" strike="noStrike">
                <a:solidFill>
                  <a:srgbClr val="000000"/>
                </a:solidFill>
                <a:latin typeface="Times New Roman"/>
              </a:rPr>
              <a:t>satisfying specific mandatory coordination comments received by IEEE RAC during the P802.11aq sponsor bal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70"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C0912EC-3B20-4569-A2B1-CDEFB7163E1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4" name="Rectangle 5" descr=""/>
          <p:cNvPicPr/>
          <p:nvPr/>
        </p:nvPicPr>
        <p:blipFill>
          <a:blip r:embed="rId1"/>
          <a:stretch/>
        </p:blipFill>
        <p:spPr>
          <a:xfrm>
            <a:off x="493560" y="804960"/>
            <a:ext cx="7821720" cy="577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7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EE766FF-2421-4145-B6B2-7A8D8607F67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he following 9 slides summarise the specific comments. These summaries have been produced by the P802.11aq BRC to the best of their abilit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3-8 (9008)</a:t>
            </a:r>
            <a:endParaRPr b="1" lang="en-US" sz="3200" spc="-1" strike="noStrike">
              <a:solidFill>
                <a:srgbClr val="000000"/>
              </a:solidFill>
              <a:latin typeface="Times New Roman"/>
            </a:endParaRPr>
          </a:p>
        </p:txBody>
      </p:sp>
      <p:sp>
        <p:nvSpPr>
          <p:cNvPr id="8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Random MAC address assignment would seem to be out-of-scope for the PA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ing the MAC address, as described in P802.11aq clause 12.2.10, is a perfectly reasonable part of the pre-association discovery scope. This avoids revealing privacy compromising information to STAs that are observing the 802.11aq traffi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E648F0B-A139-484C-BAC1-1177141A34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4-8 (10008)</a:t>
            </a:r>
            <a:endParaRPr b="1" lang="en-US" sz="3200" spc="-1" strike="noStrike">
              <a:solidFill>
                <a:srgbClr val="000000"/>
              </a:solidFill>
              <a:latin typeface="Times New Roman"/>
            </a:endParaRPr>
          </a:p>
        </p:txBody>
      </p:sp>
      <p:sp>
        <p:nvSpPr>
          <p:cNvPr id="85"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11aq specifies that devices select a 48-bit MAC address using 46 bits selected randomly (the other two set to indicate local unicast), whereas IEEE Std 802 (since the June 2017 approval of the amendment IEEE Std 802c) provides for four types of local addres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raft behavior has been changed to allow a STA to conform to a local administered address space policy when it associates to a networ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ull 46 bits of randomization for the MAC is required to address privacy issues associated with network discovery when the STA is in the unassociated sta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D5DCBB8-E9CA-4541-947C-4A05826DC17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4-9 (10009)</a:t>
            </a:r>
            <a:endParaRPr b="1" lang="en-US" sz="3200" spc="-1" strike="noStrike">
              <a:solidFill>
                <a:srgbClr val="000000"/>
              </a:solidFill>
              <a:latin typeface="Times New Roman"/>
            </a:endParaRPr>
          </a:p>
        </p:txBody>
      </p:sp>
      <p:sp>
        <p:nvSpPr>
          <p:cNvPr id="9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re is nothing in the project scope to inform interested parties that the amendment will include specifications that present potential interoperability problems with many other standards that use IEEE Std 802 specified address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nt draft changes include removal of any specification for behavior after discovery and selection. Privacy enhancements may be required to perform pre-association service discovery. The draft has been modified to minimize the addressing conflicts suggested by the comm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8D516CB-99CD-416E-AF24-9C135B72F9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4-12 (10012)</a:t>
            </a:r>
            <a:endParaRPr b="1" lang="en-US" sz="3200" spc="-1" strike="noStrike">
              <a:solidFill>
                <a:srgbClr val="000000"/>
              </a:solidFill>
              <a:latin typeface="Times New Roman"/>
            </a:endParaRPr>
          </a:p>
        </p:txBody>
      </p:sp>
      <p:sp>
        <p:nvSpPr>
          <p:cNvPr id="95"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draft is incompatible with IEEE Std 802-2014 because it doesn't allow for the local administrator administering the local addres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cy enhancements may be required to perform pre-association service discovery. The draft has been modified to eliminate the addressing conflicts suggested by the comment and allow for the STA to be configured in a mode consistent with a locally administered address space polic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B6FBFEF-1EEA-4901-AD91-DCCBB4FC2A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5-5 (11005)</a:t>
            </a:r>
            <a:endParaRPr b="1" lang="en-US" sz="3200" spc="-1" strike="noStrike">
              <a:solidFill>
                <a:srgbClr val="000000"/>
              </a:solidFill>
              <a:latin typeface="Times New Roman"/>
            </a:endParaRPr>
          </a:p>
        </p:txBody>
      </p:sp>
      <p:sp>
        <p:nvSpPr>
          <p:cNvPr id="10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RAC is not satisfied with the response to Comment r04-9 (slide #7). However, considering the scope of the project, per the PAR, it seems apparent that specifying a new method to assign LAN data frame addresses is out of sc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ssociation Service Discovery mechanisms specified in this amendment have the potential to leak privacy information. The privacy mechanisms incorporated into this amendment address privacy concerns with pre-association service discovery. Therefore it is the view of the BRC that privacy is within scope of the P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4A3CAC9-D247-4205-819C-BA0A9E7DB0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7-11-06T21:36:49Z</dcterms:modified>
  <cp:revision>1912</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