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5513040" y="-732960"/>
            <a:ext cx="64116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7/170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41520" y="117360"/>
            <a:ext cx="122688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8560" cy="37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1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5230800" y="9615240"/>
            <a:ext cx="9237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tephen McCann, BlackBe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146400" y="961524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F35C82C-2546-45D2-8D68-8B3F79A442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708480" y="961560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9"/>
          <p:cNvSpPr/>
          <p:nvPr/>
        </p:nvSpPr>
        <p:spPr>
          <a:xfrm>
            <a:off x="709560" y="9613800"/>
            <a:ext cx="537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635040" y="317520"/>
            <a:ext cx="552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4734000" y="11988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7/170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656280" y="11988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ovember 20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547880" y="9615600"/>
            <a:ext cx="228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tephen McCann, BlackBe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2917800" y="9615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21E181E7-E50A-4A85-A9C3-25565F45D7A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22320" y="750960"/>
            <a:ext cx="4950000" cy="37116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4734000" y="11988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7/170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656280" y="11988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ovember 20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4547880" y="9615600"/>
            <a:ext cx="228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tephen McCann, BlackBe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2917800" y="9615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04007E2F-A32E-434D-AFB6-42B42820F6D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22320" y="750960"/>
            <a:ext cx="4950000" cy="37116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4734000" y="11988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7/170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656280" y="11988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ovember 20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547880" y="9615600"/>
            <a:ext cx="228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tephen McCann, BlackBe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2917800" y="9615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38835D29-A74C-4CA9-B2DA-D334B33CC7D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0800" cy="37209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BC56-6B9D-49DF-86AA-337828A91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DC30-4E8A-4C3D-9973-0691C89B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ABAD-23B4-42BB-94DA-BD2501D2C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4435-DD34-45D1-9130-D49BFCCA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88E4-F65A-4BD9-AC24-80194E9B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E2A7-A999-4A1A-A987-ABECE09A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FCB7-2915-4966-9A31-0700225B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8B40-A698-40C7-93DE-E3C4D745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E430-F6D6-4261-809B-21EDF7B5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B3D4-98A5-40EB-BE2C-5F7FD7AC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7521-57CB-4DDD-AEC2-72885EDE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1E44-5766-4217-BCE6-B9EC500E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157968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BlackBe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E9E47D7-6F89-45DC-B6FD-E1CDE06D37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7/170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TextBox 1"/>
          <p:cNvSpPr/>
          <p:nvPr/>
        </p:nvSpPr>
        <p:spPr>
          <a:xfrm rot="19471800">
            <a:off x="608760" y="2138040"/>
            <a:ext cx="76420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800" spc="-1" strike="noStrike">
                <a:solidFill>
                  <a:srgbClr val="eaeaea"/>
                </a:solidFill>
                <a:latin typeface="Times New Roman"/>
              </a:rPr>
              <a:t>DRAFT</a:t>
            </a:r>
            <a:endParaRPr b="0" lang="en-US" sz="1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7395120" y="6475320"/>
            <a:ext cx="183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tephen McCann, BlackBe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2DA56FE2-B6CB-4F25-8301-3E32C1475AB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802.11aq Waiver request regarding IEEE RAC com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2017-11-0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5"/>
          <p:cNvGraphicFramePr/>
          <p:nvPr/>
        </p:nvGraphicFramePr>
        <p:xfrm>
          <a:off x="574560" y="2492280"/>
          <a:ext cx="7969320" cy="225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560" y="2492280"/>
                    <a:ext cx="796932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6"/>
          <p:cNvSpPr/>
          <p:nvPr/>
        </p:nvSpPr>
        <p:spPr>
          <a:xfrm>
            <a:off x="468360" y="209088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Date Placeholder 3"/>
          <p:cNvSpPr/>
          <p:nvPr/>
        </p:nvSpPr>
        <p:spPr>
          <a:xfrm>
            <a:off x="72036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ovember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3"/>
          <p:cNvSpPr/>
          <p:nvPr/>
        </p:nvSpPr>
        <p:spPr>
          <a:xfrm>
            <a:off x="72036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ovember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7395120" y="6475320"/>
            <a:ext cx="183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tephen McCann, BlackBe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92A1DE45-1852-4463-A134-D529C451BB1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aiver for no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tisfying specific mandatory coordination comments received by IEEE RAC during the P802.11aq sponsor ballo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Date Placeholder 3"/>
          <p:cNvSpPr/>
          <p:nvPr/>
        </p:nvSpPr>
        <p:spPr>
          <a:xfrm>
            <a:off x="72036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ovember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7395120" y="6475320"/>
            <a:ext cx="183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tephen McCann, BlackBe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B6175F81-717E-41FC-B093-6FC966208F9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85800" y="-228600"/>
            <a:ext cx="77724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80880" y="8380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1807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544680" y="83772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802.11aq ballot resolution committee has decided that satisfying specific mandatory coordination comments received from IEEE RAC impedes the utility of the P802.11aq amendment**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se specific comments from the P802.11aq sponsor ballot are as follo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03-8 (900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05-5 (11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05-6 (11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05-7 (1100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06-9 (12009) (yet to be discuss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described in &lt;comment_spreadsheet URL&gt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**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EEE-SA Sponsor Ballot operations manual: (Dec 2016) section 4.2.3.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2T14:01:45Z</dcterms:created>
  <dc:creator>Stephen McCann</dc:creator>
  <dc:description/>
  <dc:language>en-US</dc:language>
  <cp:lastModifiedBy>Stephen McCann</cp:lastModifiedBy>
  <cp:lastPrinted>1998-02-10T13:28:06Z</cp:lastPrinted>
  <dcterms:modified xsi:type="dcterms:W3CDTF">2017-11-06T10:22:18Z</dcterms:modified>
  <cp:revision>1900</cp:revision>
  <dc:subject/>
  <dc:title>ISD Agend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431529251</vt:lpwstr>
  </property>
</Properties>
</file>