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5513040" y="-73296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1520" y="117360"/>
            <a:ext cx="12268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5230800" y="961524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299891-D02F-4782-95A6-C79FEC5885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E00187E-7AF6-4D0B-9AC6-1209C65F7E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C830A92-27A3-401D-858F-965B0BAF07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B26524B-DE6C-4CC8-930D-CB6F75B1F5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497-7990-4FBE-A512-738E71FC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05A-C8AA-499A-A23E-0D12285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7E1-734C-4723-9435-1AEBD97F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9FE-FA91-4C2D-801C-70692D3A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69F-60D5-4E92-B9B9-C79ED57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A15-6B9E-474C-8823-DE06B1F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4F6-98E0-4EF0-8349-68D01D3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1BF-753F-4EA9-A441-E4A2EEAA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282-A569-476D-92F2-4577469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CB2-3EBE-4D44-9998-4CF7C4D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2D1-D036-491F-9451-BCE37BA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D56-7A0C-4C26-8B7A-43AD590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32A255-5E4B-4B34-B222-A95161D19A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Box 1"/>
          <p:cNvSpPr/>
          <p:nvPr/>
        </p:nvSpPr>
        <p:spPr>
          <a:xfrm rot="19471800">
            <a:off x="608760" y="2138040"/>
            <a:ext cx="7642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eaeaea"/>
                </a:solidFill>
                <a:latin typeface="Times New Roman"/>
              </a:rPr>
              <a:t>DRAFT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4869695-2395-4B35-BDBE-DA9BE8B689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802.11aq Waiver request regarding IEEE RAC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17-11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574560" y="2492280"/>
          <a:ext cx="7969320" cy="22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2492280"/>
                    <a:ext cx="79693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6"/>
          <p:cNvSpPr/>
          <p:nvPr/>
        </p:nvSpPr>
        <p:spPr>
          <a:xfrm>
            <a:off x="468360" y="209088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AC717AA-D852-4960-A811-7731D2EF08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aiver for no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isfying specific mandatory coordination comments received by IEEE RAC during the P802.11aq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7063D2A-440A-442C-8160-F527482FE1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44680" y="8377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802.11aq ballot resolution committee has decided that satisfying specific mandatory coordination comments received from IEEE RAC impedes the utility of the P802.11aq amendment*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pecific comments from the P802.11aq sponsor ballot are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3-8 (9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5 (11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6 (11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7 (11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6-9 (12009) (yet to be discu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described in &lt;comment_spreadsheet URL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EEE-SA Sponsor Ballot operations manual: (Dec 2016) section 4.2.3.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7-11-06T10:22:18Z</dcterms:modified>
  <cp:revision>1900</cp:revision>
  <dc:subject/>
  <dc:title>ISD 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431529251</vt:lpwstr>
  </property>
</Properties>
</file>