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7"/>
          </p:nvPr>
        </p:nvSpPr>
        <p:spPr>
          <a:xfrm>
            <a:off x="5287680" y="9000720"/>
            <a:ext cx="925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8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83E1A0-A15B-45BF-8645-F261DF3B3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4674600" y="9001080"/>
            <a:ext cx="215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114AA0-73B7-4CEA-8926-DCCEE8429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Date Placeholder 4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ooter Placeholder 5"/>
          <p:cNvSpPr/>
          <p:nvPr/>
        </p:nvSpPr>
        <p:spPr>
          <a:xfrm>
            <a:off x="4674600" y="9001080"/>
            <a:ext cx="215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638A7E-21AA-4466-A06D-825D8366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Date Placeholder 4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ooter Placeholder 5"/>
          <p:cNvSpPr/>
          <p:nvPr/>
        </p:nvSpPr>
        <p:spPr>
          <a:xfrm>
            <a:off x="4674600" y="9001080"/>
            <a:ext cx="215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02F504-7313-4055-9EE9-85D1B35C7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163-EFB0-4137-A6BC-00BBAAEA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18D-D298-4E5F-ADF0-B84BF52D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9E4-D883-4FDA-ACC3-AC8F68DA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E6C-C011-4B3A-8AC0-8909C851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AD59-6ED7-4B38-984F-E75CD5D6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C7B9-20A9-40A9-B04B-E48FABC3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75D6-2D0B-434B-B9DB-2DE039BC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719A-BF3E-4D5D-9A00-8C56DB53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A920-A0AD-4AFD-ACBB-8693AF46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0222-3631-4135-B88B-83E97217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007E-3460-447D-9636-BE79DD9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370-48F2-48AF-BEE3-AC73E334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664B-9AD7-421C-B2B5-3E0CF81D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4241-78F7-44EC-8917-9287D8F8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7B3B-CF06-4B04-A14B-9B3A7889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530A-D57D-495A-A377-7743EAE0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8B4D-17FB-44C6-BD14-702DB99E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B754-256F-432E-ACBA-AEFF5AB4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63E95-71B9-4542-A66E-3F290E44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D3915-93AB-4972-BB1B-BDC72B7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6EFD8-FFB1-41A0-BB0A-EBC04054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6940-6E1F-4047-AED0-C34C1561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989-28FD-4F75-B071-A4CBD03A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2789-CCC5-40DC-B151-9F68E88B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6378-423D-420E-BE87-7A1BAC68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81A2-9815-4FE8-A928-5D48E043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8DB4-F0AA-43A2-AFB9-52A94F29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12AA-F001-4C49-A1C7-370C0D6E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EE5CE-AC2A-4D90-AE59-8F9EDD83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8FAB-394F-45ED-968E-EFCDF9EA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9544-4779-4387-B99F-692BBAC6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03ED-56DC-4E13-9899-1ED2EED2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34ADD-6D91-45DF-8D45-CB1460A4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4C7-A74B-4899-93DE-AD7F4D8A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DE68-F5AD-44B9-A7A0-0566E621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1219-8C26-41AC-8D41-A402E407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FDAE8-137F-48B5-A9AA-5F89D563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58DB-2803-4C74-82A3-9EA26007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4B47-5DF8-475B-9431-E204B5C0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E5C3-1319-4121-9816-962CCDB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64D9-BA3A-47AF-B6A5-E9353C0F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1C198-8941-40AC-BB40-5A3A9DAA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9C8B-21A7-4352-A3C9-B7CB4553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B602-F593-4E69-BB61-FD5D60EE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9B4-31A6-4186-A0BC-75286B02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2F2F-F11C-4F50-838A-71D74BC4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BEBB-ADA1-4E8B-94DA-B121954C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3DAEA-2DFB-4509-8197-53C5BADC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76752-EEBE-407C-8AF4-A27C86AE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B2A1-CC3F-4FED-BADC-1E2A604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741C3-84E2-49CE-A8A4-13F40A5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6C90B-6588-4888-A382-C0B7F6C4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77292-5941-40B6-BCC7-41323C56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2D20A-AB14-4F7A-B266-B675DE9C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CDC90-B779-459A-A2FA-F539000D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182-464A-4C42-A797-89CA76D5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ECB9-2D39-4A48-B000-EC87433A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8B5-1322-4C5A-A1B2-62E0745A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CAD-7783-4A6C-9439-4DBE479A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82A-6508-4E2A-9D3C-E0CE6A2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CD3728-FE97-4C5C-A04C-BD7259F68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4C03-002F-4653-9BF3-6E1A96C26B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912C-D024-48BF-AF02-EE49ACE87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1050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829560" y="6475320"/>
            <a:ext cx="17143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6642E5-46BD-4E11-A950-6A0456B4F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993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829560" y="6475320"/>
            <a:ext cx="17143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75FA0D-A995-4435-BC94-2A32D67F5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7/11-17-0914-00-000m-revmd-wg-cc-comments.xls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2D94B00-928E-43D4-A67E-9CE3AD16D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d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June 201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7-06-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Object 11"/>
          <p:cNvGraphicFramePr/>
          <p:nvPr/>
        </p:nvGraphicFramePr>
        <p:xfrm>
          <a:off x="754200" y="2967120"/>
          <a:ext cx="7299360" cy="245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967120"/>
                    <a:ext cx="72993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45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ank you to Adrian Stephens for generating the initial TGmd comment database and repor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ank you to Edward Au, who is sub-edi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866FCB-60ED-419E-A88B-F5841C127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96960" y="9428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FA79A5-F88F-4058-9088-89F89E074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Object 6"/>
          <p:cNvGraphicFramePr/>
          <p:nvPr/>
        </p:nvGraphicFramePr>
        <p:xfrm>
          <a:off x="795240" y="1981080"/>
          <a:ext cx="70534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981080"/>
                    <a:ext cx="70534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320840"/>
            <a:ext cx="77724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raft:  P802.11REVmd D0.1 (members’ are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G Comment Collections (CC2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7/11-17-0914-00-000m-revmd-wg-cc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2CA380-7330-458D-91C8-93DD269D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9760" y="609120"/>
            <a:ext cx="8200800" cy="6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D0CB8D-02EF-4EF0-B52C-F441424CF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838080" y="1246320"/>
            <a:ext cx="73152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 Ad-hoc Group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34B6E3-57C6-4E3E-8C84-0B731A7CE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" descr=""/>
          <p:cNvPicPr/>
          <p:nvPr/>
        </p:nvPicPr>
        <p:blipFill>
          <a:blip r:embed="rId1"/>
          <a:stretch/>
        </p:blipFill>
        <p:spPr>
          <a:xfrm>
            <a:off x="1576440" y="1851120"/>
            <a:ext cx="56624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emily.h.qi@intel.com</dc:creator>
  <dc:description/>
  <dc:language>en-US</dc:language>
  <cp:lastModifiedBy>Qi, Emily H</cp:lastModifiedBy>
  <cp:lastPrinted>1998-02-10T13:28:06Z</cp:lastPrinted>
  <dcterms:modified xsi:type="dcterms:W3CDTF">2017-06-21T00:09:12Z</dcterms:modified>
  <cp:revision>1361</cp:revision>
  <dc:subject/>
  <dc:title>802.11Revmd Editor's Report</dc:title>
</cp:coreProperties>
</file>