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AEAD0D-E7FB-4A5E-B9E8-32E571326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674600" y="9001080"/>
            <a:ext cx="215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910274-81FF-49A5-B7E6-0072CE47D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Date Placeholder 4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ooter Placeholder 5"/>
          <p:cNvSpPr/>
          <p:nvPr/>
        </p:nvSpPr>
        <p:spPr>
          <a:xfrm>
            <a:off x="4674600" y="9001080"/>
            <a:ext cx="215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4F2C27-A57B-4A62-84BB-D6894AD0A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Date Placeholder 4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4674600" y="9001080"/>
            <a:ext cx="215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B51132-BCA4-4D5A-8548-4B3ADAA3C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89E-12BE-4DB3-A2A7-0DA0725D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B5D-616C-4CAC-BE93-B47A52E8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6DE-7F46-4E4C-A513-7E3912AF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C1E-EDF9-4A81-A2F3-A2DBBE27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EB47-8A20-4CD2-B965-6BB56D67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90CD-D612-43D9-AC1D-3A120760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D992-ED51-41B6-BB5B-6DE99635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62F7-C5D2-4BA2-A626-6C71A2A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6DA-426E-40B9-B179-5F6C14F3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C8E6-10E4-49BB-B416-4DF5E0A1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69D2-392A-404D-86FA-C0903FA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87C-E2A9-4AE0-924E-8A5519D3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A9A1-AE18-4445-94A1-0C41E4EB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0265-A2B3-4C0F-82A4-6FB695FF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C97A-8BA4-4E29-AA6B-52C33629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F0AA-15EC-4048-9955-F32F0879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EC2D-8EAC-4BA3-BEFA-8B2FF0F8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8F6C-BE87-4770-85B6-323FA1BC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8114-BBC1-479C-8C24-1EDCCE64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AED72-53FE-4773-81E8-6F980979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D10F-7169-49D8-90D9-AD99B70C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BDA3-F361-48B3-B270-4E32F6B1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A0D-C33C-4570-B7B8-4D4C8BD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448D-C063-41B2-BB65-A1984490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0FCB-5834-4CF7-969F-A666237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0828-B307-4A93-8B5B-D086BA78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8A38-FB46-4E99-93DF-D6395E23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879D-2CAF-419A-8EDC-48D3DF8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9E8E-A256-4B8C-9281-DD364736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5C64-6834-49C7-B520-D07AE661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6CA7-4958-4F15-959D-2C9E7485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8D0EE-6832-4DF2-BCFA-5E94E35B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5F63-BB35-47FE-918F-9C9124C5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0AF-44F4-447E-9B3F-A71B37E6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5DDE-1E06-46F0-884E-941B05AE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1E1A-913B-4FFA-902B-FDD0C1A3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AACE-8F2C-45C2-999E-CB624E0C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44EF-7B9A-4A4E-B2FC-360E941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157B-E496-496D-990E-2292A22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CC66-0A8E-4D34-A18E-D376AB8F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B5E0-F040-46F8-9239-003475AD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5BBC3-9946-40B7-81C6-7166E378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BA22-B92A-4CDE-A7DE-184BA22B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4FD2C-90CB-4DBA-9393-67F861FC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E46-32EB-4006-9F35-E654ACB6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4EA85-080D-497D-B595-2D52A15F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2D71-B8BA-4C8F-9188-571565C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E1423-FE2C-4682-B8C2-51A0756F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1AC7-AAAF-41B2-96BC-27C4DD96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758F-A5AF-4A54-AC32-4B55C82C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92E8-C9B7-4CDA-BD71-272E795B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ACE22-E763-4CA2-94EB-ED9FC544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8AB80-8D9A-40C8-9345-F90AE93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6A16B-5C56-42F0-BDE5-5539481B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0E49-6F10-46A6-A3D3-F5903408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3A0-EE23-42BF-83D0-572FA7FE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7F23F-04D0-42DF-A925-956988FC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DB2-77A7-4707-89B5-B737F575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8D0-E01B-4693-AF1D-C616E7F2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126-8DD5-45DA-B634-A73274B7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26350A-5A6B-4315-B821-3F8DF3DBC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2323-5267-424E-B99A-8FE47F818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2CBD-C693-4CFF-92E6-50E292E3A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1050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829560" y="6475320"/>
            <a:ext cx="17143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28D2D4-F890-458F-8F5D-E88D6049E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7/0920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9936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829560" y="6475320"/>
            <a:ext cx="17143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C94D25-37DA-48AF-A2B7-98FF27A78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7/11-17-0914-00-000m-revmd-wg-cc-comments.xls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656C1E-C9C6-4CA0-AFE8-AEF2BCEAB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d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June 201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7-06-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11"/>
          <p:cNvGraphicFramePr/>
          <p:nvPr/>
        </p:nvGraphicFramePr>
        <p:xfrm>
          <a:off x="754200" y="2967120"/>
          <a:ext cx="7299360" cy="245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967120"/>
                    <a:ext cx="7299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45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ank you to Adrian Stephens for generating the initial TGmd comment database and repor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ank you to Edward Au, who is sub-ed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39B948-3557-4F6D-B7BB-3657A1125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96960" y="9428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1B19B7-2231-442F-8D9B-4B25A50EB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Object 6"/>
          <p:cNvGraphicFramePr/>
          <p:nvPr/>
        </p:nvGraphicFramePr>
        <p:xfrm>
          <a:off x="795240" y="1981080"/>
          <a:ext cx="70534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981080"/>
                    <a:ext cx="70534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32084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aft:  P802.11REVmd D0.1 (members’ are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G Comment Collections (CC2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7/11-17-0914-00-000m-revmd-wg-cc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3CCBD7-0B09-45AE-85B6-6FA9DD431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9760" y="609120"/>
            <a:ext cx="8200800" cy="6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D1C0BE-16EE-4D22-ABBC-48285D1F4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838080" y="1246320"/>
            <a:ext cx="73152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 Ad-hoc Group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7297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6839640" y="64753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y Qi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FD2202-13E1-4DFA-AB48-B7587149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1576440" y="1851120"/>
            <a:ext cx="56624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emily.h.qi@intel.com</dc:creator>
  <dc:description/>
  <dc:language>en-US</dc:language>
  <cp:lastModifiedBy>Qi, Emily H</cp:lastModifiedBy>
  <cp:lastPrinted>1998-02-10T13:28:06Z</cp:lastPrinted>
  <dcterms:modified xsi:type="dcterms:W3CDTF">2017-06-21T00:09:12Z</dcterms:modified>
  <cp:revision>1361</cp:revision>
  <dc:subject/>
  <dc:title>802.11Revmd Editor's Report</dc:title>
</cp:coreProperties>
</file>