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40557481-C15C-4EC3-B0DE-BC14C221D4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2E1B42-F414-4B76-B7ED-23EA4CD2C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8106EE-679A-4F85-A4E9-03F0EF477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0CEA93-9BFA-40A7-8899-C3AC4EF4A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99EEF5-BEE0-4436-827E-1F236AFFB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D59258-099A-4D11-A0B5-576F37A18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11FD7F-D486-41C3-A015-43D7633AD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EF2951-0333-4454-BB37-BAA488A5E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B3BA8C-EE97-44DE-8F9B-E7953DD2B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9ABFB4-6E47-4093-BE45-287A5E524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95AEA1-00CB-46A9-9BFB-461263892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3069D-07B2-45F7-B0E5-B40D5B264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8147D-BA7C-47EE-B821-679BE810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2EA2E0-1C27-4728-8813-F62068BB69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6C530-7336-435B-8013-788728BB4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C793F-E6F0-4267-A46C-ED39B67B09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68DCC-D687-4883-A0FE-5904381BD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0AE1F2-F990-431B-B108-34321DE16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1DB3E-BABE-4661-AA85-8ACD535CC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2E84F1-14C2-45D2-AC43-0B994495BA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9F5F50-06B7-4FD7-8F12-EBF6B0A538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F37945-40BA-499C-8299-D556323318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E08EA4-3E03-4266-A2BE-29A41598D9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A9899-37CD-4002-85B1-C61EE52F8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112E40-1446-4738-AA5E-238FFA27F9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DDC196-B561-46D7-AEE1-C962F66F6A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1B0BDC-86D0-4654-B076-D715034AED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666F66-7458-4F9F-9060-F080A3E33F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94CF1F-1C02-453A-BD0A-ACA625ACC1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FC6685-D341-48B2-9D13-5749A1521C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83421B-BCB7-459D-84DB-1AFD761F35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9DC953-577B-4CD4-9475-16EEC6E9A4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E50D09-B060-409A-B626-ADC141330B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E156FA-360A-4134-A128-A10FA09BBC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01A97-940A-4AA5-B95A-00D49CD2A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28E3F0-B064-4E55-8A19-CECC69E824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B64DD2-CB52-4FB3-9C75-31D3AB4A2B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C3C8EA-541D-4193-A7F3-C3136FBFA3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BAA6B6-FDA3-4232-B63C-187C5083F7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68E601-08A4-4F78-92BB-DB7F84C48C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3E351B-698C-4986-95C6-D7C5A682C3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8187B5-F782-45E5-8A71-0C73479C30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C9DD00-0B51-48D2-A12F-A3F1EDF194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45A8E6-DE13-42FF-82FD-596C476571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AF0E86-0D52-4835-BD45-5378F7B48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DED935D-4A63-4ECB-B748-ACBAFD4F5B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674DA0-D739-408D-A30F-C293D34CD5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E2AE19-8C53-4CBA-9C8C-7919AA20F9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C6F5B8-8C30-4242-AB88-BD169D7764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EF4630-D3EC-4483-AC81-3801C6D8BF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EB5709-5C2A-4710-9B07-B6F48C6D4D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09A4B1-C576-4F5D-8F4D-E04BDED64D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713C02-F57B-4AA7-A0E6-EB7D7CA8A9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82ABAD-1DE3-4DE6-90CA-8972495E3D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545158-7119-4E59-BFB1-78DB2BF6B4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B8AFC5-4DC2-4CC4-AC73-27810F197D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81F27B1-450B-48EB-BB7D-5B03E7BA75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F810E3-40CF-4A47-9E1F-016A758D4C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85C174-C49E-4663-A954-8CF2BF5C17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F0CD78-D23D-45F4-A3F8-92D6216624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DBBF3F-13D6-4D9A-8E82-A95E1F006A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1CC9DF-556D-40DC-BA63-760C884CF9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776BF11-867D-4987-B994-0F2DC8A371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9EAE9B0-7B2D-4F6D-A46D-2C8AF5D80F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B03680F-7354-4F28-9E81-1051EF0B21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BBB67F8-8563-4DB8-982C-5A4F01DE3B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F077135-C8C2-48CC-BC88-179D2017D3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863A0-F813-45BD-BD11-D0FC411F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1A762F8-205D-46A3-8D58-F1D93D32F7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A52E149-4A95-4115-85EB-BE829C27D6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BD32AE7-5F1C-4F1C-B5EF-7C5FF3F64B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EEFE40A-3E40-439B-802F-071B32F18D4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BA79F71-40F8-4285-A641-A9D7E814DC4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25AB7B-ECF1-498C-8559-CCAD86B381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99A83-0D60-4338-87E3-D4D015758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F3FC5-845A-448E-B228-B8BDEF1D2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F319A-B960-4DDC-AF65-FF1CE09AB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5E7D2-A26B-4C9A-82B1-9B072C38B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0F7A-F9AC-4748-B6D1-3CF24D8C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17730-4962-4D48-8C97-46CBBDD6F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3AC45-B61F-42C3-89FC-4E6CB91F2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F8D59-44E9-4B11-9329-67FD0D8B3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47D7A-F01E-4D25-AFB2-68B41E8A5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29005-187E-4708-9DB1-AECAD6EF6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8D40ED-4EC0-40A7-B592-4BF49DC93A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657DA6-D8C9-41A5-978C-7616798B5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FF9357-D421-4B35-B77C-3B852EBFE7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F726E-484B-4419-A0EA-72C24580B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A4315-C95E-4B10-90B5-045DC57C1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29ED-B7A9-4C0F-B415-BE716DC7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6BA45-D96A-4852-8803-B0BBDFA3A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10ED0-5E68-4B78-9465-B8461BF6E2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15FB02-2009-43C6-82AF-DA5D40A22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8E9BF-6AD6-45DE-96B2-4FE429A6F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9FE74-7393-429A-9653-9CCBAF6C0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32653-659F-4B95-8604-FCA04FFD9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A6011-A216-4643-B154-93A91CA86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C2B89-1183-47E6-B74C-6A0ADD5396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E016CE-E751-4D26-B9E7-3E63B2D794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FE9CE4-275B-4B9E-A935-9A5116A01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D0DB-D6CC-45E0-B537-1154A1A56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D2059-CD1C-48C6-A06D-D9B8258F8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ED5AF-0940-4FD8-8A57-CF073569E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429F1-4180-4792-8F19-21252AC73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37507-86B3-42A0-9AA1-F73D20957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E3D8C-D100-41E9-A5E9-61092ED0C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71111-83CC-477E-9E18-84AA88DE2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6458B-11D0-4D70-86D0-33AAF3025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927DF3-3504-4BEF-B580-538B1A7CD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18B2E-F1B5-416E-87A5-D04AB638B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9E4DFF-1AAC-4417-8269-A021B6A22E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C26E9-6D5E-4C76-87A9-ABE5FCFD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5C4E5E-DDAC-4BE2-8051-785B238A78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7C68B3-D1C4-44C8-920D-A2182BBB11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9C379-7A9C-4D07-B218-9DFAB5727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C54751-8542-4D67-A351-A3DC3753F1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F3A60-6936-4D86-A353-7A018CF2D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709B00-3E66-426E-86F5-535A5AB25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10483-A5FF-43C6-BC6A-C4762CB82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25EBC-5087-4A40-9AA1-DD3A9AC8F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733B0-FF1D-4EEA-89FD-CF85C0398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626F4-3820-4571-9136-1DC3F20F0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F7432-6461-46FF-A250-7895F180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D2715-AB4D-4E80-A0CD-ED204F971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359652-C321-4446-8167-15EE8A642C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2C87BC-CA06-4C37-88F0-80C2D7F72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1370D-443D-4F0B-9C85-681D742FBE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DA65C-5DBF-4A31-B01A-E3DB1673D6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F78EE-2EA4-474B-BB18-B858CE1F8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0B4943-39C4-4859-9671-0203451C56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D3377-B952-4001-BE5F-7726F1DEA0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E42B12-CB42-43B6-BB44-A97DCC6D9E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659A1-5A0B-48D1-A5BD-C30E7EA87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E504-D48C-4FD8-8084-03737DFF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1FD37-9534-43AA-988B-3EC75F3E9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910D2-B71B-4436-868A-DDF79C7B0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B2B11-4D40-413D-844B-381024B11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76952C-23FC-44FC-A4C2-F904D30DC7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C43EC9-F9ED-4482-BFDE-C9B1229FC2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F07FD-58AF-4F94-9609-49A296254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C3F70-7033-42A3-9DFE-B09B829A5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F040B-8B90-49A7-A3D0-416E7DFD92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04E3A8-172A-4875-940D-B031515A4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65EE6-A7B3-4432-BE33-B4DD57293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7FB3-0A54-4F52-A94B-25787CDC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F70A8-72D3-42C4-B028-B195009F5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696483-973F-4B1D-8814-18BCBDCDF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DCBED-4579-4770-86EF-ACE2A6D8E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2521F-9BF5-4165-8268-7262FEA9B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6FD8F-1065-42AD-B3F5-AC885C473D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E56F9A-53A8-4399-9979-02999A7110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2D9F96-D396-463A-BA52-C2F707231E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169144-7C43-4220-A8A3-08F1B225E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7D47D-26F2-4E60-883F-CD600AF681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7B558-A524-4414-A382-3B5F99295F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AEE4503-DC58-4F5C-A739-BBDD5137E9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DD4523-9AD9-40D6-9A34-F64D537EA7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0D9F9F-D7B0-4A2D-8F42-8CD693A2DD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15E4C27-B085-4E4A-8EAF-BE99FD3C09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D74A41-B839-4EB5-8647-F8C64E6231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0FC018F-C548-44CC-8575-F53F344931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793E30-878F-43ED-B367-F26BF05D39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FA428B-0B4D-4532-823C-CE300BE28F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04F028-E95E-4C55-9A7A-81541308D1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92078F-FE86-4FC8-94C6-72A2FF3E25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36BD85-99D6-41CE-AB6E-CBF682AEB3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55EA0C-700E-45D8-9E77-4E027719B8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C5B2E2-EA93-49F3-9383-A7C375DCC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teleconference June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6-16</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2EB8A3-9EE9-41A7-B50E-C4B008365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teleconference before the Jul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F9834E-7D50-4990-817C-0EE91D543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536343-BCBE-42B9-8B65-ABC2A3094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47581F-1B53-4B27-9C1B-2DD416CE9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412503-B7D6-43C3-9AAB-A4430B310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FB5066-6355-4A73-BB01-CAABA0063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5C8F27-2054-487E-A0DC-B9E8B791C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the comments against the draft TIG repor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c. 17/0901r0</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the proposed Agenda for the May Session (doc. 17/0888r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next steps and conference call date/tim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99A84C-C5D2-4D12-BDFE-544C99E9F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April 2017</cp:keywords>
  <dc:language>en-US</dc:language>
  <cp:lastModifiedBy>Serafimovski, Nikola</cp:lastModifiedBy>
  <cp:lastPrinted>2014-11-04T15:04:57Z</cp:lastPrinted>
  <dcterms:modified xsi:type="dcterms:W3CDTF">2017-06-15T12:56:20Z</dcterms:modified>
  <cp:revision>3776</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