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FC3DB94D-FE16-4541-A378-D37081F259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8E6567-8F8A-408A-9FB3-D8EB53784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5F3454-6C58-443B-83D0-30CFB6C99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54160" y="701640"/>
            <a:ext cx="4626000" cy="3468600"/>
          </a:xfrm>
          <a:prstGeom prst="rect">
            <a:avLst/>
          </a:prstGeom>
          <a:ln w="0">
            <a:noFill/>
          </a:ln>
        </p:spPr>
      </p:sp>
      <p:sp>
        <p:nvSpPr>
          <p:cNvPr id="6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817045-044F-4FB1-849A-5F84F896E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54160" y="701640"/>
            <a:ext cx="4626000" cy="3468600"/>
          </a:xfrm>
          <a:prstGeom prst="rect">
            <a:avLst/>
          </a:prstGeom>
          <a:ln w="0">
            <a:noFill/>
          </a:ln>
        </p:spPr>
      </p:sp>
      <p:sp>
        <p:nvSpPr>
          <p:cNvPr id="6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1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F32A15-6075-4581-89DA-C76426027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57EEB9-9E11-41E4-ABAC-13E55676E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54160" y="701640"/>
            <a:ext cx="4626000" cy="3468600"/>
          </a:xfrm>
          <a:prstGeom prst="rect">
            <a:avLst/>
          </a:prstGeom>
          <a:ln w="0">
            <a:noFill/>
          </a:ln>
        </p:spPr>
      </p:sp>
      <p:sp>
        <p:nvSpPr>
          <p:cNvPr id="6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AEF3E0-F7A6-46F2-BDF7-F690C5A12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701640"/>
            <a:ext cx="4626000" cy="3468600"/>
          </a:xfrm>
          <a:prstGeom prst="rect">
            <a:avLst/>
          </a:prstGeom>
          <a:ln w="0">
            <a:noFill/>
          </a:ln>
        </p:spPr>
      </p:sp>
      <p:sp>
        <p:nvSpPr>
          <p:cNvPr id="6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3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26C21D-F181-4BB6-A010-3A477DF24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39"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40"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4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6B5385-D64C-4470-8705-2EF339C11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701640"/>
            <a:ext cx="4626000" cy="3468600"/>
          </a:xfrm>
          <a:prstGeom prst="rect">
            <a:avLst/>
          </a:prstGeom>
          <a:ln w="0">
            <a:noFill/>
          </a:ln>
        </p:spPr>
      </p:sp>
      <p:sp>
        <p:nvSpPr>
          <p:cNvPr id="6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54160" y="701640"/>
            <a:ext cx="4626000" cy="3468600"/>
          </a:xfrm>
          <a:prstGeom prst="rect">
            <a:avLst/>
          </a:prstGeom>
          <a:ln w="0">
            <a:noFill/>
          </a:ln>
        </p:spPr>
      </p:sp>
      <p:sp>
        <p:nvSpPr>
          <p:cNvPr id="6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0ACC08-DC5A-467D-8AA1-CE2232799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5832FA-AB76-45D2-AB2F-B2A19A917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3FC75-3D26-4E96-ABDF-56EA3CF4B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23A57-C07E-475A-8AD1-A0AB81BD8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2FE0DC-4A5A-4C5F-9DA6-F9A02374DC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1D44C9-3CAD-4358-B13F-957B230944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59F681-5333-4A0D-BB53-466B1BD3F7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68EFB4-D229-4523-AF2B-CDAEB4D19C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E9A418-77FE-4CE1-ADFD-B4A7F1B21B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F130E0-5AB2-4A02-9D24-285B57EDF7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3E9012-35AC-41BB-942F-780EB0FB85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5B6A7A-F50A-4190-818A-B5922C9DE6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3A703C-C2EC-4390-91C4-B3074CE6C6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AC838DD-5BD6-43F0-B924-A5EA68634C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DE0CC-AE4E-4D9B-BE1F-A88665D10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4156C1-7B51-4803-AD53-5D7D9B0676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549C32-5DEA-4C3F-AB42-BEC3E1924B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60F302-0440-4A1B-A7C6-FF94606565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A99DC1-EBF2-4A83-99D7-582F2EE760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8DA3BC-6A0F-49EA-B2CB-D8628CCD3D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4A1084-3C7E-4E52-B977-F89776C738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6738F1-0067-4FBA-B7AD-ED994B6BAE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56ED2B-68BC-4B56-AABA-CB04F80107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A2A12B-2F1D-42F8-9D6F-E6E91F5164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255132-7A14-4617-8818-83AC9FB004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F99C5-D9E2-4F72-B6EA-D89EB7D95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E1461F-95AD-4334-9B99-8CFCF163D7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92B783-40AB-45A1-8F3A-A4B6F2A338C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55A55A-334B-4B71-AA9E-9577D7ECF2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4F63C7-D091-44C0-A9F9-13B705EB16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26EEBD-9F31-4523-B029-958CAE1B9B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B81635-3F41-40E7-9262-8B637B40EB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BCBA5E-B5E1-4CFF-8C73-A891A0D381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852A0F-86BA-4F15-9573-2DED111B1A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240F29-41FD-4AB9-A709-797A53C8A5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94775B-5CE5-4969-B18B-68220AC092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6822528E-243C-42A2-8DC9-31CE1D4EA97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5FAEFB-DDF4-4E3A-B2C3-C17EE26530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2A6EC7-3627-4418-8B97-7B6D021B66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5677E4-AD8B-4387-8DFF-9A683DFD7D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F449A78-6150-41F4-B850-16BF0F1CB2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EBDCEB-717B-4250-8CC3-A4E5F56F44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7CE0D0-D276-4CC2-BD09-AC67DE0F43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2A6D8B-E0A1-499E-B3E7-446AE77EEB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9FF23E-29DC-4145-8173-B3748FC2AC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B13171-8649-4A73-814D-1EF4D1694C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BBD497-CB20-4CF1-B9A3-205577491C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6963177-4FAD-4179-82A5-2059ABD9BF9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8D9036-F960-45E9-9B5B-A22FFC6A36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DC90EC-8CA5-4451-9647-476F3205D3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628BBD-3E6D-4849-9A9D-26435D4B11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512F50-3ABC-4342-907B-4D6B4F985E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72C605C-91DD-456C-85A6-60A76CAC0BA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9C1570C-B74A-4004-9F1F-BAC42B7DD2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F7B9CC2-F162-4B0A-BC8D-3879C6DF9D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07609F1-DF68-4B2F-BBF5-D4920D624B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F7A1F3A-FE88-4E70-9ACC-BCCEA7A1D99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21D4B73-9F62-4D0A-A400-5344EDF7F36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73AB0-B5FD-4B0C-9A1B-9762B95E2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13AABE7-D37E-45A7-979C-1788E5A772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DD209DF-90E2-425C-BE95-0E9157E0695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7B2E89BD-105E-4562-9CE4-167E9B56FB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78836F4C-9E71-418B-A7EC-AB9A49AD1A4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4A11EE7B-B458-490B-9221-41C2BA72D26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7CFC18-EFF4-4B09-B798-76B522BC5D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9F4D37-081D-4F1A-8117-4DE8AB191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FD1F3-C6BF-4AD3-92C4-657D570AE1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EB93A6-B249-4AEE-A46E-DC1C7360C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BD22B-B15D-49AE-A1E0-F00AA2D4FE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EBAAF-FD48-4150-A3D4-0C2B7298A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E42A0-AB63-4E93-955B-E1B0D331A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5B3F5-6FDC-4BC0-930A-8D4155BD0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A0E74-B9A8-4C93-B57E-4D84011E8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2CDC7A-4ACB-46FD-8024-B90AD2BDE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6C6AF-D8BC-482D-8D02-A0644BB22F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72DBE7-279F-4688-8643-826E9A594F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1C3347-D7A7-4930-943F-E529019C00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B58F20-F0AE-4B33-85F1-B7F6A1A2CA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4992E-AAD1-4BF0-81FB-FD9DCF884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9C1155-7F65-48D8-ADF1-683E82C48D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657F3-2EB8-4104-B5E1-674721B29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88201-B5A9-4986-84B9-B8AD24C06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2D004A-FAF6-422D-9883-1C8EEE9310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A08FFD-3D5C-4C1D-AEC1-FC92B797C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A40D2-4496-4372-884F-6ED613E32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30B00-F75A-40FE-AF3F-EDEE544E9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1CE74-0856-415B-83EB-AC932FB80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104E27-ADE1-46F3-BD6F-8957A3777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21881F-B957-4929-9384-F17355CBD4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C1D314-5E9F-471C-80BC-255AF03596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6C7D84-C0EC-4C50-B7BC-043209AE52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E12E9-2E37-4EAF-B2D9-F75899669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19404-5C2C-4FD1-8081-0EDEB3956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B9FE8-40E6-49F9-AE42-4EAFC97E2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87A40-A806-45B2-84DB-B677584E5C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FB8E81-3B79-4BEF-85B4-A4523B5834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B97FDE-B85D-4C4C-AB21-40BE7B18F2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D347B-429E-4CBF-AA58-9807C1F81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28387-F519-42B0-A3C4-215FD90B1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7A7C8-AAAF-4537-AC5F-57C0AFD45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12C90A-3EF8-4ABF-B6A7-086EFA4DF1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E47D21-93F4-473A-8AAC-054563800A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5C2FC-AE98-4DA4-AC39-B52337E5E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7FB773-AE9F-47AA-A305-50BC433264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BDFC3E-7AF6-486E-8E80-CAD7D7523E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166AAF-73FC-441B-ACF1-9B0714003F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D55DE2-A6B3-49B9-A786-1922ECA9D3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8FAFD-31F5-4471-82C5-FF6542385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1D8F3A-6146-41D0-B9D8-20D6EEBCBA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D0B93C-F7B0-445B-BEEB-851CBB9438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4060AC-C79F-4701-9CE5-478E59456A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E92C6B-4439-4448-81DB-9E4368B1A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B8D3FC-4663-4141-BBC4-15CFD1489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238CF-31C0-4EC2-B8A3-9AF3B07D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982C6-DEAF-4D95-A848-801EC0B803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38BBCF-113C-46C2-9750-51CC4868AF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B19611-229C-4113-962F-49E79E99AD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DA2D93-8952-4CFC-9206-F90F33E16B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38A09C-A72C-4FC9-AAAB-6283C69C7E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8C893C-A5E1-4B8E-9BCF-74DC28ECC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D25F81-3C09-4E12-99F4-FDAB78A072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64B67D-ECD8-4AD3-884E-7211EB67AE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60A701-06CA-43FD-AD9E-2C563F2D50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933D8E-5493-4708-B935-FDE31DE16A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3B0F3-0120-4DD6-A243-67648D4D4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12A8A8-47A4-4FA1-AF86-EC49E354A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94B07F-9B31-495D-9FCB-7564CF734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8042C2-0182-4D05-A14A-2332A8B36C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99A2C1-6A96-474B-B5A8-406E990C6A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60E802-6A38-46DF-A1EB-08CD315BF2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2EFA69-13B8-41BA-BFA5-F4D8118C11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30E401-CE07-476D-A95F-CADA1E9DE6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F5F120-1B2A-40FC-AED8-91F87D4FD0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93AB60-0104-4C41-81ED-ECE7D6733D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E9B1D2-8933-42C4-B8B2-9FDDC52CC8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28877-1A15-4328-82F0-9A2834BC7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AC2645-D043-471C-9DF3-F56171130B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5AE7A7-3B1C-4BBC-A97A-1391BA83A9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A2B050-5FDE-44B4-81BC-E95ABFD32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F5D774-065F-4D77-9ED1-5A50A08E7E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13A07C-5252-4BD7-9FA6-9C171EA21D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294127-B2FD-4405-92E0-7DD6C39011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8B4FE7-D4F3-4CE6-9A37-780A81EBF2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0CD695-44C0-4E54-95C5-A0B68E786B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8FB64C-8F47-49FF-B769-CE9E42689E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3A45F4-7C15-4DD6-8187-B6151BE627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997F828-CCDE-4370-88EE-BAB3A45CBC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D38BD65-AC72-47DF-A68E-2E67C2CB26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751BA93-B9DE-4566-AE51-D3EC3F5F9F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E71CF21-C689-4C94-BCB7-837DDFAFCF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8A3FE43-1779-482E-B0FB-707A4D9C3D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3A2FC0E-A6F6-4B88-B46A-7E68F7A6CC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380A9B1-B341-471A-B4CA-FFE09BAB9F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CA2EEB2-5686-4677-91E9-DB7E4F76CD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3E7BF17-8F5E-4B39-855C-55A4656662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5BD9BC1-2964-45F6-A21C-16EA5CC747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2E0BFAA-CE6A-45EF-8EF3-FB402F8A15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920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911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455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FEB2760-C7F4-479E-A631-E3A6823ED2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mentor.ieee.org/" TargetMode="Externa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C62673-613C-41F4-867C-756A39418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Topic Interest Group teleconference June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6-16</a:t>
            </a:r>
            <a:endParaRPr b="1" lang="en-US" sz="2000" spc="-1" strike="noStrike">
              <a:solidFill>
                <a:srgbClr val="000000"/>
              </a:solidFill>
              <a:latin typeface="Times New Roman"/>
            </a:endParaRPr>
          </a:p>
        </p:txBody>
      </p:sp>
      <p:graphicFrame>
        <p:nvGraphicFramePr>
          <p:cNvPr id="555" name="Object 11"/>
          <p:cNvGraphicFramePr/>
          <p:nvPr/>
        </p:nvGraphicFramePr>
        <p:xfrm>
          <a:off x="671400" y="32446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3244680"/>
                    <a:ext cx="9126720" cy="1175040"/>
                  </a:xfrm>
                  <a:prstGeom prst="rect">
                    <a:avLst/>
                  </a:prstGeom>
                  <a:ln w="0">
                    <a:noFill/>
                  </a:ln>
                </p:spPr>
              </p:pic>
            </p:oleObj>
          </a:graphicData>
        </a:graphic>
      </p:graphicFrame>
      <p:sp>
        <p:nvSpPr>
          <p:cNvPr id="557" name="Rectangle 12"/>
          <p:cNvSpPr/>
          <p:nvPr/>
        </p:nvSpPr>
        <p:spPr>
          <a:xfrm>
            <a:off x="685800" y="27115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B67DB5-2EC6-4062-9813-07C0CC1C3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Topic Interest Group agenda for the teleconference before the July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CE67DC-2E03-41CC-8267-38734BE74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DFF866-4929-4940-996F-E8058C687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2" name="Rectangle 2"/>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articipation in IEEE 802 Working Group meetings is on an individual basis</a:t>
            </a:r>
            <a:endParaRPr b="0" lang="en-US" sz="16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Participants in the IEEE standards development individual process shall act based on their qualifications and experience. (</a:t>
            </a:r>
            <a:r>
              <a:rPr b="1" lang="en-GB" sz="1400" spc="-1" strike="noStrike" u="sng">
                <a:solidFill>
                  <a:srgbClr val="0066ff"/>
                </a:solidFill>
                <a:uFillTx/>
                <a:latin typeface="Times New Roman"/>
                <a:hlinkClick r:id="rId1"/>
              </a:rPr>
              <a:t>https://standards.ieee.org/develop/policies/bylaws/sb_bylaws.pdf</a:t>
            </a:r>
            <a:r>
              <a:rPr b="1" i="1" lang="en-GB" sz="1400" spc="-1" strike="noStrike">
                <a:solidFill>
                  <a:srgbClr val="000000"/>
                </a:solidFill>
                <a:latin typeface="Times New Roman"/>
              </a:rPr>
              <a:t>  section 5.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IEEE 802 </a:t>
            </a:r>
            <a:r>
              <a:rPr b="1" i="1" lang="en-GB" sz="14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400" spc="-1" strike="noStrike" u="sng">
                <a:solidFill>
                  <a:srgbClr val="0066ff"/>
                </a:solidFill>
                <a:uFillTx/>
                <a:latin typeface="Times New Roman"/>
                <a:hlinkClick r:id="rId2"/>
              </a:rPr>
              <a:t>http://ieee802.org/PNP/approved/IEEE_802_WG_PandP_v19.pdf</a:t>
            </a:r>
            <a:r>
              <a:rPr b="1" i="1" lang="en-GB" sz="1400" spc="-1" strike="noStrike">
                <a:solidFill>
                  <a:srgbClr val="000000"/>
                </a:solidFill>
                <a:latin typeface="Times New Roman"/>
              </a:rPr>
              <a:t> section 4.2.1)</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400" spc="-1" strike="noStrike" u="sng">
                <a:solidFill>
                  <a:srgbClr val="0066ff"/>
                </a:solidFill>
                <a:uFillTx/>
                <a:latin typeface="Times New Roman"/>
                <a:hlinkClick r:id="rId3"/>
              </a:rPr>
              <a:t>https://standards.ieee.org/develop/policies/bylaws/sb_bylaws.pdf </a:t>
            </a:r>
            <a:r>
              <a:rPr b="1" lang="en-US" sz="1400" spc="-1" strike="noStrike">
                <a:solidFill>
                  <a:srgbClr val="000000"/>
                </a:solidFill>
                <a:latin typeface="Times New Roman"/>
              </a:rPr>
              <a:t> section 5.2.1.3 and </a:t>
            </a:r>
            <a:r>
              <a:rPr b="1" lang="en-GB" sz="1400" spc="-1" strike="noStrike" u="sng">
                <a:solidFill>
                  <a:srgbClr val="0066ff"/>
                </a:solidFill>
                <a:uFillTx/>
                <a:latin typeface="Times New Roman"/>
                <a:hlinkClick r:id="rId4"/>
              </a:rPr>
              <a:t>http://ieee802.org/PNP/approved/IEEE_802_WG_PandP_v19.pdf</a:t>
            </a:r>
            <a:r>
              <a:rPr b="1" lang="en-GB" sz="1400" spc="-1" strike="noStrike">
                <a:solidFill>
                  <a:srgbClr val="000000"/>
                </a:solidFill>
                <a:latin typeface="Times New Roman"/>
              </a:rPr>
              <a:t>  section 3.4.1, list item x</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DFA1A3-3E12-4ED8-BDB3-D410449D3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G Operating Rules</a:t>
            </a:r>
            <a:endParaRPr b="1" lang="en-US" sz="3200" spc="-1" strike="noStrike">
              <a:solidFill>
                <a:srgbClr val="000000"/>
              </a:solidFill>
              <a:latin typeface="Times New Roman"/>
            </a:endParaRPr>
          </a:p>
        </p:txBody>
      </p:sp>
      <p:sp>
        <p:nvSpPr>
          <p:cNvPr id="577"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F2667E-E02B-4884-81BA-10B2A5B0E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82"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49C4FC-2919-4FC8-B911-3A719A31B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0C2C6F-267B-4DAA-9086-8F94B6349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teleconference</a:t>
            </a:r>
            <a:endParaRPr b="0" lang="en-US" sz="3200" spc="-1" strike="noStrike">
              <a:solidFill>
                <a:srgbClr val="000000"/>
              </a:solidFill>
              <a:latin typeface="Times New Roman"/>
            </a:endParaRPr>
          </a:p>
        </p:txBody>
      </p:sp>
      <p:sp>
        <p:nvSpPr>
          <p:cNvPr id="59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the comments against the draft TIG repor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c. 17/0901r0</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the proposed Agenda for the May Session (doc. 17/0888r0).</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uss next steps and conference call date/tim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os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FCE7F9-D4B1-48A2-9568-D9710EE42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5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Date Placeholder 3"/>
          <p:cNvSpPr/>
          <p:nvPr/>
        </p:nvSpPr>
        <p:spPr>
          <a:xfrm>
            <a:off x="93204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7</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April 2017</cp:keywords>
  <dc:language>en-US</dc:language>
  <cp:lastModifiedBy>Serafimovski, Nikola</cp:lastModifiedBy>
  <cp:lastPrinted>2014-11-04T15:04:57Z</cp:lastPrinted>
  <dcterms:modified xsi:type="dcterms:W3CDTF">2017-06-15T12:56:20Z</dcterms:modified>
  <cp:revision>3776</cp:revision>
  <dc:subject>Task Group AY November 2015 Meeting Agenda</dc:subject>
  <dc:title>11-17/XXXX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