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6C3C598-5657-45D8-A9DB-AF13183D5D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5F6F52-4D8A-472F-A0FE-914ECE17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7BD604-BDE6-4891-B89B-6C553E376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218615-0D40-4B31-8BB0-1AC8D58CF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AC64A7-C1F2-411A-8CC1-ACA3D6AAB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1A2E1D-5053-45DC-BA1C-CED0B0F2A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1ACC2D-E416-40D7-842E-2DE000DCA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3AA45-84C0-43F2-B72E-AEA9DAFA2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54160" y="701640"/>
            <a:ext cx="4626000" cy="3468600"/>
          </a:xfrm>
          <a:prstGeom prst="rect">
            <a:avLst/>
          </a:prstGeom>
          <a:ln w="0">
            <a:noFill/>
          </a:ln>
        </p:spPr>
      </p:sp>
      <p:sp>
        <p:nvSpPr>
          <p:cNvPr id="7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51B569-891B-4202-937D-BCF744679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E4193B-F37E-42CA-89F6-E7AF10DF1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FBC247-5F96-49C5-B007-C77A8A84A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50A370-FA5F-428C-9C67-80B1700A2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0DDB83-DD67-45B4-8E60-A6BD6E1CA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7FBAED-B423-4848-B2EF-A4C6CDF22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E00C51-524B-43B3-B0B2-A6558B314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F2EC2D-3210-42DC-997B-4443AF2B0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9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BDFF7F-9D7C-42CD-844A-89D024FD7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54160" y="701640"/>
            <a:ext cx="4626000" cy="3468600"/>
          </a:xfrm>
          <a:prstGeom prst="rect">
            <a:avLst/>
          </a:prstGeom>
          <a:ln w="0">
            <a:noFill/>
          </a:ln>
        </p:spPr>
      </p:sp>
      <p:sp>
        <p:nvSpPr>
          <p:cNvPr id="7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70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703"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7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BFE4F1-7127-4FF9-BD1C-6A183D3BD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1EDA2D-F74B-4A77-BA12-2D9AD488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314DC-16A0-47E5-9459-E7069A4EA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CE19-4DB0-48C2-AF0F-98D8202E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44320-1618-4F93-B642-01A608193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5BCCDD-D066-4084-ADFE-CE56EADD3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FE705-5B1F-4156-B275-C91F660100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B7DBB-BA3E-4AFC-B029-022CF7C423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A304F-0DA7-414C-A389-8CCDD8175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3769D-2DA0-47A4-8ABC-5C32263D2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8360A-C980-4276-8D90-81105EC52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F8407E-0700-4658-9911-B9511DBB23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8D11F5-0847-4C7F-815A-097346431B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15314B-6962-4FB0-BC31-D585128281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1B85-8B40-423F-AEEA-9F278FE2A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309B7F-28FF-4D26-ABFB-AF2378CFA4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649EF2-D093-4698-A1A4-FF3E33CD3F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22BFB2-1C02-490B-9E86-187EC6BD59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AD23EC-0F62-4CB1-9009-F7A386B75B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C179D4-CAE9-4827-B694-8E1E76C126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A2284D-56C0-4403-A2D4-9906EB3BBA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0419DC-633C-445B-9EFF-A610E85672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BD477C-DCA5-499A-A5BF-74FE19A884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8A424F-10CD-4FED-A2D7-E9F7C4B6B6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4D9731-5031-40E8-A920-B9FA2F7B85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9D2DE-BAF5-4B2C-8C80-FF6029619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1075DD-C68B-4B5C-8BF5-49F2256F66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242F08-4004-4463-9D34-EB4F5E5E33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B712E0-6CCB-4616-A567-1F6E8A1215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E2F9EA-57FD-4375-BC14-4962F611B0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38EE4C-8905-4E24-9202-5BB3E13213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2EE930-CA4C-4160-9740-43ACBABFCF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C23D99-5E52-4C3C-99CD-BE08EFD29B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55B48B-7428-41BD-BFBA-2E8F8DA8C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72BD0-5522-43B0-A1EB-5A85A66E49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F76821-614A-41F5-8725-F5443C4F49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9B696ED-215A-448D-BCEF-23F660DE9C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6132B6-79FD-4100-812F-AE2289073D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D51CD3-62B1-4984-BDE4-A55F0E2AC0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5269CE-C1C1-4BA8-A628-671ECAD3BF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8E9C00-F4F3-4540-8D52-42BE2AF9DE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40A35D-E51F-415A-A9D2-782F8FDB78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A587DF-5B16-47B7-BDBC-AE54C12E92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14CF97-38DE-4BDA-9F83-8615E6DD73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3CC8EF-C926-416F-A785-D9528EFDBB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E9D55D-F2C3-41DE-9F2F-7C49883282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C1D329-68CC-4673-98AA-EE7EB1F16D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6BEF3B0-BCE3-4AEC-9E99-4033F6EA16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C2880A-6578-4511-A26C-129B27DD49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AEAAD0-96CB-47A3-ACA6-BD37F4D7DC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89AE02-23BA-4BD1-9850-D427CBB844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8B143A-CAB4-46EE-834F-028CC00924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7F621D-91D6-450C-9FC1-1D0D18E6D4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9C321BB-4E4F-4F6D-9209-57F453E6F9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3F6E1C8-513F-4B0B-BEA3-EC0CC2FD00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E15BB31-800B-414F-9765-5279C248CE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B764EF0-B692-426D-9F26-694D4CDD90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DDD3BA6-37E7-4651-93F3-0CA3463B07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258BA-15AA-4CC3-B4D9-0A85D790A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042F4AA-B117-482E-9340-4D12923157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5CCA7AD-541E-4060-8D12-9AF0F19ABC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E12FADF-79F4-47B8-801D-73565534BB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518B867-4825-484F-9F26-48D8AD3B47D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BFC7E391-C66D-4A55-AE53-E48CD243B50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D64D2-37AB-457E-A55F-669CDF8FB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5FC9A-B568-4DE2-B528-D943E1769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EAC61-0FAB-4434-8D9D-4D4505CC1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0ED86-5BE6-43A6-AE7B-E0C59DF15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53F12-255C-4D51-AB37-2018125E8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10D9-6F7A-438C-9B13-72899D5EE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F4A0B-BA4A-4B11-A413-5A01DD9F5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C31C4-8AD9-4899-8259-F78B8C4D3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9C82B-9ABB-439D-985D-43EEF330A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15576-9DCF-4E52-A7E3-08A45896F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4EF95-1BD8-4104-A56F-4D077F001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2E3254-A2FD-4E4E-A014-F3D65465A0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64F44-98C2-42DC-95D9-563ACA41E1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9F6A22-0140-43C1-8F22-5AF86661D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1F935-5464-4D87-893C-FDC2592AC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BD4A0-A21D-4EC4-83D1-9E2B9C548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151E-818B-4721-A8DA-66893313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D0A0D-996A-4B54-B487-CD91CB061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72520-F254-4702-BBCF-A33AF173E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3B36A-CFEC-48FF-929B-B879EFF24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8784A-9ED0-4CD7-982F-CF84079F0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F9110-D224-4DCE-B740-4537546FA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A4985-0931-4E4B-80D1-4D2F790F9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B1B6D-6B94-4803-B3C1-9A5994EA7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7A05F-384C-4D62-B0F7-2BE997E3F8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40CA2F-00B5-46EA-86DD-36CED1B96F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335C64-7568-44BE-AC38-E2EE142FAE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241F-9FF0-4202-8B48-CFF352E33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74FE1-E07E-4C8F-8368-5B3D4CBCA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DE558-9453-4709-8947-9D769CF84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F85C4-B763-456C-9147-9E66E9A2B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A6F18-1466-4EC2-A1D3-494C396C8B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B92884-A174-42C7-A952-F2AB4F5E1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DB270-A946-415E-9F72-C5438ADCB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E0787-3EA3-4037-AFBA-97CFDF036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54D63-2E19-4137-9A3D-E0E08AE9E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4C79D-141F-4B48-9BD5-D6C53D914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01D2AD-6493-4B9F-859E-D6A403F2AC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45DC-59EE-4590-98A5-D69D8CAB4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5EE583-54C2-42F7-848F-F812A96D09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59B4CA-B8AC-4844-921F-649D0797F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776450-8837-443E-B66F-95E0BF82A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AA2F1-15D0-495E-B83E-DEB56FE6B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E61A43-866E-4B63-B802-FDE5C89E91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CBC1E-B62F-4EAB-A4FE-607900B74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F1A38-9B6E-451D-AA05-8D480EF1F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E583D-4A92-4410-97FF-8C6CAB05E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92BC8-9536-4DD3-9E15-73C99CC32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8AB89-5379-4E47-87C4-20A948D9C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5C78-691A-47EB-B917-01C76782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A733E-9CFE-4D4E-80E7-1A4589DB4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9A4BDA-E15B-44FD-90F5-0EFC7DF7C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102593-C51D-4E5D-9463-B921EC71C0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E3D48B-3193-4671-BE06-4BD5DB2F8C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84A9A-40B4-4A78-A18E-747BB4FECC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7B66C-FA00-4CDE-8B27-9EC203C71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60213-2953-4332-B8E1-37711D6FE5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4B80A-0DD7-4AEA-B939-6665E3985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FF629-7936-4998-B383-B075B5DFF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A9759-684B-4BF1-A699-D06526ED81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E2FF-C233-4933-A713-32B8281C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A5FF6-4B68-4A97-92B9-77AC61382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703E2-2AAC-4737-929F-D2BDDB75B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971C9B-7D50-4288-BEA6-826793EAD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0F598-D58C-4D7C-96CE-B26E499F43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6BAADC-63B5-48A0-965A-3EB6927142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0FE0D4-F403-4419-8AF6-A86300E81E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46D0C4-DB60-47BC-A83B-AF216A1D95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2EA6D-F829-4DBB-87F3-3A42986C5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A7B12-2C4D-43BD-A69C-93C9E12EC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EB385A-AAE0-4259-9E56-0CE3033A2F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91AF-D98A-4FBF-9B23-2EAFF287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FA839-74C3-434E-AD2A-33E2B0FE36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86404-D58F-41AF-A57E-0D00914C3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19075-8C1F-48B4-A3AA-E2DE4784B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B99B3-F8FB-4A9A-B94C-32D08EF6D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4DF2E-AF40-40B2-923E-E0F21AA03F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915FBD-BA32-4ED6-93C3-7C61A1E320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4623D8-336D-4068-AA87-5038A9859A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02073-8A93-407D-B31A-BF92891873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A8FA8-76D7-43B1-956A-B70C159D7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543B09-1934-4DBE-8BB7-3FE873AE54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C608634-32E8-4975-B038-D5058B1EB0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1EEB11A-E966-46C4-AB6F-5FAC42518B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C2F8A7F-CC1C-4EDF-BCC9-D5D725A33D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CF2185-4676-4E02-9031-36E3293B35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8A4FA04-282B-4A03-B125-BB0FD0BBA2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6733C6-61EF-4CE5-BB5B-A4328DAC44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DB1B5D-CF9C-4BB0-9676-1B464F8949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4C39A6-0A21-40B0-B2CE-66CA8CF484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689295-6EF2-401D-BA49-9BF260BAC1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E4F954-C5F1-4F6E-BC4F-C682F49C50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6BA7DC-8947-4033-A316-499F61EE9D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61CC73-56C5-4717-9CAF-95231A5487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7/11-17-0827-00-00lc-may-meeting-minutes.docx"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20section%205.2.1.3"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F8C7AB-6954-4E7D-B1DC-22DCC90C2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5-31</a:t>
            </a:r>
            <a:endParaRPr b="1" lang="en-US" sz="2000" spc="-1" strike="noStrike">
              <a:solidFill>
                <a:srgbClr val="000000"/>
              </a:solidFill>
              <a:latin typeface="Times New Roman"/>
            </a:endParaRPr>
          </a:p>
        </p:txBody>
      </p:sp>
      <p:graphicFrame>
        <p:nvGraphicFramePr>
          <p:cNvPr id="555" name="Object 11"/>
          <p:cNvGraphicFramePr/>
          <p:nvPr/>
        </p:nvGraphicFramePr>
        <p:xfrm>
          <a:off x="671400" y="26668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2666880"/>
                    <a:ext cx="9126720" cy="117504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13307A-0A34-42A1-851B-FC1BADA91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 tutorial</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of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85E264-BDE9-4114-93F0-74894336E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42555D-C48D-4FEC-80FF-2492A46E8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0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ve minutes from May meeting (</a:t>
            </a:r>
            <a:r>
              <a:rPr b="0" lang="en-GB" sz="2000" spc="-1" strike="noStrike" u="sng">
                <a:solidFill>
                  <a:srgbClr val="0066ff"/>
                </a:solidFill>
                <a:uFillTx/>
                <a:latin typeface="Times New Roman"/>
                <a:hlinkClick r:id="rId1"/>
              </a:rPr>
              <a:t>https://mentor.ieee.org/802.11/dcn/17/11-17-0827-00-00lc-may-meeting-minutes.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and comments against the presentation for the tutorial session on High Speed Optical Wireless Communications to the wider 80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F4C89C-D3A8-4BA2-88C2-49E9137ED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2370DA-9AE5-4F23-910C-65CE1B16B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1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60B6B8-F5FA-4F7B-B7ED-819B4F968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EE2742-AE1F-409D-BB0D-7ED3ECA71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7"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6A187-A65C-4C5B-80A7-23AFD5DAD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13FE50-DC63-47BA-B414-767F74767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6"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xt steps for the TI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6CDC0C-032C-409C-BA25-ACB0086F4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 tutorial</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42"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30 – 15:3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16:00 – 18:0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uture of the TI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djour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C86864-DFE5-4E10-A15F-E88D6E223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3565D7-FE6D-421A-8F7F-59AE36D73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647"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648" name=""/>
          <p:cNvGraphicFramePr/>
          <p:nvPr/>
        </p:nvGraphicFramePr>
        <p:xfrm>
          <a:off x="685800" y="1676520"/>
          <a:ext cx="7924680" cy="4564080"/>
        </p:xfrm>
        <a:graphic>
          <a:graphicData uri="http://schemas.openxmlformats.org/drawingml/2006/table">
            <a:tbl>
              <a:tblPr/>
              <a:tblGrid>
                <a:gridCol w="1295280"/>
                <a:gridCol w="3810240"/>
                <a:gridCol w="281916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opic Interest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0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9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7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ic Interest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26DD41-CA04-4CF0-8638-3680DCEA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65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83F637-B7A3-4DB3-B3F4-52DF34363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CCE01C-CCB3-47F0-9A3C-3EDD93234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2"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04C5D5-BBDF-4796-91D1-9691D6081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77"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23923C-584D-457D-915F-F256F20F9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82"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0066ff"/>
                </a:solidFill>
                <a:uFillTx/>
                <a:latin typeface="Times New Roman"/>
                <a:ea typeface="MS Gothic"/>
                <a:hlinkClick r:id="rId2"/>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0066ff"/>
                </a:solidFill>
                <a:uFillTx/>
                <a:latin typeface="Times New Roman"/>
                <a:ea typeface="MS Gothic"/>
                <a:hlinkClick r:id="rId3"/>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7D80EA-9D3D-4FA6-B518-55C451C6E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34509F-F935-4C1C-B348-A1FB656E1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9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591" name=""/>
          <p:cNvGraphicFramePr/>
          <p:nvPr/>
        </p:nvGraphicFramePr>
        <p:xfrm>
          <a:off x="762120" y="1752480"/>
          <a:ext cx="7696080" cy="181152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ikola Serafimovski</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XX</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lker Jungnickel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G Report 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 Qiang (John)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9B64D0-88E6-4336-BAAB-3B27F6C87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C TIG schedule in a glance</a:t>
            </a:r>
            <a:endParaRPr b="0" lang="en-US" sz="3200" spc="-1" strike="noStrike">
              <a:solidFill>
                <a:srgbClr val="000000"/>
              </a:solidFill>
              <a:latin typeface="Times New Roman"/>
            </a:endParaRPr>
          </a:p>
        </p:txBody>
      </p:sp>
      <p:graphicFrame>
        <p:nvGraphicFramePr>
          <p:cNvPr id="595"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to W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y 2017</cp:keywords>
  <dc:language>en-US</dc:language>
  <cp:lastModifiedBy>Serafimovski, Nikola</cp:lastModifiedBy>
  <cp:lastPrinted>2014-11-04T15:04:57Z</cp:lastPrinted>
  <dcterms:modified xsi:type="dcterms:W3CDTF">2017-06-28T16:32:58Z</dcterms:modified>
  <cp:revision>3795</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