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ADDFEBD5-7A77-4B88-A313-40434CA3BC6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0C970CF-3ADA-460F-A378-FC0A5E5AA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1154160" y="701640"/>
            <a:ext cx="4626000" cy="3468600"/>
          </a:xfrm>
          <a:prstGeom prst="rect">
            <a:avLst/>
          </a:prstGeom>
          <a:ln w="0">
            <a:noFill/>
          </a:ln>
        </p:spPr>
      </p:sp>
      <p:sp>
        <p:nvSpPr>
          <p:cNvPr id="6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54160" y="701640"/>
            <a:ext cx="4626000" cy="3468600"/>
          </a:xfrm>
          <a:prstGeom prst="rect">
            <a:avLst/>
          </a:prstGeom>
          <a:ln w="0">
            <a:noFill/>
          </a:ln>
        </p:spPr>
      </p:sp>
      <p:sp>
        <p:nvSpPr>
          <p:cNvPr id="7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2C9DD1-455C-4993-8929-19113C7E4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2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D42005-F80F-47E1-B935-03BCDDA67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PlaceHolder 1"/>
          <p:cNvSpPr>
            <a:spLocks noGrp="1"/>
          </p:cNvSpPr>
          <p:nvPr>
            <p:ph type="sldImg"/>
          </p:nvPr>
        </p:nvSpPr>
        <p:spPr>
          <a:xfrm>
            <a:off x="1154160" y="701640"/>
            <a:ext cx="4626000" cy="3468600"/>
          </a:xfrm>
          <a:prstGeom prst="rect">
            <a:avLst/>
          </a:prstGeom>
          <a:ln w="0">
            <a:noFill/>
          </a:ln>
        </p:spPr>
      </p:sp>
      <p:sp>
        <p:nvSpPr>
          <p:cNvPr id="7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2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4A97B2E-4720-4862-83CB-6ED11A61C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PlaceHolder 1"/>
          <p:cNvSpPr>
            <a:spLocks noGrp="1"/>
          </p:cNvSpPr>
          <p:nvPr>
            <p:ph type="sldImg"/>
          </p:nvPr>
        </p:nvSpPr>
        <p:spPr>
          <a:xfrm>
            <a:off x="1154160" y="701640"/>
            <a:ext cx="4626000" cy="3468600"/>
          </a:xfrm>
          <a:prstGeom prst="rect">
            <a:avLst/>
          </a:prstGeom>
          <a:ln w="0">
            <a:noFill/>
          </a:ln>
        </p:spPr>
      </p:sp>
      <p:sp>
        <p:nvSpPr>
          <p:cNvPr id="7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3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A196B49-1FC1-4943-9596-9F5C16FFD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PlaceHolder 1"/>
          <p:cNvSpPr>
            <a:spLocks noGrp="1"/>
          </p:cNvSpPr>
          <p:nvPr>
            <p:ph type="sldImg"/>
          </p:nvPr>
        </p:nvSpPr>
        <p:spPr>
          <a:xfrm>
            <a:off x="1154160" y="701640"/>
            <a:ext cx="4626000" cy="3468600"/>
          </a:xfrm>
          <a:prstGeom prst="rect">
            <a:avLst/>
          </a:prstGeom>
          <a:ln w="0">
            <a:noFill/>
          </a:ln>
        </p:spPr>
      </p:sp>
      <p:sp>
        <p:nvSpPr>
          <p:cNvPr id="7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8C56BC-9173-4BFE-AB0A-7E64A26FC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PlaceHolder 1"/>
          <p:cNvSpPr>
            <a:spLocks noGrp="1"/>
          </p:cNvSpPr>
          <p:nvPr>
            <p:ph type="sldImg"/>
          </p:nvPr>
        </p:nvSpPr>
        <p:spPr>
          <a:xfrm>
            <a:off x="1154160" y="701640"/>
            <a:ext cx="4626000" cy="3468600"/>
          </a:xfrm>
          <a:prstGeom prst="rect">
            <a:avLst/>
          </a:prstGeom>
          <a:ln w="0">
            <a:noFill/>
          </a:ln>
        </p:spPr>
      </p:sp>
      <p:sp>
        <p:nvSpPr>
          <p:cNvPr id="7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4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8EB106-15FE-4ABC-B1BB-82AF4375D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PlaceHolder 1"/>
          <p:cNvSpPr>
            <a:spLocks noGrp="1"/>
          </p:cNvSpPr>
          <p:nvPr>
            <p:ph type="sldImg"/>
          </p:nvPr>
        </p:nvSpPr>
        <p:spPr>
          <a:xfrm>
            <a:off x="1154160" y="701640"/>
            <a:ext cx="4626000" cy="3468600"/>
          </a:xfrm>
          <a:prstGeom prst="rect">
            <a:avLst/>
          </a:prstGeom>
          <a:ln w="0">
            <a:noFill/>
          </a:ln>
        </p:spPr>
      </p:sp>
      <p:sp>
        <p:nvSpPr>
          <p:cNvPr id="7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2"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3"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BD10DF-B700-4129-A50B-7A2B6B5CA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5" name="PlaceHolder 1"/>
          <p:cNvSpPr>
            <a:spLocks noGrp="1"/>
          </p:cNvSpPr>
          <p:nvPr>
            <p:ph type="sldImg"/>
          </p:nvPr>
        </p:nvSpPr>
        <p:spPr>
          <a:xfrm>
            <a:off x="1154160" y="701640"/>
            <a:ext cx="4626000" cy="3468600"/>
          </a:xfrm>
          <a:prstGeom prst="rect">
            <a:avLst/>
          </a:prstGeom>
          <a:ln w="0">
            <a:noFill/>
          </a:ln>
        </p:spPr>
      </p:sp>
      <p:sp>
        <p:nvSpPr>
          <p:cNvPr id="6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54160" y="701640"/>
            <a:ext cx="4626000" cy="3468600"/>
          </a:xfrm>
          <a:prstGeom prst="rect">
            <a:avLst/>
          </a:prstGeom>
          <a:ln w="0">
            <a:noFill/>
          </a:ln>
        </p:spPr>
      </p:sp>
      <p:sp>
        <p:nvSpPr>
          <p:cNvPr id="7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BAD6F6-1A7B-40DC-AB86-2DF1F3732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54160" y="701640"/>
            <a:ext cx="4626000" cy="3468600"/>
          </a:xfrm>
          <a:prstGeom prst="rect">
            <a:avLst/>
          </a:prstGeom>
          <a:ln w="0">
            <a:noFill/>
          </a:ln>
        </p:spPr>
      </p:sp>
      <p:sp>
        <p:nvSpPr>
          <p:cNvPr id="7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DC9272-B30C-4FC5-861D-06ECA43C0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10FF6D-3CCB-4968-B5B0-64242001B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1" name="PlaceHolder 1"/>
          <p:cNvSpPr>
            <a:spLocks noGrp="1"/>
          </p:cNvSpPr>
          <p:nvPr>
            <p:ph type="sldImg"/>
          </p:nvPr>
        </p:nvSpPr>
        <p:spPr>
          <a:xfrm>
            <a:off x="1154160" y="701640"/>
            <a:ext cx="4626000" cy="3468600"/>
          </a:xfrm>
          <a:prstGeom prst="rect">
            <a:avLst/>
          </a:prstGeom>
          <a:ln w="0">
            <a:noFill/>
          </a:ln>
        </p:spPr>
      </p:sp>
      <p:sp>
        <p:nvSpPr>
          <p:cNvPr id="6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C2A61F-0504-4D5C-9255-E03C4C6D1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54160" y="701640"/>
            <a:ext cx="4626000" cy="3468600"/>
          </a:xfrm>
          <a:prstGeom prst="rect">
            <a:avLst/>
          </a:prstGeom>
          <a:ln w="0">
            <a:noFill/>
          </a:ln>
        </p:spPr>
      </p:sp>
      <p:sp>
        <p:nvSpPr>
          <p:cNvPr id="6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8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3123FC-203C-4FCA-8A0E-61007561A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54160" y="701640"/>
            <a:ext cx="4626000" cy="3468600"/>
          </a:xfrm>
          <a:prstGeom prst="rect">
            <a:avLst/>
          </a:prstGeom>
          <a:ln w="0">
            <a:noFill/>
          </a:ln>
        </p:spPr>
      </p:sp>
      <p:sp>
        <p:nvSpPr>
          <p:cNvPr id="6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6"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7"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8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FBD4C1-0119-4955-8D31-7E4C7C7CA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54160" y="701640"/>
            <a:ext cx="4626000" cy="3468600"/>
          </a:xfrm>
          <a:prstGeom prst="rect">
            <a:avLst/>
          </a:prstGeom>
          <a:ln w="0">
            <a:noFill/>
          </a:ln>
        </p:spPr>
      </p:sp>
      <p:sp>
        <p:nvSpPr>
          <p:cNvPr id="6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2"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3"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9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2134E1-2E72-4338-9D11-671FDBA16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9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97"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9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59C9C1-CC79-48AF-BCD4-10AC77300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1154160" y="701640"/>
            <a:ext cx="4626000" cy="3468600"/>
          </a:xfrm>
          <a:prstGeom prst="rect">
            <a:avLst/>
          </a:prstGeom>
          <a:ln w="0">
            <a:noFill/>
          </a:ln>
        </p:spPr>
      </p:sp>
      <p:sp>
        <p:nvSpPr>
          <p:cNvPr id="7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702"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703"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70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E90DA0-E9AE-40C7-9067-AF47586C3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1154160" y="701640"/>
            <a:ext cx="4626000" cy="3468600"/>
          </a:xfrm>
          <a:prstGeom prst="rect">
            <a:avLst/>
          </a:prstGeom>
          <a:ln w="0">
            <a:noFill/>
          </a:ln>
        </p:spPr>
      </p:sp>
      <p:sp>
        <p:nvSpPr>
          <p:cNvPr id="7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54160" y="701640"/>
            <a:ext cx="4626000" cy="3468600"/>
          </a:xfrm>
          <a:prstGeom prst="rect">
            <a:avLst/>
          </a:prstGeom>
          <a:ln w="0">
            <a:noFill/>
          </a:ln>
        </p:spPr>
      </p:sp>
      <p:sp>
        <p:nvSpPr>
          <p:cNvPr id="7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0831C0-F02F-4473-96F3-A2983C723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460A6-1CB5-4A16-918E-C03A1F213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20EEE-7F25-4608-A671-357C79E47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DB8312-838F-456E-A2E7-F301EA91F6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2BF87D-723B-4B40-BBB0-01BAC1F26F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052C43-8D84-410A-A87B-339F8AD809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B4F188-4D68-49AB-83B7-FCD3C2CAD5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F37E5B-D0A2-4809-8FFE-8AEAA4FE1E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50973C-568D-48D2-801B-CFEDB4A27F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D41547-9137-4139-9807-3722987812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93AF8C-BA1B-4746-8320-779B3D7479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26E030-9CBF-48F7-921A-7B9B6FB03F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A64729F-0EF8-40F1-A778-000CC876A7A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45F23-9518-4BA1-8076-694FF9D39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D4CE5B-F973-4F3B-9EAE-23094C1A9EC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8EDC40A-8F53-4A4B-9E83-9359ED4D60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578635-EF15-47F4-B180-C23DC3DD0F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D3E52D-DFF6-4063-A854-7ABBB0461B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619B52-0202-4416-A9CA-BA41694630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CC8CE6-EA9F-4822-8C48-6E088D9A5B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AB0C6C-8F39-4DF2-B945-CB33CFE75F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19BC77-C030-461A-88A6-FAAA764C47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F8E80B-73C5-4B9A-BE01-287851D6FB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68D9D24-9BC3-4448-88BD-55FFA41DFC4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D5538-D511-444A-AEAB-CF985C00B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3B550ED-3E67-4EB5-BE17-91E9775275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C86CF6-9E0F-4B50-81FB-9939897580A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93E105-0D76-4F48-B732-3CCA2B5823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69B6D10-A8BA-41E0-8811-37AEFB61E4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749F84-373C-4458-9749-D5C8A6177E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B315FB-242A-4A0E-AFB4-F0DBFED742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30AEF0-4D60-46D8-83EB-8E2A66DF31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9629F0-8CDC-4AC8-AB1A-0A2E65EEAD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FDD7C7-E0A2-4500-B250-CBE318D435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27EF3B-17FA-4EBB-B8F7-287241D920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C6EAF076-513B-4342-A783-4552B8389BA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4F9646-4CDA-49F5-AF0E-3BDAFFED5C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3D286B5-7145-4CFB-8856-9570311EF97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6E39E54-DD4C-405F-AD35-1E814A0D94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EE6AE0C-EA5E-4587-B227-330A0E2C7FF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CE8C2E0-11F2-43F9-9748-4B35ADEB83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59AAE3-9976-459F-BFC6-10D076D7DB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1C0DB48-C131-4410-A453-96F088C80CB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56BE69-F116-4952-8B8E-A42E618028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F73D6C-42C5-44E5-A90A-C65079B5D8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07DA47-E41E-4B83-A35F-70BD67279C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AFECCE47-8406-4FEA-95B0-9A0C61416C3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D1AC80-7054-492C-8677-081FF638E6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F2C8BE-588D-4906-973C-4B58479E5D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76A87B-FBBD-4D74-A732-B0413D4159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A0FBF28-C9BD-4DBD-AC39-12761FFECEA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2D0C070-B7D9-46DF-8BCE-B3E1660E644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ACA0EE22-4D26-4BCF-9615-D1307151E84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883E0DA0-A060-4C06-915C-DF40EC6618D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F1CB2472-2918-41E3-9617-E16BAA83BF3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0446E315-25F1-4462-974D-C6FCCD6844B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814E2FEB-13FB-4A18-B734-D430C3C8910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A7E44-5B83-4AC8-B1A5-4D24ABBC9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460570BD-44E1-4D98-BD4B-1370361DAE7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8388E230-5796-4BA5-86CF-E7D1D13128C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83F594DA-DF12-42BD-BD44-BCD5CE1D99F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561845FB-CD71-47BF-8F4C-DAFE54D8CB0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65D66547-BC94-4C65-8914-567F2C95D2B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717F95-6FFC-49BB-9BA3-0DAC32BBC7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3A3F8D-462F-4407-BD48-C8EB5DC88A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1E3640-5C2B-4B3B-A9FF-74C5A8756C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5583BA-6C12-47FD-9EAA-A5100CDFB0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662BE9-13C9-4660-B476-560CDAD02C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C3BFB-5657-43A7-BCED-5070FCD3E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CBDA26-2674-492A-A850-067574A1DD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CDF9D1-4ED6-4804-B1B7-26B196ABCD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BAEE8E-4BCE-4D48-89CB-C5A2FDF48F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DD7D61-6231-47CC-8ABA-218D504FB6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08B260-8238-4CF6-9E26-92069C3E9F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D9CC32-332A-4C54-ABCD-6BC7CDE7D8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0D24D3-B5D4-4CD2-A88A-2C8C78D0B1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A06289-8C30-4BF8-8C9D-0361A15937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412BC9-9B78-4117-8323-3E12558B15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F22B41-4018-4DE8-AA81-4637E77E32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80207-5DFC-4C39-AFE9-D0ED5585F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2C3FE4-1214-4057-928C-AD094E1272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DE0089-094C-42A8-A838-47E59A2653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2F1D22-451D-4ACF-A346-32914059C9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BAD76C-5E61-4ABB-B3FB-353DD0C324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D00F6D-C49B-4AEB-98EE-3A8C9B6873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73C7E2-2268-46B4-A3DA-7485F41D74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CD2BFE-F0B3-4F44-A3D8-EFA0B324EC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4FA83B-3E24-4FC2-A4F5-F6575041E1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20D1CD-3B67-4628-B580-25730BB5D0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2FCA7B-9E24-4EF9-A20A-CFA35D7C7D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9C85F-333A-481D-87D6-495F6E3F1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A4F263-DB41-47CE-94DE-92825E1F6A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378D47-F96D-4D7E-8642-AEED7B3499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CC95B0-530D-41C7-9535-8798E25D58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26915E-8B4E-4F55-A473-46B47200AC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758EB3-70BD-487C-BEF1-6EB18E5215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E63A55-2CF6-4209-A8DD-668FB3ED7D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0D8477-BE73-4B32-9C3B-58FFF762C7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B1CC8B-36AD-4938-9E7E-20C5F96B29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1B74D0-FA25-4519-8E2F-B7897F0AB6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920CD0-4D30-4CBF-8A2C-56A73FB0FF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6F7B0-18A2-4710-ABE4-395C5C35C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0E45F3-D0D6-4D7C-A169-62463B280C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87518C-E6AD-47B1-9CC9-15A4B9FE26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1F40D5-B99E-4DA2-9B27-97742ACDBA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272CDF-9EB6-49B3-A82A-E0427E8B78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44A605-ACB3-4DA2-9BA8-6EC4D6FDB3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831963-35C6-4FAC-A0FD-487BA94C43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236490-D7F4-43CA-B840-2DE945BF17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CA1472-502E-4A4D-8A36-BEEAA9EBE4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13D92E-1950-4941-B6FA-B1EE426D4F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ECD5E0-AAA3-428A-AD1B-24DF041BD2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818B8-CEEB-470E-9072-0EDE89A5A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13924C-C3D5-4447-A43D-C5C754F880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261265-5997-482B-B374-29BD17E003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A77269-C550-4E3B-88DB-BDCA488658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07DC58-6343-4B89-8F78-DB42F2B3DD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F6D959-AE78-4E2F-B246-45C56E250D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B6A2D8-3188-4A97-B240-DBA573C51E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0F3192-E7FB-4E12-B0F0-21F82686AD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711147-24FC-4559-88EC-B23AC9AAEA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F56EFA-DE2F-4EA4-858D-C975834FFB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A148CF-4D34-404E-9CE5-49D74EBCE5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9072A-D0B6-46E5-8F1E-215BCBE01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9D04FE-324F-4AD1-8F2E-47AAF59E3C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A2CAAA-0356-46C9-A9FD-4513C45809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EB8C98-6892-4D9A-890F-88439ED13F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AD21F9-3626-4680-852D-A552F6A430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42A457-EA84-45E7-BEF4-E24A7F91E0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223547-DA49-49B8-8DD7-4715E3AF6B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3A835F-9745-46F0-BC52-C357E91CF4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3B9C51-F4D6-4275-B877-2D74FEE423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596D8E-AD39-4F92-9E66-51BDABDC1C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8F3741-D91F-4CC0-A575-33EB3BB19C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17069-FAAB-4256-99D4-EA8C69775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4759C2-4546-4C1B-B4F5-7CBC324887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9ABA9B-16FD-4105-A783-A4A62DB569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A6B870-84E7-477B-808A-9D5B8977C1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104A6B-402F-47BE-BE43-06404AAA33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C95074-EB73-4CDB-9D20-5626BC6C3D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8F466F-76F0-4621-85B1-371F2ABC5E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5599DA-FC91-4035-B9BD-248495DCD3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B44CF5-6B6E-4713-98DA-D1268172D7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6011F3-FAF8-4FDE-BE16-BFD296A82D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86D26F-5FAF-445C-A6E6-3586061CA44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BD4DA84-6C87-4347-A796-DB4E231F782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2E66DC0-CEF3-4AF3-8A61-15DAAB5AA6A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1415D2C-C681-4944-A69E-23E941224BD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20EE1DC-587B-481B-9167-B8323D7042C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sldNum" idx="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0D970C3-0A3B-41E3-A8F5-FB6F335998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2" name="PlaceHolder 4"/>
          <p:cNvSpPr>
            <a:spLocks noGrp="1"/>
          </p:cNvSpPr>
          <p:nvPr>
            <p:ph type="dt" idx="5"/>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3" name="PlaceHolder 5"/>
          <p:cNvSpPr>
            <a:spLocks noGrp="1"/>
          </p:cNvSpPr>
          <p:nvPr>
            <p:ph type="ftr" idx="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0EF5344-6F46-4813-9B2A-62BB140B06D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8292DA8-CBF8-422F-A58B-F88C22DBC57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A44A2E4-97FF-434D-A9BC-37F709CEA7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5C5334F-56F3-47DC-897E-51C1ABBCD35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4688304-A5D3-4675-A937-6AB828F21C2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74EE50D-4931-493D-BFD9-FF46EB526A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EE51092-31CE-4C09-995F-A219C3C3879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mentor.ieee.org/802.11/dcn/17/11-17-0827-00-00lc-may-meeting-minutes.docx" TargetMode="External"/><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s://standards.ieee.org/develop/policies/bylaws/sb_bylaws.pdf%20section%205.2.1.3"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9BCA92C-9344-4296-B715-63079A753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ght Communications Topic Interest Group  2017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7521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7-05-31</a:t>
            </a:r>
            <a:endParaRPr b="1" lang="en-US" sz="2000" spc="-1" strike="noStrike">
              <a:solidFill>
                <a:srgbClr val="000000"/>
              </a:solidFill>
              <a:latin typeface="Times New Roman"/>
            </a:endParaRPr>
          </a:p>
        </p:txBody>
      </p:sp>
      <p:graphicFrame>
        <p:nvGraphicFramePr>
          <p:cNvPr id="555" name="Object 11"/>
          <p:cNvGraphicFramePr/>
          <p:nvPr/>
        </p:nvGraphicFramePr>
        <p:xfrm>
          <a:off x="671400" y="2666880"/>
          <a:ext cx="9126720" cy="1175040"/>
        </p:xfrm>
        <a:graphic>
          <a:graphicData uri="http://schemas.openxmlformats.org/presentationml/2006/ole">
            <p:oleObj progId="Word.Document.12" r:id="rId1" spid="">
              <p:embed/>
              <p:pic>
                <p:nvPicPr>
                  <p:cNvPr id="556" name="Object 11" descr=""/>
                  <p:cNvPicPr/>
                  <p:nvPr/>
                </p:nvPicPr>
                <p:blipFill>
                  <a:blip r:embed="rId2"/>
                  <a:stretch/>
                </p:blipFill>
                <p:spPr>
                  <a:xfrm>
                    <a:off x="671400" y="2666880"/>
                    <a:ext cx="9126720" cy="117504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B474D7-17F1-4579-B14B-5CB0BF9A2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0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genda Agree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missions to be discussed</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esentation for the 802 tutorial</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esentation for the 802.11 WG</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ture of the TI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1"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0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C5EA80-A3A1-47E0-A8E6-B8324526E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08:00 – 10:0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3D9243-39C8-4ADB-A8EB-83A4266FE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09"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missions to be discussed today?</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pprove minutes from May meeting (</a:t>
            </a:r>
            <a:r>
              <a:rPr b="0" lang="en-GB" sz="2000" spc="-1" strike="noStrike" u="sng">
                <a:solidFill>
                  <a:srgbClr val="0066ff"/>
                </a:solidFill>
                <a:uFillTx/>
                <a:latin typeface="Times New Roman"/>
                <a:hlinkClick r:id="rId1"/>
              </a:rPr>
              <a:t>https://mentor.ieee.org/802.11/dcn/17/11-17-0827-00-00lc-may-meeting-minutes.docx</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ent resolution against doc. 17/11-0023r8</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view and comments against the presentation for the tutorial session on High Speed Optical Wireless Communications to the wider 802</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0BD97C-057D-44ED-9A24-23F230EFB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08:00 – 10:0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4"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627398-28FD-4202-BB38-B6AAC0BAA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1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missions to be discussed today?</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ent resolution against doc. 17/11-0023r8</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view the presentation on the TIG output aimed at the 802.11 WG.</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9"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BDCC98-6946-46D9-ACFE-6A71FFF15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3:30 – 15:3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3"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921747-B2B7-4743-87A8-A73878733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7"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missions to be discussed today?</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ent resolution against doc. 17/11-0023r8</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view the presentation on the TIG output aimed at the 802.11 WG.</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8"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B530FC-B898-4469-9B76-2DF1350DF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PM2 16:00 – 18:0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2"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96DEBA-6D8F-4DF4-8825-8E6527E36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36"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missions to be discussed today?</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xt steps for the TIG</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7"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57BC6A-92EB-4966-BC0C-AD31D8C57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1"/>
          <p:cNvSpPr>
            <a:spLocks noGrp="1"/>
          </p:cNvSpPr>
          <p:nvPr>
            <p:ph/>
          </p:nvPr>
        </p:nvSpPr>
        <p:spPr>
          <a:xfrm>
            <a:off x="685440" y="152388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AM1 08:00 – 10:00</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genda Agreemen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mment resolu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resentation for the 802 tutorial</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cess</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AM1 08:00 – 10:00</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genda Agreemen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mment resolu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resentation for the 802.11 W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cess</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4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642" name="Rectangle 3"/>
          <p:cNvSpPr/>
          <p:nvPr/>
        </p:nvSpPr>
        <p:spPr>
          <a:xfrm>
            <a:off x="4648320" y="144792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1 13:30 – 15:30</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genda Agreemen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resentation for the 802.11 W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ces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PM2 16:00 – 18:00</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genda Agreemen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uture of the TI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cess/Adjourn</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3"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C1F64E-C254-411A-8AD7-C7C4CCCE4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Light Communications Topic Interest Group agenda for the  2017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7C1E08D-62AE-4ED8-9CAD-F604B846E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647"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graphicFrame>
        <p:nvGraphicFramePr>
          <p:cNvPr id="648" name=""/>
          <p:cNvGraphicFramePr/>
          <p:nvPr/>
        </p:nvGraphicFramePr>
        <p:xfrm>
          <a:off x="685800" y="1676520"/>
          <a:ext cx="7924680" cy="4564080"/>
        </p:xfrm>
        <a:graphic>
          <a:graphicData uri="http://schemas.openxmlformats.org/drawingml/2006/table">
            <a:tbl>
              <a:tblPr/>
              <a:tblGrid>
                <a:gridCol w="1295280"/>
                <a:gridCol w="3810240"/>
                <a:gridCol w="2819160"/>
              </a:tblGrid>
              <a:tr h="549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 of the Topic Interest Group document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tu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05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04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191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17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04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31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31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4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pic Interest Group Docu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41B25C-5C11-47FE-88D5-514644BE8A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0" lang="en-US" sz="3200" spc="-1" strike="noStrike">
              <a:solidFill>
                <a:srgbClr val="000000"/>
              </a:solidFill>
              <a:latin typeface="Times New Roman"/>
            </a:endParaRPr>
          </a:p>
        </p:txBody>
      </p:sp>
      <p:sp>
        <p:nvSpPr>
          <p:cNvPr id="65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3"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506FAD-D642-43B7-B1D9-3078CFCF6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d not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Code of Ethic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www.ieee.org/about/corporate/governance/p7-8.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Association (IEEE-SA) Affiliation FAQ</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tandards.ieee.org/faqs/affiliation.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trust and Competition Policy</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tandards.ieee.org/resources/antitrust-guidelines.pdf</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ministrative Items</a:t>
            </a:r>
            <a:endParaRPr b="0" lang="en-US" sz="3200" spc="-1" strike="noStrike">
              <a:solidFill>
                <a:srgbClr val="000000"/>
              </a:solidFill>
              <a:latin typeface="Times New Roman"/>
            </a:endParaRPr>
          </a:p>
        </p:txBody>
      </p:sp>
      <p:sp>
        <p:nvSpPr>
          <p:cNvPr id="566"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8E8DEF-B23F-4851-906A-E3AB028FD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G Operating Rules</a:t>
            </a:r>
            <a:endParaRPr b="1" lang="en-US" sz="3200" spc="-1" strike="noStrike">
              <a:solidFill>
                <a:srgbClr val="000000"/>
              </a:solidFill>
              <a:latin typeface="Times New Roman"/>
            </a:endParaRPr>
          </a:p>
        </p:txBody>
      </p:sp>
      <p:sp>
        <p:nvSpPr>
          <p:cNvPr id="572" name="Rectangle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body can vote, present, and make mo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tion in a TIG during 802.11 Plenary or Interim counts towards voting righ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motions must pass by a 75% majo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0ABA3A-C565-48CC-A57F-C555CDA69E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6" name="PlaceHolder 1"/>
          <p:cNvSpPr>
            <a:spLocks noGrp="1"/>
          </p:cNvSpPr>
          <p:nvPr>
            <p:ph type="title"/>
          </p:nvPr>
        </p:nvSpPr>
        <p:spPr>
          <a:xfrm>
            <a:off x="380520" y="685800"/>
            <a:ext cx="8458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577" name="Rectangle 4"/>
          <p:cNvSpPr/>
          <p:nvPr/>
        </p:nvSpPr>
        <p:spPr>
          <a:xfrm>
            <a:off x="533520" y="1219320"/>
            <a:ext cx="8229600" cy="5181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201"/>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spcAft>
                <a:spcPts val="10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Times New Roman"/>
                <a:ea typeface="Arial"/>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interpretation, validity, or essentiality of patents/patent claims. </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specific license rates, terms, or conditions.</a:t>
            </a:r>
            <a:endParaRPr b="0" lang="en-US" sz="1800" spc="-1" strike="noStrike">
              <a:solidFill>
                <a:srgbClr val="000000"/>
              </a:solidFill>
              <a:latin typeface="Times New Roman"/>
            </a:endParaRPr>
          </a:p>
          <a:p>
            <a:pPr lvl="2" marL="9144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8b"/>
                </a:solidFill>
                <a:latin typeface="Times New Roman"/>
                <a:ea typeface="Arial"/>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3716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2228b"/>
                </a:solidFill>
                <a:latin typeface="Times New Roman"/>
                <a:ea typeface="Arial"/>
              </a:rPr>
              <a:t>Technical considerations remain primary focus</a:t>
            </a:r>
            <a:endParaRPr b="0" lang="en-US" sz="16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or engage in the fixing of product prices, allocation of customers, or division of sales markets.</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status or substance of ongoing or threatened litigation.</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228b"/>
                </a:solidFill>
                <a:latin typeface="Times New Roman"/>
                <a:ea typeface="Arial"/>
              </a:rPr>
              <a:t>---------------------------------------------------------------   </a:t>
            </a:r>
            <a:endParaRPr b="0" lang="en-US" sz="10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8b"/>
                </a:solidFill>
                <a:latin typeface="Times New Roman"/>
                <a:ea typeface="Arial"/>
              </a:rPr>
              <a:t>See </a:t>
            </a:r>
            <a:r>
              <a:rPr b="1" i="1" lang="en-US" sz="1400" spc="-1" strike="noStrike">
                <a:solidFill>
                  <a:srgbClr val="22228b"/>
                </a:solidFill>
                <a:latin typeface="Times New Roman"/>
                <a:ea typeface="Arial"/>
              </a:rPr>
              <a:t>IEEE-SA Standards Board Operations Manual</a:t>
            </a:r>
            <a:r>
              <a:rPr b="1" lang="en-US" sz="1400" spc="-1" strike="noStrike">
                <a:solidFill>
                  <a:srgbClr val="22228b"/>
                </a:solidFill>
                <a:latin typeface="Times New Roman"/>
                <a:ea typeface="Arial"/>
              </a:rPr>
              <a:t>, clause 5.3.10 and </a:t>
            </a:r>
            <a:r>
              <a:rPr b="1" lang="en-GB" sz="1400" spc="-1" strike="noStrike">
                <a:solidFill>
                  <a:srgbClr val="22228b"/>
                </a:solidFill>
                <a:latin typeface="Times New Roman"/>
                <a:ea typeface="Arial"/>
              </a:rPr>
              <a:t>“Promoting Competition and Innovation: What You Need to Know about the IEEE Standards Association's Antitrust and Competition Policy”</a:t>
            </a:r>
            <a:r>
              <a:rPr b="1" lang="en-US" sz="1400" spc="-1" strike="noStrike">
                <a:solidFill>
                  <a:srgbClr val="22228b"/>
                </a:solidFill>
                <a:latin typeface="Times New Roman"/>
                <a:ea typeface="Arial"/>
              </a:rPr>
              <a:t> for more detail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A96D95-18CD-4B8B-83EC-757EF15AC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81" name="PlaceHolder 1"/>
          <p:cNvSpPr>
            <a:spLocks noGrp="1"/>
          </p:cNvSpPr>
          <p:nvPr>
            <p:ph type="title"/>
          </p:nvPr>
        </p:nvSpPr>
        <p:spPr>
          <a:xfrm>
            <a:off x="685440" y="609480"/>
            <a:ext cx="8001000" cy="1160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3200" spc="-1" strike="noStrike">
                <a:solidFill>
                  <a:srgbClr val="000000"/>
                </a:solidFill>
                <a:latin typeface="Times New Roman"/>
              </a:rPr>
              <a:t>Participation in IEEE 802 Meetings</a:t>
            </a:r>
            <a:endParaRPr b="1" lang="en-US" sz="3200" spc="-1" strike="noStrike">
              <a:solidFill>
                <a:srgbClr val="000000"/>
              </a:solidFill>
              <a:latin typeface="Times New Roman"/>
            </a:endParaRPr>
          </a:p>
        </p:txBody>
      </p:sp>
      <p:sp>
        <p:nvSpPr>
          <p:cNvPr id="582" name="Text Box 5"/>
          <p:cNvSpPr/>
          <p:nvPr/>
        </p:nvSpPr>
        <p:spPr>
          <a:xfrm>
            <a:off x="685800" y="1676520"/>
            <a:ext cx="7848720" cy="4495680"/>
          </a:xfrm>
          <a:prstGeom prst="rect">
            <a:avLst/>
          </a:prstGeom>
          <a:noFill/>
          <a:ln w="0">
            <a:noFill/>
          </a:ln>
        </p:spPr>
        <p:style>
          <a:lnRef idx="0"/>
          <a:fillRef idx="0"/>
          <a:effectRef idx="0"/>
          <a:fontRef idx="minor"/>
        </p:style>
        <p:txBody>
          <a:bodyPr lIns="92160" rIns="92160" tIns="46080" bIns="46080" anchor="t">
            <a:noAutofit/>
          </a:bodyPr>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600" spc="-1" strike="noStrike">
                <a:solidFill>
                  <a:srgbClr val="000000"/>
                </a:solidFill>
                <a:latin typeface="Times New Roman"/>
                <a:ea typeface="MS Gothic"/>
              </a:rPr>
              <a:t>All participation in IEEE 802 Working Group meetings is on an individual basis</a:t>
            </a:r>
            <a:endParaRPr b="0" lang="en-US" sz="16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i="1" lang="en-GB" sz="1400" spc="-1" strike="noStrike">
                <a:solidFill>
                  <a:srgbClr val="000000"/>
                </a:solidFill>
                <a:latin typeface="Times New Roman"/>
                <a:ea typeface="MS Gothic"/>
              </a:rPr>
              <a:t>•     </a:t>
            </a:r>
            <a:r>
              <a:rPr b="1" lang="en-GB" sz="1400" spc="-1" strike="noStrike">
                <a:solidFill>
                  <a:srgbClr val="000000"/>
                </a:solidFill>
                <a:latin typeface="Times New Roman"/>
                <a:ea typeface="MS Gothic"/>
              </a:rPr>
              <a:t>Participants in the IEEE standards development individual process shall act based on their qualifications and experience. (</a:t>
            </a:r>
            <a:r>
              <a:rPr b="0" lang="en-GB" sz="1400" spc="-1" strike="noStrike" u="sng">
                <a:solidFill>
                  <a:srgbClr val="0066ff"/>
                </a:solidFill>
                <a:uFillTx/>
                <a:latin typeface="Times New Roman"/>
                <a:ea typeface="MS Gothic"/>
                <a:hlinkClick r:id="rId1"/>
              </a:rPr>
              <a:t>https://standards.ieee.org/develop/policies/bylaws/sb_bylaws.pdf</a:t>
            </a:r>
            <a:r>
              <a:rPr b="1" lang="en-GB" sz="1400" spc="-1" strike="noStrike">
                <a:solidFill>
                  <a:srgbClr val="000000"/>
                </a:solidFill>
                <a:latin typeface="Times New Roman"/>
                <a:ea typeface="MS Gothic"/>
              </a:rPr>
              <a:t>section 5.2.1)</a:t>
            </a:r>
            <a:endParaRPr b="0" lang="en-US" sz="14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    </a:t>
            </a:r>
            <a:r>
              <a:rPr b="1" lang="en-GB" sz="1400" spc="-1" strike="noStrike">
                <a:solidFill>
                  <a:srgbClr val="000000"/>
                </a:solidFill>
                <a:latin typeface="Times New Roman"/>
                <a:ea typeface="MS Gothic"/>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400" spc="-1" strike="noStrike">
              <a:solidFill>
                <a:srgbClr val="000000"/>
              </a:solidFill>
              <a:latin typeface="Times New Roman"/>
            </a:endParaRPr>
          </a:p>
          <a:p>
            <a:pPr marL="343080" indent="-339840">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400" spc="-1" strike="noStrike">
              <a:solidFill>
                <a:srgbClr val="000000"/>
              </a:solidFill>
              <a:latin typeface="Times New Roman"/>
            </a:endParaRPr>
          </a:p>
          <a:p>
            <a:pPr marL="343080" indent="-339840">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Participants shall not direct the actions or votes of any other member of an IEEE 802 Working Group or retaliate against any other member for their actions or votes within IEEE 802 Working Group meetings, see </a:t>
            </a:r>
            <a:r>
              <a:rPr b="0" lang="en-GB" sz="1400" spc="-1" strike="noStrike" u="sng">
                <a:solidFill>
                  <a:srgbClr val="0066ff"/>
                </a:solidFill>
                <a:uFillTx/>
                <a:latin typeface="Times New Roman"/>
                <a:ea typeface="MS Gothic"/>
                <a:hlinkClick r:id="rId2"/>
              </a:rPr>
              <a:t>https://standards.ieee.org/develop/policies/bylaws/sb_bylaws.pdf </a:t>
            </a:r>
            <a:r>
              <a:rPr b="1" lang="en-GB" sz="1400" spc="-1" strike="noStrike">
                <a:solidFill>
                  <a:srgbClr val="000000"/>
                </a:solidFill>
                <a:latin typeface="Times New Roman"/>
                <a:ea typeface="MS Gothic"/>
              </a:rPr>
              <a:t> section 5.2.1.3 and the IEEE 802 LMSC Working Group Policies and Procedures, subclause 3.4.1 “Chair”, list item x.</a:t>
            </a:r>
            <a:endParaRPr b="0" lang="en-US" sz="14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600" spc="-1" strike="noStrike">
                <a:solidFill>
                  <a:srgbClr val="000000"/>
                </a:solidFill>
                <a:latin typeface="Times New Roman"/>
                <a:ea typeface="MS Gothic"/>
              </a:rPr>
              <a:t>By participating in IEEE 802 meetings, you accept these requirements.  If you do not agree to these policies then you shall not participate.</a:t>
            </a:r>
            <a:endParaRPr b="0" lang="en-US" sz="1600" spc="-1" strike="noStrike">
              <a:solidFill>
                <a:srgbClr val="000000"/>
              </a:solidFill>
              <a:latin typeface="Times New Roman"/>
            </a:endParaRPr>
          </a:p>
          <a:p>
            <a:pPr marL="343080" indent="-339840" algn="ctr">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en-GB" sz="1200" spc="-1" strike="noStrike">
                <a:solidFill>
                  <a:srgbClr val="000000"/>
                </a:solidFill>
                <a:latin typeface="Times New Roman"/>
                <a:ea typeface="MS Gothic"/>
              </a:rPr>
              <a:t>(Latest revision of IEEE 802 LMSC Working Group Policies and Procedures: </a:t>
            </a:r>
            <a:r>
              <a:rPr b="0" lang="en-GB" sz="1200" spc="-1" strike="noStrike" u="sng">
                <a:solidFill>
                  <a:srgbClr val="0066ff"/>
                </a:solidFill>
                <a:uFillTx/>
                <a:latin typeface="Times New Roman"/>
                <a:ea typeface="MS Gothic"/>
                <a:hlinkClick r:id="rId3"/>
              </a:rPr>
              <a:t>http://www.ieee802.org/devdocs.shtml</a:t>
            </a:r>
            <a:r>
              <a:rPr b="0" lang="en-GB" sz="1200" spc="-1" strike="noStrike">
                <a:solidFill>
                  <a:srgbClr val="000000"/>
                </a:solidFill>
                <a:latin typeface="Times New Roman"/>
                <a:ea typeface="MS Gothic"/>
              </a:rPr>
              <a:t>)</a:t>
            </a:r>
            <a:endParaRPr b="0" lang="en-US" sz="12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BF189A-B8C5-4C51-9DD7-7706B30FD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LC TIG”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586"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C0A2FF-1FB3-41F3-8883-745608408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90"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graphicFrame>
        <p:nvGraphicFramePr>
          <p:cNvPr id="591" name=""/>
          <p:cNvGraphicFramePr/>
          <p:nvPr/>
        </p:nvGraphicFramePr>
        <p:xfrm>
          <a:off x="762120" y="1752480"/>
          <a:ext cx="7696080" cy="181152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ikola Serafimovski</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XX</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lker Jungnickel </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IG Report 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 Qiang (John) </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5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724CB8-BDB3-48C8-B342-BED0A2B60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C TIG schedule in a glance</a:t>
            </a:r>
            <a:endParaRPr b="0" lang="en-US" sz="3200" spc="-1" strike="noStrike">
              <a:solidFill>
                <a:srgbClr val="000000"/>
              </a:solidFill>
              <a:latin typeface="Times New Roman"/>
            </a:endParaRPr>
          </a:p>
        </p:txBody>
      </p:sp>
      <p:graphicFrame>
        <p:nvGraphicFramePr>
          <p:cNvPr id="595" name=""/>
          <p:cNvGraphicFramePr/>
          <p:nvPr/>
        </p:nvGraphicFramePr>
        <p:xfrm>
          <a:off x="762120" y="1752480"/>
          <a:ext cx="7543800" cy="4078440"/>
        </p:xfrm>
        <a:graphic>
          <a:graphicData uri="http://schemas.openxmlformats.org/drawingml/2006/table">
            <a:tbl>
              <a:tblPr/>
              <a:tblGrid>
                <a:gridCol w="904680"/>
                <a:gridCol w="1282680"/>
                <a:gridCol w="1282680"/>
                <a:gridCol w="1351080"/>
                <a:gridCol w="1351080"/>
                <a:gridCol w="137160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65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C</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C</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ation to WG</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0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C</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699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C</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596"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Nikola Serafimovski</dc:creator>
  <dc:description/>
  <cp:keywords>May 2017</cp:keywords>
  <dc:language>en-US</dc:language>
  <cp:lastModifiedBy>Serafimovski, Nikola</cp:lastModifiedBy>
  <cp:lastPrinted>2014-11-04T15:04:57Z</cp:lastPrinted>
  <dcterms:modified xsi:type="dcterms:W3CDTF">2017-06-28T16:32:58Z</dcterms:modified>
  <cp:revision>3795</cp:revision>
  <dc:subject>Task Group AY November 2015 Meeting Agenda</dc:subject>
  <dc:title>11-16/1584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