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14B2E542-B44F-4B1C-8B57-4258DD1DBD6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A1B0578-9D9C-4D32-825A-90593B745E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1154160" y="701640"/>
            <a:ext cx="4626000" cy="3468600"/>
          </a:xfrm>
          <a:prstGeom prst="rect">
            <a:avLst/>
          </a:prstGeom>
          <a:ln w="0">
            <a:noFill/>
          </a:ln>
        </p:spPr>
      </p:sp>
      <p:sp>
        <p:nvSpPr>
          <p:cNvPr id="6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54160" y="701640"/>
            <a:ext cx="4626000" cy="3468600"/>
          </a:xfrm>
          <a:prstGeom prst="rect">
            <a:avLst/>
          </a:prstGeom>
          <a:ln w="0">
            <a:noFill/>
          </a:ln>
        </p:spPr>
      </p:sp>
      <p:sp>
        <p:nvSpPr>
          <p:cNvPr id="7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298F564-744E-42B7-954E-D210C2B65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1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AF87A31-AD58-4CD5-A37C-3683ACF645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54160" y="701640"/>
            <a:ext cx="4626000" cy="3468600"/>
          </a:xfrm>
          <a:prstGeom prst="rect">
            <a:avLst/>
          </a:prstGeom>
          <a:ln w="0">
            <a:noFill/>
          </a:ln>
        </p:spPr>
      </p:sp>
      <p:sp>
        <p:nvSpPr>
          <p:cNvPr id="7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1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751F41E-05FC-47FA-AD70-3C153B440A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54160" y="701640"/>
            <a:ext cx="4626000" cy="3468600"/>
          </a:xfrm>
          <a:prstGeom prst="rect">
            <a:avLst/>
          </a:prstGeom>
          <a:ln w="0">
            <a:noFill/>
          </a:ln>
        </p:spPr>
      </p:sp>
      <p:sp>
        <p:nvSpPr>
          <p:cNvPr id="7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2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419A0CC-A7F7-499F-9475-F4BC8F728C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54160" y="701640"/>
            <a:ext cx="4626000" cy="3468600"/>
          </a:xfrm>
          <a:prstGeom prst="rect">
            <a:avLst/>
          </a:prstGeom>
          <a:ln w="0">
            <a:noFill/>
          </a:ln>
        </p:spPr>
      </p:sp>
      <p:sp>
        <p:nvSpPr>
          <p:cNvPr id="7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3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E8B5A8C-4D8B-488C-9CA6-F5354AEA6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54160" y="701640"/>
            <a:ext cx="4626000" cy="3468600"/>
          </a:xfrm>
          <a:prstGeom prst="rect">
            <a:avLst/>
          </a:prstGeom>
          <a:ln w="0">
            <a:noFill/>
          </a:ln>
        </p:spPr>
      </p:sp>
      <p:sp>
        <p:nvSpPr>
          <p:cNvPr id="7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54160" y="701640"/>
            <a:ext cx="4626000" cy="3468600"/>
          </a:xfrm>
          <a:prstGeom prst="rect">
            <a:avLst/>
          </a:prstGeom>
          <a:ln w="0">
            <a:noFill/>
          </a:ln>
        </p:spPr>
      </p:sp>
      <p:sp>
        <p:nvSpPr>
          <p:cNvPr id="7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C5DCF5A-6422-4B2D-B781-90D245F3E7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54160" y="701640"/>
            <a:ext cx="4626000" cy="3468600"/>
          </a:xfrm>
          <a:prstGeom prst="rect">
            <a:avLst/>
          </a:prstGeom>
          <a:ln w="0">
            <a:noFill/>
          </a:ln>
        </p:spPr>
      </p:sp>
      <p:sp>
        <p:nvSpPr>
          <p:cNvPr id="7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4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4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B4167AB-AB0F-4C5D-9D01-7DE2BEFB55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3484E1C-4143-48D4-A799-FD3406FC3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1154160" y="701640"/>
            <a:ext cx="4626000" cy="3468600"/>
          </a:xfrm>
          <a:prstGeom prst="rect">
            <a:avLst/>
          </a:prstGeom>
          <a:ln w="0">
            <a:noFill/>
          </a:ln>
        </p:spPr>
      </p:sp>
      <p:sp>
        <p:nvSpPr>
          <p:cNvPr id="6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6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95720C3-2368-4DC9-9B70-DDEB84FB8E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PlaceHolder 1"/>
          <p:cNvSpPr>
            <a:spLocks noGrp="1"/>
          </p:cNvSpPr>
          <p:nvPr>
            <p:ph type="sldImg"/>
          </p:nvPr>
        </p:nvSpPr>
        <p:spPr>
          <a:xfrm>
            <a:off x="1154160" y="701640"/>
            <a:ext cx="4626000" cy="3468600"/>
          </a:xfrm>
          <a:prstGeom prst="rect">
            <a:avLst/>
          </a:prstGeom>
          <a:ln w="0">
            <a:noFill/>
          </a:ln>
        </p:spPr>
      </p:sp>
      <p:sp>
        <p:nvSpPr>
          <p:cNvPr id="6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6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9772F43-FE92-494A-8925-CA6446C7B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8" name="PlaceHolder 1"/>
          <p:cNvSpPr>
            <a:spLocks noGrp="1"/>
          </p:cNvSpPr>
          <p:nvPr>
            <p:ph type="sldImg"/>
          </p:nvPr>
        </p:nvSpPr>
        <p:spPr>
          <a:xfrm>
            <a:off x="1154160" y="701640"/>
            <a:ext cx="4626000" cy="3468600"/>
          </a:xfrm>
          <a:prstGeom prst="rect">
            <a:avLst/>
          </a:prstGeom>
          <a:ln w="0">
            <a:noFill/>
          </a:ln>
        </p:spPr>
      </p:sp>
      <p:sp>
        <p:nvSpPr>
          <p:cNvPr id="6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1"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2"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7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F55426D-FD8E-4E53-81F5-966E1A05F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4" name="PlaceHolder 1"/>
          <p:cNvSpPr>
            <a:spLocks noGrp="1"/>
          </p:cNvSpPr>
          <p:nvPr>
            <p:ph type="sldImg"/>
          </p:nvPr>
        </p:nvSpPr>
        <p:spPr>
          <a:xfrm>
            <a:off x="1154160" y="701640"/>
            <a:ext cx="4626000" cy="3468600"/>
          </a:xfrm>
          <a:prstGeom prst="rect">
            <a:avLst/>
          </a:prstGeom>
          <a:ln w="0">
            <a:noFill/>
          </a:ln>
        </p:spPr>
      </p:sp>
      <p:sp>
        <p:nvSpPr>
          <p:cNvPr id="6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7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C3E28BA-AF6F-494B-808E-E05BF53106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0" name="PlaceHolder 1"/>
          <p:cNvSpPr>
            <a:spLocks noGrp="1"/>
          </p:cNvSpPr>
          <p:nvPr>
            <p:ph type="sldImg"/>
          </p:nvPr>
        </p:nvSpPr>
        <p:spPr>
          <a:xfrm>
            <a:off x="1154160" y="701640"/>
            <a:ext cx="4626000" cy="3468600"/>
          </a:xfrm>
          <a:prstGeom prst="rect">
            <a:avLst/>
          </a:prstGeom>
          <a:ln w="0">
            <a:noFill/>
          </a:ln>
        </p:spPr>
      </p:sp>
      <p:sp>
        <p:nvSpPr>
          <p:cNvPr id="6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8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A563E95-9435-46B5-B8F1-C2ACC1B759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8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88"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8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B3C3535-3AC4-4FB9-A46D-4B9E58352B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54160" y="701640"/>
            <a:ext cx="4626000" cy="3468600"/>
          </a:xfrm>
          <a:prstGeom prst="rect">
            <a:avLst/>
          </a:prstGeom>
          <a:ln w="0">
            <a:noFill/>
          </a:ln>
        </p:spPr>
      </p:sp>
      <p:sp>
        <p:nvSpPr>
          <p:cNvPr id="6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693"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694"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69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2B6CC33-4C3E-426F-A149-2AE230DCA3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54160" y="701640"/>
            <a:ext cx="4626000" cy="3468600"/>
          </a:xfrm>
          <a:prstGeom prst="rect">
            <a:avLst/>
          </a:prstGeom>
          <a:ln w="0">
            <a:noFill/>
          </a:ln>
        </p:spPr>
      </p:sp>
      <p:sp>
        <p:nvSpPr>
          <p:cNvPr id="6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54160" y="701640"/>
            <a:ext cx="4626000" cy="3468600"/>
          </a:xfrm>
          <a:prstGeom prst="rect">
            <a:avLst/>
          </a:prstGeom>
          <a:ln w="0">
            <a:noFill/>
          </a:ln>
        </p:spPr>
      </p:sp>
      <p:sp>
        <p:nvSpPr>
          <p:cNvPr id="6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82BEF32-53C5-4053-BDE4-E4B8F8713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CDE60-40E5-4F9C-B8E1-93B86DD65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1F366-E944-4479-BA65-2982E9E42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30EFB7-6DEA-4928-9503-B18F7338BD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ED3E31-C2FC-44EF-AD33-412CC0F7C1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6CB5E7-1D04-4EF1-846A-258AC4BCCF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0B9AF7-D255-4863-A280-2CFBC7619B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54779A-DED5-4795-91D7-65C5CA7652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2933FB-EE8F-419A-88A3-51C834EB46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CF1548-1815-4536-8693-562CD997F6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BF3BB4-BA91-4F9F-BACA-D616013894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897039-90F2-4DD2-9FE2-EDEBBC0F7E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AA9F480-3DCC-4E04-B739-CD2E41DE058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1C7C4-CF3A-41C9-BD2D-DEF1178BB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A9A71B0-9836-43D0-8632-77343BCF28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596A0E6-926E-494C-8363-DC5C73BE015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89D248-326C-4FCB-ABE5-2192D5E283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CA1EADC-CC92-45F1-B05D-75DEE67D38F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EC10CA-E9E0-46F5-BF3D-4F5B3544CA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108D37-3D04-45DE-87E8-23FBF40857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BAE38C-E264-4095-949C-86A1698081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526420-5C7F-41C9-8ED6-00E10E2C06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387420-6A75-4561-952F-1760114D577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57444FA-7E82-4216-A4D5-D3B731A066B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83B31-2402-4BC8-8CA5-2CCF10FE8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D244998-278C-4169-8F42-FD265B2CC11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2C8F14B-E1D3-4919-B594-20BBFE4CA13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F0B1CD-4420-4D2C-BC5F-A594D3C15D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E60BD2-C7FA-47DE-AEAC-CA5A135B99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3A17D9-CEB4-428C-8EB5-6DCD0BCBF0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FFE58A-D68A-4C65-8287-D290199D0F3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52F403-6CDD-4E66-8F13-ADC7034039D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4CF9AA-B375-4B9D-BCBE-3484B06889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F84A1D-B3D9-4568-A56E-68593FBCF2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90F715-1FD5-4625-8455-EEF0AF4949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3B1DE64E-17A6-4CFE-8737-8D5C287254D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4044205-AE7E-47F1-9474-BA82A16E2D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E9D4119-8B29-408E-961A-73ACA74A1E3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A4B29E2-CB38-4F97-A45D-AEE32D49364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207A9A5-6C19-43C5-B7AE-E813C066D6C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1CD68B6-5BA9-48D3-AE3E-9A31F04E9AE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1BC9403-C8F7-46C8-9CAD-2B5A918701A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0BFA4F1-4D56-446A-964E-7246AAF5D0B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EC2BC1F-E935-45E4-8DAF-9E7B3C4E474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A415B91-711C-4104-87F3-AB10AFBB77D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8E64B8-8E56-4E59-A4B1-1BCC044B77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41D60333-D592-4F6F-911E-52B07DDE3C9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28172AC-4383-4AB5-ACD4-9404F8DDC7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337E2C-895A-4AA0-BBD1-55FC817A41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FCF930-0B77-4AF2-9511-E65A4401D85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A7B5115-36BA-4ED4-9BE6-CF148EA5E1A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2A01BCE-E9A0-4F00-BD19-C12EFDA1927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093A9C24-2C76-4FF2-9AE6-4582E86BDFD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CAE5709F-5272-49CF-B242-F6D027D7A6E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E248E197-5F9C-44C6-A2E0-48AA860F9F2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C0490099-EE02-43FE-8C1E-BE56EBA4DD2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BAAEBD6E-FF3E-46CA-9EEF-A54808B9FCB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271B8-F418-4DA0-B2C1-2F04696CD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6E7F948B-CAE4-47FA-8A5B-6264053DB60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87B3A32C-0EEB-42EA-94EC-DAB72343406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55A3D51A-98E7-4F55-80F5-655720CE74D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497FD29B-B1E9-4046-A197-9B1469C4A58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50698204-8E6C-4B63-B628-11A29FB2DD1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7B217A-6063-4B75-A617-2E337AE762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78C492-120C-4DEC-8C0C-425061AD91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6916A1-89FB-444C-BB65-CCB11CEE26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A8D113-72E9-46AA-ACC8-2EC105ED7E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F37D26-E39F-4E35-BC62-7C5C18B94E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574BD-43C6-4C49-A2FE-9838317C3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CC9BF9-07EB-4C22-9C5C-ABB2973E9D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79C20C-A8BC-41B4-AD5D-458FBB368E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1DE951-653A-4F96-BB9C-A9CE40613B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16EBF6-F90B-492B-8BA4-2876EECDC4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02819F-447D-4DF7-A743-415DE2B574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D77E75-7475-49EB-96C3-5784DDAE41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7AF3C5-8C08-4841-BA5F-1A2873EC78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D7087E-2FC5-4BD2-9EC4-28D224A3E8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1AAF42-DC3E-45AA-98C0-20F2D9A260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D6F264-6F3B-4344-9A57-FE6611A24E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DE71E-2C98-4C5D-98AC-52B35D4FA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068093-5EFE-4EE4-A669-11A2878C28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6FE687-DA80-4CF1-A19D-29C9D83653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B07403-56FB-4CEA-A0EA-CD115C651F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DA88AF-44FE-4E0C-B089-B4FB67286F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78E6D4-A17C-46A7-90AF-B270E878D1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544359-C3A4-4405-A0DB-46C32DFBE0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494B4C-958A-4CAD-B174-3C1499554B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581971-0253-44B0-BA02-53A48CE655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0A7B03-92A4-44F9-B7EC-40A40FAE26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2C2907-23E1-4A41-848A-F41392AA14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083E2-F71D-45EC-B91D-78E23C862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E68F65-A8A7-4150-ABCE-DBEB457E19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1896E8-02EF-42CC-918D-35A4C2CD75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31C653-2398-4312-98E2-7CE4E28592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97BF38-3C3D-401B-AEE0-057DA2120B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3492C3-7A90-424E-8A7A-B6A17FFCA8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A96B3F-E1BE-4889-8C95-6F2E784B2C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17C1EF-3318-4B02-944B-47A447292A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FFC42F-A9A9-411F-9CF0-99C973FC0C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78B275-4DBA-4B04-A889-3F6E4FF421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B7D09F-8313-48F5-B608-93BFB36964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C3FEA-FC05-4A8F-97F2-F47C99A59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EC8A1F-B45A-481E-A750-16C331DD68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F77A91-63AE-4DC4-BFCC-95763A2F5A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2C81C6-7B4C-44BA-AE81-8B98419A1D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AB2CA4-F050-47E8-9634-A6DBC66A6B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EE0543-DADC-4269-A970-661F3355F9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805E58-5FD4-4B63-ABFC-14E77E22E9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2611DA-07C8-4470-9F7B-8ED6336DA8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8DF09E-A8D9-4B87-B4F7-D3CA7354B8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420767-964B-4A57-A320-609D820342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B1AC08-F1DA-4C46-854F-D8664717CF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E79C7-CC29-4215-8AB2-B8D7500EF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AD47CE-2849-40ED-B2EC-D5EAD30902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690CEA-A61B-4931-8F8F-61FEC0AC65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F726F5-5A65-4EC1-AA2C-F466FF8C6E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D457D2-6F85-48D8-9E6C-D3CA2F3A0D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1056A4-7A54-4FE1-95AC-EC27C56EB9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AEADC7-F8AD-491C-B40E-DEC9596F20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79C821-4805-4D9D-9A03-A522F92903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A564ED-27D5-4F4D-ACE4-46F0D8141D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6417B9-2117-4EA0-AFCA-5D35F36379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A4C621-A120-49D3-93B6-10E2E9B1FA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6C0EC-40A2-4B31-A6BB-46420A99A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A1A1B4-C5F1-4CD7-A0AA-AB19774A02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852E4B-8DE3-4333-9EB5-5A984846ED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8F53F9-6BCD-4821-ADA5-1CD909F393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E5DDA8-4E6A-4408-AA31-7F3ED497A9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542E74-7734-4447-8EB5-69F199F767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01F60D-CC6A-4685-A897-7BF281E93F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36533D-7B5D-4364-98E5-1FEE289EF7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7B91E1-6F41-42DB-82BB-E5D835CD6F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3E4ED3-4172-49E2-AE7C-7CABF799CC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1EB47D-06D3-4C82-9910-6B23D75C3D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4E8B5-3CE8-45F2-9419-8B5397918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5ACBE2-6B7E-4FC5-8107-392DC57FC3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D9A99E-26C6-4B78-B125-FF18A5EBC1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C7992F-67FF-4286-AA9A-52A7ED45B0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3ACA6C-65CA-40C7-B841-98BD4B46C7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0F5A07-42F5-4B4B-A627-5A0A26F3B1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3A8F0C-108C-41E3-8090-ED50D62B92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61D50D-AE6A-494C-9B7B-98CD40742E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BE9B9D-7F8F-4057-884C-52F1032BD1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8B7EA2-A147-4497-B811-ECD221FCCC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FBD4DE-AE0C-470A-BE8D-D7029172721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68C1D13-2B6C-4872-B939-3523BD11234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56F79B8-FF08-4952-9A41-BD79540FBE1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23A5AC9-F771-470B-8E78-42F9C789384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B25BBC7-179D-4AB0-B8B4-416EAECF45C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sldNum" idx="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BD03FFC-77E5-453E-A4A7-508A52E2B9C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2" name="PlaceHolder 4"/>
          <p:cNvSpPr>
            <a:spLocks noGrp="1"/>
          </p:cNvSpPr>
          <p:nvPr>
            <p:ph type="dt" idx="5"/>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3" name="PlaceHolder 5"/>
          <p:cNvSpPr>
            <a:spLocks noGrp="1"/>
          </p:cNvSpPr>
          <p:nvPr>
            <p:ph type="ftr" idx="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8C19C30-A88D-4CBC-AA58-8E59A7A5C8D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81CD2B4-4228-4E87-A9BD-D80CD2BF64F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323D552-AA6A-44A5-83E9-458BDBC8599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78FCA51-0254-453E-B746-A4F84A48E31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CDBD280-3BC9-4282-89FA-3D9E3B31BA4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9F4A824-5168-4AA4-8E48-103529D7B64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D16AC07-2378-41AE-9E9E-43693D51188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s://mentor.ieee.org/802.11/dcn/17/11-17-0827-00-00lc-may-meeting-minutes.docx" TargetMode="External"/><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tandards.ieee.org/faqs/affiliation.html" TargetMode="External"/><Relationship Id="rId3" Type="http://schemas.openxmlformats.org/officeDocument/2006/relationships/hyperlink" Target="http://standards.ieee.org/resources/antitrust-guidelines.pdf" TargetMode="External"/><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s://standards.ieee.org/develop/policies/bylaws/sb_bylaws.pdf%20section%205.2.1.3"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AA9D85E-CC89-4BDD-9781-65D369D66F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ght Communications Topic Interest Group  2017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7521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7-05-31</a:t>
            </a:r>
            <a:endParaRPr b="1" lang="en-US" sz="2000" spc="-1" strike="noStrike">
              <a:solidFill>
                <a:srgbClr val="000000"/>
              </a:solidFill>
              <a:latin typeface="Times New Roman"/>
            </a:endParaRPr>
          </a:p>
        </p:txBody>
      </p:sp>
      <p:graphicFrame>
        <p:nvGraphicFramePr>
          <p:cNvPr id="555" name="Object 11"/>
          <p:cNvGraphicFramePr/>
          <p:nvPr/>
        </p:nvGraphicFramePr>
        <p:xfrm>
          <a:off x="671400" y="2666880"/>
          <a:ext cx="9126720" cy="1175040"/>
        </p:xfrm>
        <a:graphic>
          <a:graphicData uri="http://schemas.openxmlformats.org/presentationml/2006/ole">
            <p:oleObj progId="Word.Document.12" r:id="rId1" spid="">
              <p:embed/>
              <p:pic>
                <p:nvPicPr>
                  <p:cNvPr id="556" name="Object 11" descr=""/>
                  <p:cNvPicPr/>
                  <p:nvPr/>
                </p:nvPicPr>
                <p:blipFill>
                  <a:blip r:embed="rId2"/>
                  <a:stretch/>
                </p:blipFill>
                <p:spPr>
                  <a:xfrm>
                    <a:off x="671400" y="2666880"/>
                    <a:ext cx="9126720" cy="117504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19FFDB-0AC5-4DFD-A953-EE5B663E9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0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genda Agree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bmissions to be discussed</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esentation for the 802 tutorial</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esentation for the 802.11 WG</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ture of the TI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1"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0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DA3C18-31C2-4871-8823-A9A8EAD24B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08:00 – 10:00</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E75A6B-52B5-4868-A505-88F2251B98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09"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bmissions to be discussed today?</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pprove minutes from May meeting (</a:t>
            </a:r>
            <a:r>
              <a:rPr b="0" lang="en-GB" sz="2000" spc="-1" strike="noStrike" u="sng">
                <a:solidFill>
                  <a:srgbClr val="0066ff"/>
                </a:solidFill>
                <a:uFillTx/>
                <a:latin typeface="Times New Roman"/>
                <a:hlinkClick r:id="rId1"/>
              </a:rPr>
              <a:t>https://mentor.ieee.org/802.11/dcn/17/11-17-0827-00-00lc-may-meeting-minutes.docx</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ent resolution against doc. 17/11-0023r8</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view and comments against the presentation for the tutorial session on High Speed Optical Wireless Communications to the wider 802</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0FD839-9FBA-4C74-919F-6C39EAC8E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3:30 – 15:30</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4"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CFF605C-E568-4E05-9274-F5BCA4C75A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1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bmissions to be discussed today?</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ent resolution against doc. 17/11-0023r8</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view the presentation on the TIG output aimed at the 802.11 WG.</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9"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574AC9-7D7F-4728-ADBE-507396E52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2"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PM2 16:00 – 18:00</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3"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579D6D-9FC7-45BB-BEDC-77527DFC96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27"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bmissions to be discussed today?</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xt steps for the TIG</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8"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66A05E7-E6FE-46C3-A7BC-C5E617E32E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1" name="PlaceHolder 1"/>
          <p:cNvSpPr>
            <a:spLocks noGrp="1"/>
          </p:cNvSpPr>
          <p:nvPr>
            <p:ph/>
          </p:nvPr>
        </p:nvSpPr>
        <p:spPr>
          <a:xfrm>
            <a:off x="685440" y="1523880"/>
            <a:ext cx="4343400" cy="50292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AM1 08:00 – 10:00</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genda Agreement</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mment resolu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resentation for the 802 tutorial</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cess</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PM1 13:30 – 15:30</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genda Agreement</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resentation for the 802.11 W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cess</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a:t>
            </a:r>
            <a:endParaRPr b="0" lang="en-US" sz="3200" spc="-1" strike="noStrike">
              <a:solidFill>
                <a:srgbClr val="000000"/>
              </a:solidFill>
              <a:latin typeface="Times New Roman"/>
            </a:endParaRPr>
          </a:p>
        </p:txBody>
      </p:sp>
      <p:sp>
        <p:nvSpPr>
          <p:cNvPr id="633" name="Rectangle 3"/>
          <p:cNvSpPr/>
          <p:nvPr/>
        </p:nvSpPr>
        <p:spPr>
          <a:xfrm>
            <a:off x="4648320" y="1447920"/>
            <a:ext cx="41148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PM2 16:00 – 18:00</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genda Agreement</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uture of the TI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cess/Adjourn</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4"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0AE0F1-DC21-4A8E-B8BF-5766EF3809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638"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graphicFrame>
        <p:nvGraphicFramePr>
          <p:cNvPr id="639" name=""/>
          <p:cNvGraphicFramePr/>
          <p:nvPr/>
        </p:nvGraphicFramePr>
        <p:xfrm>
          <a:off x="685800" y="1676520"/>
          <a:ext cx="7924680" cy="4564080"/>
        </p:xfrm>
        <a:graphic>
          <a:graphicData uri="http://schemas.openxmlformats.org/drawingml/2006/table">
            <a:tbl>
              <a:tblPr/>
              <a:tblGrid>
                <a:gridCol w="1295280"/>
                <a:gridCol w="3810240"/>
                <a:gridCol w="2819160"/>
              </a:tblGrid>
              <a:tr h="549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 of the Topic Interest Group document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Statu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050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04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191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17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04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31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31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4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pic Interest Group Docu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4B4E7A-5B2C-46D0-851B-28705E2A15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a:t>
            </a:r>
            <a:endParaRPr b="0" lang="en-US" sz="3200" spc="-1" strike="noStrike">
              <a:solidFill>
                <a:srgbClr val="000000"/>
              </a:solidFill>
              <a:latin typeface="Times New Roman"/>
            </a:endParaRPr>
          </a:p>
        </p:txBody>
      </p:sp>
      <p:sp>
        <p:nvSpPr>
          <p:cNvPr id="64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4"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6D1AF60-7B14-4139-8412-E57BD4E5FE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Light Communications Topic Interest Group agenda for the  2017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F9FC60-5577-4FA5-AB7A-58EE86503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ired not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Code of Ethic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www.ieee.org/about/corporate/governance/p7-8.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Association (IEEE-SA) Affiliation FAQ</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tandards.ieee.org/faqs/affiliation.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itrust and Competition Policy</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tandards.ieee.org/resources/antitrust-guidelines.pdf</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ministrative Items</a:t>
            </a:r>
            <a:endParaRPr b="0" lang="en-US" sz="3200" spc="-1" strike="noStrike">
              <a:solidFill>
                <a:srgbClr val="000000"/>
              </a:solidFill>
              <a:latin typeface="Times New Roman"/>
            </a:endParaRPr>
          </a:p>
        </p:txBody>
      </p:sp>
      <p:sp>
        <p:nvSpPr>
          <p:cNvPr id="566"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8DA9E1-CCF8-4795-BD22-B4C4EE7CE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G Operating Rules</a:t>
            </a:r>
            <a:endParaRPr b="1" lang="en-US" sz="3200" spc="-1" strike="noStrike">
              <a:solidFill>
                <a:srgbClr val="000000"/>
              </a:solidFill>
              <a:latin typeface="Times New Roman"/>
            </a:endParaRPr>
          </a:p>
        </p:txBody>
      </p:sp>
      <p:sp>
        <p:nvSpPr>
          <p:cNvPr id="572" name="Rectangle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body can vote, present, and make mo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icipation in a TIG during 802.11 Plenary or Interim counts towards voting righ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motions must pass by a 75% major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A5BA214-8E87-4810-A7DC-0A98C6FCCC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76" name="PlaceHolder 1"/>
          <p:cNvSpPr>
            <a:spLocks noGrp="1"/>
          </p:cNvSpPr>
          <p:nvPr>
            <p:ph type="title"/>
          </p:nvPr>
        </p:nvSpPr>
        <p:spPr>
          <a:xfrm>
            <a:off x="380520" y="685800"/>
            <a:ext cx="8458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577" name="Rectangle 4"/>
          <p:cNvSpPr/>
          <p:nvPr/>
        </p:nvSpPr>
        <p:spPr>
          <a:xfrm>
            <a:off x="533520" y="1219320"/>
            <a:ext cx="8229600" cy="518148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201"/>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nSpc>
                <a:spcPct val="80000"/>
              </a:lnSpc>
              <a:spcAft>
                <a:spcPts val="10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Times New Roman"/>
                <a:ea typeface="Arial"/>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the interpretation, validity, or essentiality of patents/patent claims. </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specific license rates, terms, or conditions.</a:t>
            </a:r>
            <a:endParaRPr b="0" lang="en-US" sz="1800" spc="-1" strike="noStrike">
              <a:solidFill>
                <a:srgbClr val="000000"/>
              </a:solidFill>
              <a:latin typeface="Times New Roman"/>
            </a:endParaRPr>
          </a:p>
          <a:p>
            <a:pPr lvl="2" marL="914400">
              <a:lnSpc>
                <a:spcPct val="80000"/>
              </a:lnSpc>
              <a:spcAft>
                <a:spcPts val="799"/>
              </a:spcAft>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8b"/>
                </a:solidFill>
                <a:latin typeface="Times New Roman"/>
                <a:ea typeface="Arial"/>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371600">
              <a:lnSpc>
                <a:spcPct val="80000"/>
              </a:lnSpc>
              <a:spcAft>
                <a:spcPts val="799"/>
              </a:spcAft>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2228b"/>
                </a:solidFill>
                <a:latin typeface="Times New Roman"/>
                <a:ea typeface="Arial"/>
              </a:rPr>
              <a:t>Technical considerations remain primary focus</a:t>
            </a:r>
            <a:endParaRPr b="0" lang="en-US" sz="16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or engage in the fixing of product prices, allocation of customers, or division of sales markets.</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the status or substance of ongoing or threatened litigation.</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228b"/>
                </a:solidFill>
                <a:latin typeface="Times New Roman"/>
                <a:ea typeface="Arial"/>
              </a:rPr>
              <a:t>---------------------------------------------------------------   </a:t>
            </a:r>
            <a:endParaRPr b="0" lang="en-US" sz="1000" spc="-1" strike="noStrike">
              <a:solidFill>
                <a:srgbClr val="000000"/>
              </a:solidFill>
              <a:latin typeface="Times New Roman"/>
            </a:endParaRPr>
          </a:p>
          <a:p>
            <a:pPr marL="230040" indent="-2300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8b"/>
                </a:solidFill>
                <a:latin typeface="Times New Roman"/>
                <a:ea typeface="Arial"/>
              </a:rPr>
              <a:t>See </a:t>
            </a:r>
            <a:r>
              <a:rPr b="1" i="1" lang="en-US" sz="1400" spc="-1" strike="noStrike">
                <a:solidFill>
                  <a:srgbClr val="22228b"/>
                </a:solidFill>
                <a:latin typeface="Times New Roman"/>
                <a:ea typeface="Arial"/>
              </a:rPr>
              <a:t>IEEE-SA Standards Board Operations Manual</a:t>
            </a:r>
            <a:r>
              <a:rPr b="1" lang="en-US" sz="1400" spc="-1" strike="noStrike">
                <a:solidFill>
                  <a:srgbClr val="22228b"/>
                </a:solidFill>
                <a:latin typeface="Times New Roman"/>
                <a:ea typeface="Arial"/>
              </a:rPr>
              <a:t>, clause 5.3.10 and </a:t>
            </a:r>
            <a:r>
              <a:rPr b="1" lang="en-GB" sz="1400" spc="-1" strike="noStrike">
                <a:solidFill>
                  <a:srgbClr val="22228b"/>
                </a:solidFill>
                <a:latin typeface="Times New Roman"/>
                <a:ea typeface="Arial"/>
              </a:rPr>
              <a:t>“Promoting Competition and Innovation: What You Need to Know about the IEEE Standards Association's Antitrust and Competition Policy”</a:t>
            </a:r>
            <a:r>
              <a:rPr b="1" lang="en-US" sz="1400" spc="-1" strike="noStrike">
                <a:solidFill>
                  <a:srgbClr val="22228b"/>
                </a:solidFill>
                <a:latin typeface="Times New Roman"/>
                <a:ea typeface="Arial"/>
              </a:rPr>
              <a:t> for more detail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68837B-0ACF-450D-A1EA-244FA2F261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81" name="PlaceHolder 1"/>
          <p:cNvSpPr>
            <a:spLocks noGrp="1"/>
          </p:cNvSpPr>
          <p:nvPr>
            <p:ph type="title"/>
          </p:nvPr>
        </p:nvSpPr>
        <p:spPr>
          <a:xfrm>
            <a:off x="685440" y="609480"/>
            <a:ext cx="8001000" cy="1160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3200" spc="-1" strike="noStrike">
                <a:solidFill>
                  <a:srgbClr val="000000"/>
                </a:solidFill>
                <a:latin typeface="Times New Roman"/>
              </a:rPr>
              <a:t>Participation in IEEE 802 Meetings</a:t>
            </a:r>
            <a:endParaRPr b="1" lang="en-US" sz="3200" spc="-1" strike="noStrike">
              <a:solidFill>
                <a:srgbClr val="000000"/>
              </a:solidFill>
              <a:latin typeface="Times New Roman"/>
            </a:endParaRPr>
          </a:p>
        </p:txBody>
      </p:sp>
      <p:sp>
        <p:nvSpPr>
          <p:cNvPr id="582" name="Text Box 5"/>
          <p:cNvSpPr/>
          <p:nvPr/>
        </p:nvSpPr>
        <p:spPr>
          <a:xfrm>
            <a:off x="685800" y="1676520"/>
            <a:ext cx="7848720" cy="4495680"/>
          </a:xfrm>
          <a:prstGeom prst="rect">
            <a:avLst/>
          </a:prstGeom>
          <a:noFill/>
          <a:ln w="0">
            <a:noFill/>
          </a:ln>
        </p:spPr>
        <p:style>
          <a:lnRef idx="0"/>
          <a:fillRef idx="0"/>
          <a:effectRef idx="0"/>
          <a:fontRef idx="minor"/>
        </p:style>
        <p:txBody>
          <a:bodyPr lIns="92160" rIns="92160" tIns="46080" bIns="46080" anchor="t">
            <a:noAutofit/>
          </a:bodyPr>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600" spc="-1" strike="noStrike">
                <a:solidFill>
                  <a:srgbClr val="000000"/>
                </a:solidFill>
                <a:latin typeface="Times New Roman"/>
                <a:ea typeface="MS Gothic"/>
              </a:rPr>
              <a:t>All participation in IEEE 802 Working Group meetings is on an individual basis</a:t>
            </a:r>
            <a:endParaRPr b="0" lang="en-US" sz="1600" spc="-1" strike="noStrike">
              <a:solidFill>
                <a:srgbClr val="000000"/>
              </a:solidFill>
              <a:latin typeface="Times New Roman"/>
            </a:endParaRPr>
          </a:p>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i="1" lang="en-GB" sz="1400" spc="-1" strike="noStrike">
                <a:solidFill>
                  <a:srgbClr val="000000"/>
                </a:solidFill>
                <a:latin typeface="Times New Roman"/>
                <a:ea typeface="MS Gothic"/>
              </a:rPr>
              <a:t>•     </a:t>
            </a:r>
            <a:r>
              <a:rPr b="1" lang="en-GB" sz="1400" spc="-1" strike="noStrike">
                <a:solidFill>
                  <a:srgbClr val="000000"/>
                </a:solidFill>
                <a:latin typeface="Times New Roman"/>
                <a:ea typeface="MS Gothic"/>
              </a:rPr>
              <a:t>Participants in the IEEE standards development individual process shall act based on their qualifications and experience. (</a:t>
            </a:r>
            <a:r>
              <a:rPr b="0" lang="en-GB" sz="1400" spc="-1" strike="noStrike" u="sng">
                <a:solidFill>
                  <a:srgbClr val="0066ff"/>
                </a:solidFill>
                <a:uFillTx/>
                <a:latin typeface="Times New Roman"/>
                <a:ea typeface="MS Gothic"/>
                <a:hlinkClick r:id="rId1"/>
              </a:rPr>
              <a:t>https://standards.ieee.org/develop/policies/bylaws/sb_bylaws.pdf</a:t>
            </a:r>
            <a:r>
              <a:rPr b="1" lang="en-GB" sz="1400" spc="-1" strike="noStrike">
                <a:solidFill>
                  <a:srgbClr val="000000"/>
                </a:solidFill>
                <a:latin typeface="Times New Roman"/>
                <a:ea typeface="MS Gothic"/>
              </a:rPr>
              <a:t>section 5.2.1)</a:t>
            </a:r>
            <a:endParaRPr b="0" lang="en-US" sz="1400" spc="-1" strike="noStrike">
              <a:solidFill>
                <a:srgbClr val="000000"/>
              </a:solidFill>
              <a:latin typeface="Times New Roman"/>
            </a:endParaRPr>
          </a:p>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400" spc="-1" strike="noStrike">
                <a:solidFill>
                  <a:srgbClr val="000000"/>
                </a:solidFill>
                <a:latin typeface="Times New Roman"/>
                <a:ea typeface="MS Gothic"/>
              </a:rPr>
              <a:t>•    </a:t>
            </a:r>
            <a:r>
              <a:rPr b="1" lang="en-GB" sz="1400" spc="-1" strike="noStrike">
                <a:solidFill>
                  <a:srgbClr val="000000"/>
                </a:solidFill>
                <a:latin typeface="Times New Roman"/>
                <a:ea typeface="MS Gothic"/>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400" spc="-1" strike="noStrike">
              <a:solidFill>
                <a:srgbClr val="000000"/>
              </a:solidFill>
              <a:latin typeface="Times New Roman"/>
            </a:endParaRPr>
          </a:p>
          <a:p>
            <a:pPr marL="343080" indent="-339840">
              <a:spcBef>
                <a:spcPts val="60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400" spc="-1" strike="noStrike">
                <a:solidFill>
                  <a:srgbClr val="000000"/>
                </a:solidFill>
                <a:latin typeface="Times New Roman"/>
                <a:ea typeface="MS Gothic"/>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400" spc="-1" strike="noStrike">
              <a:solidFill>
                <a:srgbClr val="000000"/>
              </a:solidFill>
              <a:latin typeface="Times New Roman"/>
            </a:endParaRPr>
          </a:p>
          <a:p>
            <a:pPr marL="343080" indent="-339840">
              <a:spcBef>
                <a:spcPts val="60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400" spc="-1" strike="noStrike">
                <a:solidFill>
                  <a:srgbClr val="000000"/>
                </a:solidFill>
                <a:latin typeface="Times New Roman"/>
                <a:ea typeface="MS Gothic"/>
              </a:rPr>
              <a:t>Participants shall not direct the actions or votes of any other member of an IEEE 802 Working Group or retaliate against any other member for their actions or votes within IEEE 802 Working Group meetings, see </a:t>
            </a:r>
            <a:r>
              <a:rPr b="0" lang="en-GB" sz="1400" spc="-1" strike="noStrike" u="sng">
                <a:solidFill>
                  <a:srgbClr val="0066ff"/>
                </a:solidFill>
                <a:uFillTx/>
                <a:latin typeface="Times New Roman"/>
                <a:ea typeface="MS Gothic"/>
                <a:hlinkClick r:id="rId2"/>
              </a:rPr>
              <a:t>https://standards.ieee.org/develop/policies/bylaws/sb_bylaws.pdf </a:t>
            </a:r>
            <a:r>
              <a:rPr b="1" lang="en-GB" sz="1400" spc="-1" strike="noStrike">
                <a:solidFill>
                  <a:srgbClr val="000000"/>
                </a:solidFill>
                <a:latin typeface="Times New Roman"/>
                <a:ea typeface="MS Gothic"/>
              </a:rPr>
              <a:t> section 5.2.1.3 and the IEEE 802 LMSC Working Group Policies and Procedures, subclause 3.4.1 “Chair”, list item x.</a:t>
            </a:r>
            <a:endParaRPr b="0" lang="en-US" sz="1400" spc="-1" strike="noStrike">
              <a:solidFill>
                <a:srgbClr val="000000"/>
              </a:solidFill>
              <a:latin typeface="Times New Roman"/>
            </a:endParaRPr>
          </a:p>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600" spc="-1" strike="noStrike">
                <a:solidFill>
                  <a:srgbClr val="000000"/>
                </a:solidFill>
                <a:latin typeface="Times New Roman"/>
                <a:ea typeface="MS Gothic"/>
              </a:rPr>
              <a:t>By participating in IEEE 802 meetings, you accept these requirements.  If you do not agree to these policies then you shall not participate.</a:t>
            </a:r>
            <a:endParaRPr b="0" lang="en-US" sz="1600" spc="-1" strike="noStrike">
              <a:solidFill>
                <a:srgbClr val="000000"/>
              </a:solidFill>
              <a:latin typeface="Times New Roman"/>
            </a:endParaRPr>
          </a:p>
          <a:p>
            <a:pPr marL="343080" indent="-339840" algn="ctr">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en-GB" sz="1200" spc="-1" strike="noStrike">
                <a:solidFill>
                  <a:srgbClr val="000000"/>
                </a:solidFill>
                <a:latin typeface="Times New Roman"/>
                <a:ea typeface="MS Gothic"/>
              </a:rPr>
              <a:t>(Latest revision of IEEE 802 LMSC Working Group Policies and Procedures: </a:t>
            </a:r>
            <a:r>
              <a:rPr b="0" lang="en-GB" sz="1200" spc="-1" strike="noStrike" u="sng">
                <a:solidFill>
                  <a:srgbClr val="0066ff"/>
                </a:solidFill>
                <a:uFillTx/>
                <a:latin typeface="Times New Roman"/>
                <a:ea typeface="MS Gothic"/>
                <a:hlinkClick r:id="rId3"/>
              </a:rPr>
              <a:t>http://www.ieee802.org/devdocs.shtml</a:t>
            </a:r>
            <a:r>
              <a:rPr b="0" lang="en-GB" sz="1200" spc="-1" strike="noStrike">
                <a:solidFill>
                  <a:srgbClr val="000000"/>
                </a:solidFill>
                <a:latin typeface="Times New Roman"/>
                <a:ea typeface="MS Gothic"/>
              </a:rPr>
              <a:t>)</a:t>
            </a:r>
            <a:endParaRPr b="0" lang="en-US" sz="1200" spc="-1" strike="noStrike">
              <a:solidFill>
                <a:srgbClr val="000000"/>
              </a:solidFill>
              <a:latin typeface="Times New Roman"/>
            </a:endParaRPr>
          </a:p>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A5FF62A-05AB-44B4-AADC-A2D994F87A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LC TIG”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586"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8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EDD661-507B-407E-9B97-D47AEC2A4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90"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graphicFrame>
        <p:nvGraphicFramePr>
          <p:cNvPr id="591" name=""/>
          <p:cNvGraphicFramePr/>
          <p:nvPr/>
        </p:nvGraphicFramePr>
        <p:xfrm>
          <a:off x="762120" y="1752480"/>
          <a:ext cx="7696080" cy="181152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ikola Serafimovski</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XX</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lker Jungnickel </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IG Report 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 Qiang (John) </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
        <p:nvSpPr>
          <p:cNvPr id="5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A73C1C-830E-4EA0-9A4E-5BF75BD32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C TIG schedule in a glance</a:t>
            </a:r>
            <a:endParaRPr b="0" lang="en-US" sz="3200" spc="-1" strike="noStrike">
              <a:solidFill>
                <a:srgbClr val="000000"/>
              </a:solidFill>
              <a:latin typeface="Times New Roman"/>
            </a:endParaRPr>
          </a:p>
        </p:txBody>
      </p:sp>
      <p:graphicFrame>
        <p:nvGraphicFramePr>
          <p:cNvPr id="595" name=""/>
          <p:cNvGraphicFramePr/>
          <p:nvPr/>
        </p:nvGraphicFramePr>
        <p:xfrm>
          <a:off x="762120" y="1752480"/>
          <a:ext cx="7543800" cy="4078440"/>
        </p:xfrm>
        <a:graphic>
          <a:graphicData uri="http://schemas.openxmlformats.org/drawingml/2006/table">
            <a:tbl>
              <a:tblPr/>
              <a:tblGrid>
                <a:gridCol w="904680"/>
                <a:gridCol w="1282680"/>
                <a:gridCol w="1282680"/>
                <a:gridCol w="1351080"/>
                <a:gridCol w="1351080"/>
                <a:gridCol w="137160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65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C</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00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C</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699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C</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596"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9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Nikola Serafimovski</dc:creator>
  <dc:description/>
  <cp:keywords>May 2017</cp:keywords>
  <dc:language>en-US</dc:language>
  <cp:lastModifiedBy>Serafimovski, Nikola</cp:lastModifiedBy>
  <cp:lastPrinted>2014-11-04T15:04:57Z</cp:lastPrinted>
  <dcterms:modified xsi:type="dcterms:W3CDTF">2017-06-01T13:57:00Z</dcterms:modified>
  <cp:revision>3793</cp:revision>
  <dc:subject>Task Group AY November 2015 Meeting Agenda</dc:subject>
  <dc:title>11-16/1584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