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5F64ACFF-EFE7-4112-AADF-C9E7E8CBB3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4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33BDE4-71AB-44C2-81A2-585B4A7F2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54160" y="701640"/>
            <a:ext cx="4626000" cy="3468600"/>
          </a:xfrm>
          <a:prstGeom prst="rect">
            <a:avLst/>
          </a:prstGeom>
          <a:ln w="0">
            <a:noFill/>
          </a:ln>
        </p:spPr>
      </p:sp>
      <p:sp>
        <p:nvSpPr>
          <p:cNvPr id="6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4160" y="701640"/>
            <a:ext cx="4626000" cy="3468600"/>
          </a:xfrm>
          <a:prstGeom prst="rect">
            <a:avLst/>
          </a:prstGeom>
          <a:ln w="0">
            <a:noFill/>
          </a:ln>
        </p:spPr>
      </p:sp>
      <p:sp>
        <p:nvSpPr>
          <p:cNvPr id="7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8A0E7E-214A-4FC2-8422-87ED524C5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1"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2"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DB0E3E-4C24-4DF5-A58E-21E5078C4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54160" y="701640"/>
            <a:ext cx="4626000" cy="3468600"/>
          </a:xfrm>
          <a:prstGeom prst="rect">
            <a:avLst/>
          </a:prstGeom>
          <a:ln w="0">
            <a:noFill/>
          </a:ln>
        </p:spPr>
      </p:sp>
      <p:sp>
        <p:nvSpPr>
          <p:cNvPr id="7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C868F2-F32A-44E3-BBF2-5D7B40062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54160" y="701640"/>
            <a:ext cx="4626000" cy="3468600"/>
          </a:xfrm>
          <a:prstGeom prst="rect">
            <a:avLst/>
          </a:prstGeom>
          <a:ln w="0">
            <a:noFill/>
          </a:ln>
        </p:spPr>
      </p:sp>
      <p:sp>
        <p:nvSpPr>
          <p:cNvPr id="7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D3EE1E-AB90-4E23-9E59-26F6E81AD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54160" y="701640"/>
            <a:ext cx="4626000" cy="3468600"/>
          </a:xfrm>
          <a:prstGeom prst="rect">
            <a:avLst/>
          </a:prstGeom>
          <a:ln w="0">
            <a:noFill/>
          </a:ln>
        </p:spPr>
      </p:sp>
      <p:sp>
        <p:nvSpPr>
          <p:cNvPr id="7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3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22EB44-5043-48CE-8269-66FCC0858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54160" y="701640"/>
            <a:ext cx="4626000" cy="3468600"/>
          </a:xfrm>
          <a:prstGeom prst="rect">
            <a:avLst/>
          </a:prstGeom>
          <a:ln w="0">
            <a:noFill/>
          </a:ln>
        </p:spPr>
      </p:sp>
      <p:sp>
        <p:nvSpPr>
          <p:cNvPr id="7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4160" y="701640"/>
            <a:ext cx="4626000" cy="3468600"/>
          </a:xfrm>
          <a:prstGeom prst="rect">
            <a:avLst/>
          </a:prstGeom>
          <a:ln w="0">
            <a:noFill/>
          </a:ln>
        </p:spPr>
      </p:sp>
      <p:sp>
        <p:nvSpPr>
          <p:cNvPr id="7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E3A04C-B80F-41BB-B904-9D76B0112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4160" y="701640"/>
            <a:ext cx="4626000" cy="3468600"/>
          </a:xfrm>
          <a:prstGeom prst="rect">
            <a:avLst/>
          </a:prstGeom>
          <a:ln w="0">
            <a:noFill/>
          </a:ln>
        </p:spPr>
      </p:sp>
      <p:sp>
        <p:nvSpPr>
          <p:cNvPr id="7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568DA2-F56D-48D2-B000-7D3B1966E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5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1DDA59-04F2-484D-A424-EDB15C8DE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54160" y="701640"/>
            <a:ext cx="4626000" cy="3468600"/>
          </a:xfrm>
          <a:prstGeom prst="rect">
            <a:avLst/>
          </a:prstGeom>
          <a:ln w="0">
            <a:noFill/>
          </a:ln>
        </p:spPr>
      </p:sp>
      <p:sp>
        <p:nvSpPr>
          <p:cNvPr id="6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9"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0"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1"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91AA4D-7404-4A2E-9608-60702B7A7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54160" y="701640"/>
            <a:ext cx="4626000" cy="3468600"/>
          </a:xfrm>
          <a:prstGeom prst="rect">
            <a:avLst/>
          </a:prstGeom>
          <a:ln w="0">
            <a:noFill/>
          </a:ln>
        </p:spPr>
      </p:sp>
      <p:sp>
        <p:nvSpPr>
          <p:cNvPr id="6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0CA99B-9ACF-4AE3-A08B-865AB590F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5701DF-A811-4930-9EF8-129C7A6EF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54160" y="701640"/>
            <a:ext cx="4626000" cy="3468600"/>
          </a:xfrm>
          <a:prstGeom prst="rect">
            <a:avLst/>
          </a:prstGeom>
          <a:ln w="0">
            <a:noFill/>
          </a:ln>
        </p:spPr>
      </p:sp>
      <p:sp>
        <p:nvSpPr>
          <p:cNvPr id="6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7"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8"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7B8731-06B0-446F-9BE3-923AD53D3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54160" y="701640"/>
            <a:ext cx="4626000" cy="3468600"/>
          </a:xfrm>
          <a:prstGeom prst="rect">
            <a:avLst/>
          </a:prstGeom>
          <a:ln w="0">
            <a:noFill/>
          </a:ln>
        </p:spPr>
      </p:sp>
      <p:sp>
        <p:nvSpPr>
          <p:cNvPr id="6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3EAF48-32E3-4B9D-9CA2-D2A2B71B6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68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68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68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235A0F-FB3B-404A-B3C6-EA7016B90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54160" y="701640"/>
            <a:ext cx="4626000" cy="3468600"/>
          </a:xfrm>
          <a:prstGeom prst="rect">
            <a:avLst/>
          </a:prstGeom>
          <a:ln w="0">
            <a:noFill/>
          </a:ln>
        </p:spPr>
      </p:sp>
      <p:sp>
        <p:nvSpPr>
          <p:cNvPr id="6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xxxr0</a:t>
            </a:r>
            <a:endParaRPr b="0" lang="en-US" sz="1400" spc="-1" strike="noStrike">
              <a:solidFill>
                <a:srgbClr val="000000"/>
              </a:solidFill>
              <a:latin typeface="Times New Roman"/>
            </a:endParaRPr>
          </a:p>
        </p:txBody>
      </p:sp>
      <p:sp>
        <p:nvSpPr>
          <p:cNvPr id="693"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694" name="Rectangle 6"/>
          <p:cNvSpPr/>
          <p:nvPr/>
        </p:nvSpPr>
        <p:spPr>
          <a:xfrm>
            <a:off x="3762720" y="8985240"/>
            <a:ext cx="24026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Samsung)</a:t>
            </a:r>
            <a:endParaRPr b="0" lang="en-US" sz="1200" spc="-1" strike="noStrike">
              <a:solidFill>
                <a:srgbClr val="000000"/>
              </a:solidFill>
              <a:latin typeface="Times New Roman"/>
            </a:endParaRPr>
          </a:p>
        </p:txBody>
      </p:sp>
      <p:sp>
        <p:nvSpPr>
          <p:cNvPr id="69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A5339F-AB92-4A0C-9C9F-89EC18EFE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54160" y="701640"/>
            <a:ext cx="4626000" cy="3468600"/>
          </a:xfrm>
          <a:prstGeom prst="rect">
            <a:avLst/>
          </a:prstGeom>
          <a:ln w="0">
            <a:noFill/>
          </a:ln>
        </p:spPr>
      </p:sp>
      <p:sp>
        <p:nvSpPr>
          <p:cNvPr id="6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54160" y="701640"/>
            <a:ext cx="4626000" cy="3468600"/>
          </a:xfrm>
          <a:prstGeom prst="rect">
            <a:avLst/>
          </a:prstGeom>
          <a:ln w="0">
            <a:noFill/>
          </a:ln>
        </p:spPr>
      </p:sp>
      <p:sp>
        <p:nvSpPr>
          <p:cNvPr id="6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B7CDBF-0D6C-4BE3-A629-59512613C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3B347-5939-4F43-B2FE-3BEF56887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038DC-6A4C-47FE-BBE3-0180DF9C4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0B3BEB-E3B3-4FBE-AD75-0BD9067E9D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5246AB-41F4-4D76-9ACF-B843D28CA8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EF4F03-AA0F-43E5-A3FA-2857093C38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A26E39-00AA-4104-AD59-54FD32A092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3B75E-1BCC-426C-89CE-44558478A7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6E719A-694D-4DE5-8B4E-863DA00408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5E1396-C3EC-42C6-A4D6-FBA6387362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4317BD-F5B3-4DD6-A7AE-2246A4058A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3957AB-58FD-479A-9D8D-4A2DD104CE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CD49F0-31C3-4B44-A94B-080F4052D7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07BD3-8999-4039-8605-67795A4D3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A824DC-6337-4D1E-BF97-B29C821248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197772-F4ED-4EA7-8382-5A8B658243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94032D-4822-489C-AB91-BC16894717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3BB62C-4471-433D-835E-06AE09BDC9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AB8D4E-1E43-4036-8E2A-3ED575D182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B1F30E-D205-422C-9751-783FB1F033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2D1DD7-8BE8-4C15-8733-79171E0BA2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4CD0BA-647D-4C5C-A011-E453FA3063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3C4BB1-5E5D-48F1-B411-E85D489671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5B68AB-9750-4D5B-8421-E2A843512F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17183-0131-49DC-9D44-A7586315F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675CE4-B0D9-4617-96F5-A8CE07F026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437508-850D-465C-91E5-0155A96D4E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AAA1DA-0E21-4CF2-9A6B-CFDAD262E1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255A0B-0110-4181-AC1C-C4B5858370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2C3263-79F6-466F-8BB7-1F862D6D17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049A62-095D-4EA3-8028-32ED65E009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374BB3-8AF2-42C1-9A3F-B810D1A3C0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92115C-6D83-44C0-BAB6-763111D29A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7E2CAE-604F-4BEC-A3C8-19EFE29785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376237-FFBC-4F46-B1C0-7449010515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9D4DD592-5BF3-47B9-B8D6-FDFBA72BBF9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D829A8-3D28-452A-9621-FFB1EA174F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7E88ED-C502-4DB9-BA13-DB1CFAE59BE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083189-4BCB-4EE0-8EA4-E5D83B5341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4F76E9-30C4-4C50-AF4A-CA63C334D1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49BECF-61C8-42A2-B226-682EF14ABF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B58F41-DE21-4BE7-8B19-FC55D5539A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334522-AA74-4390-B30C-AB8950ABAC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CD3D73-E1A5-493E-B673-6D17C3F7E2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7895D1-6033-4E60-82C8-CB4628A79A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78B1A3-6301-4C6E-AEB2-1103EB8C15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FD51A46-052F-4C99-B08F-437C4D70DE9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429F09-6512-4F19-B55C-FC92852A6E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1E9607-CAD0-4276-B1F7-22D863BE71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EBCDE8-DCF4-4F97-9DCD-774A76A2F8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B84C1D-1D15-4132-95A4-FEA669555A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C9159D-6545-41D0-BAA9-79CC988688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5998A05-8F19-4CD6-909B-A44F5C9162B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74DC5B82-D676-464B-B9CF-8CAF316749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6B1DA88-7411-4BE3-AA9E-2D4B0ECA2C6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5335473-5D06-46AB-813B-2F35A67C9F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0A92BF3-0C71-47EC-9E3E-CDA14678EC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B2F70-2A74-4689-A920-2275DF387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FD4DCEE-E031-4A92-9658-03FDD77DE2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ECC42EE-0E90-4B83-8B40-1A674A4947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78312B34-BF1A-43D3-8178-4260F8C0227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6C2BE9FC-84E8-4DC4-B47B-3F376E4B449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3F727683-888A-494D-9872-4413D0F8825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92E765-F0F1-4B8D-8EF6-84568665EC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FEF4A-C504-4760-BC8A-FC18FE93C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42F06D-5EED-4388-8275-A6705B606F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67E0B9-55E5-4DB5-891A-6E58762AF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72AC44-6FA6-47E0-9FE0-476895773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7E408-0D34-4DED-8917-B90033F34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8B825-0AE0-443D-AE5F-D20CEE7F1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55126-AEC2-420D-97FC-391441D29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3C45B-B6FE-4A25-A042-175B73BA5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127BF-8599-41AD-A03F-531B1CA14E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8D8C9-E342-4B47-82C6-C124BE6AF3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9A8205-57CB-4A69-AECC-BE4097E6A3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981E5E-065D-430A-85EE-1DB70CDC54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08EAD5-2280-4C75-A772-253E6FC32F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76165-D779-40B2-9C42-B9E8D6019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D40EC3-6D41-4AC2-987A-E7EA3D499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76C2A-849E-42A1-8472-9F7A137AF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98B01-05D7-4006-AD0A-DA182D760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D0BBC-38CA-4E74-A5F2-6AC433364E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B681C-577D-460C-87AD-F7C0D336D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BA4736-4858-4BD4-97CD-6DFAF53A10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00F5D-F87A-4AAC-A4C0-51C02EA0C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9FC7D-BCF1-4D9C-AEE2-F4170BCA6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C4F5C3-B852-4C44-BE58-4FA71C0738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9778B7-1164-4048-83BD-CBD42C4C0D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A0ACB5-E450-46D9-AB3A-0428C2C109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2D6182-F5C1-4802-849E-A3F183978E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C5FEF-5ADB-4554-AF72-133FB00BF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E2726-1FE1-4FC7-BDA2-F67528B1BD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9580F6-D90F-451A-A35E-0D07B5437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ED86A9-C10E-4E78-A433-0F673B341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F9F765-8034-4A9E-9B58-9C7049D34A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AF6062-D9F0-463A-87D3-491B1CFEE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BEF2FA-1320-4ACB-9452-106DE1889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A8B1B-9D86-460D-A33E-C0A48A294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92A5B-1AB7-4092-92C9-D47BFB22F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6DDB14-706F-4360-809C-B300C60F9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8E32CA-78AA-4568-B1E0-8D1E4B6665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3F154-88C3-4114-BA97-52A583656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CA6D9B-1799-4741-8408-0401AF3DD0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47F9C1-081A-41B4-B5F7-763D18FBF3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EA1CC3-50A1-4A01-A646-BCE4A968CC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6DC1BB-A450-4992-A669-FC5A7C29DF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E553AD-CB4E-4359-9A27-D2C367A36C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097FB6-DFD3-4367-8A6F-A1930EA371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9BFBDA-A737-4ED9-8584-53E4A01EEE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4CECA-C1C8-4564-AB1E-D3473195C0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3B71AB-4E27-4CD6-A240-E8D7326D4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D291C5-884A-49D5-8479-0FADA0EC7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4B925-9F00-4A77-9920-9C8494927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03C3DD-142F-4DFB-BBD3-480E897950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BBFC22-8038-4300-85B9-401B5B73A6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88CAA9-55E7-4845-95AE-880A5049A3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4583FD-8725-4C7E-BAE4-6A95B9FEAC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234C94-1DD6-4B40-88D2-D2103AE833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822FDE-6CC6-47F0-B268-B286A6776D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97B77B-62F1-4C1C-A7C1-D8AAFD461F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326C22-8092-41C7-8C44-9FB9DDCB56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6706DA-DC15-4D49-850B-3DB27004F8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BB4A5-ABA3-42EC-A218-DB46C5C0A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90362-208A-4670-9E4B-8345CB059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DF3951-AC3E-44F8-8B94-FE31BF3231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13B40-6D1E-4DA8-8CBA-670DF786D1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40BF07-E224-4A14-A811-5183AA0B39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2E8094-6AE9-413E-88FD-C05E156542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B0FD9B-4CE2-4ABF-B62C-0AE94358F8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E39220-C6A6-473C-90DC-4C3755671B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BDBC2-3CF6-4B2D-BA20-F44C4B28CC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BEB5DC-02CF-45EB-8289-12C3DD47B9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D7FE46-52B7-40F0-AA1B-B58AB20C85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649D92-6390-4874-B1A0-F2DAED32D2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D956A-B880-47F8-AEF4-622429A8B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198703-B3DF-449B-9918-AACDDCC4CE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A6589E-4531-4587-87B5-0DC03E957A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5CF74-8AF6-41AB-A737-D2ED94FF43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FE07C1-EC10-407B-8C26-3BDAF9CB6B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EE65AE-8CF4-4DA1-B91E-B4CC07ED00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EE3832-BBC5-4245-B9EB-E7243DC919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BB5C9D-8364-4497-A3A0-AB80D639A4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7A0656-EAC7-4F9E-BD00-3FC7976351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630C30-4AC5-4E65-B801-E08D6602FE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6D4622-E0CE-4952-BC75-517926F085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0DCE514-01CD-47FB-82F8-A4EFDC24F5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B0A1402-CD40-4FC4-9289-25AC07A5FF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9539EAC-43F8-4888-B112-5C6721B7EE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DBCD353-AB9B-4725-8719-C2E47BD51E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AB68A21-F48C-4DBA-B5BE-1C7EA74A8D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 name="PlaceHolder 4"/>
          <p:cNvSpPr>
            <a:spLocks noGrp="1"/>
          </p:cNvSpPr>
          <p:nvPr>
            <p:ph type="dt" idx="5"/>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3" name="PlaceHolder 5"/>
          <p:cNvSpPr>
            <a:spLocks noGrp="1"/>
          </p:cNvSpPr>
          <p:nvPr>
            <p:ph type="ftr" idx="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C639FC1-A746-47A6-95B8-2C92056443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7EC8E1E-5852-4B6D-ACB6-4D41618637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0BCF7F1-4A6B-4BC7-9B5A-C5CD18FC8A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C1C6EE4-83C4-49C5-9A6D-AB817B0EB8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5FC4636-D318-4F86-B61F-F78AF400BA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066CB05-DB5E-493D-990C-91CDFED845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7/0888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60120"/>
            <a:ext cx="51912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la Serafimovski (pureLiF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69A504C-43E5-4073-B5F4-9090C9E520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7/11-17-0827-00-00lc-may-meeting-minutes.docx"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s://standards.ieee.org/develop/policies/bylaws/sb_bylaws.pdf%20section%205.2.1.3" TargetMode="External"/><Relationship Id="rId3" Type="http://schemas.openxmlformats.org/officeDocument/2006/relationships/hyperlink" Target="http://www.ieee802.org/devdocs.shtml" TargetMode="External"/><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imat.ieee.org/my-site/home"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8515E8-980A-4AD8-8457-3F98D8C57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ht Communications Topic Interest Group  2017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7-05-31</a:t>
            </a:r>
            <a:endParaRPr b="1" lang="en-US" sz="2000" spc="-1" strike="noStrike">
              <a:solidFill>
                <a:srgbClr val="000000"/>
              </a:solidFill>
              <a:latin typeface="Times New Roman"/>
            </a:endParaRPr>
          </a:p>
        </p:txBody>
      </p:sp>
      <p:graphicFrame>
        <p:nvGraphicFramePr>
          <p:cNvPr id="555" name="Object 11"/>
          <p:cNvGraphicFramePr/>
          <p:nvPr/>
        </p:nvGraphicFramePr>
        <p:xfrm>
          <a:off x="671400" y="2666880"/>
          <a:ext cx="9126720" cy="1175040"/>
        </p:xfrm>
        <a:graphic>
          <a:graphicData uri="http://schemas.openxmlformats.org/presentationml/2006/ole">
            <p:oleObj progId="Word.Document.12" r:id="rId1" spid="">
              <p:embed/>
              <p:pic>
                <p:nvPicPr>
                  <p:cNvPr id="556" name="Object 11" descr=""/>
                  <p:cNvPicPr/>
                  <p:nvPr/>
                </p:nvPicPr>
                <p:blipFill>
                  <a:blip r:embed="rId2"/>
                  <a:stretch/>
                </p:blipFill>
                <p:spPr>
                  <a:xfrm>
                    <a:off x="671400" y="2666880"/>
                    <a:ext cx="9126720" cy="117504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84FA61-C967-44D0-8790-1B2066CCB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600"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enda Agreemen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sentation for the 802 tutorial</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sentation for the 802.11 W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ture of the TIG</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0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FA07D2-50EC-4A65-9619-694BAEE50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day, 0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0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A960D7-59E5-491C-83D6-6F7BA7C01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09"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rove minutes from May meeting (</a:t>
            </a:r>
            <a:r>
              <a:rPr b="0" lang="en-GB" sz="2000" spc="-1" strike="noStrike" u="sng">
                <a:solidFill>
                  <a:srgbClr val="0066ff"/>
                </a:solidFill>
                <a:uFillTx/>
                <a:latin typeface="Times New Roman"/>
                <a:hlinkClick r:id="rId1"/>
              </a:rPr>
              <a:t>https://mentor.ieee.org/802.11/dcn/17/11-17-0827-00-00lc-may-meeting-minutes.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 against doc. 17/11-0023r8</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view and comments against the presentation for the tutorial session on High Speed Optical Wireless Communications to the wider 80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2748FF-1D1A-4198-9F31-22565C328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13:30 – 15:3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1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FEF9E8-1C53-46AD-AB7C-FF68A091B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18"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ent resolution against doc. 17/11-0023r8</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view the presentation on the TIG output aimed at the 802.11 W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C0BED1-5F90-4D39-80C1-CA300F4A7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PM2 16:00 – 18: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292471-8CBA-4F9C-9288-7667D9DEE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7" name="Rectangle 3"/>
          <p:cNvSpPr/>
          <p:nvPr/>
        </p:nvSpPr>
        <p:spPr>
          <a:xfrm>
            <a:off x="685800" y="167652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to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xt steps for the TIG</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8"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2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AE7D86-FAC2-4EAA-988E-B42AB063A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p:nvPr>
        </p:nvSpPr>
        <p:spPr>
          <a:xfrm>
            <a:off x="685440" y="1523880"/>
            <a:ext cx="4343400" cy="50292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day, AM1 08:00 – 10:00</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ment resolution</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esentation for the 802 tutorial</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esday, PM1 13:30 – 15:30</a:t>
            </a:r>
            <a:endParaRPr b="1"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esentation for the 802.11 W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t>
            </a: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3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setting</a:t>
            </a:r>
            <a:endParaRPr b="0" lang="en-US" sz="3200" spc="-1" strike="noStrike">
              <a:solidFill>
                <a:srgbClr val="000000"/>
              </a:solidFill>
              <a:latin typeface="Times New Roman"/>
            </a:endParaRPr>
          </a:p>
        </p:txBody>
      </p:sp>
      <p:sp>
        <p:nvSpPr>
          <p:cNvPr id="633" name="Rectangle 3"/>
          <p:cNvSpPr/>
          <p:nvPr/>
        </p:nvSpPr>
        <p:spPr>
          <a:xfrm>
            <a:off x="4648320" y="1447920"/>
            <a:ext cx="41148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ursday, PM2 16:00 – 18:00</a:t>
            </a:r>
            <a:endParaRPr b="0" lang="en-US" sz="16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ent policy and logistics</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da Agreement</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uture of the TIG?</a:t>
            </a:r>
            <a:endParaRPr b="0" lang="en-US" sz="1400" spc="-1" strike="noStrike">
              <a:solidFill>
                <a:srgbClr val="000000"/>
              </a:solidFill>
              <a:latin typeface="Times New Roman"/>
            </a:endParaRPr>
          </a:p>
          <a:p>
            <a:pPr lvl="1" marL="743040" indent="-285840">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ess/Adjourn</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3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5A14A3-BCE7-469F-9624-4CFD1B67E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638"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639" name=""/>
          <p:cNvGraphicFramePr/>
          <p:nvPr/>
        </p:nvGraphicFramePr>
        <p:xfrm>
          <a:off x="685800" y="1676520"/>
          <a:ext cx="7924680" cy="4564080"/>
        </p:xfrm>
        <a:graphic>
          <a:graphicData uri="http://schemas.openxmlformats.org/drawingml/2006/table">
            <a:tbl>
              <a:tblPr/>
              <a:tblGrid>
                <a:gridCol w="1295280"/>
                <a:gridCol w="3810240"/>
                <a:gridCol w="2819160"/>
              </a:tblGrid>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oc. No.</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 of the Topic Interest Group document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tatu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05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504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191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517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504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31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6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pic Interest Group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DBE3D8-AB41-4D4C-958E-6EA7B5DAE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643"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64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2D74A8-B9B1-4DF6-A1C3-0B30D4C7A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Light Communications Topic Interest Group agenda for the  2017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1"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8C50A5-6B86-4194-98A7-35B7369C0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not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org/about/corporate/governance/p7-8.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tandards.ieee.org/faqs/affiliation.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tandards.ieee.org/resources/antitrust-guidelines.pdf</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ve Items</a:t>
            </a:r>
            <a:endParaRPr b="0" lang="en-US" sz="3200" spc="-1" strike="noStrike">
              <a:solidFill>
                <a:srgbClr val="000000"/>
              </a:solidFill>
              <a:latin typeface="Times New Roman"/>
            </a:endParaRPr>
          </a:p>
        </p:txBody>
      </p:sp>
      <p:sp>
        <p:nvSpPr>
          <p:cNvPr id="56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DAA62B-AD33-4AE6-A5F0-575F5D100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7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G Operating Rules</a:t>
            </a:r>
            <a:endParaRPr b="1" lang="en-US" sz="3200" spc="-1" strike="noStrike">
              <a:solidFill>
                <a:srgbClr val="000000"/>
              </a:solidFill>
              <a:latin typeface="Times New Roman"/>
            </a:endParaRPr>
          </a:p>
        </p:txBody>
      </p:sp>
      <p:sp>
        <p:nvSpPr>
          <p:cNvPr id="572" name="Rectangle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body can vote, present, and make mo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ion in a TIG during 802.11 Plenary or Interim counts towards voting righ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motions must pass by a 75% maj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26978F-36C3-4114-972A-AFBCD373B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7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380520" y="6858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577" name="Rectangle 4"/>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01"/>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30040" indent="-230040">
              <a:lnSpc>
                <a:spcPct val="80000"/>
              </a:lnSpc>
              <a:spcAft>
                <a:spcPts val="10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Times New Roman"/>
                <a:ea typeface="Arial"/>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interpretation, validity, or essentiality of patents/patent claims. </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specific license rates, terms, or conditions.</a:t>
            </a:r>
            <a:endParaRPr b="0" lang="en-US" sz="1800" spc="-1" strike="noStrike">
              <a:solidFill>
                <a:srgbClr val="000000"/>
              </a:solidFill>
              <a:latin typeface="Times New Roman"/>
            </a:endParaRPr>
          </a:p>
          <a:p>
            <a:pPr lvl="2" marL="9144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8b"/>
                </a:solidFill>
                <a:latin typeface="Times New Roman"/>
                <a:ea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371600">
              <a:lnSpc>
                <a:spcPct val="80000"/>
              </a:lnSpc>
              <a:spcAft>
                <a:spcPts val="799"/>
              </a:spcAft>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2228b"/>
                </a:solidFill>
                <a:latin typeface="Times New Roman"/>
                <a:ea typeface="Arial"/>
              </a:rPr>
              <a:t>Technical considerations remain primary focus</a:t>
            </a:r>
            <a:endParaRPr b="0" lang="en-US" sz="16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or engage in the fixing of product prices, allocation of customers, or division of sales markets.</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discuss the status or substance of ongoing or threatened litigation.</a:t>
            </a:r>
            <a:endParaRPr b="0" lang="en-US" sz="1800" spc="-1" strike="noStrike">
              <a:solidFill>
                <a:srgbClr val="000000"/>
              </a:solidFill>
              <a:latin typeface="Times New Roman"/>
            </a:endParaRPr>
          </a:p>
          <a:p>
            <a:pPr lvl="1" marL="457200">
              <a:lnSpc>
                <a:spcPct val="80000"/>
              </a:lnSpc>
              <a:spcAft>
                <a:spcPts val="901"/>
              </a:spcAft>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Times New Roman"/>
                <a:ea typeface="Arial"/>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228b"/>
                </a:solidFill>
                <a:latin typeface="Times New Roman"/>
                <a:ea typeface="Arial"/>
              </a:rPr>
              <a:t>---------------------------------------------------------------   </a:t>
            </a:r>
            <a:endParaRPr b="0" lang="en-US" sz="1000" spc="-1" strike="noStrike">
              <a:solidFill>
                <a:srgbClr val="000000"/>
              </a:solidFill>
              <a:latin typeface="Times New Roman"/>
            </a:endParaRPr>
          </a:p>
          <a:p>
            <a:pPr marL="230040" indent="-2300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8b"/>
                </a:solidFill>
                <a:latin typeface="Times New Roman"/>
                <a:ea typeface="Arial"/>
              </a:rPr>
              <a:t>See </a:t>
            </a:r>
            <a:r>
              <a:rPr b="1" i="1" lang="en-US" sz="1400" spc="-1" strike="noStrike">
                <a:solidFill>
                  <a:srgbClr val="22228b"/>
                </a:solidFill>
                <a:latin typeface="Times New Roman"/>
                <a:ea typeface="Arial"/>
              </a:rPr>
              <a:t>IEEE-SA Standards Board Operations Manual</a:t>
            </a:r>
            <a:r>
              <a:rPr b="1" lang="en-US" sz="1400" spc="-1" strike="noStrike">
                <a:solidFill>
                  <a:srgbClr val="22228b"/>
                </a:solidFill>
                <a:latin typeface="Times New Roman"/>
                <a:ea typeface="Arial"/>
              </a:rPr>
              <a:t>, clause 5.3.10 and </a:t>
            </a:r>
            <a:r>
              <a:rPr b="1" lang="en-GB" sz="1400" spc="-1" strike="noStrike">
                <a:solidFill>
                  <a:srgbClr val="22228b"/>
                </a:solidFill>
                <a:latin typeface="Times New Roman"/>
                <a:ea typeface="Arial"/>
              </a:rPr>
              <a:t>“Promoting Competition and Innovation: What You Need to Know about the IEEE Standards Association's Antitrust and Competition Policy”</a:t>
            </a:r>
            <a:r>
              <a:rPr b="1" lang="en-US" sz="1400" spc="-1" strike="noStrike">
                <a:solidFill>
                  <a:srgbClr val="22228b"/>
                </a:solidFill>
                <a:latin typeface="Times New Roman"/>
                <a:ea typeface="Arial"/>
              </a:rPr>
              <a:t> for more detail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426DF1-B91B-4EAA-9490-4E01DF108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0"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82" name="Text Box 5"/>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Autofit/>
          </a:bodyPr>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All participation in IEEE 802 Working Group meetings is on an individual basis</a:t>
            </a:r>
            <a:endParaRPr b="0" lang="en-US" sz="16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i="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Participants in the IEEE standards development individual process shall act based on their qualifications and experience. (</a:t>
            </a:r>
            <a:r>
              <a:rPr b="0" lang="en-GB" sz="1400" spc="-1" strike="noStrike" u="sng">
                <a:solidFill>
                  <a:srgbClr val="0066ff"/>
                </a:solidFill>
                <a:uFillTx/>
                <a:latin typeface="Times New Roman"/>
                <a:ea typeface="MS Gothic"/>
                <a:hlinkClick r:id="rId1"/>
              </a:rPr>
              <a:t>https://standards.ieee.org/develop/policies/bylaws/sb_bylaws.pdf</a:t>
            </a:r>
            <a:r>
              <a:rPr b="1" lang="en-GB" sz="1400" spc="-1" strike="noStrike">
                <a:solidFill>
                  <a:srgbClr val="000000"/>
                </a:solidFill>
                <a:latin typeface="Times New Roman"/>
                <a:ea typeface="MS Gothic"/>
              </a:rPr>
              <a:t>section 5.2.1)</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shall not direct the actions or votes of any other member of an IEEE 802 Working Group or retaliate against any other member for their actions or votes within IEEE 802 Working Group meetings, see </a:t>
            </a:r>
            <a:r>
              <a:rPr b="0" lang="en-GB" sz="1400" spc="-1" strike="noStrike" u="sng">
                <a:solidFill>
                  <a:srgbClr val="0066ff"/>
                </a:solidFill>
                <a:uFillTx/>
                <a:latin typeface="Times New Roman"/>
                <a:ea typeface="MS Gothic"/>
                <a:hlinkClick r:id="rId2"/>
              </a:rPr>
              <a:t>https://standards.ieee.org/develop/policies/bylaws/sb_bylaws.pdf </a:t>
            </a:r>
            <a:r>
              <a:rPr b="1" lang="en-GB" sz="1400" spc="-1" strike="noStrike">
                <a:solidFill>
                  <a:srgbClr val="000000"/>
                </a:solidFill>
                <a:latin typeface="Times New Roman"/>
                <a:ea typeface="MS Gothic"/>
              </a:rPr>
              <a:t> section 5.2.1.3 and the IEEE 802 LMSC Working Group Policies and Procedures, subclause 3.4.1 “Chair”, list item x.</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39840" algn="ctr">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en-GB" sz="1200" spc="-1" strike="noStrike">
                <a:solidFill>
                  <a:srgbClr val="000000"/>
                </a:solidFill>
                <a:latin typeface="Times New Roman"/>
                <a:ea typeface="MS Gothic"/>
              </a:rPr>
              <a:t>(Latest revision of IEEE 802 LMSC Working Group Policies and Procedures: </a:t>
            </a:r>
            <a:r>
              <a:rPr b="0" lang="en-GB" sz="1200" spc="-1" strike="noStrike" u="sng">
                <a:solidFill>
                  <a:srgbClr val="0066ff"/>
                </a:solidFill>
                <a:uFillTx/>
                <a:latin typeface="Times New Roman"/>
                <a:ea typeface="MS Gothic"/>
                <a:hlinkClick r:id="rId3"/>
              </a:rPr>
              <a:t>http://www.ieee802.org/devdocs.shtml</a:t>
            </a:r>
            <a:r>
              <a:rPr b="0" lang="en-GB" sz="1200" spc="-1" strike="noStrike">
                <a:solidFill>
                  <a:srgbClr val="000000"/>
                </a:solidFill>
                <a:latin typeface="Times New Roman"/>
                <a:ea typeface="MS Gothic"/>
              </a:rPr>
              <a:t>)</a:t>
            </a:r>
            <a:endParaRPr b="0" lang="en-US" sz="12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96F03E-AE8D-49EA-A0BE-356735086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my-site/ho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hour session</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C TIG”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1)</a:t>
            </a:r>
            <a:endParaRPr b="0" lang="en-US" sz="3200" spc="-1" strike="noStrike">
              <a:solidFill>
                <a:srgbClr val="000000"/>
              </a:solidFill>
              <a:latin typeface="Times New Roman"/>
            </a:endParaRPr>
          </a:p>
        </p:txBody>
      </p:sp>
      <p:sp>
        <p:nvSpPr>
          <p:cNvPr id="58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8B1675-2682-4D53-B146-C3FFB2AA9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
        <p:nvSpPr>
          <p:cNvPr id="590"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graphicFrame>
        <p:nvGraphicFramePr>
          <p:cNvPr id="591" name=""/>
          <p:cNvGraphicFramePr/>
          <p:nvPr/>
        </p:nvGraphicFramePr>
        <p:xfrm>
          <a:off x="762120" y="1752480"/>
          <a:ext cx="7696080" cy="1811520"/>
        </p:xfrm>
        <a:graphic>
          <a:graphicData uri="http://schemas.openxmlformats.org/drawingml/2006/table">
            <a:tbl>
              <a:tblPr/>
              <a:tblGrid>
                <a:gridCol w="4267080"/>
                <a:gridCol w="34290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sition(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Officer(s)</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ikola Serafimovski</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ice Chai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XXX</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retary</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lker Jungnickel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IG Report Editor</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 Qiang (John) </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59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79C8C3-B968-4378-9526-96A64F745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C TIG schedule in a glance</a:t>
            </a:r>
            <a:endParaRPr b="0" lang="en-US" sz="3200" spc="-1" strike="noStrike">
              <a:solidFill>
                <a:srgbClr val="000000"/>
              </a:solidFill>
              <a:latin typeface="Times New Roman"/>
            </a:endParaRPr>
          </a:p>
        </p:txBody>
      </p:sp>
      <p:graphicFrame>
        <p:nvGraphicFramePr>
          <p:cNvPr id="595" name=""/>
          <p:cNvGraphicFramePr/>
          <p:nvPr/>
        </p:nvGraphicFramePr>
        <p:xfrm>
          <a:off x="762120" y="1752480"/>
          <a:ext cx="7543800" cy="4078440"/>
        </p:xfrm>
        <a:graphic>
          <a:graphicData uri="http://schemas.openxmlformats.org/drawingml/2006/table">
            <a:tbl>
              <a:tblPr/>
              <a:tblGrid>
                <a:gridCol w="904680"/>
                <a:gridCol w="1282680"/>
                <a:gridCol w="1282680"/>
                <a:gridCol w="1351080"/>
                <a:gridCol w="1351080"/>
                <a:gridCol w="137160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65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762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70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699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703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3</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596" name="Date Placeholder 3"/>
          <p:cNvSpPr/>
          <p:nvPr/>
        </p:nvSpPr>
        <p:spPr>
          <a:xfrm>
            <a:off x="4892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ola Serafimovski (pureLiF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May 2017</cp:keywords>
  <dc:language>en-US</dc:language>
  <cp:lastModifiedBy>Serafimovski, Nikola</cp:lastModifiedBy>
  <cp:lastPrinted>2014-11-04T15:04:57Z</cp:lastPrinted>
  <dcterms:modified xsi:type="dcterms:W3CDTF">2017-06-01T13:57:00Z</dcterms:modified>
  <cp:revision>3793</cp:revision>
  <dc:subject>Task Group AY November 2015 Meeting Agenda</dc:subject>
  <dc:title>11-16/158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