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3328560" y="119520"/>
            <a:ext cx="2825640" cy="21348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41520" y="119520"/>
            <a:ext cx="2046240" cy="21348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286080" y="9615240"/>
            <a:ext cx="286848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146400" y="961524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2400" spc="-1" strike="noStrike">
                <a:solidFill>
                  <a:srgbClr val="000000"/>
                </a:solidFill>
                <a:latin typeface="Times New Roman"/>
              </a:rPr>
              <a:t>Page </a:t>
            </a:r>
            <a:fld id="{D65D3235-2E4A-4861-B151-5E19445175C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00"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01"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02"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03"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0B0A49A-FB55-4E95-A9BC-D029CFD92C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922320" y="750960"/>
            <a:ext cx="4950000" cy="3711600"/>
          </a:xfrm>
          <a:prstGeom prst="rect">
            <a:avLst/>
          </a:prstGeom>
          <a:ln w="0">
            <a:noFill/>
          </a:ln>
        </p:spPr>
      </p:sp>
      <p:sp>
        <p:nvSpPr>
          <p:cNvPr id="60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0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08"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09"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1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8782F0B-25A4-48F8-89C7-C2F4128DC7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09/0301r1</a:t>
            </a:r>
            <a:endParaRPr b="0" lang="en-US" sz="1400" spc="-1" strike="noStrike">
              <a:solidFill>
                <a:srgbClr val="000000"/>
              </a:solidFill>
              <a:latin typeface="Times New Roman"/>
            </a:endParaRPr>
          </a:p>
        </p:txBody>
      </p:sp>
      <p:sp>
        <p:nvSpPr>
          <p:cNvPr id="612" name="Rectangle 3"/>
          <p:cNvSpPr/>
          <p:nvPr/>
        </p:nvSpPr>
        <p:spPr>
          <a:xfrm>
            <a:off x="59508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613" name="Rectangle 6"/>
          <p:cNvSpPr/>
          <p:nvPr/>
        </p:nvSpPr>
        <p:spPr>
          <a:xfrm>
            <a:off x="4754520" y="961560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RIM</a:t>
            </a:r>
            <a:endParaRPr b="0" lang="en-US" sz="1200" spc="-1" strike="noStrike">
              <a:solidFill>
                <a:srgbClr val="000000"/>
              </a:solidFill>
              <a:latin typeface="Times New Roman"/>
            </a:endParaRPr>
          </a:p>
        </p:txBody>
      </p:sp>
      <p:sp>
        <p:nvSpPr>
          <p:cNvPr id="6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0A380B5-520E-4050-B8CD-B58B9A26D8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922320" y="750960"/>
            <a:ext cx="4950000" cy="3711600"/>
          </a:xfrm>
          <a:prstGeom prst="rect">
            <a:avLst/>
          </a:prstGeom>
          <a:ln w="0">
            <a:noFill/>
          </a:ln>
        </p:spPr>
      </p:sp>
      <p:sp>
        <p:nvSpPr>
          <p:cNvPr id="616"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1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19"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20"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2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6596B38-B2D7-45D2-A2CB-5D7228BC43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09/0301r1</a:t>
            </a:r>
            <a:endParaRPr b="0" lang="en-US" sz="1400" spc="-1" strike="noStrike">
              <a:solidFill>
                <a:srgbClr val="000000"/>
              </a:solidFill>
              <a:latin typeface="Times New Roman"/>
            </a:endParaRPr>
          </a:p>
        </p:txBody>
      </p:sp>
      <p:sp>
        <p:nvSpPr>
          <p:cNvPr id="623" name="Rectangle 3"/>
          <p:cNvSpPr/>
          <p:nvPr/>
        </p:nvSpPr>
        <p:spPr>
          <a:xfrm>
            <a:off x="59508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624" name="Rectangle 6"/>
          <p:cNvSpPr/>
          <p:nvPr/>
        </p:nvSpPr>
        <p:spPr>
          <a:xfrm>
            <a:off x="4754520" y="961560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RIM</a:t>
            </a:r>
            <a:endParaRPr b="0" lang="en-US" sz="1200" spc="-1" strike="noStrike">
              <a:solidFill>
                <a:srgbClr val="000000"/>
              </a:solidFill>
              <a:latin typeface="Times New Roman"/>
            </a:endParaRPr>
          </a:p>
        </p:txBody>
      </p:sp>
      <p:sp>
        <p:nvSpPr>
          <p:cNvPr id="625"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CAB56EC-EF8F-46B1-8948-EE3C307BB2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7"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30"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31"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EE15C62-3562-4047-89E8-B39FEC66FC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Rectangle 7"/>
          <p:cNvSpPr/>
          <p:nvPr/>
        </p:nvSpPr>
        <p:spPr>
          <a:xfrm>
            <a:off x="3849840" y="9434520"/>
            <a:ext cx="2944800" cy="4968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DD4EC1-6956-4084-8C95-A7CFF0FA4F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4" name="PlaceHolder 1"/>
          <p:cNvSpPr>
            <a:spLocks noGrp="1"/>
          </p:cNvSpPr>
          <p:nvPr>
            <p:ph type="sldImg"/>
          </p:nvPr>
        </p:nvSpPr>
        <p:spPr>
          <a:xfrm>
            <a:off x="915840" y="746280"/>
            <a:ext cx="4964400" cy="3722400"/>
          </a:xfrm>
          <a:prstGeom prst="rect">
            <a:avLst/>
          </a:prstGeom>
          <a:ln w="0">
            <a:noFill/>
          </a:ln>
        </p:spPr>
      </p:sp>
      <p:sp>
        <p:nvSpPr>
          <p:cNvPr id="635"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084840" y="961560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CFAF04F-DF90-4009-8D24-B085BE4EC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Text Box 1"/>
          <p:cNvSpPr/>
          <p:nvPr/>
        </p:nvSpPr>
        <p:spPr>
          <a:xfrm>
            <a:off x="5640480" y="96840"/>
            <a:ext cx="639720" cy="210960"/>
          </a:xfrm>
          <a:prstGeom prst="rect">
            <a:avLst/>
          </a:prstGeom>
          <a:noFill/>
          <a:ln w="0">
            <a:noFill/>
          </a:ln>
        </p:spPr>
        <p:style>
          <a:lnRef idx="0"/>
          <a:fillRef idx="0"/>
          <a:effectRef idx="0"/>
          <a:fontRef idx="minor"/>
        </p:style>
        <p: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Times New Roman"/>
                <a:ea typeface="MS Gothic"/>
              </a:rPr>
              <a:t>doc.: ec-16-0149-00-00EC</a:t>
            </a:r>
            <a:endParaRPr b="0" lang="en-US" sz="1400" spc="-1" strike="noStrike">
              <a:solidFill>
                <a:srgbClr val="000000"/>
              </a:solidFill>
              <a:latin typeface="Times New Roman"/>
            </a:endParaRPr>
          </a:p>
        </p:txBody>
      </p:sp>
      <p:sp>
        <p:nvSpPr>
          <p:cNvPr id="638" name="Text Box 2"/>
          <p:cNvSpPr/>
          <p:nvPr/>
        </p:nvSpPr>
        <p:spPr>
          <a:xfrm>
            <a:off x="654120" y="96840"/>
            <a:ext cx="825480" cy="210960"/>
          </a:xfrm>
          <a:prstGeom prst="rect">
            <a:avLst/>
          </a:prstGeom>
          <a:noFill/>
          <a:ln w="0">
            <a:noFill/>
          </a:ln>
        </p:spPr>
        <p:style>
          <a:lnRef idx="0"/>
          <a:fillRef idx="0"/>
          <a:effectRef idx="0"/>
          <a:fontRef idx="minor"/>
        </p:style>
        <p:txBody>
          <a:bodyPr lIns="0" rIns="0" tIns="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Times New Roman"/>
                <a:ea typeface="MS Gothic"/>
              </a:rPr>
              <a:t>November 2016</a:t>
            </a:r>
            <a:endParaRPr b="0" lang="en-US" sz="1400" spc="-1" strike="noStrike">
              <a:solidFill>
                <a:srgbClr val="000000"/>
              </a:solidFill>
              <a:latin typeface="Times New Roman"/>
            </a:endParaRPr>
          </a:p>
        </p:txBody>
      </p:sp>
      <p:sp>
        <p:nvSpPr>
          <p:cNvPr id="639" name="Text Box 3"/>
          <p:cNvSpPr/>
          <p:nvPr/>
        </p:nvSpPr>
        <p:spPr>
          <a:xfrm>
            <a:off x="5357880" y="8985240"/>
            <a:ext cx="92232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Dorothy Stanley, HP Enterprise</a:t>
            </a:r>
            <a:endParaRPr b="0" lang="en-US" sz="1200" spc="-1" strike="noStrike">
              <a:solidFill>
                <a:srgbClr val="000000"/>
              </a:solidFill>
              <a:latin typeface="Times New Roman"/>
            </a:endParaRPr>
          </a:p>
        </p:txBody>
      </p:sp>
      <p:sp>
        <p:nvSpPr>
          <p:cNvPr id="640" name="Text Box 4"/>
          <p:cNvSpPr/>
          <p:nvPr/>
        </p:nvSpPr>
        <p:spPr>
          <a:xfrm>
            <a:off x="3222720" y="8985240"/>
            <a:ext cx="511200" cy="36360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Page </a:t>
            </a:r>
            <a:fld id="{324E43B8-C9E9-4918-9A8C-B612C89A8545}"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Text Box 6"/>
          <p:cNvSpPr/>
          <p:nvPr/>
        </p:nvSpPr>
        <p:spPr>
          <a:xfrm>
            <a:off x="923760" y="4408560"/>
            <a:ext cx="5086440" cy="42703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44"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45"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46"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47"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EC5CADA-C475-490C-AA50-574CF22BEF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914400" y="744480"/>
            <a:ext cx="4967280" cy="3726000"/>
          </a:xfrm>
          <a:prstGeom prst="rect">
            <a:avLst/>
          </a:prstGeom>
          <a:ln w="0">
            <a:noFill/>
          </a:ln>
        </p:spPr>
      </p:sp>
      <p:sp>
        <p:nvSpPr>
          <p:cNvPr id="64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5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52"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53"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5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FCC2499-C1AB-476F-8106-80E65851BC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body"/>
          </p:nvPr>
        </p:nvSpPr>
        <p:spPr>
          <a:xfrm>
            <a:off x="905040" y="4552560"/>
            <a:ext cx="498456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56" name="PlaceHolder 2"/>
          <p:cNvSpPr>
            <a:spLocks noGrp="1"/>
          </p:cNvSpPr>
          <p:nvPr>
            <p:ph type="sldImg"/>
          </p:nvPr>
        </p:nvSpPr>
        <p:spPr>
          <a:xfrm>
            <a:off x="914400" y="744480"/>
            <a:ext cx="4967280" cy="3726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5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59"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60"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6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D5EF9B2-59CD-4D23-BB34-0E6D716007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923760" y="750960"/>
            <a:ext cx="4948560" cy="3711600"/>
          </a:xfrm>
          <a:prstGeom prst="rect">
            <a:avLst/>
          </a:prstGeom>
          <a:ln w="0">
            <a:noFill/>
          </a:ln>
        </p:spPr>
      </p:sp>
      <p:sp>
        <p:nvSpPr>
          <p:cNvPr id="663" name="PlaceHolder 2"/>
          <p:cNvSpPr>
            <a:spLocks noGrp="1"/>
          </p:cNvSpPr>
          <p:nvPr>
            <p:ph type="body"/>
          </p:nvPr>
        </p:nvSpPr>
        <p:spPr>
          <a:xfrm>
            <a:off x="905040" y="4717800"/>
            <a:ext cx="498456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12978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3</a:t>
            </a:r>
            <a:endParaRPr b="0" lang="en-US" sz="1400" spc="-1" strike="noStrike">
              <a:solidFill>
                <a:srgbClr val="000000"/>
              </a:solidFill>
              <a:latin typeface="Times New Roman"/>
            </a:endParaRPr>
          </a:p>
        </p:txBody>
      </p:sp>
      <p:sp>
        <p:nvSpPr>
          <p:cNvPr id="66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2/0866r0</a:t>
            </a:r>
            <a:endParaRPr b="0" lang="en-US" sz="1400" spc="-1" strike="noStrike">
              <a:solidFill>
                <a:srgbClr val="000000"/>
              </a:solidFill>
              <a:latin typeface="Times New Roman"/>
            </a:endParaRPr>
          </a:p>
        </p:txBody>
      </p:sp>
      <p:sp>
        <p:nvSpPr>
          <p:cNvPr id="666" name="Rectangle 3"/>
          <p:cNvSpPr/>
          <p:nvPr/>
        </p:nvSpPr>
        <p:spPr>
          <a:xfrm>
            <a:off x="442080" y="11988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September 2012</a:t>
            </a:r>
            <a:endParaRPr b="0" lang="en-US" sz="1400" spc="-1" strike="noStrike">
              <a:solidFill>
                <a:srgbClr val="000000"/>
              </a:solidFill>
              <a:latin typeface="Times New Roman"/>
            </a:endParaRPr>
          </a:p>
        </p:txBody>
      </p:sp>
      <p:sp>
        <p:nvSpPr>
          <p:cNvPr id="667" name="Rectangle 6"/>
          <p:cNvSpPr/>
          <p:nvPr/>
        </p:nvSpPr>
        <p:spPr>
          <a:xfrm>
            <a:off x="4493160" y="9615600"/>
            <a:ext cx="23994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Clint Chaplin, Chair (Samsung)</a:t>
            </a:r>
            <a:endParaRPr b="0" lang="en-US" sz="1200" spc="-1" strike="noStrike">
              <a:solidFill>
                <a:srgbClr val="000000"/>
              </a:solidFill>
              <a:latin typeface="Times New Roman"/>
            </a:endParaRPr>
          </a:p>
        </p:txBody>
      </p:sp>
      <p:sp>
        <p:nvSpPr>
          <p:cNvPr id="66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3472D0C-0F5A-4916-9C68-73DF323D88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09/0301r1</a:t>
            </a:r>
            <a:endParaRPr b="0" lang="en-US" sz="1400" spc="-1" strike="noStrike">
              <a:solidFill>
                <a:srgbClr val="000000"/>
              </a:solidFill>
              <a:latin typeface="Times New Roman"/>
            </a:endParaRPr>
          </a:p>
        </p:txBody>
      </p:sp>
      <p:sp>
        <p:nvSpPr>
          <p:cNvPr id="670" name="Rectangle 3"/>
          <p:cNvSpPr/>
          <p:nvPr/>
        </p:nvSpPr>
        <p:spPr>
          <a:xfrm>
            <a:off x="595080" y="11988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671" name="Rectangle 6"/>
          <p:cNvSpPr/>
          <p:nvPr/>
        </p:nvSpPr>
        <p:spPr>
          <a:xfrm>
            <a:off x="4754520" y="9615600"/>
            <a:ext cx="1876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Stephen McCann, RIM</a:t>
            </a:r>
            <a:endParaRPr b="0" lang="en-US" sz="1200" spc="-1" strike="noStrike">
              <a:solidFill>
                <a:srgbClr val="000000"/>
              </a:solidFill>
              <a:latin typeface="Times New Roman"/>
            </a:endParaRPr>
          </a:p>
        </p:txBody>
      </p:sp>
      <p:sp>
        <p:nvSpPr>
          <p:cNvPr id="67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4D66C72-DA3E-4799-B983-07CFD7D3DF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4" name="PlaceHolder 2"/>
          <p:cNvSpPr>
            <a:spLocks noGrp="1"/>
          </p:cNvSpPr>
          <p:nvPr>
            <p:ph type="sldImg"/>
          </p:nvPr>
        </p:nvSpPr>
        <p:spPr>
          <a:xfrm>
            <a:off x="917640" y="746280"/>
            <a:ext cx="4960800" cy="3720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2845C-01FA-4521-8E0F-05C320DDB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45502-A829-4FF7-AAF5-2DF6BA485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54F49F-57DB-491B-BF64-A3175E09BF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CFA195-B78E-4D9A-B224-5905B1B0D9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B3042-E349-44A4-8714-46D658ED22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9BB6A2-FD72-4CE1-9CC7-910558DFF7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90646B-A696-4A0C-BD71-15A7817CF6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AD9AC0-A22A-4CF3-A313-3CF8612B4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9D79E9-6934-445D-98D0-B39E194FDB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9EB7D8-290B-4011-A140-886006FCF1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351948-1B9F-4360-9A66-16CA82A1BF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60C2A7-7611-4AA3-9AFC-BEF49EC0B5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0BC9C-BC08-47BD-9B47-8956582E2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FBE8B2-BE16-4A64-BAB8-0ECFE73B95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65031F-7172-497F-B3CA-90E6DB1CAE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D3D16C-FD44-4CFD-9DEA-7BCB46F7AE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3C373E-5DF4-4936-B85B-DF9E6CA587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1247F9-1292-4FC3-9D50-8E3388DEC7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E0CD2B-D389-4482-B336-A357371E61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C79673-E471-4D01-9AD9-EBC1F8DDA1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1665CF-04D2-4D88-AFB9-CDB8A0236D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6AA28A-4CBF-4966-9A53-7E31B95AC8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4A0BDF-9198-4039-A4CA-17602041ADB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19046-2BF3-4B9F-B24F-382A8DF3D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D75EC2-BAC6-4B57-A291-49B727C377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E9FD30-B237-4ECC-B666-A64641F24D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EC75E8-BE18-4CD6-8514-FB08AD4D4C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113127-35AE-4CEF-9548-E189647209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4352F1-CE66-4C26-8DE7-045760B699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B7DA6C-57F4-4D20-A80A-235EC12C12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519B23-79DD-4048-8A3F-7EA5D22EB0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25D743-1BCE-41F1-91A0-6748ED81D0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9CDA97-E4C2-46AA-B898-47082738B6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ADD698-DD6A-4426-9991-F7D948066A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8EA16-DE51-489A-B37B-E966080E9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7E60E9-DE68-4EC4-9956-20F440800D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DB7CF6-DD6F-494F-9FDE-04029B14E0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DD90B4-7C83-4AF4-9871-4F1FEFB302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9C3AEA-BE66-44FD-BAA6-276024213A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38566B-1A3F-4837-82ED-D1397295EA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AA963E-0DDD-436D-9551-171A58976B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66D29E-80FB-4302-891D-4E80F03BC0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EFD9C7-857D-4087-925B-686FCD4A10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D61B70-F08E-481A-8C54-7A0D602E8F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00D18B-EB95-401A-AD5E-CA7E9633C2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12FEC-5525-4D7C-A2D1-DEE772686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682243-8251-43BA-B97C-1A8F2D071A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0EEE0F-6BAF-4436-9085-BDD781E55D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C30F80-7771-4BC4-AA94-17966D9781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92D3E9-D1C2-4F82-A900-E946212A4F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4CEA4F-C8B9-412B-91FF-09E2E880BA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23BBD-4146-403C-AF1F-AAC57C2F1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45C97-F231-4000-9FA5-8F67D4EA1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9155D-97CC-437C-98EA-CDDA5B38D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36A22-8D37-43A3-AF4C-2F6868DDE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46354-6DB7-468F-8594-183FAEA50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80F7B-AC19-44D4-8C9E-C641321D0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5CABB-6AA5-46A5-804B-812D6C216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46EC9-7D1F-453C-AC0C-05D92F446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D2B48-F81A-4BD3-8659-BE158A575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E69BA-13C8-4C7D-A510-61ED1DB61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D9E42-4CF3-4F40-A77D-B0CA148EB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50F16F-981A-42C4-BD71-FB34EDD687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A1B6D-4799-43A0-88F9-6D1BAB6ABC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8DFF5-D2BD-4577-9D65-70687730D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60F661-F078-4A52-A65F-953A68494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F6CA2-3E23-49DE-99B7-551CE414D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A48F6-87A1-44D8-99E3-5FDFECB9B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D5302-50AB-4A20-9965-65CA7DECD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6B896-E920-451E-9582-B3C3F4823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EC48A-CDFD-4901-AC1E-9EF9739B4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64920-68D6-43D4-BBF7-2C437ADC1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3B2ED0-2081-490E-A68D-3055DF104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AC3C5A-0435-4BE8-B7EE-853B301F79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3096F6-0C69-42CB-A882-72EBCC4F47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2CE65C-E9A3-4A64-9912-0022286137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92DC5-1062-460C-92C9-FD8F7DEC3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BA21A4-0502-4F8A-9171-FFAAB72EE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88373-32F5-46EB-A3FC-260B9A502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D1516-785A-4911-A144-1B50EB68B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89EAF8-B49A-44F7-85A0-A7C756E21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842006-C0DA-4596-A8B1-591ECA491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D3471-F0BA-4A5F-BADF-E33E35A1A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7E1C7-877A-43FA-88CE-8F0F3828D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39B2F-6E00-4345-8E22-6C6159245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03745-4596-40E6-9DC9-0E275D89E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DE51ED-22AE-444B-857D-7432E52CB6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C7438A-3774-4FD2-AFF6-8248B0CE25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15BE44-679F-420A-99DC-28FB21DEE0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D102-7FFA-4DDC-BF5E-9BBD946B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7C17D-3EA9-4261-B8E1-59D62365D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9B8F2E-9DBB-4E66-A88A-C1E91457A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092458-E0BE-4B37-8997-CD383EA3B0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AC2688-E4AF-4AF5-9838-AC1BC025D0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050D2-8352-4065-9452-C8D5D8AA03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444CA-BCE4-41F5-85DF-26C5F5F27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B49E2-E8C3-40AA-A358-DCD185003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3AFC5-EA07-4757-90D0-7FC3400EA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56C460-9E75-4879-8C2F-8904FD15D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5ED5D0-8F65-462C-96BA-13B37C205E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41A30-25AB-4B59-BBBC-AFD510969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26E8B8-F3ED-4DC7-8955-68DB123AFF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5B1CAC-8B6A-4244-A557-43352E680F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31C942-999F-4B33-BEF3-844A3F833F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FA7B26-4460-47AA-AE8F-B3356BF2C1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68209-C7FC-416A-8CCD-E33E6E934D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3982BB-7C97-46C8-88F3-42EBA8E78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C544E-3864-404A-BA57-105B798FD6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E4484-97CE-491A-B980-CAFD9D1B81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BF1194-ED2E-4710-A8D1-0402C8E9C1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9C09C-650F-457D-BFCE-1B9526DA4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579E-EA62-4BBC-8B62-0DAB3DAF2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452A9-B6E3-4F74-AC62-FD547925E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254350-CCA2-42AF-9AC0-337A333A1A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9A85D5-35CB-4A19-A549-BFEFCDD0A0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12AEDE-E659-407F-B258-AF74ADBD30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3C711D-7B1C-4936-9E39-C730E22779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BBA66-CE35-4A09-BB48-029211927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4F369C-4AF8-408A-A572-C5A5A7CB3C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09F9C4-9753-43FB-BD8A-D3B1C33E90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273BC8-C51F-4243-B881-BEFEB538C2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06DD79-9842-426C-9094-EF46A7B0F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DDD4-58D5-4F6D-95D7-E0685CD7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5F896-9E3E-433F-81CE-7385E8C29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83F9F-D197-402C-ADDC-2EC94AF3F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3D1B98-20F4-4CA2-91CA-70595C94FE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9C6D33-35A5-46CA-8273-CBBEAAE8BA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D4DC32-19F1-4626-ABF5-1F71C2B79D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280F78-E098-464C-8990-28F1D5197F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247761-D5F9-46A4-9F65-98A82206D0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259E27-4603-4176-BDC5-83B99C8F4C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128AA9-4D5B-43F4-822A-4E53D6A351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9DFA5-EAA2-49D0-9A72-8389E0EAF6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FC24-F835-4A1B-843C-2FF736EDA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73D824-24B8-47D8-9EBC-7E6F1C6B45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704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AF046-6CD9-462A-B598-F2F402B58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4360" y="19890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A866EF-D826-447D-A63B-51F399712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B5445-BC89-412E-930B-2B6EAE9CFF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4360" y="19890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4360" y="41385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3DFCC6-4EC7-4A8A-950D-348203C62A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436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7040" y="19890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436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7040" y="41385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F920B2-4807-4ADC-919E-311B3CFB83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4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236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0000" y="19890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4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236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0000" y="41385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D37245-9952-4832-BBF3-DE9058C4DA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4D16AD-EBFD-4982-84E7-187AE1DC3F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30668E-986F-4F94-A735-BD2A633882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8B6F47-6821-4399-8733-7C83D0A216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899400" y="6475320"/>
            <a:ext cx="164448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m Lansford (Qualcom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FCC12C6C-4CC0-4514-B1F3-EF6CC03C78C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C0B7D74C-57ED-4B5B-8536-0DE151616ED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62D5CC36-0DE2-4FB9-907F-D3127918695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82D4C4A7-1B80-49D6-BD6E-4E85A1FC9BF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C48161AB-DF10-41D5-BDCA-37C44A61A14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6</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478200" y="6475320"/>
            <a:ext cx="206532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m Lansford, Chair (Qualcomm)</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EE5C2CFE-F9D6-47DE-8549-5CEDA460B5E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981A56DD-A53C-4543-96E8-ACFB21FC27B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E5D13534-FFBB-49EA-ADEA-4350CA097EB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C30737B1-0635-4D3E-B877-98058797838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87C518E8-8953-407F-8F2A-F820F4C4538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3</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5B421B9C-B4EF-41E2-83A4-90066E1C342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36480" y="333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7/0878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899400" y="6475320"/>
            <a:ext cx="1644480" cy="3654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int Chaplin, Chair (Samsung)</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A2476313-7292-4B03-B63B-6086D58ABA5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11/dcn/17/11-17-0800-01-0wng-wireless-next-generation-wng-standing-committee-meeting-minutes-for-may-2017-daejeon-meeting.docx" TargetMode="External"/><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51" name="Footer Placeholder 4"/>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E752F32-683C-4D4D-999A-C369FD9B8F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NG SC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4360" y="155736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7-07-10</a:t>
            </a:r>
            <a:endParaRPr b="1" lang="en-US" sz="2000" spc="-1" strike="noStrike">
              <a:solidFill>
                <a:srgbClr val="000000"/>
              </a:solidFill>
              <a:latin typeface="Times New Roman"/>
            </a:endParaRPr>
          </a:p>
        </p:txBody>
      </p:sp>
      <p:graphicFrame>
        <p:nvGraphicFramePr>
          <p:cNvPr id="555" name="Object 5"/>
          <p:cNvGraphicFramePr/>
          <p:nvPr/>
        </p:nvGraphicFramePr>
        <p:xfrm>
          <a:off x="546120" y="2286000"/>
          <a:ext cx="7467480" cy="2108160"/>
        </p:xfrm>
        <a:graphic>
          <a:graphicData uri="http://schemas.openxmlformats.org/presentationml/2006/ole">
            <p:oleObj progId="Word.Document.12" r:id="rId1" spid="">
              <p:embed/>
              <p:pic>
                <p:nvPicPr>
                  <p:cNvPr id="556" name="Object 5" descr=""/>
                  <p:cNvPicPr/>
                  <p:nvPr/>
                </p:nvPicPr>
                <p:blipFill>
                  <a:blip r:embed="rId2"/>
                  <a:stretch/>
                </p:blipFill>
                <p:spPr>
                  <a:xfrm>
                    <a:off x="546120" y="2286000"/>
                    <a:ext cx="7467480" cy="2108160"/>
                  </a:xfrm>
                  <a:prstGeom prst="rect">
                    <a:avLst/>
                  </a:prstGeom>
                  <a:ln w="0">
                    <a:noFill/>
                  </a:ln>
                </p:spPr>
              </p:pic>
            </p:oleObj>
          </a:graphicData>
        </a:graphic>
      </p:graphicFrame>
      <p:sp>
        <p:nvSpPr>
          <p:cNvPr id="557" name="Rectangle 6"/>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59" name="Footer Placeholder 2"/>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6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6E11E6E-C469-48F9-9532-5756DDDEE9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6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Wireless Next Generation Standing Committee meeting for Berlin (Germany)</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64" name="Footer Placeholder 2"/>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6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7D9D3B2-C0D1-4689-BC44-8CF5961A9C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a:t>
            </a:r>
            <a:br>
              <a:rPr sz="2800"/>
            </a:br>
            <a:r>
              <a:rPr b="1" lang="en-US" sz="1800" spc="-1" strike="noStrike">
                <a:solidFill>
                  <a:srgbClr val="000000"/>
                </a:solidFill>
                <a:latin typeface="Times New Roman"/>
              </a:rPr>
              <a:t>11 July 2017, 08:00 – 10:00</a:t>
            </a:r>
            <a:endParaRPr b="0" lang="en-US" sz="1800" spc="-1" strike="noStrike">
              <a:solidFill>
                <a:srgbClr val="000000"/>
              </a:solidFill>
              <a:latin typeface="Times New Roman"/>
            </a:endParaRPr>
          </a:p>
        </p:txBody>
      </p:sp>
      <p:sp>
        <p:nvSpPr>
          <p:cNvPr id="568"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ll Meeting to Order</a:t>
            </a:r>
            <a:endParaRPr b="1" lang="en-US" sz="20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da approval</a:t>
            </a:r>
            <a:endParaRPr b="1" lang="en-US" sz="20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tendance reminder</a:t>
            </a:r>
            <a:endParaRPr b="1" lang="en-US" sz="20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ation reminder</a:t>
            </a:r>
            <a:endParaRPr b="1" lang="en-US" sz="2000" spc="-1" strike="noStrike">
              <a:solidFill>
                <a:srgbClr val="000000"/>
              </a:solidFill>
              <a:latin typeface="Times New Roman"/>
            </a:endParaRPr>
          </a:p>
          <a:p>
            <a:pPr marL="452520" indent="-452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roval of Previous meeting minutes</a:t>
            </a:r>
            <a:r>
              <a:rPr b="1" lang="en-GB" sz="1800" spc="-1" strike="noStrike">
                <a:solidFill>
                  <a:srgbClr val="000000"/>
                </a:solidFill>
                <a:latin typeface="Times New Roman"/>
              </a:rPr>
              <a:t> </a:t>
            </a:r>
            <a:endParaRPr b="1" lang="en-US" sz="1800" spc="-1" strike="noStrike">
              <a:solidFill>
                <a:srgbClr val="000000"/>
              </a:solidFill>
              <a:latin typeface="Times New Roman"/>
            </a:endParaRPr>
          </a:p>
          <a:p>
            <a:pPr lvl="1" marL="829440" indent="-376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nutes from May</a:t>
            </a:r>
            <a:endParaRPr b="0" lang="en-US" sz="1800" spc="-1" strike="noStrike">
              <a:solidFill>
                <a:srgbClr val="000000"/>
              </a:solidFill>
              <a:latin typeface="Times New Roman"/>
            </a:endParaRPr>
          </a:p>
          <a:p>
            <a:pPr lvl="2" marL="1169280" indent="-376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66ff"/>
                </a:solidFill>
                <a:uFillTx/>
                <a:latin typeface="Times New Roman"/>
                <a:hlinkClick r:id="rId1"/>
              </a:rPr>
              <a:t>https://mentor.ieee.org/802.11/dcn/17/11-17-0800-01-0wng-wireless-next-generation-wng-standing-committee-meeting-minutes-for-may-2017-daejeon-meeting.docx</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nouncements</a:t>
            </a:r>
            <a:endParaRPr b="1" lang="en-US" sz="2000" spc="-1" strike="noStrike">
              <a:solidFill>
                <a:srgbClr val="000000"/>
              </a:solidFill>
              <a:latin typeface="Times New Roman"/>
            </a:endParaRPr>
          </a:p>
          <a:p>
            <a:pPr marL="452520" indent="-452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sentations</a:t>
            </a:r>
            <a:endParaRPr b="1" lang="en-US" sz="2000" spc="-1" strike="noStrike">
              <a:solidFill>
                <a:srgbClr val="000000"/>
              </a:solidFill>
              <a:latin typeface="Times New Roman"/>
            </a:endParaRPr>
          </a:p>
          <a:p>
            <a:pPr marL="452520" indent="-452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s for September 2017</a:t>
            </a:r>
            <a:endParaRPr b="1" lang="en-US" sz="2000" spc="-1" strike="noStrike">
              <a:solidFill>
                <a:srgbClr val="000000"/>
              </a:solidFill>
              <a:latin typeface="Times New Roman"/>
            </a:endParaRPr>
          </a:p>
          <a:p>
            <a:pPr marL="452520" indent="-452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ournment</a:t>
            </a:r>
            <a:endParaRPr b="1"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70" name="Footer Placeholder 2"/>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7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AC6F290-F7C5-423B-95AB-E1A0D1DF7B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title"/>
          </p:nvPr>
        </p:nvSpPr>
        <p:spPr>
          <a:xfrm>
            <a:off x="394920" y="620640"/>
            <a:ext cx="84582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Guidelines for IEEE-SA Meetings</a:t>
            </a:r>
            <a:endParaRPr b="1" lang="en-US" sz="2800" spc="-1" strike="noStrike">
              <a:solidFill>
                <a:srgbClr val="000000"/>
              </a:solidFill>
              <a:latin typeface="Times New Roman"/>
            </a:endParaRPr>
          </a:p>
        </p:txBody>
      </p:sp>
      <p:sp>
        <p:nvSpPr>
          <p:cNvPr id="573" name="Rectangle 4"/>
          <p:cNvSpPr/>
          <p:nvPr/>
        </p:nvSpPr>
        <p:spPr>
          <a:xfrm>
            <a:off x="611280" y="1052640"/>
            <a:ext cx="8229600" cy="53290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2" marL="1143000" indent="-228600">
              <a:lnSpc>
                <a:spcPct val="80000"/>
              </a:lnSpc>
              <a:spcBef>
                <a:spcPts val="400"/>
              </a:spcBef>
              <a:spcAft>
                <a:spcPts val="799"/>
              </a:spcAft>
              <a:buClr>
                <a:srgbClr val="cc33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Technical considerations remain primary focu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f you have questions, contact the IEEE-SA Standards Board Patent Committee Administrator at patcom@ieee.org or visit http://standards.ieee.org/about/sasb/patcom/index.html </a:t>
            </a:r>
            <a:br>
              <a:rPr sz="1400"/>
            </a:br>
            <a:endParaRPr b="0" lang="en-US" sz="14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e </a:t>
            </a:r>
            <a:r>
              <a:rPr b="1" i="1" lang="en-US" sz="1400" spc="-1" strike="noStrike">
                <a:solidFill>
                  <a:srgbClr val="000099"/>
                </a:solidFill>
                <a:latin typeface="Arial"/>
              </a:rPr>
              <a:t>IEEE-SA Standards Board Operations Manual</a:t>
            </a:r>
            <a:r>
              <a:rPr b="1" lang="en-US" sz="1400" spc="-1" strike="noStrike">
                <a:solidFill>
                  <a:srgbClr val="000099"/>
                </a:solidFill>
                <a:latin typeface="Arial"/>
              </a:rPr>
              <a:t>, clause 5.3.10 and </a:t>
            </a:r>
            <a:r>
              <a:rPr b="1" lang="en-GB" sz="1400" spc="-1" strike="noStrike">
                <a:solidFill>
                  <a:srgbClr val="000099"/>
                </a:solidFill>
                <a:latin typeface="Arial"/>
              </a:rPr>
              <a:t>“Promoting Competition and Innovation: What You Need to Know about the IEEE Standards Association's Antitrust and Competition Policy”</a:t>
            </a:r>
            <a:r>
              <a:rPr b="1" lang="en-US" sz="1400" spc="-1" strike="noStrike">
                <a:solidFill>
                  <a:srgbClr val="000099"/>
                </a:solidFill>
                <a:latin typeface="Arial"/>
              </a:rPr>
              <a:t> for more details.</a:t>
            </a:r>
            <a:endParaRPr b="0" lang="en-US" sz="14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his slide set is available </a:t>
            </a:r>
            <a:br>
              <a:rPr sz="1400"/>
            </a:br>
            <a:r>
              <a:rPr b="1" lang="en-US" sz="1400" spc="-1" strike="noStrike">
                <a:solidFill>
                  <a:srgbClr val="000099"/>
                </a:solidFill>
                <a:latin typeface="Arial"/>
              </a:rPr>
              <a:t>at https://development.standards.ieee.org/myproject/Public/mytools/mob/slideset.ppt</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1"/>
          <p:cNvSpPr/>
          <p:nvPr/>
        </p:nvSpPr>
        <p:spPr>
          <a:xfrm>
            <a:off x="714240" y="357120"/>
            <a:ext cx="2374920" cy="273240"/>
          </a:xfrm>
          <a:prstGeom prst="rect">
            <a:avLst/>
          </a:prstGeom>
          <a:noFill/>
          <a:ln w="0">
            <a:noFill/>
          </a:ln>
        </p:spPr>
        <p:style>
          <a:lnRef idx="0"/>
          <a:fillRef idx="0"/>
          <a:effectRef idx="0"/>
          <a:fontRef idx="minor"/>
        </p:style>
        <p:txBody>
          <a:bodyPr lIns="0" rIns="0" tIns="0" bIns="0" anchor="b">
            <a:normAutofit fontScale="99000"/>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000000"/>
                </a:solidFill>
                <a:latin typeface="Times New Roman"/>
                <a:ea typeface="MS Gothic"/>
              </a:rPr>
              <a:t>July 2017</a:t>
            </a:r>
            <a:endParaRPr b="0" lang="en-US" sz="1800" spc="-1" strike="noStrike">
              <a:solidFill>
                <a:srgbClr val="000000"/>
              </a:solidFill>
              <a:latin typeface="Times New Roman"/>
            </a:endParaRPr>
          </a:p>
        </p:txBody>
      </p:sp>
      <p:sp>
        <p:nvSpPr>
          <p:cNvPr id="575" name="Text Box 2"/>
          <p:cNvSpPr/>
          <p:nvPr/>
        </p:nvSpPr>
        <p:spPr>
          <a:xfrm>
            <a:off x="6143760" y="6475320"/>
            <a:ext cx="2398680" cy="181080"/>
          </a:xfrm>
          <a:prstGeom prst="rect">
            <a:avLst/>
          </a:prstGeom>
          <a:noFill/>
          <a:ln w="0">
            <a:noFill/>
          </a:ln>
        </p:spPr>
        <p:style>
          <a:lnRef idx="0"/>
          <a:fillRef idx="0"/>
          <a:effectRef idx="0"/>
          <a:fontRef idx="minor"/>
        </p:style>
        <p:txBody>
          <a:bodyPr lIns="0" rIns="0" tIns="0" bIns="0" anchor="t">
            <a:normAutofit fontScale="99000"/>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IEEE 802 Executive Committee</a:t>
            </a:r>
            <a:endParaRPr b="0" lang="en-US" sz="1200" spc="-1" strike="noStrike">
              <a:solidFill>
                <a:srgbClr val="000000"/>
              </a:solidFill>
              <a:latin typeface="Times New Roman"/>
            </a:endParaRPr>
          </a:p>
        </p:txBody>
      </p:sp>
      <p:sp>
        <p:nvSpPr>
          <p:cNvPr id="576" name="Text Box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Slide </a:t>
            </a:r>
            <a:fld id="{F5C21FDF-3035-493B-861F-9F6596AEB80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577"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200" spc="-1" strike="noStrike">
                <a:solidFill>
                  <a:srgbClr val="000000"/>
                </a:solidFill>
                <a:latin typeface="Times New Roman"/>
              </a:rPr>
              <a:t>Participation in IEEE 802 Meetings</a:t>
            </a:r>
            <a:endParaRPr b="1" lang="en-US" sz="3200" spc="-1" strike="noStrike">
              <a:solidFill>
                <a:srgbClr val="000000"/>
              </a:solidFill>
              <a:latin typeface="Times New Roman"/>
            </a:endParaRPr>
          </a:p>
        </p:txBody>
      </p:sp>
      <p:sp>
        <p:nvSpPr>
          <p:cNvPr id="578" name="Text Box 5"/>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Autofit/>
          </a:bodyPr>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All participation in IEEE 802 Working Group meetings is on an individual basis</a:t>
            </a:r>
            <a:endParaRPr b="0" lang="en-US" sz="16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i="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1" lang="en-GB" sz="1400" spc="-1" strike="noStrike" u="sng">
                <a:solidFill>
                  <a:srgbClr val="ccccff"/>
                </a:solidFill>
                <a:uFillTx/>
                <a:latin typeface="Times New Roman"/>
                <a:ea typeface="MS Gothic"/>
              </a:rPr>
              <a:t>https://standards.ieee.org/develop/policies/bylaws/sb_bylaws.pdf</a:t>
            </a:r>
            <a:r>
              <a:rPr b="1" lang="en-GB" sz="1400" spc="-1" strike="noStrike">
                <a:solidFill>
                  <a:srgbClr val="000000"/>
                </a:solidFill>
                <a:latin typeface="Times New Roman"/>
                <a:ea typeface="MS Gothic"/>
              </a:rPr>
              <a:t>section 5.2.1)</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3984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1" lang="en-GB" sz="1400" spc="-1" strike="noStrike" u="sng">
                <a:solidFill>
                  <a:srgbClr val="ccccff"/>
                </a:solidFill>
                <a:uFillTx/>
                <a:latin typeface="Times New Roman"/>
                <a:ea typeface="MS Gothic"/>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9840" algn="ctr">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GB" sz="1200" spc="-1" strike="noStrike">
                <a:solidFill>
                  <a:srgbClr val="000000"/>
                </a:solidFill>
                <a:latin typeface="Times New Roman"/>
                <a:ea typeface="MS Gothic"/>
              </a:rPr>
              <a:t>(Latest revision of IEEE 802 LMSC Working Group Policies and Procedures: http://www.ieee802.org/devdocs.shtml)</a:t>
            </a:r>
            <a:endParaRPr b="0" lang="en-US" sz="1200" spc="-1" strike="noStrike">
              <a:solidFill>
                <a:srgbClr val="000000"/>
              </a:solidFill>
              <a:latin typeface="Times New Roman"/>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0" name="Footer Placeholder 4"/>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15B5BD0-0F4C-4A0C-87D4-CAD4B21FB5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title"/>
          </p:nvPr>
        </p:nvSpPr>
        <p:spPr>
          <a:xfrm>
            <a:off x="684360" y="549360"/>
            <a:ext cx="777240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583"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faqs/affiliationFAQ.html</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resources/antitrust-guidelines.pdf</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eee.org/web/membership/ethics/code_ethics.html </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board/pat/pat-slideset.p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85" name="Footer Placeholder 4"/>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2C3B55E-4C97-4473-B82B-9855AF072E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588"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90" name="Footer Placeholder 4"/>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D3CDBB8E-34DE-4C27-B460-AFBFDF3155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 Operating Rules</a:t>
            </a:r>
            <a:endParaRPr b="1" lang="en-US" sz="3200" spc="-1" strike="noStrike">
              <a:solidFill>
                <a:srgbClr val="000000"/>
              </a:solidFill>
              <a:latin typeface="Times New Roman"/>
            </a:endParaRPr>
          </a:p>
        </p:txBody>
      </p:sp>
      <p:sp>
        <p:nvSpPr>
          <p:cNvPr id="593"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nybody can vote, present, and make motions</a:t>
            </a:r>
            <a:endParaRPr b="1"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articipation in SC during 802.11 WG Plenary or Interim counts towards 802.11 voting rights</a:t>
            </a:r>
            <a:endParaRPr b="1"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ll motions must pass by a 75% majority</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7</a:t>
            </a:r>
            <a:endParaRPr b="0" lang="en-US" sz="1800" spc="-1" strike="noStrike">
              <a:solidFill>
                <a:srgbClr val="000000"/>
              </a:solidFill>
              <a:latin typeface="Times New Roman"/>
            </a:endParaRPr>
          </a:p>
        </p:txBody>
      </p:sp>
      <p:sp>
        <p:nvSpPr>
          <p:cNvPr id="595" name="Footer Placeholder 2"/>
          <p:cNvSpPr/>
          <p:nvPr/>
        </p:nvSpPr>
        <p:spPr>
          <a:xfrm>
            <a:off x="6491880" y="6475320"/>
            <a:ext cx="20383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Lansford, Chair (Qualcomm)</a:t>
            </a:r>
            <a:endParaRPr b="0" lang="en-US" sz="1200" spc="-1" strike="noStrike">
              <a:solidFill>
                <a:srgbClr val="000000"/>
              </a:solidFill>
              <a:latin typeface="Times New Roman"/>
            </a:endParaRPr>
          </a:p>
        </p:txBody>
      </p:sp>
      <p:sp>
        <p:nvSpPr>
          <p:cNvPr id="59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43D9F3A-24EB-478D-A2DF-47E69FC84D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Rectangle 4"/>
          <p:cNvSpPr/>
          <p:nvPr/>
        </p:nvSpPr>
        <p:spPr>
          <a:xfrm>
            <a:off x="685800" y="54144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 - detailed agenda</a:t>
            </a:r>
            <a:br>
              <a:rPr sz="2800"/>
            </a:br>
            <a:r>
              <a:rPr b="1" lang="en-US" sz="1800" spc="-1" strike="noStrike">
                <a:solidFill>
                  <a:srgbClr val="000000"/>
                </a:solidFill>
                <a:latin typeface="Times New Roman"/>
              </a:rPr>
              <a:t>11 July 2017, 08:00 – 10:00</a:t>
            </a:r>
            <a:endParaRPr b="0" lang="en-US" sz="1800" spc="-1" strike="noStrike">
              <a:solidFill>
                <a:srgbClr val="000000"/>
              </a:solidFill>
              <a:latin typeface="Times New Roman"/>
            </a:endParaRPr>
          </a:p>
        </p:txBody>
      </p:sp>
      <p:sp>
        <p:nvSpPr>
          <p:cNvPr id="598" name="PlaceHolder 1"/>
          <p:cNvSpPr>
            <a:spLocks noGrp="1"/>
          </p:cNvSpPr>
          <p:nvPr>
            <p:ph/>
          </p:nvPr>
        </p:nvSpPr>
        <p:spPr>
          <a:xfrm>
            <a:off x="250920" y="1487520"/>
            <a:ext cx="8424720" cy="431784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nouncements</a:t>
            </a:r>
            <a:endParaRPr b="1"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sentations</a:t>
            </a:r>
            <a:endParaRPr b="1" lang="en-US" sz="2400" spc="-1" strike="noStrike">
              <a:solidFill>
                <a:srgbClr val="000000"/>
              </a:solidFill>
              <a:latin typeface="Times New Roman"/>
            </a:endParaRPr>
          </a:p>
          <a:p>
            <a:pPr lvl="1" marL="85716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tudent projects at University of Colorado – Boulder: Measurements of temporal occupancy and a comparison of indoor performance of OFDM vs CCK/DSSS” – Jim Lansford (Qualcomm)</a:t>
            </a:r>
            <a:endParaRPr b="0" lang="en-US" sz="2000" spc="-1" strike="noStrike">
              <a:solidFill>
                <a:srgbClr val="000000"/>
              </a:solidFill>
              <a:latin typeface="Times New Roman"/>
            </a:endParaRPr>
          </a:p>
          <a:p>
            <a:pPr lvl="1" marL="85716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BD</a:t>
            </a:r>
            <a:endParaRPr b="0" lang="en-US" sz="2000" spc="-1" strike="noStrike">
              <a:solidFill>
                <a:srgbClr val="000000"/>
              </a:solidFill>
              <a:latin typeface="Times New Roman"/>
            </a:endParaRPr>
          </a:p>
          <a:p>
            <a:pPr lvl="1" marL="85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s for September 2017</a:t>
            </a:r>
            <a:endParaRPr b="1" lang="en-US" sz="2400" spc="-1" strike="noStrike">
              <a:solidFill>
                <a:srgbClr val="000000"/>
              </a:solidFill>
              <a:latin typeface="Times New Roman"/>
            </a:endParaRPr>
          </a:p>
          <a:p>
            <a:pPr lvl="1" marL="85716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 will make a call for presentations in advance</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1"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jlansfor@qti.qualcomm.com</dc:creator>
  <dc:description/>
  <dc:language>en-US</dc:language>
  <cp:lastModifiedBy>Jim Lansford</cp:lastModifiedBy>
  <cp:lastPrinted>1998-02-10T13:28:06Z</cp:lastPrinted>
  <dcterms:modified xsi:type="dcterms:W3CDTF">2017-05-30T21:20:43Z</dcterms:modified>
  <cp:revision>1033</cp:revision>
  <dc:subject/>
  <dc:title>WNG SC Agenda</dc:title>
</cp:coreProperties>
</file>