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811B820B-D039-44C1-91BC-E204F1E778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014336-ED12-4330-88FB-CE9494168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C54983-D382-422D-8B9E-EDC74FC32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AF0930-364E-44FA-B9AD-4C29D617A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44BA5D-BE26-4E14-86AF-30FB7EBA1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BBD270-6553-4D00-B748-2368F486A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8BEEB8-EF55-4A00-BBA0-707AD80CB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12C171-6C15-4318-BE47-84F692053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10C58F-0156-4FFA-84DE-5ADC0F86A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8D3240-65F6-460E-938D-DE9BD1599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12E9DF-3CF4-4A07-B875-2C70F6D99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FD49D-4FF2-4A5F-B72E-75FF91C95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F14F-C1AF-47F1-B596-5DA1DCE9D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F3677-DAB4-4A90-BDA3-F80291DE4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32ED4-741B-4F39-9E9B-185EB44036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E3F0A5-C3C2-481B-81AA-454DD1244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1880E-57B1-4DB3-83C3-7DF65B2F0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63E5C-B018-48DD-B275-DD901DB53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01ED8-105C-4C07-8457-F40A76437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EB3AE-D84A-402F-B767-7B321A738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E94A00-F0F2-4A51-8AC0-576091D24B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4B8B78-B16F-4EA0-8820-DAAE23ED95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8521D4-F585-465D-B0A1-147B86C9F6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94A75-8A69-40B1-99C1-3B2359FA0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E4555D-A729-400C-BBF1-1F8B5C1775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6B0637-8FFE-48BA-A016-3803A435B5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9861E4-977F-4B06-80CD-50C35806C9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ACE7E5-E8EB-402F-B8CA-8407D2BBC1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7BBBC3-BAB7-4D93-BB54-4F9276834D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6483D8-6EA4-4AE0-9840-DE1646DBAB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1B6AE3-F2CB-4C72-B548-1B71BBA76A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207AC6-C11A-451C-A8F6-92C0A77CA8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7F37A9-0D08-4DE9-A356-7ABC64B711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F070CD-EF57-419E-9596-A569205639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6C779-B4F5-4F38-BA84-EC439D8F4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010716-4009-4619-A784-C0B8AC0CF1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1871CE-E477-4884-A3BC-2A1B5036E5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753E9F-D141-4530-9CE8-BEF84EF708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791A82-6F36-4094-B2CB-36C5DB67BC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919527-AC7E-4851-AF46-BDB2DFAA20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1F347D-D952-438E-9722-576432723F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289368-08B7-4484-9F05-EEF065764A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D3D795-F800-49A2-B964-F2E59F6927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6C3510-97D6-4102-9D4B-C8ADA92DB1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F51489-40D8-4629-8FE3-DFB933DC95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2452462-DCC9-440B-ABFA-401CEDA8380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A9305C-5B4F-4E6D-AA83-36454EE814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0C1024-178B-4606-952A-FF108733EE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0A6FC7-EBDA-4E1C-AAF6-14B035E349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9E58A1-E4FA-4932-9D46-A1FC5DDC8D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BC98BA-CA5A-4D16-A447-CAB39EAF42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C6EE61-9CA0-4382-BFF0-2BA63D2F8B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D18DFF-4432-4533-A48B-DFDE5A67E4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7BE99B-9CBC-4CE9-B7CB-D1E2607469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F93269-8B82-42A4-BA97-DFBD850D1D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80DD32-1B1C-4FCB-A1B2-33E8BE1608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B872C76-C950-4473-ABEF-45058BEE2C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5E7464-D5A9-449A-A1A9-7A23951CB6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4D8FF4-5417-40CC-B53C-6A778DFA14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6C952E-38AA-41F4-88CD-5D3300EBC0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57A7D0-E7B2-46B6-84AE-13DB77460B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394048-56A9-4592-B809-F3DFCC2EAE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C0AEC04-C2C9-42AE-90EC-063C9CA683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377F5B2-2490-4EAD-B623-55F55E7A5F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7A79AC1-CF50-4DE0-A05B-5AF1C5ED23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1E7B088-DD21-4A6E-9847-036D67E54D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8231D0C-9625-4E6B-A12D-CD8E2308AD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D10B-733D-48C5-8C7D-301044AB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38D4AD3-5219-4EBE-9C2A-41E0E141D2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8573B40-53A2-4BDA-8440-D24C810E15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CB055E9-1EF2-4989-B305-62A5DECD30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D4E25F52-6ADB-4FE9-ABAA-D90ACABCE25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0E24F05-6BD0-4610-ABF7-D5C74AE38F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80A7DC-9102-4E92-87BF-BEE0C6B0D9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668B4D-4B1E-4410-B8B2-EAE248133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5FF36-DF7B-4EF6-A453-9F876E1DD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59496-ABCA-4719-BA29-460DB9009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8AAED-5C9A-448F-BB60-A146ED772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EADCF-436E-4AFA-97F8-922BA7983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9B21E-6804-4BAD-92DD-FA0732EA3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7EEE2-7512-4F77-8F66-785967645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5EB61-949B-4A74-8086-FC41C1A92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AE773-3B0E-42E3-BC4F-6A93014ED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1BFE7-7A5B-413A-89F7-93C980845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7A6AF-3DD7-4D32-A5BF-6EBDA072B2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420512-DA98-4A09-A250-AD227861E1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2B5A8-1E08-484D-8208-B1E39E98AB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E0ECF-E8DA-4F83-BB69-17D8A24E6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1FE2A7-6C72-45FF-90C3-4BE43749B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F2A3-BB43-469E-8D4D-379C9F04C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4ADA7-23F3-4BE6-8C9F-88F3CF0D2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B2D0E7-F237-44E2-80D4-5C84CC623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52B37-3C67-4DB2-AE69-881D6E401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E35B4-2F67-4C3F-A97D-EA550F09C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FF64B-BBD7-4FA0-B6A2-1BB7F6442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741F3-8E44-42E3-A805-7A424E80A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82FF0-1F81-4A77-9099-B44B114B3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C049C9-5BD8-4914-A9F2-4D8F86E9E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DB60A-85CE-47BE-885D-B3281F6E2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0A1A19-091D-42DF-A1F3-640BE0BDC3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069A-429E-4A16-AC4C-B0C4DA9E5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AF564-32CD-4314-A816-1CDA42908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EA9CB0-4D9C-407A-BF3A-88A352FD8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DFD4C-E166-4F71-AA64-9F54765FC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3D4D1-50E3-4509-866D-50B46757B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94A4F-A6CF-4933-AF22-789216DC1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F2CF7-9D43-41C3-87D3-06A2DF040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3A771-57DC-418A-9804-C6AD6EBAD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C1840-BC94-4726-B9F6-08657FB3F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3CCCF-1714-4F73-976A-C4ED43484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D5A4B4-3A09-4C96-8432-A360D5156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95D8-1E23-48D4-93DB-A2C430D3C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4C5A75-40DF-4315-BA93-3961210ACF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F758F2-8D86-40C3-88D2-87C6F7B6CC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CD3A8-9427-4C7A-A98B-E57E052268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BD90F-DF9D-40B9-8C9C-5CCD3010E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4A831-000A-4976-AA67-8BCAE16992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7ABC5-87B0-48A2-B872-5DE9F3A47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A5568D-497F-433B-8E3D-F70C8744E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414A4-9C44-40E4-889D-44C4B7D29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F11F7-32D3-4512-8824-FB63D1C17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F9F76-7FA9-42D6-AD0C-1577086ABA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76A1E-BB15-46DF-AA96-43FF05FB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C3E76C-E45E-4314-80D8-6ECE2A225E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EE4A8E-587A-4E1C-9138-08AE7DDAE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52FD33-7839-420E-BA9C-F326A9991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8484B-68C6-48D0-A5C1-27D1214E29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0121D3-D22A-487A-820E-CF7DCD41B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B64ABC-6633-4425-B024-10EBB043E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5512A2-176A-4BC4-B663-48248B803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EDF69-0799-4D36-8A00-8817F867B6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C4ECB-A849-4889-8C32-C25A5219AF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E0278-BDB6-4ECD-8ECC-5CE704A90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D215-D745-4045-8804-DA9D05EC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1FAFF-BD01-404B-9CF4-F1ED2BFA9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1AED3D-F59E-4D08-A696-233429369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545B9-B847-4C7A-85D8-D4E731B33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514C81-A6E3-454A-A196-4A67784AA5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F1ECD4-8B46-45D9-9CEB-93D6C2CEF9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11D820-AF60-4361-9ACD-AA2F3803BC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2473B-770A-4F53-AB0D-E4BF4573E3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53588-ACBF-4D85-AFFB-4D64D10C1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262A6-8FCA-499D-92EB-B3701DB73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00C21-DEB5-4036-8C30-98C409A9E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F646-C584-4E3A-9F0F-744B91A6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86F4D-0355-4700-9344-CAE9B77EC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A8603-F19A-44E9-BF04-028115F47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81CF58-04EB-4B67-91E9-92785EFBD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028C6E-429E-4847-A22A-11CC57AD8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598A9B-DF96-4D91-884C-357845863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7D122D-977C-477C-8DD8-111FA4BFDE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52364F-EECD-4432-A4A6-EED0F01491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55DFB-F61E-4EBB-8C61-93044EB705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7CB2D8-A2D5-40F2-BCA1-9CD8AD5FE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FC02B-1EA0-4D27-BDF6-C273B400D2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BE874D-9D67-4E03-A583-DBFACB3C09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C6EDF50-EE3B-4B9E-91C9-1D427FB8B2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8ADACC-427B-41EF-AF09-F50A6FF975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2A0F71B-9315-4ABE-BBB2-27A51102E0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C04654F-1993-46F5-87F8-B38106A091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8C525EC-F033-48C0-9089-365C993E24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BB71FD0-EBB1-47F0-A6F9-5DA71EB248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F0000F-4098-4F58-9629-61C0EF929D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BC8B10-85EC-4D87-839A-E541DE5188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086D7B1-7976-49A3-BFFC-1D24D50FBD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5ECC83-9CE6-444D-9E41-C1D2CE45EC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22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13F6BA-BD06-4FE6-86D7-1D502E8B8C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5B9A0E-4F30-4087-81FB-043DDE05B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teleconference February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2-20</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9D05CF-D601-4355-A87B-9ED98A160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teleconference before the March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FC7CDE-C3E4-4B75-ABB5-4F6E36355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621630-7E3A-49A5-ADD3-C56E8A88F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B9741E-C178-4D7C-A092-6EE393790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5162F6-5813-4E99-A1A4-FEB0065E4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875096-3080-468B-A85D-C7A95991E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DCAE2F-DC4A-4149-98B4-80EAF87FD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potential contributions for the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the proposed Agenda for the March Session (doc. 17/0203r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next step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B94383-38D3-4192-BBE4-94C9B02D0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70272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February 2017</cp:keywords>
  <dc:language>en-US</dc:language>
  <cp:lastModifiedBy>Nikola Serafimovski</cp:lastModifiedBy>
  <cp:lastPrinted>2014-11-04T15:04:57Z</cp:lastPrinted>
  <dcterms:modified xsi:type="dcterms:W3CDTF">2017-02-09T10:30:44Z</dcterms:modified>
  <cp:revision>3768</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