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E2C8A87-CF43-4663-B9ED-E961B3FB32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2D85BD-41E0-46AB-B915-CC8093BC4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04EED7-E3FE-446B-A2F6-3A81C4A78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CAAD40-0019-4343-9F5B-C46302C07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75AFDF-490D-489C-8AE7-958909F6B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2A5DE3-F6CB-46ED-8C9F-E91578214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1AF4B8-9C2C-4ABA-B8B2-FD94916AD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2ED514-70EE-46D0-A631-ABFB03C39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E39DAD-80C9-4F82-8EE3-8D90DAB9A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D2CA50-0AE1-4583-A058-D73DFF14C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E5AF33-AF6C-4723-B55F-DAE401E87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2EB12-8AD7-4216-BDA6-25888F374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B6D6-7929-4BC3-A438-AE790300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685EB-3EE6-48D2-87DC-BAD13F6565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A9E012-7E73-4FDA-B035-5EF317A49D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60860-5C11-4616-9753-E3B5E3B989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20F831-01E9-43CD-BB67-C3F044D91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FD2E4C-B4D0-4389-B9DF-C9EA57FD9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D5F22-9775-4F1E-BA6C-03A485FBB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68FBAB-6D13-402D-B4E3-759B40ED14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1B9FF0-458D-4463-986F-A63FB27A9A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92171F-9B27-452F-ABF4-F4F8451DD6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FD6558-CDFB-4465-B10C-A7311C73D7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10286-CBF6-4303-A305-2908878F4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7C98C5-5623-4B75-A85F-C7A04AF6F4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6B4662-45A0-48D3-9739-ED91E8CF4A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B22AB9-C3A8-4FFF-9D97-46D77225D6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E5EA58-3DD4-48E8-A407-90DD03650E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0B8B10-A3C4-40AC-8ACA-E6A84DD334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A8C40C-39CA-49D7-9BF2-DC8D2F6F79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130BEE-16A4-4B83-9991-D20A5F1928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0CC764-5085-49AA-92DC-D228A63B37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76168B-E1DD-4CEA-AC43-B22A76F6BC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1CA69B-1699-426C-9653-61FAA8D2FA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D8561-413A-45D3-B00E-D0FD5D553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3659B4-6FE6-4EF1-A697-3403CF5C2C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9CFF8B-6DE1-4BF1-AE19-E1975A1DF1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3C8FEB-9535-4BAF-B1CB-679ABB2D07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F4A45F-1521-473B-AE74-DA4E5050A0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0EE5D2-4328-4392-A39B-1B780972A2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78F254-CF49-4A1C-AB94-3B3FE6D2D9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A725BD-30A3-4964-87A0-5D93EF9DA1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19F95C-A54A-4AA7-A167-4E5B415A1F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80E446-8D30-4C1D-A421-1F16DE06E9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1D4A44-5D43-42D7-8579-C11BC69DA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B22D1E70-5ECD-4884-AE65-7D4E8F5D66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7458CF-B64A-45C0-BB37-FF3F97720C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649ECB-24BD-48DE-BACF-94155C10F9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7EE245-C1F0-4AA8-8BFB-16414C5DA2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199647-5F8E-468C-A334-0DFA0AC4E9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CCF35D-A312-42E7-8972-15D906ECB9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8F9AFC-397C-4E8C-B585-7B429A3FEB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A6F5EC-69C4-4631-9A80-AA1E4366D8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21260E-15D5-4DDC-974D-0AF2AFC6F7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269460-719D-4A67-8D1C-98730356FC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31D0F9-EE83-455E-840C-FF69D549B0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D5033DF-2943-481B-81E2-99A6B0A58E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E6D0F1-4380-469C-B771-09262A2937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CF613E-F385-460B-8BE3-91D60069B7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2E2644-3AB8-43D9-AB7E-809EFC1A63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CAD806-8EF3-446D-8F69-630A3A9116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6277F8-8CB0-4757-8EF1-1CE814E7A8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0746EA2-E4F9-460A-80C4-C8DC0A0BCF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4851EA87-C091-483C-88B3-49153FF30C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AA05913-530C-45A6-A05F-C73F1605C0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3709CE4-6F04-4FDA-9EF8-AE8C8D4177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23CEEB0-9055-4CA3-952C-ABE8DAA69F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68F0E-FD24-4E94-BFEF-919A2B25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D2C350A-35A0-4279-A16D-A333EB972A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D52EB0A-B7A3-4548-AFB5-F25884EFFD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C115470-9172-4447-AF1A-3D060070B4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6F5A054F-37CD-494B-B8C6-1E0C35CD90C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471DE614-C1C3-4FFD-98E5-60F0CAB3985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D09581-6B2B-447D-BE40-5E889024B9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05033-551F-4DA8-92ED-19D087865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52B9D-2A72-4D33-9AE3-4A8D25E55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58850-F570-4BA9-8326-38AD68B1B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3FCC8-45B2-45BD-8B56-9AA328373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644ED-B382-4B5F-9263-08F620CD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9B7B8-5CAE-41A2-AB8E-914FAD33C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55BCB-E3D6-4CA0-A5C3-FA0C3E983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F4D41-7932-4CD6-AFE0-AE90770D1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8F7A1-146E-4459-9D56-6CB81A499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DFD69-117D-419B-98E4-975923140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A8398-26F5-4741-97F3-07B96990F4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84270-40D7-410D-B081-F011F9B0FD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DCC14C-D42A-478B-AD37-9C95005F9F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6A71B-CE44-4F91-BDDE-AD2729C5F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B6A3C-4FEF-454C-BFC9-955EC5BB11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8099B-75D6-4234-8885-0EE5947C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BDAB9-E067-467B-9784-3E9B41B45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CDA40-6F82-4CEA-8B49-8063C0584A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68845-53AE-4DBA-B991-FB887D4F8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E53A8-D869-40D3-9385-B29CAFE2C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E2E015-622F-4574-A05D-49BAC0BC3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1A775-BD58-47EC-9D91-7CF9AEC68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8F587-0A7B-4599-B054-46B63083A4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4F99B-31EA-4D61-A8A5-A386CA2E34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06B1A2-A3C2-4B5C-8183-7E652F046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3DFA1E-2217-4A4E-9841-0D3CD0121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4A628-A41A-4463-B96E-6BB2400C5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FD1125-6983-4EC9-995E-BCE58219A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D8B41F-75B7-41F7-B52E-9DA852B29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071BBF-ECFB-4EF7-8CB4-C2E91C53D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1BC9D-D609-430C-AA39-22C25B80C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EDC4D9-B7EF-4E78-B2B9-75FA23473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0E5CC-5599-474A-A100-5B8881304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BBABF-8A87-4356-ABF9-5C3640CE6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D94DE-9E86-4112-9F07-378846C5A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ABD0D5-72F4-4854-91A1-EEADB94C4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0E35E-0A8D-4785-B44E-AE42D14992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9FEE9-8948-468D-B525-5BCA3299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32237-07FF-42DC-8971-B37C511B7E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88C10F-2648-437C-ACD3-433E89E3DE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54D6EF-E460-4482-ABD2-131F747AD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9836C0-489A-4ABC-BCD4-FB824273DA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D85818-07E6-4021-B09B-457D06950D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43EC11-E000-4C03-8C4D-73ECF805B9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8AE43-F2DF-46C3-911B-C0F01757FB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9E22D-CC4A-46F1-B113-D29472DCF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C8959-0C30-4490-AE41-520188541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EE670-A4AA-4C16-9E9B-6ED666DE3D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4B96-E94C-4C91-9B91-F54CE15E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A87B0-C2CF-434D-9A64-EF19CD35BE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62954B-F150-4A4A-A869-49A5A1F4AD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45BD1C-607E-45B2-B40D-E6ACC5AC2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F760DA-82F0-45ED-B1AB-A1FD540E55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61853F-835B-4CBD-A586-D8264645EB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0D4942-2CF5-4989-898B-6AACECD5D3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3F738-0310-46E4-B2EF-48E1B7108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350FF7-50CA-4A15-9CD3-B5DCADF55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31E1C-0485-4F83-927F-B42291FA5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5B968-45B0-4C54-BC81-2498D54B2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7FE1-B19F-4950-933A-3D53BA3F7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CCD0E-ABAB-4502-986D-30DC47AB8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6A63F-AB23-4145-B307-EA72CE4F4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B7196-FB5F-47FE-89C6-B7A6E0439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2A075F-4F09-49EB-88F6-DA1E462C6C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B57D4A-B70F-4117-A651-552231BEF3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7022A2-D8FC-4F18-92B5-1407E82E48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C6DE34-524A-4A8B-A8DC-54450A125F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2DA4C-5B37-4096-80E4-4AD0DE4ADC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1516C-C6F4-45F4-9A42-8195F287E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FC4E6-B627-48DD-AFE5-5DDB266ADA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56A60-6A62-4D6D-BC32-785A3749E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D8DCBF-C7AB-43DC-B555-AC0BA48E45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C8925-CE0A-4578-BA5A-8575EB690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7404A-EA4F-4212-BC73-C13F82025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958C73-D9E1-4601-AF47-12C5B008A2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BB7AD6-281E-4051-AB60-C36F26B9C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CC3451-0771-48F1-B7D5-3600D3276C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18E32D-511D-4F0F-85B9-AFA66672A9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163638-EFB9-43C5-BB4B-6DE15A0876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14EEDD-14B0-45BE-8038-C8504DFC1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C8CA40-8242-470E-BEEA-98A98D55E7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1B9A631-0A96-4F65-A116-220EC78D34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6292BC-F561-4FB3-B69C-1004478DC3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F60BB57-9CE5-4E91-8ED2-548186151B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1D66926-ED7B-45ED-973F-AC3682EBE6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C9B0821-E92B-4D03-A4F3-0AC73B3B77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D0E9E79-7D96-45CE-B6A5-6B01E9699D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2E3563-3A98-405C-A9F8-27D7A70680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FBAB6CE-7FE7-400C-92D1-6F333E7B09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6748DCB-DCC1-4509-8CCA-D5DE5B5504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886037-E779-4D61-9951-514AA0A128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1EAB14C-C2E3-4631-9021-5E5D58CA9B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1160C50-849B-48DC-AC53-A6D19A7D7E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FDA50B-3241-488D-8A17-B8CC1424A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teleconference February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2-20</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6B7D5A-A6B2-4F9D-B3F4-6088C28A8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teleconference before the March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04BA52-E345-4518-A3DB-520B0B16B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9A137A-6EC1-44BB-972E-0F636DB64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C7BBE8-BDD5-468B-A524-C39FD31B2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59871E-F444-4166-AF3B-588B2495B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F99DB6-D33D-4969-B8BF-CA6132080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279EF4-8FCF-4F1B-ADC7-B15264535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potential contributions for the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the proposed Agenda for the March Session (doc. 17/0203r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next step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96641F-8536-4BA1-8116-A1B247796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February 2017</cp:keywords>
  <dc:language>en-US</dc:language>
  <cp:lastModifiedBy>Nikola Serafimovski</cp:lastModifiedBy>
  <cp:lastPrinted>2014-11-04T15:04:57Z</cp:lastPrinted>
  <dcterms:modified xsi:type="dcterms:W3CDTF">2017-02-09T10:30:44Z</dcterms:modified>
  <cp:revision>3768</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