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7887C92-3617-4426-99A8-876846ADDE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812F6B-AF12-455F-A63C-4BF4B1DF0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54160" y="701640"/>
            <a:ext cx="4626000" cy="3468600"/>
          </a:xfrm>
          <a:prstGeom prst="rect">
            <a:avLst/>
          </a:prstGeom>
          <a:ln w="0">
            <a:noFill/>
          </a:ln>
        </p:spPr>
      </p:sp>
      <p:sp>
        <p:nvSpPr>
          <p:cNvPr id="8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6C7E1E-2284-4085-BF75-6F38883E3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67CE9B-A2E6-4B83-A2F9-09871D99B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87F660-6C59-4639-934C-A7482EB98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157AC9-D067-4209-802D-008B06340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39"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A5ED93-05FF-42F6-B6F0-1E6599507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154160" y="701640"/>
            <a:ext cx="4626000" cy="3468600"/>
          </a:xfrm>
          <a:prstGeom prst="rect">
            <a:avLst/>
          </a:prstGeom>
          <a:ln w="0">
            <a:noFill/>
          </a:ln>
        </p:spPr>
      </p:sp>
      <p:sp>
        <p:nvSpPr>
          <p:cNvPr id="9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54160" y="701640"/>
            <a:ext cx="4626000" cy="3468600"/>
          </a:xfrm>
          <a:prstGeom prst="rect">
            <a:avLst/>
          </a:prstGeom>
          <a:ln w="0">
            <a:noFill/>
          </a:ln>
        </p:spPr>
      </p:sp>
      <p:sp>
        <p:nvSpPr>
          <p:cNvPr id="9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326C57-87AD-4981-962C-17FA5B719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271A18-CF6C-4950-8FB7-BD8358FAC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CE0856-0B64-4A33-B19E-4F94FA27C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1154160" y="701640"/>
            <a:ext cx="4626000" cy="3468600"/>
          </a:xfrm>
          <a:prstGeom prst="rect">
            <a:avLst/>
          </a:prstGeom>
          <a:ln w="0">
            <a:noFill/>
          </a:ln>
        </p:spPr>
      </p:sp>
      <p:sp>
        <p:nvSpPr>
          <p:cNvPr id="9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54160" y="701640"/>
            <a:ext cx="4626000" cy="3468600"/>
          </a:xfrm>
          <a:prstGeom prst="rect">
            <a:avLst/>
          </a:prstGeom>
          <a:ln w="0">
            <a:noFill/>
          </a:ln>
        </p:spPr>
      </p:sp>
      <p:sp>
        <p:nvSpPr>
          <p:cNvPr id="9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FC51E9-0C74-4435-8D38-A470DAF1E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D78AF7-4CBB-48CD-9BA8-9C9061484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54160" y="701640"/>
            <a:ext cx="4626000" cy="3468600"/>
          </a:xfrm>
          <a:prstGeom prst="rect">
            <a:avLst/>
          </a:prstGeom>
          <a:ln w="0">
            <a:noFill/>
          </a:ln>
        </p:spPr>
      </p:sp>
      <p:sp>
        <p:nvSpPr>
          <p:cNvPr id="9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6C1B06-22C3-41A7-B82E-DECA3F2C9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54160" y="701640"/>
            <a:ext cx="4626000" cy="3468600"/>
          </a:xfrm>
          <a:prstGeom prst="rect">
            <a:avLst/>
          </a:prstGeom>
          <a:ln w="0">
            <a:noFill/>
          </a:ln>
        </p:spPr>
      </p:sp>
      <p:sp>
        <p:nvSpPr>
          <p:cNvPr id="9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BC16D1-B703-4007-A61E-09A02169B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5324C7-D41B-4A06-A5B6-DE0D43194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E941B0-C91C-45FF-87F9-10A4512F8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FFB210-9A18-4432-86F1-CE5C57394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54160" y="701640"/>
            <a:ext cx="4626000" cy="3468600"/>
          </a:xfrm>
          <a:prstGeom prst="rect">
            <a:avLst/>
          </a:prstGeom>
          <a:ln w="0">
            <a:noFill/>
          </a:ln>
        </p:spPr>
      </p:sp>
      <p:sp>
        <p:nvSpPr>
          <p:cNvPr id="9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787F5A-F25C-48D7-AE36-39AB2AD17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C592FF-D6B1-43AD-BF2B-261D6DCCD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6CCDEB-EA21-4EED-9333-DFA412841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87DC77-A8F0-401D-8DA3-B69CF37B7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54160" y="701640"/>
            <a:ext cx="4626000" cy="3468600"/>
          </a:xfrm>
          <a:prstGeom prst="rect">
            <a:avLst/>
          </a:prstGeom>
          <a:ln w="0">
            <a:noFill/>
          </a:ln>
        </p:spPr>
      </p:sp>
      <p:sp>
        <p:nvSpPr>
          <p:cNvPr id="10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4178CE-CB02-4F0D-AA22-C84D2E2CA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54160" y="701640"/>
            <a:ext cx="4626000" cy="3468600"/>
          </a:xfrm>
          <a:prstGeom prst="rect">
            <a:avLst/>
          </a:prstGeom>
          <a:ln w="0">
            <a:noFill/>
          </a:ln>
        </p:spPr>
      </p:sp>
      <p:sp>
        <p:nvSpPr>
          <p:cNvPr id="10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B854B1-440A-4A9D-AC1A-30C7C633E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454B46-9B4E-45CC-9493-10FE89ED8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54160" y="701640"/>
            <a:ext cx="4626000" cy="3468600"/>
          </a:xfrm>
          <a:prstGeom prst="rect">
            <a:avLst/>
          </a:prstGeom>
          <a:ln w="0">
            <a:noFill/>
          </a:ln>
        </p:spPr>
      </p:sp>
      <p:sp>
        <p:nvSpPr>
          <p:cNvPr id="10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A712EC-0094-4D45-A34A-AE08479AC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918750-61FF-41A3-9E91-E2B36FE83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54160" y="701640"/>
            <a:ext cx="4626000" cy="3468600"/>
          </a:xfrm>
          <a:prstGeom prst="rect">
            <a:avLst/>
          </a:prstGeom>
          <a:ln w="0">
            <a:noFill/>
          </a:ln>
        </p:spPr>
      </p:sp>
      <p:sp>
        <p:nvSpPr>
          <p:cNvPr id="8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FF9BD2-D8A4-4E27-A5C1-6DE0D029E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54160" y="701640"/>
            <a:ext cx="4626000" cy="3468600"/>
          </a:xfrm>
          <a:prstGeom prst="rect">
            <a:avLst/>
          </a:prstGeom>
          <a:ln w="0">
            <a:noFill/>
          </a:ln>
        </p:spPr>
      </p:sp>
      <p:sp>
        <p:nvSpPr>
          <p:cNvPr id="10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240693-5764-4267-BFFD-601AF2D3D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54160" y="701640"/>
            <a:ext cx="4626000" cy="3468600"/>
          </a:xfrm>
          <a:prstGeom prst="rect">
            <a:avLst/>
          </a:prstGeom>
          <a:ln w="0">
            <a:noFill/>
          </a:ln>
        </p:spPr>
      </p:sp>
      <p:sp>
        <p:nvSpPr>
          <p:cNvPr id="10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54DA76-23BC-469C-B683-1A595E0B3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3F191E-60E0-477A-A324-AD1EF8DCD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54160" y="701640"/>
            <a:ext cx="4626000" cy="3468600"/>
          </a:xfrm>
          <a:prstGeom prst="rect">
            <a:avLst/>
          </a:prstGeom>
          <a:ln w="0">
            <a:noFill/>
          </a:ln>
        </p:spPr>
      </p:sp>
      <p:sp>
        <p:nvSpPr>
          <p:cNvPr id="10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2E7724-CAFA-43C2-B96A-193926518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54160" y="701640"/>
            <a:ext cx="4626000" cy="3468600"/>
          </a:xfrm>
          <a:prstGeom prst="rect">
            <a:avLst/>
          </a:prstGeom>
          <a:ln w="0">
            <a:noFill/>
          </a:ln>
        </p:spPr>
      </p:sp>
      <p:sp>
        <p:nvSpPr>
          <p:cNvPr id="10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5148D5-C525-4B81-A2AE-271414126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FD25E2-0284-4C8B-84E5-740A8E196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54160" y="701640"/>
            <a:ext cx="4626000" cy="3468600"/>
          </a:xfrm>
          <a:prstGeom prst="rect">
            <a:avLst/>
          </a:prstGeom>
          <a:ln w="0">
            <a:noFill/>
          </a:ln>
        </p:spPr>
      </p:sp>
      <p:sp>
        <p:nvSpPr>
          <p:cNvPr id="10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D41AE5-219A-4C50-A700-BCB708047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54160" y="701640"/>
            <a:ext cx="4626000" cy="3468600"/>
          </a:xfrm>
          <a:prstGeom prst="rect">
            <a:avLst/>
          </a:prstGeom>
          <a:ln w="0">
            <a:noFill/>
          </a:ln>
        </p:spPr>
      </p:sp>
      <p:sp>
        <p:nvSpPr>
          <p:cNvPr id="10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6569D0-4854-4E51-B5F7-E01B8E038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B31F40-ECB6-4BE0-BA14-35A62C275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154160" y="701640"/>
            <a:ext cx="4626000" cy="3468600"/>
          </a:xfrm>
          <a:prstGeom prst="rect">
            <a:avLst/>
          </a:prstGeom>
          <a:ln w="0">
            <a:noFill/>
          </a:ln>
        </p:spPr>
      </p:sp>
      <p:sp>
        <p:nvSpPr>
          <p:cNvPr id="11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7E3348E-3451-49EB-87F3-04FAF50809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7680" y="696960"/>
            <a:ext cx="4640400" cy="3479760"/>
          </a:xfrm>
          <a:prstGeom prst="rect">
            <a:avLst/>
          </a:prstGeom>
          <a:ln w="0">
            <a:noFill/>
          </a:ln>
        </p:spPr>
      </p:sp>
      <p:sp>
        <p:nvSpPr>
          <p:cNvPr id="89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54160" y="701640"/>
            <a:ext cx="4626000" cy="3468600"/>
          </a:xfrm>
          <a:prstGeom prst="rect">
            <a:avLst/>
          </a:prstGeom>
          <a:ln w="0">
            <a:noFill/>
          </a:ln>
        </p:spPr>
      </p:sp>
      <p:sp>
        <p:nvSpPr>
          <p:cNvPr id="11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129A0A-A07B-4590-B576-892C21860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54160" y="701640"/>
            <a:ext cx="4626000" cy="3468600"/>
          </a:xfrm>
          <a:prstGeom prst="rect">
            <a:avLst/>
          </a:prstGeom>
          <a:ln w="0">
            <a:noFill/>
          </a:ln>
        </p:spPr>
      </p:sp>
      <p:sp>
        <p:nvSpPr>
          <p:cNvPr id="11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9FFB5F-BB0F-428F-B882-F6C1A6483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3E22A5-E3B6-437A-A98F-9F727DFE9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54160" y="701640"/>
            <a:ext cx="4626000" cy="3468600"/>
          </a:xfrm>
          <a:prstGeom prst="rect">
            <a:avLst/>
          </a:prstGeom>
          <a:ln w="0">
            <a:noFill/>
          </a:ln>
        </p:spPr>
      </p:sp>
      <p:sp>
        <p:nvSpPr>
          <p:cNvPr id="11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1FEEFA-84BF-488A-A4F0-0545950C2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54160" y="701640"/>
            <a:ext cx="4626000" cy="3468600"/>
          </a:xfrm>
          <a:prstGeom prst="rect">
            <a:avLst/>
          </a:prstGeom>
          <a:ln w="0">
            <a:noFill/>
          </a:ln>
        </p:spPr>
      </p:sp>
      <p:sp>
        <p:nvSpPr>
          <p:cNvPr id="11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A745C4-8FCC-4F53-A500-3210590E1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54160" y="701640"/>
            <a:ext cx="4626000" cy="3468600"/>
          </a:xfrm>
          <a:prstGeom prst="rect">
            <a:avLst/>
          </a:prstGeom>
          <a:ln w="0">
            <a:noFill/>
          </a:ln>
        </p:spPr>
      </p:sp>
      <p:sp>
        <p:nvSpPr>
          <p:cNvPr id="11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ABE6DD-1320-48E8-80B3-15A117B97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54160" y="701640"/>
            <a:ext cx="4626000" cy="3468600"/>
          </a:xfrm>
          <a:prstGeom prst="rect">
            <a:avLst/>
          </a:prstGeom>
          <a:ln w="0">
            <a:noFill/>
          </a:ln>
        </p:spPr>
      </p:sp>
      <p:sp>
        <p:nvSpPr>
          <p:cNvPr id="11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5C927E-B0B7-46EE-A15E-A993F6F42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54160" y="701640"/>
            <a:ext cx="4626000" cy="3468600"/>
          </a:xfrm>
          <a:prstGeom prst="rect">
            <a:avLst/>
          </a:prstGeom>
          <a:ln w="0">
            <a:noFill/>
          </a:ln>
        </p:spPr>
      </p:sp>
      <p:sp>
        <p:nvSpPr>
          <p:cNvPr id="11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C37DB3-FC86-427A-AB0C-B9F60E487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54160" y="701640"/>
            <a:ext cx="4626000" cy="3468600"/>
          </a:xfrm>
          <a:prstGeom prst="rect">
            <a:avLst/>
          </a:prstGeom>
          <a:ln w="0">
            <a:noFill/>
          </a:ln>
        </p:spPr>
      </p:sp>
      <p:sp>
        <p:nvSpPr>
          <p:cNvPr id="11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DB208F-F7EC-42AE-BE8B-85234A012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54160" y="701640"/>
            <a:ext cx="4626000" cy="3468600"/>
          </a:xfrm>
          <a:prstGeom prst="rect">
            <a:avLst/>
          </a:prstGeom>
          <a:ln w="0">
            <a:noFill/>
          </a:ln>
        </p:spPr>
      </p:sp>
      <p:sp>
        <p:nvSpPr>
          <p:cNvPr id="11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DAA66C-9B99-4FB5-947B-FBB7EEFD4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4A6ADFB-74BC-4B31-BC66-9430DE72E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54160" y="701640"/>
            <a:ext cx="4626000" cy="3468600"/>
          </a:xfrm>
          <a:prstGeom prst="rect">
            <a:avLst/>
          </a:prstGeom>
          <a:ln w="0">
            <a:noFill/>
          </a:ln>
        </p:spPr>
      </p:sp>
      <p:sp>
        <p:nvSpPr>
          <p:cNvPr id="11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06E2D5-D16A-411E-B9E5-BD2B02244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1A879A-A368-4649-806F-5EF90D009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54160" y="701640"/>
            <a:ext cx="4626000" cy="3468600"/>
          </a:xfrm>
          <a:prstGeom prst="rect">
            <a:avLst/>
          </a:prstGeom>
          <a:ln w="0">
            <a:noFill/>
          </a:ln>
        </p:spPr>
      </p:sp>
      <p:sp>
        <p:nvSpPr>
          <p:cNvPr id="11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9C73A5-6B9C-40D2-B309-5AB194962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4160" y="701640"/>
            <a:ext cx="4626000" cy="3468600"/>
          </a:xfrm>
          <a:prstGeom prst="rect">
            <a:avLst/>
          </a:prstGeom>
          <a:ln w="0">
            <a:noFill/>
          </a:ln>
        </p:spPr>
      </p:sp>
      <p:sp>
        <p:nvSpPr>
          <p:cNvPr id="11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186BC5-1675-480C-9528-2F7C9BDA1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065F5A-5B7B-4524-A2C8-A93F09AAD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54160" y="701640"/>
            <a:ext cx="4626000" cy="3468600"/>
          </a:xfrm>
          <a:prstGeom prst="rect">
            <a:avLst/>
          </a:prstGeom>
          <a:ln w="0">
            <a:noFill/>
          </a:ln>
        </p:spPr>
      </p:sp>
      <p:sp>
        <p:nvSpPr>
          <p:cNvPr id="11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54160" y="701640"/>
            <a:ext cx="4626000" cy="3468600"/>
          </a:xfrm>
          <a:prstGeom prst="rect">
            <a:avLst/>
          </a:prstGeom>
          <a:ln w="0">
            <a:noFill/>
          </a:ln>
        </p:spPr>
      </p:sp>
      <p:sp>
        <p:nvSpPr>
          <p:cNvPr id="11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0D6B0A-3575-44E3-AA10-FEB8B7808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54160" y="701640"/>
            <a:ext cx="4626000" cy="3468600"/>
          </a:xfrm>
          <a:prstGeom prst="rect">
            <a:avLst/>
          </a:prstGeom>
          <a:ln w="0">
            <a:noFill/>
          </a:ln>
        </p:spPr>
      </p:sp>
      <p:sp>
        <p:nvSpPr>
          <p:cNvPr id="12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49F418-1051-4DAD-92FB-4B1AB882A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748D80-2DCA-4126-B6EF-73BFF3FA8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1154160" y="701640"/>
            <a:ext cx="4626000" cy="3468600"/>
          </a:xfrm>
          <a:prstGeom prst="rect">
            <a:avLst/>
          </a:prstGeom>
          <a:ln w="0">
            <a:noFill/>
          </a:ln>
        </p:spPr>
      </p:sp>
      <p:sp>
        <p:nvSpPr>
          <p:cNvPr id="12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54160" y="701640"/>
            <a:ext cx="4626000" cy="3468600"/>
          </a:xfrm>
          <a:prstGeom prst="rect">
            <a:avLst/>
          </a:prstGeom>
          <a:ln w="0">
            <a:noFill/>
          </a:ln>
        </p:spPr>
      </p:sp>
      <p:sp>
        <p:nvSpPr>
          <p:cNvPr id="12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97C9B9-052B-46FB-BF42-359329EF3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54160" y="701640"/>
            <a:ext cx="4626000" cy="3468600"/>
          </a:xfrm>
          <a:prstGeom prst="rect">
            <a:avLst/>
          </a:prstGeom>
          <a:ln w="0">
            <a:noFill/>
          </a:ln>
        </p:spPr>
      </p:sp>
      <p:sp>
        <p:nvSpPr>
          <p:cNvPr id="12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BAD9BC-867B-4889-A671-9D12FF52C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D45B8E-59F0-448A-A64E-5841D7D95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54160" y="701640"/>
            <a:ext cx="4626000" cy="3468600"/>
          </a:xfrm>
          <a:prstGeom prst="rect">
            <a:avLst/>
          </a:prstGeom>
          <a:ln w="0">
            <a:noFill/>
          </a:ln>
        </p:spPr>
      </p:sp>
      <p:sp>
        <p:nvSpPr>
          <p:cNvPr id="9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62818A-FC2E-457B-9F2E-7652AE24F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1154160" y="701640"/>
            <a:ext cx="4626000" cy="3468600"/>
          </a:xfrm>
          <a:prstGeom prst="rect">
            <a:avLst/>
          </a:prstGeom>
          <a:ln w="0">
            <a:noFill/>
          </a:ln>
        </p:spPr>
      </p:sp>
      <p:sp>
        <p:nvSpPr>
          <p:cNvPr id="12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54160" y="701640"/>
            <a:ext cx="4626000" cy="3468600"/>
          </a:xfrm>
          <a:prstGeom prst="rect">
            <a:avLst/>
          </a:prstGeom>
          <a:ln w="0">
            <a:noFill/>
          </a:ln>
        </p:spPr>
      </p:sp>
      <p:sp>
        <p:nvSpPr>
          <p:cNvPr id="12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190DBD-214A-459C-A86B-7F714347F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54160" y="701640"/>
            <a:ext cx="4626000" cy="3468600"/>
          </a:xfrm>
          <a:prstGeom prst="rect">
            <a:avLst/>
          </a:prstGeom>
          <a:ln w="0">
            <a:noFill/>
          </a:ln>
        </p:spPr>
      </p:sp>
      <p:sp>
        <p:nvSpPr>
          <p:cNvPr id="12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EB3EEF-4BA0-4BED-BFF8-87A621190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54160" y="701640"/>
            <a:ext cx="4626000" cy="3468600"/>
          </a:xfrm>
          <a:prstGeom prst="rect">
            <a:avLst/>
          </a:prstGeom>
          <a:ln w="0">
            <a:noFill/>
          </a:ln>
        </p:spPr>
      </p:sp>
      <p:sp>
        <p:nvSpPr>
          <p:cNvPr id="12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F0A16F-3EEF-4254-91F7-749B5B5E8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54160" y="701640"/>
            <a:ext cx="4626000" cy="3468600"/>
          </a:xfrm>
          <a:prstGeom prst="rect">
            <a:avLst/>
          </a:prstGeom>
          <a:ln w="0">
            <a:noFill/>
          </a:ln>
        </p:spPr>
      </p:sp>
      <p:sp>
        <p:nvSpPr>
          <p:cNvPr id="12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46534D-B69F-4AE6-AE9C-B5BA94AA3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22CF936-CE77-426D-A945-760876F60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0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0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056A56-A74B-4EB6-8004-B6EF3AF6A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54160" y="701640"/>
            <a:ext cx="4626000" cy="3468600"/>
          </a:xfrm>
          <a:prstGeom prst="rect">
            <a:avLst/>
          </a:prstGeom>
          <a:ln w="0">
            <a:noFill/>
          </a:ln>
        </p:spPr>
      </p:sp>
      <p:sp>
        <p:nvSpPr>
          <p:cNvPr id="91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BB3B48-6579-44D0-9CA7-3AE0EC7DF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54160" y="701640"/>
            <a:ext cx="4626000" cy="3468600"/>
          </a:xfrm>
          <a:prstGeom prst="rect">
            <a:avLst/>
          </a:prstGeom>
          <a:ln w="0">
            <a:noFill/>
          </a:ln>
        </p:spPr>
      </p:sp>
      <p:sp>
        <p:nvSpPr>
          <p:cNvPr id="9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CDC33-4BD7-464F-9426-157BBFE51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2AF43-6CE4-40EB-ABC0-E22A90712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CC5D38-EE05-4A78-8B83-2379BDCBAB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1B8A6B-1D24-43BD-BD53-B927AC8F7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B4734F-17F7-448E-9D4C-8BCEF69331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AAF0E-5C9F-483F-B44E-A27D8D69A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A7101A-246E-4F5B-8CBB-12D7F8DEC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742E6A-01ED-458E-85C2-8AD2AA128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1D3AE1-1F02-418A-9CCF-0BCFFFDFB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42827B-580C-49BB-935B-82FEDA588C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B04A81-C4EB-4F01-8BD0-F292815E99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016C57-54AE-423B-B714-CC818AA509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94C14-4216-4B69-9425-1F67BB322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68B8BC-8B77-4B73-BAAB-3CA303F2C3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85B55E-74E9-4147-91B4-4050F25083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BDADFE-4A69-4AB8-AF28-21AF0C99FD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164A48-2612-4446-BD5B-05D1541CA3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7DD749-3B07-4ED9-ABD2-031B6ACD1E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EC5355-554A-4DE2-9D9E-FFFDC5F239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49AB4E-A15A-4BDE-A2D0-3A91AB32DA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284A5A-714B-48EE-9684-052BA4D51A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ECEBCC-7233-4EE2-8FED-E021B09BE7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92A443-520D-4836-98C3-41DEC94EC4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9EA70-B907-4561-B0EC-C669F90CF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1FE497-E7D4-49D9-9B9B-E5C12687F1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B11857-CFDE-4DF9-B686-F98DB40294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DBA5FB-F3F3-4BDA-AD28-70786F32A3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CE07D9-8D4B-4E56-A8C1-B14103C43C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081506-1839-48D1-B13E-E618B39BF9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99F590-E0E3-4695-AE71-FAA5437F0B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FA1EE9-A76D-4DAB-A6B1-8719062C16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80CE21-C8CE-420A-AF81-8B0199140D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4A9C98-D16A-45F5-8784-D77016175A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72E934-6D97-4E5C-BE34-D00B467373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5852C-D20C-4193-BB36-EC21A6D80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7D65B1-1062-4412-9854-7C7FF0CF31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548D23-7AF0-42E8-A17A-1D0B7E8666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7F8C2E-9AF0-4727-8033-52A495D094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4C66E9-0AFC-4539-B970-D81A1581D3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A0064A-1CDE-4254-8A75-244B8343DE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370CA8-9305-4A74-8BE8-8C40FD5F34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FFCAA3-3B3A-4EEE-8E39-021CDD2251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6C0C35-553D-4CA9-B4A5-C7CEDAA8BA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9420F8-00CE-4C3C-8005-A65C054ACA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7308C0-853C-406B-9988-9957338D76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E6BD9-1237-4C3B-83B0-84CF93332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7B7CB1-96AD-427B-A0D0-F0417516EE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BA982D-F7A7-4BEB-BB80-BB2FB598B3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B35DFA-1B20-4741-89BB-188D0B8F9A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B3FA9D-D67D-4D06-AB66-B4C22509C3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BE331A-434F-458C-8002-0263945E00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F15B3-B62C-4BA7-AD6C-990BA33DC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D7156-27A5-45FE-900E-EC0DD9983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1E9FB-95E1-447A-B35D-0854C9125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4F110-709F-4BDD-9BCC-467B9F55C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47A3A-4BB8-4546-B3DE-63EB61047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1773D-C74C-4C58-B24B-669985CF3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6F879-79B9-4316-9A8B-91D122AB9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853A6-B5B4-45EA-B982-2F1B41FEB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C292B-34CA-4C7E-B088-B842B283F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6B48C-272E-4C52-882D-92550282F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F507B-3655-404D-85BA-A4F4C312A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F9A4E1-1271-4799-94EE-B73278008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102F8-0408-4C2F-9D49-5F49E57F6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02D7A-ACEF-4A2F-8291-EFC6931BE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3E8A4-A198-4000-8919-10937F6A8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14A37-CDA9-4188-8771-43F100EE3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ADB30-2619-4005-A373-47F1E7D40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8A4A3-FCD8-422B-86E3-4222C4D3F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08072-B70D-40C1-989B-C72EFC84B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228C6-5766-45D6-BBA7-5F8F8C2EC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E055D-18B2-4988-B090-80F8DCDDC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E1D61-3368-4007-8E54-415CCD280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3E2375-1D1C-48F1-A98A-E9827819A3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C60F5-45B0-425E-9AFC-F2B83DA32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D91F70-8349-404D-A28C-9E0C5438FA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4D741-5000-40F6-943F-FCDE12FB4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7C79E-67C5-4321-8C1C-AC12A5012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70EED-400D-4B2A-9BCB-4D17ADD3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DC3CB-10B9-4EF7-B79A-B96816F924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CF65F-C077-47DB-A6F3-5B1A81D08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E8CE3-82BD-451C-968D-2A807CBE8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BC7A1-D41D-480C-AE29-F6E8BE1B6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6B596-77F5-4EFD-BAE4-86283E067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B85CD-8F94-46A8-960E-C5159D281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39248-44D8-4836-A60C-62164D2F8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2AC51A-E216-4C26-859C-7677272CAC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2C9B95-EA4A-4DF1-AF4A-7FD962127D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1C2A58-87C8-46F5-B61F-5D10FD582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E64F-D8D3-49BA-97AB-C6F6CFEFA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81AC0-1B7A-43E9-890B-B2579634B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102A4-D01F-4922-B04D-296DDBFB3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A7D78-3F20-4E3E-8223-FD196641E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00A9E5-B86A-445C-8D3F-0D0F49535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AD8638-8D2A-42C6-99BA-35D543305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AA51A-65D6-41C5-94EE-1C509220F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8F326-505F-4DCF-9D71-48254CF67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C8CBD-5578-4A4A-93B5-0793608A9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573A8-E47F-4B3D-BC72-462DE8242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81D482-9535-4F90-B0F4-3E679EB5D5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96FAA-A643-40D1-874A-EB717D30A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98134-DDA8-42DD-AC7B-743DCB992A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F919BD-4B46-4875-A8A8-2ECCB79B5E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651D38-35C8-4BA9-BB5D-AD39576B1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50B24-608C-4A4D-8A21-4488957B33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7568E0-9ED4-400C-8828-56941D1455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A123B8-E8C7-4C18-84C3-E8CE24E13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E104F-B7B2-40B3-85F5-61ED997B2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B31D0-D9DB-46B9-9F37-2411A394C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F91E4-15CE-4045-B157-3A83A1A09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AA15C-249B-441C-820D-9C23C6697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9715-75D3-4B3F-BDEE-2718480D9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000EF-14DF-4BBA-8780-58BC94B15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3C3A69-CE42-4089-9513-66DB0AC82F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96B1A3-3814-4F18-9F5E-8608D3315E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63D2A0-64BB-4F7D-ABF1-38190A1CE0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291E0-182C-47A3-B2E1-087DC6D23A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A8A56-086A-4B23-8711-4B9D0AC8B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01C02C-447F-4051-B093-8CF61C3FF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6B71B-85DE-46B8-ADD0-1F67F32C24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04DED-C61E-4185-B89E-EA8523F4E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1A2BD-5967-459E-97F0-FE7297372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9DAC-6F3B-4DA4-8A15-603F91B4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11FF2-00E8-4564-892B-1FE228EBA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13031-0BE1-4F44-A14A-55CE223FC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0DAFE0-2EC5-4810-BBF5-CBEF80F0B1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F06B66-7F9C-4D9E-8E7D-BBA04A7E6E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B83F4B-BB8B-4595-A852-80641B2D19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CFCE99-F5D3-4B02-9E78-ADD5B5C5B5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41CD8B-6858-41FF-B039-47AFD42C07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D78BF-EC0D-4991-956B-3BC7BF8E40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9CD9AE-8E07-4C31-84DB-82A2542F9F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71C5E3-9C46-454D-A026-15CA6CA3F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6A30-EBB9-439B-99AA-13B6F615D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B1361-FE5B-4086-9C05-53EB26FCA5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BC514-C3E6-4F70-BEC6-E730E1DB4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53C96-1BE7-4358-A32C-77BEF11CA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ACE53-0B34-418F-9DD2-1CE88529F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09A33-A8BB-4ACE-9F52-8FA3A05617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2B15E8-BBF3-4A11-B11C-09FA75BD1C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5B09DA-5FA6-41BC-BA33-4C24253842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E261D3-AAAF-4AF4-8735-801C7FFBD5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F5BE42-95B7-4D34-9EE9-EEA7A10DCA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DE7F85-FFA4-49A3-8299-02D223229F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6A6A1F0-31BA-4B5D-AC0B-6ED80ADBB7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83C85BF-6F3A-45BD-8DE0-755E2FDFF2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F819C17-D868-4670-A9F8-4AD377F54F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24E6C8-AB77-4B71-B88A-978CD7603F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2B17DEF-7900-4B25-AA99-28B063800F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B7AB5A6-3D9F-49BD-9C4B-63D95A759E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3BB1723-86F1-4BFB-A2A6-B7FF863C45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45143C-4B2D-4E88-A670-BF0428016C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0827550-3A18-4472-8D31-137A6EF171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B9E5155-B137-4C23-AFB7-95A08FF302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10A335D-E20B-4170-BC8A-25BC3101EB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7CFF97-C787-47AA-AC86-2B658CEE9D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7/11-17-0177-00-00ay-tg-ay-january-2017-atlanta-meeting-minutes.docx" TargetMode="External"/><Relationship Id="rId2" Type="http://schemas.openxmlformats.org/officeDocument/2006/relationships/hyperlink" Target="https://mentor.ieee.org/802.11/dcn/17/11-17-0177-00-00ay-tg-ay-january-2017-atlanta-meeting-minutes.docx" TargetMode="External"/><Relationship Id="rId3" Type="http://schemas.openxmlformats.org/officeDocument/2006/relationships/hyperlink" Target="https://mentor.ieee.org/802.11/dcn/17/11-17-0177-00-00ay-tg-ay-january-2017-atlanta-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7/11-17-0262-00-00ay-tg-ay-february-15-2017-conference-call-meeting-minutes.docx" TargetMode="External"/><Relationship Id="rId2" Type="http://schemas.openxmlformats.org/officeDocument/2006/relationships/hyperlink" Target="https://mentor.ieee.org/802.11/dcn/17/11-17-0262-00-00ay-tg-ay-february-15-2017-conference-call-meeting-minutes.docx" TargetMode="External"/><Relationship Id="rId3" Type="http://schemas.openxmlformats.org/officeDocument/2006/relationships/hyperlink" Target="https://mentor.ieee.org/802.11/dcn/17/11-17-0262-00-00ay-tg-ay-february-15-2017-conference-call-meeting-minutes.docx" TargetMode="External"/><Relationship Id="rId4" Type="http://schemas.openxmlformats.org/officeDocument/2006/relationships/hyperlink" Target="https://mentor.ieee.org/802.11/dcn/17/11-17-0279-02-00ay-tg-ay-february-22-2017-conference-call-meeting-minutes.docx" TargetMode="External"/><Relationship Id="rId5" Type="http://schemas.openxmlformats.org/officeDocument/2006/relationships/hyperlink" Target="https://mentor.ieee.org/802.11/dcn/17/11-17-0304-00-00ay-tg-ay-march-1-2017-conference-call-meeting-minutes.docx" TargetMode="External"/><Relationship Id="rId6" Type="http://schemas.openxmlformats.org/officeDocument/2006/relationships/hyperlink" Target="https://mentor.ieee.org/802.11/dcn/17/11-17-0304-00-00ay-tg-ay-march-1-2017-conference-call-meeting-minutes.docx" TargetMode="External"/><Relationship Id="rId7" Type="http://schemas.openxmlformats.org/officeDocument/2006/relationships/hyperlink" Target="https://mentor.ieee.org/802.11/dcn/17/11-17-0310-00-00ay-task-group-ay-march-2-2017-teleconference-call-agenda.docx" TargetMode="External"/><Relationship Id="rId8" Type="http://schemas.openxmlformats.org/officeDocument/2006/relationships/hyperlink" Target="https://mentor.ieee.org/802.11/dcn/17/11-17-0310-00-00ay-task-group-ay-march-2-2017-teleconference-call-agenda.docx" TargetMode="External"/><Relationship Id="rId9" Type="http://schemas.openxmlformats.org/officeDocument/2006/relationships/slideLayout" Target="../slideLayouts/slideLayout2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39B6FA-6D5A-495E-BDA8-A68336845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3-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7B3247-4E49-460B-852B-6457A032D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0BECEA-BD85-47FC-B9D2-ACE5495C2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F1A361-7919-4920-89BC-876CF4360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85AB3-B7E9-4358-8282-1C7FE3F36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543800" cy="4221360"/>
        </p:xfrm>
        <a:graphic>
          <a:graphicData uri="http://schemas.openxmlformats.org/drawingml/2006/table">
            <a:tbl>
              <a:tblPr/>
              <a:tblGrid>
                <a:gridCol w="838080"/>
                <a:gridCol w="1371600"/>
                <a:gridCol w="1371600"/>
                <a:gridCol w="1371600"/>
                <a:gridCol w="1371600"/>
                <a:gridCol w="12193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Regency A, 3/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3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3BC7FC-9422-4830-9E78-75D810D7B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2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approval of Draft 0.3 for comment colle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88ADC2-6594-44CF-8896-BFD3229E4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151F28-CD41-4AA8-9B51-87639767F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January 2017 interim and February/March teleconference call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plann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421495-8DC3-4526-84CD-C6EF5E949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7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BAB7C4-80F6-4F72-AFD8-E8FFF2B40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1)</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4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8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request for EDMG SC mode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MO coding for SC PHY in 11ay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rification on TRN Subfield Definition for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9.9.3.26.9 TRN Subfield Definition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7.27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4EB7BA-BAC9-42F4-8435-CD8689FEF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2)</a:t>
            </a:r>
            <a:endParaRPr b="0" lang="en-US" sz="3200" spc="-1" strike="noStrike">
              <a:solidFill>
                <a:srgbClr val="000000"/>
              </a:solidFill>
              <a:latin typeface="Times New Roman"/>
            </a:endParaRPr>
          </a:p>
        </p:txBody>
      </p:sp>
      <p:sp>
        <p:nvSpPr>
          <p:cNvPr id="649"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2"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Measurement Request and Report Elements in Candidate Draft D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 on 11.32 Spatial sharing and interference mitigation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back of Short SSW Packet Based Sector Sweep in DT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2 - 17,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4996A2-DCB0-4A92-B07E-C248D73F2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12577D-E182-436B-9CCE-3011E7481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3)</a:t>
            </a:r>
            <a:endParaRPr b="0" lang="en-US" sz="3200" spc="-1" strike="noStrike">
              <a:solidFill>
                <a:srgbClr val="000000"/>
              </a:solidFill>
              <a:latin typeface="Times New Roman"/>
            </a:endParaRPr>
          </a:p>
        </p:txBody>
      </p:sp>
      <p:sp>
        <p:nvSpPr>
          <p:cNvPr id="655"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8"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phan Sah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Evaluation of Single Carrier Waveforms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6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ontrol Mode Data Field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TRN field du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383754-38F5-4518-8626-39DD1D635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5: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7 meeting minutes</a:t>
            </a:r>
            <a:endParaRPr b="0" lang="en-US" sz="3200" spc="-1" strike="noStrike">
              <a:solidFill>
                <a:srgbClr val="000000"/>
              </a:solidFill>
              <a:latin typeface="Times New Roman"/>
            </a:endParaRPr>
          </a:p>
        </p:txBody>
      </p:sp>
      <p:sp>
        <p:nvSpPr>
          <p:cNvPr id="6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January 2017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177-00-00ay-tg-ay-january-2017-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Krestin Johnsso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B1B62B-E1B0-471B-B6CC-DAFEF74A6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March 2017 Teleconference call minutes</a:t>
            </a:r>
            <a:endParaRPr b="0" lang="en-US" sz="3200" spc="-1" strike="noStrike">
              <a:solidFill>
                <a:srgbClr val="000000"/>
              </a:solidFill>
              <a:latin typeface="Times New Roman"/>
            </a:endParaRPr>
          </a:p>
        </p:txBody>
      </p:sp>
      <p:sp>
        <p:nvSpPr>
          <p:cNvPr id="6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the teleconference calls on February 15, February 22, March 1 and March 2:</a:t>
            </a:r>
            <a:endParaRPr b="0" lang="en-US" sz="20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262-00-00ay-tg-ay-february-15-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4"/>
              </a:rPr>
              <a:t>https://mentor.ieee.org/802.11/dcn/17/11-17-0279-02-00ay-tg-ay-february-22-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5"/>
              </a:rPr>
              <a:t>https://</a:t>
            </a:r>
            <a:r>
              <a:rPr b="0" lang="en-US" sz="1800" spc="-1" strike="noStrike" u="sng">
                <a:solidFill>
                  <a:srgbClr val="0066ff"/>
                </a:solidFill>
                <a:uFillTx/>
                <a:latin typeface="Times New Roman"/>
                <a:hlinkClick r:id="rId6"/>
              </a:rPr>
              <a:t>mentor.ieee.org/802.11/dcn/17/11-17-0304-00-00ay-tg-ay-march-1-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7"/>
              </a:rPr>
              <a:t>https://</a:t>
            </a:r>
            <a:r>
              <a:rPr b="0" lang="en-US" sz="1800" spc="-1" strike="noStrike" u="sng">
                <a:solidFill>
                  <a:srgbClr val="0066ff"/>
                </a:solidFill>
                <a:uFillTx/>
                <a:latin typeface="Times New Roman"/>
                <a:hlinkClick r:id="rId8"/>
              </a:rPr>
              <a:t>mentor.ieee.org/802.11/dcn/17/11-17-0310-00-00ay-task-group-ay-march-2-2017-teleconference-call-agenda.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Yan Xin</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ssaf Kasher</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BCEC50-FCE0-4B94-94CA-C3BD6BA9A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671"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6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73" name="TextBox 9"/>
          <p:cNvSpPr/>
          <p:nvPr/>
        </p:nvSpPr>
        <p:spPr>
          <a:xfrm>
            <a:off x="40741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674" name="Straight Arrow Connector 9"/>
          <p:cNvCxnSpPr/>
          <p:nvPr/>
        </p:nvCxnSpPr>
        <p:spPr>
          <a:xfrm flipV="1">
            <a:off x="4952520" y="4723560"/>
            <a:ext cx="1080" cy="986760"/>
          </a:xfrm>
          <a:prstGeom prst="straightConnector1">
            <a:avLst/>
          </a:prstGeom>
          <a:ln w="25560">
            <a:solidFill>
              <a:srgbClr val="000000"/>
            </a:solidFill>
            <a:miter/>
            <a:tailEnd len="med" type="arrow" w="med"/>
          </a:ln>
        </p:spPr>
      </p:cxn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76"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DF4430-06C4-49C0-B76D-F4736B4AF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0" name=""/>
          <p:cNvGraphicFramePr/>
          <p:nvPr/>
        </p:nvGraphicFramePr>
        <p:xfrm>
          <a:off x="685800" y="1676520"/>
          <a:ext cx="7924680" cy="327024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33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2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in January 2017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38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ode for conference room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D7E801-057F-468A-8CFA-852A35AA0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5" name=""/>
          <p:cNvGraphicFramePr/>
          <p:nvPr/>
        </p:nvGraphicFramePr>
        <p:xfrm>
          <a:off x="685800" y="1676520"/>
          <a:ext cx="7924680" cy="2630520"/>
        </p:xfrm>
        <a:graphic>
          <a:graphicData uri="http://schemas.openxmlformats.org/drawingml/2006/table">
            <a:tbl>
              <a:tblPr/>
              <a:tblGrid>
                <a:gridCol w="1295280"/>
                <a:gridCol w="3276720"/>
                <a:gridCol w="33526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 are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 0.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loaded on February 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018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draft amend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134342-4406-4BD4-8FB7-7367DAC0A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2 review</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40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F193DE-0DD4-4A37-AF47-0BBE981A3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6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SO phase of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inter frame spacing for BRP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discussion on 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4C57A3-A492-47A8-B7AE-D0EDDB9EC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TB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589B24-2CB4-4961-A567-C525E8BA2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6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illo Gentil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si-deterministic model for Doppler sprea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of channel measurement for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essed BlockAckReq for EDM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cupied bandwidth clarif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and long TRN sequenc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5CF33F-9E9D-4434-8F4E-0854F3382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EE8ED0-A1C8-4ADB-879B-B2DC410B5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unsuke Fuj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IMO phase in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R on MIMO phase in MU-MIMO beamforming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LDPC cod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ocols for hybrid beamforming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780CD1-5475-43F4-9500-6AEFDF895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6"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nd coverage improvements with DFT-s-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Hsiang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EF enhanc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ext for 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jian L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igenobu Sasak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ed channel model for outdoor open area hotspot access scenar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D6E5A5-12CF-4399-A31F-027FEDB98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85800" y="1676520"/>
          <a:ext cx="7924680" cy="9205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CFFDE3-558A-46B1-8854-D5E5A0666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p:nvPr>
        </p:nvSpPr>
        <p:spPr>
          <a:xfrm>
            <a:off x="685440" y="144792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plann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25" name="Rectangle 3"/>
          <p:cNvSpPr/>
          <p:nvPr/>
        </p:nvSpPr>
        <p:spPr>
          <a:xfrm>
            <a:off x="46483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D0D467-85FC-43B4-AA68-CADA748EB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ni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ST starts on March 12 in North America, March 24 in Israel, and March 26 in Europe</a:t>
            </a:r>
            <a:endParaRPr b="0" lang="en-US" sz="1600" spc="-1" strike="noStrike">
              <a:solidFill>
                <a:srgbClr val="000000"/>
              </a:solidFill>
              <a:latin typeface="Times New Roman"/>
            </a:endParaRPr>
          </a:p>
        </p:txBody>
      </p:sp>
      <p:sp>
        <p:nvSpPr>
          <p:cNvPr id="7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2" name=""/>
          <p:cNvGraphicFramePr/>
          <p:nvPr/>
        </p:nvGraphicFramePr>
        <p:xfrm>
          <a:off x="679320" y="1833480"/>
          <a:ext cx="7778880" cy="1630440"/>
        </p:xfrm>
        <a:graphic>
          <a:graphicData uri="http://schemas.openxmlformats.org/drawingml/2006/table">
            <a:tbl>
              <a:tblPr/>
              <a:tblGrid>
                <a:gridCol w="973440"/>
                <a:gridCol w="971280"/>
                <a:gridCol w="973080"/>
                <a:gridCol w="971640"/>
                <a:gridCol w="973080"/>
                <a:gridCol w="971640"/>
                <a:gridCol w="973080"/>
                <a:gridCol w="971640"/>
              </a:tblGrid>
              <a:tr h="517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ortl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an Jo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w Y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Ottaw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u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uttgar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izhny Novgoro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if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eijing, Singapor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oul, Toky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2</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6: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A81797-CB93-4587-BACA-32DF9A9EE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7"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2 review</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40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E658AE-BFF5-4ECC-BF74-365B9AC0D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DD1175-0708-4D52-9996-A09A4C4DE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F332EA-AFE3-4426-8822-731067C86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7C00AA-19EB-462C-9E63-E3473D372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797A45-78C3-490C-993E-EDA22DAB9D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6AFA85-FA46-4F95-A104-107D9B1EA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2B55F9-77F2-4290-84F1-282705DA5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1BB090-14DC-46A4-AC75-667DFF687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21F869-A12D-4CC4-ACFB-28DF5F00B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F0FD14-DDE8-4EB9-8AF9-0C8C67EF0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Amendment</a:t>
            </a:r>
            <a:endParaRPr b="0" lang="en-US" sz="3200" spc="-1" strike="noStrike">
              <a:solidFill>
                <a:srgbClr val="000000"/>
              </a:solidFill>
              <a:latin typeface="Times New Roman"/>
            </a:endParaRPr>
          </a:p>
        </p:txBody>
      </p:sp>
      <p:sp>
        <p:nvSpPr>
          <p:cNvPr id="77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opt D0.2 (available in members area) as the baseline</a:t>
            </a:r>
            <a:br>
              <a:rPr sz="2000"/>
            </a:br>
            <a:r>
              <a:rPr b="1" lang="en-US" sz="2000" spc="-1" strike="noStrike">
                <a:solidFill>
                  <a:srgbClr val="000000"/>
                </a:solidFill>
                <a:latin typeface="Times New Roman"/>
              </a:rPr>
              <a:t>document for the IEEE 802.11ay draft amendment</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77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33AE3B-A8BB-4063-A717-69263723E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8:  Draft</a:t>
            </a:r>
            <a:endParaRPr b="0" lang="en-US" sz="3200" spc="-1" strike="noStrike">
              <a:solidFill>
                <a:srgbClr val="000000"/>
              </a:solidFill>
              <a:latin typeface="Times New Roman"/>
            </a:endParaRPr>
          </a:p>
        </p:txBody>
      </p:sp>
      <p:sp>
        <p:nvSpPr>
          <p:cNvPr id="78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perform input bits parsing over the spatial streams on the round robin manner with bits grouping and padding as shown on slides #8, 9 of 11-17-0211-01-00ay?  Specification text is proposed in 11-17-0214-01-00ay 29 5 7 27 Encoding.</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1r1, 17/0214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B33E2D-CD46-471C-A9C5-DF81412B8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9:  Draft</a:t>
            </a:r>
            <a:endParaRPr b="0" lang="en-US" sz="3200" spc="-1" strike="noStrike">
              <a:solidFill>
                <a:srgbClr val="000000"/>
              </a:solidFill>
              <a:latin typeface="Times New Roman"/>
            </a:endParaRPr>
          </a:p>
        </p:txBody>
      </p:sp>
      <p:sp>
        <p:nvSpPr>
          <p:cNvPr id="78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draft: “The EDMG-TRN subfield for MIMO with NSS &gt; 2 shall be defined as shown on slide #8 of 11-17-0212-01-00ay”?  Specification text is proposed in 11-17-0213-00-00ay 29 9 3 26 9 TRN Subfield Defini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2r1, 17/021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65B8B9-E546-486E-8B82-688E887D3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0:  Draft</a:t>
            </a:r>
            <a:endParaRPr b="0" lang="en-US" sz="3200" spc="-1" strike="noStrike">
              <a:solidFill>
                <a:srgbClr val="000000"/>
              </a:solidFill>
              <a:latin typeface="Times New Roman"/>
            </a:endParaRPr>
          </a:p>
        </p:txBody>
      </p:sp>
      <p:sp>
        <p:nvSpPr>
          <p:cNvPr id="7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truct the editor to incorporate the draft text in the contribution 17/0189r0 into IEEE 802.11ay draft 0.2?</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89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022312-3047-4CA0-8437-1AADC624C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1:  Draft</a:t>
            </a:r>
            <a:endParaRPr b="0" lang="en-US" sz="3200" spc="-1" strike="noStrike">
              <a:solidFill>
                <a:srgbClr val="000000"/>
              </a:solidFill>
              <a:latin typeface="Times New Roman"/>
            </a:endParaRPr>
          </a:p>
        </p:txBody>
      </p:sp>
      <p:sp>
        <p:nvSpPr>
          <p:cNvPr id="79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Measurement Request &amp; Report elements as shown in IEEE 802.11-17/0215r2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5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D8DD32-6276-4689-8CFA-050029BD2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2:  Draft</a:t>
            </a:r>
            <a:endParaRPr b="0" lang="en-US" sz="3200" spc="-1" strike="noStrike">
              <a:solidFill>
                <a:srgbClr val="000000"/>
              </a:solidFill>
              <a:latin typeface="Times New Roman"/>
            </a:endParaRPr>
          </a:p>
        </p:txBody>
      </p:sp>
      <p:sp>
        <p:nvSpPr>
          <p:cNvPr id="8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Spatial Sharing and Interference Mitigation as shown in IEEE 802.11-17/0217r3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7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9BB224-BEB8-48D8-92C9-B3FCC984F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DB053D-3BEF-4BE7-BD6D-5E5435976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3:  Draft</a:t>
            </a:r>
            <a:endParaRPr b="0" lang="en-US" sz="3200" spc="-1" strike="noStrike">
              <a:solidFill>
                <a:srgbClr val="000000"/>
              </a:solidFill>
              <a:latin typeface="Times New Roman"/>
            </a:endParaRPr>
          </a:p>
        </p:txBody>
      </p:sp>
      <p:sp>
        <p:nvSpPr>
          <p:cNvPr id="80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7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3BA675-520C-4F10-8FAC-097F9F855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4:  Draft</a:t>
            </a:r>
            <a:endParaRPr b="0" lang="en-US" sz="3200" spc="-1" strike="noStrike">
              <a:solidFill>
                <a:srgbClr val="000000"/>
              </a:solidFill>
              <a:latin typeface="Times New Roman"/>
            </a:endParaRPr>
          </a:p>
        </p:txBody>
      </p:sp>
      <p:sp>
        <p:nvSpPr>
          <p:cNvPr id="81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8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82416F-BD45-49DB-B1CA-C584A4F38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5:  Draft</a:t>
            </a:r>
            <a:endParaRPr b="0" lang="en-US" sz="3200" spc="-1" strike="noStrike">
              <a:solidFill>
                <a:srgbClr val="000000"/>
              </a:solidFill>
              <a:latin typeface="Times New Roman"/>
            </a:endParaRPr>
          </a:p>
        </p:txBody>
      </p:sp>
      <p:sp>
        <p:nvSpPr>
          <p:cNvPr id="81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Channel Measurement Feedback element, DMG Beam Refinement element and EDMG Channel Measurement Feedback element as shown in IEEE 802.11-17/0219r2 into the next draft 11ay specification?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9r2, 17/022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F72002-81DF-4496-B594-59E111E07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395E8C-064F-4892-ACF8-EB50A8D8D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351297-0603-4289-A496-5CCBA6B26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2E98C3-3574-43BC-A903-812FD6123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F3974C-7E12-4E71-A717-5BFBF9DA5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77F6CD-E377-427E-84B4-3C3357CEE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EE1451-6AA6-4BCE-A891-B72B8566E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4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973F3-5524-4871-A0C0-99F49FF30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4BC590-8D57-47E8-ABB5-75C433761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EB4F79-C6CC-4B90-89CC-6EB5E51F8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4"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26E031-76C0-47B9-8D71-B91C1B0DD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7 interim</a:t>
            </a:r>
            <a:endParaRPr b="0" lang="en-US" sz="3200" spc="-1" strike="noStrike">
              <a:solidFill>
                <a:srgbClr val="000000"/>
              </a:solidFill>
              <a:latin typeface="Times New Roman"/>
            </a:endParaRPr>
          </a:p>
        </p:txBody>
      </p:sp>
      <p:sp>
        <p:nvSpPr>
          <p:cNvPr id="8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Draft 0.3</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C9F67A-6913-4A42-97A0-FDC21D8FB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75D04E-0CA4-4ECF-9A81-5EDC22C1F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6:  TBD</a:t>
            </a:r>
            <a:endParaRPr b="0" lang="en-US" sz="3200" spc="-1" strike="noStrike">
              <a:solidFill>
                <a:srgbClr val="000000"/>
              </a:solidFill>
              <a:latin typeface="Times New Roman"/>
            </a:endParaRPr>
          </a:p>
        </p:txBody>
      </p:sp>
      <p:sp>
        <p:nvSpPr>
          <p:cNvPr id="8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335413-03B5-4E03-A55F-A45CB82A6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614A1B7-4EA0-4A9F-9593-50FE752FF4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1C8BA4-A747-4879-83D6-B488DA655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7</cp:keywords>
  <dc:language>en-US</dc:language>
  <cp:lastModifiedBy>Edward Au</cp:lastModifiedBy>
  <cp:lastPrinted>2014-11-04T15:04:57Z</cp:lastPrinted>
  <dcterms:modified xsi:type="dcterms:W3CDTF">2017-03-14T07:13:28Z</dcterms:modified>
  <cp:revision>4409</cp:revision>
  <dc:subject>Task Group AY November 2015 Meeting Agenda</dc:subject>
  <dc:title>11-17/0187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