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B031C553-1D84-4E57-A2A9-063754EF35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F219E9-C4C8-4B25-879B-CF8CD11E5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154160" y="701640"/>
            <a:ext cx="4626000" cy="3468600"/>
          </a:xfrm>
          <a:prstGeom prst="rect">
            <a:avLst/>
          </a:prstGeom>
          <a:ln w="0">
            <a:noFill/>
          </a:ln>
        </p:spPr>
      </p:sp>
      <p:sp>
        <p:nvSpPr>
          <p:cNvPr id="8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8A621B-664E-4EFC-A4DB-4ACA0CFEF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891C4E-59F6-437E-A038-6CE63BA1E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54160" y="701640"/>
            <a:ext cx="4626000" cy="3468600"/>
          </a:xfrm>
          <a:prstGeom prst="rect">
            <a:avLst/>
          </a:prstGeom>
          <a:ln w="0">
            <a:noFill/>
          </a:ln>
        </p:spPr>
      </p:sp>
      <p:sp>
        <p:nvSpPr>
          <p:cNvPr id="9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E9A775-725D-4E26-B7CA-135BFC3F2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2"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6ED177-A205-445F-917C-8A995450C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54160" y="701640"/>
            <a:ext cx="4626000" cy="3468600"/>
          </a:xfrm>
          <a:prstGeom prst="rect">
            <a:avLst/>
          </a:prstGeom>
          <a:ln w="0">
            <a:noFill/>
          </a:ln>
        </p:spPr>
      </p:sp>
      <p:sp>
        <p:nvSpPr>
          <p:cNvPr id="9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37"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38"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ECAC59-7520-4149-B2E9-0D2F05371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54160" y="701640"/>
            <a:ext cx="4626000" cy="3468600"/>
          </a:xfrm>
          <a:prstGeom prst="rect">
            <a:avLst/>
          </a:prstGeom>
          <a:ln w="0">
            <a:noFill/>
          </a:ln>
        </p:spPr>
      </p:sp>
      <p:sp>
        <p:nvSpPr>
          <p:cNvPr id="9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54160" y="701640"/>
            <a:ext cx="4626000" cy="3468600"/>
          </a:xfrm>
          <a:prstGeom prst="rect">
            <a:avLst/>
          </a:prstGeom>
          <a:ln w="0">
            <a:noFill/>
          </a:ln>
        </p:spPr>
      </p:sp>
      <p:sp>
        <p:nvSpPr>
          <p:cNvPr id="9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FF9C12-1AEA-474D-89CB-AB8C42A09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54160" y="701640"/>
            <a:ext cx="4626000" cy="3468600"/>
          </a:xfrm>
          <a:prstGeom prst="rect">
            <a:avLst/>
          </a:prstGeom>
          <a:ln w="0">
            <a:noFill/>
          </a:ln>
        </p:spPr>
      </p:sp>
      <p:sp>
        <p:nvSpPr>
          <p:cNvPr id="9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4FFFB0-B764-486A-96A9-9D7C14030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48F4BE-090D-4734-B0B9-D0F2CE3DD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54160" y="701640"/>
            <a:ext cx="4626000" cy="3468600"/>
          </a:xfrm>
          <a:prstGeom prst="rect">
            <a:avLst/>
          </a:prstGeom>
          <a:ln w="0">
            <a:noFill/>
          </a:ln>
        </p:spPr>
      </p:sp>
      <p:sp>
        <p:nvSpPr>
          <p:cNvPr id="9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54160" y="701640"/>
            <a:ext cx="4626000" cy="3468600"/>
          </a:xfrm>
          <a:prstGeom prst="rect">
            <a:avLst/>
          </a:prstGeom>
          <a:ln w="0">
            <a:noFill/>
          </a:ln>
        </p:spPr>
      </p:sp>
      <p:sp>
        <p:nvSpPr>
          <p:cNvPr id="9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780CB1-7EDC-42D2-929B-7DAB6FA4B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54160" y="701640"/>
            <a:ext cx="4626000" cy="3468600"/>
          </a:xfrm>
          <a:prstGeom prst="rect">
            <a:avLst/>
          </a:prstGeom>
          <a:ln w="0">
            <a:noFill/>
          </a:ln>
        </p:spPr>
      </p:sp>
      <p:sp>
        <p:nvSpPr>
          <p:cNvPr id="9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50F7D5A-CD35-4F3F-8E8A-D69808D4A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54160" y="701640"/>
            <a:ext cx="4626000" cy="3468600"/>
          </a:xfrm>
          <a:prstGeom prst="rect">
            <a:avLst/>
          </a:prstGeom>
          <a:ln w="0">
            <a:noFill/>
          </a:ln>
        </p:spPr>
      </p:sp>
      <p:sp>
        <p:nvSpPr>
          <p:cNvPr id="9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2D855A-29E9-4028-901C-3B746EF9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54160" y="701640"/>
            <a:ext cx="4626000" cy="3468600"/>
          </a:xfrm>
          <a:prstGeom prst="rect">
            <a:avLst/>
          </a:prstGeom>
          <a:ln w="0">
            <a:noFill/>
          </a:ln>
        </p:spPr>
      </p:sp>
      <p:sp>
        <p:nvSpPr>
          <p:cNvPr id="9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511B5D-49B2-4F78-AAF6-3137B956A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4160" y="701640"/>
            <a:ext cx="4626000" cy="3468600"/>
          </a:xfrm>
          <a:prstGeom prst="rect">
            <a:avLst/>
          </a:prstGeom>
          <a:ln w="0">
            <a:noFill/>
          </a:ln>
        </p:spPr>
      </p:sp>
      <p:sp>
        <p:nvSpPr>
          <p:cNvPr id="8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6762C8-D3DB-4093-A7D6-5650F831F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54160" y="701640"/>
            <a:ext cx="4626000" cy="3468600"/>
          </a:xfrm>
          <a:prstGeom prst="rect">
            <a:avLst/>
          </a:prstGeom>
          <a:ln w="0">
            <a:noFill/>
          </a:ln>
        </p:spPr>
      </p:sp>
      <p:sp>
        <p:nvSpPr>
          <p:cNvPr id="9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AE85EC-8F8C-4382-9D3C-E38BB2B15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54160" y="701640"/>
            <a:ext cx="4626000" cy="3468600"/>
          </a:xfrm>
          <a:prstGeom prst="rect">
            <a:avLst/>
          </a:prstGeom>
          <a:ln w="0">
            <a:noFill/>
          </a:ln>
        </p:spPr>
      </p:sp>
      <p:sp>
        <p:nvSpPr>
          <p:cNvPr id="9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CE7B98-4AD4-47EC-87CF-2D3E9F4F7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54160" y="701640"/>
            <a:ext cx="4626000" cy="3468600"/>
          </a:xfrm>
          <a:prstGeom prst="rect">
            <a:avLst/>
          </a:prstGeom>
          <a:ln w="0">
            <a:noFill/>
          </a:ln>
        </p:spPr>
      </p:sp>
      <p:sp>
        <p:nvSpPr>
          <p:cNvPr id="9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C731C9-2021-4196-9279-C09E8B6FC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54160" y="701640"/>
            <a:ext cx="4626000" cy="3468600"/>
          </a:xfrm>
          <a:prstGeom prst="rect">
            <a:avLst/>
          </a:prstGeom>
          <a:ln w="0">
            <a:noFill/>
          </a:ln>
        </p:spPr>
      </p:sp>
      <p:sp>
        <p:nvSpPr>
          <p:cNvPr id="10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986EE4-3BCF-4596-8E7B-79FD72136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54160" y="701640"/>
            <a:ext cx="4626000" cy="3468600"/>
          </a:xfrm>
          <a:prstGeom prst="rect">
            <a:avLst/>
          </a:prstGeom>
          <a:ln w="0">
            <a:noFill/>
          </a:ln>
        </p:spPr>
      </p:sp>
      <p:sp>
        <p:nvSpPr>
          <p:cNvPr id="10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0B2AF3-2C13-4D39-BFE1-A04AA6FA4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54160" y="701640"/>
            <a:ext cx="4626000" cy="3468600"/>
          </a:xfrm>
          <a:prstGeom prst="rect">
            <a:avLst/>
          </a:prstGeom>
          <a:ln w="0">
            <a:noFill/>
          </a:ln>
        </p:spPr>
      </p:sp>
      <p:sp>
        <p:nvSpPr>
          <p:cNvPr id="10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7CDA62-DEF7-4A5A-B1B3-06A172DA4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54160" y="701640"/>
            <a:ext cx="4626000" cy="3468600"/>
          </a:xfrm>
          <a:prstGeom prst="rect">
            <a:avLst/>
          </a:prstGeom>
          <a:ln w="0">
            <a:noFill/>
          </a:ln>
        </p:spPr>
      </p:sp>
      <p:sp>
        <p:nvSpPr>
          <p:cNvPr id="10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902EFC-BE1F-4F21-860E-0D2A62A74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54160" y="701640"/>
            <a:ext cx="4626000" cy="3468600"/>
          </a:xfrm>
          <a:prstGeom prst="rect">
            <a:avLst/>
          </a:prstGeom>
          <a:ln w="0">
            <a:noFill/>
          </a:ln>
        </p:spPr>
      </p:sp>
      <p:sp>
        <p:nvSpPr>
          <p:cNvPr id="10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F752A3-DBA3-4747-88CB-A029160F1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54160" y="701640"/>
            <a:ext cx="4626000" cy="3468600"/>
          </a:xfrm>
          <a:prstGeom prst="rect">
            <a:avLst/>
          </a:prstGeom>
          <a:ln w="0">
            <a:noFill/>
          </a:ln>
        </p:spPr>
      </p:sp>
      <p:sp>
        <p:nvSpPr>
          <p:cNvPr id="10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71C3E4-C04F-45B5-B744-13A7A0E52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54160" y="701640"/>
            <a:ext cx="4626000" cy="3468600"/>
          </a:xfrm>
          <a:prstGeom prst="rect">
            <a:avLst/>
          </a:prstGeom>
          <a:ln w="0">
            <a:noFill/>
          </a:ln>
        </p:spPr>
      </p:sp>
      <p:sp>
        <p:nvSpPr>
          <p:cNvPr id="10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72035C-FF4B-4002-8A60-E16408AFE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4"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5"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FC2222-F676-4096-851E-ACC77CFDA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1154160" y="701640"/>
            <a:ext cx="4626000" cy="3468600"/>
          </a:xfrm>
          <a:prstGeom prst="rect">
            <a:avLst/>
          </a:prstGeom>
          <a:ln w="0">
            <a:noFill/>
          </a:ln>
        </p:spPr>
      </p:sp>
      <p:sp>
        <p:nvSpPr>
          <p:cNvPr id="8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54160" y="701640"/>
            <a:ext cx="4626000" cy="3468600"/>
          </a:xfrm>
          <a:prstGeom prst="rect">
            <a:avLst/>
          </a:prstGeom>
          <a:ln w="0">
            <a:noFill/>
          </a:ln>
        </p:spPr>
      </p:sp>
      <p:sp>
        <p:nvSpPr>
          <p:cNvPr id="10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011131-1462-4932-AC69-B79EB64FC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657F83-A49F-4017-B140-4AB831957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54160" y="701640"/>
            <a:ext cx="4626000" cy="3468600"/>
          </a:xfrm>
          <a:prstGeom prst="rect">
            <a:avLst/>
          </a:prstGeom>
          <a:ln w="0">
            <a:noFill/>
          </a:ln>
        </p:spPr>
      </p:sp>
      <p:sp>
        <p:nvSpPr>
          <p:cNvPr id="10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016D85-3BA3-4BEB-A897-3F11EA334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2AE767-EC72-45A7-8641-E78DE398C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54160" y="701640"/>
            <a:ext cx="4626000" cy="3468600"/>
          </a:xfrm>
          <a:prstGeom prst="rect">
            <a:avLst/>
          </a:prstGeom>
          <a:ln w="0">
            <a:noFill/>
          </a:ln>
        </p:spPr>
      </p:sp>
      <p:sp>
        <p:nvSpPr>
          <p:cNvPr id="10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F9A5AE-CA9D-4EB2-8C97-6F65C95EE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4160" y="701640"/>
            <a:ext cx="4626000" cy="3468600"/>
          </a:xfrm>
          <a:prstGeom prst="rect">
            <a:avLst/>
          </a:prstGeom>
          <a:ln w="0">
            <a:noFill/>
          </a:ln>
        </p:spPr>
      </p:sp>
      <p:sp>
        <p:nvSpPr>
          <p:cNvPr id="10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96AC1B-3E1A-45CD-848C-32CC76961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E4FBB4-DE16-42A6-B9FD-3C1BF8E67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54160" y="701640"/>
            <a:ext cx="4626000" cy="3468600"/>
          </a:xfrm>
          <a:prstGeom prst="rect">
            <a:avLst/>
          </a:prstGeom>
          <a:ln w="0">
            <a:noFill/>
          </a:ln>
        </p:spPr>
      </p:sp>
      <p:sp>
        <p:nvSpPr>
          <p:cNvPr id="10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54160" y="701640"/>
            <a:ext cx="4626000" cy="3468600"/>
          </a:xfrm>
          <a:prstGeom prst="rect">
            <a:avLst/>
          </a:prstGeom>
          <a:ln w="0">
            <a:noFill/>
          </a:ln>
        </p:spPr>
      </p:sp>
      <p:sp>
        <p:nvSpPr>
          <p:cNvPr id="10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DD55AB-6163-4354-808F-6176EE16E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54160" y="701640"/>
            <a:ext cx="4626000" cy="3468600"/>
          </a:xfrm>
          <a:prstGeom prst="rect">
            <a:avLst/>
          </a:prstGeom>
          <a:ln w="0">
            <a:noFill/>
          </a:ln>
        </p:spPr>
      </p:sp>
      <p:sp>
        <p:nvSpPr>
          <p:cNvPr id="10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B8E6AD-668F-4423-8894-722EAA91A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3D6F2E-C9DC-4EB3-A2C0-00729B29F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54160" y="701640"/>
            <a:ext cx="4626000" cy="3468600"/>
          </a:xfrm>
          <a:prstGeom prst="rect">
            <a:avLst/>
          </a:prstGeom>
          <a:ln w="0">
            <a:noFill/>
          </a:ln>
        </p:spPr>
      </p:sp>
      <p:sp>
        <p:nvSpPr>
          <p:cNvPr id="11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1"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2F80DCF-FCA1-4C5D-8835-156722F3F1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147680" y="696960"/>
            <a:ext cx="4640400" cy="3479760"/>
          </a:xfrm>
          <a:prstGeom prst="rect">
            <a:avLst/>
          </a:prstGeom>
          <a:ln w="0">
            <a:noFill/>
          </a:ln>
        </p:spPr>
      </p:sp>
      <p:sp>
        <p:nvSpPr>
          <p:cNvPr id="89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54160" y="701640"/>
            <a:ext cx="4626000" cy="3468600"/>
          </a:xfrm>
          <a:prstGeom prst="rect">
            <a:avLst/>
          </a:prstGeom>
          <a:ln w="0">
            <a:noFill/>
          </a:ln>
        </p:spPr>
      </p:sp>
      <p:sp>
        <p:nvSpPr>
          <p:cNvPr id="11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344D29-C049-423D-A9AD-174CA318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E7F65E-1D6A-481B-8EEA-C8913CED2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296B79-9A36-4171-8290-EF94CAB40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54160" y="701640"/>
            <a:ext cx="4626000" cy="3468600"/>
          </a:xfrm>
          <a:prstGeom prst="rect">
            <a:avLst/>
          </a:prstGeom>
          <a:ln w="0">
            <a:noFill/>
          </a:ln>
        </p:spPr>
      </p:sp>
      <p:sp>
        <p:nvSpPr>
          <p:cNvPr id="11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54160" y="701640"/>
            <a:ext cx="4626000" cy="3468600"/>
          </a:xfrm>
          <a:prstGeom prst="rect">
            <a:avLst/>
          </a:prstGeom>
          <a:ln w="0">
            <a:noFill/>
          </a:ln>
        </p:spPr>
      </p:sp>
      <p:sp>
        <p:nvSpPr>
          <p:cNvPr id="1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19A912-948B-4E31-89A3-99D16851E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09B540-1BB9-4D12-9C50-8765B4DB7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4160" y="701640"/>
            <a:ext cx="4626000" cy="3468600"/>
          </a:xfrm>
          <a:prstGeom prst="rect">
            <a:avLst/>
          </a:prstGeom>
          <a:ln w="0">
            <a:noFill/>
          </a:ln>
        </p:spPr>
      </p:sp>
      <p:sp>
        <p:nvSpPr>
          <p:cNvPr id="1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8A84EA-2772-44B8-891A-4F25BEC70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54160" y="701640"/>
            <a:ext cx="4626000" cy="3468600"/>
          </a:xfrm>
          <a:prstGeom prst="rect">
            <a:avLst/>
          </a:prstGeom>
          <a:ln w="0">
            <a:noFill/>
          </a:ln>
        </p:spPr>
      </p:sp>
      <p:sp>
        <p:nvSpPr>
          <p:cNvPr id="1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807AC5-65ED-42B2-BAB1-1DA611350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54160" y="701640"/>
            <a:ext cx="4626000" cy="3468600"/>
          </a:xfrm>
          <a:prstGeom prst="rect">
            <a:avLst/>
          </a:prstGeom>
          <a:ln w="0">
            <a:noFill/>
          </a:ln>
        </p:spPr>
      </p:sp>
      <p:sp>
        <p:nvSpPr>
          <p:cNvPr id="11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352F9C-D975-4895-9F10-7BFB96F02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54160" y="701640"/>
            <a:ext cx="4626000" cy="3468600"/>
          </a:xfrm>
          <a:prstGeom prst="rect">
            <a:avLst/>
          </a:prstGeom>
          <a:ln w="0">
            <a:noFill/>
          </a:ln>
        </p:spPr>
      </p:sp>
      <p:sp>
        <p:nvSpPr>
          <p:cNvPr id="11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F501C1-AA39-4C31-AC0E-B4EFDDC46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54160" y="701640"/>
            <a:ext cx="4626000" cy="3468600"/>
          </a:xfrm>
          <a:prstGeom prst="rect">
            <a:avLst/>
          </a:prstGeom>
          <a:ln w="0">
            <a:noFill/>
          </a:ln>
        </p:spPr>
      </p:sp>
      <p:sp>
        <p:nvSpPr>
          <p:cNvPr id="1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2FAA0D-636C-4AEE-8CCD-9F0A94F47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BB1293-17C1-4713-B6DF-E2B7404C2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54160" y="701640"/>
            <a:ext cx="4626000" cy="3468600"/>
          </a:xfrm>
          <a:prstGeom prst="rect">
            <a:avLst/>
          </a:prstGeom>
          <a:ln w="0">
            <a:noFill/>
          </a:ln>
        </p:spPr>
      </p:sp>
      <p:sp>
        <p:nvSpPr>
          <p:cNvPr id="8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54160" y="701640"/>
            <a:ext cx="4626000" cy="3468600"/>
          </a:xfrm>
          <a:prstGeom prst="rect">
            <a:avLst/>
          </a:prstGeom>
          <a:ln w="0">
            <a:noFill/>
          </a:ln>
        </p:spPr>
      </p:sp>
      <p:sp>
        <p:nvSpPr>
          <p:cNvPr id="1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E29C1F-C6ED-4A9E-9996-1B2053F19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54160" y="701640"/>
            <a:ext cx="4626000" cy="3468600"/>
          </a:xfrm>
          <a:prstGeom prst="rect">
            <a:avLst/>
          </a:prstGeom>
          <a:ln w="0">
            <a:noFill/>
          </a:ln>
        </p:spPr>
      </p:sp>
      <p:sp>
        <p:nvSpPr>
          <p:cNvPr id="1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9EB979-0D56-4E1F-B88F-F5CD17A35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54160" y="701640"/>
            <a:ext cx="4626000" cy="3468600"/>
          </a:xfrm>
          <a:prstGeom prst="rect">
            <a:avLst/>
          </a:prstGeom>
          <a:ln w="0">
            <a:noFill/>
          </a:ln>
        </p:spPr>
      </p:sp>
      <p:sp>
        <p:nvSpPr>
          <p:cNvPr id="1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BDEA4F-2107-4347-B3C5-E5900ED09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54160" y="701640"/>
            <a:ext cx="4626000" cy="3468600"/>
          </a:xfrm>
          <a:prstGeom prst="rect">
            <a:avLst/>
          </a:prstGeom>
          <a:ln w="0">
            <a:noFill/>
          </a:ln>
        </p:spPr>
      </p:sp>
      <p:sp>
        <p:nvSpPr>
          <p:cNvPr id="1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EF410D-D1CE-4ADA-83BE-3CB72FB4D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9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4BFCE1-FB49-4E87-8DFC-BA1E2C9A8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54160" y="701640"/>
            <a:ext cx="4626000" cy="3468600"/>
          </a:xfrm>
          <a:prstGeom prst="rect">
            <a:avLst/>
          </a:prstGeom>
          <a:ln w="0">
            <a:noFill/>
          </a:ln>
        </p:spPr>
      </p:sp>
      <p:sp>
        <p:nvSpPr>
          <p:cNvPr id="1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54160" y="701640"/>
            <a:ext cx="4626000" cy="3468600"/>
          </a:xfrm>
          <a:prstGeom prst="rect">
            <a:avLst/>
          </a:prstGeom>
          <a:ln w="0">
            <a:noFill/>
          </a:ln>
        </p:spPr>
      </p:sp>
      <p:sp>
        <p:nvSpPr>
          <p:cNvPr id="1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9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CB03A2-CDB8-4CFE-A57B-1016EC785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4160" y="701640"/>
            <a:ext cx="4626000" cy="3468600"/>
          </a:xfrm>
          <a:prstGeom prst="rect">
            <a:avLst/>
          </a:prstGeom>
          <a:ln w="0">
            <a:noFill/>
          </a:ln>
        </p:spPr>
      </p:sp>
      <p:sp>
        <p:nvSpPr>
          <p:cNvPr id="1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395973-78E1-456C-8456-D3420C32D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0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B34F56-23E6-4900-826D-E4F46B21B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154160" y="701640"/>
            <a:ext cx="4626000" cy="3468600"/>
          </a:xfrm>
          <a:prstGeom prst="rect">
            <a:avLst/>
          </a:prstGeom>
          <a:ln w="0">
            <a:noFill/>
          </a:ln>
        </p:spPr>
      </p:sp>
      <p:sp>
        <p:nvSpPr>
          <p:cNvPr id="1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54160" y="701640"/>
            <a:ext cx="4626000" cy="3468600"/>
          </a:xfrm>
          <a:prstGeom prst="rect">
            <a:avLst/>
          </a:prstGeom>
          <a:ln w="0">
            <a:noFill/>
          </a:ln>
        </p:spPr>
      </p:sp>
      <p:sp>
        <p:nvSpPr>
          <p:cNvPr id="1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7260A1-AA8F-4EF8-954F-F150A0C77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54160" y="701640"/>
            <a:ext cx="4626000" cy="3468600"/>
          </a:xfrm>
          <a:prstGeom prst="rect">
            <a:avLst/>
          </a:prstGeom>
          <a:ln w="0">
            <a:noFill/>
          </a:ln>
        </p:spPr>
      </p:sp>
      <p:sp>
        <p:nvSpPr>
          <p:cNvPr id="1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D0BB65-0164-444B-9BB4-76AEF3206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730A98B-E52F-4210-BD1B-57D762A35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154160" y="701640"/>
            <a:ext cx="4626000" cy="3468600"/>
          </a:xfrm>
          <a:prstGeom prst="rect">
            <a:avLst/>
          </a:prstGeom>
          <a:ln w="0">
            <a:noFill/>
          </a:ln>
        </p:spPr>
      </p:sp>
      <p:sp>
        <p:nvSpPr>
          <p:cNvPr id="9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5"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6"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DAD652-0AF4-45F7-B94B-E0424249E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1154160" y="701640"/>
            <a:ext cx="4626000" cy="3468600"/>
          </a:xfrm>
          <a:prstGeom prst="rect">
            <a:avLst/>
          </a:prstGeom>
          <a:ln w="0">
            <a:noFill/>
          </a:ln>
        </p:spPr>
      </p:sp>
      <p:sp>
        <p:nvSpPr>
          <p:cNvPr id="1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54160" y="701640"/>
            <a:ext cx="4626000" cy="3468600"/>
          </a:xfrm>
          <a:prstGeom prst="rect">
            <a:avLst/>
          </a:prstGeom>
          <a:ln w="0">
            <a:noFill/>
          </a:ln>
        </p:spPr>
      </p:sp>
      <p:sp>
        <p:nvSpPr>
          <p:cNvPr id="12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BCBC0C-4673-4908-8BB5-1F1CA15E8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54160" y="701640"/>
            <a:ext cx="4626000" cy="3468600"/>
          </a:xfrm>
          <a:prstGeom prst="rect">
            <a:avLst/>
          </a:prstGeom>
          <a:ln w="0">
            <a:noFill/>
          </a:ln>
        </p:spPr>
      </p:sp>
      <p:sp>
        <p:nvSpPr>
          <p:cNvPr id="12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3B74B3-38D3-4820-BB47-70AA1A6AF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EF25FC-A43F-4D15-8811-46D094A53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54160" y="701640"/>
            <a:ext cx="4626000" cy="3468600"/>
          </a:xfrm>
          <a:prstGeom prst="rect">
            <a:avLst/>
          </a:prstGeom>
          <a:ln w="0">
            <a:noFill/>
          </a:ln>
        </p:spPr>
      </p:sp>
      <p:sp>
        <p:nvSpPr>
          <p:cNvPr id="12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BFC144-D252-491E-90CE-AECA4E135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046690-627D-4F2C-B818-D4C877358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54160" y="701640"/>
            <a:ext cx="4626000" cy="3468600"/>
          </a:xfrm>
          <a:prstGeom prst="rect">
            <a:avLst/>
          </a:prstGeom>
          <a:ln w="0">
            <a:noFill/>
          </a:ln>
        </p:spPr>
      </p:sp>
      <p:sp>
        <p:nvSpPr>
          <p:cNvPr id="9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0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36F4C5-50E1-466F-8C22-EEA594109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54160" y="701640"/>
            <a:ext cx="4626000" cy="3468600"/>
          </a:xfrm>
          <a:prstGeom prst="rect">
            <a:avLst/>
          </a:prstGeom>
          <a:ln w="0">
            <a:noFill/>
          </a:ln>
        </p:spPr>
      </p:sp>
      <p:sp>
        <p:nvSpPr>
          <p:cNvPr id="90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C925A5-6674-4601-9F02-F2D7AC158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4160" y="701640"/>
            <a:ext cx="4626000" cy="3468600"/>
          </a:xfrm>
          <a:prstGeom prst="rect">
            <a:avLst/>
          </a:prstGeom>
          <a:ln w="0">
            <a:noFill/>
          </a:ln>
        </p:spPr>
      </p:sp>
      <p:sp>
        <p:nvSpPr>
          <p:cNvPr id="9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ED498-3056-4B4A-93B4-FCDACB62D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428D-5246-476E-BCF2-F3A59ECA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6A559-65FF-4873-BCE4-62EDE9D4D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F070B-2812-48B0-95AC-1B8D72833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6B4CC-F94B-4DD7-BFF9-869B6B2008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54A15-0FCD-421D-9946-E0130DDE5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3DDD87-4398-49B5-8C27-A1E4879CE4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19F2C-FF82-4C8F-A131-DDD162C6D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68A80-0854-4BB2-9E6D-FB089ADF4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DD98CC-53E3-4ED5-A713-5221204425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1B0279-6C13-451B-9EF8-4332D6785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BCDD9F-417F-49F4-8E77-A98AC35D15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9667C-D76A-4515-86F1-284BAD22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75999E-ED70-4F59-BAEF-69B4F5A19A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46CD7E-6C1D-4923-95CB-0F4AE481A3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901DE4-BB16-4A3B-8B88-7C68E63120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D0BFF4-7B5F-4108-97F3-390108A3C8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B4C3D7-17B4-4649-8ACA-2C66D08AAA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00A6FD-870C-4884-9C4F-1E0501F0C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2C872C-C8B1-4A87-BE8E-4815B76D76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B579AE-46AD-4343-A069-8E602FA9EB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8D70EA-B801-49CC-9A3D-1DA0A996A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7A7C97-9C29-4D47-8048-FDAC2A757D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1C095-7D93-4C23-B7EE-D4842537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380849-B659-49A3-8736-7B2797F213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660229-332E-453A-B12E-8B1B42B436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053767-9EF9-47F9-97B4-1A649078DE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EA53BC-53B8-4539-877E-6AA3535EC8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6AE75A-A7F8-4D36-8D86-5AED7C4CD3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D2A1EA-AFB9-426C-8FE3-AF53AECC2A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15527F-4E6D-487A-858D-F53F79BA37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F44AD6-1FDD-4FED-8912-59233B61B2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D5A909-ACA4-4F31-9182-ABED5D0F9E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E213BE-C759-459B-8C8A-25AA53290D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BFD0D-7AB8-4176-9488-477E19F1E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8D142A-D7E5-48F9-AEAF-A067EFAC43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0836A8-34F1-47D8-A168-31B73041AC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84E87F-5D26-41A8-A335-193FD365E6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B39E54-175D-40E1-92E7-35704A5A4B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C93A5-6CDA-4CA5-8617-C6665BE4D8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93380C-8DA0-4F28-A330-DF06E03DA3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A355A1-1D2F-48BE-A324-A6595E5871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A6A2A2-DCD3-4561-B915-E3C6CE2D81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1E2AC4-AD4D-4E7D-AF3A-76E975200E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7BA985-1B4C-453C-B5B9-3347577350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F76B8-C3F9-4939-A974-655EEC64A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C9496F-E1DB-42CC-8FE8-483E252F8B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64D1FF-A3C7-48CC-BA07-CFADF7860E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EC103C-14DB-41D7-AAE5-6D34C51105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31BCDC-ADB3-4218-B0AB-053B3780DE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84317A-4070-4125-8D6E-8677C50BE4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3C94B-5F29-4A28-A210-0A3799991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553CE-12EE-4BDF-9885-DA5797647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E6ED-B1EA-4C78-B0F2-FBD7D6FF8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9F457-D5BD-4413-B7EB-0CF415B4B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1677-E280-4815-B608-5946E20A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9EBC-B8C5-47E9-8488-5699D643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899B-CC0B-4146-9FD9-019C6246A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D1BBD-A59A-41F7-95C4-4DD4FFF3B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B5788-3B72-47ED-81FE-C606F118C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9AF3E-1A30-4108-A0F9-3FA4AA237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A0FF1-8819-4C48-86A7-502424D7F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F1A06F-64B8-4C44-AC69-40D80A098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27B2F-6C8C-4D24-9E1C-FFB11D6FF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C5ACC-AA1D-44C8-9CAA-AC8BCCC3D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E1C61-23A6-4779-9152-893BD3809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3D0DF-C31B-489C-9219-167573594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7E3E-8D42-4034-AEA4-4B024E40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BE108-B807-49D4-9663-AF5F6B403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4F20F-BEE6-4E9C-A3E2-B4765F325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CE5AB-7534-4A47-885F-885493483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2C39F-025C-4462-B372-EF72FEFA1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2B05B-B19C-4F20-BC22-9578F4DC7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82424-03D1-498E-BF80-40EB9CF32E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E75601-0436-4F5D-A449-3AAF09E92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B3F25-41DA-427E-8B43-2396206C2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2BF78-CD84-49C2-A99A-8E8F3F5F5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64E7A-8340-4D19-8BBF-7DFC61BC9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67C6-6C86-4D10-933F-A386454D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E44A93-B6B9-4549-9598-8F06D1915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B3241-8B8E-4883-9072-CE938C95E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64545-4E03-46FC-805B-FA1336969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2896C-0687-4108-84DC-B80A81E90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5377B-11A9-44B6-B3B7-888DCA80E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82ABB-0049-49DA-8C46-C47B36FA2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C0261-2C90-4472-9269-0CD3DBEA3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B40767-3430-4C5A-B0C7-315F1670C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D0C4E0-BF6F-4C23-BA66-F4B39738D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7A4FC-2CDE-4A13-B591-028EA96A6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C38C-6540-4498-BC9A-04F4C2E5C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F2B45-5FC0-46A5-B9C1-B987875B9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33EE5-F344-44A4-B4CE-A6EDA1234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25E29-67CF-45B0-878C-014977E5C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0D6C9-56C4-428A-A665-749C8F952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65B908-F903-4B63-AEA8-E9C7930A3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CFE2F-1F9B-443C-B29D-E0ED1E632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2CE42-BB29-4E3C-A4C3-3DE1FC90F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ECA88-24A5-48D8-8101-B4CCFB386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D1308-FE17-40C8-9213-43935F231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DF4D0-7F39-43DF-A8AA-2861373959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6560-F7C9-429F-88C4-F27EA882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7BF664-8E22-4AD8-A63A-A60F6B60E5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37DC8-0E8C-4B63-B0BD-F2715D2E47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B1AF23-671B-43BA-9542-4779D00FB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00ABD-3812-4EB3-B031-DA0ADDC4E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52DD2-0D50-46EB-BFFA-A89DAD559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AE8428-C0D3-4C2C-8DD1-E3A3748E7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28A2A-B5E4-4BD2-A5DE-D0715D5EA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9B757-74D1-4884-B484-3F5AB4E77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F4591-0320-4FFD-9095-57E6AF29A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B4402-521A-4123-A61B-6362AC51D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85C5-45F6-44A6-A9B2-FBAEB0A7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700C6-BE50-4A62-86CD-645B1717F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A8CFF7-67F4-4369-AA63-BB9DC56552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EF789C-90D6-48A6-9941-8FFA12AD14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5A5CF-AE53-4B77-A180-61127535C5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65337-5B1F-43D6-A84C-11ECA0009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9CD321-868A-4B42-8296-0DDE7DF5D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30FA8-D6F8-46FD-B39E-AEA4D3082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F85B3-D510-4A24-9248-091725447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ABA4A0-BE12-4ADB-A1E7-80D76C62A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A8DEE-2227-4041-A825-69DE0880B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E930-815A-4FB9-99B2-91BF8DFB3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D25C5-42A9-4A90-8F62-87D5EDC72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1E607-62CA-4CDA-9ACF-CF2D336B1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02F72-C410-462F-ADBF-61F6F6A15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6A4E2C-23FC-46F2-B87F-1E4EFDC281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DB06A-1A83-4CC3-8B3F-C4BD56FB50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04CBB-5B8C-4338-8F3D-0440C0556B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3238B-61C1-4D9E-A9DC-42F45DF695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C54EC-37D9-4118-99F1-49D4100C67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A4A5A-58E3-4CBC-BE92-7E9782C0B7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756A0F-AEA4-44C7-81E2-835D99E52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10F7-641A-46D8-8312-22815FF1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EBBCA-35E6-433A-B838-A6E3230BD0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69831-8F09-4CD7-897D-F4EAC6C1D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253F0-2F5C-47C7-9105-63DEAF8BD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C0E7D-D1F5-4A79-8103-DF3401B92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7407B-1065-41FD-817A-94E6E4BA5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41328-AB1F-4148-B3A2-0C95D7CEA1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453F4C-5193-43C6-8A9A-C6BD7724A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EDB446-F3CC-4F3B-9D69-C1BC2A8978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DF6BF-08B6-48A0-9F4F-B85DF5EAA0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68C2E-9DC3-462A-BAA9-CB8B33184B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3D6C52-EC66-4A85-8D57-7C11BA69BD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8663E50-C07F-4C98-90D2-F8FA745465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1F4A01-AADE-4444-9771-9BC8A6BDFD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2A6FE28-41A7-4F02-8D2E-E27F6B2DA3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97C194-F9F9-4D7B-AC70-FB46D1170E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7585BC-D4F4-4EDE-8F7B-6EEF540EAF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671556E-6C5A-47BF-9CA0-E1EFFDF867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EE2D04-1565-4A12-B951-09321C4A2A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6FB8343-177C-471E-8D3D-1C02B22B35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34E3693-7235-422A-B7E5-76851497D1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7BEA174-9876-4AA3-B400-A92BF0F970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948E44-173D-481F-88B7-746B7FF4A7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0177-00-00ay-tg-ay-january-2017-atlanta-meeting-minutes.docx" TargetMode="External"/><Relationship Id="rId2" Type="http://schemas.openxmlformats.org/officeDocument/2006/relationships/hyperlink" Target="https://mentor.ieee.org/802.11/dcn/17/11-17-0177-00-00ay-tg-ay-january-2017-atlanta-meeting-minutes.docx" TargetMode="External"/><Relationship Id="rId3" Type="http://schemas.openxmlformats.org/officeDocument/2006/relationships/hyperlink" Target="https://mentor.ieee.org/802.11/dcn/17/11-17-0177-00-00ay-tg-ay-january-2017-atlanta-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0262-00-00ay-tg-ay-february-15-2017-conference-call-meeting-minutes.docx" TargetMode="External"/><Relationship Id="rId2" Type="http://schemas.openxmlformats.org/officeDocument/2006/relationships/hyperlink" Target="https://mentor.ieee.org/802.11/dcn/17/11-17-0262-00-00ay-tg-ay-february-15-2017-conference-call-meeting-minutes.docx" TargetMode="External"/><Relationship Id="rId3" Type="http://schemas.openxmlformats.org/officeDocument/2006/relationships/hyperlink" Target="https://mentor.ieee.org/802.11/dcn/17/11-17-0262-00-00ay-tg-ay-february-15-2017-conference-call-meeting-minutes.docx" TargetMode="External"/><Relationship Id="rId4" Type="http://schemas.openxmlformats.org/officeDocument/2006/relationships/hyperlink" Target="https://mentor.ieee.org/802.11/dcn/17/11-17-0279-02-00ay-tg-ay-february-22-2017-conference-call-meeting-minutes.docx" TargetMode="External"/><Relationship Id="rId5" Type="http://schemas.openxmlformats.org/officeDocument/2006/relationships/hyperlink" Target="https://mentor.ieee.org/802.11/dcn/17/11-17-0304-00-00ay-tg-ay-march-1-2017-conference-call-meeting-minutes.docx" TargetMode="External"/><Relationship Id="rId6" Type="http://schemas.openxmlformats.org/officeDocument/2006/relationships/hyperlink" Target="https://mentor.ieee.org/802.11/dcn/17/11-17-0304-00-00ay-tg-ay-march-1-2017-conference-call-meeting-minutes.docx" TargetMode="External"/><Relationship Id="rId7" Type="http://schemas.openxmlformats.org/officeDocument/2006/relationships/hyperlink" Target="https://mentor.ieee.org/802.11/dcn/17/11-17-0310-00-00ay-task-group-ay-march-2-2017-teleconference-call-agenda.docx" TargetMode="External"/><Relationship Id="rId8" Type="http://schemas.openxmlformats.org/officeDocument/2006/relationships/hyperlink" Target="https://mentor.ieee.org/802.11/dcn/17/11-17-0310-00-00ay-task-group-ay-march-2-2017-teleconference-call-agenda.docx" TargetMode="External"/><Relationship Id="rId9" Type="http://schemas.openxmlformats.org/officeDocument/2006/relationships/slideLayout" Target="../slideLayouts/slideLayout2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C97144-305C-49CC-99EB-824BA8FD7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3-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51FCEA-10A9-4623-8225-A416897E1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34407F-D4C1-4D76-9700-51203C1CD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C0E29E-315F-4DA8-AC8A-612B19462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C58545-D3A8-4170-9795-25310BE47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543800" cy="42213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Regency A, 3/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2E17F7-D0DB-438D-8CBD-BEB1C3280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2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approval of Draft 0.3 for comment colle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D24A89-292E-4684-ABA2-D5F715A31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F1527A-56A2-420D-A29D-DFF0210B3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January 2017 interim and February/March teleconference call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plann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5783CC-0250-46D8-B791-838CAC53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7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831353-F81E-4158-BAF1-E41A3E216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1)</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8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request for EDMG SC mode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MO coding for SC PHY in 11ay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rification on TRN Subfield Definition for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9.9.3.26.9 TRN Subfield Definition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7.27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09CC06-68C7-436C-9997-AA99BB30F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2)</a:t>
            </a:r>
            <a:endParaRPr b="0" lang="en-US" sz="3200" spc="-1" strike="noStrike">
              <a:solidFill>
                <a:srgbClr val="000000"/>
              </a:solidFill>
              <a:latin typeface="Times New Roman"/>
            </a:endParaRPr>
          </a:p>
        </p:txBody>
      </p:sp>
      <p:sp>
        <p:nvSpPr>
          <p:cNvPr id="649"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2"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Measurement Request and Report Elements in Candidate Draft D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 on 11.32 Spatial sharing and interference mitigation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back of Short SSW Packet Based Sector Sweep in DT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2 - 17,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9A08E1-7007-40B7-BC61-A96E974DA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84A6B0-024F-4154-87F6-D4944CA9F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3)</a:t>
            </a:r>
            <a:endParaRPr b="0" lang="en-US" sz="3200" spc="-1" strike="noStrike">
              <a:solidFill>
                <a:srgbClr val="000000"/>
              </a:solidFill>
              <a:latin typeface="Times New Roman"/>
            </a:endParaRPr>
          </a:p>
        </p:txBody>
      </p:sp>
      <p:sp>
        <p:nvSpPr>
          <p:cNvPr id="655"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8"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an Sah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Evaluation of Single Carrier Waveforms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6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ontrol Mode Data Field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TRN field du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E63B33-AE43-4C7A-97DD-1DE7C9585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7 meeting minutes</a:t>
            </a:r>
            <a:endParaRPr b="0" lang="en-US" sz="3200" spc="-1" strike="noStrike">
              <a:solidFill>
                <a:srgbClr val="000000"/>
              </a:solidFill>
              <a:latin typeface="Times New Roman"/>
            </a:endParaRPr>
          </a:p>
        </p:txBody>
      </p:sp>
      <p:sp>
        <p:nvSpPr>
          <p:cNvPr id="6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Januar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177-00-00ay-tg-ay-january-2017-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3A3AC-6665-46E3-B39F-029D792A7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March 2017 Teleconference call minutes</a:t>
            </a:r>
            <a:endParaRPr b="0" lang="en-US" sz="3200" spc="-1" strike="noStrike">
              <a:solidFill>
                <a:srgbClr val="000000"/>
              </a:solidFill>
              <a:latin typeface="Times New Roman"/>
            </a:endParaRPr>
          </a:p>
        </p:txBody>
      </p:sp>
      <p:sp>
        <p:nvSpPr>
          <p:cNvPr id="6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s on February 15, February 22, March 1 and March 2:</a:t>
            </a:r>
            <a:endParaRPr b="0" lang="en-US" sz="20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262-00-00ay-tg-ay-february-15-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mentor.ieee.org/802.11/dcn/17/11-17-0279-02-00ay-tg-ay-february-22-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5"/>
              </a:rPr>
              <a:t>https://</a:t>
            </a:r>
            <a:r>
              <a:rPr b="0" lang="en-US" sz="1800" spc="-1" strike="noStrike" u="sng">
                <a:solidFill>
                  <a:srgbClr val="0066ff"/>
                </a:solidFill>
                <a:uFillTx/>
                <a:latin typeface="Times New Roman"/>
                <a:hlinkClick r:id="rId6"/>
              </a:rPr>
              <a:t>mentor.ieee.org/802.11/dcn/17/11-17-0304-00-00ay-tg-ay-march-1-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7"/>
              </a:rPr>
              <a:t>https://</a:t>
            </a:r>
            <a:r>
              <a:rPr b="0" lang="en-US" sz="1800" spc="-1" strike="noStrike" u="sng">
                <a:solidFill>
                  <a:srgbClr val="0066ff"/>
                </a:solidFill>
                <a:uFillTx/>
                <a:latin typeface="Times New Roman"/>
                <a:hlinkClick r:id="rId8"/>
              </a:rPr>
              <a:t>mentor.ieee.org/802.11/dcn/17/11-17-0310-00-00ay-task-group-ay-march-2-2017-teleconference-call-agenda.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B2BB32-8624-4422-9F19-EC3F6000E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671"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6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73" name="TextBox 9"/>
          <p:cNvSpPr/>
          <p:nvPr/>
        </p:nvSpPr>
        <p:spPr>
          <a:xfrm>
            <a:off x="40741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74" name="Straight Arrow Connector 9"/>
          <p:cNvCxnSpPr/>
          <p:nvPr/>
        </p:nvCxnSpPr>
        <p:spPr>
          <a:xfrm flipV="1">
            <a:off x="4952520" y="4723560"/>
            <a:ext cx="1080" cy="986760"/>
          </a:xfrm>
          <a:prstGeom prst="straightConnector1">
            <a:avLst/>
          </a:prstGeom>
          <a:ln w="25560">
            <a:solidFill>
              <a:srgbClr val="000000"/>
            </a:solidFill>
            <a:miter/>
            <a:tailEnd len="med" type="arrow" w="med"/>
          </a:ln>
        </p:spPr>
      </p:cxn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76"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C418E-E2BB-4C2F-9A7F-7DD51A338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0" name=""/>
          <p:cNvGraphicFramePr/>
          <p:nvPr/>
        </p:nvGraphicFramePr>
        <p:xfrm>
          <a:off x="685800" y="1676520"/>
          <a:ext cx="7924680" cy="327024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33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2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in January 2017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38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for conference room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6CA291-FD90-4438-8254-2FE0D1A41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5" name=""/>
          <p:cNvGraphicFramePr/>
          <p:nvPr/>
        </p:nvGraphicFramePr>
        <p:xfrm>
          <a:off x="685800" y="1676520"/>
          <a:ext cx="7924680" cy="263052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 are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ed on February 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018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draft amend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C624AF-401B-4ACC-99B0-01B2C8CFD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156E19-0718-4D37-9171-85FC8D714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6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O phase of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inter frame spacing for BRP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discussion on 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ocols for hybrid beamforming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5AC3AA-DD82-4D51-82AB-433E98820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TB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14195B-716B-48C1-9F28-FFDCB8F86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6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llo Gentil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si-deterministic model for Doppler sprea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of channel measurement for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essed BlockAckReq for EDM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cupied bandwidth clarif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and long TRN sequenc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A17974-7573-441F-A17A-4A5FCA97C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28803F-E8F6-452E-AA6C-9FFA8A4DB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unsuke Fuj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IMO phase in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R on MIMO phase in MU-MIMO beamforming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LDPC cod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429B7F-8271-44AD-9EAD-B1253CE9A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nd coverage improvements with DFT-s-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Hsiang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EF enhanc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ext for 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jian L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igenobu Sasak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ed channel model for outdoor open area hotspot access scenar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C9AED5-EF54-4D9F-AB4C-D1F8A3BA9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6CB5A1-2F51-4C7A-AB25-251D3B067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plann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25"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C06FC8-1402-4677-AB13-ED200E079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ni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ST starts on March 12 in North America, March 24 in Israel, and March 26 in Europe</a:t>
            </a:r>
            <a:endParaRPr b="0" lang="en-US" sz="1600" spc="-1" strike="noStrike">
              <a:solidFill>
                <a:srgbClr val="000000"/>
              </a:solidFill>
              <a:latin typeface="Times New Roman"/>
            </a:endParaRPr>
          </a:p>
        </p:txBody>
      </p:sp>
      <p:sp>
        <p:nvSpPr>
          <p:cNvPr id="7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2" name=""/>
          <p:cNvGraphicFramePr/>
          <p:nvPr/>
        </p:nvGraphicFramePr>
        <p:xfrm>
          <a:off x="679320" y="1833480"/>
          <a:ext cx="7778880" cy="1630440"/>
        </p:xfrm>
        <a:graphic>
          <a:graphicData uri="http://schemas.openxmlformats.org/drawingml/2006/table">
            <a:tbl>
              <a:tblPr/>
              <a:tblGrid>
                <a:gridCol w="973440"/>
                <a:gridCol w="971280"/>
                <a:gridCol w="973080"/>
                <a:gridCol w="971640"/>
                <a:gridCol w="973080"/>
                <a:gridCol w="971640"/>
                <a:gridCol w="973080"/>
                <a:gridCol w="971640"/>
              </a:tblGrid>
              <a:tr h="517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rtl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an Jo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w Y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Ottaw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u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ttgar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izhny Novgoro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if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eijing, Singapor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oul, Toky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7180FF-8F49-4888-990C-B8653A7DB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F4D17F-C7FE-4760-A844-CF36CFFE9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8C3C6C-0002-42E3-9926-633FD853E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F8D03C-B33E-4A53-A6BE-6857D4AF1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9F0C2F-5D0A-4556-B28C-CDFD6A935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F235393-58FD-4DC4-AC94-C54423B92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362B1D-E58E-4B5F-BF79-A23F3BA41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E7D3D-6165-4098-94A4-18B6F0AA9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202E85-4776-4181-82EC-EAC44EFFB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DA9B0D-9201-4DBE-94A5-AC94EF759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6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DE6B80-E1B9-4060-B7DE-7BC9A6646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Amendment</a:t>
            </a:r>
            <a:endParaRPr b="0" lang="en-US" sz="3200" spc="-1" strike="noStrike">
              <a:solidFill>
                <a:srgbClr val="000000"/>
              </a:solidFill>
              <a:latin typeface="Times New Roman"/>
            </a:endParaRPr>
          </a:p>
        </p:txBody>
      </p:sp>
      <p:sp>
        <p:nvSpPr>
          <p:cNvPr id="7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opt D0.2 (available in members area) as the baseline</a:t>
            </a:r>
            <a:br>
              <a:rPr sz="2000"/>
            </a:br>
            <a:r>
              <a:rPr b="1" lang="en-US" sz="2000" spc="-1" strike="noStrike">
                <a:solidFill>
                  <a:srgbClr val="000000"/>
                </a:solidFill>
                <a:latin typeface="Times New Roman"/>
              </a:rPr>
              <a:t>document for the IEEE 802.11ay draft amendment</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77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71A0FE-A159-4D17-B591-362EAD41F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8:  Draft</a:t>
            </a:r>
            <a:endParaRPr b="0" lang="en-US" sz="3200" spc="-1" strike="noStrike">
              <a:solidFill>
                <a:srgbClr val="000000"/>
              </a:solidFill>
              <a:latin typeface="Times New Roman"/>
            </a:endParaRPr>
          </a:p>
        </p:txBody>
      </p:sp>
      <p:sp>
        <p:nvSpPr>
          <p:cNvPr id="77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perform input bits parsing over the spatial streams on the round robin manner with bits grouping and padding as shown on slides #8, 9 of 11-17-0211-01-00ay?  Specification text is proposed in 11-17-0214-01-00ay 29 5 7 27 Encoding.</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1r1, 17/0214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189B05-14CC-43E4-BF3E-A2B76F8C1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9:  Draft</a:t>
            </a:r>
            <a:endParaRPr b="0" lang="en-US" sz="3200" spc="-1" strike="noStrike">
              <a:solidFill>
                <a:srgbClr val="000000"/>
              </a:solidFill>
              <a:latin typeface="Times New Roman"/>
            </a:endParaRPr>
          </a:p>
        </p:txBody>
      </p:sp>
      <p:sp>
        <p:nvSpPr>
          <p:cNvPr id="78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draft: “The EDMG-TRN subfield for MIMO with NSS &gt; 2 shall be defined as shown on slide #8 of 11-17-0212-01-00ay”?  Specification text is proposed in 11-17-0213-00-00ay 29 9 3 26 9 TRN Subfield Defini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2r1, 17/021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7993E1-7715-46F1-AFD5-AC58F54D2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0:  Draft</a:t>
            </a:r>
            <a:endParaRPr b="0" lang="en-US" sz="3200" spc="-1" strike="noStrike">
              <a:solidFill>
                <a:srgbClr val="000000"/>
              </a:solidFill>
              <a:latin typeface="Times New Roman"/>
            </a:endParaRPr>
          </a:p>
        </p:txBody>
      </p:sp>
      <p:sp>
        <p:nvSpPr>
          <p:cNvPr id="78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truct the editor to incorporate the draft text in the contribution 17/0189r0 into IEEE 802.11ay draft 0.2?</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89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1EBA93-82FB-4CCA-9FAA-6037904EF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1:  Draft</a:t>
            </a:r>
            <a:endParaRPr b="0" lang="en-US" sz="3200" spc="-1" strike="noStrike">
              <a:solidFill>
                <a:srgbClr val="000000"/>
              </a:solidFill>
              <a:latin typeface="Times New Roman"/>
            </a:endParaRPr>
          </a:p>
        </p:txBody>
      </p:sp>
      <p:sp>
        <p:nvSpPr>
          <p:cNvPr id="79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Measurement Request &amp; Report elements as shown in IEEE 802.11-17/0215r2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5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81CB59-6F7B-45B1-88C2-CDEB53BE9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2:  Draft</a:t>
            </a:r>
            <a:endParaRPr b="0" lang="en-US" sz="3200" spc="-1" strike="noStrike">
              <a:solidFill>
                <a:srgbClr val="000000"/>
              </a:solidFill>
              <a:latin typeface="Times New Roman"/>
            </a:endParaRPr>
          </a:p>
        </p:txBody>
      </p:sp>
      <p:sp>
        <p:nvSpPr>
          <p:cNvPr id="7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Spatial Sharing and Interference Mitigation as shown in IEEE 802.11-17/0217r3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7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BDC2F-AE27-4D4A-A663-7D4C881A1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C8930-602D-4A2D-AFE0-F0F639CFF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3:  Draft</a:t>
            </a:r>
            <a:endParaRPr b="0" lang="en-US" sz="3200" spc="-1" strike="noStrike">
              <a:solidFill>
                <a:srgbClr val="000000"/>
              </a:solidFill>
              <a:latin typeface="Times New Roman"/>
            </a:endParaRPr>
          </a:p>
        </p:txBody>
      </p:sp>
      <p:sp>
        <p:nvSpPr>
          <p:cNvPr id="80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7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F2D4C2-8D61-47C8-BA62-9A2D931DA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4:  Draft</a:t>
            </a:r>
            <a:endParaRPr b="0" lang="en-US" sz="3200" spc="-1" strike="noStrike">
              <a:solidFill>
                <a:srgbClr val="000000"/>
              </a:solidFill>
              <a:latin typeface="Times New Roman"/>
            </a:endParaRPr>
          </a:p>
        </p:txBody>
      </p:sp>
      <p:sp>
        <p:nvSpPr>
          <p:cNvPr id="8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8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021808-EABA-4171-952E-66125BF98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5:  Draft</a:t>
            </a:r>
            <a:endParaRPr b="0" lang="en-US" sz="3200" spc="-1" strike="noStrike">
              <a:solidFill>
                <a:srgbClr val="000000"/>
              </a:solidFill>
              <a:latin typeface="Times New Roman"/>
            </a:endParaRPr>
          </a:p>
        </p:txBody>
      </p:sp>
      <p:sp>
        <p:nvSpPr>
          <p:cNvPr id="8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Channel Measurement Feedback element, DMG Beam Refinement element and EDMG Channel Measurement Feedback element as shown in IEEE 802.11-17/0219r2 into the next draft 11ay specification?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9r2, 17/022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F47E52-C362-4818-94EE-787249604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BFDEF1-E4B1-4BB8-952B-028E5BD76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5ADB1E-187D-41F3-9711-B741B5A62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4C579D-108A-4091-9B4C-050A51685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3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BF8078-70AD-40B7-BB31-4194A2D21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DCDD68-1FBD-42CF-AE78-737972AE5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0DF9D6-39F8-4A33-AE98-E15313660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86DC2A-1B21-46FD-8A97-ADA65F2E4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DA7995-69CB-4721-BC64-3A92D1FF3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09865F-D29B-4659-A59D-D29B37A19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3"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B984AB-7A6B-4CAF-A975-0793C9096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7 interim</a:t>
            </a:r>
            <a:endParaRPr b="0" lang="en-US" sz="3200" spc="-1" strike="noStrike">
              <a:solidFill>
                <a:srgbClr val="000000"/>
              </a:solidFill>
              <a:latin typeface="Times New Roman"/>
            </a:endParaRPr>
          </a:p>
        </p:txBody>
      </p:sp>
      <p:sp>
        <p:nvSpPr>
          <p:cNvPr id="8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Draft 0.3</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86483C-B1F8-4F5C-A7DB-412EDBE2C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C0E7AF-72BC-4F30-B71A-D865C636C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7"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6:  TBD</a:t>
            </a:r>
            <a:endParaRPr b="0" lang="en-US" sz="3200" spc="-1" strike="noStrike">
              <a:solidFill>
                <a:srgbClr val="000000"/>
              </a:solidFill>
              <a:latin typeface="Times New Roman"/>
            </a:endParaRPr>
          </a:p>
        </p:txBody>
      </p:sp>
      <p:sp>
        <p:nvSpPr>
          <p:cNvPr id="86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6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DA2D09-2E24-4059-94C7-E42BBBD30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1DB732-353B-491A-9233-E905A8990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387CD6-49B9-4F5F-8EA0-33AD4795A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7</cp:keywords>
  <dc:language>en-US</dc:language>
  <cp:lastModifiedBy>Edward Au</cp:lastModifiedBy>
  <cp:lastPrinted>2014-11-04T15:04:57Z</cp:lastPrinted>
  <dcterms:modified xsi:type="dcterms:W3CDTF">2017-03-13T17:54:35Z</dcterms:modified>
  <cp:revision>4383</cp:revision>
  <dc:subject>Task Group AY November 2015 Meeting Agenda</dc:subject>
  <dc:title>11-17/0187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