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B6611C7-6030-496D-9B9E-41E5A75A9A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A5F7B7-C4DE-45C8-91A8-65C4766D2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54160" y="701640"/>
            <a:ext cx="4626000" cy="3468600"/>
          </a:xfrm>
          <a:prstGeom prst="rect">
            <a:avLst/>
          </a:prstGeom>
          <a:ln w="0">
            <a:noFill/>
          </a:ln>
        </p:spPr>
      </p:sp>
      <p:sp>
        <p:nvSpPr>
          <p:cNvPr id="8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0B206E-0039-4060-B4B5-9A883BE03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6"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EAA8A1-80B8-486F-9070-D21037EA4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44BF1D-D71D-4996-810B-6C722A43C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6"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A97E59-BB48-47A5-B396-9828D0428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4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42"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54F4DE-E3A1-486F-A838-9AC5137D8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9BA45A-980E-4063-BF5B-E7762D4A6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1A9AEE-5854-4A55-99F5-B607B326D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F94F1E-A231-4A3B-AA46-786A39BE9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A0A92C-9FA4-48A0-BB3F-27D04CB30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54160" y="701640"/>
            <a:ext cx="4626000" cy="3468600"/>
          </a:xfrm>
          <a:prstGeom prst="rect">
            <a:avLst/>
          </a:prstGeom>
          <a:ln w="0">
            <a:noFill/>
          </a:ln>
        </p:spPr>
      </p:sp>
      <p:sp>
        <p:nvSpPr>
          <p:cNvPr id="9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41AFDC-3287-4EC6-9636-02D9A2B2B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AB7D34-0D02-4992-A7DF-E9A9E48E6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54160" y="701640"/>
            <a:ext cx="4626000" cy="3468600"/>
          </a:xfrm>
          <a:prstGeom prst="rect">
            <a:avLst/>
          </a:prstGeom>
          <a:ln w="0">
            <a:noFill/>
          </a:ln>
        </p:spPr>
      </p:sp>
      <p:sp>
        <p:nvSpPr>
          <p:cNvPr id="8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CBDB06-FABE-4FB3-993B-2582DCE49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21EBA8-94AF-42B7-A33C-EA95C142A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54160" y="701640"/>
            <a:ext cx="4626000" cy="3468600"/>
          </a:xfrm>
          <a:prstGeom prst="rect">
            <a:avLst/>
          </a:prstGeom>
          <a:ln w="0">
            <a:noFill/>
          </a:ln>
        </p:spPr>
      </p:sp>
      <p:sp>
        <p:nvSpPr>
          <p:cNvPr id="9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9F7F59-5904-4950-B208-C9D2CC15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ED5063-B656-475C-AC5C-801CF60F8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385DAB-1462-4A17-BBAC-E288551EA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54160" y="701640"/>
            <a:ext cx="4626000" cy="3468600"/>
          </a:xfrm>
          <a:prstGeom prst="rect">
            <a:avLst/>
          </a:prstGeom>
          <a:ln w="0">
            <a:noFill/>
          </a:ln>
        </p:spPr>
      </p:sp>
      <p:sp>
        <p:nvSpPr>
          <p:cNvPr id="10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BCBB09-3BF1-4669-AF52-5BA12B4F6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A3A532-E932-4296-A25F-9AA851731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3B599F-C1B3-4282-88B1-6A8EC8F5A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03BBA7-7398-4602-8B2F-3EDC96F08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0EA016-D7D9-4BDF-977E-7EEA1E6CB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B00AB9-6CA6-4F7F-B295-ECD8C8487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951F8C-7E0B-46B5-B115-E61C56250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54160" y="701640"/>
            <a:ext cx="4626000" cy="3468600"/>
          </a:xfrm>
          <a:prstGeom prst="rect">
            <a:avLst/>
          </a:prstGeom>
          <a:ln w="0">
            <a:noFill/>
          </a:ln>
        </p:spPr>
      </p:sp>
      <p:sp>
        <p:nvSpPr>
          <p:cNvPr id="8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7085B3-870B-4F16-8A7C-F0BF76F13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C6F095-7944-4CE9-ADC3-53783DDD1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DCF508-3A22-41C0-ADB2-0153634BB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54160" y="701640"/>
            <a:ext cx="4626000" cy="3468600"/>
          </a:xfrm>
          <a:prstGeom prst="rect">
            <a:avLst/>
          </a:prstGeom>
          <a:ln w="0">
            <a:noFill/>
          </a:ln>
        </p:spPr>
      </p:sp>
      <p:sp>
        <p:nvSpPr>
          <p:cNvPr id="10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B4426B-110E-4086-9666-77CE804AA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C6E74E-8ED5-4505-BD52-CB48A69A2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ACE4F2-B84F-406F-99F2-E1FC4BA5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3D5E7D-2112-4D25-BB8F-692AB5AF4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54160" y="701640"/>
            <a:ext cx="4626000" cy="3468600"/>
          </a:xfrm>
          <a:prstGeom prst="rect">
            <a:avLst/>
          </a:prstGeom>
          <a:ln w="0">
            <a:noFill/>
          </a:ln>
        </p:spPr>
      </p:sp>
      <p:sp>
        <p:nvSpPr>
          <p:cNvPr id="10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5C13B5-EE16-422C-BB3C-492B7D164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9ABE99-C17A-462E-ADE1-50D8611EE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7BF2C8-6013-4788-B930-700E2737E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4"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5"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89EDC11-C34B-47EF-8A5C-80EC1DA483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7680" y="696960"/>
            <a:ext cx="4640400" cy="3479760"/>
          </a:xfrm>
          <a:prstGeom prst="rect">
            <a:avLst/>
          </a:prstGeom>
          <a:ln w="0">
            <a:noFill/>
          </a:ln>
        </p:spPr>
      </p:sp>
      <p:sp>
        <p:nvSpPr>
          <p:cNvPr id="89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FE411B-6DD4-4B20-8D9D-2024BC67A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6A24C9-D2FC-4AAC-9C68-4F9669A7E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FEA1F9-208E-49E0-96BE-4A5C82138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154160" y="701640"/>
            <a:ext cx="4626000" cy="3468600"/>
          </a:xfrm>
          <a:prstGeom prst="rect">
            <a:avLst/>
          </a:prstGeom>
          <a:ln w="0">
            <a:noFill/>
          </a:ln>
        </p:spPr>
      </p:sp>
      <p:sp>
        <p:nvSpPr>
          <p:cNvPr id="11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5C11EE-9C2D-4C38-BC91-DE74F61B6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CBD605-0998-4768-9C40-597E889D3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D31F8C-2E4E-49D4-AFCA-4C8D44270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0FC3DA-269E-4057-91F2-880846DC2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8B9BA9-8C43-477A-A69A-6B91186A4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4160" y="701640"/>
            <a:ext cx="4626000" cy="3468600"/>
          </a:xfrm>
          <a:prstGeom prst="rect">
            <a:avLst/>
          </a:prstGeom>
          <a:ln w="0">
            <a:noFill/>
          </a:ln>
        </p:spPr>
      </p:sp>
      <p:sp>
        <p:nvSpPr>
          <p:cNvPr id="1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B0C683-37AD-49A3-84B3-0A1C4DA96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E76792-2DE9-4271-8044-8AADB33B1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9E7E262-1361-4522-BD9F-9E79325CC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54160" y="701640"/>
            <a:ext cx="4626000" cy="3468600"/>
          </a:xfrm>
          <a:prstGeom prst="rect">
            <a:avLst/>
          </a:prstGeom>
          <a:ln w="0">
            <a:noFill/>
          </a:ln>
        </p:spPr>
      </p:sp>
      <p:sp>
        <p:nvSpPr>
          <p:cNvPr id="9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2F0F27-8D90-40BF-8E3D-FD82019BE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DF2541-7D8C-4AB0-9B15-489B2F172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5160F6-A579-4651-A200-0500F3086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54160" y="701640"/>
            <a:ext cx="4626000" cy="3468600"/>
          </a:xfrm>
          <a:prstGeom prst="rect">
            <a:avLst/>
          </a:prstGeom>
          <a:ln w="0">
            <a:noFill/>
          </a:ln>
        </p:spPr>
      </p:sp>
      <p:sp>
        <p:nvSpPr>
          <p:cNvPr id="11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4DC9F1-E9E1-42CC-B281-45FF50CF2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4DCB05-D1D9-4F72-BAAF-CB6FB14E3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B6332C-4250-4C70-B549-1269D3CCE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07A274-B5BB-4307-AC6F-8DCA6F892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54160" y="701640"/>
            <a:ext cx="4626000" cy="3468600"/>
          </a:xfrm>
          <a:prstGeom prst="rect">
            <a:avLst/>
          </a:prstGeom>
          <a:ln w="0">
            <a:noFill/>
          </a:ln>
        </p:spPr>
      </p:sp>
      <p:sp>
        <p:nvSpPr>
          <p:cNvPr id="1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75FC08-5713-4160-812F-73CE7B96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54160" y="701640"/>
            <a:ext cx="4626000" cy="3468600"/>
          </a:xfrm>
          <a:prstGeom prst="rect">
            <a:avLst/>
          </a:prstGeom>
          <a:ln w="0">
            <a:noFill/>
          </a:ln>
        </p:spPr>
      </p:sp>
      <p:sp>
        <p:nvSpPr>
          <p:cNvPr id="1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9779E2-023C-4F0D-AA15-A7385D476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54160" y="701640"/>
            <a:ext cx="4626000" cy="3468600"/>
          </a:xfrm>
          <a:prstGeom prst="rect">
            <a:avLst/>
          </a:prstGeom>
          <a:ln w="0">
            <a:noFill/>
          </a:ln>
        </p:spPr>
      </p:sp>
      <p:sp>
        <p:nvSpPr>
          <p:cNvPr id="1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ED28A1-C001-4C72-AD59-FE4083D8D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AF13CE2-AEA1-4204-B50D-4B5D27909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922ABF-0AB4-48DC-A76B-73FF3F4DE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54160" y="701640"/>
            <a:ext cx="4626000" cy="3468600"/>
          </a:xfrm>
          <a:prstGeom prst="rect">
            <a:avLst/>
          </a:prstGeom>
          <a:ln w="0">
            <a:noFill/>
          </a:ln>
        </p:spPr>
      </p:sp>
      <p:sp>
        <p:nvSpPr>
          <p:cNvPr id="1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8A82F5-7B00-4573-B43C-75DC25979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54160" y="701640"/>
            <a:ext cx="4626000" cy="3468600"/>
          </a:xfrm>
          <a:prstGeom prst="rect">
            <a:avLst/>
          </a:prstGeom>
          <a:ln w="0">
            <a:noFill/>
          </a:ln>
        </p:spPr>
      </p:sp>
      <p:sp>
        <p:nvSpPr>
          <p:cNvPr id="12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71FB00-FC90-46E6-84D9-7B9C330A4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C459AF-A908-4914-9BED-8F04387CF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54160" y="701640"/>
            <a:ext cx="4626000" cy="3468600"/>
          </a:xfrm>
          <a:prstGeom prst="rect">
            <a:avLst/>
          </a:prstGeom>
          <a:ln w="0">
            <a:noFill/>
          </a:ln>
        </p:spPr>
      </p:sp>
      <p:sp>
        <p:nvSpPr>
          <p:cNvPr id="12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9AAB03-61FE-4C01-92BC-D8FB0F541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E6C17E5-DB82-4392-8E22-4E1E6ACA4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54160" y="701640"/>
            <a:ext cx="4626000" cy="3468600"/>
          </a:xfrm>
          <a:prstGeom prst="rect">
            <a:avLst/>
          </a:prstGeom>
          <a:ln w="0">
            <a:noFill/>
          </a:ln>
        </p:spPr>
      </p:sp>
      <p:sp>
        <p:nvSpPr>
          <p:cNvPr id="9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1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6E7F74-09F3-41F6-AEA2-ED590E899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54160" y="701640"/>
            <a:ext cx="4626000" cy="3468600"/>
          </a:xfrm>
          <a:prstGeom prst="rect">
            <a:avLst/>
          </a:prstGeom>
          <a:ln w="0">
            <a:noFill/>
          </a:ln>
        </p:spPr>
      </p:sp>
      <p:sp>
        <p:nvSpPr>
          <p:cNvPr id="91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47911F-94C8-4F83-8BA2-949B3CD1E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9A550-368C-4718-B313-86FC2AB4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BE63-92F8-44AB-AB06-69C90E61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4748A4-3EA5-4FFE-A266-772D7210F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EC61C5-DB30-4EE3-96FB-6757C502F4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1FF46-4114-4AE9-89DD-4656511A7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44B3FA-E795-4CAD-81BB-FB5A6DE18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6CE16-AB1B-40E2-97A4-D843C30E87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03F65-10F4-439C-880B-C518CE6FB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9117F-003C-4C72-8045-1DA7095B72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9653A6-9F2C-4F14-9DEE-AB9D905CEA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07053A-4AE6-46B9-9D13-FD011021CA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D9AD3A-59D2-4EC0-B414-4A444E5047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3974-28DE-4FCA-ACA9-60050CB2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7C3C16-8CAE-4FCE-A952-FEFEAA0313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3A8110-898F-4E6E-96A0-37A2583088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8E5DE8-4EA3-4C73-97D3-14DFAFE2A1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ED7C99-BFE7-413C-A74E-1BEF0CB6CF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F757A7-D517-4EA9-8B0B-7E23EABADE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A21E7E-E85D-4F41-9126-60A871C508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638019-2F4F-40D6-BA32-9A97B1433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CD73D-2B7C-4BED-92A7-4D1596BBFE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50D2EB-2F63-49B8-828E-174E5ADD3D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28E950-3848-4CFA-A50C-12606FB076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F975-ED75-4BBD-AF9B-66AAA53C2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457D8A-E87B-4717-86BE-6981C636C4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36E79D-584D-4536-B9E0-B767C9BB31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DB066C-2E5E-4EDE-BA7F-AF5B160F43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34B15F-EB51-43B7-A284-8A9E5D8A9C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FA13D0-AD95-4101-B005-4EC73A2E77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8E703B-E677-464A-B8D6-EE47661CF2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E0B752-B166-4590-BA31-763A6DF763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04C067-FA55-4A7E-8CD9-04ECA2F95B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CE0051-5264-455F-AB9A-CFCA2368E3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71431-ECCF-4762-898D-FB4C7BDB6E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41247-BBF4-4075-95FA-3E1A10374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8FD238-FA7F-43BD-8464-B47A865495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5BE9E0-0CAA-49D4-A2FA-35820BB229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CC1A1A-76B8-4739-9889-28D7B940C3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6FEA6D-A85C-4936-9ED6-09C81F098E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D1B011-BA12-4F81-AA4C-B34A55C398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76205A-BC14-4519-BEDD-566A6D914C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DE057F-D65F-4A4A-898D-91762DA803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0DC752-3C9E-48AD-A07B-4CEBA93DA7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3E4DCC-0C3D-4E10-80AF-95A9666A27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07A925-0D64-438E-8B4F-EDB37C288D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A9C01-36BB-46F7-8AC3-8F3D0CC2F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6B9826-A883-4ED9-83A0-FCC54E373B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26B1A-EB48-4E83-8569-F93C38F1A0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08E1D4-66F8-4F32-808E-0AFFC0CBF2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8FF24F-2E0E-48AC-A556-BE4DFD3A8D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276B00-613C-4655-93DF-D3E3BCB485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E55AE-84CA-4E04-B779-476AD363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AB3D5-C160-4F3E-A4D6-F1B6F8E36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F096E-4FC4-4DBB-9671-46D80AEBF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D4FBB-CE73-4EB8-B600-1EEF8E44F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E246-2C32-4106-8438-BF99C0997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107AE-12D7-4D22-AC0F-A9C3D42B1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E054A-4049-41F6-8ACC-F5933AD9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FB2D3-9273-4C4E-A38A-8742D77B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D3D20-F913-4908-B160-1738B400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885CC-0073-4C9A-A882-3464793BC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F4F20-18DC-4A72-BB76-4A42E5B7E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886D98-BFC9-4E6B-9A69-49258C9761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A642A-A4D6-4848-A2D1-A09200AE4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7E010-FFDF-4566-A3C0-8B1DFF82B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76D47C-274F-44A0-A56C-ECED93311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76892-4DAE-4FE7-8571-68084942B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1A647-B875-4FE1-8E0F-64F4256E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372A0-2165-48EF-A6C9-34179D410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26053-8453-4179-82B9-8829A7EFB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B9E1E-D52A-4C68-A782-A656EDE26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9E6FB-0DC7-451B-9EAB-BA4CF28A8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D8111-246C-4808-B3AC-9E7E5411B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EEFAAA-A95A-4FD1-B9A7-A859E360A4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D6AF7-59E9-4FA6-8F94-07870A649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ACC51-A40B-4212-8D6F-2C59B8817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43A7E-BBA7-46CF-8ACF-89F0F6271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DF200-5BBB-492A-B386-5AB9F875E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B8E44-8869-4BF1-B849-E74BB170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00777-FC78-4B08-B2AD-E662E9474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8A96B-F08C-4FCF-AE00-5A05602EE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0E5F7-D93E-4EAB-A1D2-DF1A6E3F08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5F28D-F133-4AB2-BA2A-AF6D85020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14EE2-4CA8-4E86-B358-02AFD026C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70F85-3537-47A1-9B44-4EF6A2176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66D7B-0E03-49F0-ABED-35C8562AD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0C8A8-AF04-4E7A-8437-631C149C3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291D8-7043-4F8C-98D9-81E41DE319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99CE11-9C8A-41C3-95C7-1D1BE4D982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49BD6-C876-4EE5-B520-A4420393A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AF6FB-A1F8-439E-AF94-7B8359F9B8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88C38-3D24-4379-8FB1-061469E6D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DE594-C39F-41AD-8372-1E6590429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CAA3E-3FB9-4932-A522-E588A0E64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AEF3E-B0AB-4CB9-AAA1-7437F27BF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2F08A-A2F8-4089-9A7B-E11AEB80D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F0F7C-993A-4788-9A09-A981C46D3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2039E-9657-4734-B665-64E359841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70DB5E-75ED-4335-A824-894D9F7DB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7D25D3-7ECD-41D4-817B-DADDDB8C74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A28C-267D-4E83-87DF-401D35B7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6407AA-AA79-4B6C-8822-72CFF7B6E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34C765-A791-4A9F-9246-F1C07DB982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FF66A-1995-47F9-867D-C41A07EFA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D5355-43E6-46A8-A4F0-C0B4D7B3CB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AA970-A27D-4F57-BF05-A4843330D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E4BF35-7847-4080-BA87-948AF2564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E726A-19D1-4501-AE05-2656DF10B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A7B02-AA66-43D7-81BF-607BDCB99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DB063-3305-49E9-B853-964625262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D5D93-11AA-43A7-B47A-B11B6E3D8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0DFBC-C10D-4FD8-B573-89E8EB2B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81705-4E18-43AB-AC97-00F42287AE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B54FC9-A8CF-410C-A6C3-4DF6FAA150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1A76DC-730D-42C9-9120-A6995CAB92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A81F41-333F-45BC-80D9-80317BF9F7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D0D7C-FB8C-4917-A07E-8B3BC6C17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EFE04D-1273-41AA-B54B-AE72655A0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040451-90C9-4191-AAA8-BBF69F56AA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6CE1D-05FE-4112-8D45-03CE69CA3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3E4024-7A11-4E88-BE28-E2255CE8C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D4D92-C543-42A1-8FD3-3C126F624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87DC0-4312-4F25-9EFA-546DF68E6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89196-666F-4CE3-9180-2AC49CF95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6AA1B-C5C8-4CE9-BAEF-20CBAC3CD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578E1-9130-49FF-9B0E-66CE66EC94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AFA9C2-BE97-420C-88FB-2C465110F5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F13B69-E8C0-49A4-BF86-FF47D71C8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28814F-9798-404F-95A6-02599ABCE6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FC3AC-BBB1-4A37-BD26-4AA36FB1C0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A13C5-E370-4CBA-AC01-960C60C163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96C18-6775-4588-AE10-A59C0F9E5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B8AE6-001E-4E6C-8C32-A91B91AE4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B453-BA09-4C8B-9094-E664D365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4BBCD-284B-458C-ADF5-4A0312D17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ADD0A-5AB1-484C-B9C4-7473822F8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1BBE4-EBF3-454A-97B2-D9AE16969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431CE-DAEA-4BA7-B798-013416E8D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BAE37F-619D-4DF0-A141-3A7BADFE9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CA8A8-6D80-496E-9C4E-DEDAD021A8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F0EF04-D298-411A-862A-3A4378C6ED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AA8545-6F24-4858-8E66-1583CBE3B1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E3DA0-6311-4854-826C-491D2DC21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0890B6-EB8B-44DE-A166-CFB53DAC5D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FB9F8D-DE66-4876-9536-DB71B68B86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A717C6-1E72-4BEB-B69E-14B3B41D66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17FC07-FA5A-492D-BA8B-D7C1EF0351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43BD17-034B-485E-B077-B609A64EF7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26D24E-A768-48E7-B7A8-E591233DA5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929D54D-3132-488C-86EF-13EDE8B3BD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3C4130-DAE0-4113-94A7-51F2850D2A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10E3D84-5670-43B8-A0AB-82871F5053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F60302F-16EA-4322-B020-16181B1B00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6F7500-39BD-466D-A15C-15F5B8FEA3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84E3467-2247-4DF2-8D0E-4E5C0FCEBC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66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3399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51B9391-1121-4CD2-BC6D-49E54B0EC7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6/11-16-1556-00-00ay-tg-ay-november-2016-san-antonio-meeting-minutes.docx" TargetMode="External"/><Relationship Id="rId2" Type="http://schemas.openxmlformats.org/officeDocument/2006/relationships/hyperlink" Target="https://mentor.ieee.org/802.11/dcn/16/11-16-1556-00-00ay-tg-ay-november-2016-san-antonio-meeting-minutes.docx" TargetMode="External"/><Relationship Id="rId3" Type="http://schemas.openxmlformats.org/officeDocument/2006/relationships/hyperlink" Target="https://mentor.ieee.org/802.11/dcn/16/11-16-1556-00-00ay-tg-ay-november-2016-san-antonio-meeting-minutes.docx" TargetMode="External"/><Relationship Id="rId4" Type="http://schemas.openxmlformats.org/officeDocument/2006/relationships/hyperlink" Target="https://mentor.ieee.org/802.11/dcn/17/11-17-0009-00-00ay-tg-ay-january-4-2017-conference-call-meeting-minutes.docx" TargetMode="External"/><Relationship Id="rId5" Type="http://schemas.openxmlformats.org/officeDocument/2006/relationships/hyperlink" Target="https://mentor.ieee.org/802.11/dcn/17/11-17-0009-00-00ay-tg-ay-january-4-2017-conference-call-meeting-minutes.docx" TargetMode="External"/><Relationship Id="rId6" Type="http://schemas.openxmlformats.org/officeDocument/2006/relationships/hyperlink" Target="https://mentor.ieee.org/802.11/dcn/17/11-17-0009-00-00ay-tg-ay-january-4-2017-conference-call-meeting-minutes.docx" TargetMode="External"/><Relationship Id="rId7" Type="http://schemas.openxmlformats.org/officeDocument/2006/relationships/slideLayout" Target="../slideLayouts/slideLayout2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EE7986-7B25-48DD-8AA1-EE84876A0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January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1-15</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93D00B-BEF7-40BF-B5B3-2DF45329A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39EF88-AC1B-4E70-9073-0C526B356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882E5-5453-43B4-9C63-BDE0BC190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16"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319236-21B4-4400-A1D9-E0D566838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20" name=""/>
          <p:cNvGraphicFramePr/>
          <p:nvPr/>
        </p:nvGraphicFramePr>
        <p:xfrm>
          <a:off x="762120" y="1752480"/>
          <a:ext cx="7543800" cy="4199040"/>
        </p:xfrm>
        <a:graphic>
          <a:graphicData uri="http://schemas.openxmlformats.org/drawingml/2006/table">
            <a:tbl>
              <a:tblPr/>
              <a:tblGrid>
                <a:gridCol w="904680"/>
                <a:gridCol w="1282680"/>
                <a:gridCol w="1393920"/>
                <a:gridCol w="1295280"/>
                <a:gridCol w="1371600"/>
                <a:gridCol w="129564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1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zalea,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 Ballroom II, Lower Lobb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59B1DE-D3BD-4177-B57D-9EC5F376C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CB63F5-09E0-40DB-9D28-9555A8E27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D209AD-AEC0-40B5-81F8-BEC8CBC58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November 2016 plenary and January-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 cal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78FB31-0848-4770-8184-B15135C57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November 2016 plenary</a:t>
            </a:r>
            <a:endParaRPr b="0" lang="en-US" sz="3200" spc="-1" strike="noStrike">
              <a:solidFill>
                <a:srgbClr val="000000"/>
              </a:solidFill>
              <a:latin typeface="Times New Roman"/>
            </a:endParaRPr>
          </a:p>
        </p:txBody>
      </p:sp>
      <p:sp>
        <p:nvSpPr>
          <p:cNvPr id="63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timeline was upd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lay D0.1 and D1.0 by 2 months</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Keep D2.0 and amendment completion the same</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E385F6-BF1A-46D3-A789-76E9802CB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4 teleconference</a:t>
            </a:r>
            <a:endParaRPr b="0" lang="en-US" sz="3200" spc="-1" strike="noStrike">
              <a:solidFill>
                <a:srgbClr val="000000"/>
              </a:solidFill>
              <a:latin typeface="Times New Roman"/>
            </a:endParaRPr>
          </a:p>
        </p:txBody>
      </p:sp>
      <p:sp>
        <p:nvSpPr>
          <p:cNvPr id="644"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ubmission was covered</a:t>
            </a:r>
            <a:endParaRPr b="0" lang="en-US" sz="2400" spc="-1" strike="noStrike">
              <a:solidFill>
                <a:srgbClr val="000000"/>
              </a:solidFill>
              <a:latin typeface="Times New Roman"/>
            </a:endParaRPr>
          </a:p>
          <a:p>
            <a:pPr lvl="1" marL="8002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16/1571r0:  </a:t>
            </a:r>
            <a:r>
              <a:rPr b="0" lang="en-US" sz="2000" spc="-1" strike="noStrike">
                <a:solidFill>
                  <a:srgbClr val="000000"/>
                </a:solidFill>
                <a:latin typeface="Times New Roman"/>
                <a:ea typeface="MS PGothic"/>
              </a:rPr>
              <a:t>Fast BSS discovery (Gaius Wee)</a:t>
            </a:r>
            <a:endParaRPr b="0" lang="en-US" sz="2000" spc="-1" strike="noStrike">
              <a:solidFill>
                <a:srgbClr val="000000"/>
              </a:solidFill>
              <a:latin typeface="Times New Roman"/>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3FD61B-2D48-4C2E-B4A4-F16B88B29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16/11 plenary and 2017/01/04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November 2016 plenary and the teleconference call on January 4, 2017:</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556-00-00ay-tg-ay-november-2016-san-antonio-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a:t>
            </a:r>
            <a:r>
              <a:rPr b="0" lang="en-US" sz="2000" spc="-1" strike="noStrike" u="sng">
                <a:solidFill>
                  <a:srgbClr val="0066ff"/>
                </a:solidFill>
                <a:uFillTx/>
                <a:latin typeface="Times New Roman"/>
                <a:hlinkClick r:id="rId5"/>
              </a:rPr>
              <a:t>://</a:t>
            </a:r>
            <a:r>
              <a:rPr b="0" lang="en-US" sz="2000" spc="-1" strike="noStrike" u="sng">
                <a:solidFill>
                  <a:srgbClr val="0066ff"/>
                </a:solidFill>
                <a:uFillTx/>
                <a:latin typeface="Times New Roman"/>
                <a:hlinkClick r:id="rId6"/>
              </a:rPr>
              <a:t>mentor.ieee.org/802.11/dcn/17/11-17-0009-00-00ay-tg-ay-january-4-2017-conference-call-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eorge Calc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tlanta, Georgia,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15 - 20,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9A0202-2796-408B-9265-EE99F175C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8FD603-904A-40CC-9E00-2D0E25586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graphicFrame>
        <p:nvGraphicFramePr>
          <p:cNvPr id="655"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3650FF-F7F6-4256-B6A5-140660BF1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1)</a:t>
            </a:r>
            <a:endParaRPr b="0" lang="en-US" sz="3200" spc="-1" strike="noStrike">
              <a:solidFill>
                <a:srgbClr val="000000"/>
              </a:solidFill>
              <a:latin typeface="Times New Roman"/>
            </a:endParaRPr>
          </a:p>
        </p:txBody>
      </p:sp>
      <p:sp>
        <p:nvSpPr>
          <p:cNvPr id="65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4 EDMG Extended Schedule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09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Spatial sharing and interference mitig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SU 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 &amp; 3.4_Frames related to SU &amp;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 PPDU duration constrai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ungtae J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3 Measurement Request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2 pre-EDMG Modulated Fields Transmiss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A776C-0A1B-4DB3-AEA0-159276899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2)</a:t>
            </a:r>
            <a:endParaRPr b="0" lang="en-US" sz="3200" spc="-1" strike="noStrike">
              <a:solidFill>
                <a:srgbClr val="000000"/>
              </a:solidFill>
              <a:latin typeface="Times New Roman"/>
            </a:endParaRPr>
          </a:p>
        </p:txBody>
      </p:sp>
      <p:sp>
        <p:nvSpPr>
          <p:cNvPr id="66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6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 RD protoco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5 6 3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8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3.9.1 RD protocol for EDMG DL M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3 3 3 3 EDMG-Header-A encoding and modul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4 MIMO channel acces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 Phase hopp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DMG A-PDU ope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96D36B-DC2D-4B52-9BB2-F8DE8B236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3)</a:t>
            </a:r>
            <a:endParaRPr b="0" lang="en-US" sz="3200" spc="-1" strike="noStrike">
              <a:solidFill>
                <a:srgbClr val="000000"/>
              </a:solidFill>
              <a:latin typeface="Times New Roman"/>
            </a:endParaRPr>
          </a:p>
        </p:txBody>
      </p:sp>
      <p:sp>
        <p:nvSpPr>
          <p:cNvPr id="66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1"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2.2 EDMG A-PPDU forma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8 Multirate suppor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5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3.7 Block Acknowledgement v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2_5_Scalable Beamforming Train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W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_3_4_MU-mimo-for-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74E2F7-680E-4240-90C8-D810239E2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4)</a:t>
            </a:r>
            <a:endParaRPr b="0" lang="en-US" sz="3200" spc="-1" strike="noStrike">
              <a:solidFill>
                <a:srgbClr val="000000"/>
              </a:solidFill>
              <a:latin typeface="Times New Roman"/>
            </a:endParaRPr>
          </a:p>
        </p:txBody>
      </p:sp>
      <p:sp>
        <p:nvSpPr>
          <p:cNvPr id="6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6" name=""/>
          <p:cNvGraphicFramePr/>
          <p:nvPr/>
        </p:nvGraphicFramePr>
        <p:xfrm>
          <a:off x="685800" y="1676520"/>
          <a:ext cx="7772400" cy="421632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4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 9 2 Beam refin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 EDMG Operation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g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3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1 Block Ack 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 Channel Acces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n X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1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6F6913-3BDC-4B0B-8744-95E8E1275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mendment text submission (5)</a:t>
            </a:r>
            <a:endParaRPr b="0" lang="en-US" sz="3200" spc="-1" strike="noStrike">
              <a:solidFill>
                <a:srgbClr val="000000"/>
              </a:solidFill>
              <a:latin typeface="Times New Roman"/>
            </a:endParaRPr>
          </a:p>
        </p:txBody>
      </p:sp>
      <p:sp>
        <p:nvSpPr>
          <p:cNvPr id="67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1" name=""/>
          <p:cNvGraphicFramePr/>
          <p:nvPr/>
        </p:nvGraphicFramePr>
        <p:xfrm>
          <a:off x="685800" y="1676520"/>
          <a:ext cx="7772400" cy="4206600"/>
        </p:xfrm>
        <a:graphic>
          <a:graphicData uri="http://schemas.openxmlformats.org/drawingml/2006/table">
            <a:tbl>
              <a:tblPr/>
              <a:tblGrid>
                <a:gridCol w="1190520"/>
                <a:gridCol w="2108160"/>
                <a:gridCol w="4473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rresponding Auth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vian Li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hannel Measurement Feedback ele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42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 to cover SFD 6.5.6.4.2 Dual carrier modulation (DCM) SQPS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13 A-MPDU Operation 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ius We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xt related to Fast BSS Discove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 Short SSW packe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 text for SFD 3.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tive text for EDMG FA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E69EF6-74E9-431C-A9D0-D1B51BFE4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A80531-086A-4FB8-94EE-D37F3B393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8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196511-4FE4-47D4-9308-7B3005395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19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n Kede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Width selection within TXO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CEF Extension for SC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ngjin Par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y Short SSW Feedback &amp; Ack</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for A-BF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inmin K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for 11ay Spatial Shar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Evaluation of </a:t>
                      </a:r>
                      <a:br>
                        <a:rPr sz="1400"/>
                      </a:br>
                      <a:r>
                        <a:rPr b="0" lang="en-US" sz="1400" spc="-1" strike="noStrike">
                          <a:solidFill>
                            <a:srgbClr val="000000"/>
                          </a:solidFill>
                          <a:latin typeface="Times New Roman"/>
                        </a:rPr>
                        <a:t>Multi-DFT-spread 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8B6D3C-20AD-42C3-9FD0-B319EE04A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9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 Sector Sweep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TX Mask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 Hanse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EDMG Capabiliti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SSW frame with optimized addressing schem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 Indoor Scenario for 11ay Channel Model</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103E85-C249-4C64-B8FC-32D18EBD3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Januar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E347F8-9448-46B8-AF1E-0D5FBC65C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 Definition for EDMG Control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Open Loop Spatial Multiplexing in SU-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na Ciochi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Capabilities for Non-Uniform Constellation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UL Training Protocol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2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Ansle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 between Simulated and Measured Results for a Residential Sett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4A64E8-DA74-4352-9372-8C9F2108D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0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hanced SLS BF flow for efficient AP-STA access in dense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4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shi Man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S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 (Co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Optimization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02B582-D6A0-4279-9F74-EB59084C3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15"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rch 2017 plenary</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D296F0-6A1F-4A56-BE23-EB00B80A5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720"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7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22" name="TextBox 9"/>
          <p:cNvSpPr/>
          <p:nvPr/>
        </p:nvSpPr>
        <p:spPr>
          <a:xfrm>
            <a:off x="38455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723" name="Straight Arrow Connector 9"/>
          <p:cNvCxnSpPr/>
          <p:nvPr/>
        </p:nvCxnSpPr>
        <p:spPr>
          <a:xfrm flipV="1">
            <a:off x="4723920" y="4723560"/>
            <a:ext cx="1080" cy="986760"/>
          </a:xfrm>
          <a:prstGeom prst="straightConnector1">
            <a:avLst/>
          </a:prstGeom>
          <a:ln w="25560">
            <a:solidFill>
              <a:srgbClr val="000000"/>
            </a:solidFill>
            <a:miter/>
            <a:tailEnd len="med" type="arrow" w="med"/>
          </a:ln>
        </p:spPr>
      </p:cxnSp>
      <p:sp>
        <p:nvSpPr>
          <p:cNvPr id="7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725"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0921E3-48C8-45DD-ABD1-D56730B67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593190-6430-4FFC-947C-0AC88CEE7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5"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56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llocations over multiple channel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clic extension of TRN subfiel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0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royuki Motozuk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Header spoofing for EDMG SC PPD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AM2, 3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61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o Wu</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PHY Header-A for DCM SQPSK Over Two Channel Aggregation in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85EC98-19B6-484B-A9B3-E7D5EE63D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84D1A8-1BCE-4035-8877-102AC51C6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0D645B-B1E1-4D54-BEE0-91CB7B810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4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49"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63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TRN Subfields Definition for SC PH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5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07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Field Structure Defini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51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nori Sakamoto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A-PPDU for 11ay SC mod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4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40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76BAAD-48C8-47B0-B976-538DFAE07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9FCCEEA-DA5B-4471-BB9A-A3F7A5464B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41277A-5544-4609-8520-966279E76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BD90CD-6F6F-4104-A8D2-BE881AE55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36341F-95BA-40C7-84B2-C67E507D2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3383B1-4E85-4D40-AE9A-B235B6EA3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7FC279-49B9-41DF-90B2-C02E1C775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EB4A0E-C4E2-49CA-855F-3CF41F9E4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5C1161-C952-48DA-B937-23E1C0C74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2"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7 plenary</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BC5AD8-0241-4E70-BFF7-C5B9E996F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8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8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A0B992-6533-43E5-A231-E935229A2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3:  SFD</a:t>
            </a:r>
            <a:endParaRPr b="0" lang="en-US" sz="3200" spc="-1" strike="noStrike">
              <a:solidFill>
                <a:srgbClr val="000000"/>
              </a:solidFill>
              <a:latin typeface="Times New Roman"/>
            </a:endParaRPr>
          </a:p>
        </p:txBody>
      </p:sp>
      <p:sp>
        <p:nvSpPr>
          <p:cNvPr id="79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transmitted DMG Beacon frames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Setting the Quasi-omni TX subfield to one in transmitted DMG Beacon frames to indicate the potential for discovery based on quasi-omni transmissio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transmitted DMG Beacon frames</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DMG Beacon frame that has the Quasi-omni TX subfield equal to one.”</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79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556C21-0C3F-474B-9C7D-61FAE412D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4:  SFD</a:t>
            </a:r>
            <a:endParaRPr b="0" lang="en-US" sz="3200" spc="-1" strike="noStrike">
              <a:solidFill>
                <a:srgbClr val="000000"/>
              </a:solidFill>
              <a:latin typeface="Times New Roman"/>
            </a:endParaRPr>
          </a:p>
        </p:txBody>
      </p:sp>
      <p:sp>
        <p:nvSpPr>
          <p:cNvPr id="79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imes New Roman"/>
              </a:rPr>
              <a:t>Do you agree to insert the following in section 4 of the SFD:</a:t>
            </a:r>
            <a:br>
              <a:rPr sz="1800"/>
            </a:br>
            <a:r>
              <a:rPr b="1" lang="en-SG" sz="1800" spc="-1" strike="noStrike">
                <a:solidFill>
                  <a:srgbClr val="000000"/>
                </a:solidFill>
                <a:latin typeface="Times New Roman"/>
              </a:rPr>
              <a:t>“The 11ay specification shall enable BSS discovery through Probe Request based on:</a:t>
            </a:r>
            <a:endParaRPr b="0" lang="en-US" sz="18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Appending TRN-R subfields to a Probe Request frame transmitted with quasi-omni antenna pattern</a:t>
            </a:r>
            <a:endParaRPr b="0" lang="en-US" sz="1600" spc="-1" strike="noStrike">
              <a:solidFill>
                <a:srgbClr val="000000"/>
              </a:solidFill>
              <a:latin typeface="Times New Roman"/>
            </a:endParaRPr>
          </a:p>
          <a:p>
            <a:pPr lvl="1" marL="457200" indent="1825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000000"/>
                </a:solidFill>
                <a:latin typeface="Times New Roman"/>
              </a:rPr>
              <a:t>Transmit antenna training by an EDMG STA based on TRN-R subfields appended to a received Probe Request frame transmitted with a quasi-omni antenna pattern.”</a:t>
            </a:r>
            <a:endParaRPr b="0" lang="en-US" sz="1600" spc="-1" strike="noStrike">
              <a:solidFill>
                <a:srgbClr val="000000"/>
              </a:solidFill>
              <a:latin typeface="Times New Roman"/>
            </a:endParaRPr>
          </a:p>
          <a:p>
            <a:pPr lvl="1" marL="457200" indent="182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6/1571r0</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7 Yes, 0 No, 0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Lei Huang</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79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79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A33114-9811-4C22-AB96-A224A378E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5FB864-D16B-4895-9E0F-8FC8CF27B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5:  SFD</a:t>
            </a:r>
            <a:endParaRPr b="0" lang="en-US" sz="3200" spc="-1" strike="noStrike">
              <a:solidFill>
                <a:srgbClr val="000000"/>
              </a:solidFill>
              <a:latin typeface="Times New Roman"/>
            </a:endParaRPr>
          </a:p>
        </p:txBody>
      </p:sp>
      <p:sp>
        <p:nvSpPr>
          <p:cNvPr id="80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allocation that does not include the primary channel, its allocation information shall be completely and only included in the EDMG Extended Schedule elemen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11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0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91D9C1-1F06-47E0-9EE7-6AEBF8695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6:  SFD</a:t>
            </a:r>
            <a:endParaRPr b="0" lang="en-US" sz="3200" spc="-1" strike="noStrike">
              <a:solidFill>
                <a:srgbClr val="000000"/>
              </a:solidFill>
              <a:latin typeface="Times New Roman"/>
            </a:endParaRPr>
          </a:p>
        </p:txBody>
      </p:sp>
      <p:sp>
        <p:nvSpPr>
          <p:cNvPr id="8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ext into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cheduling Type subfield shall be added into each Channel Allocation field of the EDMG Extended Schedule element to indicate whether an allocation is based on incremental signaling or complete signaling</a:t>
            </a:r>
            <a:r>
              <a:rPr b="0" lang="en-SG"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6/156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1 Yes, 0 No, 13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0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EF6ED5-6A82-49A1-815B-19D718CF9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7:  SFD</a:t>
            </a:r>
            <a:endParaRPr b="0" lang="en-US" sz="3200" spc="-1" strike="noStrike">
              <a:solidFill>
                <a:srgbClr val="000000"/>
              </a:solidFill>
              <a:latin typeface="Times New Roman"/>
            </a:endParaRPr>
          </a:p>
        </p:txBody>
      </p:sp>
      <p:pic>
        <p:nvPicPr>
          <p:cNvPr id="811" name="Rectangle 3" descr=""/>
          <p:cNvPicPr/>
          <p:nvPr/>
        </p:nvPicPr>
        <p:blipFill>
          <a:blip r:embed="rId1"/>
          <a:stretch/>
        </p:blipFill>
        <p:spPr>
          <a:xfrm>
            <a:off x="689040" y="1676520"/>
            <a:ext cx="7772400" cy="4724280"/>
          </a:xfrm>
          <a:prstGeom prst="rect">
            <a:avLst/>
          </a:prstGeom>
          <a:ln w="0">
            <a:noFill/>
          </a:ln>
        </p:spPr>
      </p:pic>
      <p:sp>
        <p:nvSpPr>
          <p:cNvPr id="8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339CF3-B638-4B72-96F6-6503546CD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8:  SFD</a:t>
            </a:r>
            <a:endParaRPr b="0" lang="en-US" sz="3200" spc="-1" strike="noStrike">
              <a:solidFill>
                <a:srgbClr val="000000"/>
              </a:solidFill>
              <a:latin typeface="Times New Roman"/>
            </a:endParaRPr>
          </a:p>
        </p:txBody>
      </p:sp>
      <p:sp>
        <p:nvSpPr>
          <p:cNvPr id="81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or an EDMG SC PPDU, the Length field in the L-Header is set so that the spoofing error shall be smaller than one symbol block (512*Tc) and non-negative, where Spoofing error =  </a:t>
            </a:r>
            <a:br>
              <a:rPr sz="2000"/>
            </a:br>
            <a:r>
              <a:rPr b="0" lang="en-US" sz="2000" spc="-1" strike="noStrike">
                <a:solidFill>
                  <a:srgbClr val="000000"/>
                </a:solidFill>
                <a:latin typeface="Times New Roman"/>
              </a:rPr>
              <a:t>(TXTIME calculated based on L-Header) – (TXTIME)”</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05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Hiroyuki Motozuk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1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1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FAA3F2-B0E1-49B6-9BE0-8EC545C63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9:  SFD</a:t>
            </a:r>
            <a:endParaRPr b="0" lang="en-US" sz="3200" spc="-1" strike="noStrike">
              <a:solidFill>
                <a:srgbClr val="000000"/>
              </a:solidFill>
              <a:latin typeface="Times New Roman"/>
            </a:endParaRPr>
          </a:p>
        </p:txBody>
      </p:sp>
      <p:sp>
        <p:nvSpPr>
          <p:cNvPr id="82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field ‘DCM SQPSK over two aggregated channels field (1 bit)’ in the EDMG-header-A for an EDMG SU PPDU to the SFD?</a:t>
            </a:r>
            <a:endParaRPr b="0" lang="en-US" sz="20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1 indicates that DCM SQPSK over two aggregated channels is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alue of 0 indicates that DCM SQPSK over two aggregated channels is not applied.</a:t>
            </a:r>
            <a:endParaRPr b="0" lang="en-US" sz="1600" spc="-1" strike="noStrike">
              <a:solidFill>
                <a:srgbClr val="000000"/>
              </a:solidFill>
              <a:latin typeface="Times New Roman"/>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d if either TX or RX does not support DCM SQPSK over two aggregated channels.</a:t>
            </a:r>
            <a:endParaRPr b="0" lang="en-US" sz="1600" spc="-1" strike="noStrike">
              <a:solidFill>
                <a:srgbClr val="000000"/>
              </a:solidFill>
              <a:latin typeface="Times New Roman"/>
            </a:endParaRPr>
          </a:p>
          <a:p>
            <a:pPr lvl="1" marL="727920" indent="-280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61r0</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6 Yes, 0 No, 7 Abstain</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o Wu</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35880" indent="-3358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2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0A4DF4-43E0-4BFA-84F6-9609B1551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a:t>
            </a:r>
            <a:endParaRPr b="0" lang="en-US" sz="3200" spc="-1" strike="noStrike">
              <a:solidFill>
                <a:srgbClr val="000000"/>
              </a:solidFill>
              <a:latin typeface="Times New Roman"/>
            </a:endParaRPr>
          </a:p>
        </p:txBody>
      </p:sp>
      <p:sp>
        <p:nvSpPr>
          <p:cNvPr id="82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1) the AGC field currently defined for single-carrier and control mode EDMG PPDUs shall be removed and (2) the training field of EDMG PPDUs shall be defined as shown below for the single-carrier and control modes?  In the proposed structure, the number of TRN sequences used for channel estimation (that is, transmitted with the same AWV as the preamble/data fields) (</a:t>
            </a:r>
            <a:r>
              <a:rPr b="1" i="1" lang="en-US" sz="1800" spc="-1" strike="noStrike">
                <a:solidFill>
                  <a:srgbClr val="000000"/>
                </a:solidFill>
                <a:latin typeface="Times New Roman"/>
              </a:rPr>
              <a:t>P</a:t>
            </a:r>
            <a:r>
              <a:rPr b="1" lang="en-US" sz="1800" spc="-1" strike="noStrike">
                <a:solidFill>
                  <a:srgbClr val="000000"/>
                </a:solidFill>
                <a:latin typeface="Times New Roman"/>
              </a:rPr>
              <a:t>) and for BF training (which may use different AWV settings depending on whether transmit or receive training is used) (</a:t>
            </a:r>
            <a:r>
              <a:rPr b="1" i="1" lang="en-US" sz="1800" spc="-1" strike="noStrike">
                <a:solidFill>
                  <a:srgbClr val="000000"/>
                </a:solidFill>
                <a:latin typeface="Times New Roman"/>
              </a:rPr>
              <a:t>M</a:t>
            </a:r>
            <a:r>
              <a:rPr b="1" lang="en-US" sz="1800" spc="-1" strike="noStrike">
                <a:solidFill>
                  <a:srgbClr val="000000"/>
                </a:solidFill>
                <a:latin typeface="Times New Roman"/>
              </a:rPr>
              <a:t>) in a TRN-Unit is configurable.</a:t>
            </a:r>
            <a:endParaRPr b="0" lang="en-US" sz="1800" spc="-1" strike="noStrike">
              <a:solidFill>
                <a:srgbClr val="000000"/>
              </a:solidFill>
              <a:latin typeface="Times New Roman"/>
            </a:endParaRPr>
          </a:p>
        </p:txBody>
      </p:sp>
      <p:sp>
        <p:nvSpPr>
          <p:cNvPr id="827"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2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829" name="Picture 6" descr=""/>
          <p:cNvPicPr/>
          <p:nvPr/>
        </p:nvPicPr>
        <p:blipFill>
          <a:blip r:embed="rId1"/>
          <a:stretch/>
        </p:blipFill>
        <p:spPr>
          <a:xfrm>
            <a:off x="966960" y="4118040"/>
            <a:ext cx="7473600" cy="1520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D86629-C764-481D-8BF7-CBB5CA961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0:  SFD (con’t)</a:t>
            </a:r>
            <a:endParaRPr b="0" lang="en-US" sz="3200" spc="-1" strike="noStrike">
              <a:solidFill>
                <a:srgbClr val="000000"/>
              </a:solidFill>
              <a:latin typeface="Times New Roman"/>
            </a:endParaRPr>
          </a:p>
        </p:txBody>
      </p:sp>
      <p:sp>
        <p:nvSpPr>
          <p:cNvPr id="83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1:  Contribution number:  17/0007r1</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Note 2:  Straw poll results:  23 Yes, 1 No, 11 Abstain</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Move:  Claudio da Silva</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Second:  TBD</a:t>
            </a:r>
            <a:endParaRPr b="0" lang="en-US" sz="1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icrosoft YaHei"/>
              </a:rPr>
              <a:t>Result:  The motion is passed/failed (Yes: TBD, No: TBD, Abstain: TBD)</a:t>
            </a:r>
            <a:endParaRPr b="0" lang="en-US" sz="1800" spc="-1" strike="noStrike">
              <a:solidFill>
                <a:srgbClr val="000000"/>
              </a:solidFill>
              <a:latin typeface="Times New Roman"/>
            </a:endParaRPr>
          </a:p>
        </p:txBody>
      </p:sp>
      <p:sp>
        <p:nvSpPr>
          <p:cNvPr id="83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5FA6C6-06F1-4572-A42F-98252CDDF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1:  SFD</a:t>
            </a:r>
            <a:endParaRPr b="0" lang="en-US" sz="3200" spc="-1" strike="noStrike">
              <a:solidFill>
                <a:srgbClr val="000000"/>
              </a:solidFill>
              <a:latin typeface="Times New Roman"/>
            </a:endParaRPr>
          </a:p>
        </p:txBody>
      </p:sp>
      <p:sp>
        <p:nvSpPr>
          <p:cNvPr id="83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additions to the BRP Request Field (slide 11 of 17/0007r1), EDMG Header A bits (slide 12 of 17/0007r1), Mandatory features (slide 13 of 17/0007r1), and Capabilities element (slides 14 and 15 of 17/0007r1) to the SFD?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07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19 Yes, 0 No, 14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3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D4AA4F-4B3C-4976-A936-93DCBDA51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2:  SFD</a:t>
            </a:r>
            <a:endParaRPr b="0" lang="en-US" sz="3200" spc="-1" strike="noStrike">
              <a:solidFill>
                <a:srgbClr val="000000"/>
              </a:solidFill>
              <a:latin typeface="Times New Roman"/>
            </a:endParaRPr>
          </a:p>
        </p:txBody>
      </p:sp>
      <p:sp>
        <p:nvSpPr>
          <p:cNvPr id="8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ert the following in the 11ay SFD?</a:t>
            </a:r>
            <a:endParaRPr b="0" lang="en-US" sz="2000" spc="-1" strike="noStrike">
              <a:solidFill>
                <a:srgbClr val="000000"/>
              </a:solidFill>
              <a:latin typeface="Times New Roman"/>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1ay specification shall define EDMG SU PPDU aggregation.”</a:t>
            </a:r>
            <a:endParaRPr b="0" lang="en-US" sz="2000" spc="-1" strike="noStrike">
              <a:solidFill>
                <a:srgbClr val="000000"/>
              </a:solidFill>
              <a:latin typeface="Times New Roman"/>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7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E97806-8CA6-4991-9DF3-B6809B4A6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3:  SFD</a:t>
            </a:r>
            <a:endParaRPr b="0" lang="en-US" sz="3200" spc="-1" strike="noStrike">
              <a:solidFill>
                <a:srgbClr val="000000"/>
              </a:solidFill>
              <a:latin typeface="Times New Roman"/>
            </a:endParaRPr>
          </a:p>
        </p:txBody>
      </p:sp>
      <p:sp>
        <p:nvSpPr>
          <p:cNvPr id="84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EDMG A-PPDU formats shown in slide 3 and 5 of 11-17/0051r2 for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4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003945-956E-4B0E-ADB2-5B6342FB7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CDC090-C9E6-4B5F-BF8E-50874EBFB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4:  SFD</a:t>
            </a:r>
            <a:endParaRPr b="0" lang="en-US" sz="3200" spc="-1" strike="noStrike">
              <a:solidFill>
                <a:srgbClr val="000000"/>
              </a:solidFill>
              <a:latin typeface="Times New Roman"/>
            </a:endParaRPr>
          </a:p>
        </p:txBody>
      </p:sp>
      <p:sp>
        <p:nvSpPr>
          <p:cNvPr id="85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Additional EDMG PPDU field” to the EDMG-Header-A?</a:t>
            </a: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6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r>
              <a:rPr b="1" lang="en-US" sz="2000" spc="-1" strike="noStrike">
                <a:solidFill>
                  <a:srgbClr val="000000"/>
                </a:solidFill>
                <a:latin typeface="Times New Roman"/>
              </a:rPr>
              <a:t>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F09299-7D75-443E-A3B0-A2713EE4B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5:  SFD</a:t>
            </a:r>
            <a:endParaRPr b="0" lang="en-US" sz="3200" spc="-1" strike="noStrike">
              <a:solidFill>
                <a:srgbClr val="000000"/>
              </a:solidFill>
              <a:latin typeface="Times New Roman"/>
            </a:endParaRPr>
          </a:p>
        </p:txBody>
      </p:sp>
      <p:sp>
        <p:nvSpPr>
          <p:cNvPr id="85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with the coding and modulation method shown in slide 7 of 11-17/0051r2 for EDMG-Header-A within the EDMG A-PPDU transmitted with the same bandwidth as the corresponding data field in 11ay SC mode?</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051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8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akenori Sakamoto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5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F28A08-3780-40E5-9B64-5C450125B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rch 2017 plenary</a:t>
            </a:r>
            <a:endParaRPr b="0" lang="en-US" sz="3200" spc="-1" strike="noStrike">
              <a:solidFill>
                <a:srgbClr val="000000"/>
              </a:solidFill>
              <a:latin typeface="Times New Roman"/>
            </a:endParaRPr>
          </a:p>
        </p:txBody>
      </p:sp>
      <p:sp>
        <p:nvSpPr>
          <p:cNvPr id="86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917C5F-61CF-4FAD-A1B7-C4032DF93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 (Wednesday), 10:00am ET – 11:00am E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5 (Wednesday), 10:00am ET – 11:0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ch 1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863CD-96FD-4C0A-AFF8-39F201FB2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6:  SFD</a:t>
            </a:r>
            <a:endParaRPr b="0" lang="en-US" sz="3200" spc="-1" strike="noStrike">
              <a:solidFill>
                <a:srgbClr val="000000"/>
              </a:solidFill>
              <a:latin typeface="Times New Roman"/>
            </a:endParaRPr>
          </a:p>
        </p:txBody>
      </p:sp>
      <p:sp>
        <p:nvSpPr>
          <p:cNvPr id="8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Yes: TBD, No: TBD, Abstain: TBD)</a:t>
            </a:r>
            <a:endParaRPr b="0" lang="en-US" sz="2000" spc="-1" strike="noStrike">
              <a:solidFill>
                <a:srgbClr val="000000"/>
              </a:solidFill>
              <a:latin typeface="Times New Roman"/>
            </a:endParaRPr>
          </a:p>
        </p:txBody>
      </p:sp>
      <p:sp>
        <p:nvSpPr>
          <p:cNvPr id="873"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8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B03A2C-2E89-48E3-B8C3-3B02A2164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75EDCF-E2E0-4923-8738-7A544FDD11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597" name="TextBox 1"/>
          <p:cNvSpPr/>
          <p:nvPr/>
        </p:nvSpPr>
        <p:spPr>
          <a:xfrm>
            <a:off x="616680" y="580860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W</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F6BA1E-9F41-4A48-BD01-A1EFD7C3F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2017</cp:keywords>
  <dc:language>en-US</dc:language>
  <cp:lastModifiedBy>Edward Au</cp:lastModifiedBy>
  <cp:lastPrinted>2014-11-04T15:04:57Z</cp:lastPrinted>
  <dcterms:modified xsi:type="dcterms:W3CDTF">2017-01-18T00:53:13Z</dcterms:modified>
  <cp:revision>3989</cp:revision>
  <dc:subject>Task Group AY November 2015 Meeting Agenda</dc:subject>
  <dc:title>11-16/1566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