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2C54BEA-5E12-4962-9DB2-152FE9D2B5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CBFB17-FDED-4356-B3F1-868AD2064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968D42-1665-46A0-9B34-9E41F45F9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6"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DF8030-94AA-4E7A-B988-66F1E5C15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54160" y="701640"/>
            <a:ext cx="4626000" cy="3468600"/>
          </a:xfrm>
          <a:prstGeom prst="rect">
            <a:avLst/>
          </a:prstGeom>
          <a:ln w="0">
            <a:noFill/>
          </a:ln>
        </p:spPr>
      </p:sp>
      <p:sp>
        <p:nvSpPr>
          <p:cNvPr id="9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0D718F-F44F-4EA8-9AA7-58B41E189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6"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B3CCFE-BCC7-419A-AE24-94FCCEFCD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1154160" y="701640"/>
            <a:ext cx="4626000" cy="3468600"/>
          </a:xfrm>
          <a:prstGeom prst="rect">
            <a:avLst/>
          </a:prstGeom>
          <a:ln w="0">
            <a:noFill/>
          </a:ln>
        </p:spPr>
      </p:sp>
      <p:sp>
        <p:nvSpPr>
          <p:cNvPr id="9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4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42"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CA32A2-1E33-49FA-AAF2-F561A75D9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1154160" y="701640"/>
            <a:ext cx="4626000" cy="3468600"/>
          </a:xfrm>
          <a:prstGeom prst="rect">
            <a:avLst/>
          </a:prstGeom>
          <a:ln w="0">
            <a:noFill/>
          </a:ln>
        </p:spPr>
      </p:sp>
      <p:sp>
        <p:nvSpPr>
          <p:cNvPr id="9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D5CCE1-F071-4C97-B91F-D0064C8D6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54160" y="701640"/>
            <a:ext cx="4626000" cy="3468600"/>
          </a:xfrm>
          <a:prstGeom prst="rect">
            <a:avLst/>
          </a:prstGeom>
          <a:ln w="0">
            <a:noFill/>
          </a:ln>
        </p:spPr>
      </p:sp>
      <p:sp>
        <p:nvSpPr>
          <p:cNvPr id="9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1495C1-A95E-41F9-82BD-3881B5D41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3773EC-E311-4F82-96FD-EFDE10DF0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1154160" y="701640"/>
            <a:ext cx="4626000" cy="3468600"/>
          </a:xfrm>
          <a:prstGeom prst="rect">
            <a:avLst/>
          </a:prstGeom>
          <a:ln w="0">
            <a:noFill/>
          </a:ln>
        </p:spPr>
      </p:sp>
      <p:sp>
        <p:nvSpPr>
          <p:cNvPr id="9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54160" y="701640"/>
            <a:ext cx="4626000" cy="3468600"/>
          </a:xfrm>
          <a:prstGeom prst="rect">
            <a:avLst/>
          </a:prstGeom>
          <a:ln w="0">
            <a:noFill/>
          </a:ln>
        </p:spPr>
      </p:sp>
      <p:sp>
        <p:nvSpPr>
          <p:cNvPr id="9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F928F4-9E6A-42CB-9088-68E3E8F9D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54160" y="701640"/>
            <a:ext cx="4626000" cy="3468600"/>
          </a:xfrm>
          <a:prstGeom prst="rect">
            <a:avLst/>
          </a:prstGeom>
          <a:ln w="0">
            <a:noFill/>
          </a:ln>
        </p:spPr>
      </p:sp>
      <p:sp>
        <p:nvSpPr>
          <p:cNvPr id="9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B22C23-E9A4-4C5C-9E9B-18B1405C1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586931-931B-4309-8B72-BF4DBEFD0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54160" y="701640"/>
            <a:ext cx="4626000" cy="3468600"/>
          </a:xfrm>
          <a:prstGeom prst="rect">
            <a:avLst/>
          </a:prstGeom>
          <a:ln w="0">
            <a:noFill/>
          </a:ln>
        </p:spPr>
      </p:sp>
      <p:sp>
        <p:nvSpPr>
          <p:cNvPr id="8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9EBE1B-8949-476A-9EB6-C5BDF5DA4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54160" y="701640"/>
            <a:ext cx="4626000" cy="3468600"/>
          </a:xfrm>
          <a:prstGeom prst="rect">
            <a:avLst/>
          </a:prstGeom>
          <a:ln w="0">
            <a:noFill/>
          </a:ln>
        </p:spPr>
      </p:sp>
      <p:sp>
        <p:nvSpPr>
          <p:cNvPr id="9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4D82A8-68AD-45F3-A32D-E4E225BEB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54160" y="701640"/>
            <a:ext cx="4626000" cy="3468600"/>
          </a:xfrm>
          <a:prstGeom prst="rect">
            <a:avLst/>
          </a:prstGeom>
          <a:ln w="0">
            <a:noFill/>
          </a:ln>
        </p:spPr>
      </p:sp>
      <p:sp>
        <p:nvSpPr>
          <p:cNvPr id="9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95F232-30A7-4E8D-97B0-BC125E6C5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54160" y="701640"/>
            <a:ext cx="4626000" cy="3468600"/>
          </a:xfrm>
          <a:prstGeom prst="rect">
            <a:avLst/>
          </a:prstGeom>
          <a:ln w="0">
            <a:noFill/>
          </a:ln>
        </p:spPr>
      </p:sp>
      <p:sp>
        <p:nvSpPr>
          <p:cNvPr id="9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37381F-F353-4E47-B7AB-3AB7E91AC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54160" y="701640"/>
            <a:ext cx="4626000" cy="3468600"/>
          </a:xfrm>
          <a:prstGeom prst="rect">
            <a:avLst/>
          </a:prstGeom>
          <a:ln w="0">
            <a:noFill/>
          </a:ln>
        </p:spPr>
      </p:sp>
      <p:sp>
        <p:nvSpPr>
          <p:cNvPr id="10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E3E303-76AB-4A2E-A7BC-669913FB3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54160" y="701640"/>
            <a:ext cx="4626000" cy="3468600"/>
          </a:xfrm>
          <a:prstGeom prst="rect">
            <a:avLst/>
          </a:prstGeom>
          <a:ln w="0">
            <a:noFill/>
          </a:ln>
        </p:spPr>
      </p:sp>
      <p:sp>
        <p:nvSpPr>
          <p:cNvPr id="10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9A89B8-550D-465E-92E6-D6A82BEEA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E1685E-E042-42E0-8DC2-E23B65580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96BEDA-DEC6-41FB-83F1-79ED0B086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774E52-4B32-4106-846E-D50252472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41A8BC-C1BF-421F-B8D6-688156FDF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40A6B4-F0BB-4CB0-BE5A-E47E7BCA6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60CA34-E9FC-4412-9F6B-73681C8AE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54160" y="701640"/>
            <a:ext cx="4626000" cy="3468600"/>
          </a:xfrm>
          <a:prstGeom prst="rect">
            <a:avLst/>
          </a:prstGeom>
          <a:ln w="0">
            <a:noFill/>
          </a:ln>
        </p:spPr>
      </p:sp>
      <p:sp>
        <p:nvSpPr>
          <p:cNvPr id="8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859031-4F57-455C-89C5-321C46EF6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4900E4-2DBB-4A26-8E47-DDE4E1BF9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F48FC0-902E-4B64-86E7-ACD980598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1154160" y="701640"/>
            <a:ext cx="4626000" cy="3468600"/>
          </a:xfrm>
          <a:prstGeom prst="rect">
            <a:avLst/>
          </a:prstGeom>
          <a:ln w="0">
            <a:noFill/>
          </a:ln>
        </p:spPr>
      </p:sp>
      <p:sp>
        <p:nvSpPr>
          <p:cNvPr id="10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99989A-5884-4D4E-842E-592633748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457200" indent="0" algn="jus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49AE95-42D9-4222-B0F8-0FC043152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EF4280-B7E4-46D6-B16F-7CF7CE9F1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63FEBB-B106-4788-9556-A30AC89B1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1154160" y="701640"/>
            <a:ext cx="4626000" cy="3468600"/>
          </a:xfrm>
          <a:prstGeom prst="rect">
            <a:avLst/>
          </a:prstGeom>
          <a:ln w="0">
            <a:noFill/>
          </a:ln>
        </p:spPr>
      </p:sp>
      <p:sp>
        <p:nvSpPr>
          <p:cNvPr id="10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A82A2E-DA30-4F68-85A5-310837D7C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8D92BD-9B07-4D22-9F66-1B209E012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BFFDD0-A730-444D-8D1B-772A94EDF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D3737E9-7E6F-4315-972C-C9140C1470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7680" y="696960"/>
            <a:ext cx="4640400" cy="3479760"/>
          </a:xfrm>
          <a:prstGeom prst="rect">
            <a:avLst/>
          </a:prstGeom>
          <a:ln w="0">
            <a:noFill/>
          </a:ln>
        </p:spPr>
      </p:sp>
      <p:sp>
        <p:nvSpPr>
          <p:cNvPr id="89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F4ABB8-6EE6-4339-8C3D-AAA37578F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A0BA97-AF2E-4D99-A3B0-AABCFF23C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44727B-FB01-4D00-B360-D02150B77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1154160" y="701640"/>
            <a:ext cx="4626000" cy="3468600"/>
          </a:xfrm>
          <a:prstGeom prst="rect">
            <a:avLst/>
          </a:prstGeom>
          <a:ln w="0">
            <a:noFill/>
          </a:ln>
        </p:spPr>
      </p:sp>
      <p:sp>
        <p:nvSpPr>
          <p:cNvPr id="11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F873AB-37A6-45BA-A678-039311E35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B87F89-8BCA-4AC5-B1EE-E2A4E08A7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561AA8-BD27-44C1-BE2E-01C7D5C8C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1154160" y="701640"/>
            <a:ext cx="4626000" cy="3468600"/>
          </a:xfrm>
          <a:prstGeom prst="rect">
            <a:avLst/>
          </a:prstGeom>
          <a:ln w="0">
            <a:noFill/>
          </a:ln>
        </p:spPr>
      </p:sp>
      <p:sp>
        <p:nvSpPr>
          <p:cNvPr id="1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6E4FF5-F6BF-4B55-B36E-CF1C7AB44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C45529-BC3F-4F37-BDF5-78B326195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4EAA4E-5D66-408B-AAE7-B3AFD2DB7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F5EBED-0C67-4DA7-B9DA-711C17C6B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10FB9B-AA0C-44FB-8B66-073DF3B08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54160" y="701640"/>
            <a:ext cx="4626000" cy="3468600"/>
          </a:xfrm>
          <a:prstGeom prst="rect">
            <a:avLst/>
          </a:prstGeom>
          <a:ln w="0">
            <a:noFill/>
          </a:ln>
        </p:spPr>
      </p:sp>
      <p:sp>
        <p:nvSpPr>
          <p:cNvPr id="9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09C037-BFF4-4E0A-9EC7-28369D2BF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582914-F371-4A2C-B7DB-01D3AC82F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1644A2-282C-4C40-98D5-137F491A7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54160" y="701640"/>
            <a:ext cx="4626000" cy="3468600"/>
          </a:xfrm>
          <a:prstGeom prst="rect">
            <a:avLst/>
          </a:prstGeom>
          <a:ln w="0">
            <a:noFill/>
          </a:ln>
        </p:spPr>
      </p:sp>
      <p:sp>
        <p:nvSpPr>
          <p:cNvPr id="11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FD9211-A059-48D5-A714-ABF1040C6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542471-2CF3-4197-A4BD-4B0E243F4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7919A4-7640-4BA0-AB23-F16D0B7E8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54160" y="701640"/>
            <a:ext cx="4626000" cy="3468600"/>
          </a:xfrm>
          <a:prstGeom prst="rect">
            <a:avLst/>
          </a:prstGeom>
          <a:ln w="0">
            <a:noFill/>
          </a:ln>
        </p:spPr>
      </p:sp>
      <p:sp>
        <p:nvSpPr>
          <p:cNvPr id="1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D2D440-6F6A-4F7A-BB33-026B1200F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043112-8C5C-4DE9-A0B0-61B029102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54160" y="701640"/>
            <a:ext cx="4626000" cy="3468600"/>
          </a:xfrm>
          <a:prstGeom prst="rect">
            <a:avLst/>
          </a:prstGeom>
          <a:ln w="0">
            <a:noFill/>
          </a:ln>
        </p:spPr>
      </p:sp>
      <p:sp>
        <p:nvSpPr>
          <p:cNvPr id="12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85B631-EDF0-4396-88A4-4C4AF096D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54160" y="701640"/>
            <a:ext cx="4626000" cy="3468600"/>
          </a:xfrm>
          <a:prstGeom prst="rect">
            <a:avLst/>
          </a:prstGeom>
          <a:ln w="0">
            <a:noFill/>
          </a:ln>
        </p:spPr>
      </p:sp>
      <p:sp>
        <p:nvSpPr>
          <p:cNvPr id="12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36C2B6-2F93-4B38-95E0-FF3C31FEF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F611A0E-9DD6-46E7-B640-3275EEC6F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BDC333-7606-4B23-B396-0ABFD97A9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54160" y="701640"/>
            <a:ext cx="4626000" cy="3468600"/>
          </a:xfrm>
          <a:prstGeom prst="rect">
            <a:avLst/>
          </a:prstGeom>
          <a:ln w="0">
            <a:noFill/>
          </a:ln>
        </p:spPr>
      </p:sp>
      <p:sp>
        <p:nvSpPr>
          <p:cNvPr id="1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5C5075-3F1D-4240-87BD-5A50BAE33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54160" y="701640"/>
            <a:ext cx="4626000" cy="3468600"/>
          </a:xfrm>
          <a:prstGeom prst="rect">
            <a:avLst/>
          </a:prstGeom>
          <a:ln w="0">
            <a:noFill/>
          </a:ln>
        </p:spPr>
      </p:sp>
      <p:sp>
        <p:nvSpPr>
          <p:cNvPr id="12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44AB03-CAD3-496B-8159-ABAA6340F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090F08-0F2D-4D47-9FC3-82BFE39E6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54160" y="701640"/>
            <a:ext cx="4626000" cy="3468600"/>
          </a:xfrm>
          <a:prstGeom prst="rect">
            <a:avLst/>
          </a:prstGeom>
          <a:ln w="0">
            <a:noFill/>
          </a:ln>
        </p:spPr>
      </p:sp>
      <p:sp>
        <p:nvSpPr>
          <p:cNvPr id="12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4DF3F2-3CBF-49AC-9CCE-12839C9BF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88AD47-FFFE-43D7-8A0C-9238ED767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54160" y="701640"/>
            <a:ext cx="4626000" cy="3468600"/>
          </a:xfrm>
          <a:prstGeom prst="rect">
            <a:avLst/>
          </a:prstGeom>
          <a:ln w="0">
            <a:noFill/>
          </a:ln>
        </p:spPr>
      </p:sp>
      <p:sp>
        <p:nvSpPr>
          <p:cNvPr id="9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0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1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AEDD6E-2CEC-4C1D-A831-871CFC956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54160" y="701640"/>
            <a:ext cx="4626000" cy="3468600"/>
          </a:xfrm>
          <a:prstGeom prst="rect">
            <a:avLst/>
          </a:prstGeom>
          <a:ln w="0">
            <a:noFill/>
          </a:ln>
        </p:spPr>
      </p:sp>
      <p:sp>
        <p:nvSpPr>
          <p:cNvPr id="91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1C9DFB-1CDA-494F-9826-1A41D13E3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54160" y="701640"/>
            <a:ext cx="4626000" cy="3468600"/>
          </a:xfrm>
          <a:prstGeom prst="rect">
            <a:avLst/>
          </a:prstGeom>
          <a:ln w="0">
            <a:noFill/>
          </a:ln>
        </p:spPr>
      </p:sp>
      <p:sp>
        <p:nvSpPr>
          <p:cNvPr id="9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86154-07B4-433A-ADE4-9D8307718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97034-9A32-4C72-A700-3C0C1235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17AD1-97AE-4214-96C5-17778FCDE2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3C4ED-CBCD-4319-94BF-FC4607DF9B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5E8943-C850-4871-BFDE-7D69849329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8B63A-F1E0-4BC1-B01C-058024E44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42B4B-B2A2-4635-AF25-0C7D408B0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E342E-CFBE-41E9-96B6-8E17BC91C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5D9561-7518-4F22-8E50-83505F61B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EEB08F-3A02-4C29-AA70-5BA17206CB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52A059-BD5F-45CE-BCF5-87EB4957BA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A9DB0E-2EDF-4700-A333-00BE81E384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E25C3-CAEE-443E-B4F2-D6B30B7AD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97F337-1819-4621-B9C0-334A65D984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BFB0E8-3FA0-4555-A8C7-F4ADF7D58F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09AEF6-8E8C-4069-B6FA-19B2767671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9FB79E-E6BD-452B-9AF8-C7F8741E1F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B5D29F-786C-40DE-B047-71700659C4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3D610E-983B-4ED6-8476-47FE06E71B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DC8762-1694-44B5-A5AE-749A60402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C9AAB5-9187-490F-8FBE-1CBB554D2F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8F1845-D735-496A-B21B-B30128CF71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4FA8D5-51B4-491E-BCFB-7F33994960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6D17A-9F91-472A-9585-0F2E73CD2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DB6269-00FA-40CC-B75A-AA921AD2E2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21FCB3-DC31-47A6-B9CF-A23C484247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EF9CAE-AC33-4C23-8EA8-92BE055203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D9D1C4-C402-47CD-8613-8EF487CF38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A1CDA0-6532-4AED-B5DC-706E907CCA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A4FC15-A4B5-41C9-940A-F005F29F74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6E745F-1779-40C2-A4B9-EE8CEB804B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5E1075-7E6D-4913-8F61-730A9D7687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EF8C52-C5A0-4D52-BADC-676024A01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5E96A6-DA63-49BF-8FAB-9C4303B31D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45133-9121-4640-8EC2-57D970C14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0A975F-2B09-49A0-8F20-0E1D9CF59D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7DEF20-9D69-4B23-8980-DA03062A58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064241-453A-4D11-AD1F-4D39FA295A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3389B8-3CB6-4AA0-B9F0-EDC2A9BD8F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0A0480-6EA4-4022-B370-D501DF95C0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81B670-A00C-468B-A069-AE67D256FF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CE517B-47F3-4EC1-9485-DDAF3AFB40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E352B8-0F0B-4D2D-AA72-44B759BADF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9EA171-4901-4017-821A-6A89F82212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284168-9A5E-4CAF-97E0-002AAC1907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61CE2-740B-4875-B05B-A58DACFD5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7829FB-3DB2-4566-B8E7-CB9062FEB9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4926CE-B3E5-47B1-84DF-7894F7DBEA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9A395F-16EC-449C-A015-CC05C3CB55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9821EE-1D87-4639-A6D3-C90DEC16C0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52DCC2-F7BE-4A77-9E7B-0B7784CA58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3E4E4-6BEE-4AC4-A329-B5D77AA1F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44EC5-A6B2-41FD-B74A-D8A7228F8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995EB-F41A-4620-83FB-FD4265EAF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5D289-BF71-4CB6-B9C0-8BEBBBC02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F77D1-6D7D-4693-A77E-A85CB09A5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B6FA-4842-4907-A68E-C6439E987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6B478-397D-4C3C-BF4D-1206D9D3E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21738-C824-4D98-9E58-91FC1C79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0FBA6-E808-4BC4-8B44-9F6CA37C6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5D402-BBD1-41F7-A67A-93B640CDA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C9212-37F8-45EB-904D-FFCC85F4F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46EE07-7B87-465F-BEFA-EA4CE0D009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CB7B4-827B-47C5-8216-182D54CF2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9AC5C-9CDA-438B-8EAB-B9EE2EEEB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11FEE-366E-4063-B794-87685C509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57293-0A2D-4260-9DA9-1C816498B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FDB5-1120-438B-847E-89BD601F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A56AD-DBF7-4CA2-80D0-8EE4FF4A7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7EC0C-7FEA-44A3-BD88-10D8725F7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57F0F-1D4F-494B-8B6D-5DFFDD6F1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AF25C-8B01-4423-A503-86768F79B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B4CE8-3258-4332-9123-EAB26DE9D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5D473D-B7CD-4F6B-8400-ECC9BFAA5F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5C39C-77CC-4C8D-94F2-3E9FF4A7C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78911C-4C0A-4D05-BAA5-BC06E0E5AB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8463A-D37C-4BE4-AAC5-F03C617C7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CBE43-8DAE-4DD3-A909-72440D773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5A2F-5228-447D-A691-B4A915625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97B00-EE0E-4DDC-96DE-DD9B50118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55A2F-0296-4DAA-AC7D-8C9051EE5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591B2-D9CA-447B-BBFD-121710E38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3D0C4-E4A2-4E9D-8BA0-5C4BA7E18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5C15A-CD13-45D3-BACD-0FA47091B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8DB60-553F-4087-B8E5-1FD2FE6FA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1AACF-A2E4-4245-92E8-28DFD7E08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A97CB0-A901-4AD9-88C6-3162B8E8F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5FBF1D-3BDB-4805-9367-3DC17C69DE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AEE85A-D79B-475A-8601-AD9FA5CB8A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BF5EE-D19F-4FDB-BC7B-1E523AC10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8A38F-1482-417E-BF8B-42DD54243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27B52-8C5D-42A8-8431-604756143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A2AAC-9479-4E0D-AA39-0445EF9EA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744B1-8AC7-4D06-B319-41A902BDF5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EE179D-3690-4918-8FB8-490786967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CA09F-D622-47BD-B45B-6592FEF61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7EE01-951D-44C2-AF7E-E78EC8FC38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3E67D3-5FFF-45CE-B09A-487A0FB97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22516-5E9D-4D36-AF13-9F47DBC37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FD021B-8D83-4232-BF68-745162E84A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E862-CB05-4242-9FD6-8AA2CF532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3B2DFF-2BBA-4052-A0B3-0CA76DECAC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74F697-78B1-483A-877F-4B04F9AF2D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3C57B2-DC3C-45A3-B34B-7F1AF62C3B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1AC94-E55E-4961-8B3B-CEFCFBC36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F56C6-9507-4814-8E6C-BCACCB16CF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86946E-B6B8-4B48-9FB2-3438528A9E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2EE891-2505-472A-BC18-6207F481C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0EF9A-395A-4F53-BE0B-33325ED94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E5CBC-CB05-468E-B5A5-E80382012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C0541-3974-4328-B0FA-154D0633E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A360-E728-4C4F-960C-66141BC9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DC360-062F-48B5-9AE2-FFCEFC1D52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38A944-C97F-458D-88A4-F61CD2A065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BD18C9-429E-4A95-8C90-3E37E3EE7A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0C224B-A8C3-4C5E-AED7-01B176DF30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48CF66-C031-4D9A-AC07-4C0ECC82C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6BB426-24FC-4C29-900B-8F6080F9B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0CB0C8-8978-4A69-A6B1-49418F999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BC0A6-6E4C-47E0-B5D1-1C0258F2A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F738D-B846-448C-A333-0694BBDFA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7F07E-05E1-4586-AE2B-00919DDC86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0772A-BD96-42DA-9247-AF9D2DDB5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38904-E904-4222-BDAA-16C50705C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10E6D-433C-456C-867D-010F1E967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06670B-0433-429D-8FC9-322BFC1EC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CB8706-C9F8-4A13-BA38-28A388B6F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2A89F6-38CC-4849-BD10-36985B7540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4526A6-EDBD-4944-AE32-8CC0AA87CE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2ADA5-3008-488B-BA36-954E180AB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566C38-5468-4134-B46D-0277B98A32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3915EB-DE16-4E3A-BE3C-46EBDC96E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A9DA5-BAFE-417C-8D0B-04200DB97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D375-B712-4D0B-BBC0-F7357A2C6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ECD9AF-EC2E-48E9-9AE4-E995C94CD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F71D3-A7FA-4A53-BCEE-1FACEADBC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55F18-50D2-4A13-8F1E-757F34283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8B625-D406-4974-A894-482778931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51350-BBF3-402D-B28B-42BC687F46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61BF58-438E-46B1-BD74-CC8A40B517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8C6742-A1C1-43DC-A392-760E362894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AEF360-A16A-4171-80B2-FB3C1385B3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D62659-21B8-4A3D-A0F0-E4FBFC3D96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038E63-D7B3-45CD-B690-6AC15B3318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5402C35-192C-4FD0-81FC-0A142527C9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072B5F-1B2E-4B0F-9020-4456BCE4FB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446810C-FAF0-4BEB-8B20-3C44F54EB8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157B734-D7DD-4596-AF2F-0744A29268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CB3C0CB-9EA2-4EB0-941C-3DDDEB3D64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7C4F18-9281-4BD3-AB70-684E7DD192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126324-A8C3-45AC-AE19-486D8944ED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58B400D-3FEA-4EA6-8DCD-B95F2A58B5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B7976E2-E347-48AF-94E5-9A5283902B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D249895-21BC-4F28-BD5A-C13CDCC00D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627F7A5-7463-48C7-B239-086B959D15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089306-783C-4D29-99AB-193B897E69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16/11-16-1556-00-00ay-tg-ay-november-2016-san-antonio-meeting-minutes.docx" TargetMode="External"/><Relationship Id="rId2" Type="http://schemas.openxmlformats.org/officeDocument/2006/relationships/hyperlink" Target="https://mentor.ieee.org/802.11/dcn/16/11-16-1556-00-00ay-tg-ay-november-2016-san-antonio-meeting-minutes.docx" TargetMode="External"/><Relationship Id="rId3" Type="http://schemas.openxmlformats.org/officeDocument/2006/relationships/hyperlink" Target="https://mentor.ieee.org/802.11/dcn/16/11-16-1556-00-00ay-tg-ay-november-2016-san-antonio-meeting-minutes.docx" TargetMode="External"/><Relationship Id="rId4" Type="http://schemas.openxmlformats.org/officeDocument/2006/relationships/hyperlink" Target="https://mentor.ieee.org/802.11/dcn/17/11-17-0009-00-00ay-tg-ay-january-4-2017-conference-call-meeting-minutes.docx" TargetMode="External"/><Relationship Id="rId5" Type="http://schemas.openxmlformats.org/officeDocument/2006/relationships/hyperlink" Target="https://mentor.ieee.org/802.11/dcn/17/11-17-0009-00-00ay-tg-ay-january-4-2017-conference-call-meeting-minutes.docx" TargetMode="External"/><Relationship Id="rId6" Type="http://schemas.openxmlformats.org/officeDocument/2006/relationships/hyperlink" Target="https://mentor.ieee.org/802.11/dcn/17/11-17-0009-00-00ay-tg-ay-january-4-2017-conference-call-meeting-minutes.docx" TargetMode="External"/><Relationship Id="rId7" Type="http://schemas.openxmlformats.org/officeDocument/2006/relationships/slideLayout" Target="../slideLayouts/slideLayout2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565A5F-B7D6-4CAD-9CF8-FC62EDCF2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1-15</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C81903-8385-49F6-9576-02B4B1F1C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B408C1-A9C0-4F32-9A4F-17A968626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4440BA-AC3D-43B4-9074-7C727CB13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16"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7F01A4-CD06-4066-9A74-1319D537D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20" name=""/>
          <p:cNvGraphicFramePr/>
          <p:nvPr/>
        </p:nvGraphicFramePr>
        <p:xfrm>
          <a:off x="762120" y="1752480"/>
          <a:ext cx="7543800" cy="4199040"/>
        </p:xfrm>
        <a:graphic>
          <a:graphicData uri="http://schemas.openxmlformats.org/drawingml/2006/table">
            <a:tbl>
              <a:tblPr/>
              <a:tblGrid>
                <a:gridCol w="904680"/>
                <a:gridCol w="1282680"/>
                <a:gridCol w="1393920"/>
                <a:gridCol w="1295280"/>
                <a:gridCol w="1371600"/>
                <a:gridCol w="129564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1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674691-5D7B-482B-B9FF-992B92CB5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9675D0-077B-4672-B44B-A5E5538B8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8EC3FB-48B4-47D9-A912-602B9C8AA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November 2016 plenary and January-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teleconference cal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B3B34C-785D-4086-974F-966F198D0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6 plenary</a:t>
            </a:r>
            <a:endParaRPr b="0" lang="en-US" sz="3200" spc="-1" strike="noStrike">
              <a:solidFill>
                <a:srgbClr val="000000"/>
              </a:solidFill>
              <a:latin typeface="Times New Roman"/>
            </a:endParaRPr>
          </a:p>
        </p:txBody>
      </p:sp>
      <p:sp>
        <p:nvSpPr>
          <p:cNvPr id="63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d timeline was upda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lay D0.1 and D1.0 by 2 months</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Keep D2.0 and amendment completion the same</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21EBE5-D80F-48A6-AB83-CB7477E10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4 teleconference</a:t>
            </a:r>
            <a:endParaRPr b="0" lang="en-US" sz="3200" spc="-1" strike="noStrike">
              <a:solidFill>
                <a:srgbClr val="000000"/>
              </a:solidFill>
              <a:latin typeface="Times New Roman"/>
            </a:endParaRPr>
          </a:p>
        </p:txBody>
      </p:sp>
      <p:sp>
        <p:nvSpPr>
          <p:cNvPr id="64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ubmission was covered</a:t>
            </a:r>
            <a:endParaRPr b="0" lang="en-US" sz="2400" spc="-1" strike="noStrike">
              <a:solidFill>
                <a:srgbClr val="000000"/>
              </a:solidFill>
              <a:latin typeface="Times New Roman"/>
            </a:endParaRPr>
          </a:p>
          <a:p>
            <a:pPr lvl="1" marL="8002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16/1571r0:  </a:t>
            </a:r>
            <a:r>
              <a:rPr b="0" lang="en-US" sz="2000" spc="-1" strike="noStrike">
                <a:solidFill>
                  <a:srgbClr val="000000"/>
                </a:solidFill>
                <a:latin typeface="Times New Roman"/>
                <a:ea typeface="MS PGothic"/>
              </a:rPr>
              <a:t>Fast BSS discovery (Gaius Wee)</a:t>
            </a:r>
            <a:endParaRPr b="0" lang="en-US" sz="2000" spc="-1" strike="noStrike">
              <a:solidFill>
                <a:srgbClr val="000000"/>
              </a:solidFill>
              <a:latin typeface="Times New Roman"/>
            </a:endParaRPr>
          </a:p>
          <a:p>
            <a:pPr lvl="1" marL="8002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D841B5-5055-4B8D-84E5-FDECE2B50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016/11 plenary and 2017/01/04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November 2016 plenary and the teleconference call on January 4, 2017:</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a:t>
            </a:r>
            <a:r>
              <a:rPr b="0" lang="en-US" sz="2000" spc="-1" strike="noStrike" u="sng">
                <a:solidFill>
                  <a:srgbClr val="0066ff"/>
                </a:solidFill>
                <a:uFillTx/>
                <a:latin typeface="Times New Roman"/>
                <a:hlinkClick r:id="rId3"/>
              </a:rPr>
              <a:t>mentor.ieee.org/802.11/dcn/16/11-16-1556-00-00ay-tg-ay-november-2016-san-antonio-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4"/>
              </a:rPr>
              <a:t>https</a:t>
            </a:r>
            <a:r>
              <a:rPr b="0" lang="en-US" sz="2000" spc="-1" strike="noStrike" u="sng">
                <a:solidFill>
                  <a:srgbClr val="0066ff"/>
                </a:solidFill>
                <a:uFillTx/>
                <a:latin typeface="Times New Roman"/>
                <a:hlinkClick r:id="rId5"/>
              </a:rPr>
              <a:t>://</a:t>
            </a:r>
            <a:r>
              <a:rPr b="0" lang="en-US" sz="2000" spc="-1" strike="noStrike" u="sng">
                <a:solidFill>
                  <a:srgbClr val="0066ff"/>
                </a:solidFill>
                <a:uFillTx/>
                <a:latin typeface="Times New Roman"/>
                <a:hlinkClick r:id="rId6"/>
              </a:rPr>
              <a:t>mentor.ieee.org/802.11/dcn/17/11-17-0009-00-00ay-tg-ay-january-4-2017-conference-call-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5 - 20,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077141-CD8D-45D8-B207-E30BF6B1B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1A0490-FE18-4A0D-891C-A0D0D912A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924680" cy="444492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ask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September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2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33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4B408A-6151-4D71-8753-48E52B2C7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1)</a:t>
            </a:r>
            <a:endParaRPr b="0" lang="en-US" sz="3200" spc="-1" strike="noStrike">
              <a:solidFill>
                <a:srgbClr val="000000"/>
              </a:solidFill>
              <a:latin typeface="Times New Roman"/>
            </a:endParaRPr>
          </a:p>
        </p:txBody>
      </p:sp>
      <p:sp>
        <p:nvSpPr>
          <p:cNvPr id="65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4 EDMG Extended Schedule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9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Spatial sharing and interference mitig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SU 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 &amp; 3.4_Frames related to SU &amp;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 PPDU duration constrai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3 Measurement Request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2 pre-EDMG Modulated Fields Transmiss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BE3D6B-CC31-416A-A44B-B6115E611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2)</a:t>
            </a:r>
            <a:endParaRPr b="0" lang="en-US" sz="3200" spc="-1" strike="noStrike">
              <a:solidFill>
                <a:srgbClr val="000000"/>
              </a:solidFill>
              <a:latin typeface="Times New Roman"/>
            </a:endParaRPr>
          </a:p>
        </p:txBody>
      </p:sp>
      <p:sp>
        <p:nvSpPr>
          <p:cNvPr id="66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6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 RD protoco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5 6 3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8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3.9.1 RD protocol for EDMG DL M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3 3 EDMG-Header-A encoding and modul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4 MIMO channel acces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1 Phase hopp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 DMG A-PDU ope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6A4FC9-5B56-4F2D-B113-CA552A5B7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3)</a:t>
            </a:r>
            <a:endParaRPr b="0" lang="en-US" sz="32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2.2 EDMG A-PPDU forma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8 Multirate suppor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5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7 Block Acknowledgemen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2_5_Scalable Beamforming Train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4_MU-mimo-for-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803F6B-CE98-48D9-8550-9F6183F09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4)</a:t>
            </a:r>
            <a:endParaRPr b="0" lang="en-US" sz="32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4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 9 2 Beam refin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2 EDMG Operation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3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1 Block Ack 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 Channel Acces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n X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1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49C585-E6EF-4793-92FF-564CA5997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5)</a:t>
            </a:r>
            <a:endParaRPr b="0" lang="en-US" sz="3200" spc="-1" strike="noStrike">
              <a:solidFill>
                <a:srgbClr val="000000"/>
              </a:solidFill>
              <a:latin typeface="Times New Roman"/>
            </a:endParaRPr>
          </a:p>
        </p:txBody>
      </p:sp>
      <p:sp>
        <p:nvSpPr>
          <p:cNvPr id="6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1" name=""/>
          <p:cNvGraphicFramePr/>
          <p:nvPr/>
        </p:nvGraphicFramePr>
        <p:xfrm>
          <a:off x="685800" y="1676520"/>
          <a:ext cx="7772400" cy="420660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0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vian Li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hannel Measurement Feedback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2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6.5.6.4.2 Dual carrier modulation (DCM) SQPS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13 A-MPDU Operation 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ius We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xt related to Fast BSS Discove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9 Short SSW packe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0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 text for SFD 3.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tive text for EDMG FA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B23E73-5E09-49C9-A229-BB139B793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834B40-8F0C-422F-84C8-3C3E60132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6A8352-693F-4AFA-A032-FD0ECED22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Width selection within TXO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CEF Extension for SC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y Short SSW Feedback &amp; Ac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for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for 11ay Spatial Shar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Evaluation of </a:t>
                      </a:r>
                      <a:br>
                        <a:rPr sz="1400"/>
                      </a:br>
                      <a:r>
                        <a:rPr b="0" lang="en-US" sz="1400" spc="-1" strike="noStrike">
                          <a:solidFill>
                            <a:srgbClr val="000000"/>
                          </a:solidFill>
                          <a:latin typeface="Times New Roman"/>
                        </a:rPr>
                        <a:t>Multi-DFT-spread 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ACC9DE-36EE-4AF0-94CF-EE3A0886F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Sector Sweep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with optimized addressing schem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 Indoor Scenario for 11ay Channel Mode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6C7ADC-E15A-4E92-A199-0D2D86229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F32BA9-913B-4AAC-929C-96AC04F2C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 Definition for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Open Loop Spatial Multiplexing in S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na Ciochi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and Capabilities for Non-Uniform Constellat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UL Training Protocol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l Ansle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son between Simulated and Measured Results for a Residential Sett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3F4895-CCC1-4DD6-9D30-4C389CE05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shi Man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S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 (Co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Optimization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D1390F-8A03-4074-9886-A49775541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 on selection procedur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15"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rch 2017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0A7B05-54C0-43BF-8957-DED63A395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720"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7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22" name="TextBox 9"/>
          <p:cNvSpPr/>
          <p:nvPr/>
        </p:nvSpPr>
        <p:spPr>
          <a:xfrm>
            <a:off x="38455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723" name="Straight Arrow Connector 9"/>
          <p:cNvCxnSpPr/>
          <p:nvPr/>
        </p:nvCxnSpPr>
        <p:spPr>
          <a:xfrm flipV="1">
            <a:off x="4723920" y="4723560"/>
            <a:ext cx="1080" cy="986760"/>
          </a:xfrm>
          <a:prstGeom prst="straightConnector1">
            <a:avLst/>
          </a:prstGeom>
          <a:ln w="25560">
            <a:solidFill>
              <a:srgbClr val="000000"/>
            </a:solidFill>
            <a:miter/>
            <a:tailEnd len="med" type="arrow" w="med"/>
          </a:ln>
        </p:spPr>
      </p:cxn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725"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708940-C688-498C-B6B4-0D12E0E16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selection procedure</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 is responsible for maintaining the documen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ions that describe different functional blocks with the intention to be included in the TG specification framework document are solicit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framework document shall be created by incorporating different functional blocks that the corresponding motions have been approved by at least 75% TG approval rate.</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s will be conducted first to gauge the interest of the TG.</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straw polls that achieve at least 75% approval rate will be converted to motions.</a:t>
            </a:r>
            <a:endParaRPr b="0" lang="en-US" sz="16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change in the document requires at least 75% TG approval rate.</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59C53B-75F0-4257-B140-F36145D22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6C1D44-477A-4F86-A062-8DFA12346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644B65-4391-489D-8A57-57F697A67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6907CA-D07B-4BE1-BACE-139114452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414810-9ABF-4463-B2B3-78D90A915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24B4750-18EB-4368-A241-9044511952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661C6B-A748-475E-9923-E37CDF7AF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CD328D-2011-4935-B329-76C0FF76E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7E8A4B-ADD6-4D0E-9900-B224A9D4A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5B1766-8AAC-4AC8-A399-ACF6B1024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A49475-6852-4D16-A656-14F7F8219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B81172-EEAB-4DD6-AE3A-CFFB54A21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0B9A0B-4950-414E-B420-4F2BD7415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2"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83FC99-F773-4DD6-BB39-454CA938A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8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CD0A8D-2756-49A6-A322-FD978CB2F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3:  SFD</a:t>
            </a:r>
            <a:endParaRPr b="0" lang="en-US" sz="3200" spc="-1" strike="noStrike">
              <a:solidFill>
                <a:srgbClr val="000000"/>
              </a:solidFill>
              <a:latin typeface="Times New Roman"/>
            </a:endParaRPr>
          </a:p>
        </p:txBody>
      </p:sp>
      <p:sp>
        <p:nvSpPr>
          <p:cNvPr id="79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transmitted DMG Beacon frames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Setting the Quasi-omni TX subfield to one in transmitted DMG Beacon frames to indicate the potential for discovery based on quasi-omni transmissio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transmitted DMG Beacon frames</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DMG Beacon frame that has the Quasi-omni TX subfield equal to one.”</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79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1388A8-A8AC-4990-B566-933C5FCDE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4:  SFD</a:t>
            </a:r>
            <a:endParaRPr b="0" lang="en-US" sz="3200" spc="-1" strike="noStrike">
              <a:solidFill>
                <a:srgbClr val="000000"/>
              </a:solidFill>
              <a:latin typeface="Times New Roman"/>
            </a:endParaRPr>
          </a:p>
        </p:txBody>
      </p:sp>
      <p:sp>
        <p:nvSpPr>
          <p:cNvPr id="7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Probe Request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a Probe Request frame transmitted with quasi-omni antenna patter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Probe Request frame transmitted with a quasi-omni antenna pattern.”</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14DB96-DF2C-480E-8678-A38564788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47D8D8-658D-4EBE-8231-EEA982488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5:  SFD</a:t>
            </a:r>
            <a:endParaRPr b="0" lang="en-US" sz="3200" spc="-1" strike="noStrike">
              <a:solidFill>
                <a:srgbClr val="000000"/>
              </a:solidFill>
              <a:latin typeface="Times New Roman"/>
            </a:endParaRPr>
          </a:p>
        </p:txBody>
      </p:sp>
      <p:sp>
        <p:nvSpPr>
          <p:cNvPr id="8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allocation that does not include the primary channel, its allocation information shall be completely and only included in the EDMG Extended Schedule elemen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11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0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6D0D26-E6BC-4F8F-942C-AC4D365AE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6:  SFD</a:t>
            </a:r>
            <a:endParaRPr b="0" lang="en-US" sz="3200" spc="-1" strike="noStrike">
              <a:solidFill>
                <a:srgbClr val="000000"/>
              </a:solidFill>
              <a:latin typeface="Times New Roman"/>
            </a:endParaRPr>
          </a:p>
        </p:txBody>
      </p:sp>
      <p:sp>
        <p:nvSpPr>
          <p:cNvPr id="80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cheduling Type subfield shall be added into each Channel Allocation field of the EDMG Extended Schedule element to indicate whether an allocation is based on incremental signaling or complete signaling</a:t>
            </a:r>
            <a:r>
              <a:rPr b="0" lang="en-SG"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1 Yes, 0 No, 13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0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6B59AE-5C8A-4F9F-AF70-DC0ABBABA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7:  SFD</a:t>
            </a:r>
            <a:endParaRPr b="0" lang="en-US" sz="3200" spc="-1" strike="noStrike">
              <a:solidFill>
                <a:srgbClr val="000000"/>
              </a:solidFill>
              <a:latin typeface="Times New Roman"/>
            </a:endParaRPr>
          </a:p>
        </p:txBody>
      </p:sp>
      <p:pic>
        <p:nvPicPr>
          <p:cNvPr id="811" name="Rectangle 3" descr=""/>
          <p:cNvPicPr/>
          <p:nvPr/>
        </p:nvPicPr>
        <p:blipFill>
          <a:blip r:embed="rId1"/>
          <a:stretch/>
        </p:blipFill>
        <p:spPr>
          <a:xfrm>
            <a:off x="689040" y="1676520"/>
            <a:ext cx="7772400" cy="4724280"/>
          </a:xfrm>
          <a:prstGeom prst="rect">
            <a:avLst/>
          </a:prstGeom>
          <a:ln w="0">
            <a:noFill/>
          </a:ln>
        </p:spPr>
      </p:pic>
      <p:sp>
        <p:nvSpPr>
          <p:cNvPr id="8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B6FA3C-9C2C-4EF0-A335-51A6C51E8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8:  SFD</a:t>
            </a:r>
            <a:endParaRPr b="0" lang="en-US" sz="3200" spc="-1" strike="noStrike">
              <a:solidFill>
                <a:srgbClr val="000000"/>
              </a:solidFill>
              <a:latin typeface="Times New Roman"/>
            </a:endParaRPr>
          </a:p>
        </p:txBody>
      </p:sp>
      <p:sp>
        <p:nvSpPr>
          <p:cNvPr id="81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or an EDMG SC PPDU, the Length field in the L-Header is set so that the spoofing error shall be smaller than one symbol block (512*Tc) and non-negative, where Spoofing error =  </a:t>
            </a:r>
            <a:br>
              <a:rPr sz="2000"/>
            </a:br>
            <a:r>
              <a:rPr b="0" lang="en-US" sz="2000" spc="-1" strike="noStrike">
                <a:solidFill>
                  <a:srgbClr val="000000"/>
                </a:solidFill>
                <a:latin typeface="Times New Roman"/>
              </a:rPr>
              <a:t>(TXTIME calculated based on L-Header) – (TXTIME)”</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1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D3D827-A270-40F8-B24D-438337465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9:  SFD</a:t>
            </a:r>
            <a:endParaRPr b="0" lang="en-US" sz="3200" spc="-1" strike="noStrike">
              <a:solidFill>
                <a:srgbClr val="000000"/>
              </a:solidFill>
              <a:latin typeface="Times New Roman"/>
            </a:endParaRPr>
          </a:p>
        </p:txBody>
      </p:sp>
      <p:sp>
        <p:nvSpPr>
          <p:cNvPr id="82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field ‘DCM SQPSK over two aggregated channels field (1 bit)’ in the EDMG-header-A for an EDMG SU PPDU to the SFD?</a:t>
            </a:r>
            <a:endParaRPr b="0" lang="en-US" sz="20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1 indicates that DCM SQPSK over two aggregated channels is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0 indicates that DCM SQPSK over two aggregated channels is not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d if either TX or RX does not support DCM SQPSK over two aggregated channels.</a:t>
            </a:r>
            <a:endParaRPr b="0" lang="en-US" sz="1600" spc="-1" strike="noStrike">
              <a:solidFill>
                <a:srgbClr val="000000"/>
              </a:solidFill>
              <a:latin typeface="Times New Roman"/>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61r0</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6 Yes, 0 No, 7 Abstain</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o Wu</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2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901F83-3416-40E9-8683-CB5A79B50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0:  SFD</a:t>
            </a:r>
            <a:endParaRPr b="0" lang="en-US" sz="3200" spc="-1" strike="noStrike">
              <a:solidFill>
                <a:srgbClr val="000000"/>
              </a:solidFill>
              <a:latin typeface="Times New Roman"/>
            </a:endParaRPr>
          </a:p>
        </p:txBody>
      </p:sp>
      <p:sp>
        <p:nvSpPr>
          <p:cNvPr id="82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hat (1) the AGC field currently defined for single-carrier and control mode EDMG PPDUs shall be removed and (2) the training field of EDMG PPDUs shall be defined as shown below for the single-carrier and control modes?  In the proposed structure, the number of TRN sequences used for channel estimation (that is, transmitted with the same AWV as the preamble/data fields) (</a:t>
            </a:r>
            <a:r>
              <a:rPr b="1" i="1" lang="en-US" sz="1800" spc="-1" strike="noStrike">
                <a:solidFill>
                  <a:srgbClr val="000000"/>
                </a:solidFill>
                <a:latin typeface="Times New Roman"/>
              </a:rPr>
              <a:t>P</a:t>
            </a:r>
            <a:r>
              <a:rPr b="1" lang="en-US" sz="1800" spc="-1" strike="noStrike">
                <a:solidFill>
                  <a:srgbClr val="000000"/>
                </a:solidFill>
                <a:latin typeface="Times New Roman"/>
              </a:rPr>
              <a:t>) and for BF training (which may use different AWV settings depending on whether transmit or receive training is used) (</a:t>
            </a:r>
            <a:r>
              <a:rPr b="1" i="1" lang="en-US" sz="1800" spc="-1" strike="noStrike">
                <a:solidFill>
                  <a:srgbClr val="000000"/>
                </a:solidFill>
                <a:latin typeface="Times New Roman"/>
              </a:rPr>
              <a:t>M</a:t>
            </a:r>
            <a:r>
              <a:rPr b="1" lang="en-US" sz="1800" spc="-1" strike="noStrike">
                <a:solidFill>
                  <a:srgbClr val="000000"/>
                </a:solidFill>
                <a:latin typeface="Times New Roman"/>
              </a:rPr>
              <a:t>) in a TRN-Unit is configurable.</a:t>
            </a:r>
            <a:endParaRPr b="0" lang="en-US" sz="1800" spc="-1" strike="noStrike">
              <a:solidFill>
                <a:srgbClr val="000000"/>
              </a:solidFill>
              <a:latin typeface="Times New Roman"/>
            </a:endParaRPr>
          </a:p>
        </p:txBody>
      </p:sp>
      <p:sp>
        <p:nvSpPr>
          <p:cNvPr id="82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829" name="Picture 6" descr=""/>
          <p:cNvPicPr/>
          <p:nvPr/>
        </p:nvPicPr>
        <p:blipFill>
          <a:blip r:embed="rId1"/>
          <a:stretch/>
        </p:blipFill>
        <p:spPr>
          <a:xfrm>
            <a:off x="966960" y="4118040"/>
            <a:ext cx="7473600" cy="1520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1BFAAE-998F-4929-810A-95A80F0E5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0:  SFD (con’t)</a:t>
            </a:r>
            <a:endParaRPr b="0" lang="en-US" sz="3200" spc="-1" strike="noStrike">
              <a:solidFill>
                <a:srgbClr val="000000"/>
              </a:solidFill>
              <a:latin typeface="Times New Roman"/>
            </a:endParaRPr>
          </a:p>
        </p:txBody>
      </p:sp>
      <p:sp>
        <p:nvSpPr>
          <p:cNvPr id="83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7/0007r1</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23 Yes, 1 No, 11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Claudio da Silva</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A45E35-EEC8-4ED5-86CB-140AC7C5C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1:  SFD</a:t>
            </a:r>
            <a:endParaRPr b="0" lang="en-US" sz="3200" spc="-1" strike="noStrike">
              <a:solidFill>
                <a:srgbClr val="000000"/>
              </a:solidFill>
              <a:latin typeface="Times New Roman"/>
            </a:endParaRPr>
          </a:p>
        </p:txBody>
      </p:sp>
      <p:sp>
        <p:nvSpPr>
          <p:cNvPr id="83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additions to the BRP Request Field (slide 11 of 17/0007r1), EDMG Header A bits (slide 12 of 17/0007r1), Mandatory features (slide 13 of 17/0007r1), and Capabilities element (slides 14 and 15 of 17/0007r1) to the SFD?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07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19 Yes, 0 No, 14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947C0C-3F57-42FB-B037-D037E9AFC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2:  SFD</a:t>
            </a:r>
            <a:endParaRPr b="0" lang="en-US" sz="3200" spc="-1" strike="noStrike">
              <a:solidFill>
                <a:srgbClr val="000000"/>
              </a:solidFill>
              <a:latin typeface="Times New Roman"/>
            </a:endParaRPr>
          </a:p>
        </p:txBody>
      </p:sp>
      <p:sp>
        <p:nvSpPr>
          <p:cNvPr id="8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ert the following in the 11ay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11ay specification shall define EDMG SU PPDU aggregation.”</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F435F9-CE1B-4975-93C8-C72F4D41F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3:  SFD</a:t>
            </a:r>
            <a:endParaRPr b="0" lang="en-US" sz="3200" spc="-1" strike="noStrike">
              <a:solidFill>
                <a:srgbClr val="000000"/>
              </a:solidFill>
              <a:latin typeface="Times New Roman"/>
            </a:endParaRPr>
          </a:p>
        </p:txBody>
      </p:sp>
      <p:sp>
        <p:nvSpPr>
          <p:cNvPr id="84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EDMG A-PPDU formats shown in slide 3 and 5 of 11-17/0051r2 for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4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29DC26-E7C4-4CF3-91AB-692596683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6DF6A7-AC39-48E6-B0D9-BD4B3A5FD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4:  SFD</a:t>
            </a:r>
            <a:endParaRPr b="0" lang="en-US" sz="3200" spc="-1" strike="noStrike">
              <a:solidFill>
                <a:srgbClr val="000000"/>
              </a:solidFill>
              <a:latin typeface="Times New Roman"/>
            </a:endParaRPr>
          </a:p>
        </p:txBody>
      </p:sp>
      <p:sp>
        <p:nvSpPr>
          <p:cNvPr id="85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Additional EDMG PPDU field” to the EDMG-Header-A?</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04AAF8-BDD2-4364-87F5-5F8069F15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5:  SFD</a:t>
            </a:r>
            <a:endParaRPr b="0" lang="en-US" sz="3200" spc="-1" strike="noStrike">
              <a:solidFill>
                <a:srgbClr val="000000"/>
              </a:solidFill>
              <a:latin typeface="Times New Roman"/>
            </a:endParaRPr>
          </a:p>
        </p:txBody>
      </p:sp>
      <p:sp>
        <p:nvSpPr>
          <p:cNvPr id="85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coding and modulation method shown in slide 7 of 11-17/0051r2 for EDMG-Header-A within the EDMG A-PPDU transmitted with the same bandwidth as the corresponding data field in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448170-24C3-434B-816A-86AEE5F07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7 plenary</a:t>
            </a:r>
            <a:endParaRPr b="0" lang="en-US" sz="3200" spc="-1" strike="noStrike">
              <a:solidFill>
                <a:srgbClr val="000000"/>
              </a:solidFill>
              <a:latin typeface="Times New Roman"/>
            </a:endParaRPr>
          </a:p>
        </p:txBody>
      </p:sp>
      <p:sp>
        <p:nvSpPr>
          <p:cNvPr id="86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FF75BC-B8A1-42A8-B8B4-DE8A457E6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 (Wednesday), 10:00am ET – 11:00am E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5 (Wednesday), 10:00am ET – 11:0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1 (Wednesday), 10:00am ET – 11:00am E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7D48C1-A071-4B14-8F69-0DF8F009D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6:  SFD</a:t>
            </a:r>
            <a:endParaRPr b="0" lang="en-US" sz="3200" spc="-1" strike="noStrike">
              <a:solidFill>
                <a:srgbClr val="000000"/>
              </a:solidFill>
              <a:latin typeface="Times New Roman"/>
            </a:endParaRPr>
          </a:p>
        </p:txBody>
      </p:sp>
      <p:sp>
        <p:nvSpPr>
          <p:cNvPr id="8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7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B25C8C-A32E-4F2A-83EE-79D68CFC2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81D751B-8A45-484F-8FAE-6DB0EBAA2A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597" name="TextBox 1"/>
          <p:cNvSpPr/>
          <p:nvPr/>
        </p:nvSpPr>
        <p:spPr>
          <a:xfrm>
            <a:off x="616680" y="580860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W</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11D27F-4D36-44F6-A26C-E8645A462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7</cp:keywords>
  <dc:language>en-US</dc:language>
  <cp:lastModifiedBy>Edward Au</cp:lastModifiedBy>
  <cp:lastPrinted>2014-11-04T15:04:57Z</cp:lastPrinted>
  <dcterms:modified xsi:type="dcterms:W3CDTF">2017-01-18T00:53:13Z</dcterms:modified>
  <cp:revision>3989</cp:revision>
  <dc:subject>Task Group AY November 2015 Meeting Agenda</dc:subject>
  <dc:title>11-16/1566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