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5513040" y="-73296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3/078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641520" y="117360"/>
            <a:ext cx="10411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856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5230800" y="9615240"/>
            <a:ext cx="923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ephen McCann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146400" y="961524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E7B2E6-38BA-45F5-A551-E19BDC09579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708480" y="961560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9"/>
          <p:cNvSpPr/>
          <p:nvPr/>
        </p:nvSpPr>
        <p:spPr>
          <a:xfrm>
            <a:off x="709560" y="9613800"/>
            <a:ext cx="537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635040" y="317520"/>
            <a:ext cx="55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3/078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95240" y="11988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560840" y="9615600"/>
            <a:ext cx="226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DE2BD39-B2D3-45A6-BD76-2D53E3A7BB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22320" y="75096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3/078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95240" y="11988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560840" y="9615600"/>
            <a:ext cx="226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109E92-78C7-43E9-B2EE-12A7EA5834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22320" y="75096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BA0-6B7A-4256-948C-36F9FB81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801-86D9-4151-8CC9-DD5806B3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1C1A-18FC-4095-A3BD-24250A49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18D-965F-412C-AEFE-6515BACA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8267-9284-4D63-ABAB-5B052D72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FD6B-559D-4148-8FC5-83E21B91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9C95-8AFA-4A3C-8173-01519322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93E8-F468-4B56-849D-3C02D204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652B-9FE3-49DD-BA68-1BA6FA2D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2F20-E268-453B-A5E1-E24E683A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E8F5-8608-4611-92D5-26A566D9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649-E56E-4CA1-8435-8C7C4977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B731-3176-47FA-89C7-DAC88483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73F7-0E62-4A8D-977F-D92B1BD5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5D4A-0557-43AA-B5B9-4B66F7C0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02DF-833E-49B3-9BEE-E0CD2E78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F576-E1A9-41A3-9825-65AD4239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E0A-7970-4296-8444-62CFBB8E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0AA1-C446-4D35-A834-2A9FC11E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BEB9-BE51-4736-9580-DEE48A49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AAC-4E8B-4201-AB78-293ABB90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9733-E67E-4E02-8B8D-6ABC1952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30D-5E86-4739-9619-4B11D501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00C-E658-413A-9C3F-482F88E5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13399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December 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Montemurro, BlackBe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5FEC0B4-A74D-49F4-A980-23C36AB2CE1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82560" y="3207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6/1531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82560" y="3207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6/1531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6783480" y="482760"/>
            <a:ext cx="185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96960" y="60120"/>
            <a:ext cx="13399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December 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Montemurro, BlackBe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A37F02C-7D8F-48C6-BD98-AB3F9F5AB6C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713160" y="334800"/>
            <a:ext cx="156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December 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7268760" y="6475320"/>
            <a:ext cx="208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hael Montemurro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08E1D34-68BB-4723-9520-755B702DF7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roup-addressed G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016-12-1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5"/>
          <p:cNvGraphicFramePr/>
          <p:nvPr/>
        </p:nvGraphicFramePr>
        <p:xfrm>
          <a:off x="544680" y="2585880"/>
          <a:ext cx="7964280" cy="160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2585880"/>
                    <a:ext cx="7964280" cy="16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6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583920" y="334800"/>
            <a:ext cx="156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December 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7268760" y="6475320"/>
            <a:ext cx="208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hael Montemurro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B2D9588-5655-4ECF-8168-6F6AAFB85A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iscussion slides for adding group-addressed GAS for PA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Selection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l process is: Scan/Discover; Select; Connec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WLAN connection manager performs complex calculations to determine the most preferred network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may take many criteria into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r p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dio link conditions (e.g. signal qualit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ication/Service requirements (e.g. local vs remote, Wi-Fi Dire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dio co-existence condition (e.g. Bluetooth, LTE, Rad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 (e.g. battery 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Selection can be a time critical process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at triggers a connection manager to re-select a different network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connection?, Application/Service?, User Action?, Change in Radio/Application condition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Date Placeholder 1"/>
          <p:cNvSpPr/>
          <p:nvPr/>
        </p:nvSpPr>
        <p:spPr>
          <a:xfrm>
            <a:off x="583920" y="334800"/>
            <a:ext cx="156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December 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2"/>
          <p:cNvSpPr/>
          <p:nvPr/>
        </p:nvSpPr>
        <p:spPr>
          <a:xfrm>
            <a:off x="7268760" y="6475320"/>
            <a:ext cx="208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Montemurro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4A9F841-57FC-433E-97AE-7AD7CB1156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ice Discovery and Network Discove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 discovery could be done in two way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 Invocation/Notificatio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ce performs Service Discovery (based on services “available” in the OS) with Service Discovery proced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ce connects, associates and invokes the services or notifies the OS that services are avail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prioritization takes preced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 selectio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/Service running on the device triggers query for services as part of network discov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prioritization may be taken into account but is seco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es this work if there are multiple servic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583920" y="334800"/>
            <a:ext cx="156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December 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7268760" y="6475320"/>
            <a:ext cx="208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Montemurro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BAD718E-D6D7-4FF4-B653-F34C9995EE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/AP Require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e the medium utilization for pre-association service discover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rease the response time and overhead on the STA and AP in generating and processing service discovery requests/respon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Date Placeholder 1"/>
          <p:cNvSpPr/>
          <p:nvPr/>
        </p:nvSpPr>
        <p:spPr>
          <a:xfrm>
            <a:off x="583920" y="334800"/>
            <a:ext cx="156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December 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2"/>
          <p:cNvSpPr/>
          <p:nvPr/>
        </p:nvSpPr>
        <p:spPr>
          <a:xfrm>
            <a:off x="7268760" y="6475320"/>
            <a:ext cx="208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Montemurro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7562F62-5C6E-41FC-B108-903A1B269E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690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sed Solution Overvie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757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ify GAS procedures to enable a group-addressed GAS (GA-GAS) request and response frame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STA could send a GA-GAS Reques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AP would reply with either a unicast GAS Response or a GA-GAS Response, depending on specific conditions that the AP determin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Date Placeholder 1"/>
          <p:cNvSpPr/>
          <p:nvPr/>
        </p:nvSpPr>
        <p:spPr>
          <a:xfrm>
            <a:off x="583920" y="334800"/>
            <a:ext cx="156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December 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2"/>
          <p:cNvSpPr/>
          <p:nvPr/>
        </p:nvSpPr>
        <p:spPr>
          <a:xfrm>
            <a:off x="7268760" y="6475320"/>
            <a:ext cx="208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Montemurro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A4459A7-53DD-4C2E-B401-284B96D8EC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690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sed Solution – GA-GAS Reques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757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ify GAS procedures to allow transmission of a GA-GAS Request fra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ed to determine conditions under which it could be transmit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trict transmissions to the case where they are only used when GA-GAS APs are in rang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trict GA-GAS procedures to permit only PAD ANQP Requests? (at this time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ify GAS Procedures to permit the behavior where an AP only responds to a GAS request when it has a reply. (restrict this to PAD ANQP as well at this tim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Date Placeholder 1"/>
          <p:cNvSpPr/>
          <p:nvPr/>
        </p:nvSpPr>
        <p:spPr>
          <a:xfrm>
            <a:off x="583920" y="334800"/>
            <a:ext cx="156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December 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2"/>
          <p:cNvSpPr/>
          <p:nvPr/>
        </p:nvSpPr>
        <p:spPr>
          <a:xfrm>
            <a:off x="7268760" y="6475320"/>
            <a:ext cx="208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Montemurro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002320D-E19A-406C-88B9-7BF94DC060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sed Solution – GA-GAS Respon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757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ify GAS procedures to enable a group-addressed GAS (GA-GAS) response frame. This is time-limit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 a element that the AP will use to advertise GA-GAS responses (includes enable/disable, schedule information) in Beacons and Probe Response fram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 behavior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 monitors PAD requests from 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 detects that PAD requests (for the same service query) reception frequency exceeds threshol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 enables group-addressed PAD responses (for a period of time (s) at an interval of T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 behavior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 monitors AP Beacon/Probe Response; if group-addressed PAD responses are enabled; STA listens for GA-GAS PAD responses in addition to regular GAS res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Date Placeholder 1"/>
          <p:cNvSpPr/>
          <p:nvPr/>
        </p:nvSpPr>
        <p:spPr>
          <a:xfrm>
            <a:off x="689400" y="345960"/>
            <a:ext cx="156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December 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2"/>
          <p:cNvSpPr/>
          <p:nvPr/>
        </p:nvSpPr>
        <p:spPr>
          <a:xfrm>
            <a:off x="7268760" y="6475320"/>
            <a:ext cx="208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Montemurro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481837F-AEF3-45E2-B47A-424B0791A3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5977080" y="423720"/>
            <a:ext cx="1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4:01:45Z</dcterms:created>
  <dc:creator>Stephen McCann</dc:creator>
  <dc:description/>
  <dc:language>en-US</dc:language>
  <cp:lastModifiedBy>Michael Montemurro</cp:lastModifiedBy>
  <cp:lastPrinted>1998-02-10T13:28:06Z</cp:lastPrinted>
  <dcterms:modified xsi:type="dcterms:W3CDTF">2016-12-15T18:19:16Z</dcterms:modified>
  <cp:revision>1040</cp:revision>
  <dc:subject/>
  <dc:title>ISD Agenda</dc:title>
</cp:coreProperties>
</file>