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5513040" y="-73296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3/07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641520" y="117360"/>
            <a:ext cx="10411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856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5230800" y="961524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146400" y="961524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FC5C39-AFB5-4AB2-BEB0-6469873733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708480" y="961560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709560" y="9613800"/>
            <a:ext cx="537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635040" y="317520"/>
            <a:ext cx="55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3/07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95240" y="1198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60840" y="9615600"/>
            <a:ext cx="226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D10F87-66A7-4B01-B58E-735AB60690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3/07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95240" y="1198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60840" y="9615600"/>
            <a:ext cx="226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4DAE47-9075-4147-B6BF-D0C2B14048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278-A938-4851-BF36-2DE56E3C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07C-E576-49E1-8228-C6EF4F66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A02-E653-42EA-9AEB-986A2629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DEB-EC50-41AF-A21A-6965E843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8F45-E4B4-4975-8EFA-853530D5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311E-CFAE-4363-8710-82F3CD98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39AB-3DE1-4E2F-BB2E-08EA01F6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0F35-636E-4E59-BA9E-04ABD301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FDB6-E05E-495B-85D7-8A8D7BF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407D-4E62-435B-9805-82E76DF2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BAD-B9F3-4DF1-9A08-BD004B3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A16-3A29-442C-84F6-A01E9162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EEA1-A9DA-4B48-83D5-0B6E2C3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1D82-5871-462C-905E-FD0B1129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CCE9-4FEA-4B6B-B443-072185A6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1B15-4F12-482C-8F1A-349274F7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1D32-ADC6-46B2-9E78-2C663299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C35-E854-4D1D-B1EA-AA34CB5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D3D-AE74-4330-B286-3FE736ED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AEC-7B4E-4193-A5F5-9459B5FA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30C-087A-46E4-A69A-F38DE8A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9F6-091A-481C-B948-A3C4375E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BEF-62E2-4972-9407-27033B3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58F-49D0-4C1D-BDD2-4FB21455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A0B9318-8731-4587-BAAA-C8600F9196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82560" y="3207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6/1531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82560" y="3207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6/1531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783480" y="482760"/>
            <a:ext cx="185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389DC8-F78C-47EF-9BB7-4B2ECE317A5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71316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A830D6-DD43-4A33-B6D9-75B76E7557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oup-addressed G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16-12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544680" y="2585880"/>
          <a:ext cx="7964280" cy="16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585880"/>
                    <a:ext cx="796428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6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3B0CFE-C601-41EB-BAB5-B02C268D2C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cussion slides for adding group-addressed GAS for P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Selection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process is: Scan/Discover; Select; Connec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WLAN connection manager performs complex calculations to determine the most preferred network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may take many criteria in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p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o link conditions (e.g. signal quali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/Service requirements (e.g. local vs remote, Wi-Fi Dir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o co-existence condition (e.g. Bluetooth, LTE, Rad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 (e.g. battery 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Selection can be a time critical process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triggers a connection manager to re-select a different network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onnection?, Application/Service?, User Action?, Change in Radio/Application condi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1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E180FF-93CF-4811-9B31-73E9532C42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 Discovery and Network Discove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discovery could be done in two way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Invocation/Notific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performs Service Discovery (based on services “available” in the OS) with Service Discovery proced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connects, associates and invokes the services or notifies the OS that services are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ioritization takes prece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selec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/Service running on the device triggers query for services as part of network dis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prioritization may be taken into account but is 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this work if there are multiple servi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82B259-7196-4718-9965-F938CFAAC7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/AP Require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e the medium utilization for pre-association service discove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 the response time and overhead on the STA and AP in generating and processing service discovery requests/respon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Date Placeholder 1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A1202F-4359-47D2-BB48-CB5AA2B816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690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Solution 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757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ify GAS procedures to enable a group-addressed GAS (GA-GAS) request and response frame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TA could send a GA-GAS Reque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AP would reply with either a unicast GAS Response or a GA-GAS Response, depending on specific conditions that the AP determi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Date Placeholder 1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5BEC93-DFAA-4573-B016-6379126583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690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Solution – GA-GAS Reque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757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ify GAS procedures to allow transmission of a GA-GAS Request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ed to determine conditions under which it could be transmit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rict transmissions to the case where they are only used when GA-GAS APs are in rang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trict GA-GAS procedures to permit only PAD ANQP Requests? (at this time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ify GAS Procedures to permit the behavior where an AP only responds to a GAS request when it has a reply. (restrict this to PAD ANQP as well at this tim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Date Placeholder 1"/>
          <p:cNvSpPr/>
          <p:nvPr/>
        </p:nvSpPr>
        <p:spPr>
          <a:xfrm>
            <a:off x="583920" y="33480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728756-9216-4702-AFEB-E543706B2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Solution – GA-GAS Respon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7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ify GAS procedures to enable a group-addressed GAS (GA-GAS) response frame. This is time-limi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 a element that the AP will use to advertise GA-GAS responses (includes enable/disable, schedule information) in Beacons and Probe Response fram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 behavior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monitors PAD requests from 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detects that PAD requests (for the same service query) reception frequency exceeds thresho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enables group-addressed PAD responses (for a period of time (s) at an interval of T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 behavior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monitors AP Beacon/Probe Response; if group-addressed PAD responses are enabled; STA listens for GA-GAS PAD responses in addition to regular GAS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Date Placeholder 1"/>
          <p:cNvSpPr/>
          <p:nvPr/>
        </p:nvSpPr>
        <p:spPr>
          <a:xfrm>
            <a:off x="689400" y="345960"/>
            <a:ext cx="156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December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7268760" y="647532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, BlackBe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3682D7-C7F0-4778-8140-1F325F5E40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977080" y="42372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01:45Z</dcterms:created>
  <dc:creator>Stephen McCann</dc:creator>
  <dc:description/>
  <dc:language>en-US</dc:language>
  <cp:lastModifiedBy>Michael Montemurro</cp:lastModifiedBy>
  <cp:lastPrinted>1998-02-10T13:28:06Z</cp:lastPrinted>
  <dcterms:modified xsi:type="dcterms:W3CDTF">2016-12-15T18:19:16Z</dcterms:modified>
  <cp:revision>1040</cp:revision>
  <dc:subject/>
  <dc:title>ISD Agenda</dc:title>
</cp:coreProperties>
</file>