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7200"/>
            <a:ext cx="826920" cy="21348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5357880" y="8984880"/>
            <a:ext cx="923760" cy="127800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Osama Aboul-Magd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E89A34C1-4E48-44BF-AFBB-26E915958D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14"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1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1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8E39AE-9614-4C73-B4D5-130A6AA71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54160" y="701640"/>
            <a:ext cx="4626000" cy="3468600"/>
          </a:xfrm>
          <a:prstGeom prst="rect">
            <a:avLst/>
          </a:prstGeom>
          <a:ln w="0">
            <a:noFill/>
          </a:ln>
        </p:spPr>
      </p:sp>
      <p:sp>
        <p:nvSpPr>
          <p:cNvPr id="61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68"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6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7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BBEE42-8989-4125-AE5F-283A5FB1B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2"/>
          <p:cNvSpPr/>
          <p:nvPr/>
        </p:nvSpPr>
        <p:spPr>
          <a:xfrm>
            <a:off x="3999600" y="9756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1016r10</a:t>
            </a:r>
            <a:endParaRPr b="0" lang="en-US" sz="1400" spc="-1" strike="noStrike">
              <a:solidFill>
                <a:srgbClr val="000000"/>
              </a:solidFill>
              <a:latin typeface="Times New Roman"/>
            </a:endParaRPr>
          </a:p>
        </p:txBody>
      </p:sp>
      <p:sp>
        <p:nvSpPr>
          <p:cNvPr id="620" name="Rectangle 3"/>
          <p:cNvSpPr/>
          <p:nvPr/>
        </p:nvSpPr>
        <p:spPr>
          <a:xfrm>
            <a:off x="656640" y="97560"/>
            <a:ext cx="11818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2014</a:t>
            </a:r>
            <a:endParaRPr b="0" lang="en-US" sz="1400" spc="-1" strike="noStrike">
              <a:solidFill>
                <a:srgbClr val="000000"/>
              </a:solidFill>
              <a:latin typeface="Times New Roman"/>
            </a:endParaRPr>
          </a:p>
        </p:txBody>
      </p:sp>
      <p:sp>
        <p:nvSpPr>
          <p:cNvPr id="621" name="Rectangle 6"/>
          <p:cNvSpPr/>
          <p:nvPr/>
        </p:nvSpPr>
        <p:spPr>
          <a:xfrm>
            <a:off x="3962520" y="898524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62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21544A-5045-4281-A4D4-9CCCD5914C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54160" y="701640"/>
            <a:ext cx="4626000" cy="3468600"/>
          </a:xfrm>
          <a:prstGeom prst="rect">
            <a:avLst/>
          </a:prstGeom>
          <a:ln w="0">
            <a:noFill/>
          </a:ln>
        </p:spPr>
      </p:sp>
      <p:sp>
        <p:nvSpPr>
          <p:cNvPr id="62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2"/>
          <p:cNvSpPr/>
          <p:nvPr/>
        </p:nvSpPr>
        <p:spPr>
          <a:xfrm>
            <a:off x="3999600" y="9756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1016r10</a:t>
            </a:r>
            <a:endParaRPr b="0" lang="en-US" sz="1400" spc="-1" strike="noStrike">
              <a:solidFill>
                <a:srgbClr val="000000"/>
              </a:solidFill>
              <a:latin typeface="Times New Roman"/>
            </a:endParaRPr>
          </a:p>
        </p:txBody>
      </p:sp>
      <p:sp>
        <p:nvSpPr>
          <p:cNvPr id="626" name="Rectangle 3"/>
          <p:cNvSpPr/>
          <p:nvPr/>
        </p:nvSpPr>
        <p:spPr>
          <a:xfrm>
            <a:off x="656640" y="97560"/>
            <a:ext cx="11818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September2014</a:t>
            </a:r>
            <a:endParaRPr b="0" lang="en-US" sz="1400" spc="-1" strike="noStrike">
              <a:solidFill>
                <a:srgbClr val="000000"/>
              </a:solidFill>
              <a:latin typeface="Times New Roman"/>
            </a:endParaRPr>
          </a:p>
        </p:txBody>
      </p:sp>
      <p:sp>
        <p:nvSpPr>
          <p:cNvPr id="627" name="Rectangle 6"/>
          <p:cNvSpPr/>
          <p:nvPr/>
        </p:nvSpPr>
        <p:spPr>
          <a:xfrm>
            <a:off x="3962520" y="8985240"/>
            <a:ext cx="2545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rothy Stanley, Aruba Networks</a:t>
            </a:r>
            <a:endParaRPr b="0" lang="en-US" sz="1200" spc="-1" strike="noStrike">
              <a:solidFill>
                <a:srgbClr val="000000"/>
              </a:solidFill>
              <a:latin typeface="Times New Roman"/>
            </a:endParaRPr>
          </a:p>
        </p:txBody>
      </p:sp>
      <p:sp>
        <p:nvSpPr>
          <p:cNvPr id="62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A9E3F7-E154-4E22-9C1F-99AF387F90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1154160" y="701640"/>
            <a:ext cx="4626000" cy="3468600"/>
          </a:xfrm>
          <a:prstGeom prst="rect">
            <a:avLst/>
          </a:prstGeom>
          <a:ln w="0">
            <a:noFill/>
          </a:ln>
        </p:spPr>
      </p:sp>
      <p:sp>
        <p:nvSpPr>
          <p:cNvPr id="63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32"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3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3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BDCC9D-B792-44B8-8D81-80444D0B3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1154160" y="701640"/>
            <a:ext cx="4626000" cy="3468600"/>
          </a:xfrm>
          <a:prstGeom prst="rect">
            <a:avLst/>
          </a:prstGeom>
          <a:ln w="0">
            <a:noFill/>
          </a:ln>
        </p:spPr>
      </p:sp>
      <p:sp>
        <p:nvSpPr>
          <p:cNvPr id="6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38"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39"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4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2880D6-913C-4842-AAFA-5624596D44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1154160" y="701640"/>
            <a:ext cx="4626000" cy="3468600"/>
          </a:xfrm>
          <a:prstGeom prst="rect">
            <a:avLst/>
          </a:prstGeom>
          <a:ln w="0">
            <a:noFill/>
          </a:ln>
        </p:spPr>
      </p:sp>
      <p:sp>
        <p:nvSpPr>
          <p:cNvPr id="64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44"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45"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4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27A311-735C-4A12-8B06-434076168B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1154160" y="701640"/>
            <a:ext cx="4626000" cy="3468600"/>
          </a:xfrm>
          <a:prstGeom prst="rect">
            <a:avLst/>
          </a:prstGeom>
          <a:ln w="0">
            <a:noFill/>
          </a:ln>
        </p:spPr>
      </p:sp>
      <p:sp>
        <p:nvSpPr>
          <p:cNvPr id="64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50"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51"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5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F36AC0-77A8-4867-88F6-C0BCC1D7E9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1154160" y="701640"/>
            <a:ext cx="4626000" cy="3468600"/>
          </a:xfrm>
          <a:prstGeom prst="rect">
            <a:avLst/>
          </a:prstGeom>
          <a:ln w="0">
            <a:noFill/>
          </a:ln>
        </p:spPr>
      </p:sp>
      <p:sp>
        <p:nvSpPr>
          <p:cNvPr id="65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56"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57"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5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13C6FC-D876-41B1-8F3B-D996CDE74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sldImg"/>
          </p:nvPr>
        </p:nvSpPr>
        <p:spPr>
          <a:xfrm>
            <a:off x="1154160" y="701640"/>
            <a:ext cx="4626000" cy="3468600"/>
          </a:xfrm>
          <a:prstGeom prst="rect">
            <a:avLst/>
          </a:prstGeom>
          <a:ln w="0">
            <a:noFill/>
          </a:ln>
        </p:spPr>
      </p:sp>
      <p:sp>
        <p:nvSpPr>
          <p:cNvPr id="66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xxxxr0</a:t>
            </a:r>
            <a:endParaRPr b="0" lang="en-US" sz="1400" spc="-1" strike="noStrike">
              <a:solidFill>
                <a:srgbClr val="000000"/>
              </a:solidFill>
              <a:latin typeface="Times New Roman"/>
            </a:endParaRPr>
          </a:p>
        </p:txBody>
      </p:sp>
      <p:sp>
        <p:nvSpPr>
          <p:cNvPr id="662" name="Rectangle 3"/>
          <p:cNvSpPr/>
          <p:nvPr/>
        </p:nvSpPr>
        <p:spPr>
          <a:xfrm>
            <a:off x="69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3</a:t>
            </a:r>
            <a:endParaRPr b="0" lang="en-US" sz="1400" spc="-1" strike="noStrike">
              <a:solidFill>
                <a:srgbClr val="000000"/>
              </a:solidFill>
              <a:latin typeface="Times New Roman"/>
            </a:endParaRPr>
          </a:p>
        </p:txBody>
      </p:sp>
      <p:sp>
        <p:nvSpPr>
          <p:cNvPr id="663" name="Rectangle 6"/>
          <p:cNvSpPr/>
          <p:nvPr/>
        </p:nvSpPr>
        <p:spPr>
          <a:xfrm>
            <a:off x="4232880" y="8985240"/>
            <a:ext cx="317376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Osama Aboul-Magd (Huawei Technologies)</a:t>
            </a:r>
            <a:endParaRPr b="0" lang="en-US" sz="1200" spc="-1" strike="noStrike">
              <a:solidFill>
                <a:srgbClr val="000000"/>
              </a:solidFill>
              <a:latin typeface="Times New Roman"/>
            </a:endParaRPr>
          </a:p>
        </p:txBody>
      </p:sp>
      <p:sp>
        <p:nvSpPr>
          <p:cNvPr id="66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44FC17-E8A9-429F-B754-B288EA83D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5" name="PlaceHolder 1"/>
          <p:cNvSpPr>
            <a:spLocks noGrp="1"/>
          </p:cNvSpPr>
          <p:nvPr>
            <p:ph type="sldImg"/>
          </p:nvPr>
        </p:nvSpPr>
        <p:spPr>
          <a:xfrm>
            <a:off x="1154160" y="701640"/>
            <a:ext cx="4626000" cy="3468600"/>
          </a:xfrm>
          <a:prstGeom prst="rect">
            <a:avLst/>
          </a:prstGeom>
          <a:ln w="0">
            <a:noFill/>
          </a:ln>
        </p:spPr>
      </p:sp>
      <p:sp>
        <p:nvSpPr>
          <p:cNvPr id="6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A581D-A4C3-4C4A-AB9E-F5CAAAF551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0D7CF-0EC7-4D3A-9D80-A6F7DAA71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0BC660-8CD2-442A-B20F-A20CB2BFC1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C8474F-18F7-43D2-B0CD-7185E52A04F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175006-4947-4E1A-83E7-139767B22E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93197C-6C02-4572-ADB2-861F785899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F4EC0-270F-4455-B253-BC63B988A0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4B1490-1C90-4BBD-80D3-2C9F0FB4E0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2CEFF5-A24D-4CBB-B0A1-EB08FFF848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D66F27-4F0B-4C3D-BD34-8CE26F4BCD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03AD8B4-CD7C-4E26-AFAC-6E6C5CEB899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2048557-2CB6-4666-8B85-BF4279B390D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DF4C7-28EB-4D5D-BDEB-4B50FCCFC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2AD49C-9215-4537-8C1F-A8ABFD8492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F1548C-9AD2-4FDD-8EB2-8E428D8745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148934-F214-4151-AD33-1DC0A0512C6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DB523C-C084-4520-9FEE-3163AA4D11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68FA94-9C50-46E7-92B9-A318122BB4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A0A0750-C80E-4720-93D1-43EE47826C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32B276-9823-4ADA-8472-1EDE3FA9318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7ADF42-CEAD-4222-A6B3-5761AB21CD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6F1168-4485-45B7-BDB3-3CFA4607E32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39FCD4-5A64-46AB-88F4-71CF771E1C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D0399-B2F7-4F7C-BB50-7320F357BA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10987D0-EF82-4CA0-93AF-F319F03D55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F0B5669-879B-4941-A4BF-7A3898361B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B75284-4685-49E9-A37D-7850649146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598220-FB95-4F60-9C05-C57001A016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AA1907-24C9-4F5E-89C4-2D8890A202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FC64E4-872E-4003-B9C9-3757A3CCF2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04A5F6C-E662-4025-86DC-AB467554FA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146AEF-131D-4D2B-8C72-9B6428766D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FBF661-CC83-4C72-8F24-E5E9554ADD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E7035C-CA14-4D3D-98DF-72A054C5F9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213836-120D-4DB0-90E2-52C2AB3F8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C008AA-55D4-431A-AC59-0BE89C45E1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7A26E12-EBF0-493B-BC6D-52B4DC39E7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196B9DF-AED3-479B-8274-3336627EC2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BF9CB2D-6092-4608-9BF8-7390D0537FC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36F0822-C3AD-4D37-847D-444B9F9444B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921E67-E62E-4757-866B-0314BD9133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87CB20-B94D-498E-ADB1-4CB3A8EA45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0BC25D-4653-4560-8220-0D3D2BB403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553F323-0BE9-40A3-95D9-481ACCFA95A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D33FC2-C9A3-425B-959D-B4E7475F5F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9C809-5F86-4252-85C3-A19C576AD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F20E9C-CEF1-48B5-9268-BEDD1010FE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EC4D5FE-49A0-4FB7-A7C0-158A5E0EF1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C04BE5A-8194-425D-8B0F-9884320AE7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9B9B0E-72E1-40B0-A1D1-18A4F1F1032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14128F2-9DBC-4A5B-95CA-6E3A14FF53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10D72-1A07-421B-BD22-E61662364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FC303F-DA2D-45B1-87FA-064961BE06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3DF90-3407-4691-A90A-D823E85FA1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A4966-61D2-45CC-B2AC-C212315FB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4B2735-7BE3-45B2-B903-A825BEA4E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94CFE-5734-439D-8DAD-86C3398C0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3A46F-F8DE-431C-91D7-1332B4A10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7E4C7-EE9E-4A79-9EA8-EF95FAEA7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E8179-9E74-4EA4-A438-8150D1944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D188F-CE0C-4441-8701-3799EA034E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B16819-FD43-4B46-8322-788BAAE095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5B85EC-5EAD-45EF-B134-46ABC8CA5B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B20816-7902-43FE-989C-9443E75522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D6C1C4-A15D-49E2-8D59-3E6E2ACF02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AE950-92CC-498B-B1B6-0E8E5DB530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930445-BAA4-4948-B67C-934C432110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F20EA-A44E-4868-AD22-A786CB8DB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4E9A14-3B80-4FD3-8B88-8E701FCD74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120AD-31D7-44E6-983D-4F47813F7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427F5-E432-41BD-B7E7-424A0B4BF7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AA3F1-9311-48CF-8C2A-167AE8CE49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9BDA7-D0C5-488A-9892-1E7DC057C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E1EE07-F115-4965-A5EC-8DF28F7670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4036D4-99DA-4F42-A084-95D53B3E59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8D5FEB-F781-48A0-A97C-6263031247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11425E-4C1B-44BE-93CB-6B7DD3CC7C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6F22E7-CBFD-4668-A4A7-6244500C30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45FAC-E917-4FBE-B1F2-F7F4C7281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B99189-D7A2-42A8-843C-2C7401595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EC0138-F3C3-46D3-88B9-3D5F73E8FC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2DB11D-A3F7-4632-B6F3-7253BEB9E9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42885E-A1BD-45DE-90D3-D5B9FD833C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E75842-6966-48B7-85AF-FA0A5EC14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B5654-7D51-4A54-9DB5-D7152C09DB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0C9A63-A0E8-4963-9601-2719D80250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BDF681-7DE9-4663-8E40-BCB743F399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7528B9-A0FD-48E7-9573-ECB7BB6AC6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45937F-0540-4DDB-8B16-90AA09F9D2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1127D-638A-4D6F-B3CE-B081E57E9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EF898E-0022-4A8C-BA4B-D90D1166C9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1CF5A9-F3DA-4353-852F-52A86484E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58C60B-137D-4493-8BA8-77DC804665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7567DD7-18A1-4FE8-83DE-2D3E8A6D0C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26500B-AD44-49D8-9010-74868B74C4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6F1303-24FD-4C3F-BD91-63B72D24C9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9141A-66E4-48B0-A6A6-A5858A23C4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E9E724-C5BA-4D8F-A927-2FCD2B37F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4D58D-BF45-4B5A-8358-92B8D42E01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A0605D-BF12-4342-BF7F-B459BADF62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5BAAF-B643-4C81-BDED-898B0459B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9A865A-0AA5-4B0B-B9DF-7CC6AC3763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3B9F6F-FD92-4DEB-926D-2AA4B28C60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12741B-0D0F-4408-98D5-87215A3AA6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431850-617C-49B8-8AE5-AE8FB05513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3920D7-0113-4169-A784-772569A7D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3F21F2-CBDF-4B18-BCE2-0C118F9581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5A6A50-AADE-482D-8E90-1F66F5CA7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61904C-ABB3-43F8-AE80-F98398DB54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53F59-A48A-46BE-9421-7AB935F018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548AB-4BF9-4A7F-9DDC-34E682B62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42C5F-DA4E-403F-B2AD-567242ED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5E1D4-9905-401C-8D64-F0ED0BDE5D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F68426-D101-4094-B367-C103E3F513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51D89F-C1A1-415A-95A0-4596168E94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EC828C-DE0D-4C93-8543-907A0CFDFA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60CD95-85E3-4B63-B27C-D20BAE266B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B0D015-EC22-417B-A4ED-2BF5E79F3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17A2E1-9BCE-416E-AF7D-5E84687062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ED9C7D-6C3D-4062-BDA7-6F08206635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E76B1B-AC6B-48F6-B95A-CB730E627A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6AF6CF-17B4-4C6B-AFD2-65E450CC2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65E98-2609-496E-A327-E4823D5FE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047FB3-97B9-4AAC-BFB8-BDE7887A5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0F8E94-120F-4917-BFFB-6FFFABEFAD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03282B-898A-43FB-B7B4-6CBC5A2AC5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0671E4-2972-43D3-BF5C-4505090946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45D41B-AF9A-446C-957C-E9CCCBBB806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DF44E9-160D-49C0-82A4-92595B43F5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2BF672-28BD-4BBE-ACC2-E07B126F84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4898D2-022E-4AA9-B98B-DD752FF8A3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2DD91B-9DD0-4E9A-BE4F-0A562A3026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61714D-C017-465F-AD30-1CA7AE28F3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2E2D1-C57D-4658-BB8A-AFD0413AE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9C15AC-8225-41D6-800F-62358D26BE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C153AE-A265-49EE-A20C-E57C62C73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870BF7-F3D3-40A1-9990-61E97ACA0C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61E86D-1174-4B86-92F4-079191A40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CA93C2-CE23-4182-B9B4-EE8C4A8A8F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4161AB-83E8-4BC2-AED2-540630187E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C45208-BE82-44DF-BCE4-8A764292F4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55C4E9-97BC-4547-93C0-6C0178F5D9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8F032E-1414-4CE8-B6E3-5ED8EB832A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8FB98F-8F30-445A-A358-66001AD6BDC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DA787B3-88D7-458F-A728-6A6F2DF173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4E37ABF-E412-43D2-A4F2-7FC54FADD4E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3FD40C9-4F06-46C0-B8F9-8F7267300EA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EF5C048-4674-4C9C-B75D-09197379CB1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3A592CD-8C84-47AA-B062-40CB384A73C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F0E5E1D-3D76-49A3-8E5B-EBFDEE5070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EEEA714-C247-4D40-86E1-59CD91BC21D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FBE7DAD-0B3C-4895-8454-CF17DF68874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B24119A-C64F-47C3-A049-8B2E7805336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980A460-780A-4C2F-871D-69E1AC81A3F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AC03773-03AB-4D55-8CF4-2554C7C82C1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465552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6/1528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5</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young Park (Intel Corporation)</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3366BCF-632B-458D-9B43-301597BA066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6/11-16-1045-09-0wur-a-par-proposal-wur-sg.docx"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6/11-16-1045-09-0wur-a-par-proposal-wur-sg.docx" TargetMode="Externa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A44766-D503-4C2C-8F99-E1717B596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WUR SG PAR and CSD</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11-08</a:t>
            </a:r>
            <a:endParaRPr b="1" lang="en-US" sz="2000" spc="-1" strike="noStrike">
              <a:solidFill>
                <a:srgbClr val="000000"/>
              </a:solidFill>
              <a:latin typeface="Times New Roman"/>
            </a:endParaRPr>
          </a:p>
        </p:txBody>
      </p:sp>
      <p:sp>
        <p:nvSpPr>
          <p:cNvPr id="555" name="Rectangle 12"/>
          <p:cNvSpPr/>
          <p:nvPr/>
        </p:nvSpPr>
        <p:spPr>
          <a:xfrm>
            <a:off x="685800" y="21337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556" name="Object 3"/>
          <p:cNvGraphicFramePr/>
          <p:nvPr/>
        </p:nvGraphicFramePr>
        <p:xfrm>
          <a:off x="779400" y="3057480"/>
          <a:ext cx="7255080" cy="2654280"/>
        </p:xfrm>
        <a:graphic>
          <a:graphicData uri="http://schemas.openxmlformats.org/presentationml/2006/ole">
            <p:oleObj progId="Word.Document.12" r:id="rId1" spid="">
              <p:embed/>
              <p:pic>
                <p:nvPicPr>
                  <p:cNvPr id="557" name="Object 3" descr=""/>
                  <p:cNvPicPr/>
                  <p:nvPr/>
                </p:nvPicPr>
                <p:blipFill>
                  <a:blip r:embed="rId2"/>
                  <a:stretch/>
                </p:blipFill>
                <p:spPr>
                  <a:xfrm>
                    <a:off x="779400" y="3057480"/>
                    <a:ext cx="7255080" cy="265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E0D8D8-8B32-478E-B0BC-7D055AC2A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nts from 802.11 PAR SC on PAR </a:t>
            </a:r>
            <a:endParaRPr b="0" lang="en-US" sz="2800" spc="-1" strike="noStrike">
              <a:solidFill>
                <a:srgbClr val="000000"/>
              </a:solidFill>
              <a:latin typeface="Times New Roman"/>
            </a:endParaRPr>
          </a:p>
        </p:txBody>
      </p:sp>
      <p:sp>
        <p:nvSpPr>
          <p:cNvPr id="600" name="Rectangle 3"/>
          <p:cNvSpPr/>
          <p:nvPr/>
        </p:nvSpPr>
        <p:spPr>
          <a:xfrm>
            <a:off x="685800" y="1676520"/>
            <a:ext cx="7772400" cy="4798800"/>
          </a:xfrm>
          <a:prstGeom prst="rect">
            <a:avLst/>
          </a:prstGeom>
          <a:noFill/>
          <a:ln w="0">
            <a:noFill/>
          </a:ln>
        </p:spPr>
        <p:style>
          <a:lnRef idx="0"/>
          <a:fillRef idx="0"/>
          <a:effectRef idx="0"/>
          <a:fontRef idx="minor"/>
        </p:style>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2.b. The scope uses “normal” which should be removed.  Is it really a new PHY layer that uses both 2.4 GHz and 5 GHz bands?  Use of “packets” seems odd to use rather than “frame”?  Can this work in the 3 GHz, 60Ghz or Whitespace bands as well?  The current scope statement seems to be a listing of market points for the amendmen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Scope replacement tex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2.b Scope of the Project: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is amendment defines physical (PHY) layer and medium access control (MAC) layer specifications that enables operation of a wake-up radio (WUR). The WUR defines an active receiver with expected power consumption of less than one milliwat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spons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ed. Project scope was updated in 11-16-1045r9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1/dcn/16/11-16-1045-09-0wur-a-par-proposal-wur-sg.docx</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60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1 PAR SC on PAR </a:t>
            </a:r>
            <a:endParaRPr b="1" lang="en-US" sz="3200" spc="-1" strike="noStrike">
              <a:solidFill>
                <a:srgbClr val="000000"/>
              </a:solidFill>
              <a:latin typeface="Times New Roman"/>
            </a:endParaRPr>
          </a:p>
        </p:txBody>
      </p:sp>
      <p:sp>
        <p:nvSpPr>
          <p:cNvPr id="6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5 suggested change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a:t>
            </a:r>
            <a:r>
              <a:rPr b="1" lang="en-GB" sz="1800" spc="-1" strike="noStrike">
                <a:solidFill>
                  <a:srgbClr val="000000"/>
                </a:solidFill>
                <a:latin typeface="Times New Roman"/>
              </a:rPr>
              <a:t>Devices based on the power save modes of the IEEE 802.11 standard periodically wake up from a sleep… “</a:t>
            </a:r>
            <a:endParaRPr b="1" lang="en-US" sz="1800" spc="-1" strike="noStrike">
              <a:solidFill>
                <a:srgbClr val="000000"/>
              </a:solidFill>
              <a:latin typeface="Times New Roman"/>
            </a:endParaRPr>
          </a:p>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a:t>
            </a:r>
            <a:r>
              <a:rPr b="0" lang="en-US" sz="1600" spc="-1" strike="noStrike">
                <a:solidFill>
                  <a:srgbClr val="000000"/>
                </a:solidFill>
                <a:latin typeface="Times New Roman"/>
              </a:rPr>
              <a:t>“</a:t>
            </a:r>
            <a:r>
              <a:rPr b="0" lang="en-GB" sz="1600" spc="-1" strike="noStrike">
                <a:solidFill>
                  <a:srgbClr val="000000"/>
                </a:solidFill>
                <a:latin typeface="Times New Roman"/>
              </a:rPr>
              <a:t>Devices based on the IEEE 802.11 power save modes periodically wake up from a sleep…” </a:t>
            </a:r>
            <a:endParaRPr b="0" lang="en-US" sz="16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hange “Therefore, for the 802.11 standard to be competitive, the IEEE 802.11 WG needs to develop power efficient mechanisms “</a:t>
            </a:r>
            <a:endParaRPr b="1" lang="en-US" sz="1800" spc="-1" strike="noStrike">
              <a:solidFill>
                <a:srgbClr val="000000"/>
              </a:solidFill>
              <a:latin typeface="Times New Roman"/>
            </a:endParaRPr>
          </a:p>
          <a:p>
            <a:pPr lvl="1" marL="457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 “Power efficient mechanisms need …”</a:t>
            </a:r>
            <a:endParaRPr b="0" lang="en-US" sz="16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lete “This project addresses this need. This project is also expected to benefit traditional devices with WLAN interfaces such as smartphones.”</a:t>
            </a:r>
            <a:endParaRPr b="1"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pte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05"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6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8FFB52-D8B1-49B6-9830-0869EA0FA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1 PAR SC on PAR </a:t>
            </a:r>
            <a:endParaRPr b="1" lang="en-US" sz="3200" spc="-1" strike="noStrike">
              <a:solidFill>
                <a:srgbClr val="000000"/>
              </a:solidFill>
              <a:latin typeface="Times New Roman"/>
            </a:endParaRPr>
          </a:p>
        </p:txBody>
      </p:sp>
      <p:sp>
        <p:nvSpPr>
          <p:cNvPr id="60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delete the 5.2.b. note (all the text).</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ept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Footer Placeholder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6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A2845E-E357-4D75-A62E-711113F646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A86AF0-11B2-401C-B28F-CF35E2C9D0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lide deck documents the comments on WUR SG PAR and CSD, and the corresponding response from WUR S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tract</a:t>
            </a:r>
            <a:endParaRPr b="0" lang="en-US" sz="2800" spc="-1" strike="noStrike">
              <a:solidFill>
                <a:srgbClr val="000000"/>
              </a:solidFill>
              <a:latin typeface="Times New Roman"/>
            </a:endParaRPr>
          </a:p>
        </p:txBody>
      </p:sp>
      <p:sp>
        <p:nvSpPr>
          <p:cNvPr id="5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56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F01B5F-693C-4DC7-BC70-51166D3A1A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onse to comments from 802.3</a:t>
            </a:r>
            <a:endParaRPr b="0" lang="en-US" sz="2800" spc="-1" strike="noStrike">
              <a:solidFill>
                <a:srgbClr val="000000"/>
              </a:solidFill>
              <a:latin typeface="Times New Roman"/>
            </a:endParaRPr>
          </a:p>
        </p:txBody>
      </p:sp>
      <p:sp>
        <p:nvSpPr>
          <p:cNvPr id="5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56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51CEEC-EEF4-4BC6-A096-1544FCFDD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nts from 802.3 on CSD </a:t>
            </a:r>
            <a:endParaRPr b="0" lang="en-US" sz="2800" spc="-1" strike="noStrike">
              <a:solidFill>
                <a:srgbClr val="000000"/>
              </a:solidFill>
              <a:latin typeface="Times New Roman"/>
            </a:endParaRPr>
          </a:p>
        </p:txBody>
      </p:sp>
      <p:sp>
        <p:nvSpPr>
          <p:cNvPr id="57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3 Distinct Identity — You may want to delete the second paragraph, because the title of a document does not create distinct identity of the specifications contained in the proposed amendment.</a:t>
            </a:r>
            <a:endParaRPr b="0" lang="en-US" sz="20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epted. The paragraph is deleted</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57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E722A4-C665-41A8-A080-85B189422F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nts from 802.3 on CSD </a:t>
            </a:r>
            <a:endParaRPr b="0" lang="en-US" sz="2800" spc="-1" strike="noStrike">
              <a:solidFill>
                <a:srgbClr val="000000"/>
              </a:solidFill>
              <a:latin typeface="Times New Roman"/>
            </a:endParaRPr>
          </a:p>
        </p:txBody>
      </p:sp>
      <p:sp>
        <p:nvSpPr>
          <p:cNvPr id="57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4,b) Technical Feasibility — The answer seems to contradict the response to Economic Feasibility, this response seems to say that technical feasibility is not known. Therefore, additional study time should be spent to determine with appropriate confidence WUR technical feasibility before a PAR is submitted. Based on the Economic Feasibility we assume enough is known about the technical feasibility that this question could be properly answered.</a:t>
            </a:r>
            <a:endParaRPr b="0" lang="en-US" sz="20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ment is adjusted by removing the first sentence of the paragraph in 1.2.4.b</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57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F5E903-9A53-4BC5-8449-04CD902ED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nts from 802.3 on PAR </a:t>
            </a:r>
            <a:endParaRPr b="0" lang="en-US" sz="2800" spc="-1" strike="noStrike">
              <a:solidFill>
                <a:srgbClr val="000000"/>
              </a:solidFill>
              <a:latin typeface="Times New Roman"/>
            </a:endParaRPr>
          </a:p>
        </p:txBody>
      </p:sp>
      <p:sp>
        <p:nvSpPr>
          <p:cNvPr id="58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a:t>
            </a:r>
            <a:endParaRPr b="0" lang="en-US" sz="20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eneral — It would be helpful to reviewers if the PAR were output from the myProject system. Failure to use myProject also leads to errors, for example, the approval date is the approval by the SASB, which will not be November 2016; and the expiration date is based on the approval date. (Neither should be filled in at this point.)</a:t>
            </a:r>
            <a:endParaRPr b="0"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reed. The request date is corrected and the other dates are remov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58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D0092B-F49F-46DD-9FBC-5F05586D9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nts from 802.3 on PAR </a:t>
            </a:r>
            <a:endParaRPr b="0" lang="en-US" sz="2800" spc="-1" strike="noStrike">
              <a:solidFill>
                <a:srgbClr val="000000"/>
              </a:solidFill>
              <a:latin typeface="Times New Roman"/>
            </a:endParaRPr>
          </a:p>
        </p:txBody>
      </p:sp>
      <p:sp>
        <p:nvSpPr>
          <p:cNvPr id="58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5.2.b Project scope — As written the last sentence could be taken as requiring an implementation to be less than one milliwatt, or with an alternate parsing of words that the project is expected to allow WUR radios consuming less than one milliwatt. Rewrite to either clearly state as a requirement, or if not a requirement a possible implementation characteristics.</a:t>
            </a:r>
            <a:endParaRPr b="0" lang="en-US" sz="20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scope was updated in 11-16-1045r9 (link below).</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6/11-16-1045-09-0wur-a-par-proposal-wur-sg.docx</a:t>
            </a:r>
            <a:endParaRPr b="0" lang="en-US" sz="20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58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FDDF0A-58EA-4DCC-84A7-A0462C7260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nts from 802.11 PAR SC on PAR </a:t>
            </a:r>
            <a:endParaRPr b="0" lang="en-US" sz="2800" spc="-1" strike="noStrike">
              <a:solidFill>
                <a:srgbClr val="000000"/>
              </a:solidFill>
              <a:latin typeface="Times New Roman"/>
            </a:endParaRPr>
          </a:p>
        </p:txBody>
      </p:sp>
      <p:sp>
        <p:nvSpPr>
          <p:cNvPr id="590"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 Number – change to “P802.11ba”</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ution:</a:t>
            </a:r>
            <a:endParaRPr b="0" lang="en-US" sz="1800" spc="-1" strike="noStrike">
              <a:solidFill>
                <a:srgbClr val="000000"/>
              </a:solidFill>
              <a:latin typeface="Times New Roman"/>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reed. </a:t>
            </a:r>
            <a:endParaRPr b="0" lang="en-US" sz="1800" spc="-1" strike="noStrike">
              <a:solidFill>
                <a:srgbClr val="000000"/>
              </a:solidFill>
              <a:latin typeface="Times New Roman"/>
            </a:endParaRPr>
          </a:p>
          <a:p>
            <a:pPr lvl="1" marL="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59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0D544F-3246-4F84-89FF-26E0269253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ments from 802.11 PAR SC on PAR </a:t>
            </a:r>
            <a:endParaRPr b="0" lang="en-US" sz="2800" spc="-1" strike="noStrike">
              <a:solidFill>
                <a:srgbClr val="000000"/>
              </a:solidFill>
              <a:latin typeface="Times New Roman"/>
            </a:endParaRPr>
          </a:p>
        </p:txBody>
      </p:sp>
      <p:sp>
        <p:nvSpPr>
          <p:cNvPr id="595"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1 Title – need to quantify “Low-power”. suggest “Low-power (less than 1mill-wat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solu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vised. The title is changed to “wake-up radio oper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young Park (Intel Corporation)</a:t>
            </a:r>
            <a:endParaRPr b="0" lang="en-US" sz="1200" spc="-1" strike="noStrike">
              <a:solidFill>
                <a:srgbClr val="000000"/>
              </a:solidFill>
              <a:latin typeface="Times New Roman"/>
            </a:endParaRPr>
          </a:p>
        </p:txBody>
      </p:sp>
      <p:sp>
        <p:nvSpPr>
          <p:cNvPr id="597"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dc:language>en-US</dc:language>
  <cp:lastModifiedBy>Park, Minyoung</cp:lastModifiedBy>
  <cp:lastPrinted>2014-11-04T15:04:57Z</cp:lastPrinted>
  <dcterms:modified xsi:type="dcterms:W3CDTF">2016-11-09T16:29:22Z</dcterms:modified>
  <cp:revision>1629</cp:revision>
  <dc:subject>11-15-0271-04-ng60-Comments-on-TGay-PAR-and-CSD</dc:subject>
  <dc:title>Comments on TGay PAR and CS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ies>
</file>