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CC767991-3EBA-4743-8B61-F3D4F49107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ED0640-B197-4273-B199-EA9980B87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54160" y="701640"/>
            <a:ext cx="4626000" cy="3468600"/>
          </a:xfrm>
          <a:prstGeom prst="rect">
            <a:avLst/>
          </a:prstGeom>
          <a:ln w="0">
            <a:noFill/>
          </a:ln>
        </p:spPr>
      </p:sp>
      <p:sp>
        <p:nvSpPr>
          <p:cNvPr id="7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F058E0-1531-48EB-8012-775553397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3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E9CEBB-3335-4195-AEF8-87F971F0A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4160" y="701640"/>
            <a:ext cx="4626000" cy="3468600"/>
          </a:xfrm>
          <a:prstGeom prst="rect">
            <a:avLst/>
          </a:prstGeom>
          <a:ln w="0">
            <a:noFill/>
          </a:ln>
        </p:spPr>
      </p:sp>
      <p:sp>
        <p:nvSpPr>
          <p:cNvPr id="8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83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83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8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70814A-C2C7-4452-AEB3-04158742F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4160" y="701640"/>
            <a:ext cx="4626000" cy="3468600"/>
          </a:xfrm>
          <a:prstGeom prst="rect">
            <a:avLst/>
          </a:prstGeom>
          <a:ln w="0">
            <a:noFill/>
          </a:ln>
        </p:spPr>
      </p:sp>
      <p:sp>
        <p:nvSpPr>
          <p:cNvPr id="8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54160" y="701640"/>
            <a:ext cx="4626000" cy="3468600"/>
          </a:xfrm>
          <a:prstGeom prst="rect">
            <a:avLst/>
          </a:prstGeom>
          <a:ln w="0">
            <a:noFill/>
          </a:ln>
        </p:spPr>
      </p:sp>
      <p:sp>
        <p:nvSpPr>
          <p:cNvPr id="8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BB2F2A-4B5A-4AA2-9864-27DEE8FC2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54160" y="701640"/>
            <a:ext cx="4626000" cy="3468600"/>
          </a:xfrm>
          <a:prstGeom prst="rect">
            <a:avLst/>
          </a:prstGeom>
          <a:ln w="0">
            <a:noFill/>
          </a:ln>
        </p:spPr>
      </p:sp>
      <p:sp>
        <p:nvSpPr>
          <p:cNvPr id="8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E9D815-F197-476D-A629-C78DBC3A8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190610-BAB1-4273-A303-DEAB6296B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54160" y="701640"/>
            <a:ext cx="4626000" cy="3468600"/>
          </a:xfrm>
          <a:prstGeom prst="rect">
            <a:avLst/>
          </a:prstGeom>
          <a:ln w="0">
            <a:noFill/>
          </a:ln>
        </p:spPr>
      </p:sp>
      <p:sp>
        <p:nvSpPr>
          <p:cNvPr id="8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54160" y="701640"/>
            <a:ext cx="4626000" cy="3468600"/>
          </a:xfrm>
          <a:prstGeom prst="rect">
            <a:avLst/>
          </a:prstGeom>
          <a:ln w="0">
            <a:noFill/>
          </a:ln>
        </p:spPr>
      </p:sp>
      <p:sp>
        <p:nvSpPr>
          <p:cNvPr id="8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BD2C2F-09B9-4D4F-8659-C8C502BA4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54160" y="701640"/>
            <a:ext cx="4626000" cy="3468600"/>
          </a:xfrm>
          <a:prstGeom prst="rect">
            <a:avLst/>
          </a:prstGeom>
          <a:ln w="0">
            <a:noFill/>
          </a:ln>
        </p:spPr>
      </p:sp>
      <p:sp>
        <p:nvSpPr>
          <p:cNvPr id="8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AA1409-82DF-414E-AF03-1FCFD6667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54160" y="701640"/>
            <a:ext cx="4626000" cy="3468600"/>
          </a:xfrm>
          <a:prstGeom prst="rect">
            <a:avLst/>
          </a:prstGeom>
          <a:ln w="0">
            <a:noFill/>
          </a:ln>
        </p:spPr>
      </p:sp>
      <p:sp>
        <p:nvSpPr>
          <p:cNvPr id="8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0494CF-8C7E-4C44-BA3E-854B5BC4B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D3030B-E6F4-459E-95E0-AD05FB025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701640"/>
            <a:ext cx="4626000" cy="3468600"/>
          </a:xfrm>
          <a:prstGeom prst="rect">
            <a:avLst/>
          </a:prstGeom>
          <a:ln w="0">
            <a:noFill/>
          </a:ln>
        </p:spPr>
      </p:sp>
      <p:sp>
        <p:nvSpPr>
          <p:cNvPr id="7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8EE791-289C-4ED9-9867-A3E7DFB64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54160" y="701640"/>
            <a:ext cx="4626000" cy="3468600"/>
          </a:xfrm>
          <a:prstGeom prst="rect">
            <a:avLst/>
          </a:prstGeom>
          <a:ln w="0">
            <a:noFill/>
          </a:ln>
        </p:spPr>
      </p:sp>
      <p:sp>
        <p:nvSpPr>
          <p:cNvPr id="8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D88473-1A48-4C83-A3FC-F768D3185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54160" y="701640"/>
            <a:ext cx="4626000" cy="3468600"/>
          </a:xfrm>
          <a:prstGeom prst="rect">
            <a:avLst/>
          </a:prstGeom>
          <a:ln w="0">
            <a:noFill/>
          </a:ln>
        </p:spPr>
      </p:sp>
      <p:sp>
        <p:nvSpPr>
          <p:cNvPr id="8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8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EDDD96-7462-44A0-BCBA-A06355868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7F9C86-600D-49BE-B821-4B2350D6E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30976E-8E8F-423B-8651-364650362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52CAB5-EF12-4362-80FA-EA2959CF3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46899B-9142-4A20-AF82-14D6915C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54160" y="701640"/>
            <a:ext cx="4626000" cy="3468600"/>
          </a:xfrm>
          <a:prstGeom prst="rect">
            <a:avLst/>
          </a:prstGeom>
          <a:ln w="0">
            <a:noFill/>
          </a:ln>
        </p:spPr>
      </p:sp>
      <p:sp>
        <p:nvSpPr>
          <p:cNvPr id="9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54160" y="701640"/>
            <a:ext cx="4626000" cy="3468600"/>
          </a:xfrm>
          <a:prstGeom prst="rect">
            <a:avLst/>
          </a:prstGeom>
          <a:ln w="0">
            <a:noFill/>
          </a:ln>
        </p:spPr>
      </p:sp>
      <p:sp>
        <p:nvSpPr>
          <p:cNvPr id="9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113662-E11A-47E3-BC1B-31901CECF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54160" y="701640"/>
            <a:ext cx="4626000" cy="3468600"/>
          </a:xfrm>
          <a:prstGeom prst="rect">
            <a:avLst/>
          </a:prstGeom>
          <a:ln w="0">
            <a:noFill/>
          </a:ln>
        </p:spPr>
      </p:sp>
      <p:sp>
        <p:nvSpPr>
          <p:cNvPr id="9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0CF72-EEFC-4133-AA37-149E02B20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54160" y="701640"/>
            <a:ext cx="4626000" cy="3468600"/>
          </a:xfrm>
          <a:prstGeom prst="rect">
            <a:avLst/>
          </a:prstGeom>
          <a:ln w="0">
            <a:noFill/>
          </a:ln>
        </p:spPr>
      </p:sp>
      <p:sp>
        <p:nvSpPr>
          <p:cNvPr id="9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42B5047-B705-490A-B4DB-16E6D09E6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54160" y="701640"/>
            <a:ext cx="4626000" cy="3468600"/>
          </a:xfrm>
          <a:prstGeom prst="rect">
            <a:avLst/>
          </a:prstGeom>
          <a:ln w="0">
            <a:noFill/>
          </a:ln>
        </p:spPr>
      </p:sp>
      <p:sp>
        <p:nvSpPr>
          <p:cNvPr id="93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457200" indent="0" algn="jus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62E30D-3C51-417C-B92B-F34ADBDB3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34F078-ACBB-4D2F-961A-22554A41A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54160" y="701640"/>
            <a:ext cx="4626000" cy="3468600"/>
          </a:xfrm>
          <a:prstGeom prst="rect">
            <a:avLst/>
          </a:prstGeom>
          <a:ln w="0">
            <a:noFill/>
          </a:ln>
        </p:spPr>
      </p:sp>
      <p:sp>
        <p:nvSpPr>
          <p:cNvPr id="7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54160" y="701640"/>
            <a:ext cx="4626000" cy="3468600"/>
          </a:xfrm>
          <a:prstGeom prst="rect">
            <a:avLst/>
          </a:prstGeom>
          <a:ln w="0">
            <a:noFill/>
          </a:ln>
        </p:spPr>
      </p:sp>
      <p:sp>
        <p:nvSpPr>
          <p:cNvPr id="9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00BD69-CD0C-4B83-A850-22607FA7A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1878B3-009D-4CC3-A2CC-566DEF8FB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54160" y="701640"/>
            <a:ext cx="4626000" cy="3468600"/>
          </a:xfrm>
          <a:prstGeom prst="rect">
            <a:avLst/>
          </a:prstGeom>
          <a:ln w="0">
            <a:noFill/>
          </a:ln>
        </p:spPr>
      </p:sp>
      <p:sp>
        <p:nvSpPr>
          <p:cNvPr id="9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54160" y="701640"/>
            <a:ext cx="4626000" cy="3468600"/>
          </a:xfrm>
          <a:prstGeom prst="rect">
            <a:avLst/>
          </a:prstGeom>
          <a:ln w="0">
            <a:noFill/>
          </a:ln>
        </p:spPr>
      </p:sp>
      <p:sp>
        <p:nvSpPr>
          <p:cNvPr id="9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D27ADD-F71A-41EA-9286-58D9CB2EE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54160" y="701640"/>
            <a:ext cx="4626000" cy="3468600"/>
          </a:xfrm>
          <a:prstGeom prst="rect">
            <a:avLst/>
          </a:prstGeom>
          <a:ln w="0">
            <a:noFill/>
          </a:ln>
        </p:spPr>
      </p:sp>
      <p:sp>
        <p:nvSpPr>
          <p:cNvPr id="9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6D02D8-9632-402E-9BAD-6B528C295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F3071D-7076-4208-8C7E-00A592BD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54160" y="701640"/>
            <a:ext cx="4626000" cy="3468600"/>
          </a:xfrm>
          <a:prstGeom prst="rect">
            <a:avLst/>
          </a:prstGeom>
          <a:ln w="0">
            <a:noFill/>
          </a:ln>
        </p:spPr>
      </p:sp>
      <p:sp>
        <p:nvSpPr>
          <p:cNvPr id="9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67DB3F-B125-4FB9-8980-328C0E13B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54160" y="701640"/>
            <a:ext cx="4626000" cy="3468600"/>
          </a:xfrm>
          <a:prstGeom prst="rect">
            <a:avLst/>
          </a:prstGeom>
          <a:ln w="0">
            <a:noFill/>
          </a:ln>
        </p:spPr>
      </p:sp>
      <p:sp>
        <p:nvSpPr>
          <p:cNvPr id="9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A85D32-C8A6-412D-9124-5ED0AA597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08C955-6722-493B-A4F2-A43826E59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54160" y="701640"/>
            <a:ext cx="4626000" cy="3468600"/>
          </a:xfrm>
          <a:prstGeom prst="rect">
            <a:avLst/>
          </a:prstGeom>
          <a:ln w="0">
            <a:noFill/>
          </a:ln>
        </p:spPr>
      </p:sp>
      <p:sp>
        <p:nvSpPr>
          <p:cNvPr id="9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47DFE5-F58A-4F62-A94F-A6945BFAD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54160" y="701640"/>
            <a:ext cx="4626000" cy="3468600"/>
          </a:xfrm>
          <a:prstGeom prst="rect">
            <a:avLst/>
          </a:prstGeom>
          <a:ln w="0">
            <a:noFill/>
          </a:ln>
        </p:spPr>
      </p:sp>
      <p:sp>
        <p:nvSpPr>
          <p:cNvPr id="9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F4C0E4-D237-4A64-B399-292AA9B91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9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083EB875-C499-400F-8F4A-BA3B08070B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7680" y="696960"/>
            <a:ext cx="4640400" cy="3479760"/>
          </a:xfrm>
          <a:prstGeom prst="rect">
            <a:avLst/>
          </a:prstGeom>
          <a:ln w="0">
            <a:noFill/>
          </a:ln>
        </p:spPr>
      </p:sp>
      <p:sp>
        <p:nvSpPr>
          <p:cNvPr id="80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AE2D6E-D1E7-4647-878F-811749711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54160" y="701640"/>
            <a:ext cx="4626000" cy="3468600"/>
          </a:xfrm>
          <a:prstGeom prst="rect">
            <a:avLst/>
          </a:prstGeom>
          <a:ln w="0">
            <a:noFill/>
          </a:ln>
        </p:spPr>
      </p:sp>
      <p:sp>
        <p:nvSpPr>
          <p:cNvPr id="10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54A87E-2B2E-4B11-8675-13263FD8B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54160" y="701640"/>
            <a:ext cx="4626000" cy="3468600"/>
          </a:xfrm>
          <a:prstGeom prst="rect">
            <a:avLst/>
          </a:prstGeom>
          <a:ln w="0">
            <a:noFill/>
          </a:ln>
        </p:spPr>
      </p:sp>
      <p:sp>
        <p:nvSpPr>
          <p:cNvPr id="10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D4EE54-936E-47E2-AC20-D5D7AF21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54160" y="701640"/>
            <a:ext cx="4626000" cy="3468600"/>
          </a:xfrm>
          <a:prstGeom prst="rect">
            <a:avLst/>
          </a:prstGeom>
          <a:ln w="0">
            <a:noFill/>
          </a:ln>
        </p:spPr>
      </p:sp>
      <p:sp>
        <p:nvSpPr>
          <p:cNvPr id="10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B85132-E587-465A-A968-2F56C4755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54160" y="701640"/>
            <a:ext cx="4626000" cy="3468600"/>
          </a:xfrm>
          <a:prstGeom prst="rect">
            <a:avLst/>
          </a:prstGeom>
          <a:ln w="0">
            <a:noFill/>
          </a:ln>
        </p:spPr>
      </p:sp>
      <p:sp>
        <p:nvSpPr>
          <p:cNvPr id="10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070838-86C3-4677-A676-C179F6B71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54160" y="701640"/>
            <a:ext cx="4626000" cy="3468600"/>
          </a:xfrm>
          <a:prstGeom prst="rect">
            <a:avLst/>
          </a:prstGeom>
          <a:ln w="0">
            <a:noFill/>
          </a:ln>
        </p:spPr>
      </p:sp>
      <p:sp>
        <p:nvSpPr>
          <p:cNvPr id="10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356D06-1708-4044-A237-C58D782B0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709B469-13AE-46A3-AB89-2C3D86663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54160" y="701640"/>
            <a:ext cx="4626000" cy="3468600"/>
          </a:xfrm>
          <a:prstGeom prst="rect">
            <a:avLst/>
          </a:prstGeom>
          <a:ln w="0">
            <a:noFill/>
          </a:ln>
        </p:spPr>
      </p:sp>
      <p:sp>
        <p:nvSpPr>
          <p:cNvPr id="8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E9ECE0-8D10-44E0-903F-F1DDFADF8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54160" y="701640"/>
            <a:ext cx="4626000" cy="3468600"/>
          </a:xfrm>
          <a:prstGeom prst="rect">
            <a:avLst/>
          </a:prstGeom>
          <a:ln w="0">
            <a:noFill/>
          </a:ln>
        </p:spPr>
      </p:sp>
      <p:sp>
        <p:nvSpPr>
          <p:cNvPr id="8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FBB7F3-3E76-4281-A223-17EE47147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54160" y="701640"/>
            <a:ext cx="4626000" cy="3468600"/>
          </a:xfrm>
          <a:prstGeom prst="rect">
            <a:avLst/>
          </a:prstGeom>
          <a:ln w="0">
            <a:noFill/>
          </a:ln>
        </p:spPr>
      </p:sp>
      <p:sp>
        <p:nvSpPr>
          <p:cNvPr id="8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98D191-1ACA-49E0-8108-8EFCB2865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54160" y="701640"/>
            <a:ext cx="4626000" cy="3468600"/>
          </a:xfrm>
          <a:prstGeom prst="rect">
            <a:avLst/>
          </a:prstGeom>
          <a:ln w="0">
            <a:noFill/>
          </a:ln>
        </p:spPr>
      </p:sp>
      <p:sp>
        <p:nvSpPr>
          <p:cNvPr id="8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B12712-27AF-46F3-82E7-43AD1B264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82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2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8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6786F6-CA8F-451E-8A87-34FAEEA5A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54160" y="701640"/>
            <a:ext cx="4626000" cy="3468600"/>
          </a:xfrm>
          <a:prstGeom prst="rect">
            <a:avLst/>
          </a:prstGeom>
          <a:ln w="0">
            <a:noFill/>
          </a:ln>
        </p:spPr>
      </p:sp>
      <p:sp>
        <p:nvSpPr>
          <p:cNvPr id="8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CCBC-0538-44A2-91E8-A02E6D84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FE8B-1171-4549-9EEF-D4C0E467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936BC-C700-487A-BC12-434C237E0A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EC3C2-8FC0-4ECB-9E4C-F5FC1E803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36B067-3529-4C2F-B056-767ED98AD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32801B-0B29-48A4-8F83-EB3469743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9782B-A920-4C3D-ADA4-C531253D1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A70C0F-A73F-44E3-8938-003E33A63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B7506-1456-45B4-993D-AB12F59F8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0E0E0F-B2D2-428E-9C6F-9A5062BB9D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30140A-22C4-42BB-A0D4-10D73AC543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FAC4BF-2F89-4F1E-81A4-9D62B19DBB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81D76-F0D5-4379-8D1E-83D8545F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5AF5D3-C786-4487-86AC-B6F1241B2D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2D943E-A109-47A1-8E17-B983C854DB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79157A-8AD5-4372-9069-279F7089FA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CAA0D5-4F6E-498D-BFCC-AE0B895011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37F37F-FEA8-4594-8C5C-1558D1EDCB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CF9F14-D65D-4367-A548-1BFD3286EC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4EDA25-3860-4585-881F-58C2B2024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41BF22-F365-4CF5-B866-1A227FD921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04F005-F23B-4504-9A35-0515513B5C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95DB04-6E31-4991-A0EA-16E42AB7CA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346AD-26A6-45F3-B8F9-22EFAA745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7DA17A-11CF-4173-BC51-4BF0C9FC74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7ED91D-6926-4782-8433-96A7FB2F79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B98198-254C-4050-BA83-CEB6B1EB8B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D6AE01-12AA-4009-BCDC-D1D8EAB11A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14BC8A-B65F-4216-9030-2DD76ACD3C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2F91A7-65F8-4087-861F-D35C96E39E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9A61A6-4DA1-4A50-8551-DCA1253962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123FB7-0B91-47AD-B7C5-6E4DB7CF1F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9CB979-CD61-4555-B490-A287A70277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0E8EB3-5CED-4B15-9D23-3A40C7098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2BFBA-185A-40C7-9900-2BD47E20C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1EA845-6484-44D9-8F29-3F492A5FA4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0906C2-2F1C-408B-9FE0-752E74ADDD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BD9470-8C0A-4F07-ADA9-672100473E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EF3F8E-CE94-4334-A528-BE96F57B7C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AB3F48-439D-4629-BFA2-1B14465A26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9D9A35-08FE-4AD7-88FB-F96085BFD5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2CAD13-1990-44BF-800C-E27A1B1730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98945C-4C0C-4659-B0F2-3A1D1A7726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8D4A35-1F86-4DA8-AD5A-5AC5BA9F6E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01C739-9528-4188-8F26-52E8733E93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3A833-B956-4E18-B2D4-2910D5DB3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CDDEDA-790E-441E-8D73-E467464A47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74D827-59B3-438D-A558-CD5622D114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18B32E-812C-4098-95ED-C46EB2ABB9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6C59CB-2544-4961-A00C-4BE60B69D5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A7212D-18D2-4E98-B559-D8519B5DD2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3E045-07C2-4E6D-915A-D13D17B2A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B0D08-21FA-4308-9421-2BE13B9F1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1B32F-A5A7-4264-B4AA-82C89A0BE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D918A-A81A-49A9-AF62-67CEB899A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7EB2B-31E9-4B15-8E70-EDC620B56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A6851-F746-4FC1-A4E7-1A3088B2F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4AE6F-DE65-4203-B8F5-36CD3A02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C45E-1F9E-478A-9413-7E0FDBAE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B3456-13BA-47BC-9306-D756789C9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CAF9A-8619-44C8-B384-5D0B4277A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1059F-45A1-4A89-91D1-1B982017B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351B5F-F9C4-4F2A-BF9F-7FFE52184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21A23-E9F2-43D9-A8F7-0A51FA58F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CE54C2-DF82-41D5-A4C5-60C8B993E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132CF-8560-46C9-A4C0-6D42EA9E3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18CD0-9093-4FB2-881D-830440C5C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B5B0-D4F3-4272-927E-89492185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971FB-A3F7-493E-B5C7-857F1E7E3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4E5BC-944B-4DB6-96DA-0FB108D8F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DD1D8-7437-42C1-90B0-1C7A45EF2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AA95F-6677-4E2E-A890-1704A558D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ABBAB-06ED-40A6-9189-AE7F61E45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B6288-A745-46BF-B2B6-5F6572366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3494A-40F8-45BF-AB58-11F873C27D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670392-2869-4301-BA82-106AC8769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3A2AB-0E48-426D-8BB8-612714576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349D4-B21C-42D0-8D16-8C5D2FF7D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465CE-96BD-4093-A88A-04BB2A43D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114B6-0DF8-49BE-A176-3591518E1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1227D-45F4-479F-8004-0CDF23A35F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80938-D197-4B9B-A867-19061ED8B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DD561-B2BD-417A-A5AF-4C1E08BBF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6C983-86F7-4AA7-BA7D-2C2D22ED1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AF477-A5F7-49FF-8D77-15049CC7F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95325-917C-4248-9EE9-5A5C33EB9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D76AFD-3F63-4274-AAE6-A0EE4C8FC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2CF9C8-2C17-41F4-BA66-6EA5E40DEA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A8DB4F-FA3E-40CF-BC61-E7F0F7B6A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9063-3954-4035-99A4-F6655727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6E11D-90FB-4ECA-8B11-D96980245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EF9A48-5FB8-40C8-9C84-198CB10F1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825AD-83F1-4BE7-BD99-E4A64039C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785E1-4E0B-4E41-9443-809A13A65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5B9F4-2DE4-4B22-BB02-68DE4C4CE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94DAE-C4D4-411B-8399-D406DA2F0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1DB67-7F8E-4EB4-86C6-7362A1BBD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6361F-3033-4DDC-9956-B87B12FA6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136CD-A10F-462B-B8B8-E95B4548E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782D8-0F32-4C4A-BAA8-E333DEDB30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1195-DA2D-40DD-9844-F415DB19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C5248E-C70B-4529-A4EE-93812215C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F0A0F-2287-4F3A-A72A-23A942171C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41994-5169-47F6-8082-51990D6CB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0AD22-CA3F-47CC-9934-9FEAFD13A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3AA91-296A-4430-A41D-E2B1E9BAB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5BC5B-C447-453D-87BF-6F7E3301F6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13908-FF96-4BDE-AFBF-33E048F16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C8FD8-D5CC-47A4-A99F-BDCEEDE10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A45B3-9EB3-46F0-B1E7-94C8D1C41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1E2F5-E09A-4F66-9D3E-57BDF155B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949A-C9C0-4B82-B517-4FE1E785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17719-1387-4BFA-B9FF-3BF996BCA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BF3D6-0E29-42DB-9496-DD9365F9A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84F664-0652-4B85-9498-9D0D95D5D2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6A54AE-9851-4289-994B-337DD858D1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7683B-98BF-48BE-A001-C97A08AF8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59083-556F-415F-9C54-A06776705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F1374-73DD-4B51-9FE4-A7BAA7492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8B43EA-4623-459B-B0EA-A01B0F6C8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B2037C-3D3F-443C-865F-3D7C9E947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E3F69-6F36-491A-98E5-95CC90542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2258-788B-4A06-A4B6-D9A0E055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D9589-93B7-4F6D-B84E-843A304FD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3A2B6-A503-430F-80E7-336557463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F9F2F-5A6C-4D67-A09A-C7464365F8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EF15B7-A67D-482E-941C-EBF4ABD834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AC18D4-A188-433E-B615-A61365E81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13FAE-2528-49D7-840A-5D63A4352E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E8AF77-168B-4727-824F-EBAF9235F8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B296C-EABE-4597-A265-8C1F3021EE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52477-C173-41FF-9D72-D00A87C41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C8BB8-335C-43B6-AD92-03E0B662EA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AD5B-D8C2-491D-A9B2-956E72A0F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8DB4B-49E0-4AA5-81D1-2BCE71CB3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8C206-A197-4E93-9483-4E38E5322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0AFF8-DEAE-488C-87A5-7E3EA68C3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4C192-5959-46C5-BE41-BFD776886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623FCD-5E87-4C0B-87A6-96ECC3E735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19F67B-FF91-4A95-BA4F-BA75041980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6C990-269E-44B3-B597-C3E718392A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FBAA8A-4620-46BD-8C20-A9052421C3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DE3EF-AFE9-41B7-B4F5-A96F179BCC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E36B04-A780-4C5E-B3FA-84C3958982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F5CEC58-4B10-4E66-B3CD-5AC526CFAA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29DF846-9262-4A63-A701-5556EC55C6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DE1F617-E9C6-49FA-B572-25DEB53A91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1961E06-BC17-4F6A-A03D-0ED8A353F5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48940C-0727-4D6D-A55C-102E9A8428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9868FB-4D95-4B5E-8A65-2D46C037CA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C1EE72-3132-4B30-BE93-14E85959D1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A183E4-9CC8-45CD-ABB2-903B1D7B56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380194-358B-4540-AFCD-385BA732B9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37AB66-981F-4999-B047-A76EB91ADD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A9D83AD-96A6-4660-A37D-CE9A371AE9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288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15415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51D6277-EB7D-4108-A93D-35BC984312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mentor.ieee.org/802.11/dcn/16/11-16-1267-00-00ay-tg-ay-september-2016-warsaw-meeting-minutes.docx" TargetMode="External"/><Relationship Id="rId2" Type="http://schemas.openxmlformats.org/officeDocument/2006/relationships/hyperlink" Target="https://mentor.ieee.org/802.11/dcn/16/11-16-1267-00-00ay-tg-ay-september-2016-warsaw-meeting-minutes.docx" TargetMode="External"/><Relationship Id="rId3" Type="http://schemas.openxmlformats.org/officeDocument/2006/relationships/hyperlink" Target="https://mentor.ieee.org/802.11/dcn/16/11-16-1267-00-00ay-tg-ay-september-2016-warsaw-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mentor.ieee.org/802.11/dcn/15/11-15-0609-02-00ay-802-11ay-timeline.pptx" TargetMode="Externa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mentor.ieee.org/802.11/dcn/16/11-16-1412-00-00ay-sfd-assignment-for-11ay-draft-creation.xlsx"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731CB5-ED6E-4F9C-9EAA-7790561D4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November 2016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11-06</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20549C-9C84-4301-B788-30B4E8D3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E73188-920F-4D0D-996C-C22C6A1D6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graphicFrame>
        <p:nvGraphicFramePr>
          <p:cNvPr id="610"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2D34D3-39C9-4BDB-B937-F6B5A300B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4"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E, 4/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E, 4/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wie B, 2/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10E6C0-87F5-47CB-9393-72794857E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and timeline for 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Januar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31E5FE-E61C-475E-82E3-FB429C6D4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DFC750-5DE9-4F1F-A4B7-8411D5420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September 2016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September 2016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revi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1C20F4-279F-461B-84E6-A7F51A2C9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6 interim</a:t>
            </a:r>
            <a:endParaRPr b="0" lang="en-US" sz="3200" spc="-1" strike="noStrike">
              <a:solidFill>
                <a:srgbClr val="000000"/>
              </a:solidFill>
              <a:latin typeface="Times New Roman"/>
            </a:endParaRPr>
          </a:p>
        </p:txBody>
      </p:sp>
      <p:sp>
        <p:nvSpPr>
          <p:cNvPr id="63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meline</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 chair election was conduc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ang Kim (LG Electronics) is elected</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discussion was initiate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ditor’s proposal on revised timeline (16/1278r1) is presented</a:t>
            </a: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AE54E4-9C2D-453D-AF5F-81AB15E60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0: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6 meeting minutes</a:t>
            </a:r>
            <a:endParaRPr b="0" lang="en-US" sz="3200" spc="-1" strike="noStrike">
              <a:solidFill>
                <a:srgbClr val="000000"/>
              </a:solidFill>
              <a:latin typeface="Times New Roman"/>
            </a:endParaRPr>
          </a:p>
        </p:txBody>
      </p:sp>
      <p:sp>
        <p:nvSpPr>
          <p:cNvPr id="63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September 2016 interim:</a:t>
            </a:r>
            <a:endParaRPr b="0" lang="en-US" sz="2000" spc="-1" strike="noStrike">
              <a:solidFill>
                <a:srgbClr val="000000"/>
              </a:solidFill>
              <a:latin typeface="Times New Roman"/>
            </a:endParaRPr>
          </a:p>
          <a:p>
            <a:pPr lvl="1" marL="8002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a:t>
            </a:r>
            <a:r>
              <a:rPr b="0" lang="en-US" sz="2000" spc="-1" strike="noStrike" u="sng">
                <a:solidFill>
                  <a:srgbClr val="0066ff"/>
                </a:solidFill>
                <a:uFillTx/>
                <a:latin typeface="Times New Roman"/>
                <a:hlinkClick r:id="rId2"/>
              </a:rPr>
              <a:t>://</a:t>
            </a:r>
            <a:r>
              <a:rPr b="0" lang="en-US" sz="2000" spc="-1" strike="noStrike" u="sng">
                <a:solidFill>
                  <a:srgbClr val="0066ff"/>
                </a:solidFill>
                <a:uFillTx/>
                <a:latin typeface="Times New Roman"/>
                <a:hlinkClick r:id="rId3"/>
              </a:rPr>
              <a:t>mentor.ieee.org/802.11/dcn/16/11-16-1267-00-00ay-tg-ay-september-2016-warsaw-meeting-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Edward Au</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8D1B9D-717C-47E8-9E33-C7626DD38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4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graphicFrame>
        <p:nvGraphicFramePr>
          <p:cNvPr id="644" name=""/>
          <p:cNvGraphicFramePr/>
          <p:nvPr/>
        </p:nvGraphicFramePr>
        <p:xfrm>
          <a:off x="685800" y="1676520"/>
          <a:ext cx="7924680" cy="444492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ask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7</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ved in September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2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33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358r6</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xts corresponding to motions #89-#109 are inserted in the latest version after the September 2016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02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after September 2016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BFC12B-8DA4-4C40-BF20-7871B4F8E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4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0"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64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udio Da Silva</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N field transmission for channel bond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6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 MIMO beamforming protocol proposa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3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utaka Murakam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PHY headers for open loop spatial multiplexing in SU-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urther details on multi-stage, multi-resolution beamforming training in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an Antonio, Texas, United States</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6 - 11, 2016</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27C847-F078-4374-8527-5F6E821ED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25264E-5E01-43A2-87AA-5ACC0833E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5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5" name=""/>
          <p:cNvGraphicFramePr/>
          <p:nvPr/>
        </p:nvGraphicFramePr>
        <p:xfrm>
          <a:off x="685800" y="1676520"/>
          <a:ext cx="7924680" cy="4216320"/>
        </p:xfrm>
        <a:graphic>
          <a:graphicData uri="http://schemas.openxmlformats.org/drawingml/2006/table">
            <a:tbl>
              <a:tblPr/>
              <a:tblGrid>
                <a:gridCol w="981000"/>
                <a:gridCol w="1685880"/>
                <a:gridCol w="373392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33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mes W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tenna polarization capability forma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3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gook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n the implementation of dynamic load balancing for A-BFT channel</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inmin Ki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Header-A cont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yungtae J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BF procedure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2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ngJin Par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rier sense for multi-channel alloc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50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zevdan Kapetanovic</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paring DL/UL training overhead for hybrid beamformi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0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o W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CM SQPSK for Channel Aggregation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UE PM3,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2EFEC2-DF2D-4CBF-BD80-AF50A2C97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5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0"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46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ome Oter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ed loop SU-MIMO performance with quantized feedback</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Hsiang Su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I and phase impairments impact on open-loop SU-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5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ui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n the single carrier waveforms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9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cket structure for SC EDMG PPDU for each GI length</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3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8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01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CS table for SC EDM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AM1, 1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21748B-31AE-42B5-8CB7-2C8964D7F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66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6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65" name=""/>
          <p:cNvGraphicFramePr/>
          <p:nvPr/>
        </p:nvGraphicFramePr>
        <p:xfrm>
          <a:off x="685800" y="1676520"/>
          <a:ext cx="7924680" cy="372744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3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millo Gentil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quasi-deterministic channel model for a server room at 60 GHz</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roslav Gagi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plementation of 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7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ert Mull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easurement summary of outdoor indoor scenarios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8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ao Wu</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CM QPSK for channel aggregation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iroyuki Motozuka </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Header spoofing and bit reus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9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tyom Lomayev</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ymbol blocking and guard interval definition for SC MIMO in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d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0DDAC3-026E-4EE7-ABEB-31BD2B2A8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6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6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0" name=""/>
          <p:cNvGraphicFramePr/>
          <p:nvPr/>
        </p:nvGraphicFramePr>
        <p:xfrm>
          <a:off x="685800" y="1676520"/>
          <a:ext cx="7924680" cy="314784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Yan Xi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te-7/8 LDPC code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95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csander Eita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MG Header-A fields preview in L-Header</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5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2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ren Kede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CK and BA transmission in bonded channel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u Y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D for DL MU MIM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2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412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FD assignment for 11ay draft creation</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af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U PM2, 10m</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3FA7FD-9BD1-4824-9B94-3FE5D9329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67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7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75"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5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6/1378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azuyuki Ozaki</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L MU-MIMO hybrid BF w/o CSI feedback for 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BD</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A0A5B9-5E7D-4226-BFDB-BE758D914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from September 2016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September 2016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 revi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inder on selection procedur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7:30pm – 9: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79"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and timeline for draft develop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Januar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DEB19B-A968-478E-8558-D116B8DDD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1)</a:t>
            </a:r>
            <a:endParaRPr b="0" lang="en-US" sz="3200" spc="-1" strike="noStrike">
              <a:solidFill>
                <a:srgbClr val="000000"/>
              </a:solidFill>
              <a:latin typeface="Times New Roman"/>
            </a:endParaRPr>
          </a:p>
        </p:txBody>
      </p:sp>
      <p:sp>
        <p:nvSpPr>
          <p:cNvPr id="684"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approved in May 2015:</a:t>
            </a:r>
            <a:endParaRPr b="0" lang="en-US" sz="2400" spc="-1" strike="noStrike">
              <a:solidFill>
                <a:srgbClr val="000000"/>
              </a:solidFill>
              <a:latin typeface="Times New Roman"/>
            </a:endParaRPr>
          </a:p>
        </p:txBody>
      </p:sp>
      <p:sp>
        <p:nvSpPr>
          <p:cNvPr id="6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pic>
        <p:nvPicPr>
          <p:cNvPr id="686" name="Picture 2" descr=""/>
          <p:cNvPicPr/>
          <p:nvPr/>
        </p:nvPicPr>
        <p:blipFill>
          <a:blip r:embed="rId2"/>
          <a:stretch/>
        </p:blipFill>
        <p:spPr>
          <a:xfrm>
            <a:off x="609480" y="2558880"/>
            <a:ext cx="8229600" cy="2241720"/>
          </a:xfrm>
          <a:prstGeom prst="rect">
            <a:avLst/>
          </a:prstGeom>
          <a:ln w="0">
            <a:noFill/>
          </a:ln>
        </p:spPr>
      </p:pic>
      <p:sp>
        <p:nvSpPr>
          <p:cNvPr id="687" name="TextBox 9"/>
          <p:cNvSpPr/>
          <p:nvPr/>
        </p:nvSpPr>
        <p:spPr>
          <a:xfrm>
            <a:off x="3845520" y="563400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88" name="Straight Arrow Connector 9"/>
          <p:cNvCxnSpPr/>
          <p:nvPr/>
        </p:nvCxnSpPr>
        <p:spPr>
          <a:xfrm flipV="1">
            <a:off x="4723920" y="4647960"/>
            <a:ext cx="1080" cy="986400"/>
          </a:xfrm>
          <a:prstGeom prst="straightConnector1">
            <a:avLst/>
          </a:prstGeom>
          <a:ln w="25560">
            <a:solidFill>
              <a:srgbClr val="000000"/>
            </a:solidFill>
            <a:miter/>
            <a:tailEnd len="med" type="arrow" w="med"/>
          </a:ln>
        </p:spPr>
      </p:cxnSp>
      <p:sp>
        <p:nvSpPr>
          <p:cNvPr id="68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5EE380-F21C-47F0-B312-8F186A63A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2)</a:t>
            </a:r>
            <a:endParaRPr b="0" lang="en-US" sz="3200" spc="-1" strike="noStrike">
              <a:solidFill>
                <a:srgbClr val="000000"/>
              </a:solidFill>
              <a:latin typeface="Times New Roman"/>
            </a:endParaRPr>
          </a:p>
        </p:txBody>
      </p:sp>
      <p:sp>
        <p:nvSpPr>
          <p:cNvPr id="692"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70000"/>
          </a:bodyPr>
          <a:p>
            <a:pPr marL="240120" indent="-2401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proposal on revised timeline:</a:t>
            </a:r>
            <a:endParaRPr b="0" lang="en-US" sz="2400" spc="-1" strike="noStrike">
              <a:solidFill>
                <a:srgbClr val="000000"/>
              </a:solidFill>
              <a:latin typeface="Times New Roman"/>
            </a:endParaRPr>
          </a:p>
          <a:p>
            <a:pPr lvl="1" marL="519840" indent="-1998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16/1278r1</a:t>
            </a:r>
            <a:endParaRPr b="0" lang="en-US" sz="2000" spc="-1" strike="noStrike">
              <a:solidFill>
                <a:srgbClr val="000000"/>
              </a:solidFill>
              <a:latin typeface="Times New Roman"/>
            </a:endParaRPr>
          </a:p>
        </p:txBody>
      </p:sp>
      <p:sp>
        <p:nvSpPr>
          <p:cNvPr id="69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022D57-9BBF-43D1-BA71-3173CB19B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timeline revision</a:t>
            </a:r>
            <a:endParaRPr b="0" lang="en-US" sz="3200" spc="-1" strike="noStrike">
              <a:solidFill>
                <a:srgbClr val="000000"/>
              </a:solidFill>
              <a:latin typeface="Times New Roman"/>
            </a:endParaRPr>
          </a:p>
        </p:txBody>
      </p:sp>
      <p:sp>
        <p:nvSpPr>
          <p:cNvPr id="69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proposed timeline presented in 16/1278r1 as the timeline for Task Group AY.</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9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76D2BB-D414-404D-8121-814F3AA11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selection procedure</a:t>
            </a:r>
            <a:endParaRPr b="0" lang="en-US" sz="3200" spc="-1" strike="noStrike">
              <a:solidFill>
                <a:srgbClr val="000000"/>
              </a:solidFill>
              <a:latin typeface="Times New Roman"/>
            </a:endParaRPr>
          </a:p>
        </p:txBody>
      </p:sp>
      <p:sp>
        <p:nvSpPr>
          <p:cNvPr id="70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 is responsible for maintaining the documen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that describe different functional blocks with the intention to be included in the TG specification framework document are solicited.</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framework document shall be created by incorporating different functional blocks that the corresponding motions have been approved by at least 75% TG approval rate.</a:t>
            </a:r>
            <a:endParaRPr b="0" lang="en-US" sz="20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s will be conducted first to gauge the interest of the TG.</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straw polls that achieve at least 75% approval rate will be converted to motions.</a:t>
            </a:r>
            <a:endParaRPr b="0" lang="en-US" sz="16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change in the document requires at least 75% TG approval rate.</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812CD7-A3F6-440C-8A18-05E227F26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November 2016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6A6FB0-A06B-4421-82F1-FBD270BE3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0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8AA82B-FC07-40B5-8D5F-7EFB77D6F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7:30pm – 9: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058788-4F6E-4AF1-8338-CE5BFFC0D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1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F48C96-E7D4-4C03-ADAB-68AF0617D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DF0C5F-C34E-4E28-AD27-E4E6F0CB7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F899DC-F435-4495-9035-4D14A2B70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857B39-DE27-4307-A2E5-D388A04A3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3"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A604A2-2EB9-4CCB-A2CF-C8DF3A415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AB4C1B-FFB8-4553-9F11-C8C920C34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E06E33-6638-4EF0-8078-FEBD2642A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DC5E248-0EF0-46D1-97C4-37D701EC11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65871-E622-4E78-A6BE-F405A2C6F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BB881C-ED78-4CD5-ADAF-CD61DFF4D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4"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anuar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F74D87-F859-4E95-A942-98CD9E9AC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2:  TBD</a:t>
            </a:r>
            <a:endParaRPr b="0" lang="en-US" sz="3200" spc="-1" strike="noStrike">
              <a:solidFill>
                <a:srgbClr val="000000"/>
              </a:solidFill>
              <a:latin typeface="Times New Roman"/>
            </a:endParaRPr>
          </a:p>
        </p:txBody>
      </p:sp>
      <p:sp>
        <p:nvSpPr>
          <p:cNvPr id="75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xx Yes, xx No, x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x Yes; xx No; xx Abstain)</a:t>
            </a:r>
            <a:endParaRPr b="0" lang="en-US" sz="2000" spc="-1" strike="noStrike">
              <a:solidFill>
                <a:srgbClr val="000000"/>
              </a:solidFill>
              <a:latin typeface="Times New Roman"/>
            </a:endParaRPr>
          </a:p>
        </p:txBody>
      </p:sp>
      <p:sp>
        <p:nvSpPr>
          <p:cNvPr id="7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0ACC67-8266-41FA-BE9D-9A21B8513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development</a:t>
            </a:r>
            <a:endParaRPr b="0" lang="en-US" sz="3200" spc="-1" strike="noStrike">
              <a:solidFill>
                <a:srgbClr val="000000"/>
              </a:solidFill>
              <a:latin typeface="Times New Roman"/>
            </a:endParaRPr>
          </a:p>
        </p:txBody>
      </p:sp>
      <p:sp>
        <p:nvSpPr>
          <p:cNvPr id="764"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proposal on process and timeline for draft creation:</a:t>
            </a:r>
            <a:endParaRPr b="0" lang="en-US" sz="2400" spc="-1" strike="noStrike">
              <a:solidFill>
                <a:srgbClr val="000000"/>
              </a:solidFill>
              <a:latin typeface="Times New Roman"/>
            </a:endParaRPr>
          </a:p>
          <a:p>
            <a:pPr lvl="1" marL="512640" indent="-1969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16/1412r0</a:t>
            </a:r>
            <a:endParaRPr b="0" lang="en-US" sz="2000" spc="-1" strike="noStrike">
              <a:solidFill>
                <a:srgbClr val="000000"/>
              </a:solidFill>
              <a:latin typeface="Times New Roman"/>
            </a:endParaRPr>
          </a:p>
        </p:txBody>
      </p:sp>
      <p:sp>
        <p:nvSpPr>
          <p:cNvPr id="7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9C2E1E-1C39-47AC-97DC-2F6985469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7 interim</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ce on Specification Framework docu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14F2C-DD3B-479C-9CC4-62B64AAF5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7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4 (Wednesday), 10:00am ET – 11:00am E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821298-F7B9-4FD3-8704-4AE66844E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72972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42D98E-86A7-45DE-8802-A425F30F8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70E3E2-F9E5-41E3-B59E-07457BE5C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C02F80-8055-4B91-8C91-FA53AEBEA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8A7C99-51EB-477C-9372-861486623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16</cp:keywords>
  <dc:language>en-US</dc:language>
  <cp:lastModifiedBy>Edward Au</cp:lastModifiedBy>
  <cp:lastPrinted>2014-11-04T15:04:57Z</cp:lastPrinted>
  <dcterms:modified xsi:type="dcterms:W3CDTF">2016-11-08T13:17:23Z</dcterms:modified>
  <cp:revision>3554</cp:revision>
  <dc:subject>Task Group AY November 2015 Meeting Agenda</dc:subject>
  <dc:title>11-16/1288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