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9BF58A6E-E622-4E0B-B138-8486E8C848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FADA2F-3A51-4BF5-A178-7DD20E620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54160" y="701640"/>
            <a:ext cx="4626000" cy="3468600"/>
          </a:xfrm>
          <a:prstGeom prst="rect">
            <a:avLst/>
          </a:prstGeom>
          <a:ln w="0">
            <a:noFill/>
          </a:ln>
        </p:spPr>
      </p:sp>
      <p:sp>
        <p:nvSpPr>
          <p:cNvPr id="7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207CFE-73C6-4B8D-9750-700DCEE27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3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505094-FCB6-4032-A7C8-5DC5561C3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54160" y="701640"/>
            <a:ext cx="4626000" cy="3468600"/>
          </a:xfrm>
          <a:prstGeom prst="rect">
            <a:avLst/>
          </a:prstGeom>
          <a:ln w="0">
            <a:noFill/>
          </a:ln>
        </p:spPr>
      </p:sp>
      <p:sp>
        <p:nvSpPr>
          <p:cNvPr id="8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3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38"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77351B-2DE2-4DD0-8B59-D6ACE2793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54160" y="701640"/>
            <a:ext cx="4626000" cy="3468600"/>
          </a:xfrm>
          <a:prstGeom prst="rect">
            <a:avLst/>
          </a:prstGeom>
          <a:ln w="0">
            <a:noFill/>
          </a:ln>
        </p:spPr>
      </p:sp>
      <p:sp>
        <p:nvSpPr>
          <p:cNvPr id="8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4160" y="701640"/>
            <a:ext cx="4626000" cy="3468600"/>
          </a:xfrm>
          <a:prstGeom prst="rect">
            <a:avLst/>
          </a:prstGeom>
          <a:ln w="0">
            <a:noFill/>
          </a:ln>
        </p:spPr>
      </p:sp>
      <p:sp>
        <p:nvSpPr>
          <p:cNvPr id="8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C3EAF1-A2E6-4090-829F-B18A2C60E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4160" y="701640"/>
            <a:ext cx="4626000" cy="3468600"/>
          </a:xfrm>
          <a:prstGeom prst="rect">
            <a:avLst/>
          </a:prstGeom>
          <a:ln w="0">
            <a:noFill/>
          </a:ln>
        </p:spPr>
      </p:sp>
      <p:sp>
        <p:nvSpPr>
          <p:cNvPr id="8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8925B5-15E7-4F34-9FF8-67DF3CDA1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ACB517-304A-44E4-8EF1-7B22269D3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54160" y="701640"/>
            <a:ext cx="4626000" cy="3468600"/>
          </a:xfrm>
          <a:prstGeom prst="rect">
            <a:avLst/>
          </a:prstGeom>
          <a:ln w="0">
            <a:noFill/>
          </a:ln>
        </p:spPr>
      </p:sp>
      <p:sp>
        <p:nvSpPr>
          <p:cNvPr id="8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54160" y="701640"/>
            <a:ext cx="4626000" cy="3468600"/>
          </a:xfrm>
          <a:prstGeom prst="rect">
            <a:avLst/>
          </a:prstGeom>
          <a:ln w="0">
            <a:noFill/>
          </a:ln>
        </p:spPr>
      </p:sp>
      <p:sp>
        <p:nvSpPr>
          <p:cNvPr id="8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BDD6B7-50D7-48A5-8B8A-271840963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54160" y="701640"/>
            <a:ext cx="4626000" cy="3468600"/>
          </a:xfrm>
          <a:prstGeom prst="rect">
            <a:avLst/>
          </a:prstGeom>
          <a:ln w="0">
            <a:noFill/>
          </a:ln>
        </p:spPr>
      </p:sp>
      <p:sp>
        <p:nvSpPr>
          <p:cNvPr id="8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E9120F-EF1E-4ABE-9077-D987657EC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54160" y="701640"/>
            <a:ext cx="4626000" cy="3468600"/>
          </a:xfrm>
          <a:prstGeom prst="rect">
            <a:avLst/>
          </a:prstGeom>
          <a:ln w="0">
            <a:noFill/>
          </a:ln>
        </p:spPr>
      </p:sp>
      <p:sp>
        <p:nvSpPr>
          <p:cNvPr id="8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CF2B82-1564-4C5A-A686-384759153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8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D50BCC-C20E-45B4-9AB7-71453C115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4160" y="701640"/>
            <a:ext cx="4626000" cy="3468600"/>
          </a:xfrm>
          <a:prstGeom prst="rect">
            <a:avLst/>
          </a:prstGeom>
          <a:ln w="0">
            <a:noFill/>
          </a:ln>
        </p:spPr>
      </p:sp>
      <p:sp>
        <p:nvSpPr>
          <p:cNvPr id="7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2644A8-3366-4FC0-8818-61BFF9D00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54160" y="701640"/>
            <a:ext cx="4626000" cy="3468600"/>
          </a:xfrm>
          <a:prstGeom prst="rect">
            <a:avLst/>
          </a:prstGeom>
          <a:ln w="0">
            <a:noFill/>
          </a:ln>
        </p:spPr>
      </p:sp>
      <p:sp>
        <p:nvSpPr>
          <p:cNvPr id="8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4D1A93-C27E-4097-B921-945B9BA5B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8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378E24-828A-40A6-834D-44CEEE31B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54160" y="701640"/>
            <a:ext cx="4626000" cy="3468600"/>
          </a:xfrm>
          <a:prstGeom prst="rect">
            <a:avLst/>
          </a:prstGeom>
          <a:ln w="0">
            <a:noFill/>
          </a:ln>
        </p:spPr>
      </p:sp>
      <p:sp>
        <p:nvSpPr>
          <p:cNvPr id="8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215A0F-921C-4271-9461-75A0D77E3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9516BB-A151-48D1-80D4-9ECA570CD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0CDA5A-CDB9-4E23-A823-72D3B866B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B97F89-1669-4740-9412-810260D4A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54160" y="701640"/>
            <a:ext cx="4626000" cy="3468600"/>
          </a:xfrm>
          <a:prstGeom prst="rect">
            <a:avLst/>
          </a:prstGeom>
          <a:ln w="0">
            <a:noFill/>
          </a:ln>
        </p:spPr>
      </p:sp>
      <p:sp>
        <p:nvSpPr>
          <p:cNvPr id="9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9AE424-548E-47DD-BF39-9133B5C9C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54160" y="701640"/>
            <a:ext cx="4626000" cy="3468600"/>
          </a:xfrm>
          <a:prstGeom prst="rect">
            <a:avLst/>
          </a:prstGeom>
          <a:ln w="0">
            <a:noFill/>
          </a:ln>
        </p:spPr>
      </p:sp>
      <p:sp>
        <p:nvSpPr>
          <p:cNvPr id="9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E330CE-C6FF-48C1-B1E3-609E00154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54160" y="701640"/>
            <a:ext cx="4626000" cy="3468600"/>
          </a:xfrm>
          <a:prstGeom prst="rect">
            <a:avLst/>
          </a:prstGeom>
          <a:ln w="0">
            <a:noFill/>
          </a:ln>
        </p:spPr>
      </p:sp>
      <p:sp>
        <p:nvSpPr>
          <p:cNvPr id="9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E8F315-80ED-4781-B7C8-587CD10EF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54160" y="701640"/>
            <a:ext cx="4626000" cy="3468600"/>
          </a:xfrm>
          <a:prstGeom prst="rect">
            <a:avLst/>
          </a:prstGeom>
          <a:ln w="0">
            <a:noFill/>
          </a:ln>
        </p:spPr>
      </p:sp>
      <p:sp>
        <p:nvSpPr>
          <p:cNvPr id="93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457200" indent="0" algn="jus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BF85C5-C2B6-4E95-AF45-0D7377156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8FF1F4-8726-4D41-B977-30DC8798E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54160" y="701640"/>
            <a:ext cx="4626000" cy="3468600"/>
          </a:xfrm>
          <a:prstGeom prst="rect">
            <a:avLst/>
          </a:prstGeom>
          <a:ln w="0">
            <a:noFill/>
          </a:ln>
        </p:spPr>
      </p:sp>
      <p:sp>
        <p:nvSpPr>
          <p:cNvPr id="7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54160" y="701640"/>
            <a:ext cx="4626000" cy="3468600"/>
          </a:xfrm>
          <a:prstGeom prst="rect">
            <a:avLst/>
          </a:prstGeom>
          <a:ln w="0">
            <a:noFill/>
          </a:ln>
        </p:spPr>
      </p:sp>
      <p:sp>
        <p:nvSpPr>
          <p:cNvPr id="9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4B3C2E-B3FC-43B6-8D53-5259F1363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E88732-DE85-413F-90AA-E48EC5862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54160" y="701640"/>
            <a:ext cx="4626000" cy="3468600"/>
          </a:xfrm>
          <a:prstGeom prst="rect">
            <a:avLst/>
          </a:prstGeom>
          <a:ln w="0">
            <a:noFill/>
          </a:ln>
        </p:spPr>
      </p:sp>
      <p:sp>
        <p:nvSpPr>
          <p:cNvPr id="9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54160" y="701640"/>
            <a:ext cx="4626000" cy="3468600"/>
          </a:xfrm>
          <a:prstGeom prst="rect">
            <a:avLst/>
          </a:prstGeom>
          <a:ln w="0">
            <a:noFill/>
          </a:ln>
        </p:spPr>
      </p:sp>
      <p:sp>
        <p:nvSpPr>
          <p:cNvPr id="9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9341B6-36EF-4297-88CF-8149EC327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54160" y="701640"/>
            <a:ext cx="4626000" cy="3468600"/>
          </a:xfrm>
          <a:prstGeom prst="rect">
            <a:avLst/>
          </a:prstGeom>
          <a:ln w="0">
            <a:noFill/>
          </a:ln>
        </p:spPr>
      </p:sp>
      <p:sp>
        <p:nvSpPr>
          <p:cNvPr id="9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DA68D3-60AC-429A-8E83-DAFB485ED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03BDA6-8304-4CEC-ADF3-394BF6AEF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54160" y="701640"/>
            <a:ext cx="4626000" cy="3468600"/>
          </a:xfrm>
          <a:prstGeom prst="rect">
            <a:avLst/>
          </a:prstGeom>
          <a:ln w="0">
            <a:noFill/>
          </a:ln>
        </p:spPr>
      </p:sp>
      <p:sp>
        <p:nvSpPr>
          <p:cNvPr id="9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DF2CB5-E2B8-4036-BA7A-512EFE4F4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54160" y="701640"/>
            <a:ext cx="4626000" cy="3468600"/>
          </a:xfrm>
          <a:prstGeom prst="rect">
            <a:avLst/>
          </a:prstGeom>
          <a:ln w="0">
            <a:noFill/>
          </a:ln>
        </p:spPr>
      </p:sp>
      <p:sp>
        <p:nvSpPr>
          <p:cNvPr id="9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2806A7-E302-406E-BBE9-B41302D13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BDDA90-D261-4D17-ACD8-F2AD69D98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54160" y="701640"/>
            <a:ext cx="4626000" cy="3468600"/>
          </a:xfrm>
          <a:prstGeom prst="rect">
            <a:avLst/>
          </a:prstGeom>
          <a:ln w="0">
            <a:noFill/>
          </a:ln>
        </p:spPr>
      </p:sp>
      <p:sp>
        <p:nvSpPr>
          <p:cNvPr id="9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54160" y="701640"/>
            <a:ext cx="4626000" cy="3468600"/>
          </a:xfrm>
          <a:prstGeom prst="rect">
            <a:avLst/>
          </a:prstGeom>
          <a:ln w="0">
            <a:noFill/>
          </a:ln>
        </p:spPr>
      </p:sp>
      <p:sp>
        <p:nvSpPr>
          <p:cNvPr id="9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62C5F6-069B-4F90-9347-1B81FA0C5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54160" y="701640"/>
            <a:ext cx="4626000" cy="3468600"/>
          </a:xfrm>
          <a:prstGeom prst="rect">
            <a:avLst/>
          </a:prstGeom>
          <a:ln w="0">
            <a:noFill/>
          </a:ln>
        </p:spPr>
      </p:sp>
      <p:sp>
        <p:nvSpPr>
          <p:cNvPr id="9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0306C6-14EB-4774-A198-A0849039F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A8909AA-1C91-44AB-9931-6CE92A80A6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47680" y="696960"/>
            <a:ext cx="4640400" cy="3479760"/>
          </a:xfrm>
          <a:prstGeom prst="rect">
            <a:avLst/>
          </a:prstGeom>
          <a:ln w="0">
            <a:noFill/>
          </a:ln>
        </p:spPr>
      </p:sp>
      <p:sp>
        <p:nvSpPr>
          <p:cNvPr id="80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C3BD82-1AF5-4371-84D6-732B626FB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54160" y="701640"/>
            <a:ext cx="4626000" cy="3468600"/>
          </a:xfrm>
          <a:prstGeom prst="rect">
            <a:avLst/>
          </a:prstGeom>
          <a:ln w="0">
            <a:noFill/>
          </a:ln>
        </p:spPr>
      </p:sp>
      <p:sp>
        <p:nvSpPr>
          <p:cNvPr id="10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C6B09D-59ED-4E6A-B4C3-6C948F1A7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54160" y="701640"/>
            <a:ext cx="4626000" cy="3468600"/>
          </a:xfrm>
          <a:prstGeom prst="rect">
            <a:avLst/>
          </a:prstGeom>
          <a:ln w="0">
            <a:noFill/>
          </a:ln>
        </p:spPr>
      </p:sp>
      <p:sp>
        <p:nvSpPr>
          <p:cNvPr id="10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58DAFE-3634-4219-A76D-153BD0450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54160" y="701640"/>
            <a:ext cx="4626000" cy="3468600"/>
          </a:xfrm>
          <a:prstGeom prst="rect">
            <a:avLst/>
          </a:prstGeom>
          <a:ln w="0">
            <a:noFill/>
          </a:ln>
        </p:spPr>
      </p:sp>
      <p:sp>
        <p:nvSpPr>
          <p:cNvPr id="10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713C11-7EAC-48A6-886C-1580C8840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54160" y="701640"/>
            <a:ext cx="4626000" cy="3468600"/>
          </a:xfrm>
          <a:prstGeom prst="rect">
            <a:avLst/>
          </a:prstGeom>
          <a:ln w="0">
            <a:noFill/>
          </a:ln>
        </p:spPr>
      </p:sp>
      <p:sp>
        <p:nvSpPr>
          <p:cNvPr id="10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CA9775-7DE8-4BE0-B6DD-A4C0F421B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54160" y="701640"/>
            <a:ext cx="4626000" cy="3468600"/>
          </a:xfrm>
          <a:prstGeom prst="rect">
            <a:avLst/>
          </a:prstGeom>
          <a:ln w="0">
            <a:noFill/>
          </a:ln>
        </p:spPr>
      </p:sp>
      <p:sp>
        <p:nvSpPr>
          <p:cNvPr id="10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9ED9DB-E8CB-4C67-AEF0-041BDE138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F3682DC-7ACA-4342-A9C3-CE2C7063A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54160" y="701640"/>
            <a:ext cx="4626000" cy="3468600"/>
          </a:xfrm>
          <a:prstGeom prst="rect">
            <a:avLst/>
          </a:prstGeom>
          <a:ln w="0">
            <a:noFill/>
          </a:ln>
        </p:spPr>
      </p:sp>
      <p:sp>
        <p:nvSpPr>
          <p:cNvPr id="8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8F8A3F5-99CE-44C6-8268-EC637D776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54160" y="701640"/>
            <a:ext cx="4626000" cy="3468600"/>
          </a:xfrm>
          <a:prstGeom prst="rect">
            <a:avLst/>
          </a:prstGeom>
          <a:ln w="0">
            <a:noFill/>
          </a:ln>
        </p:spPr>
      </p:sp>
      <p:sp>
        <p:nvSpPr>
          <p:cNvPr id="8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44DC133-C3AD-441C-AD63-5FCD7F29C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54160" y="701640"/>
            <a:ext cx="4626000" cy="3468600"/>
          </a:xfrm>
          <a:prstGeom prst="rect">
            <a:avLst/>
          </a:prstGeom>
          <a:ln w="0">
            <a:noFill/>
          </a:ln>
        </p:spPr>
      </p:sp>
      <p:sp>
        <p:nvSpPr>
          <p:cNvPr id="8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36F8D5-3C06-434C-80C2-1CC26DD3C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54160" y="701640"/>
            <a:ext cx="4626000" cy="3468600"/>
          </a:xfrm>
          <a:prstGeom prst="rect">
            <a:avLst/>
          </a:prstGeom>
          <a:ln w="0">
            <a:noFill/>
          </a:ln>
        </p:spPr>
      </p:sp>
      <p:sp>
        <p:nvSpPr>
          <p:cNvPr id="8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A80AB4-35A9-484A-86FE-032CB838E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2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2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2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964057-5974-4FA4-A0E2-9E415E4C2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54160" y="701640"/>
            <a:ext cx="4626000" cy="3468600"/>
          </a:xfrm>
          <a:prstGeom prst="rect">
            <a:avLst/>
          </a:prstGeom>
          <a:ln w="0">
            <a:noFill/>
          </a:ln>
        </p:spPr>
      </p:sp>
      <p:sp>
        <p:nvSpPr>
          <p:cNvPr id="8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97191-A275-43E7-87EB-BEDEF68E4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2604E-E56D-4039-B045-A6A3B9795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6E81E4-A3B3-403A-BBD2-74FAB8104D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D8E396-C1CA-4B78-948E-2EFB3C1E46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78E93E-B66D-4679-BF3B-B29B28B05C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B6817F-794F-4166-95D3-34367D5A57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06DF42-28BF-4687-8DA3-6C47471C55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C07147-6D4B-4629-B1BB-E95A2A7C34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E744BB-4778-437D-B2CC-9062A1D579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BE06F2-8D3D-4568-B5C8-41C6690849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F8A116-8F6D-49D4-9F21-DD20F4686C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EF19E2-F545-4B2D-AF1E-E7DD57D16F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156BA-32CD-49B4-89F9-27973356D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63E6C3-D638-4035-9C94-4B580F3628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D1ADC7-91C4-46CC-8EA8-EDA21CFEF4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C70E11-BB27-4280-A376-32C749A852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B0088B-DDC6-460B-A0AB-B7F4C53935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B50B7E-5F56-4566-9D4F-93B981BF85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52170F-E9AD-4A9B-8D5C-FFA26B6266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CE4CF7-25BE-47C3-AB84-C4BF7E4AA6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6967DC-B9B5-4958-BC13-652E9FA525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7F8D24-4A83-42A3-A5B8-4BCDB24335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830BF9-8E77-4FCB-A5A4-E08A32D289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83F75-8BFC-4152-A654-63130BEC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D5CFD56-D372-4DFE-A6D7-1142C41D4F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A266162-8BF1-42C3-81C2-442B58D4C2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84322A-04AF-4416-A31F-1FA2E522C6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2B125A-4CA3-4F04-8B80-272E0C3A67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FB5F7D-F624-4087-9E73-8AE08A4EC7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FDD77A-90D1-446D-AA06-03ECB6A623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4C24A3-B45F-47D7-883C-AB2B720D6C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976F56-2A18-45FE-B5CE-BECBD417F6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A0779C-F127-4077-BE41-C872B7AD6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FCDBE5-6F54-496F-ACA3-2837C95D90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D5DD9-F21C-46C8-8B32-B769D8398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671BE1-AD3D-495A-8FFE-6E17923737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943933-0D3A-4785-B453-059563FE17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9F9446-8DA9-4561-AEC4-4F16BEFE6E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399EF2F-5464-438B-A602-6F1165FE17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92B54F-2BFE-41E9-A779-75E5BB4FCC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1081B0-8E3B-446B-9C7F-C2683AF011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DA16BE-544F-4081-AB60-5A34698535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FCD525-518F-4B16-80DC-02E4E5D67C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1ED7AA-1C1C-4BF6-BA7E-A78AF681FF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B7D4DD-5A5A-4CCE-91FC-B3AD381628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387A2-3EA7-4F91-AACA-B3EDF0087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36A779-B4E2-42C9-B41B-99D4CF0E34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8D3314-21AF-4DD8-B492-319C9DD05C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616767-AA7B-4BDD-B2EB-67B200FEE7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DD646A-3CEB-443A-B1B2-66E367D210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8465AD-A774-4836-BA1A-3C8654CAC5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7B6D9-1CB7-4836-AF2D-D05AC6D58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AA161-9432-4628-9C96-15AD92467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63F3B-3FFD-4480-822A-5624921AE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5B656-19D2-4B47-B35C-08C20DFEE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9F8F6-422B-4DED-AEB0-E9E8D5CEE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56C3A-20EA-4EEF-B5E7-D0B8CEE07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B068B-4F2F-4CDD-9D46-E0FF864AB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3B86E-4776-4D4D-B336-33555EFEA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19AE0-31A7-42BA-93CC-B860BD40E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82696-73D9-4B29-BA4F-9F9A6753F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C85C9-5465-49C8-B189-55473A3ED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7577C4-E269-462B-9314-9ED8DC606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34B68-526C-4C88-9A4B-B77B2EEDB2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8FE9D7-6691-47B5-989B-217090B00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284E8-DD6C-4A2E-881C-637C5ADBB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0FB47-B42C-4360-9942-1D52A6878D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0F26-972E-44E2-86B9-AA116DFE7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B698E-322F-4172-AD15-22A8FC0DE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895EA-390C-464D-AD5F-10CC2DAD0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4DB29-52D0-408B-B8E7-E02C114E1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2B8D1-F7A5-4E2B-AA52-BE69199BD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904F7-D426-4B9B-AAF9-E32F3744E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E7DA29-D4CB-4F39-B5AA-DC41F8752A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49595D-E4DB-4698-9226-7C91AF8BB3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32A2AD-9D01-4933-9DBF-5A1F7A3CA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9F6D4-C9B4-49E3-A4F7-3E42B41BAC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6B631-59CB-4FDB-9AEC-D4AC135A2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F396C-F794-461D-BA37-FB366F7D4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379F7-9896-49C8-A0F6-54FAD87DA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3C90E-238E-469A-817C-737D200AFB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63F3B1-F83A-4FD1-82B3-FDF4477D94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4AF0E-631C-40B6-A3F6-7669D17C3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C1C93-5F4C-40F4-BA22-34A39E033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71257-3D0D-4577-8BB0-E29792AFF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0BCF04-DBA0-464F-8976-943EFCE6C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AEB528-2A5A-47B5-8DA7-788BD20383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547983-42BA-444E-BB86-27ADD17B16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D4F5D9-BBAC-4CB6-B9BD-DBC225AEFA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76443-307B-43A9-9A15-386A44EDF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E8B2E2-B457-4954-AF1C-D9BD7DB70E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DF9EF5-4D9D-4085-8B64-24F6904300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8874E5-956D-47DB-A1D8-68548AEA3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B82A74-9C34-4A89-862E-1AF8502CD9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20A3C-FBCE-4317-9024-DFE14F9D9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AC816-002A-4CEA-A660-D017DF6C93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3584E9-B4F7-4062-B007-0B503A40B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560C3F-A29C-4CE3-BD83-977CA1F64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B6137-1CCF-45D1-915B-5B420C6BC1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65AC3A-4ED5-4810-A9A8-35D630CCAE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173E2-DAB1-4959-A872-756DCA6E5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0EF9E8-11A6-4041-B203-5A0363D4CD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1E8342-7F40-4C46-AF6F-ACB59ECA5D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F11F5-715B-4BA6-B6E6-ABBF62CFE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9CE7A-DBC8-4F1B-B177-9EFA5A6C3E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6A790-6395-4D39-A336-0D289F032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C6A4D6-B47B-4B4B-B24D-A48264F6A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53C80D-AB5D-4406-B6DC-764C3D9D08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4CA3B-D7A6-453F-8FC4-99813648A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A64CA-1E77-465F-84D1-CF4A1F4D2C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79F16-76A1-47D4-871D-5CBDF0040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84D24-E6B8-43F2-82B5-D89F7BE74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714D5-7767-41AD-99E1-E181D31D1A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1636DF-A6F6-4128-BADD-80D62748E4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8883BF-AF87-4473-B6F7-A9582289C0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106D7E-252A-4162-8D8B-61C279129A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B3582C-85EF-4686-B594-2B2667EF1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B15110-4CED-414A-A6A3-779D82774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6843C-9579-4B8A-BA5A-2A81A94548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5EA781-4F28-49EF-BE3F-AB2FC7DDB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651603-09F4-40C3-B880-81C2604F2C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6622F-DAFF-44E6-96A5-9860F9854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08C2-8265-4BE8-91CC-017C8DB0E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886FB-682D-4418-B5DC-AD9C94339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FCE3C-4A89-4E45-AA85-3D9CEDC78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277C02-F5EC-49B1-B3EC-3AD04F8BAF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87DA7D-C890-46C9-BED6-40064CFA0E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DF24C2-C213-4E04-AE1D-9DEDDE2324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82AFD6-08B6-4B44-9425-A3996D219E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8498F1-77B3-4415-A167-43523385FA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BA17B5-DAD2-4D41-9EBA-9F77B77D9E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D09840-304B-4E1C-B740-413E2C437B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B431E-A072-4261-9AE6-B1C359AB79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F3483-FE4C-4DA8-A89E-9AC2BD56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672D2E-CDAA-4C6C-8D85-D1AD7CBF34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00435-0E00-4A41-9AFB-93684CEA8F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89F5B-1F35-486F-92A0-EF8626FEA4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A0728-371B-49A6-B75C-1E329EE25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ABA63D-F7E8-4BE9-B9C8-5F6B8F60E1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EA461F-2157-4EBA-9429-370EF7F9CA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5E52FC-E198-4EDD-937D-D0E400103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20FE82-1446-4A69-8BBA-699CF1442B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DAA27B-8683-45A9-9736-CA26C976A8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FDBEAD-8B3C-4216-903D-2C3813926E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47B6591-43CE-46B9-8353-66C5724B2C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525E1AD-1210-49A2-AA01-097879046D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FAB170C-75A3-4BD0-87F3-EED3E685CF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7DC2F0A-22CA-4567-9490-09DE53A8AA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6D4EBFF-DDA5-41DA-B7AD-27FC445A0F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68C4D23-FE87-4D5A-B300-44880D6D70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9A8716B-79C0-4880-8473-C5C2D09E0C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6762557-EC35-4F0B-8D98-CCBC410045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BCBD914-FF84-4899-802E-F1C94AE3CE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F404E8C-C40D-4943-8983-7A58BB8623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DDFF6D3-19E4-4623-8170-E27CF996EB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1D2F150-6F47-4F6C-BE4E-BAE7A0E842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mentor.ieee.org/802.11/dcn/16/11-16-1267-00-00ay-tg-ay-september-2016-warsaw-meeting-minutes.docx" TargetMode="External"/><Relationship Id="rId2" Type="http://schemas.openxmlformats.org/officeDocument/2006/relationships/hyperlink" Target="https://mentor.ieee.org/802.11/dcn/16/11-16-1267-00-00ay-tg-ay-september-2016-warsaw-meeting-minutes.docx" TargetMode="External"/><Relationship Id="rId3" Type="http://schemas.openxmlformats.org/officeDocument/2006/relationships/hyperlink" Target="https://mentor.ieee.org/802.11/dcn/16/11-16-1267-00-00ay-tg-ay-september-2016-warsaw-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5/11-15-0609-02-00ay-802-11ay-timeline.pptx" TargetMode="Externa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mentor.ieee.org/802.11/dcn/16/11-16-1412-00-00ay-sfd-assignment-for-11ay-draft-creation.xlsx" TargetMode="External"/><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DAC43D-4A3E-4811-82BA-9D64768D7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2016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11-06</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C3D3EC-D959-4FA2-B3B7-B52FB995E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46D722-0238-4CDB-BE32-E75CF6918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graphicFrame>
        <p:nvGraphicFramePr>
          <p:cNvPr id="610"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8D80E8-763F-4CF8-8E4E-4A85FC73C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4" name=""/>
          <p:cNvGraphicFramePr/>
          <p:nvPr/>
        </p:nvGraphicFramePr>
        <p:xfrm>
          <a:off x="762120" y="1752480"/>
          <a:ext cx="7543800" cy="4078440"/>
        </p:xfrm>
        <a:graphic>
          <a:graphicData uri="http://schemas.openxmlformats.org/drawingml/2006/table">
            <a:tbl>
              <a:tblPr/>
              <a:tblGrid>
                <a:gridCol w="904680"/>
                <a:gridCol w="1282680"/>
                <a:gridCol w="1282680"/>
                <a:gridCol w="1351080"/>
                <a:gridCol w="1351080"/>
                <a:gridCol w="137160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65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as E, 4/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wie B, 2/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0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699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wie B, 2/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as E, 4/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wie B, 2/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E88C04-F5DF-4816-8002-633309916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and timeline for 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anuar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FF6872-BF07-4613-89E1-CF87E76B6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54B21F-F94A-4719-8D2D-78E8E342B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September 2016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September 2016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391089-AD12-4E8C-839D-416F4448C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September 2016 interim</a:t>
            </a:r>
            <a:endParaRPr b="0" lang="en-US" sz="3200" spc="-1" strike="noStrike">
              <a:solidFill>
                <a:srgbClr val="000000"/>
              </a:solidFill>
              <a:latin typeface="Times New Roman"/>
            </a:endParaRPr>
          </a:p>
        </p:txBody>
      </p:sp>
      <p:sp>
        <p:nvSpPr>
          <p:cNvPr id="63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imeline</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 chair election was conducte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ang Kim (LG Electronics) is elected</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discussion was initiate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ditor’s proposal on revised timeline (16/1278r1) is presented</a:t>
            </a: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018DFC-1A2E-4C78-A4FC-7DB5CBF19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10: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tember 2016 meeting minutes</a:t>
            </a:r>
            <a:endParaRPr b="0" lang="en-US" sz="3200" spc="-1" strike="noStrike">
              <a:solidFill>
                <a:srgbClr val="000000"/>
              </a:solidFill>
              <a:latin typeface="Times New Roman"/>
            </a:endParaRPr>
          </a:p>
        </p:txBody>
      </p:sp>
      <p:sp>
        <p:nvSpPr>
          <p:cNvPr id="6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September 2016 interim:</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a:t>
            </a:r>
            <a:r>
              <a:rPr b="0" lang="en-US" sz="2000" spc="-1" strike="noStrike" u="sng">
                <a:solidFill>
                  <a:srgbClr val="0066ff"/>
                </a:solidFill>
                <a:uFillTx/>
                <a:latin typeface="Times New Roman"/>
                <a:hlinkClick r:id="rId2"/>
              </a:rPr>
              <a:t>://</a:t>
            </a:r>
            <a:r>
              <a:rPr b="0" lang="en-US" sz="2000" spc="-1" strike="noStrike" u="sng">
                <a:solidFill>
                  <a:srgbClr val="0066ff"/>
                </a:solidFill>
                <a:uFillTx/>
                <a:latin typeface="Times New Roman"/>
                <a:hlinkClick r:id="rId3"/>
              </a:rPr>
              <a:t>mentor.ieee.org/802.11/dcn/16/11-16-1267-00-00ay-tg-ay-september-2016-warsaw-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Edward Au</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3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0F14A9-EB1D-4495-A126-A924E0A34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4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graphicFrame>
        <p:nvGraphicFramePr>
          <p:cNvPr id="644" name=""/>
          <p:cNvGraphicFramePr/>
          <p:nvPr/>
        </p:nvGraphicFramePr>
        <p:xfrm>
          <a:off x="685800" y="1676520"/>
          <a:ext cx="7924680" cy="444492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ask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150r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oved in September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2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33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358r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xts corresponding to motions #89-#109 are inserted in the latest version after the September 2016 inter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02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September 2016 inter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65236F-E58A-4597-B8A2-319478CA8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4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6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N field transmission for channel bond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6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 MIMO beamforming protocol propos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3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4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utaka Murakam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PHY headers for open loop spatial multiplexing in SU-MIM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urther details on multi-stage, multi-resolution beamforming training in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an Antonio, Texas,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vember 6 - 11, 2016</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58823C-57D4-41ED-BBF5-01618C511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F8100D-870A-4D6F-B92B-190086CB9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5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85800" y="1676520"/>
          <a:ext cx="7924680" cy="4216320"/>
        </p:xfrm>
        <a:graphic>
          <a:graphicData uri="http://schemas.openxmlformats.org/drawingml/2006/table">
            <a:tbl>
              <a:tblPr/>
              <a:tblGrid>
                <a:gridCol w="981000"/>
                <a:gridCol w="1685880"/>
                <a:gridCol w="373392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3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mes W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tenna polarization capability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gook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n the implementation of dynamic load balancing for A-BFT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nmin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Header-A cont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yungtae J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F procedure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rier sense for multi-channel allo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5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zevdan Kapetan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paring DL/UL training overhead for hybri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o W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CM SQPSK for Channel Aggregation in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63F46A-151A-48DA-9941-6E7843C70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5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ed loop SU-MIMO performance with quantized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I and phase impairments impact on open-loop SU-MIM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ui Y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n the single carrier waveforms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cket structure for SC EDMG PPDU for each GI length</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3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CS table for SC EDM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4E9479-26AF-421B-866B-D2CA0B3DD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5" name=""/>
          <p:cNvGraphicFramePr/>
          <p:nvPr/>
        </p:nvGraphicFramePr>
        <p:xfrm>
          <a:off x="685800" y="1676520"/>
          <a:ext cx="7924680" cy="372744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millo Gentil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quasi-deterministic channel model for a server room at 60 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roslav Gagi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mplementation of 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9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ert Mull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summary of outdoor indoor scenarios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79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o W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CM QPSK for channel aggregation in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2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Header spoofing and bit re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ymbol blocking and guard interval definition for SC MIMO in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6D4B20-F902-4BCD-B1B7-ED03358F6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85800" y="1676520"/>
          <a:ext cx="7924680" cy="314784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te-7/8 LDPC code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Header-A fields preview in L-Head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2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CK and BA transmission in bonded channel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u Y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D for DL MU MIM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1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 assignment for 11ay draft cre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1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FAA8DD-5803-4B52-9D99-377E8258C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7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85800" y="1676520"/>
          <a:ext cx="7924680" cy="920520"/>
        </p:xfrm>
        <a:graphic>
          <a:graphicData uri="http://schemas.openxmlformats.org/drawingml/2006/table">
            <a:tbl>
              <a:tblPr/>
              <a:tblGrid>
                <a:gridCol w="981000"/>
                <a:gridCol w="1736640"/>
                <a:gridCol w="3683160"/>
                <a:gridCol w="152388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7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Oza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L MU-MIMO hybrid BF w/o CSI feedback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EF5205-4B00-407D-B99B-C70ED9003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from September 2016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September 2016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 on selection procedur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7:30pm – 9: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679"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and timeline for draft develop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January 2017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552F8A-8782-4770-8C66-156A17071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1)</a:t>
            </a:r>
            <a:endParaRPr b="0" lang="en-US" sz="3200" spc="-1" strike="noStrike">
              <a:solidFill>
                <a:srgbClr val="000000"/>
              </a:solidFill>
              <a:latin typeface="Times New Roman"/>
            </a:endParaRPr>
          </a:p>
        </p:txBody>
      </p:sp>
      <p:sp>
        <p:nvSpPr>
          <p:cNvPr id="684"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approved in May 2015:</a:t>
            </a:r>
            <a:endParaRPr b="0" lang="en-US" sz="2400" spc="-1" strike="noStrike">
              <a:solidFill>
                <a:srgbClr val="000000"/>
              </a:solidFill>
              <a:latin typeface="Times New Roman"/>
            </a:endParaRPr>
          </a:p>
        </p:txBody>
      </p:sp>
      <p:sp>
        <p:nvSpPr>
          <p:cNvPr id="6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pic>
        <p:nvPicPr>
          <p:cNvPr id="686" name="Picture 2" descr=""/>
          <p:cNvPicPr/>
          <p:nvPr/>
        </p:nvPicPr>
        <p:blipFill>
          <a:blip r:embed="rId2"/>
          <a:stretch/>
        </p:blipFill>
        <p:spPr>
          <a:xfrm>
            <a:off x="609480" y="2558880"/>
            <a:ext cx="8229600" cy="2241720"/>
          </a:xfrm>
          <a:prstGeom prst="rect">
            <a:avLst/>
          </a:prstGeom>
          <a:ln w="0">
            <a:noFill/>
          </a:ln>
        </p:spPr>
      </p:pic>
      <p:sp>
        <p:nvSpPr>
          <p:cNvPr id="687" name="TextBox 9"/>
          <p:cNvSpPr/>
          <p:nvPr/>
        </p:nvSpPr>
        <p:spPr>
          <a:xfrm>
            <a:off x="3845520" y="563400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688" name="Straight Arrow Connector 9"/>
          <p:cNvCxnSpPr/>
          <p:nvPr/>
        </p:nvCxnSpPr>
        <p:spPr>
          <a:xfrm flipV="1">
            <a:off x="4723920" y="4647960"/>
            <a:ext cx="1080" cy="986400"/>
          </a:xfrm>
          <a:prstGeom prst="straightConnector1">
            <a:avLst/>
          </a:prstGeom>
          <a:ln w="25560">
            <a:solidFill>
              <a:srgbClr val="000000"/>
            </a:solidFill>
            <a:miter/>
            <a:tailEnd len="med" type="arrow" w="med"/>
          </a:ln>
        </p:spPr>
      </p:cxn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706C42-E81A-4383-BE90-2030FEAEC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2)</a:t>
            </a:r>
            <a:endParaRPr b="0" lang="en-US" sz="3200" spc="-1" strike="noStrike">
              <a:solidFill>
                <a:srgbClr val="000000"/>
              </a:solidFill>
              <a:latin typeface="Times New Roman"/>
            </a:endParaRPr>
          </a:p>
        </p:txBody>
      </p:sp>
      <p:sp>
        <p:nvSpPr>
          <p:cNvPr id="692"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70000"/>
          </a:bodyPr>
          <a:p>
            <a:pPr marL="240120" indent="-2401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proposal on revised timeline:</a:t>
            </a:r>
            <a:endParaRPr b="0" lang="en-US" sz="2400" spc="-1" strike="noStrike">
              <a:solidFill>
                <a:srgbClr val="000000"/>
              </a:solidFill>
              <a:latin typeface="Times New Roman"/>
            </a:endParaRPr>
          </a:p>
          <a:p>
            <a:pPr lvl="1" marL="519840" indent="-19980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16/1278r1</a:t>
            </a:r>
            <a:endParaRPr b="0" lang="en-US" sz="2000" spc="-1" strike="noStrike">
              <a:solidFill>
                <a:srgbClr val="000000"/>
              </a:solidFill>
              <a:latin typeface="Times New Roman"/>
            </a:endParaRPr>
          </a:p>
        </p:txBody>
      </p:sp>
      <p:sp>
        <p:nvSpPr>
          <p:cNvPr id="69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CB5419-99CE-4718-A1F1-0A4A18FD9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1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timeline revision</a:t>
            </a:r>
            <a:endParaRPr b="0" lang="en-US" sz="3200" spc="-1" strike="noStrike">
              <a:solidFill>
                <a:srgbClr val="000000"/>
              </a:solidFill>
              <a:latin typeface="Times New Roman"/>
            </a:endParaRPr>
          </a:p>
        </p:txBody>
      </p:sp>
      <p:sp>
        <p:nvSpPr>
          <p:cNvPr id="69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proposed timeline presented in 16/1278r1 as the timeline for Task Group AY.</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9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6DD3CA-A48F-49F8-BB86-F239C07E8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selection procedure</a:t>
            </a:r>
            <a:endParaRPr b="0" lang="en-US" sz="3200" spc="-1" strike="noStrike">
              <a:solidFill>
                <a:srgbClr val="000000"/>
              </a:solidFill>
              <a:latin typeface="Times New Roman"/>
            </a:endParaRPr>
          </a:p>
        </p:txBody>
      </p:sp>
      <p:sp>
        <p:nvSpPr>
          <p:cNvPr id="70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 is responsible for maintaining the documen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ibutions that describe different functional blocks with the intention to be included in the TG specification framework document are solicit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framework document shall be created by incorporating different functional blocks that the corresponding motions have been approved by at least 75% TG approval rate.</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 polls will be conducted first to gauge the interest of the TG.</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straw polls that achieve at least 75% approval rate will be converted to motions.</a:t>
            </a:r>
            <a:endParaRPr b="0" lang="en-US" sz="16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change in the document requires at least 75% TG approval rate.</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132478-6F09-433D-A4BB-46312EAB0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November 2016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A45F06-B2E6-4EE3-9FE2-8217B5B14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0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7762B9-1BDE-4062-BB83-F7EB00CE7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7:30pm – 9: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0CF146-344D-4EEE-80DD-BD165445D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1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C70529-B298-4BCD-A567-67C038892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8F145E-6A7F-452F-BF94-BF6716D1B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37A6FD-15DE-494A-988E-588C0B6D2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A714A7-2815-49BA-85A0-D76093CA2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481D51-3438-4735-BF2E-6A57B6115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013EE8-8483-4B52-9583-E72688B0D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5923DD-F056-46A3-97F8-1558AB356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69F221F-C1C1-4C08-AA62-744FA04068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FE2993-35A3-4D96-A0E2-CB1174BE2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1E5E56-CEB8-49BF-800A-A7A46F320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4"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Januar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6AAC10-2D02-4958-BA08-69C7AB09D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12:  TBD</a:t>
            </a:r>
            <a:endParaRPr b="0" lang="en-US" sz="3200" spc="-1" strike="noStrike">
              <a:solidFill>
                <a:srgbClr val="000000"/>
              </a:solidFill>
              <a:latin typeface="Times New Roman"/>
            </a:endParaRPr>
          </a:p>
        </p:txBody>
      </p:sp>
      <p:sp>
        <p:nvSpPr>
          <p:cNvPr id="75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xx Yes, xx No, x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0F5AAB-0C96-43F3-AC95-3ACFD0F49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development</a:t>
            </a:r>
            <a:endParaRPr b="0" lang="en-US" sz="3200" spc="-1" strike="noStrike">
              <a:solidFill>
                <a:srgbClr val="000000"/>
              </a:solidFill>
              <a:latin typeface="Times New Roman"/>
            </a:endParaRPr>
          </a:p>
        </p:txBody>
      </p:sp>
      <p:sp>
        <p:nvSpPr>
          <p:cNvPr id="764"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proposal on process and timeline for draft creation:</a:t>
            </a:r>
            <a:endParaRPr b="0" lang="en-US" sz="2400" spc="-1" strike="noStrike">
              <a:solidFill>
                <a:srgbClr val="000000"/>
              </a:solidFill>
              <a:latin typeface="Times New Roman"/>
            </a:endParaRPr>
          </a:p>
          <a:p>
            <a:pPr lvl="1" marL="512640" indent="-1969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16/1412r0</a:t>
            </a:r>
            <a:endParaRPr b="0" lang="en-US" sz="2000" spc="-1" strike="noStrike">
              <a:solidFill>
                <a:srgbClr val="000000"/>
              </a:solidFill>
              <a:latin typeface="Times New Roman"/>
            </a:endParaRPr>
          </a:p>
        </p:txBody>
      </p:sp>
      <p:sp>
        <p:nvSpPr>
          <p:cNvPr id="7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920222-6398-4247-8B45-2D49D6026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anuary 2017 interim</a:t>
            </a:r>
            <a:endParaRPr b="0" lang="en-US" sz="3200" spc="-1" strike="noStrike">
              <a:solidFill>
                <a:srgbClr val="000000"/>
              </a:solidFill>
              <a:latin typeface="Times New Roman"/>
            </a:endParaRPr>
          </a:p>
        </p:txBody>
      </p:sp>
      <p:sp>
        <p:nvSpPr>
          <p:cNvPr id="7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EB0061-6F3F-49C1-8FFC-1260D7CD0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4 (Wednesday), 10:00am ET – 11:00am E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74C3A9-E8D8-4D60-9068-0503DC10E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72972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C1B1EC-CD8B-45CD-A489-395AA39BD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AC3275-8A24-477D-8B62-146A301CA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7C514E-539F-4C59-A0EC-78E1BBB5C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B5C8A3-9F66-473A-B656-2F09C5871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016</cp:keywords>
  <dc:language>en-US</dc:language>
  <cp:lastModifiedBy>Edward Au</cp:lastModifiedBy>
  <cp:lastPrinted>2014-11-04T15:04:57Z</cp:lastPrinted>
  <dcterms:modified xsi:type="dcterms:W3CDTF">2016-11-08T13:17:23Z</dcterms:modified>
  <cp:revision>3554</cp:revision>
  <dc:subject>Task Group AY November 2015 Meeting Agenda</dc:subject>
  <dc:title>11-16/1288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