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5.xml.rels" ContentType="application/vnd.openxmlformats-package.relationships+xml"/>
  <Override PartName="/ppt/notesSlides/_rels/notesSlide43.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22724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2A47AF-8913-4166-B49F-6C21D98A9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53"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35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5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E75E6F-C23F-4F31-B778-5F5F75BEC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54160" y="701640"/>
            <a:ext cx="4626000" cy="3468600"/>
          </a:xfrm>
          <a:prstGeom prst="rect">
            <a:avLst/>
          </a:prstGeom>
          <a:ln w="0">
            <a:noFill/>
          </a:ln>
        </p:spPr>
      </p:sp>
      <p:sp>
        <p:nvSpPr>
          <p:cNvPr id="3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83"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38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8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0184D9-7AD5-4941-8E22-FA3B8E157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54160" y="701640"/>
            <a:ext cx="4626000" cy="3468600"/>
          </a:xfrm>
          <a:prstGeom prst="rect">
            <a:avLst/>
          </a:prstGeom>
          <a:ln w="0">
            <a:noFill/>
          </a:ln>
        </p:spPr>
      </p:sp>
      <p:sp>
        <p:nvSpPr>
          <p:cNvPr id="3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89"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39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77052D-79D2-4408-AAE5-60D7AFC80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9480" y="696960"/>
            <a:ext cx="4636800" cy="3478320"/>
          </a:xfrm>
          <a:prstGeom prst="rect">
            <a:avLst/>
          </a:prstGeom>
          <a:ln w="0">
            <a:noFill/>
          </a:ln>
        </p:spPr>
      </p:sp>
      <p:sp>
        <p:nvSpPr>
          <p:cNvPr id="39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95"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39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4028F1-9F61-4EAF-A4EA-AE483ECBF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54160" y="701640"/>
            <a:ext cx="4626000" cy="3468600"/>
          </a:xfrm>
          <a:prstGeom prst="rect">
            <a:avLst/>
          </a:prstGeom>
          <a:ln w="0">
            <a:noFill/>
          </a:ln>
        </p:spPr>
      </p:sp>
      <p:sp>
        <p:nvSpPr>
          <p:cNvPr id="3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54160" y="701640"/>
            <a:ext cx="4626000" cy="3468600"/>
          </a:xfrm>
          <a:prstGeom prst="rect">
            <a:avLst/>
          </a:prstGeom>
          <a:ln w="0">
            <a:noFill/>
          </a:ln>
        </p:spPr>
      </p:sp>
      <p:sp>
        <p:nvSpPr>
          <p:cNvPr id="4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02"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03" name="Date Placeholder 4"/>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404"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419FE2-DDF0-4151-AD09-6B40881F1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07"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40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E09A04-0571-46F2-BF9C-1FE704ED1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54160" y="701640"/>
            <a:ext cx="4626000" cy="3468600"/>
          </a:xfrm>
          <a:prstGeom prst="rect">
            <a:avLst/>
          </a:prstGeom>
          <a:ln w="0">
            <a:noFill/>
          </a:ln>
        </p:spPr>
      </p:sp>
      <p:sp>
        <p:nvSpPr>
          <p:cNvPr id="4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13"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41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0D5BE0-0D1F-4A05-A128-BBD1B29D8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54160" y="701640"/>
            <a:ext cx="4626000" cy="3468600"/>
          </a:xfrm>
          <a:prstGeom prst="rect">
            <a:avLst/>
          </a:prstGeom>
          <a:ln w="0">
            <a:noFill/>
          </a:ln>
        </p:spPr>
      </p:sp>
      <p:sp>
        <p:nvSpPr>
          <p:cNvPr id="4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59"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36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D15FEA-8376-4595-8C72-F733E9FF2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54160" y="701640"/>
            <a:ext cx="4626000" cy="3468600"/>
          </a:xfrm>
          <a:prstGeom prst="rect">
            <a:avLst/>
          </a:prstGeom>
          <a:ln w="0">
            <a:noFill/>
          </a:ln>
        </p:spPr>
      </p:sp>
      <p:sp>
        <p:nvSpPr>
          <p:cNvPr id="3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65"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36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B07172-291A-426D-BA5F-49AE31825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69"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71"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37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D55387-6426-4A93-A239-1831CE8B8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9480" y="696960"/>
            <a:ext cx="4636800" cy="3478320"/>
          </a:xfrm>
          <a:prstGeom prst="rect">
            <a:avLst/>
          </a:prstGeom>
          <a:ln w="0">
            <a:noFill/>
          </a:ln>
        </p:spPr>
      </p:sp>
      <p:sp>
        <p:nvSpPr>
          <p:cNvPr id="37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77" name="Rectangle 3"/>
          <p:cNvSpPr/>
          <p:nvPr/>
        </p:nvSpPr>
        <p:spPr>
          <a:xfrm>
            <a:off x="65448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37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0352F9-6BA5-4C80-8ACA-A858C5E8C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54160" y="701640"/>
            <a:ext cx="4626000" cy="3468600"/>
          </a:xfrm>
          <a:prstGeom prst="rect">
            <a:avLst/>
          </a:prstGeom>
          <a:ln w="0">
            <a:noFill/>
          </a:ln>
        </p:spPr>
      </p:sp>
      <p:sp>
        <p:nvSpPr>
          <p:cNvPr id="3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6525B-A85C-414E-B9C5-A66BDCA7F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00BF4-CEEF-41E4-867B-939B6EBE4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042D4-632E-44FC-AD20-7A5206159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6B18C-0334-42FC-8EED-D27650F89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EEC86-E48E-40F6-B277-75001CAFE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77439-08F5-45F7-A7E7-583AA42C6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CB0BF-63EE-473A-B808-1B4D2AF2A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8210C-803E-4893-89B6-A928A9E8F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ABAC9-4395-4FEF-B521-21613E583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DB8FD-5B46-476B-9D13-B69C8393D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9A3CD-80A8-422B-AA01-5DBC56EC1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D9467-3BB3-4BF4-A89D-3C7E9B511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18260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0EB0B1-FB9D-438B-9EF8-0B225BC86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077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6/11-16-1105-03-00ax-tgax-teleconference-minutes-from-august-to-september-2016.docx" TargetMode="External"/><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s://mentor.ieee.org/802.11/dcn/16/11-16-0967-00-00ax-tgax-july-2016-san-diego-meeting-minutes.docx" TargetMode="External"/><Relationship Id="rId2" Type="http://schemas.openxmlformats.org/officeDocument/2006/relationships/hyperlink" Target="https://mentor.ieee.org/802.11/dcn/16/11-16-1105-02-00ax-tgax-teleconference-minutes-from-august-to-september-2016.docx" TargetMode="External"/><Relationship Id="rId3" Type="http://schemas.openxmlformats.org/officeDocument/2006/relationships/hyperlink" Target="https://mentor.ieee.org/802.11/dcn/16/11-16-1040-00-00ax-tgax-july-2016-san-diego-phy-ad-hoc-meeting-minutes.docx" TargetMode="External"/><Relationship Id="rId4" Type="http://schemas.openxmlformats.org/officeDocument/2006/relationships/hyperlink" Target="https://mentor.ieee.org/802.11/dcn/16/11-16-1000-02-00ax-july-2016-san-diego-tgax-mac-ad-hoc-meeting-minutes.docx" TargetMode="External"/><Relationship Id="rId5" Type="http://schemas.openxmlformats.org/officeDocument/2006/relationships/hyperlink" Target="https://mentor.ieee.org/802.11/dcn/16/11-16-1027-00-00ax-mu-ad-hoc-meeting-minutes-july-2016.docx" TargetMode="External"/><Relationship Id="rId6" Type="http://schemas.openxmlformats.org/officeDocument/2006/relationships/hyperlink" Target="https://mentor.ieee.org/802.11/dcn/16/11-16-1022-00-00ax-tgax-spatial-reuse-ad-hoc-group-meeting-minutes.docx" TargetMode="External"/><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0B7A0F-C7CB-4037-8A81-2B10CE779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eptember 2016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6-08-05</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93BECD-9D26-4A2C-A875-E9C261F90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D1426F-8094-471E-9395-AF75F3F1E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lative costs, including licensing costs of essential patent claims, of different technical approaches September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53BABC-AF53-4489-9FDD-353E74BFE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752480"/>
            <a:ext cx="7772400" cy="24386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May meeti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Resolution of comments received on draft D0.1</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16D1D9-6F75-4DD4-A404-E75D26E0D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September 12,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Ad Hoc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meeting Agenda setting</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val of ad hoc meeting agenda</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September 12,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September 12, 19:30 – 21: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September 13,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September 13,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September 14,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 Review</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295280"/>
            <a:ext cx="4343400" cy="4114800"/>
          </a:xfrm>
          <a:prstGeom prst="rect">
            <a:avLst/>
          </a:prstGeom>
          <a:noFill/>
          <a:ln w="0">
            <a:noFill/>
          </a:ln>
        </p:spPr>
        <p:txBody>
          <a:bodyPr lIns="92160" rIns="92160" tIns="46080" bIns="46080" anchor="t">
            <a:normAutofit fontScale="83000"/>
          </a:bodyPr>
          <a:p>
            <a:pPr marL="2844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844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84400" indent="-284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September 14, 13:30 – 15:30</a:t>
            </a:r>
            <a:endParaRPr b="1"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284400" indent="-284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September 14, 16:00 – 18:00</a:t>
            </a:r>
            <a:endParaRPr b="1"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284400" indent="-284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September 15, 10:30 – 12:30</a:t>
            </a:r>
            <a:endParaRPr b="1"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84400" indent="-284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September 15, 13:30 – 15:30</a:t>
            </a:r>
            <a:endParaRPr b="1"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84400" indent="-284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September 28, 16:00 – 18:00</a:t>
            </a:r>
            <a:endParaRPr b="1"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November 2016</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 Schedule</a:t>
            </a:r>
            <a:endParaRPr b="0" lang="en-US" sz="1200" spc="-1" strike="noStrike">
              <a:solidFill>
                <a:srgbClr val="000000"/>
              </a:solidFill>
              <a:latin typeface="Times New Roman"/>
            </a:endParaRPr>
          </a:p>
          <a:p>
            <a:pPr lvl="1" marL="616680" indent="-2372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D2024A-EC8E-44A3-A849-2BF8D1D0A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852480" y="2209680"/>
          <a:ext cx="7529400" cy="3008520"/>
        </p:xfrm>
        <a:graphic>
          <a:graphicData uri="http://schemas.openxmlformats.org/drawingml/2006/table">
            <a:tbl>
              <a:tblPr/>
              <a:tblGrid>
                <a:gridCol w="747720"/>
                <a:gridCol w="914400"/>
                <a:gridCol w="685800"/>
                <a:gridCol w="1143000"/>
                <a:gridCol w="533520"/>
                <a:gridCol w="1295280"/>
                <a:gridCol w="685800"/>
                <a:gridCol w="1523880"/>
              </a:tblGrid>
              <a:tr h="406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on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u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Wedn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hur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97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18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E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2, 10:30 – 13:30 </a:t>
            </a:r>
            <a:endParaRPr b="1" lang="en-US" sz="3200" spc="-1" strike="noStrike">
              <a:solidFill>
                <a:srgbClr val="000000"/>
              </a:solidFill>
              <a:latin typeface="Times New Roman"/>
            </a:endParaRPr>
          </a:p>
        </p:txBody>
      </p:sp>
      <p:sp>
        <p:nvSpPr>
          <p:cNvPr id="14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July 2016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November meeting.</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resolutions of comments, if needed.</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 Status – Robert Stacey</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 and Comment Resolu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4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3598B2-827E-4BEA-A4B9-BC98153EC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 Leftover</a:t>
            </a:r>
            <a:endParaRPr b="1" lang="en-US" sz="3200" spc="-1" strike="noStrike">
              <a:solidFill>
                <a:srgbClr val="000000"/>
              </a:solidFill>
              <a:latin typeface="Times New Roman"/>
            </a:endParaRPr>
          </a:p>
        </p:txBody>
      </p:sp>
      <p:sp>
        <p:nvSpPr>
          <p:cNvPr id="146"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EAC4BA-0DA4-4C23-B6AA-4DD9ACF85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9" name=""/>
          <p:cNvGraphicFramePr/>
          <p:nvPr/>
        </p:nvGraphicFramePr>
        <p:xfrm>
          <a:off x="696960" y="1671480"/>
          <a:ext cx="7846920" cy="4805640"/>
        </p:xfrm>
        <a:graphic>
          <a:graphicData uri="http://schemas.openxmlformats.org/drawingml/2006/table">
            <a:tbl>
              <a:tblPr/>
              <a:tblGrid>
                <a:gridCol w="1065240"/>
                <a:gridCol w="4533840"/>
                <a:gridCol w="1538280"/>
                <a:gridCol w="709560"/>
              </a:tblGrid>
              <a:tr h="21924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DCN</a:t>
                      </a:r>
                      <a:endParaRPr b="0" lang="en-US" sz="1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Title</a:t>
                      </a:r>
                      <a:endParaRPr b="0" lang="en-US" sz="1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Author</a:t>
                      </a:r>
                      <a:endParaRPr b="0" lang="en-US" sz="1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28</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HE Fragmentation - part 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Alfred Asterjadhi</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200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29</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omment Resolution for Section 10.24.10 Block Ack/GCR block ack</a:t>
                      </a:r>
                      <a:endParaRPr b="0" lang="en-US" sz="1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Reza Hedayat</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44</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C0-Intra_PPDU_PS</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Alfred Asterjadhi</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56</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Issue of Buffer Status reporti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Stephane Baro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60</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b050"/>
                          </a:solidFill>
                          <a:latin typeface="Calibri"/>
                        </a:rPr>
                        <a:t>comment resolution on A-MPDU format</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Yongho Seok</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6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omment resolution on mu acknowledgment procedure</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Yongho Seok</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62</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omment resolution on subclause 25.1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Yongho Seok</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11-16/0864</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c000"/>
                          </a:solidFill>
                          <a:latin typeface="Calibri"/>
                        </a:rPr>
                        <a:t>d0.1 comment resolution on clause 6</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c000"/>
                          </a:solidFill>
                          <a:latin typeface="Calibri"/>
                        </a:rPr>
                        <a:t>Yasuhiko Inoue</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67</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IDs for CIDs: Section 9.3.1.9.3 Compressed BA format</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George Cheria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68</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b050"/>
                          </a:solidFill>
                          <a:latin typeface="Calibri"/>
                        </a:rPr>
                        <a:t>CIDs for Section 9.3.1.9.7 Multi STA BAs</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George Cheria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869</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Comment resolution section 9.3 TWT</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Zhou La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7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Trigger Frame Per User Info Order</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Zhou La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77</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omment resolution on CID 783 (TXOP Duration field format)</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Jeongki Kim </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878</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omment resolution on CID 782 (Intra-PPDU PS)</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Jeongki Kim </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88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Comment resolution on ROMI </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Jayh Park</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882</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Comment resolution on TOMI </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Alfred</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924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883</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Comment resolution for CID152</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Jayh Park</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884</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Spec. Text for HE Operation element and AID Assign Rule</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Jianhan Liu</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200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Calibri"/>
                        </a:rPr>
                        <a:t>11-16/0890</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Calibri"/>
                        </a:rPr>
                        <a:t>Comment Resolution on NAV Setting of Single and Multiple Protection and Control Response</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Calibri"/>
                        </a:rPr>
                        <a:t>Po-Kai Hua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 Leftover (Cotinued)</a:t>
            </a:r>
            <a:endParaRPr b="1" lang="en-US" sz="3200" spc="-1" strike="noStrike">
              <a:solidFill>
                <a:srgbClr val="000000"/>
              </a:solidFill>
              <a:latin typeface="Times New Roman"/>
            </a:endParaRPr>
          </a:p>
        </p:txBody>
      </p:sp>
      <p:sp>
        <p:nvSpPr>
          <p:cNvPr id="151" name="Date Placeholder 2"/>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5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CC80EE-2702-4A8A-8FCD-11C7C33D4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4" name=""/>
          <p:cNvGraphicFramePr/>
          <p:nvPr/>
        </p:nvGraphicFramePr>
        <p:xfrm>
          <a:off x="838080" y="2017800"/>
          <a:ext cx="7705800" cy="4154400"/>
        </p:xfrm>
        <a:graphic>
          <a:graphicData uri="http://schemas.openxmlformats.org/drawingml/2006/table">
            <a:tbl>
              <a:tblPr/>
              <a:tblGrid>
                <a:gridCol w="1046160"/>
                <a:gridCol w="4453200"/>
                <a:gridCol w="1509480"/>
                <a:gridCol w="696960"/>
              </a:tblGrid>
              <a:tr h="21888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DCN</a:t>
                      </a:r>
                      <a:endParaRPr b="0" lang="en-US" sz="1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Title</a:t>
                      </a:r>
                      <a:endParaRPr b="0" lang="en-US" sz="1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Author</a:t>
                      </a:r>
                      <a:endParaRPr b="0" lang="en-US" sz="1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913</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SU Multi-TID Rules</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Jarkko Kneckt</a:t>
                      </a:r>
                      <a:endParaRPr b="0" lang="en-US" sz="1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11-16/0916</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70c0"/>
                          </a:solidFill>
                          <a:latin typeface="Calibri"/>
                        </a:rPr>
                        <a:t>TID value of ALL ACK signali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70c0"/>
                          </a:solidFill>
                          <a:latin typeface="Calibri"/>
                        </a:rPr>
                        <a:t>Woojin Ah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917</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Text for TID value of ALL ACK signali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Woojin Ah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918</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Discussions on Partial BSS Color</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Geonjung Ko</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924</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NAV resetting with RTS/MU-RTS</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Weimin Xi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925</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Spex text on NAV resetting with RTS/MU-RTS</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Weimin Xi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94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CR HE Fragmentation - part 2 </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Ming Ga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942</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CR  Field</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Ming Ga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95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Setting for TXOP Duration Field</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Po-Kai Hua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952</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Spec text trigger frame per user info order</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Zhou La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200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953</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omment Resoluaton and Spec Text for Setting for TXOP Duration field</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Po-Kai Hua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Calibri"/>
                        </a:rPr>
                        <a:t>11-16/0960</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Calibri"/>
                        </a:rPr>
                        <a:t>AP access procedure for UL MU operatio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Calibri"/>
                        </a:rPr>
                        <a:t>Jinsoo Ah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6/096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Consideration on Multi-STA BlockAck Optimization</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Hanseul Hong</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Calibri"/>
                        </a:rPr>
                        <a:t>11-16/0962</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Calibri"/>
                        </a:rPr>
                        <a:t>EDCA rules-follow up 1</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Calibri"/>
                        </a:rPr>
                        <a:t>Jing Ma</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Calibri"/>
                        </a:rPr>
                        <a:t>11-16/0963</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Calibri"/>
                        </a:rPr>
                        <a:t>EDCA rules-follow up 2</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99"/>
                          </a:solidFill>
                          <a:latin typeface="Calibri"/>
                        </a:rPr>
                        <a:t>Jing Ma</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11-16/0966</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CID71 and CID190 Resolutions</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rPr>
                        <a:t>Jarkko Kneckt</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888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SimSun"/>
                        </a:rPr>
                        <a:t>11-16/0998</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SimSun"/>
                        </a:rPr>
                        <a:t>Rules for 2 EDCA parameters</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SimSun"/>
                        </a:rPr>
                        <a:t>laurent cariou</a:t>
                      </a:r>
                      <a:endParaRPr b="0" lang="en-US" sz="14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 Leftover</a:t>
            </a:r>
            <a:endParaRPr b="1" lang="en-US" sz="3200" spc="-1" strike="noStrike">
              <a:solidFill>
                <a:srgbClr val="000000"/>
              </a:solidFill>
              <a:latin typeface="Times New Roman"/>
            </a:endParaRPr>
          </a:p>
        </p:txBody>
      </p:sp>
      <p:sp>
        <p:nvSpPr>
          <p:cNvPr id="156" name="Date Placeholder 2"/>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5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849A4C-0E70-49EE-B6C8-CAC3F249F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9" name=""/>
          <p:cNvGraphicFramePr/>
          <p:nvPr/>
        </p:nvGraphicFramePr>
        <p:xfrm>
          <a:off x="781200" y="2190600"/>
          <a:ext cx="7581600" cy="2476800"/>
        </p:xfrm>
        <a:graphic>
          <a:graphicData uri="http://schemas.openxmlformats.org/drawingml/2006/table">
            <a:tbl>
              <a:tblPr/>
              <a:tblGrid>
                <a:gridCol w="1028520"/>
                <a:gridCol w="4381560"/>
                <a:gridCol w="1485720"/>
                <a:gridCol w="685800"/>
              </a:tblGrid>
              <a:tr h="1908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CN</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itle</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uthor</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d hoc</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86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Comment Resolution of Section 26.3.13 MU-MIMO</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Kome Oteri</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87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CR for the section 10.3.2.8a CS Condition to Respond CTS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Kiseon Ry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87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CR for the section 25.5.2.4 UL MU CS CCA and CS Required Bit</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Kiseon Ry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88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UL MU Transmission Rules - EDCA backoff</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Jayh Park</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c99"/>
                          </a:solidFill>
                          <a:latin typeface="Times New Roman"/>
                        </a:rPr>
                        <a:t>11-16/088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Comment Resolution on UL MU CS NAV Considers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c99"/>
                          </a:solidFill>
                          <a:latin typeface="Times New Roman"/>
                        </a:rPr>
                        <a:t>11-16/088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Comment Resolution for some UL MU CS TBD</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c99"/>
                          </a:solidFill>
                          <a:latin typeface="Times New Roman"/>
                        </a:rPr>
                        <a:t>11-16/0887</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Spec Text for MU-RTS restriction on HE MU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92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Soliciting UL_MU_ACK</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Raja Banerjea</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Times New Roman"/>
                        </a:rPr>
                        <a:t>11-16/092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c000"/>
                          </a:solidFill>
                          <a:latin typeface="Times New Roman"/>
                        </a:rPr>
                        <a:t>CR - UL MU Opera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c000"/>
                          </a:solidFill>
                          <a:latin typeface="Times New Roman"/>
                        </a:rPr>
                        <a:t>Simone Merli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c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c99"/>
                          </a:solidFill>
                          <a:latin typeface="Times New Roman"/>
                        </a:rPr>
                        <a:t>11-16/093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CD - DL MU Opera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Simone Merli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cc99"/>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938</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Comment Resolution for Sub-clause 25.10.4</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Chittabrata Ghosh</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958</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UL OFDMA for Unassociated STA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Leonardo Lanant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Y Leftover</a:t>
            </a:r>
            <a:endParaRPr b="1" lang="en-US" sz="3200" spc="-1" strike="noStrike">
              <a:solidFill>
                <a:srgbClr val="000000"/>
              </a:solidFill>
              <a:latin typeface="Times New Roman"/>
            </a:endParaRPr>
          </a:p>
        </p:txBody>
      </p:sp>
      <p:sp>
        <p:nvSpPr>
          <p:cNvPr id="161" name="Date Placeholder 2"/>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6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CC778C-9441-4C09-80F8-2CDECB4EE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4" name=""/>
          <p:cNvGraphicFramePr/>
          <p:nvPr/>
        </p:nvGraphicFramePr>
        <p:xfrm>
          <a:off x="838080" y="1542960"/>
          <a:ext cx="7848720" cy="2855880"/>
        </p:xfrm>
        <a:graphic>
          <a:graphicData uri="http://schemas.openxmlformats.org/drawingml/2006/table">
            <a:tbl>
              <a:tblPr/>
              <a:tblGrid>
                <a:gridCol w="1065240"/>
                <a:gridCol w="4535640"/>
                <a:gridCol w="1538280"/>
                <a:gridCol w="709560"/>
              </a:tblGrid>
              <a:tr h="22068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d hoc</a:t>
                      </a:r>
                      <a:endParaRPr b="0" lang="en-US" sz="14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898</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BW Field in HE-MU Format</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Hongyuan Zhang</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899</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Spec Text for BW Field in HE-MU Format</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Hongyuan Zhang</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03</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Gamma phase rotation for HE PPDU</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Yujin Noh</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1-16/0904</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0000"/>
                          </a:solidFill>
                          <a:latin typeface="Times New Roman"/>
                        </a:rPr>
                        <a:t>proposed text for gamma phase rotation for HE PPDU</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0000"/>
                          </a:solidFill>
                          <a:latin typeface="Times New Roman"/>
                        </a:rPr>
                        <a:t>Yujin Noh</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000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48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37</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11ax Comment Resolutions for Clauses 26.3.2-26.3.9.3-26.3.9.4-26.3.9.5-26.3.10.2- 26.3.10.13</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Rui Cao</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06</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RU restriction on 20MHz operating STAs</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Joonsuk Kim</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08</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CR - proposed text on RU restriction of 20MHz STAs</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Joonsuk Kim</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10</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Minimum Occupied Bandwidth</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Ron Porat</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488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ea typeface="SimSun"/>
                        </a:rPr>
                        <a:t>11-16/1021r1</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ea typeface="SimSun"/>
                        </a:rPr>
                        <a:t>further-change-on-the-proposed-change-of-cid-2032-2549-2133-2548-1009</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ea typeface="SimSun"/>
                        </a:rPr>
                        <a:t>Ross</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Calibri"/>
                          <a:ea typeface="SimSu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14</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Bit field finalization of HE-SIG-A</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Lochan Verma</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graphicFrame>
        <p:nvGraphicFramePr>
          <p:cNvPr id="165" name=""/>
          <p:cNvGraphicFramePr/>
          <p:nvPr/>
        </p:nvGraphicFramePr>
        <p:xfrm>
          <a:off x="838080" y="4419720"/>
          <a:ext cx="7620120" cy="2184120"/>
        </p:xfrm>
        <a:graphic>
          <a:graphicData uri="http://schemas.openxmlformats.org/drawingml/2006/table">
            <a:tbl>
              <a:tblPr/>
              <a:tblGrid>
                <a:gridCol w="1033560"/>
                <a:gridCol w="4376880"/>
                <a:gridCol w="1520640"/>
                <a:gridCol w="689040"/>
              </a:tblGrid>
              <a:tr h="22068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ad hoc</a:t>
                      </a:r>
                      <a:endParaRPr b="0" lang="en-US" sz="14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15</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Text for bit field finalization of HE-SIG-A</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Lochan Verma</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20</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 comment resolution for CID 1659,493,494</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Xiaogang Chen</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38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22</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 CR 1024 QAM</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Sriram Venkateswaran </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38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23</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 CR DCM Constellation Mapping</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Sriram Venkateswaran </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22068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28</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CR on Section 26.3.9.8 - HE-SIG-B</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Kaushik Josiam</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4338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6/0964</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Considerations on MAC-PHY interactions during SR operations</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Jing Ma</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PHY</a:t>
                      </a:r>
                      <a:endParaRPr b="0" lang="en-US" sz="14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arsaw, Poland</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ptember 11-16, 2016</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77BBC5-A472-43B0-9474-5EFFC528D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R Leftover</a:t>
            </a:r>
            <a:endParaRPr b="1" lang="en-US" sz="3200" spc="-1" strike="noStrike">
              <a:solidFill>
                <a:srgbClr val="000000"/>
              </a:solidFill>
              <a:latin typeface="Times New Roman"/>
            </a:endParaRPr>
          </a:p>
        </p:txBody>
      </p:sp>
      <p:sp>
        <p:nvSpPr>
          <p:cNvPr id="167" name="Date Placeholder 2"/>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68"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7533DF-35B0-42D7-8D9B-7D2AB016C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70" name=""/>
          <p:cNvGraphicFramePr/>
          <p:nvPr/>
        </p:nvGraphicFramePr>
        <p:xfrm>
          <a:off x="720720" y="1523880"/>
          <a:ext cx="7883640" cy="4608720"/>
        </p:xfrm>
        <a:graphic>
          <a:graphicData uri="http://schemas.openxmlformats.org/drawingml/2006/table">
            <a:tbl>
              <a:tblPr/>
              <a:tblGrid>
                <a:gridCol w="1471680"/>
                <a:gridCol w="3595680"/>
                <a:gridCol w="1749240"/>
                <a:gridCol w="1067040"/>
              </a:tblGrid>
              <a:tr h="32256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ffffff"/>
                          </a:solidFill>
                          <a:latin typeface="Calibri"/>
                        </a:rPr>
                        <a:t>DCN</a:t>
                      </a:r>
                      <a:endParaRPr b="0" lang="en-US" sz="1700" spc="-1" strike="noStrike">
                        <a:solidFill>
                          <a:srgbClr val="000000"/>
                        </a:solidFill>
                        <a:latin typeface="Times New Roman"/>
                      </a:endParaRPr>
                    </a:p>
                  </a:txBody>
                  <a:tcPr anchor="b" marL="6840" marR="6840">
                    <a:lnL>
                      <a:noFill/>
                    </a:lnL>
                    <a:lnR w="2880">
                      <a:solidFill>
                        <a:srgbClr val="ffffff"/>
                      </a:solidFill>
                    </a:lnR>
                    <a:lnT>
                      <a:noFill/>
                    </a:lnT>
                    <a:lnB w="9360">
                      <a:solidFill>
                        <a:srgbClr val="ffffff"/>
                      </a:solidFill>
                    </a:lnB>
                    <a:solidFill>
                      <a:srgbClr val="4f81b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ffffff"/>
                          </a:solidFill>
                          <a:latin typeface="Calibri"/>
                        </a:rPr>
                        <a:t>Title</a:t>
                      </a:r>
                      <a:endParaRPr b="0" lang="en-US" sz="1700" spc="-1" strike="noStrike">
                        <a:solidFill>
                          <a:srgbClr val="000000"/>
                        </a:solidFill>
                        <a:latin typeface="Times New Roman"/>
                      </a:endParaRPr>
                    </a:p>
                  </a:txBody>
                  <a:tcPr anchor="b" marL="6840" marR="6840">
                    <a:lnL w="2880">
                      <a:solidFill>
                        <a:srgbClr val="ffffff"/>
                      </a:solidFill>
                    </a:lnL>
                    <a:lnR w="2880">
                      <a:solidFill>
                        <a:srgbClr val="ffffff"/>
                      </a:solidFill>
                    </a:lnR>
                    <a:lnT>
                      <a:noFill/>
                    </a:lnT>
                    <a:lnB w="9360">
                      <a:solidFill>
                        <a:srgbClr val="ffffff"/>
                      </a:solidFill>
                    </a:lnB>
                    <a:solidFill>
                      <a:srgbClr val="4f81b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ffffff"/>
                          </a:solidFill>
                          <a:latin typeface="Calibri"/>
                        </a:rPr>
                        <a:t>Author</a:t>
                      </a:r>
                      <a:endParaRPr b="0" lang="en-US" sz="1700" spc="-1" strike="noStrike">
                        <a:solidFill>
                          <a:srgbClr val="000000"/>
                        </a:solidFill>
                        <a:latin typeface="Times New Roman"/>
                      </a:endParaRPr>
                    </a:p>
                  </a:txBody>
                  <a:tcPr anchor="b" marL="6840" marR="6840">
                    <a:lnL w="2880">
                      <a:solidFill>
                        <a:srgbClr val="ffffff"/>
                      </a:solidFill>
                    </a:lnL>
                    <a:lnR w="2880">
                      <a:solidFill>
                        <a:srgbClr val="ffffff"/>
                      </a:solidFill>
                    </a:lnR>
                    <a:lnT>
                      <a:noFill/>
                    </a:lnT>
                    <a:lnB w="9360">
                      <a:solidFill>
                        <a:srgbClr val="ffffff"/>
                      </a:solidFill>
                    </a:lnB>
                    <a:solidFill>
                      <a:srgbClr val="4f81bd"/>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ffffff"/>
                          </a:solidFill>
                          <a:latin typeface="Calibri"/>
                        </a:rPr>
                        <a:t>Order</a:t>
                      </a:r>
                      <a:endParaRPr b="0" lang="en-US" sz="1700" spc="-1" strike="noStrike">
                        <a:solidFill>
                          <a:srgbClr val="000000"/>
                        </a:solidFill>
                        <a:latin typeface="Times New Roman"/>
                      </a:endParaRPr>
                    </a:p>
                  </a:txBody>
                  <a:tcPr anchor="b" marL="6840" marR="6840">
                    <a:lnL w="2880">
                      <a:solidFill>
                        <a:srgbClr val="ffffff"/>
                      </a:solidFill>
                    </a:lnL>
                    <a:lnR w="2880">
                      <a:solidFill>
                        <a:srgbClr val="ffffff"/>
                      </a:solidFill>
                    </a:lnR>
                    <a:lnT>
                      <a:noFill/>
                    </a:lnT>
                    <a:lnB w="9360">
                      <a:solidFill>
                        <a:srgbClr val="ffffff"/>
                      </a:solidFill>
                    </a:lnB>
                    <a:solidFill>
                      <a:srgbClr val="4f81bd"/>
                    </a:solidFill>
                  </a:tcPr>
                </a:tc>
              </a:tr>
              <a:tr h="2775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879r2</a:t>
                      </a:r>
                      <a:endParaRPr b="0" lang="en-US" sz="1400" spc="-1" strike="noStrike">
                        <a:solidFill>
                          <a:srgbClr val="000000"/>
                        </a:solidFill>
                        <a:latin typeface="Times New Roman"/>
                      </a:endParaRPr>
                    </a:p>
                  </a:txBody>
                  <a:tcPr anchor="t" marL="9360" marR="9360">
                    <a:lnL>
                      <a:noFill/>
                    </a:lnL>
                    <a:lnR w="2880">
                      <a:solidFill>
                        <a:srgbClr val="ffffff"/>
                      </a:solidFill>
                    </a:lnR>
                    <a:lnT w="936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Comment resolution on SR for VHT PPDUs</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Jeongki Kim </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2779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889r1</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comment-resolution-SR-Intra-BSS-detection</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Young Hoon Kown</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2</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5284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01r2</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Clarification of SR Fields in HE Trigger Based PPDU</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Daewon Lee </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3</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5302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02r2</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roposed Text Changes for SR Fields in HE Trigger-Based PPDU</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Daewon Lee</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4</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276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05</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SR Fields Clarification</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Ron Porat</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5</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5302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19r0</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Discussions on SR Fields in HE Trigger-based PPDU</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Geonjung Ko</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6</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2779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71r2</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DSC Proposal Text</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Graham Smith</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0</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5284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45</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Clarifications for OBSS_PD-based SR parameters</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Laurent Cariou</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7</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5302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11-16/0947</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Proposed text changes for OBSS_PD-based SR parameters</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b050"/>
                          </a:solidFill>
                          <a:latin typeface="Times New Roman"/>
                        </a:rPr>
                        <a:t>Laurent Cariou</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8</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5288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1-16/0957</a:t>
                      </a:r>
                      <a:endParaRPr b="0" lang="en-US" sz="1400" spc="-1" strike="noStrike">
                        <a:solidFill>
                          <a:srgbClr val="000000"/>
                        </a:solidFill>
                        <a:latin typeface="Times New Roman"/>
                      </a:endParaRPr>
                    </a:p>
                  </a:txBody>
                  <a:tcPr anchor="t" marL="9360" marR="9360">
                    <a:lnL>
                      <a:no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0000"/>
                          </a:solidFill>
                          <a:latin typeface="Times New Roman"/>
                        </a:rPr>
                        <a:t>Comment Resolutions on OBSS_PD Conditions in 25.9.3</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0000"/>
                          </a:solidFill>
                          <a:latin typeface="Times New Roman"/>
                        </a:rPr>
                        <a:t>James Wang</a:t>
                      </a:r>
                      <a:endParaRPr b="0" lang="en-US" sz="1400" spc="-1" strike="noStrike">
                        <a:solidFill>
                          <a:srgbClr val="000000"/>
                        </a:solidFill>
                        <a:latin typeface="Times New Roman"/>
                      </a:endParaRPr>
                    </a:p>
                  </a:txBody>
                  <a:tcPr anchor="t" marL="9360" marR="936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9</a:t>
                      </a:r>
                      <a:endParaRPr b="0" lang="en-US" sz="1400" spc="-1" strike="noStrike">
                        <a:solidFill>
                          <a:srgbClr val="000000"/>
                        </a:solidFill>
                        <a:latin typeface="Times New Roman"/>
                      </a:endParaRPr>
                    </a:p>
                  </a:txBody>
                  <a:tcPr anchor="t" marL="6840" marR="684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a:t>
            </a:r>
            <a:endParaRPr b="1" lang="en-US" sz="3200" spc="-1" strike="noStrike">
              <a:solidFill>
                <a:srgbClr val="000000"/>
              </a:solidFill>
              <a:latin typeface="Times New Roman"/>
            </a:endParaRPr>
          </a:p>
        </p:txBody>
      </p:sp>
      <p:sp>
        <p:nvSpPr>
          <p:cNvPr id="17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1" lang="en-US" sz="2400" spc="-1" strike="noStrike">
              <a:solidFill>
                <a:srgbClr val="000000"/>
              </a:solidFill>
              <a:latin typeface="Times New Roman"/>
            </a:endParaRPr>
          </a:p>
        </p:txBody>
      </p:sp>
      <p:sp>
        <p:nvSpPr>
          <p:cNvPr id="17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B5E877-18F2-4A0F-A1AB-D8B93BDB1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 Submissions</a:t>
            </a:r>
            <a:endParaRPr b="1" lang="en-US" sz="3200" spc="-1" strike="noStrike">
              <a:solidFill>
                <a:srgbClr val="000000"/>
              </a:solidFill>
              <a:latin typeface="Times New Roman"/>
            </a:endParaRPr>
          </a:p>
        </p:txBody>
      </p:sp>
      <p:sp>
        <p:nvSpPr>
          <p:cNvPr id="177"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7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5C9E57-D6E5-4AC0-94C3-0FC186CED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80" name=""/>
          <p:cNvGraphicFramePr/>
          <p:nvPr/>
        </p:nvGraphicFramePr>
        <p:xfrm>
          <a:off x="2946240" y="1743120"/>
          <a:ext cx="4673880" cy="4276800"/>
        </p:xfrm>
        <a:graphic>
          <a:graphicData uri="http://schemas.openxmlformats.org/drawingml/2006/table">
            <a:tbl>
              <a:tblPr/>
              <a:tblGrid>
                <a:gridCol w="481320"/>
                <a:gridCol w="2300040"/>
                <a:gridCol w="719280"/>
                <a:gridCol w="331920"/>
                <a:gridCol w="841320"/>
              </a:tblGrid>
              <a:tr h="92160">
                <a:tc>
                  <a:txBody>
                    <a:bodyPr lIns="4320" rIns="432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CN</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Title</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uthor</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d Hoc</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Notes</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7928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864</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0.1 comment resolution on clause 6</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Yasuhiko Inoue</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resented during a telecon. </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03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869</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section 9.3 TWT</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Zhou Lan</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881</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on ROMI </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ayh Park</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882</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on TOMI </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lfred</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883</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for CID152</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ayh Park</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180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884</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pec. Text for HE Operation element and AID Assign Rule</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ianhan Liu</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072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13</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 Multi-TID Rules</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arkko Kneckt</a:t>
                      </a:r>
                      <a:endParaRPr b="0" lang="en-US" sz="500" spc="-1" strike="noStrike">
                        <a:solidFill>
                          <a:srgbClr val="000000"/>
                        </a:solidFill>
                        <a:latin typeface="Times New Roman"/>
                      </a:endParaRPr>
                    </a:p>
                  </a:txBody>
                  <a:tcPr anchor="ctr"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180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17</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Text for TID value of ALL ACK signaling</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Woojin Ahn</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18</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iscussions on Partial BSS Color</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Geonjung Ko</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24</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NAV resetting with RTS/MU-RTS</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Weimin Xing</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03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25</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pex text on NAV resetting with RTS/MU-RTS</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Weimin Xing</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41</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R HE Fragmentation - part 2 </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ing Gan</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42</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R Service Field</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ing Gan</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7928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60</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P access procedure for UL MU operation</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insoo Ahn</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resented during telecon. waiting SP</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61</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nsideration on Multi-STA BlockAck Optimization</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Hanseul Hong</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7784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62</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DCA rules-follow up 1</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ing Ma</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resented during telecon. waiting SP</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7928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63</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EDCA rules-follow up 2</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ing Ma</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resented during telecon. Waiting SP</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216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0998</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Rules for 2 EDCA parameters</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urent cariou</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10</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on subclause 10.22.2 and 10.22.4</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Yongho Seok </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31</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on mu ack policy</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Yongho Seok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54</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MAC CR for CID 966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Weimin Xing</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57</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on SU_MU ACK procedures</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eongki Kim</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73</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on Two NAVs - Part II</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o-Kai Huang</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0</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roposed text changes for MU EDCA parameters</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urent cariou</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1</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W value after UL MU procedure</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Woojin Ahn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2</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HE Sounding Feedback Segmentation</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iwen Chu</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3</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U RTS CTS data rate comment</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iwen Chu</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4</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Times New Roman"/>
                        </a:rPr>
                        <a:t>A-MPDU 25.10 25.10.2 comment resolution</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iwen Chu</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5</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MPDU 25.10.3 comment resolution</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iwen Chu</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89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6</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MPDU Content Comment Resolution</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iwen Chu</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8</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 Capabilities in HE Capabilities IE</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lfred Asterjadhi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89</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C0-TWT operation</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lfred Asterjadhi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195</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 Clarifications</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lfred Asterjadhi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04</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Intra-PPDU Power Save for a Multiple BSSID Set Case</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Geonjung Ko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05</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Text for Intra-PPDU Power Save for a Multiple BSSID Set Case</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Geonjung Ko</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10</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omment Resolution on MU acknowledgement procedure</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unichi Iwatani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11</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R_CID_122_576_972_2598</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Huizhao Wang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13</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R TWT and HE element related</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tthew Fischer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20</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U mode EDCA control</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Jinsoo Ahn</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34</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pec Text for TWT Protectioin field</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Hanseul Hong</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36</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Text for Partial BSS Color and AID Assignment Rule</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Geonjung Ko </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12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37</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etting-quiet-time-period</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hao-Chun Wang</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7480">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16/1238</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etting Quiet time period - text</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hao-Chun Wang</a:t>
                      </a:r>
                      <a:endParaRPr b="0" lang="en-US" sz="5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C</a:t>
                      </a:r>
                      <a:endParaRPr b="0" lang="en-US" sz="500" spc="-1" strike="noStrike">
                        <a:solidFill>
                          <a:srgbClr val="000000"/>
                        </a:solidFill>
                        <a:latin typeface="Times New Roman"/>
                      </a:endParaRPr>
                    </a:p>
                  </a:txBody>
                  <a:tcPr anchor="t"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Y Submissions</a:t>
            </a:r>
            <a:endParaRPr b="1" lang="en-US" sz="3200" spc="-1" strike="noStrike">
              <a:solidFill>
                <a:srgbClr val="000000"/>
              </a:solidFill>
              <a:latin typeface="Times New Roman"/>
            </a:endParaRPr>
          </a:p>
        </p:txBody>
      </p:sp>
      <p:sp>
        <p:nvSpPr>
          <p:cNvPr id="182"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8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BF73A9-85CB-4039-9317-41F5E7A78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85" name=""/>
          <p:cNvGraphicFramePr/>
          <p:nvPr/>
        </p:nvGraphicFramePr>
        <p:xfrm>
          <a:off x="1422360" y="1752480"/>
          <a:ext cx="6299280" cy="4114800"/>
        </p:xfrm>
        <a:graphic>
          <a:graphicData uri="http://schemas.openxmlformats.org/drawingml/2006/table">
            <a:tbl>
              <a:tblPr/>
              <a:tblGrid>
                <a:gridCol w="649440"/>
                <a:gridCol w="3098520"/>
                <a:gridCol w="970200"/>
                <a:gridCol w="447480"/>
                <a:gridCol w="1133640"/>
              </a:tblGrid>
              <a:tr h="136800">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CN</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tle</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thor</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 Hoc</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s</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78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33</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x sounding modes reduction</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an Zhang</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34</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x spec text on sounding modes reduction</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an Zhang</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82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35</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x comment resolutions for clause 26.3.5</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an Zhang</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36</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x comment resolutions for clause 26.3.8</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an Zhang</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8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37</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x comment resolutions for clause 26.3.9</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an Zhang</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78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38</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x comment resolutions for clause 26.3.10</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an Zhang</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48</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 HE-SIG-A part III</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ss Jian Yu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82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49</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 HE-SIG-A part II</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ss Jian Yu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50</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 Packet Extension Part I</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ss Jian Yu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8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60</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nt Resolution for CID 355</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unsung Park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78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67</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L MU Clarifications</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n Porat</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68</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CM TBDs</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riram Venkateswaran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82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69</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 Duplicate MU MIMO</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riram Venkateswaran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70</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 PHY Capabilities</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han Verma</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8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71</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Miscellaneous Part-1</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han Verma</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78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76</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CR Miscellaneous Part-2</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han Verma</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746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79</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section editorial comments on D0.4</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ngeun Lee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ybe discuss with the Editor</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90</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x Quality Requirements</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ewon Lee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8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91</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nt Resolution for CIDs on PHY Transmit Spec</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ewon Lee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78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92</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nt Resolution for CID 1450</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ewon Lee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93</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 variant HT Control - He Link Adaptation</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ewon Lee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82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194</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oval of Unnecessary PHY TBDs</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ewon Lee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202</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 HE-LTF</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ng Gan</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80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227</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on-26-3-7</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ahrnaz Azizi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788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232</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xt change proposal of TXTIME in 26.3.19 and 26.4.3</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ewon Lee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233</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 for DCM related CID 503, 504 and 2750</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ewon Lee </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82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240</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cket Extension Factor calculation fix</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an Zhang</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6440">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1242</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ec text for packet extension factor calculation fix</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an Zhang</a:t>
                      </a:r>
                      <a:endParaRPr b="0" lang="en-US" sz="8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a:txBody>
                  <a:tcPr anchor="t"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6840" marR="68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86" name="TextBox 7"/>
          <p:cNvSpPr/>
          <p:nvPr/>
        </p:nvSpPr>
        <p:spPr>
          <a:xfrm>
            <a:off x="1757880" y="617220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 Submissions</a:t>
            </a:r>
            <a:endParaRPr b="1" lang="en-US" sz="3200" spc="-1" strike="noStrike">
              <a:solidFill>
                <a:srgbClr val="000000"/>
              </a:solidFill>
              <a:latin typeface="Times New Roman"/>
            </a:endParaRPr>
          </a:p>
        </p:txBody>
      </p:sp>
      <p:sp>
        <p:nvSpPr>
          <p:cNvPr id="188"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8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5025C6-950F-42C0-8C90-BF46637D3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91" name=""/>
          <p:cNvGraphicFramePr/>
          <p:nvPr/>
        </p:nvGraphicFramePr>
        <p:xfrm>
          <a:off x="685800" y="2066760"/>
          <a:ext cx="7772400" cy="2724480"/>
        </p:xfrm>
        <a:graphic>
          <a:graphicData uri="http://schemas.openxmlformats.org/drawingml/2006/table">
            <a:tbl>
              <a:tblPr/>
              <a:tblGrid>
                <a:gridCol w="801720"/>
                <a:gridCol w="3822840"/>
                <a:gridCol w="1196640"/>
                <a:gridCol w="552600"/>
                <a:gridCol w="1398600"/>
              </a:tblGrid>
              <a:tr h="169920">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C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tle</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or</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s</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463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773</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 Resolution Section 25.6 HE Sounding</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ja Banerjea</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ed before July meeting. New revision</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4740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0929</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 - UL MU Operation</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one Merlin</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ed during a telecon. </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4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52</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L OFDMA Ack rule for uplink trigger based PPDU</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g Ga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58</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 resolution on OFDMA random access procedure</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eongki Kim</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62</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 Resolution on Retansmission of OFDMA Random Access</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unbo Li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63</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cluding OFDMA M-BA transmissio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hou La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77</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resolution-TXOP-truncatio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ng-Hoon Kow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239</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igger Frame_MUBAR_part1</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ja Banerjea</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241</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igger Frame_MUBAR_part2</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ja Banerjea</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3804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99</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posed text changes for DL OFDMA Acknowledge rule for trigger based PPD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g Ga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4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222</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 Resolution on UL OFDMA Random Access</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ittabrata Ghosh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224</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ndom Access Paramer Set (RAPS) element</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ittabrata Ghosh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92" name="TextBox 7"/>
          <p:cNvSpPr/>
          <p:nvPr/>
        </p:nvSpPr>
        <p:spPr>
          <a:xfrm>
            <a:off x="2213280" y="5715000"/>
            <a:ext cx="61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MU</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R Submissions</a:t>
            </a:r>
            <a:endParaRPr b="1" lang="en-US" sz="3200" spc="-1" strike="noStrike">
              <a:solidFill>
                <a:srgbClr val="000000"/>
              </a:solidFill>
              <a:latin typeface="Times New Roman"/>
            </a:endParaRPr>
          </a:p>
        </p:txBody>
      </p:sp>
      <p:sp>
        <p:nvSpPr>
          <p:cNvPr id="19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9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581041-8330-459B-BC48-A313CB48C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97" name=""/>
          <p:cNvGraphicFramePr/>
          <p:nvPr/>
        </p:nvGraphicFramePr>
        <p:xfrm>
          <a:off x="685800" y="2570040"/>
          <a:ext cx="7772400" cy="1717920"/>
        </p:xfrm>
        <a:graphic>
          <a:graphicData uri="http://schemas.openxmlformats.org/drawingml/2006/table">
            <a:tbl>
              <a:tblPr/>
              <a:tblGrid>
                <a:gridCol w="801720"/>
                <a:gridCol w="3822840"/>
                <a:gridCol w="1196640"/>
                <a:gridCol w="552600"/>
                <a:gridCol w="1398600"/>
              </a:tblGrid>
              <a:tr h="177840">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C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tle</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or</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s</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7784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0945</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rification for OBSS_PD-based SR parameters </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thew Fischer </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7784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0947</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posed text changes for OBSS_PD-based SR parameters</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urent Cariou</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064</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fied SR approach DSC, ATPC and Inter-BSS</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aham Smith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55</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 Comment Resolution for CID994</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aiying Lv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61</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ulation-based evaluation of OBSS_PD-based SR default parameters</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nguy Ropitault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4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178</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resolution-SR-RSSI</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ng-Hoon Kow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56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216</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 Field SRP Table for HE-Trigger-Based PPDU</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mes Wang</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4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223</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 for Section 25.9.2 OBSS_PD Spatial reuse</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urent cariou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6/1225</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s We Win, Tails We Don't Lose: Proposals for Dynamic CCA</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an Coffey</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 submissions</a:t>
            </a:r>
            <a:endParaRPr b="1" lang="en-US" sz="3200" spc="-1" strike="noStrike">
              <a:solidFill>
                <a:srgbClr val="000000"/>
              </a:solidFill>
              <a:latin typeface="Times New Roman"/>
            </a:endParaRPr>
          </a:p>
        </p:txBody>
      </p:sp>
      <p:sp>
        <p:nvSpPr>
          <p:cNvPr id="19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0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A412AF-DA21-41AB-8D36-27EEDEFD9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02" name=""/>
          <p:cNvGraphicFramePr/>
          <p:nvPr/>
        </p:nvGraphicFramePr>
        <p:xfrm>
          <a:off x="988920" y="3048120"/>
          <a:ext cx="7772400" cy="1184040"/>
        </p:xfrm>
        <a:graphic>
          <a:graphicData uri="http://schemas.openxmlformats.org/drawingml/2006/table">
            <a:tbl>
              <a:tblPr/>
              <a:tblGrid>
                <a:gridCol w="801720"/>
                <a:gridCol w="3822840"/>
                <a:gridCol w="1197000"/>
                <a:gridCol w="552240"/>
                <a:gridCol w="1398600"/>
              </a:tblGrid>
              <a:tr h="169920">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C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tle</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thor</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s</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11-16/1095</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OFDMA performance in 11ax</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Suhwook Kim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TG</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11-16/1143</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11ax PAR Verificatio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TG</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TG</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11-16/1159</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Summary of Mandatory or Optional Features of 802.11ax</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Joonsuk Kim</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TG</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11-16/1166</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Meeting PAR requirements with UL OFDMA</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Sriram Venkateswaran </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TG</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81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11-16/1198</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Preliminary 11ax PAR Verification</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Jiyong Pang</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TG</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992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11-16/1219</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Considerations on CR for 2665 and 2715</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Jing Ma</a:t>
                      </a:r>
                      <a:endParaRPr b="0" lang="en-US" sz="10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Times New Roman"/>
                        </a:rPr>
                        <a:t>TG</a:t>
                      </a:r>
                      <a:endParaRPr b="0" lang="en-US" sz="1000" spc="-1" strike="noStrike">
                        <a:solidFill>
                          <a:srgbClr val="000000"/>
                        </a:solidFill>
                        <a:latin typeface="Times New Roman"/>
                      </a:endParaRPr>
                    </a:p>
                  </a:txBody>
                  <a:tcPr anchor="t"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8640" marR="86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203" name="TextBox 7"/>
          <p:cNvSpPr/>
          <p:nvPr/>
        </p:nvSpPr>
        <p:spPr>
          <a:xfrm>
            <a:off x="2138760" y="5105520"/>
            <a:ext cx="104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July 2016 Meeting</a:t>
            </a:r>
            <a:endParaRPr b="1" lang="en-US" sz="3200" spc="-1" strike="noStrike">
              <a:solidFill>
                <a:srgbClr val="000000"/>
              </a:solidFill>
              <a:latin typeface="Times New Roman"/>
            </a:endParaRPr>
          </a:p>
        </p:txBody>
      </p:sp>
      <p:sp>
        <p:nvSpPr>
          <p:cNvPr id="206"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pproved the resolutions of about 230 comments discussed during telecons before July meeti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pproved resolutions of almost 350 CIDs during the July meeti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pproved a number of submissions proposing new text to be added to the draft.</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Editor generated draft D0.3 and draft D0.4.</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nducted weekly telecons since July F2F meeting.</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Covered 17 submiss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Discussed resolutions of almost 250 CID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lease refer to telecon minutes</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66ff"/>
                </a:solidFill>
                <a:uFillTx/>
                <a:latin typeface="Times New Roman"/>
                <a:hlinkClick r:id="rId1"/>
              </a:rPr>
              <a:t>https://mentor.ieee.org/802.11/dcn/16/11-16-1105-03-00ax-tgax-teleconference-minutes-from-august-to-september-2016.docx</a:t>
            </a:r>
            <a:r>
              <a:rPr b="0" lang="en-CA"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07"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8"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482DD1-BFBF-4762-A0E0-3E73E9517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09" name="Object 1"/>
          <p:cNvGraphicFramePr/>
          <p:nvPr/>
        </p:nvGraphicFramePr>
        <p:xfrm>
          <a:off x="6324480" y="5562720"/>
          <a:ext cx="914400" cy="771480"/>
        </p:xfrm>
        <a:graphic>
          <a:graphicData uri="http://schemas.openxmlformats.org/presentationml/2006/ole">
            <p:oleObj r:id="rId2" spid="">
              <p:embed/>
              <p:pic>
                <p:nvPicPr>
                  <p:cNvPr id="210" name="Object 1" descr=""/>
                  <p:cNvPicPr/>
                  <p:nvPr/>
                </p:nvPicPr>
                <p:blipFill>
                  <a:blip r:embed="rId3"/>
                  <a:stretch/>
                </p:blipFill>
                <p:spPr>
                  <a:xfrm>
                    <a:off x="6324480" y="55627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1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1637E6-3437-4386-BB42-F5D1DCDDE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July 2016 Meeting and Telecon Minutes) </a:t>
            </a:r>
            <a:endParaRPr b="1" lang="en-US" sz="3200" spc="-1" strike="noStrike">
              <a:solidFill>
                <a:srgbClr val="000000"/>
              </a:solidFill>
              <a:latin typeface="Times New Roman"/>
            </a:endParaRPr>
          </a:p>
        </p:txBody>
      </p:sp>
      <p:sp>
        <p:nvSpPr>
          <p:cNvPr id="215"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fontScale="80000"/>
          </a:bodyPr>
          <a:p>
            <a:pPr marL="274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July 2016 plenary meeting to today:  </a:t>
            </a:r>
            <a:endParaRPr b="1" lang="en-US" sz="2000" spc="-1" strike="noStrike">
              <a:solidFill>
                <a:srgbClr val="000000"/>
              </a:solidFill>
              <a:latin typeface="Times New Roman"/>
            </a:endParaRPr>
          </a:p>
          <a:p>
            <a:pPr lvl="1" marL="5943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6/11-16-0967-00-00ax-tgax-july-2016-san-diego-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943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6/11-16-1105-03-00ax-tgax-teleconference-minutes-from-august-to-september-2016.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943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6/11-16-1040-00-00ax-tgax-july-2016-san-diego-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943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6/11-16-1000-02-00ax-july-2016-san-diego-tgax-mac-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943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6/11-16-1027-00-00ax-mu-ad-hoc-meeting-minutes-july-2016.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943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6"/>
              </a:rPr>
              <a:t>https://mentor.ieee.org/802.11/dcn/16/11-16-1022-00-00ax-tgax-spatial-reuse-ad-hoc-group-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943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Peter Lo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 Yasu Inoue</a:t>
            </a:r>
            <a:endParaRPr b="1" lang="en-US" sz="2000" spc="-1" strike="noStrike">
              <a:solidFill>
                <a:srgbClr val="000000"/>
              </a:solidFill>
              <a:latin typeface="Times New Roman"/>
            </a:endParaRPr>
          </a:p>
          <a:p>
            <a:pPr marL="27432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d with no objection</a:t>
            </a:r>
            <a:endParaRPr b="1" lang="en-US" sz="2000" spc="-1" strike="noStrike">
              <a:solidFill>
                <a:srgbClr val="000000"/>
              </a:solidFill>
              <a:latin typeface="Times New Roman"/>
            </a:endParaRPr>
          </a:p>
          <a:p>
            <a:pPr marL="274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74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Resolution Status</a:t>
            </a:r>
            <a:br>
              <a:rPr sz="3200"/>
            </a:br>
            <a:r>
              <a:rPr b="1" lang="en-US" sz="3200" spc="-1" strike="noStrike">
                <a:solidFill>
                  <a:srgbClr val="000000"/>
                </a:solidFill>
                <a:latin typeface="Times New Roman"/>
              </a:rPr>
              <a:t>(Editor Report)</a:t>
            </a:r>
            <a:endParaRPr b="1" lang="en-US" sz="3200" spc="-1" strike="noStrike">
              <a:solidFill>
                <a:srgbClr val="000000"/>
              </a:solidFill>
              <a:latin typeface="Times New Roman"/>
            </a:endParaRPr>
          </a:p>
        </p:txBody>
      </p:sp>
      <p:sp>
        <p:nvSpPr>
          <p:cNvPr id="21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ert Stacey</a:t>
            </a:r>
            <a:endParaRPr b="1" lang="en-US" sz="2400" spc="-1" strike="noStrike">
              <a:solidFill>
                <a:srgbClr val="000000"/>
              </a:solidFill>
              <a:latin typeface="Times New Roman"/>
            </a:endParaRPr>
          </a:p>
        </p:txBody>
      </p:sp>
      <p:sp>
        <p:nvSpPr>
          <p:cNvPr id="218"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1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2FAE3C-78AB-4315-9194-76642BE65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BE42E9-BE37-4024-A773-71A1003FF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F8B2F9-39F1-4156-A331-6A0135B02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222" name=""/>
          <p:cNvSpPr txBox="1"/>
          <p:nvPr/>
        </p:nvSpPr>
        <p:spPr>
          <a:xfrm>
            <a:off x="685800" y="1676520"/>
            <a:ext cx="7772400" cy="41148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2014: start of the TG</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 2014: First draft of the TG SFD was appr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 2016: proposed TG draf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6: Draft D0.1 was approved and CC started</a:t>
            </a:r>
            <a:endParaRPr b="1" lang="en-US" sz="2400" spc="-1" strike="noStrike">
              <a:solidFill>
                <a:srgbClr val="000000"/>
              </a:solidFill>
              <a:latin typeface="Times New Roman"/>
            </a:endParaRPr>
          </a:p>
          <a:p>
            <a:pPr marL="315360" indent="-3153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ptember 2016: Draft 1.0 and WG letter ballo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7: Draft 2.0 and recirculation</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July 2017: MDR (Mandatory Document Review)</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November 2017: Formation of SB pool</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8: Sponsor Ballo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ecember 2018: RevCom</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2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456407-B5C2-4716-ACBA-5D7F8F9AF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umber of TBDs </a:t>
            </a:r>
            <a:endParaRPr b="1" lang="en-US" sz="3200" spc="-1" strike="noStrike">
              <a:solidFill>
                <a:srgbClr val="000000"/>
              </a:solidFill>
              <a:latin typeface="Times New Roman"/>
            </a:endParaRPr>
          </a:p>
        </p:txBody>
      </p:sp>
      <p:graphicFrame>
        <p:nvGraphicFramePr>
          <p:cNvPr id="227" name="Content Placeholder 9"/>
          <p:cNvGraphicFramePr/>
          <p:nvPr/>
        </p:nvGraphicFramePr>
        <p:xfrm>
          <a:off x="635040" y="1930320"/>
          <a:ext cx="7873920" cy="4216320"/>
        </p:xfrm>
        <a:graphic>
          <a:graphicData uri="http://schemas.openxmlformats.org/presentationml/2006/ole">
            <p:oleObj progId="Excel.Sheet.12" r:id="rId1" spid="">
              <p:embed/>
              <p:pic>
                <p:nvPicPr>
                  <p:cNvPr id="228" name="Content Placeholder 9" descr=""/>
                  <p:cNvPicPr/>
                  <p:nvPr/>
                </p:nvPicPr>
                <p:blipFill>
                  <a:blip r:embed="rId2"/>
                  <a:stretch/>
                </p:blipFill>
                <p:spPr>
                  <a:xfrm>
                    <a:off x="635040" y="1930320"/>
                    <a:ext cx="7873920" cy="4216320"/>
                  </a:xfrm>
                  <a:prstGeom prst="rect">
                    <a:avLst/>
                  </a:prstGeom>
                  <a:ln w="0">
                    <a:noFill/>
                  </a:ln>
                </p:spPr>
              </p:pic>
            </p:oleObj>
          </a:graphicData>
        </a:graphic>
      </p:graphicFrame>
      <p:sp>
        <p:nvSpPr>
          <p:cNvPr id="22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3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B6ACE2-D9FB-43B5-9538-166CE17A1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2, 16:00 – 18:00 </a:t>
            </a:r>
            <a:endParaRPr b="1" lang="en-US" sz="3200" spc="-1" strike="noStrike">
              <a:solidFill>
                <a:srgbClr val="000000"/>
              </a:solidFill>
              <a:latin typeface="Times New Roman"/>
            </a:endParaRPr>
          </a:p>
        </p:txBody>
      </p:sp>
      <p:sp>
        <p:nvSpPr>
          <p:cNvPr id="23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Meeting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   Ballroom C&amp;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 : Baltic I</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3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95BEE8-7902-4745-AD8E-2549AF521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2, 19:30 – 21:30 </a:t>
            </a:r>
            <a:endParaRPr b="1" lang="en-US" sz="3200" spc="-1" strike="noStrike">
              <a:solidFill>
                <a:srgbClr val="000000"/>
              </a:solidFill>
              <a:latin typeface="Times New Roman"/>
            </a:endParaRPr>
          </a:p>
        </p:txBody>
      </p:sp>
      <p:sp>
        <p:nvSpPr>
          <p:cNvPr id="23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Meeting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 Ballroom C&amp;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R: Baltic I</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3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4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1BB593-767A-4906-8C05-801F7D6D0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3, 10:30 – 12:30 </a:t>
            </a:r>
            <a:endParaRPr b="1" lang="en-US" sz="3200" spc="-1" strike="noStrike">
              <a:solidFill>
                <a:srgbClr val="000000"/>
              </a:solidFill>
              <a:latin typeface="Times New Roman"/>
            </a:endParaRPr>
          </a:p>
        </p:txBody>
      </p:sp>
      <p:sp>
        <p:nvSpPr>
          <p:cNvPr id="2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Ballroom C&amp;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Baltic I</a:t>
            </a:r>
            <a:endParaRPr b="0" lang="en-US" sz="2000" spc="-1" strike="noStrike">
              <a:solidFill>
                <a:srgbClr val="000000"/>
              </a:solidFill>
              <a:latin typeface="Times New Roman"/>
            </a:endParaRPr>
          </a:p>
        </p:txBody>
      </p:sp>
      <p:sp>
        <p:nvSpPr>
          <p:cNvPr id="24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C8413B-B727-4077-A35D-26BFBF12A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3, 16:00 – 18:00</a:t>
            </a:r>
            <a:endParaRPr b="1" lang="en-US" sz="32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Ballroom C&amp;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Baltic I</a:t>
            </a:r>
            <a:endParaRPr b="0" lang="en-US" sz="2000" spc="-1" strike="noStrike">
              <a:solidFill>
                <a:srgbClr val="000000"/>
              </a:solidFill>
              <a:latin typeface="Times New Roman"/>
            </a:endParaRPr>
          </a:p>
        </p:txBody>
      </p:sp>
      <p:sp>
        <p:nvSpPr>
          <p:cNvPr id="250"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0A0B52-EA4D-4178-AAA3-BAB6C7B6D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4, 08:00 – 10:00</a:t>
            </a:r>
            <a:endParaRPr b="1" lang="en-US" sz="3200" spc="-1" strike="noStrike">
              <a:solidFill>
                <a:srgbClr val="000000"/>
              </a:solidFill>
              <a:latin typeface="Times New Roman"/>
            </a:endParaRPr>
          </a:p>
        </p:txBody>
      </p:sp>
      <p:sp>
        <p:nvSpPr>
          <p:cNvPr id="253" name=""/>
          <p:cNvSpPr txBox="1"/>
          <p:nvPr/>
        </p:nvSpPr>
        <p:spPr>
          <a:xfrm>
            <a:off x="685800" y="1828800"/>
            <a:ext cx="7772400" cy="4114800"/>
          </a:xfrm>
          <a:prstGeom prst="rect">
            <a:avLst/>
          </a:prstGeom>
          <a:noFill/>
          <a:ln w="0">
            <a:noFill/>
          </a:ln>
        </p:spPr>
        <p:txBody>
          <a:bodyPr lIns="92160" rIns="92160" tIns="46080" bIns="46080" anchor="t">
            <a:normAutofit fontScale="85000"/>
          </a:bodyPr>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from the ad hocs</a:t>
            </a:r>
            <a:endParaRPr b="1"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631440" indent="-24264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1143, “11ax PAR Verification”</a:t>
            </a:r>
            <a:endParaRPr b="0" lang="en-US" sz="2000" spc="-1" strike="noStrike">
              <a:solidFill>
                <a:srgbClr val="000000"/>
              </a:solidFill>
              <a:latin typeface="Times New Roman"/>
            </a:endParaRPr>
          </a:p>
          <a:p>
            <a:pPr lvl="1" marL="631440" indent="-24264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1159, “Summary of Mandatory or Optional Features in 11ax” </a:t>
            </a:r>
            <a:endParaRPr b="0" lang="en-US" sz="2000" spc="-1" strike="noStrike">
              <a:solidFill>
                <a:srgbClr val="000000"/>
              </a:solidFill>
              <a:latin typeface="Times New Roman"/>
            </a:endParaRPr>
          </a:p>
          <a:p>
            <a:pPr lvl="1" marL="631440" indent="-24264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1223, “CR for Section 25.9.2 OBSS_PD Spatial reuse</a:t>
            </a:r>
            <a:r>
              <a:rPr b="0" lang="en-US" sz="2000" spc="-1" strike="noStrike">
                <a:solidFill>
                  <a:srgbClr val="00b050"/>
                </a:solidFill>
                <a:latin typeface="Calibri"/>
              </a:rPr>
              <a:t>” - SP</a:t>
            </a:r>
            <a:endParaRPr b="0" lang="en-US" sz="2000" spc="-1" strike="noStrike">
              <a:solidFill>
                <a:srgbClr val="000000"/>
              </a:solidFill>
              <a:latin typeface="Times New Roman"/>
            </a:endParaRPr>
          </a:p>
          <a:p>
            <a:pPr lvl="1" marL="631440" indent="-24264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imes New Roman"/>
              </a:rPr>
              <a:t>11-16/1219, “Consideration on CR for 2665 and 2715 – Jing Ma</a:t>
            </a:r>
            <a:endParaRPr b="0" lang="en-US" sz="2000" spc="-1" strike="noStrike">
              <a:solidFill>
                <a:srgbClr val="000000"/>
              </a:solidFill>
              <a:latin typeface="Times New Roman"/>
            </a:endParaRPr>
          </a:p>
          <a:p>
            <a:pPr lvl="1" marL="631440" indent="-24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1225, “Heads We Win, Tails We Don't Lose: Proposals for Dynamic CCA” – move to Thursday AM2</a:t>
            </a:r>
            <a:endParaRPr b="0" lang="en-US" sz="20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5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5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CDD034-8359-424A-9E18-5BC62B57F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16/1223 SP</a:t>
            </a:r>
            <a:endParaRPr b="1" lang="en-US" sz="3200" spc="-1" strike="noStrike">
              <a:solidFill>
                <a:srgbClr val="000000"/>
              </a:solidFill>
              <a:latin typeface="Times New Roman"/>
            </a:endParaRPr>
          </a:p>
        </p:txBody>
      </p:sp>
      <p:sp>
        <p:nvSpPr>
          <p:cNvPr id="25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with the comment resolutions in document 1223r6 for CIDs </a:t>
            </a:r>
            <a:r>
              <a:rPr b="1" lang="en-GB" sz="2400" spc="-1" strike="noStrike">
                <a:solidFill>
                  <a:srgbClr val="000000"/>
                </a:solidFill>
                <a:latin typeface="Times New Roman"/>
              </a:rPr>
              <a:t>2386, 1232, 63, 463, 2663, 67, 641, 2913, 65, 462, 2742, 2743, 777, 255, 2665, 449, 68, 706, 1018, 2723, 1017, 1582, and 2667?</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ccepted with no objec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6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698AE7-B677-4791-9E4A-DC51EA0A5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63" name="PlaceHolder 1"/>
          <p:cNvSpPr>
            <a:spLocks noGrp="1"/>
          </p:cNvSpPr>
          <p:nvPr>
            <p:ph type="title"/>
          </p:nvPr>
        </p:nvSpPr>
        <p:spPr>
          <a:xfrm>
            <a:off x="22824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4, 13:30 – 15:30</a:t>
            </a:r>
            <a:endParaRPr b="1" lang="en-US" sz="3200" spc="-1" strike="noStrike">
              <a:solidFill>
                <a:srgbClr val="000000"/>
              </a:solidFill>
              <a:latin typeface="Times New Roman"/>
            </a:endParaRPr>
          </a:p>
        </p:txBody>
      </p:sp>
      <p:sp>
        <p:nvSpPr>
          <p:cNvPr id="26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Ballroom C/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Baltic I</a:t>
            </a:r>
            <a:endParaRPr b="0" lang="en-US" sz="2000" spc="-1" strike="noStrike">
              <a:solidFill>
                <a:srgbClr val="000000"/>
              </a:solidFill>
              <a:latin typeface="Times New Roman"/>
            </a:endParaRPr>
          </a:p>
        </p:txBody>
      </p:sp>
      <p:sp>
        <p:nvSpPr>
          <p:cNvPr id="26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309E18-394B-43D6-A578-943FBAAAE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68" name="PlaceHolder 1"/>
          <p:cNvSpPr>
            <a:spLocks noGrp="1"/>
          </p:cNvSpPr>
          <p:nvPr>
            <p:ph type="title"/>
          </p:nvPr>
        </p:nvSpPr>
        <p:spPr>
          <a:xfrm>
            <a:off x="30456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4, 16:00 – 18:00</a:t>
            </a:r>
            <a:endParaRPr b="1" lang="en-US" sz="3200" spc="-1" strike="noStrike">
              <a:solidFill>
                <a:srgbClr val="000000"/>
              </a:solidFill>
              <a:latin typeface="Times New Roman"/>
            </a:endParaRPr>
          </a:p>
        </p:txBody>
      </p:sp>
      <p:sp>
        <p:nvSpPr>
          <p:cNvPr id="26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 Ballroom C/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Baltic I</a:t>
            </a:r>
            <a:endParaRPr b="0" lang="en-US" sz="2000" spc="-1" strike="noStrike">
              <a:solidFill>
                <a:srgbClr val="000000"/>
              </a:solidFill>
              <a:latin typeface="Times New Roman"/>
            </a:endParaRPr>
          </a:p>
        </p:txBody>
      </p:sp>
      <p:sp>
        <p:nvSpPr>
          <p:cNvPr id="27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E3C796-F76D-45F1-8D53-156A0D2A7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BC21FC-4491-4E2A-81AA-0DD3904FD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5DC4F5-4CE4-423D-982C-0CE5CBF42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5, 08:00 – 10:00</a:t>
            </a:r>
            <a:endParaRPr b="1" lang="en-US" sz="3200" spc="-1" strike="noStrike">
              <a:solidFill>
                <a:srgbClr val="000000"/>
              </a:solidFill>
              <a:latin typeface="Times New Roman"/>
            </a:endParaRPr>
          </a:p>
        </p:txBody>
      </p:sp>
      <p:sp>
        <p:nvSpPr>
          <p:cNvPr id="27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Ballroom C/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Baltic I</a:t>
            </a:r>
            <a:endParaRPr b="0" lang="en-US" sz="2000" spc="-1" strike="noStrike">
              <a:solidFill>
                <a:srgbClr val="000000"/>
              </a:solidFill>
              <a:latin typeface="Times New Roman"/>
            </a:endParaRPr>
          </a:p>
        </p:txBody>
      </p:sp>
      <p:sp>
        <p:nvSpPr>
          <p:cNvPr id="27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7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B89BB3-70DB-45C2-9132-E79BB2439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5, 10:30 – 12:30</a:t>
            </a:r>
            <a:endParaRPr b="1" lang="en-US" sz="3200" spc="-1" strike="noStrike">
              <a:solidFill>
                <a:srgbClr val="000000"/>
              </a:solidFill>
              <a:latin typeface="Times New Roman"/>
            </a:endParaRPr>
          </a:p>
        </p:txBody>
      </p:sp>
      <p:sp>
        <p:nvSpPr>
          <p:cNvPr id="27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7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8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5394A9-08DD-456A-9D50-989CB2719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5, 13:30 – 15:30</a:t>
            </a:r>
            <a:endParaRPr b="1" lang="en-US" sz="3200" spc="-1" strike="noStrike">
              <a:solidFill>
                <a:srgbClr val="000000"/>
              </a:solidFill>
              <a:latin typeface="Times New Roman"/>
            </a:endParaRPr>
          </a:p>
        </p:txBody>
      </p:sp>
      <p:sp>
        <p:nvSpPr>
          <p:cNvPr id="28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8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8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B294AD-5DA2-4EEF-8B81-E0B308C54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88"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B26FEC-CF77-4F65-9F32-B35757369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5, 16:00 – 18:00</a:t>
            </a:r>
            <a:endParaRPr b="1" lang="en-US" sz="32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September 2016</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s</a:t>
            </a:r>
            <a:endParaRPr b="1" lang="en-US" sz="3200" spc="-1" strike="noStrike">
              <a:solidFill>
                <a:srgbClr val="000000"/>
              </a:solidFill>
              <a:latin typeface="Times New Roman"/>
            </a:endParaRPr>
          </a:p>
        </p:txBody>
      </p:sp>
      <p:pic>
        <p:nvPicPr>
          <p:cNvPr id="293" name="" descr=""/>
          <p:cNvPicPr/>
          <p:nvPr/>
        </p:nvPicPr>
        <p:blipFill>
          <a:blip r:embed="rId1"/>
          <a:stretch/>
        </p:blipFill>
        <p:spPr>
          <a:xfrm>
            <a:off x="685800" y="1981080"/>
            <a:ext cx="7772400" cy="4114800"/>
          </a:xfrm>
          <a:prstGeom prst="rect">
            <a:avLst/>
          </a:prstGeom>
          <a:ln w="0">
            <a:noFill/>
          </a:ln>
        </p:spPr>
      </p:pic>
      <p:sp>
        <p:nvSpPr>
          <p:cNvPr id="29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29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979A70-A176-46AB-82E0-017A7503C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65</a:t>
            </a:r>
            <a:endParaRPr b="1" lang="en-US" sz="3200" spc="-1" strike="noStrike">
              <a:solidFill>
                <a:srgbClr val="000000"/>
              </a:solidFill>
              <a:latin typeface="Times New Roman"/>
            </a:endParaRPr>
          </a:p>
        </p:txBody>
      </p:sp>
      <p:sp>
        <p:nvSpPr>
          <p:cNvPr id="29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s; 1467, 635, 2648, 2708, 1544, 1545, 2649, 437, 1542, 990, 2256, 1543, 599 in doc 11-16/0885r3</a:t>
            </a:r>
            <a:endParaRPr b="1" lang="en-US" sz="2400" spc="-1" strike="noStrike">
              <a:solidFill>
                <a:srgbClr val="000000"/>
              </a:solidFill>
              <a:latin typeface="Times New Roman"/>
            </a:endParaRPr>
          </a:p>
        </p:txBody>
      </p:sp>
      <p:sp>
        <p:nvSpPr>
          <p:cNvPr id="29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0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A8CF75-3FB0-42D2-AD7D-CBD3EA5B6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66</a:t>
            </a:r>
            <a:endParaRPr b="1" lang="en-US" sz="3200" spc="-1" strike="noStrike">
              <a:solidFill>
                <a:srgbClr val="000000"/>
              </a:solidFill>
              <a:latin typeface="Times New Roman"/>
            </a:endParaRPr>
          </a:p>
        </p:txBody>
      </p:sp>
      <p:sp>
        <p:nvSpPr>
          <p:cNvPr id="30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s; 177, 2188, 1220, 206, 700 in doc 11-16/0886r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30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0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B28075-223E-4C52-91F4-40613C45C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67</a:t>
            </a:r>
            <a:endParaRPr b="1" lang="en-US" sz="3200" spc="-1" strike="noStrike">
              <a:solidFill>
                <a:srgbClr val="000000"/>
              </a:solidFill>
              <a:latin typeface="Times New Roman"/>
            </a:endParaRPr>
          </a:p>
        </p:txBody>
      </p:sp>
      <p:sp>
        <p:nvSpPr>
          <p:cNvPr id="30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s; 2579, 1203, 795, 610, 2408, 2375, 2184, 1263, 1264, 2409, 2410, 2411 in doc 11-16/0890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a:t>
            </a:r>
            <a:endParaRPr b="1" lang="en-US" sz="2400" spc="-1" strike="noStrike">
              <a:solidFill>
                <a:srgbClr val="000000"/>
              </a:solidFill>
              <a:latin typeface="Times New Roman"/>
            </a:endParaRPr>
          </a:p>
        </p:txBody>
      </p:sp>
      <p:sp>
        <p:nvSpPr>
          <p:cNvPr id="30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1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D0AFF9-F8D9-4C6C-B4D9-24FC99C2F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68</a:t>
            </a:r>
            <a:endParaRPr b="1" lang="en-US" sz="3200" spc="-1" strike="noStrike">
              <a:solidFill>
                <a:srgbClr val="000000"/>
              </a:solidFill>
              <a:latin typeface="Times New Roman"/>
            </a:endParaRPr>
          </a:p>
        </p:txBody>
      </p:sp>
      <p:sp>
        <p:nvSpPr>
          <p:cNvPr id="3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s; 1218, 31, 168, 752, 1495, 1498, 1499, 1500, 1664, 1795, 1900, 2319, 813 doc 11-16/1028r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George Cheri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31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1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FA7C04-D680-4A3E-A451-3EA46C56A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69</a:t>
            </a:r>
            <a:endParaRPr b="1" lang="en-US" sz="3200" spc="-1" strike="noStrike">
              <a:solidFill>
                <a:srgbClr val="000000"/>
              </a:solidFill>
              <a:latin typeface="Times New Roman"/>
            </a:endParaRPr>
          </a:p>
        </p:txBody>
      </p:sp>
      <p:sp>
        <p:nvSpPr>
          <p:cNvPr id="31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 32, 33, 169, 221, 250, 427, 429, 753, 754, 755, 756, 1502, 1503, 1504, 1505, 1506, 1508, 1801, 1901, 1902, 1903, 2467, 2632, 2633, 2634, 2635 in doc 11-16/93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31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2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7265F8-4112-4CCA-AE41-EF4FAC206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6AB7D5-ABFB-4115-BA40-8BBB76BE3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03680E-D5B1-4ED0-A269-8FC800983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70</a:t>
            </a:r>
            <a:endParaRPr b="1" lang="en-US" sz="3200" spc="-1" strike="noStrike">
              <a:solidFill>
                <a:srgbClr val="000000"/>
              </a:solidFill>
              <a:latin typeface="Times New Roman"/>
            </a:endParaRPr>
          </a:p>
        </p:txBody>
      </p:sp>
      <p:pic>
        <p:nvPicPr>
          <p:cNvPr id="323" name="Content Placeholder 2" descr=""/>
          <p:cNvPicPr/>
          <p:nvPr/>
        </p:nvPicPr>
        <p:blipFill>
          <a:blip r:embed="rId1"/>
          <a:stretch/>
        </p:blipFill>
        <p:spPr>
          <a:xfrm>
            <a:off x="603360" y="1627200"/>
            <a:ext cx="8016840" cy="4816440"/>
          </a:xfrm>
          <a:prstGeom prst="rect">
            <a:avLst/>
          </a:prstGeom>
          <a:ln w="0">
            <a:noFill/>
          </a:ln>
        </p:spPr>
      </p:pic>
      <p:sp>
        <p:nvSpPr>
          <p:cNvPr id="32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2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100E29-DECE-452B-B40A-E77043AC3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71</a:t>
            </a:r>
            <a:endParaRPr b="1" lang="en-US" sz="3200" spc="-1" strike="noStrike">
              <a:solidFill>
                <a:srgbClr val="000000"/>
              </a:solidFill>
              <a:latin typeface="Times New Roman"/>
            </a:endParaRPr>
          </a:p>
        </p:txBody>
      </p:sp>
      <p:sp>
        <p:nvSpPr>
          <p:cNvPr id="3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s; 112, 380, 381, 456, 539, 689, 690, 1154, 1316, 1862 in doc 11-16/1097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Lochan Verm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3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95904E-4077-4EBE-B812-C56D42E44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72 (MAC)</a:t>
            </a:r>
            <a:endParaRPr b="1" lang="en-US" sz="3200" spc="-1" strike="noStrike">
              <a:solidFill>
                <a:srgbClr val="000000"/>
              </a:solidFill>
              <a:latin typeface="Times New Roman"/>
            </a:endParaRPr>
          </a:p>
        </p:txBody>
      </p:sp>
      <p:sp>
        <p:nvSpPr>
          <p:cNvPr id="33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s; 1743, 1775, 1638, 785, 1742, 164, 1636, 28, 163, 2317, 1463, 2625, 2702, 2703, 2704, 2705, 422, 748, 1216, 1744, 1759, 866, 788, 2739, 220, 1014, 1011, 746, 1466, 709, 27, 1469, 2473, 747, 2491, 1215, 29 in doc 11-16/1106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Po-Kai Hu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a:t>
            </a:r>
            <a:endParaRPr b="1" lang="en-US" sz="2400" spc="-1" strike="noStrike">
              <a:solidFill>
                <a:srgbClr val="000000"/>
              </a:solidFill>
              <a:latin typeface="Times New Roman"/>
            </a:endParaRPr>
          </a:p>
        </p:txBody>
      </p:sp>
      <p:sp>
        <p:nvSpPr>
          <p:cNvPr id="33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3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5FF706-55A1-4591-9391-DD50A22BE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73 (MAC)</a:t>
            </a:r>
            <a:endParaRPr b="1" lang="en-US" sz="3200" spc="-1" strike="noStrike">
              <a:solidFill>
                <a:srgbClr val="000000"/>
              </a:solidFill>
              <a:latin typeface="Times New Roman"/>
            </a:endParaRPr>
          </a:p>
        </p:txBody>
      </p:sp>
      <p:sp>
        <p:nvSpPr>
          <p:cNvPr id="33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s; 2207, 857, 2611, 2612, 1429, 1434, 1435, 1817 in doc 11-16/1127</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lfred Asterjadhi</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339"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4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4240C7-4CA8-42E6-A781-49F2ED862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 Motion #74 (MU)</a:t>
            </a:r>
            <a:endParaRPr b="1" lang="en-US" sz="3200" spc="-1" strike="noStrike">
              <a:solidFill>
                <a:srgbClr val="000000"/>
              </a:solidFill>
              <a:latin typeface="Times New Roman"/>
            </a:endParaRPr>
          </a:p>
        </p:txBody>
      </p:sp>
      <p:sp>
        <p:nvSpPr>
          <p:cNvPr id="3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resolutions to CIDs; 995, 2597, 2584 in doc 11-16/1122r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Po-Kai Hu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344" name="Date Placeholder 3"/>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4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5B1353-85B5-491F-8184-06B1088AD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348"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F0CBDF-7EDE-472F-AA19-6DB6EFBA8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35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rsday Sept 29 10:00 – 12:00 E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rsday Oct 6, Oct 20 20:00 -22:00 E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rsday Oct 13, Oct 27 10:00 – 12:00 E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rsday Nov 17 10:00 -12:00 E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A6C408-B3B1-47A8-B4FC-CAF47F95D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D4EBD8-045E-41E7-ADC7-5E33AA679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September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September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September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CC165A-92FE-4D3F-A779-DDAC908DB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682200" y="334800"/>
            <a:ext cx="12124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6</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C568D5-CE5B-4350-8789-FB06C005C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sama AboulMagd</cp:lastModifiedBy>
  <cp:lastPrinted>1998-02-10T13:28:06Z</cp:lastPrinted>
  <dcterms:modified xsi:type="dcterms:W3CDTF">2016-09-14T13:21:22Z</dcterms:modified>
  <cp:revision>1377</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5"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6" name="_ms_pID_72534310">
    <vt:lpwstr>Gl8g9ICRyndh1BlxnkTjPekp8R6OLPX2VD1ztnzt
uwyMtIkMkVOK7fJ4sWxcJA9UCi+jLoZBE6+S6/VkHtYovU6nX9XQwy+h</vt:lpwstr>
  </property>
  <property fmtid="{D5CDD505-2E9C-101B-9397-08002B2CF9AE}" pid="7" name="_ms_pID_72534310_00">
    <vt:lpwstr>_ms_pID_72534310</vt:lpwstr>
  </property>
  <property fmtid="{D5CDD505-2E9C-101B-9397-08002B2CF9AE}" pid="8" name="_ms_pID_72534311">
    <vt:lpwstr>Swl1/EnGLpP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2" name="_ms_pID_7253432_00">
    <vt:lpwstr>_ms_pID_7253432</vt:lpwstr>
  </property>
  <property fmtid="{D5CDD505-2E9C-101B-9397-08002B2CF9AE}" pid="13"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4" name="_ms_pID_7253433_00">
    <vt:lpwstr>_ms_pID_7253433</vt:lpwstr>
  </property>
  <property fmtid="{D5CDD505-2E9C-101B-9397-08002B2CF9AE}" pid="15"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6" name="_ms_pID_7253434_00">
    <vt:lpwstr>_ms_pID_7253434</vt:lpwstr>
  </property>
  <property fmtid="{D5CDD505-2E9C-101B-9397-08002B2CF9AE}" pid="17"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8" name="_ms_pID_7253435_00">
    <vt:lpwstr>_ms_pID_7253435</vt:lpwstr>
  </property>
  <property fmtid="{D5CDD505-2E9C-101B-9397-08002B2CF9AE}" pid="19"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20" name="_ms_pID_7253436_00">
    <vt:lpwstr>_ms_pID_7253436</vt:lpwstr>
  </property>
  <property fmtid="{D5CDD505-2E9C-101B-9397-08002B2CF9AE}" pid="21"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2" name="_ms_pID_7253437_00">
    <vt:lpwstr>_ms_pID_7253437</vt:lpwstr>
  </property>
  <property fmtid="{D5CDD505-2E9C-101B-9397-08002B2CF9AE}" pid="23"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4" name="_ms_pID_7253438_00">
    <vt:lpwstr>_ms_pID_7253438</vt:lpwstr>
  </property>
  <property fmtid="{D5CDD505-2E9C-101B-9397-08002B2CF9AE}" pid="25"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9"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30" name="_new_ms_pID_725431_00">
    <vt:lpwstr>_new_ms_pID_725431</vt:lpwstr>
  </property>
  <property fmtid="{D5CDD505-2E9C-101B-9397-08002B2CF9AE}" pid="31" name="_new_ms_pID_725432">
    <vt:lpwstr>D1XB9di89gjbSV9Q9VMhuKhmY65QpwW+OGFQ
q2+b9914k4Xr0HfmMvisx0BVTbD8JzjFAvDVWs1Dl5K3KsFQtuY=</vt:lpwstr>
  </property>
  <property fmtid="{D5CDD505-2E9C-101B-9397-08002B2CF9AE}" pid="32" name="_new_ms_pID_725432_00">
    <vt:lpwstr>_new_ms_pID_725432</vt:lpwstr>
  </property>
  <property fmtid="{D5CDD505-2E9C-101B-9397-08002B2CF9AE}" pid="33" name="_new_ms_pID_72543_00">
    <vt:lpwstr>_new_ms_pID_72543</vt:lpwstr>
  </property>
  <property fmtid="{D5CDD505-2E9C-101B-9397-08002B2CF9AE}" pid="34" name="_readonly">
    <vt:lpwstr/>
  </property>
  <property fmtid="{D5CDD505-2E9C-101B-9397-08002B2CF9AE}" pid="35" name="sflag">
    <vt:lpwstr>1470403027</vt:lpwstr>
  </property>
</Properties>
</file>