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C0A9-B08E-4672-A364-8B62D232D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1222-6107-4140-933C-191AA7E0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9C8A4-E46B-418C-B353-8F9F8963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0D8E1-561B-49FF-8D49-00B5E22E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381F-1B7D-42C7-949A-214C52D0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5DF49-15BE-4E4D-8D19-3C1658E6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F88F-19F8-44C4-BC1D-BD41F5C8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B560A-602B-4A2E-9EDC-01E4301EC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B981-6B1B-431B-B098-CD0A82DA1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F612-DD00-41AD-908F-CF4F71ED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CD1E-AF87-44FE-9F47-1C441538B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E784-2E38-4432-8B48-6B378DEA0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6D3745-72BC-4D08-BD2C-A8C447165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94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129.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July 2016 Agenda</a:t>
            </a:r>
            <a:endParaRPr b="1" lang="en-US" sz="3200" spc="-1" strike="noStrike">
              <a:solidFill>
                <a:srgbClr val="000000"/>
              </a:solidFill>
              <a:latin typeface="Times New Roman"/>
            </a:endParaRPr>
          </a:p>
        </p:txBody>
      </p:sp>
      <p:sp>
        <p:nvSpPr>
          <p:cNvPr id="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19CAD4-AD92-48B7-8EC0-3AA2CAFD3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6-20</a:t>
            </a:r>
            <a:endParaRPr b="0" lang="en-US" sz="2000" spc="-1" strike="noStrike">
              <a:solidFill>
                <a:srgbClr val="000000"/>
              </a:solidFill>
              <a:latin typeface="Times New Roman"/>
            </a:endParaRPr>
          </a:p>
        </p:txBody>
      </p:sp>
      <p:graphicFrame>
        <p:nvGraphicFramePr>
          <p:cNvPr id="50" name="Object 3"/>
          <p:cNvGraphicFramePr/>
          <p:nvPr/>
        </p:nvGraphicFramePr>
        <p:xfrm>
          <a:off x="781200" y="3057480"/>
          <a:ext cx="7505640" cy="2733840"/>
        </p:xfrm>
        <a:graphic>
          <a:graphicData uri="http://schemas.openxmlformats.org/presentationml/2006/ole">
            <p:oleObj progId="Word.Document.12" r:id="rId1" spid="">
              <p:embed/>
              <p:pic>
                <p:nvPicPr>
                  <p:cNvPr id="5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5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Week</a:t>
            </a:r>
            <a:endParaRPr b="1" lang="en-US" sz="3200" spc="-1" strike="noStrike">
              <a:solidFill>
                <a:srgbClr val="000000"/>
              </a:solidFill>
              <a:latin typeface="Times New Roman"/>
            </a:endParaRPr>
          </a:p>
        </p:txBody>
      </p:sp>
      <p:sp>
        <p:nvSpPr>
          <p:cNvPr id="94" name=""/>
          <p:cNvSpPr txBox="1"/>
          <p:nvPr/>
        </p:nvSpPr>
        <p:spPr>
          <a:xfrm>
            <a:off x="75960" y="1752480"/>
            <a:ext cx="4343400" cy="4114800"/>
          </a:xfrm>
          <a:prstGeom prst="rect">
            <a:avLst/>
          </a:prstGeom>
          <a:noFill/>
          <a:ln w="0">
            <a:noFill/>
          </a:ln>
        </p:spPr>
        <p:txBody>
          <a:bodyPr lIns="92160" rIns="92160" tIns="46080" bIns="46080" anchor="t">
            <a:normAutofit/>
          </a:bodyPr>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Tuesday, July 26</a:t>
            </a:r>
            <a:r>
              <a:rPr b="1" lang="en-US" sz="1800" spc="-1" strike="noStrike" baseline="30000">
                <a:solidFill>
                  <a:srgbClr val="00b050"/>
                </a:solidFill>
                <a:latin typeface="Times New Roman"/>
              </a:rPr>
              <a:t>th</a:t>
            </a:r>
            <a:r>
              <a:rPr b="1" lang="en-US" sz="1800" spc="-1" strike="noStrike">
                <a:solidFill>
                  <a:srgbClr val="00b050"/>
                </a:solidFill>
                <a:latin typeface="Times New Roman"/>
              </a:rPr>
              <a:t>, 13:30-15:30 </a:t>
            </a:r>
            <a:endParaRPr b="1" lang="en-US" sz="18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Introduction to WUR SG</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Call for submissions</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Review agenda and approval</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Overview of 802.11 OM on leadership election</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SG leadership structure</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Presentations</a:t>
            </a:r>
            <a:endParaRPr b="0" lang="en-US" sz="1400" spc="-1" strike="noStrike">
              <a:solidFill>
                <a:srgbClr val="000000"/>
              </a:solidFill>
              <a:latin typeface="Times New Roman"/>
            </a:endParaRPr>
          </a:p>
          <a:p>
            <a:pPr lvl="2" marL="1085760" indent="-228600">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PAR and CSD presentations in slide 9 of this doc.</a:t>
            </a:r>
            <a:endParaRPr b="0" lang="en-US" sz="10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Recess</a:t>
            </a:r>
            <a:endParaRPr b="0" lang="en-US" sz="1400" spc="-1" strike="noStrike">
              <a:solidFill>
                <a:srgbClr val="000000"/>
              </a:solidFill>
              <a:latin typeface="Times New Roman"/>
            </a:endParaRPr>
          </a:p>
        </p:txBody>
      </p:sp>
      <p:sp>
        <p:nvSpPr>
          <p:cNvPr id="95" name=""/>
          <p:cNvSpPr txBox="1"/>
          <p:nvPr/>
        </p:nvSpPr>
        <p:spPr>
          <a:xfrm>
            <a:off x="4420800" y="1677960"/>
            <a:ext cx="4646520" cy="487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8:00 – 10: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submissions (#2-6) in slide 9 of this do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6:00 – 18: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officer elec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submissions (#1) in slide 9 of this doc.</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PAR document revie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timel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extens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6</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9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16EDE8-604D-430A-AD14-1BFBE1EA8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WUR SG agenda as shown on Slide 10 of this document [doc 11-16/794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Yongho Seo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Yunsong Ya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d unanimously</a:t>
            </a:r>
            <a:endParaRPr b="0" lang="en-US" sz="2000" spc="-1" strike="noStrike">
              <a:solidFill>
                <a:srgbClr val="000000"/>
              </a:solidFill>
              <a:latin typeface="Times New Roman"/>
            </a:endParaRPr>
          </a:p>
        </p:txBody>
      </p:sp>
      <p:sp>
        <p:nvSpPr>
          <p:cNvPr id="101"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2"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F99CD9-8353-4F83-9612-956F50268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5C551A-386D-4C4E-959F-D5B011613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08"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09"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1"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89923E-4F43-4308-AE3F-1EE0DCD7F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4"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15"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BE71AD-847C-4DE7-914E-95D11BB45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0"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1"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2"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DD1AFA-168C-41D9-8AC5-B004FC4AE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27"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28"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0"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0021B7-D4C6-40EF-AC76-6AFD4E857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3"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4"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41E3D5-7CDB-4DAF-9FAC-0EF196432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CE0553-CD84-4712-A255-86A5C9CE4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46"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59618F-5E6D-45B6-A172-83F2F58F0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n Diego, California, United States</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uly 24 - 29,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pro tem: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TBD</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TBD</a:t>
            </a:r>
            <a:endParaRPr b="1" lang="en-US" sz="2000" spc="-1" strike="noStrike">
              <a:solidFill>
                <a:srgbClr val="000000"/>
              </a:solidFill>
              <a:latin typeface="Times New Roman"/>
            </a:endParaRPr>
          </a:p>
        </p:txBody>
      </p:sp>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F752E-0DE1-4DFB-AD86-782362DA7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3C22B3-44CF-487E-8E41-82FEF741E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Times New Roman"/>
                <a:hlinkClick r:id="rId1"/>
              </a:rPr>
              <a:t>802.11 Operation Manual </a:t>
            </a:r>
            <a:r>
              <a:rPr b="1" lang="en-US" sz="3200" spc="-1" strike="noStrike">
                <a:solidFill>
                  <a:srgbClr val="000000"/>
                </a:solidFill>
                <a:latin typeface="Times New Roman"/>
              </a:rPr>
              <a:t> [11-14/629r14]</a:t>
            </a:r>
            <a:br>
              <a:rPr sz="3200"/>
            </a:br>
            <a:r>
              <a:rPr b="1" lang="en-US" sz="3200" spc="-1" strike="noStrike">
                <a:solidFill>
                  <a:srgbClr val="000000"/>
                </a:solidFill>
                <a:latin typeface="Times New Roman"/>
              </a:rPr>
              <a:t>–Chair, Vice-Chair, Secretary </a:t>
            </a:r>
            <a:endParaRPr b="1" lang="en-US" sz="3200" spc="-1" strike="noStrike">
              <a:solidFill>
                <a:srgbClr val="000000"/>
              </a:solidFill>
              <a:latin typeface="Times New Roman"/>
            </a:endParaRPr>
          </a:p>
        </p:txBody>
      </p:sp>
      <p:sp>
        <p:nvSpPr>
          <p:cNvPr id="156" name=""/>
          <p:cNvSpPr txBox="1"/>
          <p:nvPr/>
        </p:nvSpPr>
        <p:spPr>
          <a:xfrm>
            <a:off x="671400" y="1778040"/>
            <a:ext cx="7772400" cy="4114800"/>
          </a:xfrm>
          <a:prstGeom prst="rect">
            <a:avLst/>
          </a:prstGeom>
          <a:noFill/>
          <a:ln w="0">
            <a:noFill/>
          </a:ln>
        </p:spPr>
        <p:txBody>
          <a:bodyPr lIns="92160" rIns="92160" tIns="46080" bIns="46080" anchor="t">
            <a:normAutofit fontScale="94000"/>
          </a:bodyPr>
          <a:p>
            <a:pPr marL="322200" indent="-322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Chair shall be appointed by the WG Chair and confirmed by a WG majority approval.</a:t>
            </a:r>
            <a:r>
              <a:rPr b="0" lang="en-US" sz="1400" spc="-1" strike="noStrike">
                <a:solidFill>
                  <a:srgbClr val="000000"/>
                </a:solidFill>
                <a:latin typeface="Times New Roman"/>
              </a:rPr>
              <a:t> The TG 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 Chair is required to confirm that the function of secretary is performed for each TG meeting. TG meetings are not allowed to function without a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Vice-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G Vice-Chair is elected by a TG majority approval and confirmed by a WG majority approval.  </a:t>
            </a:r>
            <a:r>
              <a:rPr b="0" lang="en-US" sz="1400" spc="-1" strike="noStrike">
                <a:solidFill>
                  <a:srgbClr val="000000"/>
                </a:solidFill>
                <a:latin typeface="Times New Roman"/>
              </a:rPr>
              <a:t>The TG Vice-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Secretary shall be appointed by the TG Chair and confirmed by a TG motion that is approved with a minimum 50% majority.</a:t>
            </a:r>
            <a:r>
              <a:rPr b="0" lang="en-US" sz="1400" spc="-1" strike="noStrike">
                <a:solidFill>
                  <a:srgbClr val="000000"/>
                </a:solidFill>
                <a:latin typeface="Times New Roman"/>
              </a:rPr>
              <a:t> The TG Secretary is re-affirmed every 2 years; one session after the WG Chair is elected.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meetings taken by the TG Secretary (or designee) are to be provided to the TG Chair in time to be available to the WG Chair for publication 30- days after close of the session.</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the meeting are to include documents produced by the voting process and document list. See section 10 of this document (</a:t>
            </a:r>
            <a:r>
              <a:rPr b="0" lang="en-US" sz="1400" spc="-1" strike="noStrike" u="sng">
                <a:solidFill>
                  <a:srgbClr val="0066ff"/>
                </a:solidFill>
                <a:uFillTx/>
                <a:latin typeface="Times New Roman"/>
                <a:hlinkClick r:id="rId2" action="ppaction://hlinksldjump"/>
              </a:rPr>
              <a:t>802.11 Guidelines for Secretaries</a:t>
            </a:r>
            <a:r>
              <a:rPr b="0" lang="en-US" sz="1400" spc="-1" strike="noStrike">
                <a:solidFill>
                  <a:srgbClr val="000000"/>
                </a:solidFill>
                <a:latin typeface="Times New Roman"/>
              </a:rPr>
              <a:t>) for details on content and form of minutes.</a:t>
            </a:r>
            <a:endParaRPr b="1" lang="en-US" sz="1400" spc="-1" strike="noStrike">
              <a:solidFill>
                <a:srgbClr val="000000"/>
              </a:solidFill>
              <a:latin typeface="Times New Roman"/>
            </a:endParaRPr>
          </a:p>
          <a:p>
            <a:pPr marL="322200" indent="-322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7"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8"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8F1C12-69B2-4ABF-85BE-F90AA16FA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Leadership Structure</a:t>
            </a:r>
            <a:endParaRPr b="1" lang="en-US" sz="3200" spc="-1" strike="noStrike">
              <a:solidFill>
                <a:srgbClr val="000000"/>
              </a:solidFill>
              <a:latin typeface="Times New Roman"/>
            </a:endParaRPr>
          </a:p>
        </p:txBody>
      </p:sp>
      <p:sp>
        <p:nvSpPr>
          <p:cNvPr id="161" name=""/>
          <p:cNvSpPr txBox="1"/>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leadership structur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a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time is short for SG, the call for nominations for Vice-Chair and Secretary was issued on June 1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6 (</a:t>
            </a:r>
            <a:r>
              <a:rPr b="1" lang="en-US" sz="2400" spc="-1" strike="noStrike" u="sng">
                <a:solidFill>
                  <a:srgbClr val="0066ff"/>
                </a:solidFill>
                <a:uFillTx/>
                <a:latin typeface="Times New Roman"/>
                <a:hlinkClick r:id="rId1"/>
              </a:rPr>
              <a:t>emai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 and Secretary will be decided during Thursday PM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3"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248CC2-945A-40B2-A5E6-BFB2B14B8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99B80-1D6B-46CF-9DD5-586A929C8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771480" y="18288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related submissions:</a:t>
            </a:r>
            <a:endParaRPr b="1" lang="en-US" sz="24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74r0, WUR usage scenarios and applications, Shahrnaz Azizi (Intel Corp.) -15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70r0, Input on WUR PAR scope, Steve Shellhammer (Qualcomm)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35r0, A PAR proposal for Wake-up Radio (WUR), Osama AboulMagd (Huawei)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859r0, WUR SG Proposed PAR, Minyoung Park (Intel Corp.) -20 min</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SD related submissions:</a:t>
            </a:r>
            <a:endParaRPr b="1" lang="en-US" sz="2000" spc="-1" strike="noStrike">
              <a:solidFill>
                <a:srgbClr val="000000"/>
              </a:solidFill>
              <a:latin typeface="Times New Roman"/>
            </a:endParaRPr>
          </a:p>
          <a:p>
            <a:pPr marL="335880" indent="-335880">
              <a:spcBef>
                <a:spcPts val="499"/>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936r0, A CSD proposal for Wake-up Radio (WUR), Osama AboulMagd (Huawei) -20 min</a:t>
            </a:r>
            <a:endParaRPr b="1" lang="en-US" sz="2000" spc="-1" strike="noStrike">
              <a:solidFill>
                <a:srgbClr val="000000"/>
              </a:solidFill>
              <a:latin typeface="Times New Roman"/>
            </a:endParaRPr>
          </a:p>
          <a:p>
            <a:pPr marL="335880" indent="-33588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8:00 – 10:00</a:t>
            </a:r>
            <a:endParaRPr b="1" lang="en-US" sz="2800" spc="-1" strike="noStrike">
              <a:solidFill>
                <a:srgbClr val="000000"/>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2</a:t>
            </a:r>
            <a:endParaRPr b="1" lang="en-US" sz="3200" spc="-1" strike="noStrike">
              <a:solidFill>
                <a:srgbClr val="000000"/>
              </a:solidFill>
              <a:latin typeface="Times New Roman"/>
            </a:endParaRPr>
          </a:p>
        </p:txBody>
      </p:sp>
      <p:sp>
        <p:nvSpPr>
          <p:cNvPr id="17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C623DF-39F2-410C-8BF5-75EEA7B52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7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E751D3-178C-4D1A-AB3E-FE61E346E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submissions:</a:t>
            </a:r>
            <a:endParaRPr b="1" lang="en-US" sz="24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27r0, Securing the WUR, Yunsong Yang (Huawei), 20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31r0, Demand on roaming for WUR, Bo Sun (ZTE),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39r0, WUR-based Power Save Operations of AP, John Son (WILUS)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50r0, Considerations on WUR design, Igor Kim (ETRI) 15 min</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968r0, Discussion of Duty-Cycled Wake-Up Receivers, Leif Wilhelmsson (Ericsson) 20 mi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16:00 – 18:00</a:t>
            </a:r>
            <a:endParaRPr b="1" lang="en-US" sz="2800" spc="-1" strike="noStrike">
              <a:solidFill>
                <a:srgbClr val="000000"/>
              </a:solidFill>
              <a:latin typeface="Times New Roman"/>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3</a:t>
            </a:r>
            <a:endParaRPr b="1" lang="en-US" sz="3200" spc="-1" strike="noStrike">
              <a:solidFill>
                <a:srgbClr val="000000"/>
              </a:solidFill>
              <a:latin typeface="Times New Roman"/>
            </a:endParaRPr>
          </a:p>
        </p:txBody>
      </p:sp>
      <p:sp>
        <p:nvSpPr>
          <p:cNvPr id="1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F9B76E-BF6E-4823-BFDC-7AA6E83BC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fficer Election</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Montemurro</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unsong Ya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if Wilhelmsson</a:t>
            </a:r>
            <a:endParaRPr b="0" lang="en-US" sz="2000" spc="-1" strike="noStrike">
              <a:solidFill>
                <a:srgbClr val="000000"/>
              </a:solidFill>
              <a:latin typeface="Times New Roman"/>
            </a:endParaRPr>
          </a:p>
        </p:txBody>
      </p:sp>
      <p:sp>
        <p:nvSpPr>
          <p:cNvPr id="18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4FC12C-4624-4279-89F3-3E72DF558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sp>
        <p:nvSpPr>
          <p:cNvPr id="19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10509-2176-4163-B320-81BE944E6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submissions:</a:t>
            </a:r>
            <a:endParaRPr b="1" lang="en-US" sz="24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865r0, Performance investigation on wake-up receiver, Eunsung Park (LGE)</a:t>
            </a:r>
            <a:endParaRPr b="1"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196"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 for EC approval in Novemb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xecutive Committee (EC) comment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p:txBody>
      </p:sp>
      <p:sp>
        <p:nvSpPr>
          <p:cNvPr id="197"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ember 2017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3B9F11-49A0-416F-80EC-8FBC6CFD3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July 2016 session</a:t>
            </a:r>
            <a:endParaRPr b="1" lang="en-US" sz="2400" spc="-1" strike="noStrike">
              <a:solidFill>
                <a:srgbClr val="000000"/>
              </a:solidFill>
              <a:latin typeface="Times New Roman"/>
            </a:endParaRPr>
          </a:p>
        </p:txBody>
      </p:sp>
      <p:sp>
        <p:nvSpPr>
          <p:cNvPr id="6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B2832-84E9-4168-823B-99AFD9B8F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Study Group Extension</a:t>
            </a:r>
            <a:endParaRPr b="1" lang="en-US" sz="32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Wake-up Radio Study Group (WUR S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by &lt;name&gt; on behalf of &lt;group&g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WUR Study Group vote: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3"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538C7F-4A64-498A-9F02-1F8A044A7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September 2016</a:t>
            </a:r>
            <a:endParaRPr b="1" lang="en-US" sz="3200" spc="-1" strike="noStrike">
              <a:solidFill>
                <a:srgbClr val="0000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and complete PAR and CSD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p:txBody>
      </p:sp>
      <p:sp>
        <p:nvSpPr>
          <p:cNvPr id="208"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2D750C-AAA4-4E56-8406-D4C6B766B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to have 2 teleconference calls before the September F2F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time slo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ust 1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onday, 2 pm ED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ust 2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onday, 2 pm EDT</a:t>
            </a:r>
            <a:endParaRPr b="0" lang="en-US" sz="2000" spc="-1" strike="noStrike">
              <a:solidFill>
                <a:srgbClr val="000000"/>
              </a:solidFill>
              <a:latin typeface="Times New Roman"/>
            </a:endParaRPr>
          </a:p>
        </p:txBody>
      </p:sp>
      <p:sp>
        <p:nvSpPr>
          <p:cNvPr id="2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8862D1-8AA2-41BF-B6BF-FDC63A850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7DB791-57AD-433B-8191-F14271BE9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471710-29F0-4304-BF86-0EEAA8A35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DC1BD8-6E24-4A9A-ADD3-EF7CE3EE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7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78D094-F27B-48E8-91C2-E6A909970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de on the study group leadership struc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o develop PAR and CSD documen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problem statements, scope and purpo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464A0D-5E09-4613-A559-0FD2304D2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570754-3B7B-41D5-9E7D-9E70CE417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s received so far:</a:t>
            </a:r>
            <a:endParaRPr b="1"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4r0, WUR usage scenarios and applications, Shahrnaz Azizi (Intel Corp.)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0r0, Input on WUR PAR scope, Steve Shellhammer (Qualcomm)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5r0, A PAR proposal for Wake-up Radio (WUR), Osama AboulMagd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59r0, WUR SG Proposed PAR, Minyoung Park (Intel Corp.)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6r0, A CSD proposal for Wake-up Radio (WUR), Osama AboulMagd (Huawei) -20 min</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1r0, Demand on roaming for WUR, Bo Sun (ZTE),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9r0, WUR-based Power Save Operations of AP, John Son (WILUS)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50r0, Considerations on WUR design, Igor Kim (ETRI) 15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68r0, Discussion of Duty-Cycled Wake-Up Receivers, Leif Wilhelmsson (Ericsson)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July 2016</cp:keywords>
  <dc:language>en-US</dc:language>
  <cp:lastModifiedBy>Park, Minyoung</cp:lastModifiedBy>
  <cp:lastPrinted>2014-11-04T15:04:57Z</cp:lastPrinted>
  <dcterms:modified xsi:type="dcterms:W3CDTF">2016-07-28T01:17:18Z</dcterms:modified>
  <cp:revision>3037</cp:revision>
  <dc:subject>Task Group AY November 2015 Meeting Agenda</dc:subject>
  <dc:title>11-16/0794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