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-115920"/>
            <a:ext cx="826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9612D4-83AF-4105-B55F-92C10F67D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9F757F-E768-4DBE-AA91-5F56A6F9E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0A108A-F8EE-4A68-8810-526B9E6E9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917E90-FA79-4191-A71A-8FF3AEC66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73AFDB-5A32-4D3D-91D8-07547279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33EE6D-5012-4D39-985B-EDA243E43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83AF4D-800B-43E8-888F-7CEE2F0FE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116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Date Placeholder 4"/>
          <p:cNvSpPr/>
          <p:nvPr/>
        </p:nvSpPr>
        <p:spPr>
          <a:xfrm>
            <a:off x="4467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50BF44-9F18-4E39-A1EE-81F21257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209-7F64-46F8-A038-C5C85BA4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801-94B1-4BEE-9C78-092DE049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76A4-7BB4-4151-B700-AA6AEF2B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ACC-BC8C-47CA-81C1-C2582EC4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C2C7-8F23-4D41-9978-8372C6EB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DC0F-5610-4172-950C-85A9F095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A483-560E-483B-AB67-C5C6F9DE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DDF9-6CD6-44CA-BFDF-CB6A5649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8D8C-B7C1-41AA-8DAE-566C085D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E027-D9F7-4D78-869E-F4BF544B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E86C-30E4-4354-943C-11C8EE92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D1E4-6511-4423-979E-ADB75D27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EC75-C118-4ED3-A26C-67B8B004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ED33-5B30-4641-988F-68DA6BCB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EB7C-B166-4B34-B358-C8968D2B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9EE4-3BF3-4736-907C-278D9BC0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327C-491B-4304-BF77-3E0F0B88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E5F6-C7C4-4A7C-AD3A-4C0F5A9B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303D2-E4A3-41E5-ABEC-65D18344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4D2D-4039-4C4A-A8EC-01BF88DD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525E-2A3E-4F21-9E14-7E70534D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B4BA-2DE6-459D-8CA7-AC2EFE5B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ECA-ADF0-4F8A-86EE-155F5C5B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9FBF-084C-4AB3-96FC-3558544D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5A22-B205-4C68-8F4A-A58AB356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BF39-BA21-4C20-BA1A-4B58014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782B5-90C4-4FFB-9639-6CA86462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C843-E0B3-4C78-8BA7-04528E90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D033-B063-494E-B630-CF35845D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57622-FD0A-4D6C-A2F1-1DE6EC67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32D-B56B-4D37-B5E6-599F5BBB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AB3-5927-4A4C-897A-34D089CE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A4E-12FF-47BB-8BA4-48780276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193-08DC-4A33-BF14-A757D30B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973-839B-4ECE-BE07-932DD5A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B37-D1D2-4CBD-B2FC-79E7BA6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7817F6-988B-4474-B68F-D80EAC806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5/1161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1EAD-9240-4514-A3B3-965B3C0D4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5/1161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60120"/>
            <a:ext cx="955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B44042-7F54-47FD-9E48-A2B0CE49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5/11-15-1015-01-00ax-proxy-arp-in-802-11ax.pptx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multicast proper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5-09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F27EBF-1261-4D59-934F-48590C674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initial version of these slides was provided to certain IETF members in preparation for an IETF/802 leadership meeti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pdates as discussed in ARC SC 2015-09-15 and 2015-09-1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874EA1-A2FC-45B4-9702-5E6341967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propertie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02.11 operates in unlicensed frequency bands.  There are no guarantees that any traffic gets throug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802.11 MAC layer packets can be lost due to collision,  interference,  poor rate adaptation decisions,  changes in the radio channel (e.g. walking behind a steel-reinforced pillar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10% “packet error ratio” is not unreasonable,  but this is metric with a *lot* of noise in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icast traffic is retried up to some limit (typically 4-12 times).  This improves reliability,  but it’s still subject to higher-layer packet lo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4DC72B7-8995-49D7-9824-72A47D96E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multicast propert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ulticast / broadcast traffic is generally not retransmitted,  because there is no acknowledgeme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ulticast / broadcast traffic is generally sent at a “lowest common denominator” rate,  known as a basic rate.  This might be as low as 6 Mbps,  when unicast links are operating at 600 Mbp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here are options,  that are not commonly implemented or certified to improve multicast reliability –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GroupCast with Retries (GCR) -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Greater reliability is provided via unsolicited retries or the block ack mechanis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Directed Multicast Service (DMS) – convert unicast to multica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</a:rPr>
              <a:t>Flexible Multicast Service (FMS) that allows a multicast rate to be selected that is higher than a basic ra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AC90F5-EFBE-4F50-ABDD-25F8DB582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and power sav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oth unicast and multicast traffic can be delayed by power-saving mechanism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Unicast is delayed until a STA wakes up and asks for it.  Additionally,  unicast traffic may be delayed to improve power save, efficiency and increase probability of aggregation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ulticast traffic is delayed in a wireless network if any of the STAs in that network are power savers.  All STAs are awake at a known time to receive multicast traffic.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ackets can also be discarded due to buffer limitations in the AP and non-AP ST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4DEE45-6D3A-425D-B3B8-441A037B5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implementer op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 802.11 AP manufacturer might optimize certain multicast-related behavi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re’s nothing in the standard to stop an implementer from turning multicast into unicast traff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st enterprise AP vendors implement multicast to unicast (proprietary mechani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re is support in the 802.11 standard for Proxy ARP and Proxy Neighbor Discove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lemented in some devices but not widely deployed at thi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887FCA-FC2A-438D-9AEC-02282BC39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so see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5/11-15-1015-01-00ax-proxy-arp-in-802-11ax.pptx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hich describes some multicast issues and Proxy ARP/Neighbor Discovery operation in WLA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4"/>
          <p:cNvSpPr/>
          <p:nvPr/>
        </p:nvSpPr>
        <p:spPr>
          <a:xfrm>
            <a:off x="38988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1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AD6738-BB52-4B31-94CC-13D0D3ECA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Dorothy Stanley</cp:lastModifiedBy>
  <cp:lastPrinted>1998-02-10T13:28:06Z</cp:lastPrinted>
  <dcterms:modified xsi:type="dcterms:W3CDTF">2015-09-16T02:58:36Z</dcterms:modified>
  <cp:revision>1527</cp:revision>
  <dc:subject/>
  <dc:title>802.11 Vice Chair's Report 2012</dc:title>
</cp:coreProperties>
</file>