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645840" y="-115920"/>
            <a:ext cx="8269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5287680" y="9000720"/>
            <a:ext cx="925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880BCFD-C7AC-4906-9C59-D7E533A21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467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AC5D80-8121-47DA-98BB-452B7272C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Date Placeholder 4"/>
          <p:cNvSpPr/>
          <p:nvPr/>
        </p:nvSpPr>
        <p:spPr>
          <a:xfrm>
            <a:off x="4467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5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053C2F-EE57-4D11-941F-778CB34CD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Date Placeholder 4"/>
          <p:cNvSpPr/>
          <p:nvPr/>
        </p:nvSpPr>
        <p:spPr>
          <a:xfrm>
            <a:off x="4467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5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BB44D6F-A74D-4EA5-AA26-CA2ADE028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Date Placeholder 4"/>
          <p:cNvSpPr/>
          <p:nvPr/>
        </p:nvSpPr>
        <p:spPr>
          <a:xfrm>
            <a:off x="4467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ooter Placeholder 5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443427D-8F1C-4F7F-A1B1-0DD58475F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Date Placeholder 4"/>
          <p:cNvSpPr/>
          <p:nvPr/>
        </p:nvSpPr>
        <p:spPr>
          <a:xfrm>
            <a:off x="4467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ooter Placeholder 5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5188C48-87F3-4792-8785-4886986B5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Date Placeholder 4"/>
          <p:cNvSpPr/>
          <p:nvPr/>
        </p:nvSpPr>
        <p:spPr>
          <a:xfrm>
            <a:off x="4467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oter Placeholder 5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A763451-EB3B-42B1-8A08-DD6CEC5D0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Date Placeholder 4"/>
          <p:cNvSpPr/>
          <p:nvPr/>
        </p:nvSpPr>
        <p:spPr>
          <a:xfrm>
            <a:off x="4467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8F63177-5107-41F9-BDFC-931AE4F63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5E51-2BDB-40F7-ADCB-F226136C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C78-C742-4DDB-AE63-FE9425CA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63DA-BBD4-4AC3-97D5-925887A5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5BA-5918-4455-8870-234BD31F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5B62-24D0-4122-8DF5-5F9613C2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89E8-44F3-4B7A-AEF9-692B7585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F5D5-0F65-4E26-A9FA-DABA8A9A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A769-A363-4E41-96B4-8177A894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83CE-2B7D-4F2E-92CB-8EB2645D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1F9F-F36A-4F57-A6F4-FAD13F7E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68D0-0839-4A0D-91D5-55C0609E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CF7-A5D8-444B-AA1C-A4E5AF28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AA7D-6C67-4446-8A94-7853BBC1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3F5B-9BD7-4FB8-9425-66CC2D0F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FA4D-FE7D-48B2-8B36-E0C11309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A6A2-880A-4D2D-9F53-F8EBC0DC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582C-068C-4C7E-ADEB-F42EEF06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D14A4-95B8-40CB-836A-89F223D2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4A75E-45FD-4A1C-83DD-1600546B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A9A79-AAE9-41AA-B43D-6863AD94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22A41-9CC1-47E3-B24E-F03D60F4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6BDE3-018E-4FAF-8997-383F0C43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376-2097-49E0-80F2-33A87561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F2457-7C3C-48C5-9C40-4B5DF7C6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393FB-3731-43D9-8D15-3375F478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EDBEB-98AD-4815-B070-DC6BE38E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69894-EA26-4CD6-9948-16A9D48A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926B1-3702-4B65-881D-F816B792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C44E9-AEDD-484C-B1F8-E104F7A5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191A5-26A6-4885-9212-B6C729C1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860-BC08-4327-AAFA-39440B00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56C-979B-41E3-A404-245B7043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4D9-39AC-4391-A1C6-9CDBC62D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C8C-2992-41C0-836F-D817B03B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E70-5C55-4A26-80EC-050AD88F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557-F71D-48DA-B139-505B1836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BB758B1-6A87-489E-B402-3FDC620F2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5/1161r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September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95DA-BEEE-48E5-A364-00B451F721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5/1161r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685800" y="609480"/>
            <a:ext cx="785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96600" y="60120"/>
            <a:ext cx="955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F472524-0EFC-4056-9FB1-854036EEC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5/11-15-1015-01-00ax-proxy-arp-in-802-11ax.pptx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38988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multicast propert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5-09-1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11"/>
          <p:cNvGraphicFramePr/>
          <p:nvPr/>
        </p:nvGraphicFramePr>
        <p:xfrm>
          <a:off x="523800" y="2276640"/>
          <a:ext cx="7772400" cy="260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276640"/>
                    <a:ext cx="777240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6C84369-743F-4025-9EBC-790310576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initial version of these slides was provided to certain IETF members in preparation for an IETF/802 leadership meeting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pdates as discussed in ARC SC 2015-09-15 and 2015-09-1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38988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1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F1FDC0F-93E8-417F-A064-44A98CA51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propertie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802.11 operates in unlicensed frequency bands.  There are no guarantees that any traffic gets throug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802.11 MAC layer packets can be lost due to collision,  interference,  poor rate adaptation decisions,  changes in the radio channel (e.g. walking behind a steel-reinforced pillar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10% “packet error ratio” is not unreasonable,  but this is metric with a *lot* of noise in 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icast traffic is retried up to some limit (typically 4-12 times).  This improves reliability,  but it’s still subject to higher-layer packet lo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ate Placeholder 4"/>
          <p:cNvSpPr/>
          <p:nvPr/>
        </p:nvSpPr>
        <p:spPr>
          <a:xfrm>
            <a:off x="38988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1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B3D71DA-BF4F-43E3-9B68-EB9C0D2E7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multicast propert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ulticast / broadcast traffic is generally not retransmitted,  because there is no acknowledgemen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ulticast / broadcast traffic is generally sent at a “lowest common denominator” rate,  known as a basic rate.  This might be as low as 6 Mbps,  when unicast links are operating at 600 Mbp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There are options,  that are not commonly implemented or certified to improve multicast reliability –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GroupCast with Retries (GCR) -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Greater reliability is provided via unsolicited retries or the block ack mechanis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Directed Multicast Service (DMS) – convert unicast to multica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Flexible Multicast Service (FMS) that allows a multicast rate to be selected that is higher than a basic rat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Date Placeholder 4"/>
          <p:cNvSpPr/>
          <p:nvPr/>
        </p:nvSpPr>
        <p:spPr>
          <a:xfrm>
            <a:off x="38988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1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0F7987A-D116-4979-9BDA-2977F8BA1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and power sav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Both unicast and multicast traffic can be delayed by power-saving mechanisms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Unicast is delayed until a STA wakes up and asks for it.  Additionally,  unicast traffic may be delayed to improve power save, efficiency and increase probability of aggregation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ulticast traffic is delayed in a wireless network if any of the STAs in that network are power savers.  All STAs are awake at a known time to receive multicast traffic.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Packets can also be discarded due to buffer limitations in the AP and non-AP STA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Date Placeholder 4"/>
          <p:cNvSpPr/>
          <p:nvPr/>
        </p:nvSpPr>
        <p:spPr>
          <a:xfrm>
            <a:off x="38988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26C4EBD-464C-4E29-8FE1-1B5CBF4E1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implementer op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 802.11 AP manufacturer might optimize certain multicast-related behavio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re’s nothing in the standard to stop an implementer from turning multicast into unicast traff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st enterprise AP vendors implement multicast to unicast (proprietary mechanis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re is support in the 802.11 standard for Proxy ARP and Proxy Neighbor Discove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lemented in some devices but not widely deployed at thi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3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Date Placeholder 4"/>
          <p:cNvSpPr/>
          <p:nvPr/>
        </p:nvSpPr>
        <p:spPr>
          <a:xfrm>
            <a:off x="38988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1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43BAF21-2916-4F51-9C75-584E26520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so see </a:t>
            </a:r>
            <a:r>
              <a:rPr b="1" lang="en-GB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5/11-15-1015-01-00ax-proxy-arp-in-802-11ax.pptx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which describes some multicast issues and Proxy ARP/Neighbor Discovery operation in WLA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Date Placeholder 4"/>
          <p:cNvSpPr/>
          <p:nvPr/>
        </p:nvSpPr>
        <p:spPr>
          <a:xfrm>
            <a:off x="38988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1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EC1DB9D-923B-4C84-AFC3-C82663B22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Dorothy Stanley</cp:lastModifiedBy>
  <cp:lastPrinted>1998-02-10T13:28:06Z</cp:lastPrinted>
  <dcterms:modified xsi:type="dcterms:W3CDTF">2015-09-16T02:58:36Z</dcterms:modified>
  <cp:revision>1527</cp:revision>
  <dc:subject/>
  <dc:title>802.11 Vice Chair's Report 2012</dc:title>
</cp:coreProperties>
</file>