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-115920"/>
            <a:ext cx="826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81C0FD-6C12-4ADC-977A-9451D743A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D2DF7D-67D8-4D7D-B9F2-DAB4FF358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805190-B12E-44D1-83FF-F8D1AA5EF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DA6557-71B2-4498-812B-463476410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0CF97F-F41A-4346-AE3A-D5D726740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D33ECF-C596-4FB8-BF95-90036C084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C54B19-FC51-486F-AC97-9FA8388BB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6CB371-CDE7-4214-8AAC-D01634A6F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CCE-666C-4DB1-94C1-6A53D0FA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C23-6449-4E01-9C8F-F76A69CE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27D-F4DD-45E5-BDF6-EC79737B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2C5-88B0-467B-BFDD-D44FDFA8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F06B-62B0-4AA6-A5CA-5711E2E5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33D7-CE8C-4794-BB3C-CC32FE9E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E82D-09C0-4138-AA72-8E70C18F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19D3-DBB1-43FF-AEEA-14C548DE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7DEF-CD9B-4D1D-839D-B08D099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D09C-7873-4927-8DDB-F4F3B9C4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F4E2-04A0-4F23-B4E6-ABB21D4C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A1E-E7F1-495A-8214-3B7B5EA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8CF9-3199-4FBE-91D7-27FDFE3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CDE0-59C2-4A25-87DA-B754C94C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7E50-D786-46FF-A90B-0C3E6DD2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14D6-8D52-4B5C-98DA-9BF6D620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F6CA-6E15-40CF-8B7F-2207F50C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5D6E-A82E-40EA-92AC-75E3A016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B96B-BE76-42A0-B347-ADF3F4C7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195C-1E9F-49B2-B7AD-FAABFC56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3D8B-B2DE-4464-BEC8-6D8412FD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10AC-100F-48D0-B029-6729D11D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B15-8AC7-48FA-8E99-992F0B13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94B8-B0CC-4986-8964-AD1969AF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44BA-D136-4DA9-B585-F728C9B2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FC33-5F6F-4D2D-A7F6-B53AA25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3342-FF88-4F13-A57A-8517EC4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F87D-7E10-404F-A195-82B1F40E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A848-16E9-433B-A2E6-5E613106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6497-9785-4CAF-8BFE-016CC9DE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402-4C9E-4A5E-940A-79B442C2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38B-B5FC-4AF0-A861-92180B02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DE7-0DCB-493A-A171-138CA7B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8EC-9FD5-4E9C-9592-646EE69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374-3FBC-4775-92B8-4D0A3CD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F8E-DAAB-409E-BC0D-1060B29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E09419-C452-45D4-980A-EDFB9643A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5/1161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DC21-E329-439E-B948-4E49F4D61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5/1161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60120"/>
            <a:ext cx="955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15518B-9DDF-4618-BFD4-D7A02EA36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5/11-15-1015-01-00ax-proxy-arp-in-802-11ax.ppt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multicast proper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5-09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61680B-F961-44D3-8F6B-99A866131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initial version of these slides was provided to certain IETF members in preparation for an IETF/802 leadership meeti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dates as discussed in ARC SC 2015-09-15 and 2015-09-1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E1CC24-F310-4653-AD83-13D14AF0D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propertie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02.11 operates in unlicensed frequency bands.  There are no guarantees that any traffic gets throug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02.11 MAC layer packets can be lost due to collision,  interference,  poor rate adaptation decisions,  changes in the radio channel (e.g. walking behind a steel-reinforced pillar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10% “packet error ratio” is not unreasonable,  but this is metric with a *lot* of noise in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icast traffic is retried up to some limit (typically 4-12 times).  This improves reliability,  but it’s still subject to higher-layer packet lo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B4C8411-36BF-416F-8983-8760B44D5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multicast proper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ulticast / broadcast traffic is generally not retransmitted,  because there is no acknowledgeme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ulticast / broadcast traffic is generally sent at a “lowest common denominator” rate,  known as a basic rate.  This might be as low as 6 Mbps,  when unicast links are operating at 600 Mbp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ere are options,  that are not commonly implemented or certified to improve multicast reliability –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GroupCast with Retries (GCR) -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Greater reliability is provided via unsolicited retries or the block ack mechanis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Directed Multicast Service (DMS) – convert unicast to multica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Flexible Multicast Service (FMS) that allows a multicast rate to be selected that is higher than a basic ra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AE6488-11D7-4362-AAC5-CC21C9B4B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and power sav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oth unicast and multicast traffic can be delayed by power-saving mechanism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Unicast is delayed until a STA wakes up and asks for it.  Additionally,  unicast traffic may be delayed to improve power save, efficiency and increase probability of aggregatio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ulticast traffic is delayed in a wireless network if any of the STAs in that network are power savers.  All STAs are awake at a known time to receive multicast traffic.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ackets can also be discarded due to buffer limitations in the AP and non-AP ST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2CDD65-CC59-43FC-99CA-B697EF2D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implementer op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 802.11 AP manufacturer might optimize certain multicast-related behavi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re’s nothing in the standard to stop an implementer from turning multicast into unicast traff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enterprise AP vendors implement multicast to unicast (proprietary mechani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re is support in the 802.11 standard for Proxy ARP and Proxy Neighbor Discove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ed in some devices but not widely deployed at thi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297EE5-CCE9-4D24-8FBB-9FD1AC053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so see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5/11-15-1015-01-00ax-proxy-arp-in-802-11ax.ppt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hich describes some multicast issues and Proxy ARP/Neighbor Discovery operation in WLA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EB401B-A4B5-4FDB-829D-64563A0E4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Dorothy Stanley</cp:lastModifiedBy>
  <cp:lastPrinted>1998-02-10T13:28:06Z</cp:lastPrinted>
  <dcterms:modified xsi:type="dcterms:W3CDTF">2015-09-16T02:58:36Z</dcterms:modified>
  <cp:revision>1527</cp:revision>
  <dc:subject/>
  <dc:title>802.11 Vice Chair's Report 2012</dc:title>
</cp:coreProperties>
</file>